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905-0077-474A-8603-1DC8CA98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E6C-2A21-4683-A0F7-A7BF6E96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8B7-6C55-47FF-B30F-401295F3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8A2-846D-4651-BFBA-7DE09ED2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E7B-89A3-466A-8DFD-81382159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48A-511E-4954-BF77-333AF9F7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6E2-C988-433D-BE98-29A4E166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19D-6C02-44F6-A173-FB38715D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A7F-649E-43EA-8FDA-3FB6303C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6DF-3223-41EE-9C49-8B3FE3F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A83-3A17-41F4-B524-01613648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952-6EA7-4318-AA33-28312032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520C-0E7A-4B3C-A4F2-A1A5D94E6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stawowe układy wzmacniaczy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29040" y="812880"/>
            <a:ext cx="397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mocy czynnej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82720" y="1979280"/>
            <a:ext cx="4952880" cy="1447920"/>
            <a:chOff x="1782720" y="1979280"/>
            <a:chExt cx="4952880" cy="144792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012760" y="2055600"/>
                  <a:ext cx="4113360" cy="11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1782720" y="34272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82720" y="19796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78272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735600" y="1979280"/>
              <a:ext cx="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33600" y="4505040"/>
            <a:ext cx="5333760" cy="1981440"/>
            <a:chOff x="1533600" y="4505040"/>
            <a:chExt cx="5333760" cy="19814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685880" y="4734000"/>
                  <a:ext cx="4842000" cy="14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z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y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e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G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sSup>
                                    <m:e/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4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k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sSup>
                            <m:e/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1533600" y="648648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33600" y="45054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3360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867360" y="4505040"/>
              <a:ext cx="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05360" y="3805200"/>
            <a:ext cx="444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Wzmocnienie skuteczne mocy k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P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(źródł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( dre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(bramk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509760" y="1935000"/>
            <a:ext cx="6771960" cy="2714040"/>
            <a:chOff x="509760" y="1935000"/>
            <a:chExt cx="6771960" cy="2714040"/>
          </a:xfrm>
        </p:grpSpPr>
        <p:sp>
          <p:nvSpPr>
            <p:cNvPr id="285" name=""/>
            <p:cNvSpPr/>
            <p:nvPr/>
          </p:nvSpPr>
          <p:spPr>
            <a:xfrm>
              <a:off x="509760" y="2706840"/>
              <a:ext cx="137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4360" y="2624040"/>
              <a:ext cx="115128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05640" y="25527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35520" y="3973680"/>
              <a:ext cx="16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6720" y="3870360"/>
              <a:ext cx="1285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27240" y="2989440"/>
              <a:ext cx="99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22480" y="2906640"/>
              <a:ext cx="12708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27240" y="3959280"/>
              <a:ext cx="9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2480" y="3868560"/>
              <a:ext cx="127080" cy="14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86160" y="3214800"/>
              <a:ext cx="182520" cy="57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59520" y="2925720"/>
              <a:ext cx="181080" cy="571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38720" y="3502080"/>
              <a:ext cx="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26160" y="3959280"/>
              <a:ext cx="39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8600" y="2629080"/>
              <a:ext cx="378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48440" y="26161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75080" y="3959280"/>
              <a:ext cx="38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75080" y="2989440"/>
              <a:ext cx="382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5080" y="3773520"/>
              <a:ext cx="28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75080" y="2989440"/>
              <a:ext cx="28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42400" y="378144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80320" y="420840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43280" y="3233880"/>
              <a:ext cx="303120" cy="406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3280" y="3476520"/>
              <a:ext cx="303120" cy="405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101320" y="3233520"/>
              <a:ext cx="1800" cy="7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098440" y="3959280"/>
              <a:ext cx="46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23640" y="2989440"/>
              <a:ext cx="468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124000" y="2989080"/>
              <a:ext cx="180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46280" y="3914640"/>
              <a:ext cx="6516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5120" y="2955960"/>
              <a:ext cx="65160" cy="98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954160" y="3158640"/>
              <a:ext cx="1800" cy="66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705640" y="3024000"/>
              <a:ext cx="144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3320" y="2995560"/>
              <a:ext cx="48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997520" y="2625840"/>
              <a:ext cx="388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3600" y="32227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90400" y="3089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38720" y="242568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7080" y="1935000"/>
              <a:ext cx="430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1680" y="262908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48440" y="2033640"/>
              <a:ext cx="41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502320" y="3024000"/>
              <a:ext cx="180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67640" y="2925720"/>
              <a:ext cx="51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9400" y="2735280"/>
              <a:ext cx="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89400" y="3092400"/>
              <a:ext cx="2649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22640" y="29941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54360" y="329076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289400" y="2596680"/>
              <a:ext cx="2649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2160" y="3916440"/>
              <a:ext cx="84240" cy="92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37080" y="3916440"/>
              <a:ext cx="0" cy="29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0640" y="4213080"/>
              <a:ext cx="2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65920" y="62856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emitera ( OE)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127160" y="2046240"/>
            <a:ext cx="6377040" cy="2559960"/>
            <a:chOff x="1127160" y="2046240"/>
            <a:chExt cx="6377040" cy="2559960"/>
          </a:xfrm>
        </p:grpSpPr>
        <p:sp>
          <p:nvSpPr>
            <p:cNvPr id="336" name=""/>
            <p:cNvSpPr/>
            <p:nvPr/>
          </p:nvSpPr>
          <p:spPr>
            <a:xfrm>
              <a:off x="4905360" y="4165560"/>
              <a:ext cx="42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5320" y="204624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92680" y="2465280"/>
              <a:ext cx="11444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37120" y="2395440"/>
              <a:ext cx="128880" cy="139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76720" y="3784680"/>
              <a:ext cx="16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48200" y="3683160"/>
              <a:ext cx="1288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4920" y="2822400"/>
              <a:ext cx="990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70160" y="2741760"/>
              <a:ext cx="127080" cy="141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74920" y="3770280"/>
              <a:ext cx="99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70160" y="3681360"/>
              <a:ext cx="127080" cy="136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30416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88120" y="2759040"/>
              <a:ext cx="181080" cy="558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67320" y="332280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56200" y="3770280"/>
              <a:ext cx="39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39000" y="2470320"/>
              <a:ext cx="376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7040" y="2457360"/>
              <a:ext cx="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25640" y="3770280"/>
              <a:ext cx="379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5640" y="2822400"/>
              <a:ext cx="3794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5640" y="3589200"/>
              <a:ext cx="32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2564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1000" y="359712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31240" y="401472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7080" y="3060720"/>
              <a:ext cx="301680" cy="39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97080" y="3298680"/>
              <a:ext cx="301680" cy="3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355840" y="3060360"/>
              <a:ext cx="1440" cy="70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351160" y="3770280"/>
              <a:ext cx="46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376000" y="2822400"/>
              <a:ext cx="466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822400"/>
              <a:ext cx="324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97200" y="3726000"/>
              <a:ext cx="63360" cy="95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6040" y="2790720"/>
              <a:ext cx="6336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7160" y="3854520"/>
              <a:ext cx="1584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201840" y="298728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37120" y="2855520"/>
              <a:ext cx="180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9200" y="2828880"/>
              <a:ext cx="481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5232240" y="2467080"/>
              <a:ext cx="3873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99480" y="3049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26920" y="29192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83160" y="22716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13520" y="2470320"/>
              <a:ext cx="17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729480" y="2855520"/>
              <a:ext cx="144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93000" y="2759040"/>
              <a:ext cx="51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29160" y="2575080"/>
              <a:ext cx="0" cy="4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39960" y="2476800"/>
              <a:ext cx="29124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5640" y="282564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92680" y="3116160"/>
              <a:ext cx="0" cy="7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3160" y="2905560"/>
              <a:ext cx="3146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41920" y="3727440"/>
              <a:ext cx="82440" cy="90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76840" y="372744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40400" y="401796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43240" y="550800"/>
            <a:ext cx="77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go kolektora ( OC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178600" y="1976400"/>
            <a:ext cx="40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7640" y="2079720"/>
            <a:ext cx="7129440" cy="2261520"/>
            <a:chOff x="647640" y="2079720"/>
            <a:chExt cx="7129440" cy="2261520"/>
          </a:xfrm>
        </p:grpSpPr>
        <p:sp>
          <p:nvSpPr>
            <p:cNvPr id="388" name=""/>
            <p:cNvSpPr/>
            <p:nvPr/>
          </p:nvSpPr>
          <p:spPr>
            <a:xfrm>
              <a:off x="4832280" y="2733840"/>
              <a:ext cx="9302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2520" y="2644920"/>
              <a:ext cx="120600" cy="150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62520" y="3651120"/>
              <a:ext cx="120600" cy="14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55840" y="2765520"/>
              <a:ext cx="930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59000" y="2679840"/>
              <a:ext cx="117720" cy="149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55840" y="3738600"/>
              <a:ext cx="25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59000" y="3679920"/>
              <a:ext cx="117720" cy="14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51120" y="2998800"/>
              <a:ext cx="169920" cy="59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86600" y="2967120"/>
              <a:ext cx="168120" cy="59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70480" y="354960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11920" y="3743280"/>
              <a:ext cx="35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11920" y="2733840"/>
              <a:ext cx="353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70480" y="2733840"/>
              <a:ext cx="180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5200" y="3773520"/>
              <a:ext cx="825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35360" y="35812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35360" y="2765520"/>
              <a:ext cx="144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32960" y="390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8560" y="2127240"/>
              <a:ext cx="47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44600" y="301932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44600" y="3271680"/>
              <a:ext cx="281160" cy="422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391840" y="3018960"/>
              <a:ext cx="1800" cy="75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12720" y="2762280"/>
              <a:ext cx="771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413080" y="276516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06560" y="372744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97200" y="2730600"/>
              <a:ext cx="60480" cy="101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7640" y="2825640"/>
              <a:ext cx="14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187800" y="294156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48200" y="2909880"/>
              <a:ext cx="180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51400" y="2771640"/>
              <a:ext cx="452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211720" y="2739960"/>
              <a:ext cx="363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74280" y="30081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07840" y="29750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40320" y="217800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61240" y="2717640"/>
              <a:ext cx="16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05520" y="2079720"/>
              <a:ext cx="38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620040" y="2905200"/>
              <a:ext cx="144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6720" y="3008160"/>
              <a:ext cx="99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300560" y="3112560"/>
              <a:ext cx="412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540680" y="2737080"/>
              <a:ext cx="302400" cy="37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4229640" y="2816280"/>
              <a:ext cx="16056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57720" y="3122640"/>
              <a:ext cx="247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4000" y="3122640"/>
              <a:ext cx="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7000" y="3703680"/>
              <a:ext cx="76320" cy="96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9840" y="37306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1320" y="404028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4167000" y="2754000"/>
              <a:ext cx="82440" cy="103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756720" y="56664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wspólnej bazy ( OB) dla składowych zmien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199160" y="411120"/>
            <a:ext cx="72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o podstawie pośredniej dla składowych zmien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37400" y="2908440"/>
            <a:ext cx="123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46080" y="1670040"/>
            <a:ext cx="5942160" cy="2513160"/>
            <a:chOff x="946080" y="1670040"/>
            <a:chExt cx="5942160" cy="2513160"/>
          </a:xfrm>
        </p:grpSpPr>
        <p:sp>
          <p:nvSpPr>
            <p:cNvPr id="438" name=""/>
            <p:cNvSpPr/>
            <p:nvPr/>
          </p:nvSpPr>
          <p:spPr>
            <a:xfrm>
              <a:off x="4780080" y="2176560"/>
              <a:ext cx="1017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97440" y="211464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80080" y="3927600"/>
              <a:ext cx="9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19680" y="3878280"/>
              <a:ext cx="1144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63800" y="2484360"/>
              <a:ext cx="5479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1920" y="2419200"/>
              <a:ext cx="112680" cy="123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63800" y="3927600"/>
              <a:ext cx="9576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51120" y="3878280"/>
              <a:ext cx="112680" cy="120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2000" y="3013200"/>
              <a:ext cx="162000" cy="490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10280" y="2759040"/>
              <a:ext cx="160200" cy="48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3247920"/>
              <a:ext cx="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15080" y="3925800"/>
              <a:ext cx="350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89600" y="2179800"/>
              <a:ext cx="333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9840" y="216864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30480" y="3925800"/>
              <a:ext cx="57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030480" y="2484000"/>
              <a:ext cx="498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14800" y="3503520"/>
              <a:ext cx="0" cy="4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14800" y="248904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4440" y="34732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84600" y="1943280"/>
              <a:ext cx="79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1760" y="2965320"/>
              <a:ext cx="268200" cy="349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71760" y="3174840"/>
              <a:ext cx="268200" cy="346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589120" y="2964960"/>
              <a:ext cx="2376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607840" y="3925800"/>
              <a:ext cx="414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631600" y="2489040"/>
              <a:ext cx="414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2614680" y="24886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7160" y="387828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97160" y="2460600"/>
              <a:ext cx="57240" cy="84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46080" y="3078000"/>
              <a:ext cx="140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3679560" y="2805120"/>
              <a:ext cx="4680" cy="78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797440" y="2519280"/>
              <a:ext cx="1800" cy="9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0160" y="2494080"/>
              <a:ext cx="4284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5172120" y="2178000"/>
              <a:ext cx="342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25080" y="31338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5280" y="2575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94400" y="200664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54760" y="2179800"/>
              <a:ext cx="1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89840" y="1670040"/>
              <a:ext cx="698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6502320" y="260496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45000" y="2271600"/>
              <a:ext cx="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5000" y="2577960"/>
              <a:ext cx="2350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11720" y="2492280"/>
              <a:ext cx="23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80080" y="274788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545000" y="2152800"/>
              <a:ext cx="23508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3120" y="3906720"/>
              <a:ext cx="73080" cy="79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5160" y="39178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24560" y="4183200"/>
              <a:ext cx="2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02320" y="3078000"/>
              <a:ext cx="160200" cy="490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61000" y="3568680"/>
              <a:ext cx="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54920" y="1689120"/>
              <a:ext cx="34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3880" y="33606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w układzie wspólnego emitera -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55520" y="3830760"/>
            <a:ext cx="8256600" cy="2805120"/>
            <a:chOff x="155520" y="3830760"/>
            <a:chExt cx="8256600" cy="2805120"/>
          </a:xfrm>
        </p:grpSpPr>
        <p:grpSp>
          <p:nvGrpSpPr>
            <p:cNvPr id="491" name=""/>
            <p:cNvGrpSpPr/>
            <p:nvPr/>
          </p:nvGrpSpPr>
          <p:grpSpPr>
            <a:xfrm>
              <a:off x="155520" y="3830760"/>
              <a:ext cx="8256600" cy="2805120"/>
              <a:chOff x="155520" y="3830760"/>
              <a:chExt cx="8256600" cy="2805120"/>
            </a:xfrm>
          </p:grpSpPr>
          <mc:AlternateContent>
            <mc:Choice xmlns:a14="http://schemas.microsoft.com/office/drawing/2010/main" Requires="a14">
              <p:sp>
                <p:nvSpPr>
                  <p:cNvPr id="492" name=""/>
                  <p:cNvSpPr txBox="1"/>
                  <p:nvPr/>
                </p:nvSpPr>
                <p:spPr>
                  <a:xfrm>
                    <a:off x="4832280" y="6181920"/>
                    <a:ext cx="3003480" cy="45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3" name=""/>
              <p:cNvSpPr/>
              <p:nvPr/>
            </p:nvSpPr>
            <p:spPr>
              <a:xfrm>
                <a:off x="3206880" y="4964040"/>
                <a:ext cx="193680" cy="569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5665680" y="4857840"/>
                <a:ext cx="456480" cy="771120"/>
                <a:chOff x="5665680" y="4857840"/>
                <a:chExt cx="456480" cy="7711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5665680" y="4857840"/>
                  <a:ext cx="444600" cy="492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677560" y="5135760"/>
                  <a:ext cx="444600" cy="493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917680" y="5046840"/>
                  <a:ext cx="0" cy="45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978360" y="5122800"/>
                <a:ext cx="353520" cy="87120"/>
                <a:chOff x="3978360" y="5122800"/>
                <a:chExt cx="353520" cy="871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985200" y="5122800"/>
                  <a:ext cx="34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978360" y="5209920"/>
                  <a:ext cx="34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4645080" y="4569120"/>
                <a:ext cx="88560" cy="348840"/>
                <a:chOff x="4645080" y="4569120"/>
                <a:chExt cx="88560" cy="348840"/>
              </a:xfrm>
            </p:grpSpPr>
            <p:sp>
              <p:nvSpPr>
                <p:cNvPr id="502" name=""/>
                <p:cNvSpPr/>
                <p:nvPr/>
              </p:nvSpPr>
              <p:spPr>
                <a:xfrm flipV="1">
                  <a:off x="4645080" y="4569120"/>
                  <a:ext cx="0" cy="34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4733640" y="4575960"/>
                  <a:ext cx="0" cy="34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1751040" y="4722840"/>
                <a:ext cx="36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597040" y="4741920"/>
                <a:ext cx="202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3308400" y="4741920"/>
                <a:ext cx="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4159080" y="4741920"/>
                <a:ext cx="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08400" y="5538960"/>
                <a:ext cx="0" cy="39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78160" y="521640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58880" y="5899320"/>
                <a:ext cx="519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738680" y="4761000"/>
                <a:ext cx="21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919840" y="47610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00760" y="563400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46400" y="419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19640" y="44719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827760" y="56674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481800" y="5070600"/>
                <a:ext cx="193680" cy="571320"/>
              </a:xfrm>
              <a:prstGeom prst="rect">
                <a:avLst/>
              </a:prstGeom>
              <a:noFill/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578640" y="4761000"/>
                <a:ext cx="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97720" y="5634000"/>
                <a:ext cx="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112840" y="4071960"/>
                <a:ext cx="519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b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44480" y="5048280"/>
                <a:ext cx="508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327560" y="5040360"/>
                <a:ext cx="770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8080" y="4052880"/>
                <a:ext cx="609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35680" y="4965840"/>
                <a:ext cx="59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1789200" y="4874760"/>
                <a:ext cx="7920" cy="8254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894680" y="5064120"/>
                <a:ext cx="448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2936880" y="4890960"/>
                <a:ext cx="0" cy="8733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792880" y="4221000"/>
                <a:ext cx="586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ff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0000ff"/>
                    </a:solidFill>
                    <a:latin typeface="Times New Roman"/>
                  </a:rPr>
                  <a:t>b’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33880" y="5859360"/>
                <a:ext cx="82440" cy="79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37400" y="5827680"/>
                <a:ext cx="824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559560" y="5838840"/>
                <a:ext cx="81000" cy="7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259080" y="4680000"/>
                <a:ext cx="824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80240" y="473076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548400" y="4710240"/>
                <a:ext cx="824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6200000">
                <a:off x="4813200" y="3633480"/>
                <a:ext cx="188640" cy="5828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4159080" y="3887280"/>
                <a:ext cx="0" cy="85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919840" y="3904920"/>
                <a:ext cx="0" cy="8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08320" y="4711680"/>
                <a:ext cx="810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602080" y="5886360"/>
                    <a:ext cx="12348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540" name=""/>
              <p:cNvSpPr/>
              <p:nvPr/>
            </p:nvSpPr>
            <p:spPr>
              <a:xfrm>
                <a:off x="1770120" y="4722840"/>
                <a:ext cx="2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658520" y="412920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65040" y="4678200"/>
                <a:ext cx="86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65040" y="594684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20200" y="480852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365040" y="4665600"/>
                <a:ext cx="0" cy="128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rot="16200000">
                <a:off x="672120" y="44910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5520" y="5045040"/>
                <a:ext cx="416160" cy="37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365040" y="51004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08320" y="534348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0" name=""/>
                  <p:cNvSpPr txBox="1"/>
                  <p:nvPr/>
                </p:nvSpPr>
                <p:spPr>
                  <a:xfrm>
                    <a:off x="6207120" y="4052880"/>
                    <a:ext cx="2205000" cy="57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51" name=""/>
              <p:cNvSpPr/>
              <p:nvPr/>
            </p:nvSpPr>
            <p:spPr>
              <a:xfrm flipV="1">
                <a:off x="5059440" y="5417640"/>
                <a:ext cx="53172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259080" y="5837400"/>
                <a:ext cx="82440" cy="7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6200000">
                <a:off x="2311200" y="4425480"/>
                <a:ext cx="190440" cy="581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7583400" y="4824000"/>
                <a:ext cx="0" cy="10890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57920" y="4967280"/>
                <a:ext cx="407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8000"/>
                    </a:solidFill>
                    <a:latin typeface="Times New Roman"/>
                  </a:rPr>
                  <a:t>u</a:t>
                </a:r>
                <a:r>
                  <a:rPr b="0" lang="pl-PL" sz="2000" spc="-1" strike="noStrike" baseline="-25000">
                    <a:solidFill>
                      <a:srgbClr val="008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4159080" y="3905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203800" y="39052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1384200" y="770040"/>
            <a:ext cx="5982840" cy="2617200"/>
            <a:chOff x="1384200" y="770040"/>
            <a:chExt cx="5982840" cy="2617200"/>
          </a:xfrm>
        </p:grpSpPr>
        <p:sp>
          <p:nvSpPr>
            <p:cNvPr id="559" name=""/>
            <p:cNvSpPr/>
            <p:nvPr/>
          </p:nvSpPr>
          <p:spPr>
            <a:xfrm>
              <a:off x="3821760" y="1662840"/>
              <a:ext cx="507960" cy="33372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2240" y="2661480"/>
              <a:ext cx="376200" cy="336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69720" y="27050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04360" y="2809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0040" y="994680"/>
              <a:ext cx="176040" cy="47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38240" y="816480"/>
              <a:ext cx="1080" cy="19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38240" y="1454040"/>
              <a:ext cx="108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86920" y="1094400"/>
              <a:ext cx="379440" cy="333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9720" y="1135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04360" y="124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66720" y="2577960"/>
              <a:ext cx="174600" cy="471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54560" y="2401200"/>
              <a:ext cx="144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354560" y="3037320"/>
              <a:ext cx="144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14760" y="265500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96480" y="770040"/>
              <a:ext cx="7236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701240" y="2818800"/>
              <a:ext cx="306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4701240" y="2932920"/>
              <a:ext cx="306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4852080" y="2415960"/>
              <a:ext cx="576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52080" y="2949120"/>
              <a:ext cx="576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05080" y="2459160"/>
              <a:ext cx="377640" cy="333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85560" y="256500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13200" y="1752840"/>
              <a:ext cx="528120" cy="52632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73040" y="1861920"/>
              <a:ext cx="7560" cy="29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094280" y="1815120"/>
              <a:ext cx="259920" cy="11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4094280" y="2055960"/>
              <a:ext cx="160560" cy="108720"/>
              <a:chOff x="4094280" y="2055960"/>
              <a:chExt cx="160560" cy="108720"/>
            </a:xfrm>
          </p:grpSpPr>
          <p:sp>
            <p:nvSpPr>
              <p:cNvPr id="584" name=""/>
              <p:cNvSpPr/>
              <p:nvPr/>
            </p:nvSpPr>
            <p:spPr>
              <a:xfrm>
                <a:off x="4094280" y="2076840"/>
                <a:ext cx="160560" cy="83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25240" y="2055960"/>
                <a:ext cx="129600" cy="1087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4255560" y="2160720"/>
              <a:ext cx="9900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3912840" y="2019240"/>
              <a:ext cx="1674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54560" y="1620720"/>
              <a:ext cx="144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48600" y="2011320"/>
              <a:ext cx="11707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4354560" y="2208240"/>
              <a:ext cx="14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66720" y="980280"/>
              <a:ext cx="174600" cy="4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54560" y="795600"/>
              <a:ext cx="144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54560" y="1439640"/>
              <a:ext cx="144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97480" y="1078200"/>
              <a:ext cx="379080" cy="3351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69120" y="11199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703760" y="1224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50040" y="2563560"/>
              <a:ext cx="176040" cy="463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38240" y="1648080"/>
              <a:ext cx="108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38240" y="3016440"/>
              <a:ext cx="108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48160" y="3252240"/>
              <a:ext cx="4021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41680" y="802080"/>
              <a:ext cx="308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364280" y="2415960"/>
              <a:ext cx="493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01240" y="1932480"/>
              <a:ext cx="321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580440" y="1993320"/>
              <a:ext cx="1810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01240" y="1774800"/>
              <a:ext cx="32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80440" y="1840680"/>
              <a:ext cx="181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63960" y="1993320"/>
              <a:ext cx="0" cy="12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63960" y="802080"/>
              <a:ext cx="0" cy="9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311360" y="770040"/>
              <a:ext cx="68040" cy="6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11360" y="2385360"/>
              <a:ext cx="680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96480" y="3216960"/>
              <a:ext cx="7236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11360" y="3216960"/>
              <a:ext cx="6804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20760" y="3216960"/>
              <a:ext cx="7272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1320" y="17366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94880" y="18406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29120" y="1370520"/>
              <a:ext cx="311400" cy="3196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06160" y="14137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15440" y="2055960"/>
              <a:ext cx="311040" cy="3196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23800" y="2086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97920" y="1959840"/>
              <a:ext cx="71280" cy="6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384200" y="1921320"/>
              <a:ext cx="890280" cy="1311120"/>
              <a:chOff x="1384200" y="1921320"/>
              <a:chExt cx="890280" cy="1311120"/>
            </a:xfrm>
          </p:grpSpPr>
          <p:sp>
            <p:nvSpPr>
              <p:cNvPr id="622" name=""/>
              <p:cNvSpPr/>
              <p:nvPr/>
            </p:nvSpPr>
            <p:spPr>
              <a:xfrm>
                <a:off x="1557360" y="1978560"/>
                <a:ext cx="71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557360" y="3229560"/>
                <a:ext cx="54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682280" y="21038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557360" y="1965960"/>
                <a:ext cx="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rot="16200000">
                <a:off x="1799640" y="1825200"/>
                <a:ext cx="124920" cy="317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84200" y="2340360"/>
                <a:ext cx="343800" cy="37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1557360" y="2395800"/>
                <a:ext cx="0" cy="25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673280" y="263088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703040" y="1495800"/>
              <a:ext cx="0" cy="26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58840" y="1487520"/>
              <a:ext cx="0" cy="26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51680" y="1638720"/>
              <a:ext cx="35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65320" y="1620720"/>
              <a:ext cx="139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6163920" y="1620360"/>
              <a:ext cx="0" cy="163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87960" y="1943640"/>
              <a:ext cx="174600" cy="46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25040" y="3226680"/>
              <a:ext cx="72720" cy="67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14240" y="1590480"/>
              <a:ext cx="7272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077160" y="11728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00800" y="146700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2840" y="2523240"/>
              <a:ext cx="51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331960" y="2468520"/>
              <a:ext cx="543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60800" y="1123200"/>
              <a:ext cx="41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53240" y="143964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3302640" y="2171520"/>
              <a:ext cx="7560" cy="834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63120" y="2590920"/>
              <a:ext cx="49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26600" y="189720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04600" y="3030840"/>
              <a:ext cx="5914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 flipH="1">
            <a:off x="6086160" y="463860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34040" y="3807000"/>
            <a:ext cx="55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653160" y="3462480"/>
                <a:ext cx="1897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699000" y="1387440"/>
                <a:ext cx="3267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3933720" y="2465280"/>
                <a:ext cx="4200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4046400" y="3454560"/>
                <a:ext cx="423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4168800" y="4640400"/>
                <a:ext cx="1312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648000" y="53103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765760" y="5207040"/>
                <a:ext cx="2459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OC: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87720" y="1306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41800" y="1422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46480" y="3635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608120" y="682560"/>
            <a:ext cx="5101560" cy="2777760"/>
            <a:chOff x="1608120" y="682560"/>
            <a:chExt cx="5101560" cy="2777760"/>
          </a:xfrm>
        </p:grpSpPr>
        <p:sp>
          <p:nvSpPr>
            <p:cNvPr id="669" name=""/>
            <p:cNvSpPr/>
            <p:nvPr/>
          </p:nvSpPr>
          <p:spPr>
            <a:xfrm>
              <a:off x="5385960" y="2084760"/>
              <a:ext cx="0" cy="72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997080" y="2081880"/>
              <a:ext cx="49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27960" y="22874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01880" y="873360"/>
              <a:ext cx="173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88640" y="722160"/>
              <a:ext cx="10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88640" y="1264680"/>
              <a:ext cx="108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24760" y="958320"/>
              <a:ext cx="374760" cy="284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51720" y="950040"/>
              <a:ext cx="2199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99520" y="2223000"/>
              <a:ext cx="17388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88080" y="2072160"/>
              <a:ext cx="144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29200" y="2307240"/>
              <a:ext cx="374760" cy="284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01920" y="2342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46520" y="682560"/>
              <a:ext cx="7380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72280" y="1805760"/>
              <a:ext cx="598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51760" y="1519920"/>
              <a:ext cx="522000" cy="4485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09080" y="1612080"/>
              <a:ext cx="7200" cy="254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731400" y="1572120"/>
              <a:ext cx="256320" cy="99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731400" y="1777320"/>
              <a:ext cx="156960" cy="92520"/>
              <a:chOff x="3731400" y="1777320"/>
              <a:chExt cx="156960" cy="92520"/>
            </a:xfrm>
          </p:grpSpPr>
          <p:sp>
            <p:nvSpPr>
              <p:cNvPr id="687" name=""/>
              <p:cNvSpPr/>
              <p:nvPr/>
            </p:nvSpPr>
            <p:spPr>
              <a:xfrm>
                <a:off x="3731400" y="1794960"/>
                <a:ext cx="156960" cy="70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761640" y="1777320"/>
                <a:ext cx="126720" cy="925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3889080" y="1867320"/>
              <a:ext cx="98640" cy="3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3551760" y="1746000"/>
              <a:ext cx="16488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988080" y="1406880"/>
              <a:ext cx="1440" cy="15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61200" y="1743120"/>
              <a:ext cx="79632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002840" y="1906920"/>
              <a:ext cx="1440" cy="1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83760" y="682560"/>
              <a:ext cx="612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29200" y="944280"/>
              <a:ext cx="374760" cy="286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1880" y="2208960"/>
              <a:ext cx="173880" cy="39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88640" y="1429920"/>
              <a:ext cx="1080" cy="79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52640" y="709560"/>
              <a:ext cx="3106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16520" y="1672200"/>
              <a:ext cx="317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94280" y="1724760"/>
              <a:ext cx="178200" cy="2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16520" y="1538280"/>
              <a:ext cx="317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94280" y="1595160"/>
              <a:ext cx="178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77080" y="1724760"/>
              <a:ext cx="0" cy="10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77080" y="709560"/>
              <a:ext cx="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44520" y="682560"/>
              <a:ext cx="6768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33520" y="682560"/>
              <a:ext cx="7344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44520" y="2058120"/>
              <a:ext cx="67680" cy="53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185160" y="1471320"/>
              <a:ext cx="500760" cy="28296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71560" y="15069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04040" y="159516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41160" y="1193760"/>
              <a:ext cx="307440" cy="271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17120" y="12308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26400" y="1777320"/>
              <a:ext cx="308520" cy="271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36920" y="18028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4503960" y="1982520"/>
              <a:ext cx="49320" cy="201960"/>
              <a:chOff x="4503960" y="1982520"/>
              <a:chExt cx="49320" cy="201960"/>
            </a:xfrm>
          </p:grpSpPr>
          <p:sp>
            <p:nvSpPr>
              <p:cNvPr id="716" name=""/>
              <p:cNvSpPr/>
              <p:nvPr/>
            </p:nvSpPr>
            <p:spPr>
              <a:xfrm>
                <a:off x="4503960" y="1982520"/>
                <a:ext cx="0" cy="20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553280" y="1982520"/>
                <a:ext cx="0" cy="20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4564080" y="2089440"/>
              <a:ext cx="81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48320" y="1698840"/>
              <a:ext cx="7344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13600" y="2217600"/>
              <a:ext cx="166320" cy="43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654160" y="211752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21760" y="228744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55000" y="1727640"/>
              <a:ext cx="71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79200" y="1834200"/>
              <a:ext cx="51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755000" y="171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rot="16200000">
              <a:off x="2003400" y="1574640"/>
              <a:ext cx="108000" cy="313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08120" y="2025000"/>
              <a:ext cx="338760" cy="31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755000" y="208224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870200" y="228456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23880" y="12704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70520" y="1413000"/>
              <a:ext cx="0" cy="195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88080" y="2615040"/>
              <a:ext cx="144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332600" y="24300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88640" y="2596320"/>
              <a:ext cx="108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08200" y="2796840"/>
              <a:ext cx="3362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46520" y="2767320"/>
              <a:ext cx="7380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944520" y="2767320"/>
              <a:ext cx="6768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33520" y="2767320"/>
              <a:ext cx="73440" cy="56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45280" y="2751480"/>
              <a:ext cx="7200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55000" y="279144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29160" y="3022200"/>
              <a:ext cx="53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13760" y="3036240"/>
              <a:ext cx="7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63760" y="305460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4751280" y="305460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118040" y="5159520"/>
            <a:ext cx="185760" cy="52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3249360" y="4650840"/>
            <a:ext cx="174600" cy="55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094440" y="5316480"/>
            <a:ext cx="426960" cy="455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105600" y="5060880"/>
            <a:ext cx="428400" cy="455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337440" y="5180040"/>
            <a:ext cx="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76600" y="5305320"/>
            <a:ext cx="335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70480" y="5386320"/>
            <a:ext cx="33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5110200" y="4794120"/>
            <a:ext cx="0" cy="31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195880" y="4798800"/>
            <a:ext cx="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06840" y="493704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618000" y="4954680"/>
            <a:ext cx="14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4214880" y="49546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645080" y="4954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14880" y="568800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62360" y="5391000"/>
            <a:ext cx="0" cy="66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498680" y="6019920"/>
            <a:ext cx="573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02360" y="497196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338880" y="4971960"/>
            <a:ext cx="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319800" y="57769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78240" y="457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64160" y="46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211520" y="580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78520" y="5257800"/>
            <a:ext cx="187560" cy="525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6972480" y="497196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89760" y="57769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056040" y="433692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300120" y="52466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07080" y="5229360"/>
            <a:ext cx="74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207040" y="4468680"/>
            <a:ext cx="60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79840" y="52578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19520" y="5983200"/>
            <a:ext cx="795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59680" y="5972040"/>
            <a:ext cx="7920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53400" y="5981760"/>
            <a:ext cx="777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67360" y="4897440"/>
            <a:ext cx="8064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00720" y="4943520"/>
            <a:ext cx="7776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943680" y="4925880"/>
            <a:ext cx="7956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645080" y="41670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6338880" y="418428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620960" y="418464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95760" y="4925880"/>
            <a:ext cx="7776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3524400" y="6008760"/>
                <a:ext cx="11880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497400" y="6367320"/>
                <a:ext cx="43639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1498680" y="493704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617920" y="438948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586560" y="497052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709680" y="444672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7789680" y="5013360"/>
            <a:ext cx="437760" cy="1039320"/>
            <a:chOff x="7789680" y="5013360"/>
            <a:chExt cx="437760" cy="1039320"/>
          </a:xfrm>
        </p:grpSpPr>
        <p:sp>
          <p:nvSpPr>
            <p:cNvPr id="792" name=""/>
            <p:cNvSpPr/>
            <p:nvPr/>
          </p:nvSpPr>
          <p:spPr>
            <a:xfrm flipH="1">
              <a:off x="8040960" y="5256000"/>
              <a:ext cx="186120" cy="524880"/>
            </a:xfrm>
            <a:prstGeom prst="rect">
              <a:avLst/>
            </a:pr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8147160" y="5013360"/>
              <a:ext cx="0" cy="2440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789680" y="5029560"/>
              <a:ext cx="33876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147160" y="5780880"/>
              <a:ext cx="0" cy="2718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795800" y="6031080"/>
              <a:ext cx="33876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8259480" y="46893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172040" y="5994360"/>
            <a:ext cx="792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155520" y="4809960"/>
            <a:ext cx="1036440" cy="1225080"/>
            <a:chOff x="155520" y="4809960"/>
            <a:chExt cx="1036440" cy="1225080"/>
          </a:xfrm>
        </p:grpSpPr>
        <p:sp>
          <p:nvSpPr>
            <p:cNvPr id="800" name=""/>
            <p:cNvSpPr/>
            <p:nvPr/>
          </p:nvSpPr>
          <p:spPr>
            <a:xfrm>
              <a:off x="356400" y="4864320"/>
              <a:ext cx="83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56400" y="6032880"/>
              <a:ext cx="63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6880" y="498348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356400" y="4851720"/>
              <a:ext cx="0" cy="11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rot="16200000">
              <a:off x="655560" y="4683600"/>
              <a:ext cx="117000" cy="36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5520" y="5201280"/>
              <a:ext cx="399600" cy="34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56400" y="5253120"/>
              <a:ext cx="0" cy="23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5720" y="5476680"/>
              <a:ext cx="50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G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3669840" y="4438800"/>
            <a:ext cx="497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b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3889440" y="5092200"/>
            <a:ext cx="0" cy="838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59160" y="4451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6200000">
            <a:off x="5253840" y="3940920"/>
            <a:ext cx="149040" cy="509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6602400" y="3905280"/>
                <a:ext cx="22050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6850080" y="3225960"/>
                <a:ext cx="1897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606840" y="1427040"/>
                <a:ext cx="32986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7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86360" y="2536920"/>
                <a:ext cx="3579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3708360" y="3635280"/>
                <a:ext cx="49100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3751200" y="4454640"/>
                <a:ext cx="49039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3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5759280" y="5316480"/>
                <a:ext cx="262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5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5120" y="30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1040" y="25236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,  parametry robo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70320" y="1860480"/>
            <a:ext cx="2197080" cy="10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740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46800" y="2019240"/>
            <a:ext cx="1015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740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46800" y="2575080"/>
            <a:ext cx="10152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206856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8120" y="2021040"/>
            <a:ext cx="100080" cy="98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25840"/>
            <a:ext cx="77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8120" y="2573280"/>
            <a:ext cx="10008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070600" y="2901960"/>
            <a:ext cx="14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4600" y="3321000"/>
            <a:ext cx="99720" cy="9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298600">
            <a:off x="5029920" y="3320280"/>
            <a:ext cx="98640" cy="1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006440" y="2901960"/>
            <a:ext cx="180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1766880"/>
            <a:ext cx="19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liniow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2197080"/>
            <a:ext cx="1429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2480" y="2197080"/>
            <a:ext cx="141120" cy="328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72320" y="2519280"/>
            <a:ext cx="14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2080" y="262584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2080" y="2068560"/>
            <a:ext cx="297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7232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262584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6680" y="2068560"/>
            <a:ext cx="298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36680" y="2519280"/>
            <a:ext cx="180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6680" y="2068560"/>
            <a:ext cx="180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0860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2040" y="3411360"/>
            <a:ext cx="1440" cy="16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26040" y="213840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91120" y="213840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6840" y="363996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silanie stałoprądowe (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41320" y="220824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1320" y="2347920"/>
            <a:ext cx="236880" cy="23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864800" y="2208240"/>
            <a:ext cx="180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862280" y="2625840"/>
            <a:ext cx="366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882440" y="2068560"/>
            <a:ext cx="366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82800" y="2068560"/>
            <a:ext cx="144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920" y="26002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5000" y="2049480"/>
            <a:ext cx="50760" cy="49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7120" y="2138400"/>
            <a:ext cx="43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581280"/>
            <a:ext cx="3968640" cy="55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79560" y="4987800"/>
            <a:ext cx="51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ólny schemat blokowy wzmacniac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C + 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55520" y="3870360"/>
            <a:ext cx="8737920" cy="2730600"/>
            <a:chOff x="155520" y="3870360"/>
            <a:chExt cx="8737920" cy="2730600"/>
          </a:xfrm>
        </p:grpSpPr>
        <p:grpSp>
          <p:nvGrpSpPr>
            <p:cNvPr id="829" name=""/>
            <p:cNvGrpSpPr/>
            <p:nvPr/>
          </p:nvGrpSpPr>
          <p:grpSpPr>
            <a:xfrm>
              <a:off x="5640480" y="4649760"/>
              <a:ext cx="456480" cy="771120"/>
              <a:chOff x="5640480" y="4649760"/>
              <a:chExt cx="456480" cy="771120"/>
            </a:xfrm>
          </p:grpSpPr>
          <p:sp>
            <p:nvSpPr>
              <p:cNvPr id="830" name=""/>
              <p:cNvSpPr/>
              <p:nvPr/>
            </p:nvSpPr>
            <p:spPr>
              <a:xfrm flipV="1">
                <a:off x="5640480" y="492768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652360" y="4649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5892480" y="477792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952800" y="4915080"/>
              <a:ext cx="353880" cy="86760"/>
              <a:chOff x="3952800" y="4915080"/>
              <a:chExt cx="353880" cy="86760"/>
            </a:xfrm>
          </p:grpSpPr>
          <p:sp>
            <p:nvSpPr>
              <p:cNvPr id="834" name=""/>
              <p:cNvSpPr/>
              <p:nvPr/>
            </p:nvSpPr>
            <p:spPr>
              <a:xfrm>
                <a:off x="3959640" y="491508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52800" y="500184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1979640" y="451476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24160" y="4533840"/>
              <a:ext cx="18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4133880" y="45338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52960" y="50086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46240" y="5691240"/>
              <a:ext cx="585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894280" y="455292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894280" y="4552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75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652040" y="4281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68720" y="3979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7080" y="577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91280" y="486252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88120" y="45529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07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36360" y="48132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02000" y="483228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287840" y="48639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208240" y="46670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67360" y="387036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08320" y="5651640"/>
              <a:ext cx="828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11840" y="5638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97720" y="564984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54680" y="4522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99160" y="451476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16200000">
              <a:off x="4787640" y="3882600"/>
              <a:ext cx="18900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4133880" y="416232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33880" y="41544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5894280" y="415404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178240" y="415440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083120" y="450360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6" name=""/>
                <p:cNvSpPr txBox="1"/>
                <p:nvPr/>
              </p:nvSpPr>
              <p:spPr>
                <a:xfrm>
                  <a:off x="2970360" y="5678640"/>
                  <a:ext cx="1238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3094200" y="6067440"/>
                  <a:ext cx="42321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b</m:t>
                          </m:r>
                          <m:r>
                            <m:t xml:space="preserve">'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8" name=""/>
            <p:cNvSpPr/>
            <p:nvPr/>
          </p:nvSpPr>
          <p:spPr>
            <a:xfrm>
              <a:off x="1998720" y="45147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887120" y="39211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19240" y="42800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397280" y="45514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35440" y="404640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8283960" y="4564080"/>
              <a:ext cx="455400" cy="1128240"/>
              <a:chOff x="8283960" y="4564080"/>
              <a:chExt cx="455400" cy="1128240"/>
            </a:xfrm>
          </p:grpSpPr>
          <p:sp>
            <p:nvSpPr>
              <p:cNvPr id="874" name=""/>
              <p:cNvSpPr/>
              <p:nvPr/>
            </p:nvSpPr>
            <p:spPr>
              <a:xfrm flipH="1">
                <a:off x="8545680" y="4827240"/>
                <a:ext cx="193680" cy="56952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8655480" y="4564080"/>
                <a:ext cx="0" cy="26496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8283960" y="458136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655480" y="5397120"/>
                <a:ext cx="0" cy="295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8290440" y="5668560"/>
                <a:ext cx="35208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8316360" y="401796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63840" y="483876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560680" y="45291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579760" y="54021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541600" y="56260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30440" y="44784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4280" y="4835520"/>
              <a:ext cx="56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62240" y="4851360"/>
              <a:ext cx="19368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259080" y="45417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78160" y="54151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40000" y="56386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28840" y="449100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6432840" y="5113440"/>
              <a:ext cx="348840" cy="88560"/>
              <a:chOff x="6432840" y="5113440"/>
              <a:chExt cx="348840" cy="88560"/>
            </a:xfrm>
          </p:grpSpPr>
          <p:sp>
            <p:nvSpPr>
              <p:cNvPr id="892" name=""/>
              <p:cNvSpPr/>
              <p:nvPr/>
            </p:nvSpPr>
            <p:spPr>
              <a:xfrm flipH="1">
                <a:off x="6432840" y="520200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6439680" y="511344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6640560" y="520056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640560" y="455292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45280" y="44895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83440" y="56451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155520" y="4440240"/>
              <a:ext cx="1077840" cy="1329480"/>
              <a:chOff x="155520" y="4440240"/>
              <a:chExt cx="1077840" cy="1329480"/>
            </a:xfrm>
          </p:grpSpPr>
          <p:sp>
            <p:nvSpPr>
              <p:cNvPr id="899" name=""/>
              <p:cNvSpPr/>
              <p:nvPr/>
            </p:nvSpPr>
            <p:spPr>
              <a:xfrm>
                <a:off x="364680" y="4499280"/>
                <a:ext cx="8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64680" y="576756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19840" y="462852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64680" y="448560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16200000">
                <a:off x="671760" y="431172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55520" y="4865040"/>
                <a:ext cx="41544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364680" y="492120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7960" y="5163840"/>
                <a:ext cx="50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7" name=""/>
          <p:cNvGrpSpPr/>
          <p:nvPr/>
        </p:nvGrpSpPr>
        <p:grpSpPr>
          <a:xfrm>
            <a:off x="674640" y="717480"/>
            <a:ext cx="6967440" cy="2670120"/>
            <a:chOff x="674640" y="717480"/>
            <a:chExt cx="6967440" cy="2670120"/>
          </a:xfrm>
        </p:grpSpPr>
        <p:sp>
          <p:nvSpPr>
            <p:cNvPr id="908" name=""/>
            <p:cNvSpPr/>
            <p:nvPr/>
          </p:nvSpPr>
          <p:spPr>
            <a:xfrm flipH="1" flipV="1">
              <a:off x="2289240" y="1032840"/>
              <a:ext cx="93672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2004840" y="103716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rot="5400000">
              <a:off x="3358800" y="943560"/>
              <a:ext cx="498960" cy="5223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3463560" y="1296720"/>
              <a:ext cx="2970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3692520" y="1036800"/>
              <a:ext cx="117360" cy="245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3462480" y="1131840"/>
              <a:ext cx="107280" cy="150480"/>
              <a:chOff x="3462480" y="1131840"/>
              <a:chExt cx="107280" cy="150480"/>
            </a:xfrm>
          </p:grpSpPr>
          <p:sp>
            <p:nvSpPr>
              <p:cNvPr id="914" name=""/>
              <p:cNvSpPr/>
              <p:nvPr/>
            </p:nvSpPr>
            <p:spPr>
              <a:xfrm flipH="1" flipV="1">
                <a:off x="3467160" y="1131840"/>
                <a:ext cx="82080" cy="150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 rot="5400000">
                <a:off x="3455280" y="1139040"/>
                <a:ext cx="121320" cy="10728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 flipH="1" flipV="1">
              <a:off x="3417840" y="1037160"/>
              <a:ext cx="46080" cy="94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3603240" y="1297080"/>
              <a:ext cx="1800" cy="157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3818880" y="1017000"/>
              <a:ext cx="256068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29920" y="10371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rot="5400000">
              <a:off x="5668560" y="999000"/>
              <a:ext cx="6300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rot="5400000">
              <a:off x="2451960" y="1014840"/>
              <a:ext cx="630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532120" y="2261160"/>
              <a:ext cx="330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5595840" y="2317320"/>
              <a:ext cx="185760" cy="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5532120" y="2117160"/>
              <a:ext cx="330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5595840" y="2179440"/>
              <a:ext cx="18576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016680" y="2031120"/>
              <a:ext cx="3175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5753520" y="185220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5777280" y="24022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3063960" y="2206080"/>
              <a:ext cx="234720" cy="46080"/>
              <a:chOff x="3063960" y="2206080"/>
              <a:chExt cx="234720" cy="46080"/>
            </a:xfrm>
          </p:grpSpPr>
          <p:sp>
            <p:nvSpPr>
              <p:cNvPr id="930" name=""/>
              <p:cNvSpPr/>
              <p:nvPr/>
            </p:nvSpPr>
            <p:spPr>
              <a:xfrm flipH="1">
                <a:off x="3063960" y="2252160"/>
                <a:ext cx="23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3063960" y="2206080"/>
                <a:ext cx="23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2247480" y="944280"/>
              <a:ext cx="50760" cy="215640"/>
              <a:chOff x="2247480" y="944280"/>
              <a:chExt cx="50760" cy="215640"/>
            </a:xfrm>
          </p:grpSpPr>
          <p:sp>
            <p:nvSpPr>
              <p:cNvPr id="933" name=""/>
              <p:cNvSpPr/>
              <p:nvPr/>
            </p:nvSpPr>
            <p:spPr>
              <a:xfrm>
                <a:off x="2298240" y="9442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247480" y="9442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 flipV="1">
              <a:off x="2486160" y="1023120"/>
              <a:ext cx="0" cy="163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87760" y="1451880"/>
              <a:ext cx="0" cy="122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13000" y="1827000"/>
              <a:ext cx="244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692680" y="1044000"/>
              <a:ext cx="0" cy="10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rot="5400000">
              <a:off x="3567240" y="1797840"/>
              <a:ext cx="630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rot="5400000">
              <a:off x="5653800" y="1797120"/>
              <a:ext cx="630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2410560" y="1274400"/>
              <a:ext cx="181080" cy="428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5601600" y="1277280"/>
              <a:ext cx="17316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rot="5400000">
              <a:off x="4053960" y="1587240"/>
              <a:ext cx="165960" cy="46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3486960" y="2005920"/>
              <a:ext cx="181080" cy="42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13000" y="2275200"/>
              <a:ext cx="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13000" y="18270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692680" y="2317320"/>
              <a:ext cx="0" cy="34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84640" y="121356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944720" y="123480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02480" y="1902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6391080" y="924480"/>
              <a:ext cx="52200" cy="215640"/>
              <a:chOff x="6391080" y="924480"/>
              <a:chExt cx="52200" cy="215640"/>
            </a:xfrm>
          </p:grpSpPr>
          <p:sp>
            <p:nvSpPr>
              <p:cNvPr id="952" name=""/>
              <p:cNvSpPr/>
              <p:nvPr/>
            </p:nvSpPr>
            <p:spPr>
              <a:xfrm>
                <a:off x="6443280" y="9244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391080" y="924480"/>
                <a:ext cx="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6459480" y="1026000"/>
              <a:ext cx="4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7642080" y="1200600"/>
              <a:ext cx="0" cy="12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874200" y="105300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674640" y="937080"/>
              <a:ext cx="1311120" cy="1729080"/>
              <a:chOff x="674640" y="937080"/>
              <a:chExt cx="1311120" cy="1729080"/>
            </a:xfrm>
          </p:grpSpPr>
          <p:sp>
            <p:nvSpPr>
              <p:cNvPr id="958" name=""/>
              <p:cNvSpPr/>
              <p:nvPr/>
            </p:nvSpPr>
            <p:spPr>
              <a:xfrm>
                <a:off x="928800" y="1013760"/>
                <a:ext cx="105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928800" y="2662920"/>
                <a:ext cx="80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110600" y="118188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928800" y="996120"/>
                <a:ext cx="0" cy="167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rot="16200000">
                <a:off x="1298520" y="785880"/>
                <a:ext cx="165240" cy="46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4640" y="1489320"/>
                <a:ext cx="505440" cy="492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928800" y="1562040"/>
                <a:ext cx="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094040" y="1878120"/>
                <a:ext cx="44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pl-PL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 flipV="1">
              <a:off x="6915240" y="1027440"/>
              <a:ext cx="0" cy="16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6842880" y="1502640"/>
              <a:ext cx="173160" cy="46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26560" y="156024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rot="5400000">
              <a:off x="5649480" y="2620080"/>
              <a:ext cx="630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84560" y="2661480"/>
              <a:ext cx="46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rot="5400000">
              <a:off x="3555360" y="2632680"/>
              <a:ext cx="648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rot="5400000">
              <a:off x="3168720" y="2643120"/>
              <a:ext cx="6336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502440" y="27165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094200" y="2851920"/>
              <a:ext cx="21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rot="5400000">
              <a:off x="2453760" y="2613240"/>
              <a:ext cx="6300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5760" y="717480"/>
              <a:ext cx="0" cy="267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24440" y="2906640"/>
              <a:ext cx="53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38560" y="290412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984920" y="816120"/>
              <a:ext cx="0" cy="24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98320" y="2954520"/>
              <a:ext cx="55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4749480" y="28785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6689880" y="3387600"/>
                <a:ext cx="19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4159080" y="2465280"/>
                <a:ext cx="2757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8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4145040" y="3468600"/>
                <a:ext cx="3822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0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4230720" y="466740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2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5562720" y="549288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4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3801960" y="6165720"/>
                <a:ext cx="11145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y tranzys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222120" y="1830240"/>
          <a:ext cx="875376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830240"/>
                    <a:ext cx="87537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228600" y="1074600"/>
            <a:ext cx="85345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617200" y="102060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racować w do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1007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1008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1014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37560" y="1600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OE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1060560" y="5818320"/>
                <a:ext cx="10983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746520" y="5726160"/>
                <a:ext cx="12794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780000" y="614520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279360" y="2943360"/>
            <a:ext cx="2155320" cy="2033280"/>
            <a:chOff x="279360" y="2943360"/>
            <a:chExt cx="2155320" cy="2033280"/>
          </a:xfrm>
        </p:grpSpPr>
        <p:sp>
          <p:nvSpPr>
            <p:cNvPr id="1039" name=""/>
            <p:cNvSpPr/>
            <p:nvPr/>
          </p:nvSpPr>
          <p:spPr>
            <a:xfrm>
              <a:off x="1793520" y="3515760"/>
              <a:ext cx="14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1793520" y="3515400"/>
              <a:ext cx="25200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93520" y="3762360"/>
              <a:ext cx="25200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286640" y="3762360"/>
              <a:ext cx="50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82680" y="32770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030040" y="2943360"/>
              <a:ext cx="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2044080" y="3988800"/>
              <a:ext cx="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57600" y="3826080"/>
              <a:ext cx="15156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525600" y="3270240"/>
              <a:ext cx="760680" cy="504360"/>
              <a:chOff x="525600" y="3270240"/>
              <a:chExt cx="760680" cy="504360"/>
            </a:xfrm>
          </p:grpSpPr>
          <p:sp>
            <p:nvSpPr>
              <p:cNvPr id="1048" name=""/>
              <p:cNvSpPr/>
              <p:nvPr/>
            </p:nvSpPr>
            <p:spPr>
              <a:xfrm>
                <a:off x="1031760" y="3270240"/>
                <a:ext cx="1440" cy="49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1031760" y="3270240"/>
                <a:ext cx="25164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031760" y="3517200"/>
                <a:ext cx="25452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525600" y="3517200"/>
                <a:ext cx="5061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090080" y="3570840"/>
                <a:ext cx="18504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1991160" y="324396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9360" y="312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68200" y="4516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335600" y="4419000"/>
              <a:ext cx="70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1343880" y="375516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06440" y="370728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016360" y="4385880"/>
              <a:ext cx="6516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281600" y="3900600"/>
              <a:ext cx="129240" cy="363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1063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1064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1070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7223040" y="1600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1"/>
          <a:stretch/>
        </p:blipFill>
        <p:spPr>
          <a:xfrm>
            <a:off x="585720" y="1035000"/>
            <a:ext cx="7972560" cy="513396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3625920" y="1187280"/>
            <a:ext cx="1644480" cy="478800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539640" y="1523880"/>
            <a:ext cx="8045640" cy="50612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759120" y="3675240"/>
            <a:ext cx="96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usk=3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539640" y="1538280"/>
            <a:ext cx="8170920" cy="5138640"/>
          </a:xfrm>
          <a:prstGeom prst="rect">
            <a:avLst/>
          </a:prstGeom>
          <a:ln w="0">
            <a:noFill/>
          </a:ln>
        </p:spPr>
      </p:pic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askoda- wyłączony tranzystor OB (Q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155520" y="1822320"/>
            <a:ext cx="8331840" cy="4335840"/>
            <a:chOff x="155520" y="1822320"/>
            <a:chExt cx="8331840" cy="4335840"/>
          </a:xfrm>
        </p:grpSpPr>
        <p:sp>
          <p:nvSpPr>
            <p:cNvPr id="1108" name=""/>
            <p:cNvSpPr/>
            <p:nvPr/>
          </p:nvSpPr>
          <p:spPr>
            <a:xfrm flipV="1">
              <a:off x="1416240" y="2145960"/>
              <a:ext cx="0" cy="33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1416240" y="5459400"/>
              <a:ext cx="687708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0" name=""/>
                <p:cNvSpPr txBox="1"/>
                <p:nvPr/>
              </p:nvSpPr>
              <p:spPr>
                <a:xfrm>
                  <a:off x="155520" y="1822320"/>
                  <a:ext cx="115272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11" name=""/>
            <p:cNvSpPr/>
            <p:nvPr/>
          </p:nvSpPr>
          <p:spPr>
            <a:xfrm>
              <a:off x="8221320" y="5508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324240" y="3370320"/>
              <a:ext cx="248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4438080" y="3370320"/>
              <a:ext cx="2991600" cy="1828440"/>
              <a:chOff x="4438080" y="3370320"/>
              <a:chExt cx="2991600" cy="1828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4438080" y="3370320"/>
                <a:ext cx="27406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105680" y="3983040"/>
                <a:ext cx="324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1560600" y="3370320"/>
              <a:ext cx="3321720" cy="1828440"/>
              <a:chOff x="1560600" y="3370320"/>
              <a:chExt cx="3321720" cy="1828440"/>
            </a:xfrm>
          </p:grpSpPr>
          <p:sp>
            <p:nvSpPr>
              <p:cNvPr id="1117" name=""/>
              <p:cNvSpPr/>
              <p:nvPr/>
            </p:nvSpPr>
            <p:spPr>
              <a:xfrm flipH="1">
                <a:off x="1838880" y="3370320"/>
                <a:ext cx="3043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3326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33260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1560600" y="3983040"/>
                <a:ext cx="35964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2927520" y="279396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40600" y="2830680"/>
              <a:ext cx="0" cy="2736720"/>
            </a:xfrm>
            <a:prstGeom prst="line">
              <a:avLst/>
            </a:prstGeom>
            <a:ln w="442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86440" y="5759280"/>
              <a:ext cx="14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akres m.cz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47520" y="5724360"/>
              <a:ext cx="141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akres d.cz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066480" y="5724360"/>
              <a:ext cx="330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akres częstotliwości średni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20080" y="23860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08800" y="2351160"/>
              <a:ext cx="81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88240" y="247320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1158840" y="209520"/>
            <a:ext cx="671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y przebieg modułu wzmocnieni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 fun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ęstotliwości f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dmitancja wejściowa układu z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pięciowym równoległym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5368800">
            <a:off x="4201920" y="29462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087800" y="207000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868480" y="2298600"/>
            <a:ext cx="121932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764320" y="222264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1877760" y="3975120"/>
            <a:ext cx="904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64640" y="4216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42240" y="53467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29480" y="3894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731960" y="442908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413080" y="3387600"/>
            <a:ext cx="0" cy="1870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2759040" y="3971880"/>
            <a:ext cx="9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844720" y="3921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81680" y="386388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328400" y="3684600"/>
            <a:ext cx="55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194640" y="33876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203640" y="3971880"/>
            <a:ext cx="42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870280" y="2696760"/>
            <a:ext cx="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121560" y="257184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737400" y="42656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870280" y="409716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199880" y="1355760"/>
            <a:ext cx="6186600" cy="1042920"/>
            <a:chOff x="1199880" y="1355760"/>
            <a:chExt cx="6186600" cy="1042920"/>
          </a:xfrm>
        </p:grpSpPr>
        <p:sp>
          <p:nvSpPr>
            <p:cNvPr id="85" name=""/>
            <p:cNvSpPr/>
            <p:nvPr/>
          </p:nvSpPr>
          <p:spPr>
            <a:xfrm>
              <a:off x="3313080" y="1355760"/>
              <a:ext cx="2197080" cy="104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10160" y="156348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89560" y="151452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10160" y="2120760"/>
              <a:ext cx="77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89560" y="2070000"/>
              <a:ext cx="10152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33320" y="156348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50880" y="15159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33320" y="2120760"/>
              <a:ext cx="7797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50880" y="2068560"/>
              <a:ext cx="100080" cy="98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5320" y="1660320"/>
              <a:ext cx="17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8160" y="1692360"/>
              <a:ext cx="1429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45240" y="1692360"/>
              <a:ext cx="141120" cy="328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15080" y="2014560"/>
              <a:ext cx="1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14840" y="212076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14840" y="1563480"/>
              <a:ext cx="297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1508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9440" y="212076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79440" y="1563480"/>
              <a:ext cx="298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79440" y="2014560"/>
              <a:ext cx="180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79440" y="1563480"/>
              <a:ext cx="180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8800" y="16333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3880" y="16333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84080" y="170316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84080" y="1842840"/>
              <a:ext cx="236520" cy="23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807560" y="1703160"/>
              <a:ext cx="180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804320" y="2120760"/>
              <a:ext cx="3668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825560" y="1563480"/>
              <a:ext cx="366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825560" y="1563480"/>
              <a:ext cx="1440" cy="1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5680" y="2095560"/>
              <a:ext cx="50760" cy="48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47760" y="1544400"/>
              <a:ext cx="50760" cy="49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9880" y="163332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8120" y="784080"/>
            <a:ext cx="82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 blokowy wzmacniaczy dla składowych zmiennoprądowych 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7018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 jako czwórnik [y] ze źródłem prąd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7880" y="4487760"/>
            <a:ext cx="241452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02400" y="47656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9560" y="470052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2400" y="55119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9560" y="5443560"/>
            <a:ext cx="1112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0360" y="4765680"/>
            <a:ext cx="857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7023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0360" y="5511960"/>
            <a:ext cx="857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544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3800" y="4938840"/>
            <a:ext cx="15696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50160" y="4938840"/>
            <a:ext cx="155520" cy="43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2792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7800" y="55119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97800" y="47656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792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5119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41560" y="47656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1560" y="5369040"/>
            <a:ext cx="1440" cy="15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15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05520" y="557856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8120" y="565452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6880" y="4952880"/>
            <a:ext cx="2606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6880" y="5140440"/>
            <a:ext cx="26064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33680" y="4952520"/>
            <a:ext cx="144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30440" y="5511960"/>
            <a:ext cx="403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52760" y="47656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52760" y="4765680"/>
            <a:ext cx="1440" cy="18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16000" y="5477040"/>
            <a:ext cx="55800" cy="745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6640" y="4740120"/>
            <a:ext cx="55440" cy="74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520" y="5591160"/>
            <a:ext cx="202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9960" y="49658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367000" y="48956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38760" y="48956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01800" y="4770360"/>
            <a:ext cx="417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51600" y="4770360"/>
            <a:ext cx="3348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4232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4480" y="4896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87480" y="42829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56280" y="4206960"/>
            <a:ext cx="370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2080" y="4754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4360" y="428292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350120" y="489240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04200" y="496872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30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764640" y="1641600"/>
            <a:ext cx="6769800" cy="4202640"/>
            <a:chOff x="764640" y="1641600"/>
            <a:chExt cx="6769800" cy="4202640"/>
          </a:xfrm>
        </p:grpSpPr>
        <p:sp>
          <p:nvSpPr>
            <p:cNvPr id="1151" name=""/>
            <p:cNvSpPr/>
            <p:nvPr/>
          </p:nvSpPr>
          <p:spPr>
            <a:xfrm rot="5368800">
              <a:off x="4152600" y="2933640"/>
              <a:ext cx="1600200" cy="1828800"/>
            </a:xfrm>
            <a:prstGeom prst="flowChartExtra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Ku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19520" y="2286000"/>
              <a:ext cx="1218960" cy="1676520"/>
            </a:xfrm>
            <a:custGeom>
              <a:avLst/>
              <a:gdLst/>
              <a:ahLst/>
              <a:rect l="l" t="t" r="r" b="b"/>
              <a:pathLst>
                <a:path w="768" h="1056">
                  <a:moveTo>
                    <a:pt x="768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768" y="10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15000" y="2286000"/>
              <a:ext cx="1066680" cy="160020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96" y="1056"/>
                  </a:moveTo>
                  <a:lnTo>
                    <a:pt x="672" y="1056"/>
                  </a:lnTo>
                  <a:lnTo>
                    <a:pt x="67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182880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64640" y="37339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92920" y="5334120"/>
              <a:ext cx="252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we=(1-Ku)C+c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57200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724280" y="1981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962520" y="2286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724280" y="2286000"/>
              <a:ext cx="106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86920" y="1641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54960" y="3884760"/>
              <a:ext cx="87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1165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1167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1193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1196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51920" y="40118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5416560" y="1411200"/>
            <a:ext cx="2292480" cy="16225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23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139760" y="4275000"/>
            <a:ext cx="1800" cy="270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1940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05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004760" y="400356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39760" y="355392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39760" y="3554280"/>
            <a:ext cx="2070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31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127520" y="398772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533240" y="3240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458720" y="3124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12160" y="4049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38360" y="39322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2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2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12120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22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119400" y="3914640"/>
            <a:ext cx="18108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2039760" y="3465000"/>
            <a:ext cx="90720" cy="88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2039760" y="3554280"/>
            <a:ext cx="90720" cy="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082600" y="3213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163600" y="333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534400" y="3124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577960" y="324000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48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06200" y="3932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849400" y="40496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300120" y="3735360"/>
            <a:ext cx="179640" cy="719280"/>
            <a:chOff x="3300120" y="3735360"/>
            <a:chExt cx="179640" cy="719280"/>
          </a:xfrm>
        </p:grpSpPr>
        <p:sp>
          <p:nvSpPr>
            <p:cNvPr id="1270" name=""/>
            <p:cNvSpPr/>
            <p:nvPr/>
          </p:nvSpPr>
          <p:spPr>
            <a:xfrm>
              <a:off x="3390840" y="3735360"/>
              <a:ext cx="180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3300120" y="373536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39084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3527280" y="402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209760" y="3554280"/>
            <a:ext cx="12607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40120" y="355428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660840" y="400536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60840" y="409428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40120" y="4094280"/>
            <a:ext cx="180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749760" y="4545000"/>
            <a:ext cx="1807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1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16360" y="3532320"/>
            <a:ext cx="522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70480" y="3554280"/>
            <a:ext cx="144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89400" y="400536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89400" y="409428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4094280"/>
            <a:ext cx="144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379760" y="4545000"/>
            <a:ext cx="1810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75000" y="3184560"/>
            <a:ext cx="1706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b’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1+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’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5729400" y="3554280"/>
            <a:ext cx="144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359400" y="33274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27048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18012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17868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640480" y="4546440"/>
            <a:ext cx="17928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94400" y="3914640"/>
            <a:ext cx="271440" cy="27144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29400" y="4005360"/>
            <a:ext cx="1440" cy="269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 flipV="1">
            <a:off x="5640120" y="4184280"/>
            <a:ext cx="8892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5729400" y="4184280"/>
            <a:ext cx="9036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960440" y="4029120"/>
            <a:ext cx="37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52960" y="41464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729400" y="3554280"/>
            <a:ext cx="5410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6719760" y="3735360"/>
            <a:ext cx="179640" cy="719280"/>
            <a:chOff x="6719760" y="3735360"/>
            <a:chExt cx="179640" cy="719280"/>
          </a:xfrm>
        </p:grpSpPr>
        <p:sp>
          <p:nvSpPr>
            <p:cNvPr id="1304" name=""/>
            <p:cNvSpPr/>
            <p:nvPr/>
          </p:nvSpPr>
          <p:spPr>
            <a:xfrm>
              <a:off x="6810480" y="3735360"/>
              <a:ext cx="144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6719760" y="373536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1048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"/>
          <p:cNvSpPr/>
          <p:nvPr/>
        </p:nvSpPr>
        <p:spPr>
          <a:xfrm flipV="1">
            <a:off x="51912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052960" y="2287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2340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44440" y="2470320"/>
            <a:ext cx="180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24640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52640" y="2728800"/>
            <a:ext cx="182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006560" y="21956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144440" y="1734840"/>
            <a:ext cx="180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4440" y="1735200"/>
            <a:ext cx="2114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3273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124640" y="21765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543680" y="141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461240" y="1295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647080" y="223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66080" y="2120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326600" y="2120760"/>
            <a:ext cx="230400" cy="371880"/>
            <a:chOff x="1326600" y="2120760"/>
            <a:chExt cx="230400" cy="371880"/>
          </a:xfrm>
        </p:grpSpPr>
        <p:sp>
          <p:nvSpPr>
            <p:cNvPr id="1323" name=""/>
            <p:cNvSpPr/>
            <p:nvPr/>
          </p:nvSpPr>
          <p:spPr>
            <a:xfrm>
              <a:off x="1470960" y="230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326600" y="21207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23162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259080" y="1735200"/>
            <a:ext cx="180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669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47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2101680"/>
            <a:ext cx="18720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5742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64984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696360" y="19652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612840" y="18464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71968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47856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38640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649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38496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96664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7400" y="22399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45480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91200" y="1735200"/>
            <a:ext cx="2022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21368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1215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0990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12152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364880" y="21207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7680240" y="1936800"/>
            <a:ext cx="184320" cy="735120"/>
            <a:chOff x="7680240" y="1936800"/>
            <a:chExt cx="184320" cy="735120"/>
          </a:xfrm>
        </p:grpSpPr>
        <p:sp>
          <p:nvSpPr>
            <p:cNvPr id="1349" name=""/>
            <p:cNvSpPr/>
            <p:nvPr/>
          </p:nvSpPr>
          <p:spPr>
            <a:xfrm>
              <a:off x="7772400" y="193680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768024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77240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7711920" y="1500120"/>
            <a:ext cx="501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6699ff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674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51520" y="2101680"/>
            <a:ext cx="277560" cy="27792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91200" y="21956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 flipV="1">
            <a:off x="509904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19120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051520" y="2286000"/>
            <a:ext cx="277560" cy="27792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 flipV="1">
            <a:off x="2063520" y="164304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063520" y="173520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105640" y="13874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188080" y="1504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565360" y="12952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612880" y="14144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5225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83932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889000" y="223992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3351240" y="1919160"/>
            <a:ext cx="183960" cy="735120"/>
            <a:chOff x="3351240" y="1919160"/>
            <a:chExt cx="183960" cy="735120"/>
          </a:xfrm>
        </p:grpSpPr>
        <p:sp>
          <p:nvSpPr>
            <p:cNvPr id="1369" name=""/>
            <p:cNvSpPr/>
            <p:nvPr/>
          </p:nvSpPr>
          <p:spPr>
            <a:xfrm>
              <a:off x="3443400" y="191916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3351240" y="191916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443400" y="19191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3577320" y="22129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34200" y="200988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627440" y="21286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259080" y="1735200"/>
            <a:ext cx="1563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203720" y="17352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019400" y="219564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019400" y="22860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203720" y="22860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111560" y="274644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82292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91508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15080" y="173520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236760" y="1712880"/>
            <a:ext cx="5112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17996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33465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209760" y="594360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143000" y="6126120"/>
            <a:ext cx="144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52640" y="638496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006560" y="5851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1143000" y="5392800"/>
            <a:ext cx="144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143000" y="5392800"/>
            <a:ext cx="1101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25520" y="5300640"/>
            <a:ext cx="368280" cy="184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123920" y="58341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419120" y="4952880"/>
            <a:ext cx="298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15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973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805200" y="6384960"/>
            <a:ext cx="184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05200" y="5759280"/>
            <a:ext cx="185760" cy="36864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254400" y="6384960"/>
            <a:ext cx="1839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517760" y="5597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1693800" y="5576760"/>
            <a:ext cx="184320" cy="733680"/>
            <a:chOff x="1693800" y="5576760"/>
            <a:chExt cx="184320" cy="733680"/>
          </a:xfrm>
        </p:grpSpPr>
        <p:sp>
          <p:nvSpPr>
            <p:cNvPr id="1402" name=""/>
            <p:cNvSpPr/>
            <p:nvPr/>
          </p:nvSpPr>
          <p:spPr>
            <a:xfrm>
              <a:off x="17859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16938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59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5" name=""/>
          <p:cNvSpPr/>
          <p:nvPr/>
        </p:nvSpPr>
        <p:spPr>
          <a:xfrm>
            <a:off x="3208320" y="5759280"/>
            <a:ext cx="277920" cy="2764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346560" y="58514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 flipV="1">
            <a:off x="3254400" y="6035400"/>
            <a:ext cx="9216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346560" y="6035400"/>
            <a:ext cx="9180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208320" y="5942160"/>
            <a:ext cx="277920" cy="27756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28960" y="55944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013560" y="57135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44600" y="53928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062080" y="5851440"/>
            <a:ext cx="3668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062080" y="59436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244600" y="59436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52800" y="6402240"/>
            <a:ext cx="1839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346560" y="5392800"/>
            <a:ext cx="550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157480" y="5060880"/>
            <a:ext cx="326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4356000" y="5576760"/>
            <a:ext cx="184320" cy="733680"/>
            <a:chOff x="4356000" y="5576760"/>
            <a:chExt cx="184320" cy="733680"/>
          </a:xfrm>
        </p:grpSpPr>
        <p:sp>
          <p:nvSpPr>
            <p:cNvPr id="1420" name=""/>
            <p:cNvSpPr/>
            <p:nvPr/>
          </p:nvSpPr>
          <p:spPr>
            <a:xfrm>
              <a:off x="44481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3560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481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5317920" y="5403960"/>
            <a:ext cx="173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03440" y="4834080"/>
            <a:ext cx="313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1+g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659040" y="229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514040" y="1162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b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0532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954600" y="468936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32767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1320120" y="4000680"/>
            <a:ext cx="230400" cy="371520"/>
            <a:chOff x="1320120" y="4000680"/>
            <a:chExt cx="230400" cy="371520"/>
          </a:xfrm>
        </p:grpSpPr>
        <p:sp>
          <p:nvSpPr>
            <p:cNvPr id="1431" name=""/>
            <p:cNvSpPr/>
            <p:nvPr/>
          </p:nvSpPr>
          <p:spPr>
            <a:xfrm>
              <a:off x="1464480" y="418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320120" y="400068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1356120" y="5783400"/>
            <a:ext cx="314640" cy="371520"/>
            <a:chOff x="1356120" y="5783400"/>
            <a:chExt cx="314640" cy="371520"/>
          </a:xfrm>
        </p:grpSpPr>
        <p:sp>
          <p:nvSpPr>
            <p:cNvPr id="1434" name=""/>
            <p:cNvSpPr/>
            <p:nvPr/>
          </p:nvSpPr>
          <p:spPr>
            <a:xfrm>
              <a:off x="1500840" y="5972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56120" y="5783400"/>
              <a:ext cx="31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 `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6" name=""/>
          <p:cNvSpPr/>
          <p:nvPr/>
        </p:nvSpPr>
        <p:spPr>
          <a:xfrm>
            <a:off x="3506400" y="3156120"/>
            <a:ext cx="5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971040" y="38433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690080" y="581184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1060560"/>
            <a:ext cx="2892600" cy="527040"/>
          </a:xfrm>
          <a:custGeom>
            <a:avLst/>
            <a:gdLst/>
            <a:ahLst/>
            <a:rect l="l" t="t" r="r" b="b"/>
            <a:pathLst>
              <a:path w="1822" h="332">
                <a:moveTo>
                  <a:pt x="0" y="310"/>
                </a:moveTo>
                <a:cubicBezTo>
                  <a:pt x="55" y="255"/>
                  <a:pt x="111" y="200"/>
                  <a:pt x="200" y="154"/>
                </a:cubicBezTo>
                <a:cubicBezTo>
                  <a:pt x="289" y="108"/>
                  <a:pt x="418" y="56"/>
                  <a:pt x="533" y="32"/>
                </a:cubicBezTo>
                <a:cubicBezTo>
                  <a:pt x="648" y="8"/>
                  <a:pt x="774" y="6"/>
                  <a:pt x="889" y="10"/>
                </a:cubicBezTo>
                <a:cubicBezTo>
                  <a:pt x="1004" y="14"/>
                  <a:pt x="1067" y="0"/>
                  <a:pt x="1222" y="54"/>
                </a:cubicBezTo>
                <a:cubicBezTo>
                  <a:pt x="1377" y="108"/>
                  <a:pt x="1722" y="286"/>
                  <a:pt x="1822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44480" y="1017720"/>
            <a:ext cx="169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420520" y="5950080"/>
            <a:ext cx="11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U/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954600" y="53308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4" name=""/>
          <p:cNvGraphicFramePr/>
          <p:nvPr/>
        </p:nvGraphicFramePr>
        <p:xfrm>
          <a:off x="990720" y="4267080"/>
          <a:ext cx="236196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267080"/>
                    <a:ext cx="23619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990720" y="5791320"/>
                <a:ext cx="266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47" name=""/>
          <p:cNvGraphicFramePr/>
          <p:nvPr/>
        </p:nvGraphicFramePr>
        <p:xfrm>
          <a:off x="5025960" y="4454640"/>
          <a:ext cx="3557520" cy="24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5960" y="4454640"/>
                    <a:ext cx="355752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135840" y="1108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59520" y="2556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135840" y="16416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97600" y="1641600"/>
            <a:ext cx="10670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027920" y="1239840"/>
            <a:ext cx="98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737400" y="2521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178480" y="198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45200" y="1630440"/>
            <a:ext cx="2271600" cy="93024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063560" y="16509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92920" y="164628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16040" y="371628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całkujący RC (pierwszego rzę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159240" y="911160"/>
            <a:ext cx="8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588960" y="1049400"/>
            <a:ext cx="5340240" cy="2674800"/>
            <a:chOff x="588960" y="1049400"/>
            <a:chExt cx="5340240" cy="2674800"/>
          </a:xfrm>
        </p:grpSpPr>
        <mc:AlternateContent>
          <mc:Choice xmlns:a14="http://schemas.microsoft.com/office/drawing/2010/main" Requires="a14">
            <p:sp>
              <p:nvSpPr>
                <p:cNvPr id="1463" name=""/>
                <p:cNvSpPr txBox="1"/>
                <p:nvPr/>
              </p:nvSpPr>
              <p:spPr>
                <a:xfrm>
                  <a:off x="588960" y="1049400"/>
                  <a:ext cx="5340240" cy="24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usk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'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j</m:t>
                              </m:r>
                              <m:r>
                                <m:t xml:space="preserve">ω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ω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= 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sk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+</m:t>
                              </m:r>
                              <m:f>
                                <m:num>
                                  <m:r>
                                    <m:t xml:space="preserve">jf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g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gdzie: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=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Π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64" name=""/>
            <p:cNvSpPr/>
            <p:nvPr/>
          </p:nvSpPr>
          <p:spPr>
            <a:xfrm>
              <a:off x="4230720" y="2895480"/>
              <a:ext cx="198360" cy="828720"/>
            </a:xfrm>
            <a:prstGeom prst="downArrow">
              <a:avLst>
                <a:gd name="adj1" fmla="val 50000"/>
                <a:gd name="adj2" fmla="val 104446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150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152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155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156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382200" y="30924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158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161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165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165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2881440" y="3662280"/>
                <a:ext cx="2728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 flipV="1">
            <a:off x="2886120" y="2622240"/>
            <a:ext cx="0" cy="20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890800" y="4705200"/>
            <a:ext cx="388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4762440" y="3371400"/>
            <a:ext cx="1692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762440" y="337356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24240" y="45529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3430440" y="4849920"/>
                <a:ext cx="8049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0" name=""/>
          <p:cNvSpPr/>
          <p:nvPr/>
        </p:nvSpPr>
        <p:spPr>
          <a:xfrm>
            <a:off x="3213720" y="286056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dB/dekad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97080" y="3094920"/>
            <a:ext cx="26892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2854440" y="3373560"/>
            <a:ext cx="1947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165400" y="312732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rot="17163000">
            <a:off x="4188600" y="3426840"/>
            <a:ext cx="1902960" cy="179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35" y="908"/>
                </a:moveTo>
                <a:arcTo wR="10800" hR="10800" stAng="-3979969" swAng="3247301"/>
                <a:lnTo>
                  <a:pt x="10800" y="10800"/>
                </a:lnTo>
                <a:close/>
              </a:path>
              <a:path fill="none" w="21600" h="21600">
                <a:moveTo>
                  <a:pt x="15135" y="908"/>
                </a:moveTo>
                <a:arcTo wR="10800" hR="10800" stAng="-3979969" swAng="3247301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2854440" y="3481560"/>
            <a:ext cx="187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094120" y="34797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3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51160" y="3373560"/>
            <a:ext cx="611280" cy="68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3033720" y="4057560"/>
            <a:ext cx="111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151160" y="405756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rot="6316200">
            <a:off x="2831760" y="2207160"/>
            <a:ext cx="1902960" cy="179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35" y="908"/>
                </a:moveTo>
                <a:arcTo wR="10800" hR="10800" stAng="-3979969" swAng="3247301"/>
                <a:lnTo>
                  <a:pt x="10800" y="10800"/>
                </a:lnTo>
                <a:close/>
              </a:path>
              <a:path fill="none" w="21600" h="21600">
                <a:moveTo>
                  <a:pt x="15135" y="908"/>
                </a:moveTo>
                <a:arcTo wR="10800" hR="10800" stAng="-3979969" swAng="3247301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2882880" y="40575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4630680" y="4892760"/>
                <a:ext cx="1755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zmacniacz z rezystorem emiterowym lub źródł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016080" y="1927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170160" y="20430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1679400" y="5218200"/>
                <a:ext cx="53866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kolekto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, co  </m:t>
                        </m:r>
                        <m:r>
                          <m:t xml:space="preserve">widzi</m:t>
                        </m:r>
                        <m:r>
                          <m:rPr>
                            <m:lit/>
                            <m:nor/>
                          </m:rPr>
                          <m:t xml:space="preserve">  emite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8" name=""/>
          <p:cNvSpPr/>
          <p:nvPr/>
        </p:nvSpPr>
        <p:spPr>
          <a:xfrm>
            <a:off x="1727280" y="4521240"/>
            <a:ext cx="524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ocnienie w zakresie średnich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1568520" y="1477800"/>
            <a:ext cx="5478480" cy="2620800"/>
            <a:chOff x="1568520" y="1477800"/>
            <a:chExt cx="5478480" cy="2620800"/>
          </a:xfrm>
        </p:grpSpPr>
        <p:sp>
          <p:nvSpPr>
            <p:cNvPr id="1700" name=""/>
            <p:cNvSpPr/>
            <p:nvPr/>
          </p:nvSpPr>
          <p:spPr>
            <a:xfrm>
              <a:off x="5429160" y="2317680"/>
              <a:ext cx="0" cy="17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86320" y="1711080"/>
              <a:ext cx="199800" cy="487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686040" y="1527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686040" y="218592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274280" y="1857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428360" y="1965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257000" y="34718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411800" y="35794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638520" y="1477800"/>
              <a:ext cx="824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607000" y="2093760"/>
              <a:ext cx="681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10200" y="2495520"/>
              <a:ext cx="596880" cy="545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390920" y="2608200"/>
              <a:ext cx="6480" cy="30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4414680" y="2558520"/>
              <a:ext cx="293760" cy="122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3" name=""/>
            <p:cNvGrpSpPr/>
            <p:nvPr/>
          </p:nvGrpSpPr>
          <p:grpSpPr>
            <a:xfrm>
              <a:off x="4414680" y="2809800"/>
              <a:ext cx="179280" cy="112320"/>
              <a:chOff x="4414680" y="2809800"/>
              <a:chExt cx="179280" cy="112320"/>
            </a:xfrm>
          </p:grpSpPr>
          <p:sp>
            <p:nvSpPr>
              <p:cNvPr id="1714" name=""/>
              <p:cNvSpPr/>
              <p:nvPr/>
            </p:nvSpPr>
            <p:spPr>
              <a:xfrm>
                <a:off x="4414680" y="2831400"/>
                <a:ext cx="179280" cy="8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449240" y="2809800"/>
                <a:ext cx="144720" cy="11232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4594320" y="2917800"/>
              <a:ext cx="114120" cy="48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4210200" y="2769840"/>
              <a:ext cx="1872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4708440" y="1477800"/>
              <a:ext cx="7920" cy="10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684600" y="2768400"/>
              <a:ext cx="5335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4716360" y="2966760"/>
              <a:ext cx="972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586320" y="3335040"/>
              <a:ext cx="199800" cy="48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686040" y="2388960"/>
              <a:ext cx="1800" cy="9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686040" y="3803400"/>
              <a:ext cx="180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486240" y="404964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400560" y="1509480"/>
              <a:ext cx="299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054840" y="268092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143760" y="2744640"/>
              <a:ext cx="204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54840" y="2517480"/>
              <a:ext cx="36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143760" y="2589120"/>
              <a:ext cx="20448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235560" y="2744640"/>
              <a:ext cx="180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235560" y="1509480"/>
              <a:ext cx="18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659120" y="1477800"/>
              <a:ext cx="7812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188040" y="1477800"/>
              <a:ext cx="824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63852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659120" y="4011480"/>
              <a:ext cx="7812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188040" y="401148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73880" y="2436480"/>
              <a:ext cx="573120" cy="34632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575400" y="24793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723720" y="25891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403680" y="21445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414480" y="2839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2" name=""/>
            <p:cNvGrpSpPr/>
            <p:nvPr/>
          </p:nvGrpSpPr>
          <p:grpSpPr>
            <a:xfrm>
              <a:off x="5078520" y="2192040"/>
              <a:ext cx="56880" cy="246240"/>
              <a:chOff x="5078520" y="2192040"/>
              <a:chExt cx="56880" cy="246240"/>
            </a:xfrm>
          </p:grpSpPr>
          <p:sp>
            <p:nvSpPr>
              <p:cNvPr id="1743" name=""/>
              <p:cNvSpPr/>
              <p:nvPr/>
            </p:nvSpPr>
            <p:spPr>
              <a:xfrm>
                <a:off x="5078520" y="2192040"/>
                <a:ext cx="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135400" y="2192040"/>
                <a:ext cx="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>
              <a:off x="5157720" y="2320560"/>
              <a:ext cx="2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639960" y="27129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348160" y="2512800"/>
              <a:ext cx="19044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383080" y="4028760"/>
              <a:ext cx="8280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5870520" y="241452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519880" y="30952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762200" y="274932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62200" y="4043160"/>
              <a:ext cx="13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029320" y="2881080"/>
              <a:ext cx="45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1762200" y="273492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rot="16200000">
              <a:off x="2190960" y="2572920"/>
              <a:ext cx="13032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568520" y="3122280"/>
              <a:ext cx="387360" cy="38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1762200" y="3177720"/>
              <a:ext cx="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888920" y="34876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599000" y="1652400"/>
              <a:ext cx="190440" cy="530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699080" y="2317680"/>
              <a:ext cx="3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672080" y="2265120"/>
              <a:ext cx="8244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08360" y="3350880"/>
              <a:ext cx="198720" cy="48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723040" y="229356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3017880" y="2890440"/>
              <a:ext cx="0" cy="9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090960" y="17730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168720" y="331128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309600" y="38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órna częstotliwość graniczna wzmacniacza z rezystorem emiterowym (lub źródłow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809640" y="944640"/>
            <a:ext cx="7278840" cy="5749920"/>
            <a:chOff x="809640" y="944640"/>
            <a:chExt cx="7278840" cy="5749920"/>
          </a:xfrm>
        </p:grpSpPr>
        <p:grpSp>
          <p:nvGrpSpPr>
            <p:cNvPr id="1769" name=""/>
            <p:cNvGrpSpPr/>
            <p:nvPr/>
          </p:nvGrpSpPr>
          <p:grpSpPr>
            <a:xfrm>
              <a:off x="915840" y="947880"/>
              <a:ext cx="7172640" cy="1748880"/>
              <a:chOff x="915840" y="947880"/>
              <a:chExt cx="7172640" cy="1748880"/>
            </a:xfrm>
          </p:grpSpPr>
          <p:sp>
            <p:nvSpPr>
              <p:cNvPr id="1770" name=""/>
              <p:cNvSpPr/>
              <p:nvPr/>
            </p:nvSpPr>
            <p:spPr>
              <a:xfrm>
                <a:off x="4302720" y="139536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5986440" y="1341000"/>
                <a:ext cx="1440" cy="132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011240" y="1871640"/>
                <a:ext cx="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947880" y="205740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915840" y="167292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1011240" y="1341360"/>
                <a:ext cx="0" cy="33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955080" y="166032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~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136520" y="10126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pl-PL" sz="1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198080" y="170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135800" y="1620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739640" y="1630080"/>
                <a:ext cx="15912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561440" y="1341360"/>
                <a:ext cx="2880" cy="13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497720" y="2666880"/>
                <a:ext cx="1270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497720" y="1873080"/>
                <a:ext cx="1270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915240" y="1325520"/>
                <a:ext cx="3636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892840" y="1606320"/>
                <a:ext cx="189000" cy="198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986440" y="167292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 flipV="1">
                <a:off x="5924520" y="180432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5986440" y="180432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892840" y="173808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 flipV="1">
                <a:off x="3186000" y="1350360"/>
                <a:ext cx="792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972040" y="2054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121200" y="1616040"/>
                <a:ext cx="12672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931080" y="1341360"/>
                <a:ext cx="3240" cy="13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869160" y="1873080"/>
                <a:ext cx="125280" cy="264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70820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98400" y="1639800"/>
                <a:ext cx="1746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956200" y="133344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869160" y="2666880"/>
                <a:ext cx="1252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924520" y="2203200"/>
                <a:ext cx="125280" cy="2649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924520" y="2673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2" name=""/>
              <p:cNvGrpSpPr/>
              <p:nvPr/>
            </p:nvGrpSpPr>
            <p:grpSpPr>
              <a:xfrm>
                <a:off x="4710240" y="1217520"/>
                <a:ext cx="64080" cy="264600"/>
                <a:chOff x="4710240" y="1217520"/>
                <a:chExt cx="64080" cy="264600"/>
              </a:xfrm>
            </p:grpSpPr>
            <p:sp>
              <p:nvSpPr>
                <p:cNvPr id="1803" name=""/>
                <p:cNvSpPr/>
                <p:nvPr/>
              </p:nvSpPr>
              <p:spPr>
                <a:xfrm flipH="1">
                  <a:off x="4773240" y="1217520"/>
                  <a:ext cx="108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H="1">
                  <a:off x="4710240" y="1217520"/>
                  <a:ext cx="1440" cy="264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611680" y="2214360"/>
                <a:ext cx="3016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686720" y="1831680"/>
                <a:ext cx="40176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19360" y="1338120"/>
                <a:ext cx="0" cy="13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660680" y="2670120"/>
                <a:ext cx="126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644480" y="1938240"/>
                <a:ext cx="149400" cy="334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300680" y="1977840"/>
                <a:ext cx="368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3774600" y="1775880"/>
                <a:ext cx="25236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 flipV="1">
                <a:off x="3774600" y="1711080"/>
                <a:ext cx="252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168720" y="1342800"/>
                <a:ext cx="349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890880" y="1777680"/>
                <a:ext cx="0" cy="2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3890880" y="134604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879720" y="132552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876840" y="2027160"/>
                <a:ext cx="349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020120" y="1557000"/>
                <a:ext cx="432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730600" y="1579320"/>
                <a:ext cx="398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190680" y="2060280"/>
                <a:ext cx="27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764240" y="1346040"/>
                <a:ext cx="27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009800" y="1346040"/>
                <a:ext cx="36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136520" y="1274760"/>
                <a:ext cx="250920" cy="132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8039160" y="1674360"/>
                <a:ext cx="0" cy="61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5400000">
                <a:off x="2122920" y="1216080"/>
                <a:ext cx="126720" cy="265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2971800" y="94788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920" y="1560240"/>
                <a:ext cx="67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’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3400560" y="1412280"/>
                <a:ext cx="0" cy="58068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204360" y="1096920"/>
                <a:ext cx="4078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339933"/>
                    </a:solidFill>
                    <a:latin typeface="Times New Roman"/>
                  </a:rPr>
                  <a:t>U</a:t>
                </a:r>
                <a:r>
                  <a:rPr b="1" lang="pl-PL" sz="1200" spc="-1" strike="noStrike" baseline="-25000">
                    <a:solidFill>
                      <a:srgbClr val="339933"/>
                    </a:solidFill>
                    <a:latin typeface="Times New Roman"/>
                  </a:rPr>
                  <a:t>b’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3836160" y="32688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5937120" y="3700440"/>
              <a:ext cx="1800" cy="116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984240" y="423072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920880" y="4416480"/>
              <a:ext cx="125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88840" y="4032360"/>
              <a:ext cx="18900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984240" y="370044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928080" y="40194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71080" y="406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08800" y="3979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615800" y="3780000"/>
              <a:ext cx="159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6290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904080" y="36846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5843520" y="4213080"/>
              <a:ext cx="189000" cy="331560"/>
              <a:chOff x="5843520" y="4213080"/>
              <a:chExt cx="189000" cy="331560"/>
            </a:xfrm>
          </p:grpSpPr>
          <p:sp>
            <p:nvSpPr>
              <p:cNvPr id="1843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843520" y="4213080"/>
                <a:ext cx="189000" cy="198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937120" y="4279680"/>
                <a:ext cx="144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5875200" y="4411080"/>
                <a:ext cx="6192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5937120" y="4411080"/>
                <a:ext cx="6336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843520" y="4344840"/>
                <a:ext cx="189000" cy="199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9" name=""/>
            <p:cNvSpPr/>
            <p:nvPr/>
          </p:nvSpPr>
          <p:spPr>
            <a:xfrm flipV="1">
              <a:off x="2692440" y="3700440"/>
              <a:ext cx="324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630520" y="4251240"/>
              <a:ext cx="127080" cy="26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38440" y="368460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045200" y="3865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982920" y="3780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072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875200" y="4879800"/>
              <a:ext cx="125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6" name=""/>
            <p:cNvGrpSpPr/>
            <p:nvPr/>
          </p:nvGrpSpPr>
          <p:grpSpPr>
            <a:xfrm>
              <a:off x="4876560" y="3576600"/>
              <a:ext cx="64800" cy="265320"/>
              <a:chOff x="4876560" y="3576600"/>
              <a:chExt cx="64800" cy="265320"/>
            </a:xfrm>
          </p:grpSpPr>
          <p:sp>
            <p:nvSpPr>
              <p:cNvPr id="1857" name=""/>
              <p:cNvSpPr/>
              <p:nvPr/>
            </p:nvSpPr>
            <p:spPr>
              <a:xfrm flipH="1">
                <a:off x="4939920" y="3576600"/>
                <a:ext cx="144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4876560" y="3576600"/>
                <a:ext cx="1080" cy="265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7841520" y="4267080"/>
              <a:ext cx="186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749600" y="3697200"/>
              <a:ext cx="0" cy="11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690560" y="487692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674720" y="4297320"/>
              <a:ext cx="14940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30920" y="4336920"/>
              <a:ext cx="368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678040" y="3692520"/>
              <a:ext cx="349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5" name=""/>
            <p:cNvGrpSpPr/>
            <p:nvPr/>
          </p:nvGrpSpPr>
          <p:grpSpPr>
            <a:xfrm>
              <a:off x="3784320" y="3684600"/>
              <a:ext cx="252360" cy="1212840"/>
              <a:chOff x="3784320" y="3684600"/>
              <a:chExt cx="252360" cy="1212840"/>
            </a:xfrm>
          </p:grpSpPr>
          <p:sp>
            <p:nvSpPr>
              <p:cNvPr id="1866" name=""/>
              <p:cNvSpPr/>
              <p:nvPr/>
            </p:nvSpPr>
            <p:spPr>
              <a:xfrm>
                <a:off x="3854520" y="4896000"/>
                <a:ext cx="125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7" name=""/>
              <p:cNvGrpSpPr/>
              <p:nvPr/>
            </p:nvGrpSpPr>
            <p:grpSpPr>
              <a:xfrm>
                <a:off x="3784320" y="4327560"/>
                <a:ext cx="252360" cy="66600"/>
                <a:chOff x="3784320" y="4327560"/>
                <a:chExt cx="252360" cy="66600"/>
              </a:xfrm>
            </p:grpSpPr>
            <p:sp>
              <p:nvSpPr>
                <p:cNvPr id="1868" name=""/>
                <p:cNvSpPr/>
                <p:nvPr/>
              </p:nvSpPr>
              <p:spPr>
                <a:xfrm flipH="1" flipV="1">
                  <a:off x="3784320" y="439272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 flipV="1">
                  <a:off x="3784320" y="4327560"/>
                  <a:ext cx="252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0" name=""/>
              <p:cNvSpPr/>
              <p:nvPr/>
            </p:nvSpPr>
            <p:spPr>
              <a:xfrm>
                <a:off x="3909960" y="4384800"/>
                <a:ext cx="144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3909960" y="3705120"/>
                <a:ext cx="1440" cy="60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898800" y="3684600"/>
                <a:ext cx="34920" cy="36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>
              <a:off x="3983040" y="423072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58000" y="4896000"/>
              <a:ext cx="12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496280" y="4896000"/>
              <a:ext cx="12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196000" y="4221000"/>
              <a:ext cx="46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076400" y="3382920"/>
              <a:ext cx="280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2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958680" y="3705120"/>
              <a:ext cx="39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09520" y="3633840"/>
              <a:ext cx="250920" cy="133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41720" y="370512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926400" y="370512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545240" y="3705120"/>
              <a:ext cx="9720" cy="12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858000" y="4203720"/>
              <a:ext cx="1252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486560" y="420372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7783560" y="401004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6" name=""/>
                <p:cNvSpPr txBox="1"/>
                <p:nvPr/>
              </p:nvSpPr>
              <p:spPr>
                <a:xfrm>
                  <a:off x="809640" y="5057640"/>
                  <a:ext cx="211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7" name=""/>
                <p:cNvSpPr txBox="1"/>
                <p:nvPr/>
              </p:nvSpPr>
              <p:spPr>
                <a:xfrm>
                  <a:off x="4064040" y="4484520"/>
                  <a:ext cx="148572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88" name=""/>
            <p:cNvSpPr/>
            <p:nvPr/>
          </p:nvSpPr>
          <p:spPr>
            <a:xfrm rot="5400000">
              <a:off x="2086560" y="3585240"/>
              <a:ext cx="127080" cy="264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57320" y="3268800"/>
              <a:ext cx="487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026040" y="4224240"/>
              <a:ext cx="765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3382920" y="3809880"/>
              <a:ext cx="0" cy="1000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219840" y="3422520"/>
              <a:ext cx="394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’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3" name=""/>
                <p:cNvSpPr txBox="1"/>
                <p:nvPr/>
              </p:nvSpPr>
              <p:spPr>
                <a:xfrm>
                  <a:off x="5873760" y="4933800"/>
                  <a:ext cx="13921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'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4" name=""/>
            <p:cNvSpPr/>
            <p:nvPr/>
          </p:nvSpPr>
          <p:spPr>
            <a:xfrm>
              <a:off x="3710160" y="3087720"/>
              <a:ext cx="1941480" cy="409680"/>
            </a:xfrm>
            <a:custGeom>
              <a:avLst/>
              <a:gdLst/>
              <a:ahLst/>
              <a:rect l="l" t="t" r="r" b="b"/>
              <a:pathLst>
                <a:path w="1223" h="258">
                  <a:moveTo>
                    <a:pt x="0" y="258"/>
                  </a:moveTo>
                  <a:cubicBezTo>
                    <a:pt x="30" y="178"/>
                    <a:pt x="60" y="98"/>
                    <a:pt x="140" y="55"/>
                  </a:cubicBezTo>
                  <a:cubicBezTo>
                    <a:pt x="220" y="12"/>
                    <a:pt x="358" y="0"/>
                    <a:pt x="483" y="0"/>
                  </a:cubicBezTo>
                  <a:cubicBezTo>
                    <a:pt x="608" y="0"/>
                    <a:pt x="765" y="13"/>
                    <a:pt x="888" y="55"/>
                  </a:cubicBezTo>
                  <a:cubicBezTo>
                    <a:pt x="1011" y="97"/>
                    <a:pt x="1117" y="173"/>
                    <a:pt x="1223" y="25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381560" y="3112920"/>
              <a:ext cx="53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6" name=""/>
                <p:cNvSpPr txBox="1"/>
                <p:nvPr/>
              </p:nvSpPr>
              <p:spPr>
                <a:xfrm>
                  <a:off x="5864400" y="3268800"/>
                  <a:ext cx="207612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7" name=""/>
                <p:cNvSpPr txBox="1"/>
                <p:nvPr/>
              </p:nvSpPr>
              <p:spPr>
                <a:xfrm>
                  <a:off x="1174680" y="6318360"/>
                  <a:ext cx="29894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8" name=""/>
                <p:cNvSpPr txBox="1"/>
                <p:nvPr/>
              </p:nvSpPr>
              <p:spPr>
                <a:xfrm>
                  <a:off x="5243400" y="5783400"/>
                  <a:ext cx="2457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99" name=""/>
            <p:cNvSpPr/>
            <p:nvPr/>
          </p:nvSpPr>
          <p:spPr>
            <a:xfrm>
              <a:off x="2992320" y="3497400"/>
              <a:ext cx="0" cy="2522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46200" y="5359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2696760" y="5562720"/>
              <a:ext cx="5446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757600" y="5921280"/>
              <a:ext cx="63324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088360" y="570240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1978200" y="4573440"/>
              <a:ext cx="55692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4501800" y="4449240"/>
              <a:ext cx="3589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6257880" y="46224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1508040" y="6032160"/>
              <a:ext cx="54288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467960" y="3697200"/>
              <a:ext cx="432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32200" y="2214720"/>
              <a:ext cx="284040" cy="1150920"/>
            </a:xfrm>
            <a:prstGeom prst="downArrow">
              <a:avLst>
                <a:gd name="adj1" fmla="val 50000"/>
                <a:gd name="adj2" fmla="val 10129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447360" y="25160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rzekształcamy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1" name=""/>
                <p:cNvSpPr txBox="1"/>
                <p:nvPr/>
              </p:nvSpPr>
              <p:spPr>
                <a:xfrm>
                  <a:off x="1147680" y="2836800"/>
                  <a:ext cx="1040040" cy="2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12" name=""/>
            <p:cNvSpPr/>
            <p:nvPr/>
          </p:nvSpPr>
          <p:spPr>
            <a:xfrm>
              <a:off x="2007000" y="944640"/>
              <a:ext cx="37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43160" y="457200"/>
                <a:ext cx="4859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8520" y="1851120"/>
            <a:ext cx="163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ądy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2249640"/>
            <a:ext cx="38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6320" y="2249640"/>
            <a:ext cx="23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360" y="29811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2400" y="2955960"/>
            <a:ext cx="347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0600" y="424332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09880" y="5181480"/>
            <a:ext cx="4038480" cy="1371600"/>
            <a:chOff x="2009880" y="5181480"/>
            <a:chExt cx="4038480" cy="13716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452680" y="5334120"/>
                  <a:ext cx="300060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2009880" y="655308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09880" y="5194440"/>
              <a:ext cx="403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00988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048360" y="51814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1917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3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1940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1943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371520" y="819000"/>
            <a:ext cx="7988400" cy="5507280"/>
            <a:chOff x="371520" y="819000"/>
            <a:chExt cx="7988400" cy="5507280"/>
          </a:xfrm>
        </p:grpSpPr>
        <p:sp>
          <p:nvSpPr>
            <p:cNvPr id="1980" name=""/>
            <p:cNvSpPr/>
            <p:nvPr/>
          </p:nvSpPr>
          <p:spPr>
            <a:xfrm>
              <a:off x="3522600" y="1538280"/>
              <a:ext cx="0" cy="4741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1650960" y="3762000"/>
              <a:ext cx="180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79320" y="4497480"/>
              <a:ext cx="180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557360" y="412920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87520" y="4756320"/>
              <a:ext cx="1825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1440" y="4222800"/>
              <a:ext cx="274680" cy="27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79320" y="376200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66720" y="3762360"/>
              <a:ext cx="234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61840" y="3670200"/>
              <a:ext cx="36864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97960" y="420372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045440" y="344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954000" y="3322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925640" y="42670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835280" y="4148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953640" y="4267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61840" y="414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627200" y="374004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43280" y="37623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75112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558800" y="47563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749680" y="4129200"/>
              <a:ext cx="18720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083680" y="33228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174040" y="3441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055960" y="3670200"/>
              <a:ext cx="368280" cy="18576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382840" y="4148280"/>
              <a:ext cx="4827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016080" y="3762360"/>
              <a:ext cx="92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944880" y="37623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760920" y="4222800"/>
              <a:ext cx="3664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760920" y="4313160"/>
              <a:ext cx="3664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44880" y="4313160"/>
              <a:ext cx="1800" cy="460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852720" y="4773600"/>
              <a:ext cx="1828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820960" y="3740040"/>
              <a:ext cx="507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157640" y="4229280"/>
              <a:ext cx="4348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880440" y="510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3185640" y="5378400"/>
              <a:ext cx="58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71520" y="3317760"/>
              <a:ext cx="3030480" cy="193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6" name=""/>
                <p:cNvSpPr txBox="1"/>
                <p:nvPr/>
              </p:nvSpPr>
              <p:spPr>
                <a:xfrm>
                  <a:off x="5045040" y="5564160"/>
                  <a:ext cx="21128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-3dB</m:t>
                          </m:r>
                        </m:sub>
                      </m:sSub>
                      <m:r>
                        <m:t xml:space="preserve">≈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7" name=""/>
                <p:cNvSpPr txBox="1"/>
                <p:nvPr/>
              </p:nvSpPr>
              <p:spPr>
                <a:xfrm>
                  <a:off x="5049720" y="4149720"/>
                  <a:ext cx="33102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o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8" name=""/>
                <p:cNvSpPr txBox="1"/>
                <p:nvPr/>
              </p:nvSpPr>
              <p:spPr>
                <a:xfrm>
                  <a:off x="5045040" y="4883040"/>
                  <a:ext cx="26766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e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19" name=""/>
            <p:cNvSpPr/>
            <p:nvPr/>
          </p:nvSpPr>
          <p:spPr>
            <a:xfrm>
              <a:off x="3166920" y="4403880"/>
              <a:ext cx="177984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554360" y="434340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514656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010120" y="262404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169236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76440" y="2798640"/>
              <a:ext cx="1440" cy="26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598760" y="2446200"/>
              <a:ext cx="18396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85720" y="30481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39640" y="2536920"/>
              <a:ext cx="270000" cy="261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676440" y="20955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76440" y="2095560"/>
              <a:ext cx="207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55720" y="20066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94720" y="25178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036080" y="1787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946080" y="167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962000" y="2577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873080" y="2465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945720" y="2577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55720" y="2465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6686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8908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800440" y="30481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600200" y="30481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798640" y="2446200"/>
              <a:ext cx="1843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4147920" y="156996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16200000">
              <a:off x="4600440" y="1386000"/>
              <a:ext cx="177840" cy="3650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173640" y="2427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083280" y="2313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413400" y="2095560"/>
              <a:ext cx="18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32304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16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401800" y="2278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501160" y="2352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8964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46560" y="2095560"/>
              <a:ext cx="1989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135920" y="20955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045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056200" y="30481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045200" y="2446200"/>
              <a:ext cx="182520" cy="3542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466040" y="2546280"/>
              <a:ext cx="2905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434360" y="2292480"/>
              <a:ext cx="1440" cy="70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7343640" y="229248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34360" y="229248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774840" y="2322360"/>
              <a:ext cx="2124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12280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008680" y="244620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5146560" y="2536560"/>
              <a:ext cx="1800" cy="261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6" name=""/>
            <p:cNvGrpSpPr/>
            <p:nvPr/>
          </p:nvGrpSpPr>
          <p:grpSpPr>
            <a:xfrm>
              <a:off x="5055840" y="2536920"/>
              <a:ext cx="181440" cy="87120"/>
              <a:chOff x="5055840" y="2536920"/>
              <a:chExt cx="181440" cy="87120"/>
            </a:xfrm>
          </p:grpSpPr>
          <p:sp>
            <p:nvSpPr>
              <p:cNvPr id="2067" name=""/>
              <p:cNvSpPr/>
              <p:nvPr/>
            </p:nvSpPr>
            <p:spPr>
              <a:xfrm flipH="1">
                <a:off x="5055840" y="2536920"/>
                <a:ext cx="9036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146560" y="2536920"/>
                <a:ext cx="90720" cy="8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5008680" y="26226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032920" y="16732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121480" y="17874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031840" y="20066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067920" y="2787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159720" y="287496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589640" y="1095480"/>
              <a:ext cx="2674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392000" y="2859120"/>
              <a:ext cx="6408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62280" y="2095560"/>
              <a:ext cx="2008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879720" y="209556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699000" y="253692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699000" y="2622600"/>
              <a:ext cx="3603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79720" y="2622600"/>
              <a:ext cx="180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89360" y="3063960"/>
              <a:ext cx="1792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78296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875120" y="1920960"/>
              <a:ext cx="1800" cy="3506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875120" y="2095560"/>
              <a:ext cx="271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868480" y="2073240"/>
              <a:ext cx="5076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55960" y="2073240"/>
              <a:ext cx="49320" cy="493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89240" y="2541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178880" y="26557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387680" y="2257560"/>
              <a:ext cx="503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5141880" y="157428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3882960" y="1571760"/>
              <a:ext cx="0" cy="52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3882960" y="157176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382640" y="1619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473000" y="173340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3754440" y="1365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666040" y="170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968560" y="81900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816520" y="1076400"/>
              <a:ext cx="1044720" cy="61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r>
                <a:rPr b="1" lang="pl-PL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 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403640" y="1762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810400" y="209700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16440" y="2463840"/>
              <a:ext cx="185760" cy="36972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10320" y="3076560"/>
              <a:ext cx="18396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780160" y="2057400"/>
              <a:ext cx="5220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655000" y="1779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203640" y="5851440"/>
              <a:ext cx="704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466000" y="5611680"/>
              <a:ext cx="657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51080" y="3430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napięciowe skutecz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5520" y="177948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1447920"/>
            <a:ext cx="2414880" cy="13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6756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4720" y="166068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756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4720" y="2403360"/>
            <a:ext cx="11088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95520" y="1725480"/>
            <a:ext cx="857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05160" y="16621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5520" y="247176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05160" y="2401920"/>
            <a:ext cx="109440" cy="131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423800" y="1525320"/>
            <a:ext cx="1573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5320" y="1898640"/>
            <a:ext cx="155520" cy="439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232884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62600" y="2471760"/>
            <a:ext cx="325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2600" y="1725480"/>
            <a:ext cx="325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1725480"/>
            <a:ext cx="1440" cy="18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06720" y="2471760"/>
            <a:ext cx="3286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6720" y="1725480"/>
            <a:ext cx="3286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8920" y="175104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9040" y="137484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0520" y="1143000"/>
            <a:ext cx="52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36800"/>
            <a:ext cx="31284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988560" y="1905120"/>
            <a:ext cx="180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971640" y="2471760"/>
            <a:ext cx="110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17560" y="1725480"/>
            <a:ext cx="40320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88920" y="17366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41440" y="1925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y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32160" y="1855440"/>
            <a:ext cx="144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03920" y="1855440"/>
            <a:ext cx="1800" cy="50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66960" y="1730520"/>
            <a:ext cx="4176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116760" y="1730520"/>
            <a:ext cx="3348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074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09280" y="1855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52640" y="1243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21440" y="1166760"/>
            <a:ext cx="36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1714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59520" y="1243080"/>
            <a:ext cx="35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415280" y="1852560"/>
            <a:ext cx="1440" cy="509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69360" y="1928880"/>
            <a:ext cx="442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5560" y="3070080"/>
            <a:ext cx="71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jako czwórnik [y] ze źródłem napię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3580920"/>
            <a:ext cx="5257800" cy="1676880"/>
            <a:chOff x="1143000" y="3580920"/>
            <a:chExt cx="5257800" cy="167688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359000" y="3809880"/>
                  <a:ext cx="4292640" cy="10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U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3000" y="52578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358128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1430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00800" y="35809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6440" y="5508720"/>
            <a:ext cx="882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napięci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napię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97480" y="4446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odstawie rys. m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38080" y="990720"/>
                <a:ext cx="4456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85800" y="3222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00" y="2308320"/>
            <a:ext cx="82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- impedancja (admitancja) wejściowa czwór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12880" y="4132440"/>
            <a:ext cx="5333760" cy="1676160"/>
            <a:chOff x="1712880" y="4132440"/>
            <a:chExt cx="5333760" cy="167616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017440" y="4284720"/>
                  <a:ext cx="4419720" cy="11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1712880" y="580860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2880" y="413244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71288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046640" y="413244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479520"/>
            <a:ext cx="803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dmitancja (impedancja) wejściowa y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(z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649600" y="1276200"/>
                <a:ext cx="23781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1593720" y="3041640"/>
            <a:ext cx="4648320" cy="1295280"/>
            <a:chOff x="1593720" y="304164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946160" y="3117600"/>
                  <a:ext cx="3714840" cy="96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1593720" y="43369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93720" y="304164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59372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242040" y="304164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037960" y="244440"/>
            <a:ext cx="362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mitancja wyjściowa y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71560" y="1000080"/>
            <a:ext cx="4648320" cy="1295280"/>
            <a:chOff x="1771560" y="1000080"/>
            <a:chExt cx="4648320" cy="12952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081160" y="1076400"/>
                  <a:ext cx="380052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Y</m:t>
                              </m:r>
                            </m:sub>
                          </m:sSub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1771560" y="229536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1560" y="10000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77156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19880" y="1000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728360" y="468324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ór ten można przedstawić w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28560" y="4979880"/>
                <a:ext cx="634392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490480" y="27068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27240" y="3566880"/>
            <a:ext cx="2133720" cy="990720"/>
            <a:chOff x="3027240" y="3566880"/>
            <a:chExt cx="2133720" cy="99072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3408480" y="3643200"/>
                  <a:ext cx="10666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3027240" y="455760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27240" y="356724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2724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160960" y="356688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61920" y="30960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zmocnienie  prądowe skute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962000" y="1620720"/>
            <a:ext cx="5639040" cy="2438640"/>
            <a:chOff x="1962000" y="1620720"/>
            <a:chExt cx="5639040" cy="243864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560680" y="1773360"/>
                  <a:ext cx="253512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k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2419200" y="2755800"/>
                  <a:ext cx="304164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1962000" y="405936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62000" y="1620720"/>
              <a:ext cx="563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6200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601040" y="162072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20040" y="4295880"/>
            <a:ext cx="8413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spółczynnik prądowego wykorzystania obwodu wejści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wzmocnienie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4-10-19T15:19:59Z</dcterms:modified>
  <cp:revision>116</cp:revision>
  <dc:subject/>
  <dc:title>Właściwości częstotliwościowe wzmacniaczy tranzystorowych</dc:title>
</cp:coreProperties>
</file>