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CB6-81D5-4E7B-8C25-A40D8881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C8D-8C87-4F36-8900-9986669B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92F-9A85-4690-8F83-464891CF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0A8-73BF-4B17-8AC4-8AF690B1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44B-C5FF-412E-9344-8E2D972A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8BC-7565-41EC-A427-6695C4BA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906-0196-4383-96B3-803F66E8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E4C7-980D-4FD2-A655-B2823F02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D1C-DBC0-423A-80D3-56F237E9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D69-4F7B-49B6-8B07-FF6F6F05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854-9659-4F66-808B-C55B2E46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035-0F69-48FA-8AA5-2C980B64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7D80-8FDC-4A7C-AF68-5A25DE3E1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łaściwości częstotliwościow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y tranzystor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 symu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228600" y="1074600"/>
            <a:ext cx="85345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940360" y="1600200"/>
            <a:ext cx="3203640" cy="5257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59200" y="1600200"/>
            <a:ext cx="2820960" cy="52578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1600200"/>
            <a:ext cx="2820960" cy="5257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ołączenia dwutranzysto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17200" y="102060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racować w do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019320" y="2428560"/>
            <a:ext cx="2560320" cy="2735640"/>
            <a:chOff x="3019320" y="2428560"/>
            <a:chExt cx="2560320" cy="2735640"/>
          </a:xfrm>
        </p:grpSpPr>
        <p:grpSp>
          <p:nvGrpSpPr>
            <p:cNvPr id="543" name=""/>
            <p:cNvGrpSpPr/>
            <p:nvPr/>
          </p:nvGrpSpPr>
          <p:grpSpPr>
            <a:xfrm>
              <a:off x="3703320" y="4298760"/>
              <a:ext cx="792000" cy="493920"/>
              <a:chOff x="3703320" y="4298760"/>
              <a:chExt cx="792000" cy="493920"/>
            </a:xfrm>
          </p:grpSpPr>
          <p:sp>
            <p:nvSpPr>
              <p:cNvPr id="544" name=""/>
              <p:cNvSpPr/>
              <p:nvPr/>
            </p:nvSpPr>
            <p:spPr>
              <a:xfrm>
                <a:off x="4230360" y="429912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230360" y="429876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30360" y="4540680"/>
                <a:ext cx="264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703320" y="454068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91200" y="459324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701880" y="3320280"/>
              <a:ext cx="791640" cy="493920"/>
              <a:chOff x="3701880" y="3320280"/>
              <a:chExt cx="791640" cy="493920"/>
            </a:xfrm>
          </p:grpSpPr>
          <p:sp>
            <p:nvSpPr>
              <p:cNvPr id="550" name=""/>
              <p:cNvSpPr/>
              <p:nvPr/>
            </p:nvSpPr>
            <p:spPr>
              <a:xfrm>
                <a:off x="4228920" y="3320640"/>
                <a:ext cx="1440" cy="481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228920" y="3320280"/>
                <a:ext cx="26172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228920" y="3562200"/>
                <a:ext cx="2646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701880" y="3562200"/>
                <a:ext cx="526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289400" y="3614760"/>
                <a:ext cx="19260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4485600" y="3806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08360" y="3461040"/>
              <a:ext cx="0" cy="21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91200" y="5006160"/>
              <a:ext cx="21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5600" y="478512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53920" y="4965840"/>
              <a:ext cx="67680" cy="63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4475520" y="3049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94520" y="2662200"/>
              <a:ext cx="180720" cy="38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475520" y="24285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16360" y="2635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19320" y="4785120"/>
              <a:ext cx="597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390840" y="4543200"/>
              <a:ext cx="41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21680" y="3249360"/>
              <a:ext cx="6660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19000" y="5164200"/>
              <a:ext cx="13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54880" y="1600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37560" y="1600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askoda: OE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060560" y="5818320"/>
                <a:ext cx="10983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746520" y="5726160"/>
                <a:ext cx="12794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3780000" y="614520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245772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79360" y="2943360"/>
            <a:ext cx="2155320" cy="2033280"/>
            <a:chOff x="279360" y="2943360"/>
            <a:chExt cx="2155320" cy="2033280"/>
          </a:xfrm>
        </p:grpSpPr>
        <p:sp>
          <p:nvSpPr>
            <p:cNvPr id="575" name=""/>
            <p:cNvSpPr/>
            <p:nvPr/>
          </p:nvSpPr>
          <p:spPr>
            <a:xfrm>
              <a:off x="1793520" y="3515760"/>
              <a:ext cx="1440" cy="49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793520" y="3515400"/>
              <a:ext cx="25200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93520" y="3762360"/>
              <a:ext cx="25200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286640" y="3762360"/>
              <a:ext cx="50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82680" y="32770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030040" y="2943360"/>
              <a:ext cx="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044080" y="3988800"/>
              <a:ext cx="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57600" y="3826080"/>
              <a:ext cx="151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25600" y="3270240"/>
              <a:ext cx="760680" cy="504360"/>
              <a:chOff x="525600" y="3270240"/>
              <a:chExt cx="760680" cy="504360"/>
            </a:xfrm>
          </p:grpSpPr>
          <p:sp>
            <p:nvSpPr>
              <p:cNvPr id="584" name=""/>
              <p:cNvSpPr/>
              <p:nvPr/>
            </p:nvSpPr>
            <p:spPr>
              <a:xfrm>
                <a:off x="1031760" y="3270240"/>
                <a:ext cx="1440" cy="49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1031760" y="3270240"/>
                <a:ext cx="25164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031760" y="3517200"/>
                <a:ext cx="25452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525600" y="3517200"/>
                <a:ext cx="5061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090080" y="3570840"/>
                <a:ext cx="185040" cy="18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1991160" y="324396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9360" y="312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68200" y="4516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35600" y="4419000"/>
              <a:ext cx="7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1343880" y="375516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06440" y="3707280"/>
              <a:ext cx="6516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16360" y="4385880"/>
              <a:ext cx="6516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81600" y="3900600"/>
              <a:ext cx="129240" cy="363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816440" y="196704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138720" y="1996920"/>
            <a:ext cx="2553120" cy="3864960"/>
            <a:chOff x="6138720" y="1996920"/>
            <a:chExt cx="2553120" cy="3864960"/>
          </a:xfrm>
        </p:grpSpPr>
        <p:grpSp>
          <p:nvGrpSpPr>
            <p:cNvPr id="599" name=""/>
            <p:cNvGrpSpPr/>
            <p:nvPr/>
          </p:nvGrpSpPr>
          <p:grpSpPr>
            <a:xfrm>
              <a:off x="6493320" y="4140000"/>
              <a:ext cx="786240" cy="510480"/>
              <a:chOff x="6493320" y="4140000"/>
              <a:chExt cx="786240" cy="510480"/>
            </a:xfrm>
          </p:grpSpPr>
          <p:sp>
            <p:nvSpPr>
              <p:cNvPr id="600" name=""/>
              <p:cNvSpPr/>
              <p:nvPr/>
            </p:nvSpPr>
            <p:spPr>
              <a:xfrm>
                <a:off x="7016760" y="414000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7016760" y="414000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16760" y="438984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493320" y="438984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076880" y="444420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757640" y="4149720"/>
              <a:ext cx="786240" cy="510480"/>
              <a:chOff x="7757640" y="4149720"/>
              <a:chExt cx="786240" cy="51048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8019000" y="4149720"/>
                <a:ext cx="1440" cy="49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7760520" y="4149720"/>
                <a:ext cx="25992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757640" y="4399560"/>
                <a:ext cx="26280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0800" y="4399560"/>
                <a:ext cx="523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769160" y="4453920"/>
                <a:ext cx="19116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364080" y="5023800"/>
              <a:ext cx="21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15720" y="4641120"/>
              <a:ext cx="0" cy="11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32800" y="3164040"/>
              <a:ext cx="6732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764480" y="3836880"/>
              <a:ext cx="0" cy="29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83840" y="3436560"/>
              <a:ext cx="17928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764480" y="2268720"/>
              <a:ext cx="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81200" y="340704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38720" y="4642560"/>
              <a:ext cx="593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183000" y="4392720"/>
              <a:ext cx="41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53400" y="3968280"/>
              <a:ext cx="6613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09960" y="5166000"/>
              <a:ext cx="13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265160" y="4634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265520" y="3208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65520" y="3208680"/>
              <a:ext cx="49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3560" y="5157720"/>
              <a:ext cx="16812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78280" y="459396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18200" y="1996920"/>
              <a:ext cx="77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16880" y="5351760"/>
              <a:ext cx="6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32000" y="441648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83400" y="502668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60000" y="4996080"/>
              <a:ext cx="67680" cy="6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7223040" y="1600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-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958000" y="5495760"/>
                <a:ext cx="1485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6008760" y="6126120"/>
                <a:ext cx="1116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98400" y="9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5368800">
            <a:off x="4152600" y="29336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20574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286000"/>
            <a:ext cx="121896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15000" y="2209680"/>
            <a:ext cx="1066680" cy="16765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8288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4640" y="3733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293280" y="533412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Ywe=(1-Ku)Y+y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fekt Mi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368800">
            <a:off x="4152600" y="2933640"/>
            <a:ext cx="1600200" cy="182880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19520" y="2286000"/>
            <a:ext cx="121896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0"/>
                </a:moveTo>
                <a:lnTo>
                  <a:pt x="0" y="0"/>
                </a:lnTo>
                <a:lnTo>
                  <a:pt x="0" y="1056"/>
                </a:lnTo>
                <a:lnTo>
                  <a:pt x="768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15000" y="2286000"/>
            <a:ext cx="1066680" cy="160020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96" y="1056"/>
                </a:moveTo>
                <a:lnTo>
                  <a:pt x="672" y="1056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8288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4640" y="3733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92920" y="5334120"/>
            <a:ext cx="25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we=(1-Ku)C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7200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625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724280" y="2286000"/>
            <a:ext cx="1067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86920" y="164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373400" y="1390680"/>
            <a:ext cx="6750720" cy="4355280"/>
            <a:chOff x="1373400" y="1390680"/>
            <a:chExt cx="6750720" cy="4355280"/>
          </a:xfrm>
        </p:grpSpPr>
        <p:sp>
          <p:nvSpPr>
            <p:cNvPr id="657" name=""/>
            <p:cNvSpPr/>
            <p:nvPr/>
          </p:nvSpPr>
          <p:spPr>
            <a:xfrm>
              <a:off x="3537720" y="2003760"/>
              <a:ext cx="1800" cy="2968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25720" y="3133080"/>
              <a:ext cx="865800" cy="567360"/>
              <a:chOff x="3825720" y="3133080"/>
              <a:chExt cx="865800" cy="567360"/>
            </a:xfrm>
          </p:grpSpPr>
          <p:sp>
            <p:nvSpPr>
              <p:cNvPr id="659" name=""/>
              <p:cNvSpPr/>
              <p:nvPr/>
            </p:nvSpPr>
            <p:spPr>
              <a:xfrm>
                <a:off x="44024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402440" y="3133080"/>
                <a:ext cx="287640" cy="283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2440" y="3416760"/>
                <a:ext cx="287640" cy="28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90080" y="3558240"/>
                <a:ext cx="1440" cy="140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4546800" y="3698640"/>
                <a:ext cx="1429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3825720" y="3416760"/>
                <a:ext cx="5767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690440" y="2003760"/>
              <a:ext cx="2880" cy="1140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47520" y="22856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690440" y="3699360"/>
              <a:ext cx="2880" cy="88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90440" y="451368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4752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35160" y="1390680"/>
              <a:ext cx="39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67160" y="16560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58080" y="2496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444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5408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90440" y="2993400"/>
              <a:ext cx="5767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63920" y="4549320"/>
              <a:ext cx="1440" cy="423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21000" y="4981320"/>
              <a:ext cx="28728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996600" y="4406760"/>
              <a:ext cx="180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188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93000" y="22856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93000" y="3983040"/>
              <a:ext cx="2890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41320" y="2003760"/>
              <a:ext cx="1437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43520" y="196812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5267160" y="2709720"/>
              <a:ext cx="145800" cy="565560"/>
              <a:chOff x="5267160" y="2709720"/>
              <a:chExt cx="145800" cy="565560"/>
            </a:xfrm>
          </p:grpSpPr>
          <p:sp>
            <p:nvSpPr>
              <p:cNvPr id="685" name=""/>
              <p:cNvSpPr/>
              <p:nvPr/>
            </p:nvSpPr>
            <p:spPr>
              <a:xfrm>
                <a:off x="5267160" y="2709720"/>
                <a:ext cx="144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11160" y="2709720"/>
                <a:ext cx="1800" cy="56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2960640" y="3133440"/>
              <a:ext cx="145800" cy="565200"/>
              <a:chOff x="2960640" y="3133440"/>
              <a:chExt cx="145800" cy="565200"/>
            </a:xfrm>
          </p:grpSpPr>
          <p:sp>
            <p:nvSpPr>
              <p:cNvPr id="688" name=""/>
              <p:cNvSpPr/>
              <p:nvPr/>
            </p:nvSpPr>
            <p:spPr>
              <a:xfrm>
                <a:off x="2960640" y="3133440"/>
                <a:ext cx="180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05000" y="3133440"/>
                <a:ext cx="1440" cy="565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3105720" y="3417480"/>
              <a:ext cx="864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1880" y="3841560"/>
              <a:ext cx="289080" cy="565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11880" y="2993400"/>
              <a:ext cx="1584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96600" y="2993400"/>
              <a:ext cx="1800" cy="84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47520" y="4123440"/>
              <a:ext cx="287280" cy="565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3000" y="4946040"/>
              <a:ext cx="2890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8280" y="4123440"/>
              <a:ext cx="432360" cy="425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663920" y="3417480"/>
              <a:ext cx="1440" cy="70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663920" y="341748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953000" y="3275640"/>
              <a:ext cx="573480" cy="281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38280" y="4096440"/>
              <a:ext cx="230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73360" y="2567880"/>
              <a:ext cx="1440" cy="2970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08960" y="2285640"/>
              <a:ext cx="1440" cy="32529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49360" y="5283720"/>
              <a:ext cx="127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bciążeni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73400" y="5425560"/>
              <a:ext cx="171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źródło sygnał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22440" y="43362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79520" y="415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346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95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7008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25720" y="40118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0500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59920" y="23144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2520" y="40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84240" y="3870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050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59920" y="27403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67160" y="2354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22440" y="217404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95920" y="419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52280" y="401184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54080" y="295812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01720" y="3381840"/>
              <a:ext cx="80640" cy="7956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90440" y="3841560"/>
              <a:ext cx="12967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5987160" y="3841200"/>
              <a:ext cx="1440" cy="423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99520" y="4265280"/>
              <a:ext cx="57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99520" y="4407120"/>
              <a:ext cx="5767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44240" y="4946040"/>
              <a:ext cx="28728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987160" y="4406760"/>
              <a:ext cx="1440" cy="56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76600" y="3910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31520" y="37299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1840" y="3789000"/>
              <a:ext cx="80640" cy="7920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5416560" y="1411200"/>
            <a:ext cx="2292480" cy="1622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39760" y="4275000"/>
            <a:ext cx="1800" cy="270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1940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5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04760" y="400356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139760" y="355392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139760" y="3554280"/>
            <a:ext cx="20700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1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27520" y="3987720"/>
            <a:ext cx="156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33240" y="3240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458720" y="3124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12160" y="4049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38360" y="3932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976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120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20840" y="4527720"/>
            <a:ext cx="1796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19400" y="3914640"/>
            <a:ext cx="18108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2039760" y="3465000"/>
            <a:ext cx="90720" cy="88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039760" y="3554280"/>
            <a:ext cx="90720" cy="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82600" y="32130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63600" y="333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34400" y="3124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77960" y="324000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89040" y="3463920"/>
            <a:ext cx="360360" cy="1825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06200" y="393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49400" y="40496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300120" y="3735360"/>
            <a:ext cx="179640" cy="719280"/>
            <a:chOff x="3300120" y="3735360"/>
            <a:chExt cx="179640" cy="719280"/>
          </a:xfrm>
        </p:grpSpPr>
        <p:sp>
          <p:nvSpPr>
            <p:cNvPr id="762" name=""/>
            <p:cNvSpPr/>
            <p:nvPr/>
          </p:nvSpPr>
          <p:spPr>
            <a:xfrm>
              <a:off x="3390840" y="3735360"/>
              <a:ext cx="180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300120" y="3735360"/>
              <a:ext cx="9036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9084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3527280" y="4022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09760" y="3554280"/>
            <a:ext cx="1260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40120" y="3554280"/>
            <a:ext cx="180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660840" y="400536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60840" y="4094280"/>
            <a:ext cx="3585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40120" y="4094280"/>
            <a:ext cx="180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49760" y="4545000"/>
            <a:ext cx="1807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86000" y="3532320"/>
            <a:ext cx="540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16360" y="3532320"/>
            <a:ext cx="52200" cy="522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70480" y="3554280"/>
            <a:ext cx="1440" cy="451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89400" y="400536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89400" y="4094280"/>
            <a:ext cx="360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70480" y="4094280"/>
            <a:ext cx="1440" cy="45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79760" y="4545000"/>
            <a:ext cx="1810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275000" y="3184560"/>
            <a:ext cx="1706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b’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1+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’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729400" y="3554280"/>
            <a:ext cx="144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359400" y="33274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70480" y="3554280"/>
            <a:ext cx="1800" cy="990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80120" y="4527720"/>
            <a:ext cx="179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178680" y="3914640"/>
            <a:ext cx="182520" cy="3603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640480" y="4546440"/>
            <a:ext cx="1792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94400" y="3914640"/>
            <a:ext cx="271440" cy="27144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29400" y="4005360"/>
            <a:ext cx="1440" cy="269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5640120" y="4184280"/>
            <a:ext cx="8892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729400" y="4184280"/>
            <a:ext cx="90360" cy="90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94400" y="4094280"/>
            <a:ext cx="271440" cy="27144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60440" y="4029120"/>
            <a:ext cx="37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52960" y="41464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29400" y="3554280"/>
            <a:ext cx="541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719760" y="3735360"/>
            <a:ext cx="179640" cy="719280"/>
            <a:chOff x="6719760" y="3735360"/>
            <a:chExt cx="179640" cy="719280"/>
          </a:xfrm>
        </p:grpSpPr>
        <p:sp>
          <p:nvSpPr>
            <p:cNvPr id="796" name=""/>
            <p:cNvSpPr/>
            <p:nvPr/>
          </p:nvSpPr>
          <p:spPr>
            <a:xfrm>
              <a:off x="6810480" y="3735360"/>
              <a:ext cx="1440" cy="71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719760" y="3735360"/>
              <a:ext cx="907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10480" y="3735360"/>
              <a:ext cx="889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 flipV="1">
            <a:off x="51912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052960" y="2287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340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44440" y="2470320"/>
            <a:ext cx="180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24640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52640" y="272880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006560" y="21956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144440" y="1734840"/>
            <a:ext cx="180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144440" y="173520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273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24640" y="21765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3680" y="141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461240" y="1295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47080" y="223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566080" y="2120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326600" y="2120760"/>
            <a:ext cx="230400" cy="371880"/>
            <a:chOff x="1326600" y="2120760"/>
            <a:chExt cx="230400" cy="371880"/>
          </a:xfrm>
        </p:grpSpPr>
        <p:sp>
          <p:nvSpPr>
            <p:cNvPr id="815" name=""/>
            <p:cNvSpPr/>
            <p:nvPr/>
          </p:nvSpPr>
          <p:spPr>
            <a:xfrm>
              <a:off x="1470960" y="230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26600" y="2120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23162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59080" y="173520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669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47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65480" y="210168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742000" y="173484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4984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96360" y="19652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12840" y="18464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1968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7856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8640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498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38496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96664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17400" y="22399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45480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91200" y="1735200"/>
            <a:ext cx="2022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213680" y="17352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12152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99040" y="272880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121520" y="210168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64880" y="21207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7680240" y="1936800"/>
            <a:ext cx="184320" cy="735120"/>
            <a:chOff x="7680240" y="1936800"/>
            <a:chExt cx="184320" cy="735120"/>
          </a:xfrm>
        </p:grpSpPr>
        <p:sp>
          <p:nvSpPr>
            <p:cNvPr id="841" name=""/>
            <p:cNvSpPr/>
            <p:nvPr/>
          </p:nvSpPr>
          <p:spPr>
            <a:xfrm>
              <a:off x="7772400" y="193680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68024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772400" y="193680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7711920" y="1500120"/>
            <a:ext cx="501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6699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6699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67440" y="171288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51520" y="2101680"/>
            <a:ext cx="277560" cy="27792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91200" y="21956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509904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191200" y="2378160"/>
            <a:ext cx="9216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51520" y="2286000"/>
            <a:ext cx="277560" cy="27792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2063520" y="164304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063520" y="1735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105640" y="13874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188080" y="1504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65360" y="129528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612880" y="141444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522520" y="164304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9320" y="2120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889000" y="2239920"/>
            <a:ext cx="20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'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351240" y="1919160"/>
            <a:ext cx="183960" cy="735120"/>
            <a:chOff x="3351240" y="1919160"/>
            <a:chExt cx="183960" cy="735120"/>
          </a:xfrm>
        </p:grpSpPr>
        <p:sp>
          <p:nvSpPr>
            <p:cNvPr id="861" name=""/>
            <p:cNvSpPr/>
            <p:nvPr/>
          </p:nvSpPr>
          <p:spPr>
            <a:xfrm>
              <a:off x="3443400" y="191916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351240" y="1919160"/>
              <a:ext cx="9216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43400" y="19191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3577320" y="22129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34200" y="20098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27440" y="212868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59080" y="1735200"/>
            <a:ext cx="15638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03720" y="17352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19400" y="219564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19400" y="22860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03720" y="228600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11560" y="274644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2292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15080" y="1552680"/>
            <a:ext cx="1440" cy="3664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15080" y="1735200"/>
            <a:ext cx="276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36760" y="171288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179960" y="1712880"/>
            <a:ext cx="5076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3465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09760" y="594360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43000" y="6126120"/>
            <a:ext cx="1440" cy="276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052640" y="638496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06560" y="5851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143000" y="5392800"/>
            <a:ext cx="144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43000" y="5392800"/>
            <a:ext cx="1101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25520" y="5300640"/>
            <a:ext cx="368280" cy="18432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123920" y="583416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19120" y="4952880"/>
            <a:ext cx="298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15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97360" y="5392800"/>
            <a:ext cx="1440" cy="100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05200" y="6384960"/>
            <a:ext cx="184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5200" y="5759280"/>
            <a:ext cx="185760" cy="36864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54400" y="6384960"/>
            <a:ext cx="1839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17760" y="559764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693800" y="5576760"/>
            <a:ext cx="184320" cy="733680"/>
            <a:chOff x="1693800" y="5576760"/>
            <a:chExt cx="184320" cy="733680"/>
          </a:xfrm>
        </p:grpSpPr>
        <p:sp>
          <p:nvSpPr>
            <p:cNvPr id="894" name=""/>
            <p:cNvSpPr/>
            <p:nvPr/>
          </p:nvSpPr>
          <p:spPr>
            <a:xfrm>
              <a:off x="17859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16938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859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3208320" y="5759280"/>
            <a:ext cx="277920" cy="276480"/>
          </a:xfrm>
          <a:prstGeom prst="ellipse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346560" y="5851440"/>
            <a:ext cx="144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3254400" y="6035400"/>
            <a:ext cx="9216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3346560" y="6035400"/>
            <a:ext cx="91800" cy="9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08320" y="5942160"/>
            <a:ext cx="277920" cy="277560"/>
          </a:xfrm>
          <a:prstGeom prst="ellipse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28960" y="55944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  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13560" y="57135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44600" y="53928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62080" y="5851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62080" y="594360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44600" y="5943600"/>
            <a:ext cx="1800" cy="458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52800" y="6402240"/>
            <a:ext cx="1839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46560" y="5392800"/>
            <a:ext cx="55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57480" y="5060880"/>
            <a:ext cx="326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4356000" y="5576760"/>
            <a:ext cx="184320" cy="733680"/>
            <a:chOff x="4356000" y="5576760"/>
            <a:chExt cx="184320" cy="733680"/>
          </a:xfrm>
        </p:grpSpPr>
        <p:sp>
          <p:nvSpPr>
            <p:cNvPr id="912" name=""/>
            <p:cNvSpPr/>
            <p:nvPr/>
          </p:nvSpPr>
          <p:spPr>
            <a:xfrm>
              <a:off x="4448160" y="5576760"/>
              <a:ext cx="1440" cy="73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35600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48160" y="5576760"/>
              <a:ext cx="921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5317920" y="5403960"/>
            <a:ext cx="173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03440" y="4834080"/>
            <a:ext cx="313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1+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59040" y="229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14040" y="1162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b’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0532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54600" y="4689360"/>
            <a:ext cx="57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3276720" y="4952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320120" y="4000680"/>
            <a:ext cx="230400" cy="371520"/>
            <a:chOff x="1320120" y="4000680"/>
            <a:chExt cx="230400" cy="371520"/>
          </a:xfrm>
        </p:grpSpPr>
        <p:sp>
          <p:nvSpPr>
            <p:cNvPr id="923" name=""/>
            <p:cNvSpPr/>
            <p:nvPr/>
          </p:nvSpPr>
          <p:spPr>
            <a:xfrm>
              <a:off x="1464480" y="418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20120" y="400068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356120" y="5783400"/>
            <a:ext cx="314640" cy="371520"/>
            <a:chOff x="1356120" y="5783400"/>
            <a:chExt cx="314640" cy="371520"/>
          </a:xfrm>
        </p:grpSpPr>
        <p:sp>
          <p:nvSpPr>
            <p:cNvPr id="926" name=""/>
            <p:cNvSpPr/>
            <p:nvPr/>
          </p:nvSpPr>
          <p:spPr>
            <a:xfrm>
              <a:off x="1500840" y="5972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56120" y="5783400"/>
              <a:ext cx="31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 `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506400" y="3156120"/>
            <a:ext cx="5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b’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971040" y="38433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90080" y="581184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060560"/>
            <a:ext cx="2892600" cy="527040"/>
          </a:xfrm>
          <a:custGeom>
            <a:avLst/>
            <a:gdLst/>
            <a:ahLst/>
            <a:rect l="l" t="t" r="r" b="b"/>
            <a:pathLst>
              <a:path w="1822" h="332">
                <a:moveTo>
                  <a:pt x="0" y="310"/>
                </a:moveTo>
                <a:cubicBezTo>
                  <a:pt x="55" y="255"/>
                  <a:pt x="111" y="200"/>
                  <a:pt x="200" y="154"/>
                </a:cubicBezTo>
                <a:cubicBezTo>
                  <a:pt x="289" y="108"/>
                  <a:pt x="418" y="56"/>
                  <a:pt x="533" y="32"/>
                </a:cubicBezTo>
                <a:cubicBezTo>
                  <a:pt x="648" y="8"/>
                  <a:pt x="774" y="6"/>
                  <a:pt x="889" y="10"/>
                </a:cubicBezTo>
                <a:cubicBezTo>
                  <a:pt x="1004" y="14"/>
                  <a:pt x="1067" y="0"/>
                  <a:pt x="1222" y="54"/>
                </a:cubicBezTo>
                <a:cubicBezTo>
                  <a:pt x="1377" y="108"/>
                  <a:pt x="1722" y="286"/>
                  <a:pt x="1822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144480" y="1017720"/>
            <a:ext cx="169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 -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20520" y="5950080"/>
            <a:ext cx="11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U/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54600" y="5330880"/>
            <a:ext cx="476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588960" y="1049400"/>
                <a:ext cx="53402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j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k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k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+</m:t>
                            </m:r>
                            <m:f>
                              <m:num>
                                <m:r>
                                  <m:t xml:space="preserve">j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zie: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37" name=""/>
          <p:cNvGraphicFramePr/>
          <p:nvPr/>
        </p:nvGraphicFramePr>
        <p:xfrm>
          <a:off x="990720" y="4267080"/>
          <a:ext cx="236196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267080"/>
                    <a:ext cx="236196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990720" y="5791320"/>
                <a:ext cx="2666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40" name=""/>
          <p:cNvGraphicFramePr/>
          <p:nvPr/>
        </p:nvGraphicFramePr>
        <p:xfrm>
          <a:off x="5025960" y="4454640"/>
          <a:ext cx="3557520" cy="24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4454640"/>
                    <a:ext cx="355752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35840" y="1108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59520" y="2556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135840" y="16416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97600" y="164160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027920" y="1239840"/>
            <a:ext cx="9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37400" y="25210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178480" y="198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45200" y="1630440"/>
            <a:ext cx="2271600" cy="93024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063560" y="16509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92920" y="164628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616040" y="3716280"/>
            <a:ext cx="50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całkujący RC (pierwszego rzę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159240" y="911160"/>
            <a:ext cx="81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 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2490840" y="1049400"/>
            <a:ext cx="0" cy="315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54400" y="377028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90840" y="2052720"/>
            <a:ext cx="136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860640" y="2052720"/>
            <a:ext cx="1916280" cy="17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52720" y="1789200"/>
            <a:ext cx="114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65440" y="37051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160680" y="2703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08120" y="2031840"/>
            <a:ext cx="4081680" cy="1748160"/>
          </a:xfrm>
          <a:custGeom>
            <a:avLst/>
            <a:gdLst/>
            <a:ahLst/>
            <a:rect l="l" t="t" r="r" b="b"/>
            <a:pathLst>
              <a:path w="1431" h="586">
                <a:moveTo>
                  <a:pt x="0" y="7"/>
                </a:moveTo>
                <a:cubicBezTo>
                  <a:pt x="105" y="4"/>
                  <a:pt x="207" y="0"/>
                  <a:pt x="285" y="7"/>
                </a:cubicBezTo>
                <a:cubicBezTo>
                  <a:pt x="363" y="14"/>
                  <a:pt x="419" y="33"/>
                  <a:pt x="471" y="52"/>
                </a:cubicBezTo>
                <a:cubicBezTo>
                  <a:pt x="523" y="71"/>
                  <a:pt x="552" y="90"/>
                  <a:pt x="597" y="121"/>
                </a:cubicBezTo>
                <a:cubicBezTo>
                  <a:pt x="642" y="152"/>
                  <a:pt x="684" y="189"/>
                  <a:pt x="744" y="241"/>
                </a:cubicBezTo>
                <a:cubicBezTo>
                  <a:pt x="804" y="293"/>
                  <a:pt x="899" y="382"/>
                  <a:pt x="960" y="433"/>
                </a:cubicBezTo>
                <a:cubicBezTo>
                  <a:pt x="1021" y="484"/>
                  <a:pt x="1053" y="523"/>
                  <a:pt x="1110" y="547"/>
                </a:cubicBezTo>
                <a:cubicBezTo>
                  <a:pt x="1167" y="571"/>
                  <a:pt x="1249" y="574"/>
                  <a:pt x="1302" y="580"/>
                </a:cubicBezTo>
                <a:cubicBezTo>
                  <a:pt x="1355" y="586"/>
                  <a:pt x="1409" y="582"/>
                  <a:pt x="1431" y="58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56920" y="207000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51280" y="2060640"/>
            <a:ext cx="0" cy="1755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51240" y="4603680"/>
            <a:ext cx="453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6160" y="435600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487600" y="4603680"/>
            <a:ext cx="3510000" cy="1305000"/>
          </a:xfrm>
          <a:custGeom>
            <a:avLst/>
            <a:gdLst/>
            <a:ahLst/>
            <a:rect l="l" t="t" r="r" b="b"/>
            <a:pathLst>
              <a:path w="2211" h="644">
                <a:moveTo>
                  <a:pt x="0" y="0"/>
                </a:moveTo>
                <a:lnTo>
                  <a:pt x="867" y="0"/>
                </a:lnTo>
                <a:lnTo>
                  <a:pt x="867" y="633"/>
                </a:lnTo>
                <a:lnTo>
                  <a:pt x="2211" y="6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490840" y="4610160"/>
            <a:ext cx="3500280" cy="1270080"/>
          </a:xfrm>
          <a:custGeom>
            <a:avLst/>
            <a:gdLst/>
            <a:ahLst/>
            <a:rect l="l" t="t" r="r" b="b"/>
            <a:pathLst>
              <a:path w="2205" h="633">
                <a:moveTo>
                  <a:pt x="0" y="0"/>
                </a:moveTo>
                <a:cubicBezTo>
                  <a:pt x="122" y="7"/>
                  <a:pt x="274" y="30"/>
                  <a:pt x="390" y="66"/>
                </a:cubicBezTo>
                <a:cubicBezTo>
                  <a:pt x="506" y="102"/>
                  <a:pt x="617" y="175"/>
                  <a:pt x="696" y="216"/>
                </a:cubicBezTo>
                <a:cubicBezTo>
                  <a:pt x="775" y="257"/>
                  <a:pt x="809" y="281"/>
                  <a:pt x="867" y="315"/>
                </a:cubicBezTo>
                <a:cubicBezTo>
                  <a:pt x="925" y="349"/>
                  <a:pt x="951" y="383"/>
                  <a:pt x="1047" y="423"/>
                </a:cubicBezTo>
                <a:cubicBezTo>
                  <a:pt x="1143" y="463"/>
                  <a:pt x="1302" y="524"/>
                  <a:pt x="1440" y="555"/>
                </a:cubicBezTo>
                <a:cubicBezTo>
                  <a:pt x="1578" y="586"/>
                  <a:pt x="1751" y="596"/>
                  <a:pt x="1878" y="609"/>
                </a:cubicBezTo>
                <a:cubicBezTo>
                  <a:pt x="2005" y="622"/>
                  <a:pt x="2120" y="631"/>
                  <a:pt x="2205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848240" y="60800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292040" y="4246560"/>
            <a:ext cx="8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415960" y="5256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33120" y="1071720"/>
            <a:ext cx="76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4751280" y="1157400"/>
                <a:ext cx="328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+c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+as+b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c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4905360" y="3443400"/>
                <a:ext cx="2511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+ 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77" name=""/>
          <p:cNvSpPr/>
          <p:nvPr/>
        </p:nvSpPr>
        <p:spPr>
          <a:xfrm flipV="1">
            <a:off x="241776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17560" y="2232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412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03440" y="2003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17560" y="1622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17560" y="16225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969840" y="1546200"/>
            <a:ext cx="30348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00640" y="1989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0789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731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69120" y="1943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88040" y="1714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4084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321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321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322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41440" y="244620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23120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274760" y="1774800"/>
            <a:ext cx="152280" cy="609480"/>
            <a:chOff x="1274760" y="1774800"/>
            <a:chExt cx="152280" cy="609480"/>
          </a:xfrm>
        </p:grpSpPr>
        <p:sp>
          <p:nvSpPr>
            <p:cNvPr id="997" name=""/>
            <p:cNvSpPr/>
            <p:nvPr/>
          </p:nvSpPr>
          <p:spPr>
            <a:xfrm>
              <a:off x="13510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12747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510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2303640" y="1927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417760" y="2003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234144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2417760" y="2155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303640" y="2079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884240" y="162252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08280" y="24606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417760" y="1622520"/>
            <a:ext cx="99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6516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36120" y="1257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789360" y="1774800"/>
            <a:ext cx="152280" cy="609480"/>
            <a:chOff x="3789360" y="1774800"/>
            <a:chExt cx="152280" cy="609480"/>
          </a:xfrm>
        </p:grpSpPr>
        <p:sp>
          <p:nvSpPr>
            <p:cNvPr id="1011" name=""/>
            <p:cNvSpPr/>
            <p:nvPr/>
          </p:nvSpPr>
          <p:spPr>
            <a:xfrm>
              <a:off x="3865680" y="177480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789360" y="1774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65680" y="1774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180828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1494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301760" y="204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69640" y="1943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12840" y="204156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51280" y="1622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74960" y="244620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74960" y="192708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32000" y="1603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130560" y="1812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060000" y="1714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0336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9680" y="1469880"/>
            <a:ext cx="14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79680" y="1622520"/>
            <a:ext cx="304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06680" y="13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31960" y="1317600"/>
            <a:ext cx="1447920" cy="14479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246852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68320" y="396864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20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200" y="374004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68320" y="3359160"/>
            <a:ext cx="18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68320" y="335916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20600" y="3282840"/>
            <a:ext cx="30348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51760" y="372600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2968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1239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19880" y="3679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538800" y="345132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459240" y="335916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82920" y="418320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38292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392200" y="418320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28196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325520" y="3511440"/>
            <a:ext cx="152280" cy="609840"/>
            <a:chOff x="1325520" y="3511440"/>
            <a:chExt cx="152280" cy="609840"/>
          </a:xfrm>
        </p:grpSpPr>
        <p:sp>
          <p:nvSpPr>
            <p:cNvPr id="1048" name=""/>
            <p:cNvSpPr/>
            <p:nvPr/>
          </p:nvSpPr>
          <p:spPr>
            <a:xfrm>
              <a:off x="14018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3255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018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 flipV="1">
            <a:off x="1935000" y="3359160"/>
            <a:ext cx="180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5904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68520" y="3359160"/>
            <a:ext cx="838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1628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339360" y="29941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3840120" y="3511440"/>
            <a:ext cx="152280" cy="609840"/>
            <a:chOff x="3840120" y="3511440"/>
            <a:chExt cx="152280" cy="609840"/>
          </a:xfrm>
        </p:grpSpPr>
        <p:sp>
          <p:nvSpPr>
            <p:cNvPr id="1057" name=""/>
            <p:cNvSpPr/>
            <p:nvPr/>
          </p:nvSpPr>
          <p:spPr>
            <a:xfrm>
              <a:off x="3916440" y="351144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3840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916440" y="351144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1859040" y="366408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0024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352520" y="3778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120400" y="367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163600" y="3778200"/>
            <a:ext cx="98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82760" y="33400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76760" y="3168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06200" y="3070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0660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206880"/>
            <a:ext cx="18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382920" y="3359160"/>
            <a:ext cx="7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09920" y="3092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82720" y="3054240"/>
            <a:ext cx="1447920" cy="1219320"/>
          </a:xfrm>
          <a:prstGeom prst="rect">
            <a:avLst/>
          </a:pr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97120" y="328284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54400" y="3664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51960" y="364968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620800" y="3511440"/>
            <a:ext cx="152640" cy="609840"/>
            <a:chOff x="2620800" y="3511440"/>
            <a:chExt cx="152640" cy="609840"/>
          </a:xfrm>
        </p:grpSpPr>
        <p:sp>
          <p:nvSpPr>
            <p:cNvPr id="1077" name=""/>
            <p:cNvSpPr/>
            <p:nvPr/>
          </p:nvSpPr>
          <p:spPr>
            <a:xfrm>
              <a:off x="2697120" y="351144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262080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97120" y="351144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 flipV="1">
            <a:off x="2467080" y="491616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66880" y="55260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0560" y="57405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2400" y="52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866880" y="4916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66880" y="4916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019160" y="4840200"/>
            <a:ext cx="30312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9960" y="528336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128240" y="4551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1224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1844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070880" y="5008680"/>
            <a:ext cx="1591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909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146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146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51468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352600" y="522144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67080" y="52974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flipV="1">
            <a:off x="2390760" y="544968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2467080" y="544968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352600" y="5373720"/>
            <a:ext cx="22860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9335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67080" y="491652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4480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4371840" y="5068800"/>
            <a:ext cx="152640" cy="609840"/>
            <a:chOff x="4371840" y="5068800"/>
            <a:chExt cx="152640" cy="609840"/>
          </a:xfrm>
        </p:grpSpPr>
        <p:sp>
          <p:nvSpPr>
            <p:cNvPr id="1106" name=""/>
            <p:cNvSpPr/>
            <p:nvPr/>
          </p:nvSpPr>
          <p:spPr>
            <a:xfrm>
              <a:off x="4448160" y="5068800"/>
              <a:ext cx="144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3718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44816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572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98800" y="4649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655640" y="53355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53376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457440" y="52214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80960" y="4897440"/>
            <a:ext cx="4320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13760" y="51069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642840" y="5008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05200" y="489744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924280" y="4916520"/>
            <a:ext cx="14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847960" y="5221440"/>
            <a:ext cx="1522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457440" y="5740560"/>
            <a:ext cx="152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933560" y="5754600"/>
            <a:ext cx="99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90760" y="5907240"/>
            <a:ext cx="1522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3907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24280" y="57546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71640" y="5983200"/>
            <a:ext cx="3049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71640" y="6059520"/>
            <a:ext cx="304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924280" y="60595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847960" y="64263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85080" y="5237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1628640" y="4840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1628640" y="49165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61760" y="46274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65480" y="472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1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95280" y="462744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103560" y="50306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032640" y="4932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05200" y="5735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771640" y="5221440"/>
            <a:ext cx="304920" cy="30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80520" y="5237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1323720" y="5068800"/>
            <a:ext cx="152640" cy="609840"/>
            <a:chOff x="1323720" y="5068800"/>
            <a:chExt cx="152640" cy="609840"/>
          </a:xfrm>
        </p:grpSpPr>
        <p:sp>
          <p:nvSpPr>
            <p:cNvPr id="1142" name=""/>
            <p:cNvSpPr/>
            <p:nvPr/>
          </p:nvSpPr>
          <p:spPr>
            <a:xfrm>
              <a:off x="1400040" y="5068800"/>
              <a:ext cx="180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1323720" y="5068800"/>
              <a:ext cx="759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00040" y="506880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1351080" y="5335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14040" y="59990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857240" y="5830920"/>
            <a:ext cx="152640" cy="609480"/>
            <a:chOff x="1857240" y="5830920"/>
            <a:chExt cx="152640" cy="609480"/>
          </a:xfrm>
        </p:grpSpPr>
        <p:sp>
          <p:nvSpPr>
            <p:cNvPr id="1148" name=""/>
            <p:cNvSpPr/>
            <p:nvPr/>
          </p:nvSpPr>
          <p:spPr>
            <a:xfrm>
              <a:off x="1933560" y="58309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85724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33560" y="5830920"/>
              <a:ext cx="763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1884600" y="6097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949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2658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09320" y="59230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180240" y="6021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949560" y="2746440"/>
            <a:ext cx="50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w. o stałych czasowych zwarciow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78800" y="186696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131360" y="35956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31120" y="5183280"/>
            <a:ext cx="3193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dolna (wzmacniacza O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700360" y="1752480"/>
                <a:ext cx="312588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+ 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3281400" y="3722760"/>
                <a:ext cx="2367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©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e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618000" y="5000760"/>
                <a:ext cx="1825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konfiguracje pracy elementów aktyw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7360" y="1216080"/>
            <a:ext cx="8397720" cy="491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JEDYNCZE TRANZY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wspólnego emitera (źródł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Układ wspólnego kolektora ( dr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Układ wspólnej bazy (bramk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Układ o podstawie pośredniej z rezystorem emite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ub źródł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Y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Układ 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spólny emiter-wspólna baza: KAS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Wspólny kolektor-wspólna 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07120" y="5407200"/>
            <a:ext cx="311040" cy="642600"/>
          </a:xfrm>
          <a:custGeom>
            <a:avLst/>
            <a:gdLst>
              <a:gd name="textAreaLeft" fmla="*/ 0 w 311040"/>
              <a:gd name="textAreaRight" fmla="*/ 112320 w 311040"/>
              <a:gd name="textAreaTop" fmla="*/ 16560 h 642600"/>
              <a:gd name="textAreaBottom" fmla="*/ 626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7"/>
                </a:lnTo>
                <a:cubicBezTo>
                  <a:pt x="10800" y="9927"/>
                  <a:pt x="16200" y="10827"/>
                  <a:pt x="21600" y="10827"/>
                </a:cubicBezTo>
                <a:cubicBezTo>
                  <a:pt x="16200" y="10827"/>
                  <a:pt x="10800" y="11727"/>
                  <a:pt x="10800" y="1262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02400" y="5327640"/>
            <a:ext cx="2079720" cy="70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zmacniacze szerokopas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3191040" y="1682640"/>
            <a:ext cx="866520" cy="399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38440" y="2003400"/>
            <a:ext cx="1800" cy="297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3825360" y="3133800"/>
            <a:ext cx="866880" cy="567720"/>
            <a:chOff x="3825360" y="3133800"/>
            <a:chExt cx="866880" cy="567720"/>
          </a:xfrm>
        </p:grpSpPr>
        <p:sp>
          <p:nvSpPr>
            <p:cNvPr id="1168" name=""/>
            <p:cNvSpPr/>
            <p:nvPr/>
          </p:nvSpPr>
          <p:spPr>
            <a:xfrm>
              <a:off x="4402800" y="3133800"/>
              <a:ext cx="1800" cy="56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4402800" y="3133800"/>
              <a:ext cx="288000" cy="28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02800" y="3417480"/>
              <a:ext cx="288000" cy="28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690800" y="3558960"/>
              <a:ext cx="1440" cy="14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547520" y="3699720"/>
              <a:ext cx="142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825360" y="3417480"/>
              <a:ext cx="577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4691160" y="2003400"/>
            <a:ext cx="3240" cy="1139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4690800" y="3699000"/>
            <a:ext cx="3240" cy="88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91160" y="4513320"/>
            <a:ext cx="1440" cy="423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54824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835520" y="1390680"/>
            <a:ext cx="398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67520" y="1655640"/>
            <a:ext cx="25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57720" y="2496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11480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5444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91160" y="3835440"/>
            <a:ext cx="576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63560" y="4549680"/>
            <a:ext cx="1800" cy="424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521000" y="498168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394080" y="2286000"/>
            <a:ext cx="2890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394080" y="3983040"/>
            <a:ext cx="289080" cy="56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41680" y="2003400"/>
            <a:ext cx="1438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943520" y="1968480"/>
            <a:ext cx="81000" cy="7956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5267160" y="3538440"/>
            <a:ext cx="145800" cy="564840"/>
            <a:chOff x="5267160" y="3538440"/>
            <a:chExt cx="145800" cy="564840"/>
          </a:xfrm>
        </p:grpSpPr>
        <p:sp>
          <p:nvSpPr>
            <p:cNvPr id="1191" name=""/>
            <p:cNvSpPr/>
            <p:nvPr/>
          </p:nvSpPr>
          <p:spPr>
            <a:xfrm>
              <a:off x="5267160" y="353844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1160" y="353844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2960640" y="3133800"/>
            <a:ext cx="145800" cy="564840"/>
            <a:chOff x="2960640" y="3133800"/>
            <a:chExt cx="145800" cy="564840"/>
          </a:xfrm>
        </p:grpSpPr>
        <p:sp>
          <p:nvSpPr>
            <p:cNvPr id="1194" name=""/>
            <p:cNvSpPr/>
            <p:nvPr/>
          </p:nvSpPr>
          <p:spPr>
            <a:xfrm>
              <a:off x="2960640" y="3133800"/>
              <a:ext cx="180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05000" y="3133800"/>
              <a:ext cx="1440" cy="5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105000" y="3417840"/>
            <a:ext cx="865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411880" y="3822840"/>
            <a:ext cx="619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19920" y="3822840"/>
            <a:ext cx="4680" cy="1106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548240" y="4124160"/>
            <a:ext cx="28728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394080" y="4946760"/>
            <a:ext cx="2890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49360" y="4124160"/>
            <a:ext cx="432000" cy="4255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1663560" y="3417840"/>
            <a:ext cx="1800" cy="706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1663200" y="3417840"/>
            <a:ext cx="12970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952640" y="3274920"/>
            <a:ext cx="5745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537920" y="409572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673360" y="2568600"/>
            <a:ext cx="1440" cy="2970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07080" y="2249640"/>
            <a:ext cx="1440" cy="3252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69880" y="51958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ciążen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96000" y="5313240"/>
            <a:ext cx="171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źródło sygnał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22800" y="4336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979880" y="415440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35320" y="2921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097000" y="27399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052440" y="407340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105000" y="249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60640" y="23144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29080" y="429084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66760" y="273996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178240" y="3127320"/>
            <a:ext cx="27792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096640" y="4194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952280" y="4011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502080" y="338148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845320" y="4946760"/>
            <a:ext cx="28728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276600" y="3909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132240" y="37306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41840" y="3789360"/>
            <a:ext cx="81000" cy="79200"/>
          </a:xfrm>
          <a:prstGeom prst="ellipse">
            <a:avLst/>
          </a:prstGeom>
          <a:solidFill>
            <a:srgbClr val="00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861160" y="4138560"/>
            <a:ext cx="290520" cy="56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89720" y="5610240"/>
            <a:ext cx="554040" cy="57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5197320" y="4351320"/>
                <a:ext cx="15210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1" name=""/>
          <p:cNvSpPr/>
          <p:nvPr/>
        </p:nvSpPr>
        <p:spPr>
          <a:xfrm flipV="1">
            <a:off x="2084400" y="4059000"/>
            <a:ext cx="144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88840" y="4794120"/>
            <a:ext cx="1800" cy="276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990800" y="4425840"/>
            <a:ext cx="18576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97040" y="5052960"/>
            <a:ext cx="182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0960" y="4519440"/>
            <a:ext cx="27468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888840" y="4059360"/>
            <a:ext cx="1800" cy="46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88840" y="4059360"/>
            <a:ext cx="2114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071720" y="396720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07480" y="45007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254960" y="3738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63520" y="3619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359080" y="4564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68360" y="4444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163160" y="4564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071360" y="44449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60640" y="4037040"/>
            <a:ext cx="5220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03480" y="4059360"/>
            <a:ext cx="1800" cy="101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911320" y="505296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992240" y="5052960"/>
            <a:ext cx="184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09880" y="4425840"/>
            <a:ext cx="187200" cy="37008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 flipV="1">
            <a:off x="1807920" y="3967200"/>
            <a:ext cx="9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1807920" y="4059360"/>
            <a:ext cx="91800" cy="9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807200" y="3711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899720" y="3828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68000" y="36194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358000" y="3738600"/>
            <a:ext cx="23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b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66920" y="3967200"/>
            <a:ext cx="368280" cy="185760"/>
          </a:xfrm>
          <a:prstGeom prst="rect">
            <a:avLst/>
          </a:prstGeom>
          <a:solidFill>
            <a:srgbClr val="ffffff"/>
          </a:solidFill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42680" y="444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634840" y="45640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79600" y="45370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03480" y="4059360"/>
            <a:ext cx="628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648240" y="4059360"/>
            <a:ext cx="1440" cy="46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463920" y="4519440"/>
            <a:ext cx="3668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463920" y="4610160"/>
            <a:ext cx="366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648240" y="461016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56080" y="5070600"/>
            <a:ext cx="182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981160" y="4037040"/>
            <a:ext cx="51120" cy="5076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60640" y="4525920"/>
            <a:ext cx="4352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398760" y="934920"/>
            <a:ext cx="0" cy="4702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85320" y="5059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3138480" y="53290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8920" y="3614760"/>
            <a:ext cx="3030480" cy="193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3790800" y="5618160"/>
                <a:ext cx="4395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o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750960" y="5595840"/>
                <a:ext cx="25812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75" name=""/>
          <p:cNvGrpSpPr/>
          <p:nvPr/>
        </p:nvGrpSpPr>
        <p:grpSpPr>
          <a:xfrm>
            <a:off x="817560" y="992160"/>
            <a:ext cx="7075080" cy="2673360"/>
            <a:chOff x="817560" y="992160"/>
            <a:chExt cx="7075080" cy="2673360"/>
          </a:xfrm>
        </p:grpSpPr>
        <p:sp>
          <p:nvSpPr>
            <p:cNvPr id="1276" name=""/>
            <p:cNvSpPr/>
            <p:nvPr/>
          </p:nvSpPr>
          <p:spPr>
            <a:xfrm flipV="1">
              <a:off x="493560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98800" y="2797200"/>
              <a:ext cx="270000" cy="263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3048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54000" y="2971800"/>
              <a:ext cx="1440" cy="26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036520" y="2619360"/>
              <a:ext cx="1843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63640" y="3220920"/>
              <a:ext cx="1792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7560" y="2709720"/>
              <a:ext cx="269640" cy="26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954000" y="22683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54000" y="2268360"/>
              <a:ext cx="2079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280" y="2179440"/>
              <a:ext cx="36216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72640" y="2690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13640" y="1960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224000" y="1846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00120" y="2751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11200" y="2638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223280" y="2751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133280" y="2638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06720" y="2246400"/>
              <a:ext cx="507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03372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4300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038320" y="3220920"/>
              <a:ext cx="1825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41560" y="2619360"/>
              <a:ext cx="1843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3936600" y="1654200"/>
              <a:ext cx="995400" cy="177840"/>
              <a:chOff x="3936600" y="1654200"/>
              <a:chExt cx="995400" cy="177840"/>
            </a:xfrm>
          </p:grpSpPr>
          <p:sp>
            <p:nvSpPr>
              <p:cNvPr id="1299" name=""/>
              <p:cNvSpPr/>
              <p:nvPr/>
            </p:nvSpPr>
            <p:spPr>
              <a:xfrm flipH="1" flipV="1">
                <a:off x="3936600" y="1742760"/>
                <a:ext cx="99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6200000">
                <a:off x="4390920" y="1561320"/>
                <a:ext cx="177840" cy="363600"/>
              </a:xfrm>
              <a:prstGeom prst="rect">
                <a:avLst/>
              </a:prstGeom>
              <a:solidFill>
                <a:srgbClr val="ffffff"/>
              </a:solidFill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6383160" y="2489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92800" y="237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0244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11172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10280" y="2619360"/>
              <a:ext cx="1825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09680" y="2685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09040" y="276048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178320" y="2246400"/>
              <a:ext cx="5112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935600" y="2268360"/>
              <a:ext cx="1989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24600" y="2268360"/>
              <a:ext cx="144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34240" y="3220920"/>
              <a:ext cx="18072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844880" y="3220920"/>
              <a:ext cx="1810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34240" y="2619360"/>
              <a:ext cx="182520" cy="3538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18280" y="2620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08280" y="2735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7454880" y="2427120"/>
              <a:ext cx="181080" cy="704880"/>
              <a:chOff x="7454880" y="2427120"/>
              <a:chExt cx="181080" cy="704880"/>
            </a:xfrm>
          </p:grpSpPr>
          <p:sp>
            <p:nvSpPr>
              <p:cNvPr id="1317" name=""/>
              <p:cNvSpPr/>
              <p:nvPr/>
            </p:nvSpPr>
            <p:spPr>
              <a:xfrm>
                <a:off x="7545600" y="2427120"/>
                <a:ext cx="1080" cy="704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7454880" y="2427120"/>
                <a:ext cx="9072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545600" y="2427120"/>
                <a:ext cx="9036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7104960" y="2224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14960" y="210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911480" y="2246400"/>
              <a:ext cx="5112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797360" y="2619360"/>
              <a:ext cx="272880" cy="266760"/>
            </a:xfrm>
            <a:prstGeom prst="ellipse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4844520" y="2709720"/>
              <a:ext cx="181440" cy="262080"/>
              <a:chOff x="4844520" y="2709720"/>
              <a:chExt cx="181440" cy="262080"/>
            </a:xfrm>
          </p:grpSpPr>
          <p:sp>
            <p:nvSpPr>
              <p:cNvPr id="1325" name=""/>
              <p:cNvSpPr/>
              <p:nvPr/>
            </p:nvSpPr>
            <p:spPr>
              <a:xfrm flipV="1">
                <a:off x="4935240" y="2709720"/>
                <a:ext cx="1440" cy="262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6" name=""/>
              <p:cNvGrpSpPr/>
              <p:nvPr/>
            </p:nvGrpSpPr>
            <p:grpSpPr>
              <a:xfrm>
                <a:off x="4844520" y="2710080"/>
                <a:ext cx="181440" cy="87840"/>
                <a:chOff x="4844520" y="2710080"/>
                <a:chExt cx="181440" cy="87840"/>
              </a:xfrm>
            </p:grpSpPr>
            <p:sp>
              <p:nvSpPr>
                <p:cNvPr id="1327" name=""/>
                <p:cNvSpPr/>
                <p:nvPr/>
              </p:nvSpPr>
              <p:spPr>
                <a:xfrm flipH="1">
                  <a:off x="4844520" y="2710080"/>
                  <a:ext cx="90360" cy="87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935240" y="2710080"/>
                  <a:ext cx="90720" cy="87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9" name=""/>
            <p:cNvSpPr/>
            <p:nvPr/>
          </p:nvSpPr>
          <p:spPr>
            <a:xfrm>
              <a:off x="4797360" y="2795400"/>
              <a:ext cx="272880" cy="26676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 flipV="1">
              <a:off x="1857240" y="2179080"/>
              <a:ext cx="90720" cy="88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57240" y="2268360"/>
              <a:ext cx="90720" cy="87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856520" y="1935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47240" y="2047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310840" y="18460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99400" y="196056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b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09760" y="2179440"/>
              <a:ext cx="361800" cy="17784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580480" y="263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670480" y="275112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238560" y="2676600"/>
              <a:ext cx="261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pl-PL" sz="1400" spc="-1" strike="noStrike" baseline="-25000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79960" y="3031920"/>
              <a:ext cx="634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pl-PL" sz="1800" spc="-1" strike="noStrike" baseline="-25000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033720" y="2268360"/>
              <a:ext cx="153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68760" y="226836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87680" y="2709720"/>
              <a:ext cx="360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87680" y="2795400"/>
              <a:ext cx="36036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668760" y="2795400"/>
              <a:ext cx="144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578040" y="3236760"/>
              <a:ext cx="17964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572000" y="2093760"/>
              <a:ext cx="1440" cy="351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664160" y="2093760"/>
              <a:ext cx="1440" cy="351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64160" y="2268360"/>
              <a:ext cx="271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011400" y="2246400"/>
              <a:ext cx="507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645000" y="2246400"/>
              <a:ext cx="48960" cy="489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78280" y="2714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967560" y="2828880"/>
              <a:ext cx="22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6640" y="1935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203000" y="204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940280" y="1738440"/>
              <a:ext cx="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672000" y="1744200"/>
              <a:ext cx="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671640" y="174456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304520" y="128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394880" y="140184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’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610080" y="135108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30600" y="17193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68560" y="992160"/>
              <a:ext cx="3506760" cy="1168560"/>
            </a:xfrm>
            <a:custGeom>
              <a:avLst/>
              <a:gdLst/>
              <a:ahLst/>
              <a:rect l="l" t="t" r="r" b="b"/>
              <a:pathLst>
                <a:path w="2245" h="768">
                  <a:moveTo>
                    <a:pt x="0" y="702"/>
                  </a:moveTo>
                  <a:cubicBezTo>
                    <a:pt x="5" y="518"/>
                    <a:pt x="11" y="335"/>
                    <a:pt x="89" y="224"/>
                  </a:cubicBezTo>
                  <a:cubicBezTo>
                    <a:pt x="167" y="113"/>
                    <a:pt x="304" y="70"/>
                    <a:pt x="467" y="35"/>
                  </a:cubicBezTo>
                  <a:cubicBezTo>
                    <a:pt x="630" y="0"/>
                    <a:pt x="860" y="9"/>
                    <a:pt x="1067" y="13"/>
                  </a:cubicBezTo>
                  <a:cubicBezTo>
                    <a:pt x="1274" y="17"/>
                    <a:pt x="1557" y="0"/>
                    <a:pt x="1711" y="57"/>
                  </a:cubicBezTo>
                  <a:cubicBezTo>
                    <a:pt x="1865" y="114"/>
                    <a:pt x="1900" y="239"/>
                    <a:pt x="1989" y="357"/>
                  </a:cubicBezTo>
                  <a:cubicBezTo>
                    <a:pt x="2078" y="475"/>
                    <a:pt x="2192" y="683"/>
                    <a:pt x="2245" y="768"/>
                  </a:cubicBezTo>
                </a:path>
              </a:pathLst>
            </a:custGeom>
            <a:noFill/>
            <a:ln w="38160">
              <a:solidFill>
                <a:srgbClr val="66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624280" y="1254240"/>
              <a:ext cx="62712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3333cc"/>
                  </a:solidFill>
                  <a:latin typeface="Times New Roman"/>
                </a:rPr>
                <a:t>Ku</a:t>
              </a:r>
              <a:r>
                <a:rPr b="1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866960" y="1663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99080" y="2270160"/>
              <a:ext cx="1440" cy="10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05480" y="2636640"/>
              <a:ext cx="185760" cy="370080"/>
            </a:xfrm>
            <a:prstGeom prst="rect">
              <a:avLst/>
            </a:prstGeom>
            <a:solidFill>
              <a:srgbClr val="ffffff"/>
            </a:solidFill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99000" y="3249720"/>
              <a:ext cx="18432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68840" y="2230560"/>
              <a:ext cx="52560" cy="507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62400" y="1833480"/>
              <a:ext cx="2632320" cy="1832040"/>
            </a:xfrm>
            <a:prstGeom prst="ellipse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54720" y="1576440"/>
              <a:ext cx="63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G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ć górna wzmacniacza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838960" y="2503440"/>
            <a:ext cx="2725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 OB</a:t>
            </a:r>
            <a:r>
              <a:rPr b="0" lang="pl-PL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O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63400" y="45626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ENTA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go emitera -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86040" y="3668400"/>
            <a:ext cx="6854040" cy="2978640"/>
            <a:chOff x="1886040" y="3668400"/>
            <a:chExt cx="6854040" cy="2978640"/>
          </a:xfrm>
        </p:grpSpPr>
        <p:sp>
          <p:nvSpPr>
            <p:cNvPr id="48" name=""/>
            <p:cNvSpPr/>
            <p:nvPr/>
          </p:nvSpPr>
          <p:spPr>
            <a:xfrm>
              <a:off x="4948200" y="4802040"/>
              <a:ext cx="193680" cy="570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6200000">
              <a:off x="4041720" y="4263480"/>
              <a:ext cx="190440" cy="581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7002360" y="4695840"/>
              <a:ext cx="456480" cy="771120"/>
              <a:chOff x="7002360" y="4695840"/>
              <a:chExt cx="456480" cy="771120"/>
            </a:xfrm>
          </p:grpSpPr>
          <p:sp>
            <p:nvSpPr>
              <p:cNvPr id="51" name=""/>
              <p:cNvSpPr/>
              <p:nvPr/>
            </p:nvSpPr>
            <p:spPr>
              <a:xfrm>
                <a:off x="7002360" y="469584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14240" y="4973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54360" y="48848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315040" y="4960800"/>
              <a:ext cx="353520" cy="87120"/>
              <a:chOff x="5315040" y="4960800"/>
              <a:chExt cx="353520" cy="87120"/>
            </a:xfrm>
          </p:grpSpPr>
          <p:sp>
            <p:nvSpPr>
              <p:cNvPr id="55" name=""/>
              <p:cNvSpPr/>
              <p:nvPr/>
            </p:nvSpPr>
            <p:spPr>
              <a:xfrm>
                <a:off x="5321880" y="4960800"/>
                <a:ext cx="34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15040" y="5047920"/>
                <a:ext cx="346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5981760" y="4406760"/>
              <a:ext cx="88560" cy="349200"/>
              <a:chOff x="5981760" y="4406760"/>
              <a:chExt cx="88560" cy="34920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5981760" y="4406760"/>
                <a:ext cx="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6070320" y="4413600"/>
                <a:ext cx="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3481560" y="45608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29080" y="45799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49720" y="457956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495760" y="45799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49720" y="53769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14840" y="505476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49720" y="5737320"/>
              <a:ext cx="31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75360" y="4599000"/>
              <a:ext cx="21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56520" y="459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37440" y="54720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15000" y="4327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56680" y="4309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64440" y="5505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18480" y="4908600"/>
              <a:ext cx="193680" cy="571320"/>
            </a:xfrm>
            <a:prstGeom prst="rect">
              <a:avLst/>
            </a:pr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915320" y="4599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4400" y="54720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3360" y="390996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12720" y="489744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4240" y="487836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54760" y="3890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77040" y="480384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519000" y="4712760"/>
              <a:ext cx="155880" cy="123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0" y="512460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778280" y="48272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96560" y="3909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0560" y="5697360"/>
              <a:ext cx="8244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74080" y="5665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96240" y="5676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00760" y="45180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16920" y="4568760"/>
              <a:ext cx="806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85080" y="454824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6149880" y="3471480"/>
              <a:ext cx="189000" cy="582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495760" y="372600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5760" y="374328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256520" y="3742920"/>
              <a:ext cx="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40480" y="374328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5000" y="4549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32240" y="5724360"/>
                  <a:ext cx="123840" cy="2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5097600" y="6060960"/>
                  <a:ext cx="3352680" cy="58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3500280" y="4560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89400" y="39672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886040" y="4457880"/>
              <a:ext cx="1077840" cy="1329480"/>
              <a:chOff x="1886040" y="4457880"/>
              <a:chExt cx="1077840" cy="1329480"/>
            </a:xfrm>
          </p:grpSpPr>
          <p:sp>
            <p:nvSpPr>
              <p:cNvPr id="102" name=""/>
              <p:cNvSpPr/>
              <p:nvPr/>
            </p:nvSpPr>
            <p:spPr>
              <a:xfrm>
                <a:off x="2095200" y="451692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95200" y="578520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50360" y="464616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095200" y="450324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6200000">
                <a:off x="2402280" y="432936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86040" y="488268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095200" y="493884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39200" y="518148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493560" y="853920"/>
            <a:ext cx="4944600" cy="2800440"/>
            <a:chOff x="493560" y="853920"/>
            <a:chExt cx="4944600" cy="2800440"/>
          </a:xfrm>
        </p:grpSpPr>
        <p:sp>
          <p:nvSpPr>
            <p:cNvPr id="111" name=""/>
            <p:cNvSpPr/>
            <p:nvPr/>
          </p:nvSpPr>
          <p:spPr>
            <a:xfrm>
              <a:off x="2495520" y="1844640"/>
              <a:ext cx="583920" cy="370080"/>
            </a:xfrm>
            <a:prstGeom prst="rect">
              <a:avLst/>
            </a:prstGeom>
            <a:noFill/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65360" y="2952720"/>
              <a:ext cx="433440" cy="372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160" y="30002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21680" y="3116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96800" y="1103400"/>
              <a:ext cx="203400" cy="52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98680" y="90648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98680" y="1612800"/>
              <a:ext cx="144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70040" y="1214280"/>
              <a:ext cx="4366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160" y="1260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1680" y="137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6720" y="2860560"/>
              <a:ext cx="201600" cy="522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8240" y="266400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08240" y="3370320"/>
              <a:ext cx="144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92200" y="294480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50800" y="853920"/>
              <a:ext cx="842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07840" y="3127320"/>
              <a:ext cx="35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507840" y="3254400"/>
              <a:ext cx="35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681000" y="2679840"/>
              <a:ext cx="612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1360" y="3271680"/>
              <a:ext cx="61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95480" y="2727360"/>
              <a:ext cx="434880" cy="371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19160" y="2844720"/>
              <a:ext cx="2080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00280" y="1944720"/>
              <a:ext cx="608040" cy="584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4240" y="2065320"/>
              <a:ext cx="7920" cy="33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809800" y="2012760"/>
              <a:ext cx="298440" cy="12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809800" y="2281320"/>
              <a:ext cx="183600" cy="120240"/>
              <a:chOff x="2809800" y="2281320"/>
              <a:chExt cx="183600" cy="120240"/>
            </a:xfrm>
          </p:grpSpPr>
          <p:sp>
            <p:nvSpPr>
              <p:cNvPr id="136" name=""/>
              <p:cNvSpPr/>
              <p:nvPr/>
            </p:nvSpPr>
            <p:spPr>
              <a:xfrm>
                <a:off x="2809800" y="2304360"/>
                <a:ext cx="183600" cy="9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45080" y="2281320"/>
                <a:ext cx="148320" cy="12024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993760" y="2397240"/>
              <a:ext cx="11448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599920" y="2239920"/>
              <a:ext cx="191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108240" y="1798200"/>
              <a:ext cx="14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98680" y="2239920"/>
              <a:ext cx="209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08240" y="244944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06720" y="1087560"/>
              <a:ext cx="201600" cy="520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08240" y="882720"/>
              <a:ext cx="144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8240" y="1596960"/>
              <a:ext cx="144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3120" y="1195560"/>
              <a:ext cx="436680" cy="3729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56640" y="1243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10720" y="13590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96800" y="2843280"/>
              <a:ext cx="2034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98680" y="1828800"/>
              <a:ext cx="144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98680" y="3346560"/>
              <a:ext cx="144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71520" y="3608280"/>
              <a:ext cx="270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1520" y="888840"/>
              <a:ext cx="266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9400" y="2679840"/>
              <a:ext cx="56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83080" y="214308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3440" y="2211480"/>
              <a:ext cx="208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83080" y="196848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3440" y="2043000"/>
              <a:ext cx="208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2211480"/>
              <a:ext cx="1440" cy="13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888840"/>
              <a:ext cx="14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8920" y="8539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19520" y="853920"/>
              <a:ext cx="842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8920" y="264636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50800" y="356868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58920" y="356868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46440" y="3568680"/>
              <a:ext cx="824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19520" y="356868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13000" y="1927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66000" y="20430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44800" y="1521000"/>
              <a:ext cx="357120" cy="353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3360" y="15685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7520" y="2281320"/>
              <a:ext cx="358560" cy="353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0640" y="23144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52600" y="2174760"/>
              <a:ext cx="8244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68400" y="2209680"/>
              <a:ext cx="369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93560" y="2131920"/>
              <a:ext cx="1025280" cy="1454040"/>
              <a:chOff x="493560" y="2131920"/>
              <a:chExt cx="1025280" cy="1454040"/>
            </a:xfrm>
          </p:grpSpPr>
          <p:sp>
            <p:nvSpPr>
              <p:cNvPr id="177" name=""/>
              <p:cNvSpPr/>
              <p:nvPr/>
            </p:nvSpPr>
            <p:spPr>
              <a:xfrm>
                <a:off x="692280" y="2196360"/>
                <a:ext cx="82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2280" y="3583080"/>
                <a:ext cx="6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6640" y="23378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692280" y="2181960"/>
                <a:ext cx="0" cy="140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16200000">
                <a:off x="975600" y="2018520"/>
                <a:ext cx="138960" cy="365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3560" y="2596320"/>
                <a:ext cx="395280" cy="41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92280" y="26578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4760" y="292212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509640" y="1658880"/>
              <a:ext cx="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74800" y="1650960"/>
              <a:ext cx="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05000" y="181764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1798560"/>
              <a:ext cx="52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92480" y="1798200"/>
              <a:ext cx="0" cy="18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6800" y="2155680"/>
              <a:ext cx="201600" cy="520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7840" y="357984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62160" y="1763640"/>
              <a:ext cx="8424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2760" y="13017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894120" y="1387440"/>
                <a:ext cx="28735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22640" y="2465280"/>
                <a:ext cx="40212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167360" y="3468600"/>
                <a:ext cx="3990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191120" y="4640400"/>
                <a:ext cx="1266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735480" y="534816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765760" y="5207040"/>
                <a:ext cx="2459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11280" y="611496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65440" y="6153120"/>
                <a:ext cx="1587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wspólnego kolektora - OC: wtórnik emi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4960" y="1011240"/>
            <a:ext cx="4614840" cy="2788920"/>
            <a:chOff x="264960" y="1011240"/>
            <a:chExt cx="4614840" cy="2788920"/>
          </a:xfrm>
        </p:grpSpPr>
        <p:grpSp>
          <p:nvGrpSpPr>
            <p:cNvPr id="209" name=""/>
            <p:cNvGrpSpPr/>
            <p:nvPr/>
          </p:nvGrpSpPr>
          <p:grpSpPr>
            <a:xfrm>
              <a:off x="1420560" y="1011240"/>
              <a:ext cx="3459240" cy="2788920"/>
              <a:chOff x="1420560" y="1011240"/>
              <a:chExt cx="3459240" cy="2788920"/>
            </a:xfrm>
          </p:grpSpPr>
          <p:sp>
            <p:nvSpPr>
              <p:cNvPr id="210" name=""/>
              <p:cNvSpPr/>
              <p:nvPr/>
            </p:nvSpPr>
            <p:spPr>
              <a:xfrm>
                <a:off x="3365280" y="283824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503440" y="2833200"/>
                <a:ext cx="57636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49400" y="3109680"/>
                <a:ext cx="433440" cy="37296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50560" y="31572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06080" y="32731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81200" y="1260360"/>
                <a:ext cx="20304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82720" y="1063440"/>
                <a:ext cx="144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82720" y="1769760"/>
                <a:ext cx="144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54080" y="1371600"/>
                <a:ext cx="436680" cy="36972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50560" y="141732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06080" y="15332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90760" y="3017520"/>
                <a:ext cx="20160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92280" y="2820960"/>
                <a:ext cx="144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92280" y="3527280"/>
                <a:ext cx="144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7520" y="3127320"/>
                <a:ext cx="436320" cy="37152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1400" y="317340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95120" y="328896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35200" y="1011240"/>
                <a:ext cx="8388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349440" y="2474640"/>
                <a:ext cx="69552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4320" y="2101680"/>
                <a:ext cx="608040" cy="5842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68280" y="2222280"/>
                <a:ext cx="7920" cy="331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193840" y="2169720"/>
                <a:ext cx="298440" cy="129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193840" y="2438280"/>
                <a:ext cx="183600" cy="120240"/>
                <a:chOff x="2193840" y="2438280"/>
                <a:chExt cx="183600" cy="120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193840" y="2461320"/>
                  <a:ext cx="183600" cy="918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229120" y="2438280"/>
                  <a:ext cx="148320" cy="120240"/>
                </a:xfrm>
                <a:custGeom>
                  <a:avLst/>
                  <a:gdLst/>
                  <a:ahLst/>
                  <a:rect l="l" t="t" r="r" b="b"/>
                  <a:pathLst>
                    <a:path w="80" h="67">
                      <a:moveTo>
                        <a:pt x="0" y="67"/>
                      </a:moveTo>
                      <a:lnTo>
                        <a:pt x="80" y="64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205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2377800" y="2554200"/>
                <a:ext cx="11448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983960" y="2396880"/>
                <a:ext cx="191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492280" y="1955160"/>
                <a:ext cx="1440" cy="2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82720" y="2396880"/>
                <a:ext cx="209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2509560" y="2606400"/>
                <a:ext cx="180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87600" y="1011240"/>
                <a:ext cx="6120" cy="99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57520" y="1352520"/>
                <a:ext cx="436320" cy="37296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400" y="14000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95480" y="151596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81200" y="3000240"/>
                <a:ext cx="203040" cy="515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82720" y="1985760"/>
                <a:ext cx="1440" cy="10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82720" y="3503520"/>
                <a:ext cx="144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555560" y="3765240"/>
                <a:ext cx="2700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55560" y="1046160"/>
                <a:ext cx="2662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67120" y="2300040"/>
                <a:ext cx="36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57480" y="2368440"/>
                <a:ext cx="20808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67120" y="2125440"/>
                <a:ext cx="36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57480" y="2199960"/>
                <a:ext cx="208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52880" y="2368440"/>
                <a:ext cx="144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52880" y="1046160"/>
                <a:ext cx="1440" cy="10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42960" y="1011240"/>
                <a:ext cx="7776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03560" y="1011240"/>
                <a:ext cx="84240" cy="68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42960" y="2803320"/>
                <a:ext cx="7776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35200" y="3725640"/>
                <a:ext cx="8388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42960" y="3725640"/>
                <a:ext cx="7776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03560" y="372564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95520" y="2038320"/>
                <a:ext cx="584280" cy="369720"/>
              </a:xfrm>
              <a:prstGeom prst="rect">
                <a:avLst/>
              </a:prstGeom>
              <a:noFill/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97040" y="208404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0760" y="2199960"/>
                <a:ext cx="30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28840" y="1677960"/>
                <a:ext cx="357480" cy="35388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7040" y="1725480"/>
                <a:ext cx="130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11560" y="2438280"/>
                <a:ext cx="358560" cy="353880"/>
              </a:xfrm>
              <a:prstGeom prst="rect">
                <a:avLst/>
              </a:prstGeom>
              <a:solidFill>
                <a:srgbClr val="ffffff"/>
              </a:solidFill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37200" y="24714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3093840" y="2705040"/>
                <a:ext cx="57240" cy="263520"/>
                <a:chOff x="3093840" y="2705040"/>
                <a:chExt cx="57240" cy="263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093840" y="2705040"/>
                  <a:ext cx="0" cy="26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151080" y="2705040"/>
                  <a:ext cx="0" cy="26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163680" y="284292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36640" y="233496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20560" y="2385720"/>
                <a:ext cx="257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81400" y="3011400"/>
                <a:ext cx="193680" cy="569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17760" y="3706560"/>
                <a:ext cx="84240" cy="74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678120" y="2880720"/>
                <a:ext cx="0" cy="7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79560" y="3133440"/>
                <a:ext cx="439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64960" y="2308320"/>
              <a:ext cx="1025280" cy="1453320"/>
              <a:chOff x="264960" y="2308320"/>
              <a:chExt cx="1025280" cy="1453320"/>
            </a:xfrm>
          </p:grpSpPr>
          <p:sp>
            <p:nvSpPr>
              <p:cNvPr id="279" name=""/>
              <p:cNvSpPr/>
              <p:nvPr/>
            </p:nvSpPr>
            <p:spPr>
              <a:xfrm>
                <a:off x="463680" y="2372760"/>
                <a:ext cx="82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3680" y="3759120"/>
                <a:ext cx="6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08040" y="251424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463680" y="2358000"/>
                <a:ext cx="0" cy="14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16200000">
                <a:off x="747000" y="2194920"/>
                <a:ext cx="138960" cy="365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4960" y="2772720"/>
                <a:ext cx="395280" cy="414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63680" y="283392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6160" y="309816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1252440" y="3355920"/>
            <a:ext cx="7877160" cy="3502080"/>
            <a:chOff x="1252440" y="3355920"/>
            <a:chExt cx="7877160" cy="3502080"/>
          </a:xfrm>
        </p:grpSpPr>
        <p:sp>
          <p:nvSpPr>
            <p:cNvPr id="288" name=""/>
            <p:cNvSpPr/>
            <p:nvPr/>
          </p:nvSpPr>
          <p:spPr>
            <a:xfrm>
              <a:off x="4273560" y="5013360"/>
              <a:ext cx="193680" cy="569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3367080" y="4475160"/>
              <a:ext cx="190800" cy="581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327720" y="5184720"/>
              <a:ext cx="444600" cy="49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340320" y="4906800"/>
              <a:ext cx="444600" cy="493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580080" y="503532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6520" y="5172120"/>
              <a:ext cx="3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0400" y="5259240"/>
              <a:ext cx="34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305320" y="461592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394240" y="462240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6560" y="47721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4440" y="479124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375080" y="4791240"/>
              <a:ext cx="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821120" y="4790880"/>
              <a:ext cx="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5080" y="558792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0200" y="52657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11320" y="5948280"/>
              <a:ext cx="46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00720" y="4809960"/>
              <a:ext cx="21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1880" y="4809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62800" y="56833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40360" y="453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47120" y="4503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90160" y="5716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43840" y="51195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40680" y="4809600"/>
              <a:ext cx="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59760" y="56833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8720" y="4121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38080" y="51084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89600" y="5089680"/>
              <a:ext cx="769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80120" y="41022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54520" y="5121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051440" y="49496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20120" y="414036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95920" y="590868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9080" y="589608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21600" y="590724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25760" y="4729320"/>
              <a:ext cx="82800" cy="80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41920" y="47800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10440" y="47592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5475240" y="3682440"/>
              <a:ext cx="189000" cy="582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821120" y="3936600"/>
              <a:ext cx="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21120" y="39546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581880" y="395460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65840" y="3954600"/>
              <a:ext cx="73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0360" y="47610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657600" y="593568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3825720" y="6324480"/>
                  <a:ext cx="41418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β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"/>
            <p:cNvSpPr/>
            <p:nvPr/>
          </p:nvSpPr>
          <p:spPr>
            <a:xfrm>
              <a:off x="2825640" y="47721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14760" y="417816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90920" y="3355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840000" y="480852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67080" y="424008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8089560" y="4854240"/>
              <a:ext cx="456120" cy="1128960"/>
              <a:chOff x="8089560" y="4854240"/>
              <a:chExt cx="456120" cy="112896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8352000" y="5118120"/>
                <a:ext cx="193680" cy="56988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8461440" y="4854240"/>
                <a:ext cx="0" cy="26532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8089560" y="487224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1440" y="568800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8096040" y="595944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8578440" y="4503600"/>
              <a:ext cx="5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30800" y="5919840"/>
              <a:ext cx="8244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2440" y="4633920"/>
              <a:ext cx="1077840" cy="1329480"/>
              <a:chOff x="1252440" y="4633920"/>
              <a:chExt cx="1077840" cy="1329480"/>
            </a:xfrm>
          </p:grpSpPr>
          <p:sp>
            <p:nvSpPr>
              <p:cNvPr id="348" name=""/>
              <p:cNvSpPr/>
              <p:nvPr/>
            </p:nvSpPr>
            <p:spPr>
              <a:xfrm>
                <a:off x="1461600" y="4692960"/>
                <a:ext cx="8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461600" y="5961240"/>
                <a:ext cx="66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16760" y="4822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461600" y="467928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16200000">
                <a:off x="1768680" y="450540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52440" y="5058720"/>
                <a:ext cx="41544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461600" y="511488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5600" y="535752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606840" y="1387440"/>
                <a:ext cx="3448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≃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086360" y="2465280"/>
                <a:ext cx="38923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925800" y="3672000"/>
                <a:ext cx="4475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807000" y="4552920"/>
                <a:ext cx="47145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843520" y="5316480"/>
                <a:ext cx="24591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836880" y="6165720"/>
                <a:ext cx="1042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wspólnej bazy -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39560" y="950760"/>
            <a:ext cx="7299000" cy="2351160"/>
            <a:chOff x="439560" y="950760"/>
            <a:chExt cx="7299000" cy="2351160"/>
          </a:xfrm>
        </p:grpSpPr>
        <p:sp>
          <p:nvSpPr>
            <p:cNvPr id="371" name=""/>
            <p:cNvSpPr/>
            <p:nvPr/>
          </p:nvSpPr>
          <p:spPr>
            <a:xfrm flipH="1" flipV="1">
              <a:off x="2325240" y="1083960"/>
              <a:ext cx="6462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2009880" y="108756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3095640" y="1000440"/>
              <a:ext cx="608040" cy="584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3238200" y="1405080"/>
              <a:ext cx="33156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493440" y="1088640"/>
              <a:ext cx="129960" cy="29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235320" y="1203480"/>
              <a:ext cx="120240" cy="183600"/>
              <a:chOff x="3235320" y="1203480"/>
              <a:chExt cx="120240" cy="183600"/>
            </a:xfrm>
          </p:grpSpPr>
          <p:sp>
            <p:nvSpPr>
              <p:cNvPr id="377" name=""/>
              <p:cNvSpPr/>
              <p:nvPr/>
            </p:nvSpPr>
            <p:spPr>
              <a:xfrm flipH="1" flipV="1">
                <a:off x="3240720" y="1203480"/>
                <a:ext cx="91800" cy="18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5400000">
                <a:off x="3221280" y="1217520"/>
                <a:ext cx="148320" cy="12024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 flipH="1" flipV="1">
              <a:off x="3186000" y="1089000"/>
              <a:ext cx="52560" cy="114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394080" y="1405080"/>
              <a:ext cx="1440" cy="19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635280" y="1073160"/>
              <a:ext cx="19065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978280" y="1087560"/>
              <a:ext cx="209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5400000">
              <a:off x="4708440" y="106524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5400000">
              <a:off x="2586960" y="1064520"/>
              <a:ext cx="7776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593960" y="257796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665600" y="2646360"/>
              <a:ext cx="2080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593960" y="2403360"/>
              <a:ext cx="36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665600" y="2478240"/>
              <a:ext cx="208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133960" y="2298600"/>
              <a:ext cx="3175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839120" y="207972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860720" y="2749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2790720" y="2511000"/>
              <a:ext cx="263520" cy="57240"/>
              <a:chOff x="2790720" y="2511000"/>
              <a:chExt cx="263520" cy="5724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2790720" y="256824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2790720" y="2511000"/>
                <a:ext cx="26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773360" y="1979640"/>
              <a:ext cx="257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2279160" y="974880"/>
              <a:ext cx="57240" cy="263520"/>
              <a:chOff x="2279160" y="974880"/>
              <a:chExt cx="57240" cy="263520"/>
            </a:xfrm>
          </p:grpSpPr>
          <p:sp>
            <p:nvSpPr>
              <p:cNvPr id="397" name=""/>
              <p:cNvSpPr/>
              <p:nvPr/>
            </p:nvSpPr>
            <p:spPr>
              <a:xfrm>
                <a:off x="2336400" y="97488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79160" y="97488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 flipV="1">
              <a:off x="2627280" y="1071720"/>
              <a:ext cx="0" cy="19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76440" y="1592280"/>
              <a:ext cx="0" cy="14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57400" y="2049480"/>
              <a:ext cx="180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773600" y="109656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5400000">
              <a:off x="3348720" y="2017800"/>
              <a:ext cx="7776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rot="5400000">
              <a:off x="4746600" y="199224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544840" y="1376280"/>
              <a:ext cx="201600" cy="52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672080" y="1379520"/>
              <a:ext cx="193680" cy="56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5400000">
              <a:off x="3887640" y="1781640"/>
              <a:ext cx="203400" cy="522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3263040" y="2266920"/>
              <a:ext cx="2034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57400" y="2595600"/>
              <a:ext cx="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57400" y="204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73600" y="26463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8680" y="13032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6880" y="132876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39040" y="2141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554800" y="950760"/>
              <a:ext cx="56880" cy="263520"/>
              <a:chOff x="5554800" y="950760"/>
              <a:chExt cx="56880" cy="263520"/>
            </a:xfrm>
          </p:grpSpPr>
          <p:sp>
            <p:nvSpPr>
              <p:cNvPr id="416" name=""/>
              <p:cNvSpPr/>
              <p:nvPr/>
            </p:nvSpPr>
            <p:spPr>
              <a:xfrm>
                <a:off x="5611680" y="95076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554800" y="950760"/>
                <a:ext cx="0" cy="26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629320" y="1074600"/>
              <a:ext cx="49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951600" y="1287360"/>
              <a:ext cx="0" cy="15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44120" y="1106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39560" y="966960"/>
              <a:ext cx="1465560" cy="2106000"/>
              <a:chOff x="439560" y="966960"/>
              <a:chExt cx="1465560" cy="2106000"/>
            </a:xfrm>
          </p:grpSpPr>
          <p:sp>
            <p:nvSpPr>
              <p:cNvPr id="422" name=""/>
              <p:cNvSpPr/>
              <p:nvPr/>
            </p:nvSpPr>
            <p:spPr>
              <a:xfrm>
                <a:off x="723960" y="10605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23960" y="3068640"/>
                <a:ext cx="89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25200" y="1265400"/>
                <a:ext cx="51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23960" y="1039320"/>
                <a:ext cx="0" cy="20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rot="16200000">
                <a:off x="1127520" y="806400"/>
                <a:ext cx="201600" cy="522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9560" y="1639800"/>
                <a:ext cx="565200" cy="60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723960" y="1728360"/>
                <a:ext cx="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7560" y="2112840"/>
                <a:ext cx="49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6138720" y="1076400"/>
              <a:ext cx="0" cy="19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059520" y="1654200"/>
              <a:ext cx="193680" cy="56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74160" y="17254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63400" y="3005280"/>
            <a:ext cx="8330040" cy="3595680"/>
            <a:chOff x="563400" y="3005280"/>
            <a:chExt cx="8330040" cy="3595680"/>
          </a:xfrm>
        </p:grpSpPr>
        <p:grpSp>
          <p:nvGrpSpPr>
            <p:cNvPr id="434" name=""/>
            <p:cNvGrpSpPr/>
            <p:nvPr/>
          </p:nvGrpSpPr>
          <p:grpSpPr>
            <a:xfrm>
              <a:off x="5640480" y="4649760"/>
              <a:ext cx="456480" cy="771120"/>
              <a:chOff x="5640480" y="4649760"/>
              <a:chExt cx="456480" cy="77112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5640480" y="4927680"/>
                <a:ext cx="444600" cy="492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652360" y="4649760"/>
                <a:ext cx="444600" cy="493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5892480" y="477792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952800" y="4915080"/>
              <a:ext cx="353880" cy="86760"/>
              <a:chOff x="3952800" y="4915080"/>
              <a:chExt cx="353880" cy="86760"/>
            </a:xfrm>
          </p:grpSpPr>
          <p:sp>
            <p:nvSpPr>
              <p:cNvPr id="439" name=""/>
              <p:cNvSpPr/>
              <p:nvPr/>
            </p:nvSpPr>
            <p:spPr>
              <a:xfrm>
                <a:off x="3959640" y="491508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52800" y="5001840"/>
                <a:ext cx="34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1979640" y="451476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24160" y="4533840"/>
              <a:ext cx="18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133880" y="45338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52960" y="50086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46240" y="5691240"/>
              <a:ext cx="58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94280" y="455292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94280" y="4552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75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52760" y="42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69440" y="3979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7080" y="5772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91280" y="486252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188120" y="455292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07200" y="542592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36360" y="481320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02000" y="4832280"/>
              <a:ext cx="77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87840" y="48639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08240" y="4667040"/>
              <a:ext cx="0" cy="87300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7720" y="38703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e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08320" y="5651640"/>
              <a:ext cx="828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11840" y="563868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97720" y="564984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54680" y="452268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99160" y="451476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4787640" y="3882600"/>
              <a:ext cx="189000" cy="582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133880" y="41623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33880" y="415440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894280" y="415404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5178240" y="41544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83120" y="4503600"/>
              <a:ext cx="810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2970360" y="5678640"/>
                  <a:ext cx="1238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3094200" y="6067440"/>
                  <a:ext cx="42321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b</m:t>
                          </m:r>
                          <m:r>
                            <m:t xml:space="preserve">'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3" name=""/>
            <p:cNvSpPr/>
            <p:nvPr/>
          </p:nvSpPr>
          <p:spPr>
            <a:xfrm>
              <a:off x="1998720" y="45147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87120" y="392112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19240" y="42800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397280" y="455148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35440" y="40464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8283960" y="4564080"/>
              <a:ext cx="455400" cy="1128240"/>
              <a:chOff x="8283960" y="4564080"/>
              <a:chExt cx="455400" cy="1128240"/>
            </a:xfrm>
          </p:grpSpPr>
          <p:sp>
            <p:nvSpPr>
              <p:cNvPr id="479" name=""/>
              <p:cNvSpPr/>
              <p:nvPr/>
            </p:nvSpPr>
            <p:spPr>
              <a:xfrm flipH="1">
                <a:off x="8545680" y="4827240"/>
                <a:ext cx="193680" cy="569520"/>
              </a:xfrm>
              <a:prstGeom prst="rect">
                <a:avLst/>
              </a:prstGeom>
              <a:noFill/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8655480" y="4564080"/>
                <a:ext cx="0" cy="26496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8283960" y="4581360"/>
                <a:ext cx="35244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655480" y="5397120"/>
                <a:ext cx="0" cy="295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290440" y="5668560"/>
                <a:ext cx="352080" cy="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8316360" y="401796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9933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63840" y="4838760"/>
              <a:ext cx="193680" cy="571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560680" y="45291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79760" y="54021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41600" y="56260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30440" y="447840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4280" y="4835520"/>
              <a:ext cx="56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62240" y="4851360"/>
              <a:ext cx="193680" cy="571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259080" y="454176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78160" y="54151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0000" y="5638680"/>
              <a:ext cx="8100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8840" y="4491000"/>
              <a:ext cx="8280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6432840" y="5113440"/>
              <a:ext cx="348840" cy="88560"/>
              <a:chOff x="6432840" y="5113440"/>
              <a:chExt cx="348840" cy="8856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6432840" y="52020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439680" y="511344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640560" y="520056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640560" y="45529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5280" y="44895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83440" y="5645160"/>
              <a:ext cx="82440" cy="81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rot="5400000">
              <a:off x="4742640" y="3019320"/>
              <a:ext cx="777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20960" y="3065400"/>
              <a:ext cx="42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rot="5400000">
              <a:off x="3336840" y="30337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rot="5400000">
              <a:off x="2905200" y="304632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80320" y="31320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4200" y="329724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5400000">
              <a:off x="2589120" y="3009960"/>
              <a:ext cx="777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63400" y="4440240"/>
              <a:ext cx="1078200" cy="1329480"/>
              <a:chOff x="563400" y="4440240"/>
              <a:chExt cx="1078200" cy="1329480"/>
            </a:xfrm>
          </p:grpSpPr>
          <p:sp>
            <p:nvSpPr>
              <p:cNvPr id="511" name=""/>
              <p:cNvSpPr/>
              <p:nvPr/>
            </p:nvSpPr>
            <p:spPr>
              <a:xfrm>
                <a:off x="772560" y="4499280"/>
                <a:ext cx="86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2560" y="5767560"/>
                <a:ext cx="66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927720" y="462852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772560" y="4485600"/>
                <a:ext cx="0" cy="12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rot="16200000">
                <a:off x="1079640" y="4311720"/>
                <a:ext cx="127080" cy="38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63400" y="4865040"/>
                <a:ext cx="415800" cy="378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72560" y="492120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16920" y="5163840"/>
                <a:ext cx="55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układu 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052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prąd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064040" y="1387440"/>
                <a:ext cx="2533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≃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538560" y="26766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napię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4159080" y="2465280"/>
                <a:ext cx="27576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592920" y="359424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e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145040" y="3468600"/>
                <a:ext cx="3822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30000" y="461628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230720" y="466740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660960" y="546264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órna pulsacja graniczna tranzys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5562720" y="5492880"/>
                <a:ext cx="1042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681120" y="61326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mo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801960" y="6165720"/>
                <a:ext cx="11145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podstawowych konfiguracji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219240" y="1835280"/>
          <a:ext cx="870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835280"/>
                    <a:ext cx="870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4:12:49Z</dcterms:created>
  <dc:creator>Agnieszka Kukawczynska</dc:creator>
  <dc:description/>
  <dc:language>en-US</dc:language>
  <cp:lastModifiedBy>MK</cp:lastModifiedBy>
  <dcterms:modified xsi:type="dcterms:W3CDTF">2004-03-15T13:48:44Z</dcterms:modified>
  <cp:revision>76</cp:revision>
  <dc:subject/>
  <dc:title>Właściwości częstotliwościowe wzmacniaczy tranzystorowych</dc:title>
</cp:coreProperties>
</file>