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FC2-6359-4E16-9B00-1D4B8DFA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03E-E561-4E55-B3AB-D953730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499-292E-4F6A-B3EC-C002934E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CAB-EAC5-4048-A275-30C6091D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2EC-BD6F-474F-9D60-77BDF83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DAF-4F7A-4C52-AEA3-615559D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904-11C0-45A2-B159-FDD5349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4AC-F88E-4602-8CF1-A0FD8F7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E7A-F7F4-4691-B204-674FC360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80F-3454-411F-BB57-FAE620A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8E4-265F-4E46-980A-BD43A5F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AAB-B099-4A90-A29E-EBFA22C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DD9-ECF6-4202-BA0E-DEEE0473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4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parametry modelu li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1640" y="1789200"/>
                <a:ext cx="775800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kT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25mV,  m</m:t>
                        </m:r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owo 1,1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V="1">
            <a:off x="2998800" y="3930120"/>
            <a:ext cx="1782720" cy="1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57560" y="4525920"/>
            <a:ext cx="193680" cy="582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25720" y="55832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344680" y="56368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44680" y="509076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362320" y="4260960"/>
            <a:ext cx="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44680" y="61484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34520" y="4640400"/>
            <a:ext cx="98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3440" y="5632560"/>
            <a:ext cx="1131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50400" y="429588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91720" y="6494400"/>
            <a:ext cx="141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92240" y="429588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91920" y="38149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9640" y="43668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5360" y="4697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106720" y="878040"/>
                <a:ext cx="4680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49920" y="3427560"/>
            <a:ext cx="3477960" cy="3327840"/>
            <a:chOff x="4849920" y="3427560"/>
            <a:chExt cx="3477960" cy="3327840"/>
          </a:xfrm>
        </p:grpSpPr>
        <p:sp>
          <p:nvSpPr>
            <p:cNvPr id="311" name=""/>
            <p:cNvSpPr/>
            <p:nvPr/>
          </p:nvSpPr>
          <p:spPr>
            <a:xfrm flipV="1">
              <a:off x="5413320" y="4105800"/>
              <a:ext cx="0" cy="208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3320" y="6195960"/>
              <a:ext cx="221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8640" y="4193280"/>
              <a:ext cx="1747800" cy="19980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916320" y="4338360"/>
              <a:ext cx="284040" cy="1905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78600" y="5363280"/>
              <a:ext cx="92160" cy="91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423040" y="5400000"/>
              <a:ext cx="15890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1440" y="5473800"/>
              <a:ext cx="0" cy="758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74440" y="498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9920" y="5131440"/>
              <a:ext cx="72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63280" y="634968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578556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9000" y="406404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23240" y="6341040"/>
              <a:ext cx="10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7070400" y="6214680"/>
              <a:ext cx="1429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642000" y="6252120"/>
              <a:ext cx="246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00960" y="3427560"/>
              <a:ext cx="1692000" cy="87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573" y="2968"/>
                  </a:moveTo>
                  <a:lnTo>
                    <a:pt x="25349" y="2968"/>
                  </a:lnTo>
                  <a:lnTo>
                    <a:pt x="25349" y="30627"/>
                  </a:lnTo>
                  <a:lnTo>
                    <a:pt x="7595" y="30013"/>
                  </a:lnTo>
                </a:path>
              </a:pathLst>
            </a:custGeom>
            <a:solidFill>
              <a:srgbClr val="ff7c8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nachylenie g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665440" y="4627440"/>
            <a:ext cx="24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36…40)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60680" y="2120760"/>
            <a:ext cx="5995800" cy="222120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iniowy wielkosygnałowy model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41440" y="121608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7240" y="26337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60800" y="20923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580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929200" y="337356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92920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3680" y="260028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700440" y="5484960"/>
                <a:ext cx="17683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17880" y="987480"/>
            <a:ext cx="1071720" cy="87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flipV="1">
            <a:off x="650880" y="1242720"/>
            <a:ext cx="0" cy="390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5172120"/>
            <a:ext cx="48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560" y="1395360"/>
            <a:ext cx="2673360" cy="3764160"/>
          </a:xfrm>
          <a:custGeom>
            <a:avLst/>
            <a:gdLst/>
            <a:ahLst/>
            <a:rect l="l" t="t" r="r" b="b"/>
            <a:pathLst>
              <a:path w="1684" h="2371">
                <a:moveTo>
                  <a:pt x="0" y="2371"/>
                </a:moveTo>
                <a:cubicBezTo>
                  <a:pt x="30" y="2368"/>
                  <a:pt x="78" y="2361"/>
                  <a:pt x="179" y="2355"/>
                </a:cubicBezTo>
                <a:cubicBezTo>
                  <a:pt x="280" y="2349"/>
                  <a:pt x="458" y="2342"/>
                  <a:pt x="608" y="2332"/>
                </a:cubicBezTo>
                <a:cubicBezTo>
                  <a:pt x="758" y="2322"/>
                  <a:pt x="953" y="2315"/>
                  <a:pt x="1078" y="2295"/>
                </a:cubicBezTo>
                <a:cubicBezTo>
                  <a:pt x="1203" y="2275"/>
                  <a:pt x="1283" y="2304"/>
                  <a:pt x="1361" y="2209"/>
                </a:cubicBezTo>
                <a:cubicBezTo>
                  <a:pt x="1438" y="2114"/>
                  <a:pt x="1488" y="2092"/>
                  <a:pt x="1543" y="1724"/>
                </a:cubicBezTo>
                <a:cubicBezTo>
                  <a:pt x="1597" y="1355"/>
                  <a:pt x="1654" y="359"/>
                  <a:pt x="1684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30360" y="4238640"/>
            <a:ext cx="2931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79800" y="423864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14040" y="540540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10080" y="55656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54680" y="34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7800" y="10922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46760" y="468144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398680" y="5218200"/>
            <a:ext cx="64440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5080" y="3741840"/>
            <a:ext cx="5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803680" y="5659560"/>
            <a:ext cx="788760" cy="839520"/>
            <a:chOff x="2803680" y="5659560"/>
            <a:chExt cx="788760" cy="839520"/>
          </a:xfrm>
        </p:grpSpPr>
        <p:sp>
          <p:nvSpPr>
            <p:cNvPr id="416" name=""/>
            <p:cNvSpPr/>
            <p:nvPr/>
          </p:nvSpPr>
          <p:spPr>
            <a:xfrm>
              <a:off x="3090600" y="5659560"/>
              <a:ext cx="0" cy="83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03680" y="5757840"/>
              <a:ext cx="7887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0000">
              <a:off x="2790000" y="5942160"/>
              <a:ext cx="586800" cy="2451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1908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498840" y="4227480"/>
            <a:ext cx="11365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97120" y="2703240"/>
            <a:ext cx="0" cy="2174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1520" y="3387600"/>
            <a:ext cx="649440" cy="1333800"/>
          </a:xfrm>
          <a:custGeom>
            <a:avLst/>
            <a:gdLst/>
            <a:ahLst/>
            <a:rect l="l" t="t" r="r" b="b"/>
            <a:pathLst>
              <a:path w="409" h="840">
                <a:moveTo>
                  <a:pt x="409" y="413"/>
                </a:moveTo>
                <a:cubicBezTo>
                  <a:pt x="394" y="531"/>
                  <a:pt x="378" y="649"/>
                  <a:pt x="362" y="720"/>
                </a:cubicBezTo>
                <a:cubicBezTo>
                  <a:pt x="346" y="791"/>
                  <a:pt x="333" y="840"/>
                  <a:pt x="316" y="840"/>
                </a:cubicBezTo>
                <a:cubicBezTo>
                  <a:pt x="298" y="840"/>
                  <a:pt x="273" y="790"/>
                  <a:pt x="257" y="720"/>
                </a:cubicBezTo>
                <a:cubicBezTo>
                  <a:pt x="241" y="650"/>
                  <a:pt x="231" y="516"/>
                  <a:pt x="219" y="421"/>
                </a:cubicBezTo>
                <a:cubicBezTo>
                  <a:pt x="206" y="325"/>
                  <a:pt x="197" y="214"/>
                  <a:pt x="180" y="144"/>
                </a:cubicBezTo>
                <a:cubicBezTo>
                  <a:pt x="163" y="73"/>
                  <a:pt x="135" y="3"/>
                  <a:pt x="118" y="1"/>
                </a:cubicBezTo>
                <a:cubicBezTo>
                  <a:pt x="100" y="0"/>
                  <a:pt x="95" y="48"/>
                  <a:pt x="75" y="136"/>
                </a:cubicBezTo>
                <a:cubicBezTo>
                  <a:pt x="55" y="224"/>
                  <a:pt x="16" y="449"/>
                  <a:pt x="0" y="531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9520" y="2687760"/>
            <a:ext cx="43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99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216240" y="3414240"/>
            <a:ext cx="0" cy="249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43360" y="4738320"/>
            <a:ext cx="0" cy="14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68560" y="472608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78080" y="3402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89240" y="62262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7440" y="4040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60680" y="3809880"/>
            <a:ext cx="46980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95080" y="163440"/>
            <a:ext cx="67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jęci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ygnał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 liniowym układzie elektronicz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8226360" y="201456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01160" y="2243160"/>
            <a:ext cx="25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4400" y="1633680"/>
            <a:ext cx="959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94400" y="2624040"/>
            <a:ext cx="925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25000" y="224316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72360" y="15876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240" y="1951200"/>
            <a:ext cx="15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29680" y="1633680"/>
            <a:ext cx="0" cy="388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91320" y="1633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86760" y="2562120"/>
            <a:ext cx="10764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318440" y="17856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00880" y="11001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69800" y="33717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dpowied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08600" y="3624120"/>
            <a:ext cx="939600" cy="1368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41800" y="59371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352680" y="6037200"/>
            <a:ext cx="766800" cy="98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4880" y="2158920"/>
            <a:ext cx="22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rametry opisują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unkt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478720" y="4327560"/>
            <a:ext cx="193680" cy="58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47240" y="5384880"/>
            <a:ext cx="63468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8566200" y="54385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566200" y="489240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8583480" y="4061880"/>
            <a:ext cx="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566200" y="5950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7360" y="435456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19440" y="5483160"/>
            <a:ext cx="1026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7172280" y="408456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126200" y="6297480"/>
            <a:ext cx="14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0800" y="4084560"/>
            <a:ext cx="811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7031160" y="416844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86560" y="437976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845560" y="4230720"/>
            <a:ext cx="0" cy="7048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02560" y="3639960"/>
            <a:ext cx="208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ff0000"/>
                </a:solidFill>
                <a:latin typeface="Times New Roman"/>
              </a:rPr>
              <a:t>DQ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pl-PL" sz="1800" spc="-1" strike="noStrike" baseline="-25000">
                <a:solidFill>
                  <a:srgbClr val="008000"/>
                </a:solidFill>
                <a:latin typeface="Times New Roman"/>
              </a:rPr>
              <a:t>dm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sin</a:t>
            </a:r>
            <a:r>
              <a:rPr b="0" lang="pl-PL" sz="1800" spc="-1" strike="noStrike">
                <a:solidFill>
                  <a:srgbClr val="008000"/>
                </a:solidFill>
                <a:latin typeface="Symbol"/>
                <a:ea typeface="Symbol"/>
              </a:rPr>
              <a:t></a:t>
            </a:r>
            <a:r>
              <a:rPr b="0" lang="pl-PL" sz="1800" spc="-1" strike="noStrike">
                <a:solidFill>
                  <a:srgbClr val="008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usunięte źródła stało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89080" y="1595520"/>
            <a:ext cx="2820240" cy="2932920"/>
            <a:chOff x="289080" y="1595520"/>
            <a:chExt cx="2820240" cy="2932920"/>
          </a:xfrm>
        </p:grpSpPr>
        <p:sp>
          <p:nvSpPr>
            <p:cNvPr id="467" name=""/>
            <p:cNvSpPr/>
            <p:nvPr/>
          </p:nvSpPr>
          <p:spPr>
            <a:xfrm>
              <a:off x="1924200" y="15955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080" y="1820880"/>
              <a:ext cx="2820240" cy="2707560"/>
              <a:chOff x="289080" y="1820880"/>
              <a:chExt cx="2820240" cy="27075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27120" y="236052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27120" y="2512800"/>
                <a:ext cx="26676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58880" y="2349360"/>
                <a:ext cx="18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2520" y="2970000"/>
                <a:ext cx="9586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30440" y="29257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19280" y="20001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58880" y="205560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58880" y="431316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658880" y="205560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500200" y="424980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0120" y="293688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0" name=""/>
                  <p:cNvSpPr txBox="1"/>
                  <p:nvPr/>
                </p:nvSpPr>
                <p:spPr>
                  <a:xfrm>
                    <a:off x="996840" y="2244600"/>
                    <a:ext cx="4129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1" name=""/>
              <p:cNvSpPr/>
              <p:nvPr/>
            </p:nvSpPr>
            <p:spPr>
              <a:xfrm>
                <a:off x="1670040" y="29700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9080" y="3122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09000" y="1820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8040" y="4068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70040" y="2689200"/>
                <a:ext cx="0" cy="647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1986120" y="205560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19080" y="297000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49240" y="3046320"/>
                <a:ext cx="33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75000" y="3348000"/>
                <a:ext cx="176040" cy="530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644840" y="4087440"/>
                <a:ext cx="0" cy="2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662120" y="3876120"/>
                <a:ext cx="0" cy="28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146240" y="3344760"/>
                <a:ext cx="494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e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 flipH="1" flipV="1">
              <a:off x="729720" y="321480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400" y="359712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49800" y="1773360"/>
            <a:ext cx="5511240" cy="3308400"/>
            <a:chOff x="3349800" y="1773360"/>
            <a:chExt cx="5511240" cy="3308400"/>
          </a:xfrm>
        </p:grpSpPr>
        <p:sp>
          <p:nvSpPr>
            <p:cNvPr id="496" name=""/>
            <p:cNvSpPr/>
            <p:nvPr/>
          </p:nvSpPr>
          <p:spPr>
            <a:xfrm>
              <a:off x="6048000" y="177336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500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77640" y="2813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82200" y="359424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99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83760" y="2465280"/>
              <a:ext cx="58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4653000" y="4537080"/>
                  <a:ext cx="3749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ź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416560" y="3789360"/>
              <a:ext cx="1608120" cy="71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8002440" y="3105000"/>
              <a:ext cx="53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20440" y="25290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93680" y="3227400"/>
                <a:ext cx="1641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564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565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87600" y="1170000"/>
            <a:ext cx="0" cy="3240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09120" y="418320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24320" y="11793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4280" y="4175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60680" y="1649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cc"/>
                </a:solidFill>
                <a:latin typeface="Times New Roman"/>
              </a:rPr>
              <a:t>[d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21020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skala logarytmiczna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17400" y="1717560"/>
            <a:ext cx="7128360" cy="3948840"/>
            <a:chOff x="617400" y="1717560"/>
            <a:chExt cx="7128360" cy="3948840"/>
          </a:xfrm>
        </p:grpSpPr>
        <p:sp>
          <p:nvSpPr>
            <p:cNvPr id="601" name=""/>
            <p:cNvSpPr/>
            <p:nvPr/>
          </p:nvSpPr>
          <p:spPr>
            <a:xfrm flipV="1">
              <a:off x="723960" y="199188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400" y="4921200"/>
              <a:ext cx="28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5040" y="171756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7400" y="511020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17640" y="2727360"/>
              <a:ext cx="2311200" cy="852480"/>
            </a:xfrm>
            <a:custGeom>
              <a:avLst/>
              <a:gdLst/>
              <a:ahLst/>
              <a:rect l="l" t="t" r="r" b="b"/>
              <a:pathLst>
                <a:path w="1456" h="537">
                  <a:moveTo>
                    <a:pt x="0" y="537"/>
                  </a:moveTo>
                  <a:cubicBezTo>
                    <a:pt x="83" y="454"/>
                    <a:pt x="166" y="371"/>
                    <a:pt x="244" y="304"/>
                  </a:cubicBezTo>
                  <a:cubicBezTo>
                    <a:pt x="322" y="237"/>
                    <a:pt x="387" y="185"/>
                    <a:pt x="467" y="137"/>
                  </a:cubicBezTo>
                  <a:cubicBezTo>
                    <a:pt x="547" y="89"/>
                    <a:pt x="631" y="30"/>
                    <a:pt x="722" y="15"/>
                  </a:cubicBezTo>
                  <a:cubicBezTo>
                    <a:pt x="813" y="0"/>
                    <a:pt x="918" y="10"/>
                    <a:pt x="1011" y="49"/>
                  </a:cubicBezTo>
                  <a:cubicBezTo>
                    <a:pt x="1104" y="88"/>
                    <a:pt x="1204" y="202"/>
                    <a:pt x="1278" y="248"/>
                  </a:cubicBezTo>
                  <a:cubicBezTo>
                    <a:pt x="1352" y="294"/>
                    <a:pt x="1404" y="310"/>
                    <a:pt x="1456" y="32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773600" y="2037960"/>
              <a:ext cx="0" cy="29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67400" y="4967280"/>
              <a:ext cx="28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54680" y="1763640"/>
              <a:ext cx="49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99920" y="5156280"/>
              <a:ext cx="645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10120" y="2857680"/>
              <a:ext cx="2452680" cy="863280"/>
            </a:xfrm>
            <a:custGeom>
              <a:avLst/>
              <a:gdLst/>
              <a:ahLst/>
              <a:rect l="l" t="t" r="r" b="b"/>
              <a:pathLst>
                <a:path w="1545" h="544">
                  <a:moveTo>
                    <a:pt x="0" y="544"/>
                  </a:moveTo>
                  <a:cubicBezTo>
                    <a:pt x="50" y="464"/>
                    <a:pt x="100" y="385"/>
                    <a:pt x="167" y="344"/>
                  </a:cubicBezTo>
                  <a:cubicBezTo>
                    <a:pt x="234" y="303"/>
                    <a:pt x="319" y="309"/>
                    <a:pt x="400" y="300"/>
                  </a:cubicBezTo>
                  <a:cubicBezTo>
                    <a:pt x="481" y="291"/>
                    <a:pt x="543" y="302"/>
                    <a:pt x="656" y="289"/>
                  </a:cubicBezTo>
                  <a:cubicBezTo>
                    <a:pt x="769" y="276"/>
                    <a:pt x="961" y="239"/>
                    <a:pt x="1078" y="222"/>
                  </a:cubicBezTo>
                  <a:cubicBezTo>
                    <a:pt x="1195" y="205"/>
                    <a:pt x="1278" y="226"/>
                    <a:pt x="1356" y="189"/>
                  </a:cubicBezTo>
                  <a:cubicBezTo>
                    <a:pt x="1434" y="152"/>
                    <a:pt x="1489" y="76"/>
                    <a:pt x="1545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90720" y="507348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66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ff6600"/>
                  </a:solidFill>
                  <a:latin typeface="Times New Roman"/>
                </a:rPr>
                <a:t>Eo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2176560" y="2795760"/>
              <a:ext cx="0" cy="2041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621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624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627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641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645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649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84160" y="364176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utokompensac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35200" y="3921120"/>
            <a:ext cx="48276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6062760" y="2862360"/>
                <a:ext cx="25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0" name=""/>
          <p:cNvGrpSpPr/>
          <p:nvPr/>
        </p:nvGrpSpPr>
        <p:grpSpPr>
          <a:xfrm>
            <a:off x="1679400" y="1954080"/>
            <a:ext cx="4669920" cy="2211480"/>
            <a:chOff x="1679400" y="1954080"/>
            <a:chExt cx="4669920" cy="2211480"/>
          </a:xfrm>
        </p:grpSpPr>
        <p:sp>
          <p:nvSpPr>
            <p:cNvPr id="721" name=""/>
            <p:cNvSpPr/>
            <p:nvPr/>
          </p:nvSpPr>
          <p:spPr>
            <a:xfrm>
              <a:off x="4761000" y="274464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4511520" y="2852640"/>
              <a:ext cx="485640" cy="826920"/>
              <a:chOff x="4511520" y="2852640"/>
              <a:chExt cx="485640" cy="826920"/>
            </a:xfrm>
          </p:grpSpPr>
          <p:sp>
            <p:nvSpPr>
              <p:cNvPr id="723" name=""/>
              <p:cNvSpPr/>
              <p:nvPr/>
            </p:nvSpPr>
            <p:spPr>
              <a:xfrm>
                <a:off x="4511520" y="2852640"/>
                <a:ext cx="472680" cy="528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524480" y="3150360"/>
                <a:ext cx="472680" cy="52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79360" y="3055320"/>
                <a:ext cx="0" cy="48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720880" y="3100320"/>
              <a:ext cx="377280" cy="93240"/>
              <a:chOff x="2720880" y="3100320"/>
              <a:chExt cx="377280" cy="93240"/>
            </a:xfrm>
          </p:grpSpPr>
          <p:sp>
            <p:nvSpPr>
              <p:cNvPr id="727" name=""/>
              <p:cNvSpPr/>
              <p:nvPr/>
            </p:nvSpPr>
            <p:spPr>
              <a:xfrm>
                <a:off x="2728080" y="310032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20880" y="3193560"/>
                <a:ext cx="37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429000" y="2507040"/>
              <a:ext cx="93240" cy="372600"/>
              <a:chOff x="3429000" y="2507040"/>
              <a:chExt cx="93240" cy="37260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3429000" y="25070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3522240" y="251424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78160" y="2692440"/>
              <a:ext cx="10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913120" y="2692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33640" y="320040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40080" y="3933720"/>
              <a:ext cx="332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29080" y="2711520"/>
              <a:ext cx="23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81520" y="271152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61120" y="23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49000" y="240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43800" y="368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92400" y="3013200"/>
              <a:ext cx="81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9660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83000" y="2793960"/>
              <a:ext cx="0" cy="93672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73000" y="2970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87560" y="388944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94400" y="3855960"/>
              <a:ext cx="8712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38680" y="2681280"/>
              <a:ext cx="874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60560" y="2660760"/>
              <a:ext cx="856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"/>
                <p:cNvSpPr txBox="1"/>
                <p:nvPr/>
              </p:nvSpPr>
              <p:spPr>
                <a:xfrm>
                  <a:off x="1679400" y="3917880"/>
                  <a:ext cx="13176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50" name=""/>
            <p:cNvSpPr/>
            <p:nvPr/>
          </p:nvSpPr>
          <p:spPr>
            <a:xfrm flipH="1">
              <a:off x="5178240" y="3187800"/>
              <a:ext cx="680760" cy="12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5293800" y="2709720"/>
              <a:ext cx="39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9240" y="20988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5" name=""/>
          <p:cNvGrpSpPr/>
          <p:nvPr/>
        </p:nvGrpSpPr>
        <p:grpSpPr>
          <a:xfrm>
            <a:off x="255600" y="1454040"/>
            <a:ext cx="4482720" cy="3106440"/>
            <a:chOff x="255600" y="1454040"/>
            <a:chExt cx="4482720" cy="3106440"/>
          </a:xfrm>
        </p:grpSpPr>
        <p:sp>
          <p:nvSpPr>
            <p:cNvPr id="756" name=""/>
            <p:cNvSpPr/>
            <p:nvPr/>
          </p:nvSpPr>
          <p:spPr>
            <a:xfrm rot="10800000">
              <a:off x="1684440" y="1622880"/>
              <a:ext cx="261720" cy="756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639800" y="3856320"/>
              <a:ext cx="374040" cy="387360"/>
              <a:chOff x="1639800" y="3856320"/>
              <a:chExt cx="374040" cy="387360"/>
            </a:xfrm>
          </p:grpSpPr>
          <p:sp>
            <p:nvSpPr>
              <p:cNvPr id="758" name=""/>
              <p:cNvSpPr/>
              <p:nvPr/>
            </p:nvSpPr>
            <p:spPr>
              <a:xfrm>
                <a:off x="1833480" y="38563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39800" y="4207680"/>
                <a:ext cx="37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337200" y="2839680"/>
              <a:ext cx="1070640" cy="911520"/>
              <a:chOff x="3337200" y="2839680"/>
              <a:chExt cx="1070640" cy="91152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3658320" y="3232800"/>
                <a:ext cx="749520" cy="130680"/>
                <a:chOff x="3658320" y="3232800"/>
                <a:chExt cx="749520" cy="13068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3658320" y="3232800"/>
                  <a:ext cx="749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907800" y="3363480"/>
                  <a:ext cx="24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" name=""/>
              <p:cNvSpPr/>
              <p:nvPr/>
            </p:nvSpPr>
            <p:spPr>
              <a:xfrm>
                <a:off x="4033440" y="336384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37200" y="2839680"/>
                <a:ext cx="34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4137120" y="2601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87560" y="1715400"/>
              <a:ext cx="56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90400" y="2784240"/>
              <a:ext cx="0" cy="9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57800" y="2915280"/>
              <a:ext cx="95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14360" y="1979640"/>
              <a:ext cx="5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49440" y="2907000"/>
              <a:ext cx="1171440" cy="906840"/>
              <a:chOff x="649440" y="2907000"/>
              <a:chExt cx="1171440" cy="906840"/>
            </a:xfrm>
          </p:grpSpPr>
          <p:sp>
            <p:nvSpPr>
              <p:cNvPr id="772" name=""/>
              <p:cNvSpPr/>
              <p:nvPr/>
            </p:nvSpPr>
            <p:spPr>
              <a:xfrm>
                <a:off x="1446480" y="3088080"/>
                <a:ext cx="0" cy="64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46480" y="3553920"/>
                <a:ext cx="374400" cy="25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1446480" y="2907000"/>
                <a:ext cx="374400" cy="38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49440" y="3422880"/>
                <a:ext cx="74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1803960" y="2390760"/>
              <a:ext cx="0" cy="5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1826280" y="145404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26280" y="1454040"/>
              <a:ext cx="22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042800" y="145404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851640" y="3769920"/>
              <a:ext cx="372600" cy="387360"/>
              <a:chOff x="3851640" y="3769920"/>
              <a:chExt cx="372600" cy="387360"/>
            </a:xfrm>
          </p:grpSpPr>
          <p:sp>
            <p:nvSpPr>
              <p:cNvPr id="781" name=""/>
              <p:cNvSpPr/>
              <p:nvPr/>
            </p:nvSpPr>
            <p:spPr>
              <a:xfrm>
                <a:off x="4044600" y="3769920"/>
                <a:ext cx="0" cy="387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851640" y="412128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5600" y="3134880"/>
              <a:ext cx="85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9240" y="1727640"/>
              <a:ext cx="1647360" cy="283284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479920" y="2387520"/>
            <a:ext cx="2857680" cy="11383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518080" y="2417760"/>
                <a:ext cx="27241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1684080" y="1623600"/>
            <a:ext cx="261720" cy="7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639800" y="3855960"/>
            <a:ext cx="374400" cy="387000"/>
            <a:chOff x="1639800" y="3855960"/>
            <a:chExt cx="374400" cy="387000"/>
          </a:xfrm>
        </p:grpSpPr>
        <p:sp>
          <p:nvSpPr>
            <p:cNvPr id="791" name=""/>
            <p:cNvSpPr/>
            <p:nvPr/>
          </p:nvSpPr>
          <p:spPr>
            <a:xfrm>
              <a:off x="1833840" y="385596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39800" y="420696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336840" y="2840040"/>
            <a:ext cx="1070640" cy="910800"/>
            <a:chOff x="3336840" y="2840040"/>
            <a:chExt cx="1070640" cy="910800"/>
          </a:xfrm>
        </p:grpSpPr>
        <p:grpSp>
          <p:nvGrpSpPr>
            <p:cNvPr id="794" name=""/>
            <p:cNvGrpSpPr/>
            <p:nvPr/>
          </p:nvGrpSpPr>
          <p:grpSpPr>
            <a:xfrm>
              <a:off x="3657960" y="3232800"/>
              <a:ext cx="749520" cy="130320"/>
              <a:chOff x="3657960" y="3232800"/>
              <a:chExt cx="749520" cy="130320"/>
            </a:xfrm>
          </p:grpSpPr>
          <p:sp>
            <p:nvSpPr>
              <p:cNvPr id="795" name=""/>
              <p:cNvSpPr/>
              <p:nvPr/>
            </p:nvSpPr>
            <p:spPr>
              <a:xfrm>
                <a:off x="3657960" y="3232800"/>
                <a:ext cx="749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07440" y="3363120"/>
                <a:ext cx="2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4033440" y="336384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36840" y="2840040"/>
              <a:ext cx="34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4137120" y="26020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87560" y="171612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390760" y="2784240"/>
            <a:ext cx="0" cy="94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2914560"/>
            <a:ext cx="9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4720" y="1979640"/>
            <a:ext cx="59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649080" y="2908080"/>
            <a:ext cx="1172880" cy="906120"/>
            <a:chOff x="649080" y="2908080"/>
            <a:chExt cx="1172880" cy="906120"/>
          </a:xfrm>
        </p:grpSpPr>
        <p:sp>
          <p:nvSpPr>
            <p:cNvPr id="805" name=""/>
            <p:cNvSpPr/>
            <p:nvPr/>
          </p:nvSpPr>
          <p:spPr>
            <a:xfrm>
              <a:off x="1447200" y="3089520"/>
              <a:ext cx="0" cy="64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47200" y="3554640"/>
              <a:ext cx="374760" cy="25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447200" y="2908080"/>
              <a:ext cx="374760" cy="38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49080" y="3423960"/>
              <a:ext cx="7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1803240" y="2390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827360" y="145404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7360" y="1454040"/>
            <a:ext cx="221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043520" y="1454040"/>
            <a:ext cx="0" cy="17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851280" y="3770280"/>
            <a:ext cx="372600" cy="387000"/>
            <a:chOff x="3851280" y="3770280"/>
            <a:chExt cx="372600" cy="387000"/>
          </a:xfrm>
        </p:grpSpPr>
        <p:sp>
          <p:nvSpPr>
            <p:cNvPr id="814" name=""/>
            <p:cNvSpPr/>
            <p:nvPr/>
          </p:nvSpPr>
          <p:spPr>
            <a:xfrm>
              <a:off x="4044240" y="3770280"/>
              <a:ext cx="0" cy="38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51280" y="4121280"/>
              <a:ext cx="37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287280" y="294948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09960" y="1727280"/>
            <a:ext cx="1647720" cy="2833560"/>
          </a:xfrm>
          <a:custGeom>
            <a:avLst/>
            <a:gdLst/>
            <a:ahLst/>
            <a:rect l="l" t="t" r="r" b="b"/>
            <a:pathLst>
              <a:path w="907" h="1376">
                <a:moveTo>
                  <a:pt x="907" y="384"/>
                </a:moveTo>
                <a:cubicBezTo>
                  <a:pt x="871" y="231"/>
                  <a:pt x="835" y="78"/>
                  <a:pt x="730" y="39"/>
                </a:cubicBezTo>
                <a:cubicBezTo>
                  <a:pt x="625" y="0"/>
                  <a:pt x="393" y="37"/>
                  <a:pt x="274" y="150"/>
                </a:cubicBezTo>
                <a:cubicBezTo>
                  <a:pt x="155" y="263"/>
                  <a:pt x="36" y="536"/>
                  <a:pt x="18" y="717"/>
                </a:cubicBezTo>
                <a:cubicBezTo>
                  <a:pt x="0" y="898"/>
                  <a:pt x="54" y="1135"/>
                  <a:pt x="163" y="1239"/>
                </a:cubicBezTo>
                <a:cubicBezTo>
                  <a:pt x="272" y="1343"/>
                  <a:pt x="552" y="1376"/>
                  <a:pt x="674" y="1339"/>
                </a:cubicBezTo>
                <a:cubicBezTo>
                  <a:pt x="796" y="1302"/>
                  <a:pt x="846" y="1159"/>
                  <a:pt x="896" y="1017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7080" y="379728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+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1063440" y="4341600"/>
            <a:ext cx="680760" cy="80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0080" y="49179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bu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06640" y="199080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976400" y="241416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81360" y="3352680"/>
            <a:ext cx="298116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889280" y="3736800"/>
            <a:ext cx="29462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10160" y="892080"/>
            <a:ext cx="2635200" cy="68004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tatyczna prosta pracy: nachylenie  -1/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08520" y="26067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54200" y="21463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327720" y="4282920"/>
                <a:ext cx="164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8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59120" y="345744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4532400" y="2485440"/>
            <a:ext cx="128520" cy="854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84400" y="2071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dpowiedź prąd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92520" y="54784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ź napięci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35680" y="1924200"/>
            <a:ext cx="247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budzenie prądem b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623680" y="263376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97040" y="2636280"/>
            <a:ext cx="0" cy="319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738360" y="3952800"/>
                <a:ext cx="28000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784080" y="968400"/>
                <a:ext cx="155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7292880" y="10429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9360" y="2211480"/>
                <a:ext cx="4784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I rSub { size 8{ ital </m:t>
                        </m:r>
                        <m:r>
                          <m:t xml:space="preserve">CQ</m:t>
                        </m:r>
                        <m:r>
                          <m:rPr>
                            <m:lit/>
                            <m:nor/>
                          </m:rPr>
                          <m:t xml:space="preserve">} } +ΔI rSub { size 8{C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7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42160" y="3181320"/>
            <a:ext cx="1120320" cy="1530360"/>
            <a:chOff x="7742160" y="3181320"/>
            <a:chExt cx="1120320" cy="1530360"/>
          </a:xfrm>
        </p:grpSpPr>
        <p:grpSp>
          <p:nvGrpSpPr>
            <p:cNvPr id="877" name=""/>
            <p:cNvGrpSpPr/>
            <p:nvPr/>
          </p:nvGrpSpPr>
          <p:grpSpPr>
            <a:xfrm>
              <a:off x="7777080" y="3728880"/>
              <a:ext cx="790200" cy="134640"/>
              <a:chOff x="7777080" y="3728880"/>
              <a:chExt cx="790200" cy="134640"/>
            </a:xfrm>
          </p:grpSpPr>
          <p:sp>
            <p:nvSpPr>
              <p:cNvPr id="878" name=""/>
              <p:cNvSpPr/>
              <p:nvPr/>
            </p:nvSpPr>
            <p:spPr>
              <a:xfrm>
                <a:off x="7777080" y="3728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40240" y="3863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8172360" y="3863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42160" y="3417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261280" y="3181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887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8182080" y="1891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86080" y="3625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11760" y="2970360"/>
            <a:ext cx="100080" cy="447480"/>
            <a:chOff x="6611760" y="2970360"/>
            <a:chExt cx="100080" cy="447480"/>
          </a:xfrm>
        </p:grpSpPr>
        <p:sp>
          <p:nvSpPr>
            <p:cNvPr id="898" name=""/>
            <p:cNvSpPr/>
            <p:nvPr/>
          </p:nvSpPr>
          <p:spPr>
            <a:xfrm>
              <a:off x="6611760" y="297648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1840" y="297036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 flipH="1">
            <a:off x="5783040" y="3171960"/>
            <a:ext cx="8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35600" y="3189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04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10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13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68000" y="4130640"/>
            <a:ext cx="136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92880" y="1558800"/>
            <a:ext cx="3092400" cy="1595520"/>
          </a:xfrm>
          <a:custGeom>
            <a:avLst/>
            <a:gdLst/>
            <a:ahLst/>
            <a:rect l="l" t="t" r="r" b="b"/>
            <a:pathLst>
              <a:path w="1948" h="1005">
                <a:moveTo>
                  <a:pt x="1948" y="1005"/>
                </a:moveTo>
                <a:lnTo>
                  <a:pt x="1948" y="0"/>
                </a:lnTo>
                <a:lnTo>
                  <a:pt x="0" y="0"/>
                </a:lnTo>
                <a:lnTo>
                  <a:pt x="0" y="873"/>
                </a:lnTo>
              </a:path>
            </a:pathLst>
          </a:custGeom>
          <a:noFill/>
          <a:ln w="1260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965160" y="2257560"/>
                <a:ext cx="3413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1047960" y="5191200"/>
            <a:ext cx="72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la składowej zmiennej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ą połączone równole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0800000">
            <a:off x="5694120" y="206676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3440" y="2236680"/>
            <a:ext cx="8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602240" y="3392280"/>
            <a:ext cx="1236240" cy="936360"/>
            <a:chOff x="4602240" y="3392280"/>
            <a:chExt cx="1236240" cy="936360"/>
          </a:xfrm>
        </p:grpSpPr>
        <p:sp>
          <p:nvSpPr>
            <p:cNvPr id="928" name=""/>
            <p:cNvSpPr/>
            <p:nvPr/>
          </p:nvSpPr>
          <p:spPr>
            <a:xfrm>
              <a:off x="5443560" y="3579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4060440"/>
              <a:ext cx="39492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443560" y="3392280"/>
              <a:ext cx="39492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602240" y="3925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 flipV="1">
            <a:off x="5819760" y="285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843520" y="1891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843520" y="1892160"/>
            <a:ext cx="233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8182080" y="1892160"/>
            <a:ext cx="0" cy="267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62840" y="3719520"/>
            <a:ext cx="27612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783040" y="3171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11880" y="3189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985080" y="4489560"/>
            <a:ext cx="393480" cy="399960"/>
            <a:chOff x="6985080" y="4489560"/>
            <a:chExt cx="393480" cy="399960"/>
          </a:xfrm>
        </p:grpSpPr>
        <p:sp>
          <p:nvSpPr>
            <p:cNvPr id="940" name=""/>
            <p:cNvSpPr/>
            <p:nvPr/>
          </p:nvSpPr>
          <p:spPr>
            <a:xfrm>
              <a:off x="7189560" y="448956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5080" y="48625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6589800" y="393696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20600" y="339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69000" y="3130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966080" y="4518000"/>
            <a:ext cx="393840" cy="399960"/>
            <a:chOff x="7966080" y="4518000"/>
            <a:chExt cx="393840" cy="399960"/>
          </a:xfrm>
        </p:grpSpPr>
        <p:sp>
          <p:nvSpPr>
            <p:cNvPr id="946" name=""/>
            <p:cNvSpPr/>
            <p:nvPr/>
          </p:nvSpPr>
          <p:spPr>
            <a:xfrm>
              <a:off x="8170920" y="4518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66080" y="48909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03760" y="4470480"/>
            <a:ext cx="393840" cy="399960"/>
            <a:chOff x="5603760" y="4470480"/>
            <a:chExt cx="393840" cy="399960"/>
          </a:xfrm>
        </p:grpSpPr>
        <p:sp>
          <p:nvSpPr>
            <p:cNvPr id="949" name=""/>
            <p:cNvSpPr/>
            <p:nvPr/>
          </p:nvSpPr>
          <p:spPr>
            <a:xfrm>
              <a:off x="5808600" y="4470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03760" y="4843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 flipV="1">
            <a:off x="5807160" y="4304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40280" y="2882880"/>
            <a:ext cx="1890720" cy="1647720"/>
          </a:xfrm>
          <a:custGeom>
            <a:avLst/>
            <a:gdLst/>
            <a:ahLst/>
            <a:rect l="l" t="t" r="r" b="b"/>
            <a:pathLst>
              <a:path w="1191" h="1038">
                <a:moveTo>
                  <a:pt x="1131" y="1038"/>
                </a:moveTo>
                <a:cubicBezTo>
                  <a:pt x="1096" y="1005"/>
                  <a:pt x="1062" y="973"/>
                  <a:pt x="1064" y="938"/>
                </a:cubicBezTo>
                <a:cubicBezTo>
                  <a:pt x="1066" y="903"/>
                  <a:pt x="1142" y="874"/>
                  <a:pt x="1142" y="826"/>
                </a:cubicBezTo>
                <a:cubicBezTo>
                  <a:pt x="1142" y="778"/>
                  <a:pt x="1057" y="699"/>
                  <a:pt x="1064" y="649"/>
                </a:cubicBezTo>
                <a:cubicBezTo>
                  <a:pt x="1071" y="599"/>
                  <a:pt x="1191" y="563"/>
                  <a:pt x="1186" y="526"/>
                </a:cubicBezTo>
                <a:cubicBezTo>
                  <a:pt x="1181" y="489"/>
                  <a:pt x="1042" y="465"/>
                  <a:pt x="1031" y="426"/>
                </a:cubicBezTo>
                <a:cubicBezTo>
                  <a:pt x="1020" y="387"/>
                  <a:pt x="1124" y="328"/>
                  <a:pt x="1120" y="293"/>
                </a:cubicBezTo>
                <a:cubicBezTo>
                  <a:pt x="1116" y="258"/>
                  <a:pt x="1036" y="246"/>
                  <a:pt x="1008" y="215"/>
                </a:cubicBezTo>
                <a:cubicBezTo>
                  <a:pt x="980" y="184"/>
                  <a:pt x="984" y="111"/>
                  <a:pt x="953" y="104"/>
                </a:cubicBezTo>
                <a:cubicBezTo>
                  <a:pt x="922" y="97"/>
                  <a:pt x="854" y="180"/>
                  <a:pt x="819" y="171"/>
                </a:cubicBezTo>
                <a:cubicBezTo>
                  <a:pt x="784" y="162"/>
                  <a:pt x="771" y="49"/>
                  <a:pt x="742" y="49"/>
                </a:cubicBezTo>
                <a:cubicBezTo>
                  <a:pt x="713" y="49"/>
                  <a:pt x="673" y="178"/>
                  <a:pt x="642" y="171"/>
                </a:cubicBezTo>
                <a:cubicBezTo>
                  <a:pt x="611" y="164"/>
                  <a:pt x="594" y="8"/>
                  <a:pt x="553" y="4"/>
                </a:cubicBezTo>
                <a:cubicBezTo>
                  <a:pt x="512" y="0"/>
                  <a:pt x="438" y="138"/>
                  <a:pt x="397" y="149"/>
                </a:cubicBezTo>
                <a:cubicBezTo>
                  <a:pt x="356" y="160"/>
                  <a:pt x="339" y="73"/>
                  <a:pt x="308" y="71"/>
                </a:cubicBezTo>
                <a:cubicBezTo>
                  <a:pt x="277" y="69"/>
                  <a:pt x="243" y="136"/>
                  <a:pt x="208" y="138"/>
                </a:cubicBezTo>
                <a:cubicBezTo>
                  <a:pt x="173" y="140"/>
                  <a:pt x="128" y="62"/>
                  <a:pt x="97" y="82"/>
                </a:cubicBezTo>
                <a:cubicBezTo>
                  <a:pt x="66" y="102"/>
                  <a:pt x="39" y="204"/>
                  <a:pt x="23" y="256"/>
                </a:cubicBezTo>
                <a:cubicBezTo>
                  <a:pt x="7" y="308"/>
                  <a:pt x="5" y="368"/>
                  <a:pt x="0" y="39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99600" y="307332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’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810400" y="1913040"/>
            <a:ext cx="2288880" cy="1143000"/>
          </a:xfrm>
          <a:custGeom>
            <a:avLst/>
            <a:gdLst/>
            <a:ahLst/>
            <a:rect l="l" t="t" r="r" b="b"/>
            <a:pathLst>
              <a:path w="1442" h="720">
                <a:moveTo>
                  <a:pt x="1358" y="720"/>
                </a:moveTo>
                <a:cubicBezTo>
                  <a:pt x="1400" y="657"/>
                  <a:pt x="1442" y="595"/>
                  <a:pt x="1429" y="556"/>
                </a:cubicBezTo>
                <a:cubicBezTo>
                  <a:pt x="1416" y="517"/>
                  <a:pt x="1288" y="525"/>
                  <a:pt x="1280" y="486"/>
                </a:cubicBezTo>
                <a:cubicBezTo>
                  <a:pt x="1272" y="447"/>
                  <a:pt x="1395" y="360"/>
                  <a:pt x="1382" y="322"/>
                </a:cubicBezTo>
                <a:cubicBezTo>
                  <a:pt x="1369" y="284"/>
                  <a:pt x="1224" y="299"/>
                  <a:pt x="1203" y="260"/>
                </a:cubicBezTo>
                <a:cubicBezTo>
                  <a:pt x="1182" y="221"/>
                  <a:pt x="1276" y="117"/>
                  <a:pt x="1257" y="89"/>
                </a:cubicBezTo>
                <a:cubicBezTo>
                  <a:pt x="1238" y="61"/>
                  <a:pt x="1132" y="101"/>
                  <a:pt x="1086" y="89"/>
                </a:cubicBezTo>
                <a:cubicBezTo>
                  <a:pt x="1040" y="77"/>
                  <a:pt x="1019" y="13"/>
                  <a:pt x="977" y="19"/>
                </a:cubicBezTo>
                <a:cubicBezTo>
                  <a:pt x="935" y="25"/>
                  <a:pt x="874" y="131"/>
                  <a:pt x="836" y="128"/>
                </a:cubicBezTo>
                <a:cubicBezTo>
                  <a:pt x="798" y="125"/>
                  <a:pt x="781" y="6"/>
                  <a:pt x="751" y="3"/>
                </a:cubicBezTo>
                <a:cubicBezTo>
                  <a:pt x="721" y="0"/>
                  <a:pt x="687" y="112"/>
                  <a:pt x="657" y="112"/>
                </a:cubicBezTo>
                <a:cubicBezTo>
                  <a:pt x="627" y="112"/>
                  <a:pt x="598" y="0"/>
                  <a:pt x="571" y="3"/>
                </a:cubicBezTo>
                <a:cubicBezTo>
                  <a:pt x="544" y="6"/>
                  <a:pt x="528" y="123"/>
                  <a:pt x="493" y="128"/>
                </a:cubicBezTo>
                <a:cubicBezTo>
                  <a:pt x="458" y="133"/>
                  <a:pt x="393" y="29"/>
                  <a:pt x="361" y="34"/>
                </a:cubicBezTo>
                <a:cubicBezTo>
                  <a:pt x="329" y="39"/>
                  <a:pt x="295" y="123"/>
                  <a:pt x="299" y="159"/>
                </a:cubicBezTo>
                <a:cubicBezTo>
                  <a:pt x="303" y="195"/>
                  <a:pt x="398" y="226"/>
                  <a:pt x="384" y="252"/>
                </a:cubicBezTo>
                <a:cubicBezTo>
                  <a:pt x="370" y="278"/>
                  <a:pt x="230" y="283"/>
                  <a:pt x="213" y="315"/>
                </a:cubicBezTo>
                <a:cubicBezTo>
                  <a:pt x="196" y="347"/>
                  <a:pt x="312" y="389"/>
                  <a:pt x="283" y="447"/>
                </a:cubicBezTo>
                <a:cubicBezTo>
                  <a:pt x="254" y="505"/>
                  <a:pt x="82" y="620"/>
                  <a:pt x="41" y="665"/>
                </a:cubicBezTo>
                <a:cubicBezTo>
                  <a:pt x="0" y="710"/>
                  <a:pt x="17" y="715"/>
                  <a:pt x="34" y="72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10920" y="2136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245280" y="3406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73880" y="3576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21120" y="3652920"/>
            <a:ext cx="16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= I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Bm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408480" y="5770440"/>
                <a:ext cx="22082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800360" y="1864800"/>
            <a:ext cx="0" cy="24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93800" y="4255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17640" y="2280960"/>
            <a:ext cx="193680" cy="19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028960" y="1881000"/>
            <a:ext cx="28400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994040" y="2379240"/>
            <a:ext cx="28573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76400" y="2777760"/>
            <a:ext cx="2928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1941480" y="3125880"/>
            <a:ext cx="29098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870200" y="3476520"/>
            <a:ext cx="29811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1852560" y="3823920"/>
            <a:ext cx="29466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03560" y="37702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46960" y="167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17640" y="2379600"/>
            <a:ext cx="2840040" cy="1860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603520" y="414828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9240" y="286236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817640" y="329400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3920" y="3276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1400" y="2822400"/>
            <a:ext cx="400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11560" y="1243080"/>
            <a:ext cx="1954080" cy="745560"/>
          </a:xfr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/(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||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02120" y="28749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9760" y="4390920"/>
            <a:ext cx="0" cy="2259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68760" y="327816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856120" y="1916280"/>
            <a:ext cx="0" cy="23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73760" y="2463840"/>
            <a:ext cx="1676520" cy="166212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9200" y="169560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16200000">
            <a:off x="2388240" y="4917240"/>
            <a:ext cx="157968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87480" y="465624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45600" y="46846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058600" y="307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42240" y="6175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297480" y="2530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716200" y="5869080"/>
            <a:ext cx="45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09160" y="220968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29920" y="56340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031080" y="4324320"/>
                <a:ext cx="2207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5" name=""/>
          <p:cNvSpPr/>
          <p:nvPr/>
        </p:nvSpPr>
        <p:spPr>
          <a:xfrm>
            <a:off x="2401920" y="2081160"/>
            <a:ext cx="1373040" cy="207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139920" y="3228840"/>
            <a:ext cx="74880" cy="6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757680" y="4141800"/>
            <a:ext cx="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891040" y="2862360"/>
            <a:ext cx="1676520" cy="75096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25440" y="1243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zna prosta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6064200" y="5410080"/>
                <a:ext cx="17287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04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1005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09160" y="1935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0040" y="5589720"/>
              <a:ext cx="65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5786280" y="4535640"/>
                <a:ext cx="22831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3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1046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1083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1124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1127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1130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1172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190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258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336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400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473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546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619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692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765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6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1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1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2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4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887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895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898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9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>
            <a:off x="811800" y="49860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emy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33640" y="2325600"/>
            <a:ext cx="7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145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rot="10800000">
            <a:off x="1888920" y="2947680"/>
            <a:ext cx="25380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6578640" y="4414680"/>
            <a:ext cx="728280" cy="136440"/>
            <a:chOff x="6578640" y="4414680"/>
            <a:chExt cx="728280" cy="136440"/>
          </a:xfrm>
        </p:grpSpPr>
        <p:sp>
          <p:nvSpPr>
            <p:cNvPr id="1935" name=""/>
            <p:cNvSpPr/>
            <p:nvPr/>
          </p:nvSpPr>
          <p:spPr>
            <a:xfrm>
              <a:off x="657864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2092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604880" y="4414680"/>
            <a:ext cx="728280" cy="136440"/>
            <a:chOff x="1604880" y="4414680"/>
            <a:chExt cx="728280" cy="136440"/>
          </a:xfrm>
        </p:grpSpPr>
        <p:sp>
          <p:nvSpPr>
            <p:cNvPr id="1938" name=""/>
            <p:cNvSpPr/>
            <p:nvPr/>
          </p:nvSpPr>
          <p:spPr>
            <a:xfrm>
              <a:off x="1604880" y="4414680"/>
              <a:ext cx="72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47160" y="4551120"/>
              <a:ext cx="2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196992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943680" y="4551480"/>
            <a:ext cx="0" cy="97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69920" y="5530680"/>
            <a:ext cx="497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9987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57720" y="3483000"/>
            <a:ext cx="0" cy="399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57720" y="5151600"/>
            <a:ext cx="0" cy="37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272120" y="5530680"/>
            <a:ext cx="0" cy="400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071960" y="5894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407960" y="4016520"/>
            <a:ext cx="3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443720" y="41940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265880" y="4021200"/>
            <a:ext cx="35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85800" y="41054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343640" y="30369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177560" y="2948040"/>
            <a:ext cx="50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0800000">
            <a:off x="4135320" y="4390920"/>
            <a:ext cx="254160" cy="78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37080" y="4462560"/>
            <a:ext cx="53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0800000">
            <a:off x="3808440" y="2769840"/>
            <a:ext cx="203040" cy="2271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3781440" y="3036960"/>
            <a:ext cx="2714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932200" y="2325600"/>
            <a:ext cx="1009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060960" y="2251080"/>
            <a:ext cx="112680" cy="1252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599000" y="2314440"/>
            <a:ext cx="1461960" cy="11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94120" y="3483000"/>
            <a:ext cx="7221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11760" y="3036960"/>
            <a:ext cx="0" cy="446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56080" y="2770200"/>
            <a:ext cx="281160" cy="311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56080" y="2948040"/>
            <a:ext cx="281160" cy="31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594320" y="2757600"/>
            <a:ext cx="144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214880" y="3416400"/>
            <a:ext cx="7596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586400" y="2305080"/>
            <a:ext cx="0" cy="461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206960" y="3838680"/>
            <a:ext cx="114120" cy="126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803680" y="2271600"/>
            <a:ext cx="112680" cy="1256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56280" y="3483000"/>
                <a:ext cx="1528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1" name=""/>
          <p:cNvSpPr/>
          <p:nvPr/>
        </p:nvSpPr>
        <p:spPr>
          <a:xfrm>
            <a:off x="493704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2859120"/>
            <a:ext cx="72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4530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742360" y="1612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56080" y="366084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916440" y="2325600"/>
            <a:ext cx="0" cy="45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4936680" y="2305080"/>
            <a:ext cx="32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38480" y="232560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57520" y="27129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333600" y="1701720"/>
            <a:ext cx="41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594320" y="303696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214880" y="5460840"/>
            <a:ext cx="7596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97600" y="250308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3573360" y="268092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54480" y="3957480"/>
            <a:ext cx="0" cy="41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975360" y="232560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rot="10800000">
            <a:off x="6850080" y="2947680"/>
            <a:ext cx="254160" cy="785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959520" y="3749760"/>
            <a:ext cx="0" cy="66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186600" y="2325600"/>
            <a:ext cx="75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 flipV="1">
            <a:off x="4776840" y="3215880"/>
            <a:ext cx="40176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245120" y="34830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742920" y="342576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611440" y="3878280"/>
            <a:ext cx="932040" cy="10285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093840" y="455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>
            <a:off x="5308560" y="3927600"/>
            <a:ext cx="992160" cy="10303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00080" y="4551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2714760" y="2427120"/>
                <a:ext cx="3465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577800" y="4708440"/>
                <a:ext cx="7356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587520" y="4276800"/>
                <a:ext cx="7542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955800" y="789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8" name=""/>
              <p:cNvSpPr txBox="1"/>
              <p:nvPr/>
            </p:nvSpPr>
            <p:spPr>
              <a:xfrm>
                <a:off x="708120" y="1622520"/>
                <a:ext cx="7618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9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477720" y="4314960"/>
                <a:ext cx="81900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1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2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68920" y="4179960"/>
                <a:ext cx="239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63680" y="4556160"/>
                <a:ext cx="25081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260280" y="1030320"/>
            <a:ext cx="3891960" cy="3596760"/>
            <a:chOff x="260280" y="1030320"/>
            <a:chExt cx="3891960" cy="3596760"/>
          </a:xfrm>
        </p:grpSpPr>
        <p:grpSp>
          <p:nvGrpSpPr>
            <p:cNvPr id="85" name=""/>
            <p:cNvGrpSpPr/>
            <p:nvPr/>
          </p:nvGrpSpPr>
          <p:grpSpPr>
            <a:xfrm>
              <a:off x="260280" y="1030320"/>
              <a:ext cx="3891960" cy="3596760"/>
              <a:chOff x="260280" y="1030320"/>
              <a:chExt cx="3891960" cy="3596760"/>
            </a:xfrm>
          </p:grpSpPr>
          <p:sp>
            <p:nvSpPr>
              <p:cNvPr id="86" name=""/>
              <p:cNvSpPr/>
              <p:nvPr/>
            </p:nvSpPr>
            <p:spPr>
              <a:xfrm>
                <a:off x="1650960" y="20512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50960" y="22366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98920" y="20376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50960" y="31654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650960" y="3350880"/>
                <a:ext cx="299160" cy="32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1798920" y="3133800"/>
                <a:ext cx="1440" cy="55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800000">
                <a:off x="2483640" y="3258000"/>
                <a:ext cx="21744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54480" y="3536640"/>
                <a:ext cx="29052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449440" y="2161440"/>
                <a:ext cx="290160" cy="261000"/>
                <a:chOff x="2449440" y="2161440"/>
                <a:chExt cx="290160" cy="261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95880" y="2186640"/>
                  <a:ext cx="217080" cy="235800"/>
                </a:xfrm>
                <a:prstGeom prst="triangle">
                  <a:avLst>
                    <a:gd name="adj" fmla="val 50000"/>
                  </a:avLst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2449440" y="2161440"/>
                  <a:ext cx="290160" cy="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747000" y="2793960"/>
                <a:ext cx="18828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12160" y="2422800"/>
                <a:ext cx="0" cy="835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69320" y="2743920"/>
                <a:ext cx="7992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66880" y="273996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54560" y="162972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54560" y="3923640"/>
                <a:ext cx="80280" cy="86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81360" y="16120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21960" y="2586600"/>
                <a:ext cx="0" cy="556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798920" y="167976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98920" y="4001040"/>
                <a:ext cx="18824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3800" y="1679760"/>
                <a:ext cx="0" cy="464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3800" y="3536640"/>
                <a:ext cx="0" cy="46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98920" y="167976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8920" y="3629520"/>
                <a:ext cx="0" cy="37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1360" y="3923640"/>
                <a:ext cx="120960" cy="1310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480" y="2753280"/>
                <a:ext cx="120960" cy="1314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857520" y="1865520"/>
                    <a:ext cx="84852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902160" y="3443760"/>
                    <a:ext cx="725040" cy="46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5" name=""/>
              <p:cNvSpPr/>
              <p:nvPr/>
            </p:nvSpPr>
            <p:spPr>
              <a:xfrm flipV="1">
                <a:off x="2612160" y="2422440"/>
                <a:ext cx="0" cy="278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12160" y="2793960"/>
                <a:ext cx="0" cy="37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40320" y="232992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0320" y="2701080"/>
                <a:ext cx="440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0280" y="2979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83520" y="177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68840" y="33508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97000" y="16797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11320" y="4001040"/>
                <a:ext cx="42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28880" y="2793960"/>
                <a:ext cx="42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26000" y="1030320"/>
                <a:ext cx="51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97000" y="4186440"/>
                <a:ext cx="599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64000" y="2701080"/>
                <a:ext cx="378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3204720" y="2943360"/>
              <a:ext cx="320760" cy="91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71960" y="1784520"/>
              <a:ext cx="320400" cy="91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0640" y="3011400"/>
              <a:ext cx="48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0800" y="2236680"/>
              <a:ext cx="48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3" name=""/>
              <p:cNvSpPr txBox="1"/>
              <p:nvPr/>
            </p:nvSpPr>
            <p:spPr>
              <a:xfrm>
                <a:off x="1504800" y="4616280"/>
                <a:ext cx="6561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4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21880" y="839880"/>
            <a:ext cx="446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387440" y="2424240"/>
                <a:ext cx="6796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8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139680" y="4427640"/>
                <a:ext cx="82328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832040" y="2914560"/>
                <a:ext cx="4956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2930400" y="4683240"/>
                <a:ext cx="2757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7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1924200" y="1390680"/>
                <a:ext cx="476712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5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6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2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źródłem obliczanym z tw. Thev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2059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4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2065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7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6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2101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2103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0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2111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3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6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1679400" y="5029200"/>
                <a:ext cx="5146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eciowe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1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2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7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8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6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63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2164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2172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4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55800" y="1878120"/>
              <a:ext cx="68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0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830240" y="4441680"/>
              <a:ext cx="890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gólny układ zastępczy rezystorowych obwodów polaryz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Times New Roman"/>
              </a:rPr>
              <a:t>(dotyczy także tranzystorów polowy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539280" y="1436760"/>
            <a:ext cx="7885800" cy="4802040"/>
            <a:chOff x="539280" y="1436760"/>
            <a:chExt cx="7885800" cy="4802040"/>
          </a:xfrm>
        </p:grpSpPr>
        <p:sp>
          <p:nvSpPr>
            <p:cNvPr id="2208" name=""/>
            <p:cNvSpPr/>
            <p:nvPr/>
          </p:nvSpPr>
          <p:spPr>
            <a:xfrm>
              <a:off x="2612880" y="1646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28800" y="2700360"/>
              <a:ext cx="6588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0880" y="3328920"/>
              <a:ext cx="37008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77440" y="3333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39880" y="17384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927000" y="1566720"/>
              <a:ext cx="18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927000" y="218448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39280" y="18144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27080" y="3247920"/>
              <a:ext cx="17172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013120" y="307656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013120" y="3693960"/>
              <a:ext cx="14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165040" y="336060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85960" y="2671920"/>
              <a:ext cx="712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2565360" y="3481560"/>
              <a:ext cx="3002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2565360" y="3592440"/>
              <a:ext cx="300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2712600" y="3090960"/>
              <a:ext cx="468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712960" y="3608280"/>
              <a:ext cx="46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874600" y="31719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016080" y="3273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581120" y="2448000"/>
              <a:ext cx="517680" cy="5112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38440" y="2554200"/>
              <a:ext cx="612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758960" y="2507760"/>
              <a:ext cx="254160" cy="112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1758960" y="2741760"/>
              <a:ext cx="157320" cy="106200"/>
              <a:chOff x="1758960" y="2741760"/>
              <a:chExt cx="157320" cy="106200"/>
            </a:xfrm>
          </p:grpSpPr>
          <p:sp>
            <p:nvSpPr>
              <p:cNvPr id="2231" name=""/>
              <p:cNvSpPr/>
              <p:nvPr/>
            </p:nvSpPr>
            <p:spPr>
              <a:xfrm>
                <a:off x="1758960" y="2762280"/>
                <a:ext cx="15732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89200" y="2741760"/>
                <a:ext cx="12708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3" name=""/>
            <p:cNvSpPr/>
            <p:nvPr/>
          </p:nvSpPr>
          <p:spPr>
            <a:xfrm>
              <a:off x="1916280" y="2843280"/>
              <a:ext cx="96840" cy="46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581120" y="270684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2013120" y="2320920"/>
              <a:ext cx="14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013120" y="288900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927080" y="1698480"/>
              <a:ext cx="171720" cy="4557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13120" y="152100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013120" y="21448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54240" y="1793880"/>
              <a:ext cx="371520" cy="325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28400" y="18352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39880" y="3259080"/>
              <a:ext cx="17280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927000" y="2371680"/>
              <a:ext cx="1800" cy="90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927000" y="3699000"/>
              <a:ext cx="180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879480" y="3914280"/>
              <a:ext cx="2451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22480" y="3090960"/>
              <a:ext cx="69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84560" y="262080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260880" y="2681280"/>
              <a:ext cx="17748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84560" y="2468520"/>
              <a:ext cx="31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260880" y="253368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41520" y="2681280"/>
              <a:ext cx="180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41520" y="1525680"/>
              <a:ext cx="180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971720" y="1495440"/>
              <a:ext cx="6660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300480" y="149544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971720" y="306072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971720" y="3867120"/>
              <a:ext cx="6660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82720" y="3867120"/>
              <a:ext cx="6984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300480" y="3867120"/>
              <a:ext cx="7128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634200" y="24336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67400" y="253368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06680" y="20779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482640" y="21193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392640" y="2741760"/>
              <a:ext cx="304560" cy="309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501360" y="2771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27560" y="2898720"/>
              <a:ext cx="30492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308200" y="294012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03920" y="2540160"/>
              <a:ext cx="513000" cy="515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61240" y="2651040"/>
              <a:ext cx="1440" cy="289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877080" y="2604600"/>
              <a:ext cx="252360" cy="111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0" name=""/>
            <p:cNvGrpSpPr/>
            <p:nvPr/>
          </p:nvGrpSpPr>
          <p:grpSpPr>
            <a:xfrm>
              <a:off x="6877080" y="2838600"/>
              <a:ext cx="156960" cy="106200"/>
              <a:chOff x="6877080" y="2838600"/>
              <a:chExt cx="156960" cy="106200"/>
            </a:xfrm>
          </p:grpSpPr>
          <p:sp>
            <p:nvSpPr>
              <p:cNvPr id="2271" name=""/>
              <p:cNvSpPr/>
              <p:nvPr/>
            </p:nvSpPr>
            <p:spPr>
              <a:xfrm>
                <a:off x="6877080" y="2859120"/>
                <a:ext cx="156960" cy="81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906960" y="2838600"/>
                <a:ext cx="126720" cy="106200"/>
              </a:xfrm>
              <a:custGeom>
                <a:avLst/>
                <a:gdLst/>
                <a:ahLst/>
                <a:rect l="l" t="t" r="r" b="b"/>
                <a:pathLst>
                  <a:path w="80" h="67">
                    <a:moveTo>
                      <a:pt x="0" y="67"/>
                    </a:moveTo>
                    <a:lnTo>
                      <a:pt x="80" y="64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3" name=""/>
            <p:cNvSpPr/>
            <p:nvPr/>
          </p:nvSpPr>
          <p:spPr>
            <a:xfrm>
              <a:off x="7034040" y="2933640"/>
              <a:ext cx="95400" cy="50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6703560" y="280368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7129440" y="2412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7129440" y="2984400"/>
              <a:ext cx="648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43760" y="3328920"/>
              <a:ext cx="173160" cy="451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129440" y="3152880"/>
              <a:ext cx="14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129440" y="3770280"/>
              <a:ext cx="1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408800" y="343044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15040" y="1617840"/>
              <a:ext cx="180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15040" y="2235240"/>
              <a:ext cx="18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635160" y="1863720"/>
              <a:ext cx="2916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35920" y="1612800"/>
              <a:ext cx="68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651800" y="2732040"/>
              <a:ext cx="32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734240" y="2792520"/>
              <a:ext cx="171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651800" y="2579760"/>
              <a:ext cx="32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734240" y="2639880"/>
              <a:ext cx="171360" cy="6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808760" y="2792520"/>
              <a:ext cx="180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808760" y="1612800"/>
              <a:ext cx="180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041680" y="2523960"/>
              <a:ext cx="3834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875720" y="218916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951320" y="2230560"/>
              <a:ext cx="1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59880" y="2852640"/>
              <a:ext cx="304560" cy="309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970400" y="28843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62400" y="3978360"/>
              <a:ext cx="264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62400" y="2778120"/>
              <a:ext cx="15573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005440" y="3441600"/>
              <a:ext cx="3189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086440" y="350676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05440" y="3294000"/>
              <a:ext cx="318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086440" y="3354480"/>
              <a:ext cx="172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162400" y="3502080"/>
              <a:ext cx="1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162400" y="2778120"/>
              <a:ext cx="180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604040" y="3319560"/>
              <a:ext cx="2689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13520" y="3562200"/>
              <a:ext cx="303120" cy="314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22240" y="3598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"/>
            <p:cNvGrpSpPr/>
            <p:nvPr/>
          </p:nvGrpSpPr>
          <p:grpSpPr>
            <a:xfrm>
              <a:off x="4908600" y="3157560"/>
              <a:ext cx="106200" cy="536400"/>
              <a:chOff x="4908600" y="3157560"/>
              <a:chExt cx="106200" cy="536400"/>
            </a:xfrm>
          </p:grpSpPr>
          <p:sp>
            <p:nvSpPr>
              <p:cNvPr id="2308" name=""/>
              <p:cNvSpPr/>
              <p:nvPr/>
            </p:nvSpPr>
            <p:spPr>
              <a:xfrm>
                <a:off x="4959000" y="3157560"/>
                <a:ext cx="1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908600" y="31575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32" y="0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0" name=""/>
            <p:cNvSpPr/>
            <p:nvPr/>
          </p:nvSpPr>
          <p:spPr>
            <a:xfrm>
              <a:off x="7089840" y="3948120"/>
              <a:ext cx="712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607000" y="2290680"/>
              <a:ext cx="284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5400000">
              <a:off x="1140840" y="248364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915480" y="1521000"/>
              <a:ext cx="24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5400000">
              <a:off x="2588400" y="1294560"/>
              <a:ext cx="172800" cy="4572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06080" y="2238480"/>
              <a:ext cx="195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7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18200" y="1789200"/>
              <a:ext cx="198720" cy="455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7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8" name=""/>
                <p:cNvSpPr txBox="1"/>
                <p:nvPr/>
              </p:nvSpPr>
              <p:spPr>
                <a:xfrm>
                  <a:off x="1859040" y="4282920"/>
                  <a:ext cx="2379600" cy="195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9" name=""/>
                <p:cNvSpPr txBox="1"/>
                <p:nvPr/>
              </p:nvSpPr>
              <p:spPr>
                <a:xfrm>
                  <a:off x="5124600" y="4871880"/>
                  <a:ext cx="245556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20" name=""/>
            <p:cNvSpPr/>
            <p:nvPr/>
          </p:nvSpPr>
          <p:spPr>
            <a:xfrm>
              <a:off x="4194000" y="2536920"/>
              <a:ext cx="865440" cy="183960"/>
            </a:xfrm>
            <a:prstGeom prst="rightArrow">
              <a:avLst>
                <a:gd name="adj1" fmla="val 50000"/>
                <a:gd name="adj2" fmla="val 117613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486400" y="2698920"/>
              <a:ext cx="450720" cy="17136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2" name=""/>
                <p:cNvSpPr txBox="1"/>
                <p:nvPr/>
              </p:nvSpPr>
              <p:spPr>
                <a:xfrm>
                  <a:off x="5068800" y="5541840"/>
                  <a:ext cx="2576520" cy="6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1677960" y="35798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50676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506760" y="3251160"/>
            <a:ext cx="2919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216240" y="3149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79872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3506760" y="2738520"/>
            <a:ext cx="29196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0800000">
            <a:off x="3687840" y="1452240"/>
            <a:ext cx="20304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4770360" y="2948040"/>
            <a:ext cx="582480" cy="102600"/>
            <a:chOff x="4770360" y="2948040"/>
            <a:chExt cx="582480" cy="102600"/>
          </a:xfrm>
        </p:grpSpPr>
        <p:sp>
          <p:nvSpPr>
            <p:cNvPr id="2332" name=""/>
            <p:cNvSpPr/>
            <p:nvPr/>
          </p:nvSpPr>
          <p:spPr>
            <a:xfrm>
              <a:off x="4770360" y="294804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64400" y="3050640"/>
              <a:ext cx="1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"/>
          <p:cNvSpPr/>
          <p:nvPr/>
        </p:nvSpPr>
        <p:spPr>
          <a:xfrm>
            <a:off x="3824280" y="5629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821040" y="4497480"/>
            <a:ext cx="0" cy="11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37778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47960" y="1127160"/>
            <a:ext cx="13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94080" y="314964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828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986360" y="47926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2347920" y="4856040"/>
            <a:ext cx="291600" cy="306360"/>
            <a:chOff x="2347920" y="4856040"/>
            <a:chExt cx="291600" cy="306360"/>
          </a:xfrm>
        </p:grpSpPr>
        <p:sp>
          <p:nvSpPr>
            <p:cNvPr id="2342" name=""/>
            <p:cNvSpPr/>
            <p:nvPr/>
          </p:nvSpPr>
          <p:spPr>
            <a:xfrm>
              <a:off x="249948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47920" y="5133960"/>
              <a:ext cx="29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4" name=""/>
          <p:cNvSpPr/>
          <p:nvPr/>
        </p:nvSpPr>
        <p:spPr>
          <a:xfrm>
            <a:off x="5249880" y="2581200"/>
            <a:ext cx="2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40720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868480" y="31510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7828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41353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 flipV="1">
            <a:off x="3173040" y="3385800"/>
            <a:ext cx="384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113360" y="2963880"/>
            <a:ext cx="98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95200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8645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782880" y="231300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rot="10800000">
            <a:off x="2392200" y="343656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9408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249408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0436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008600" y="1495440"/>
            <a:ext cx="72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925720" y="415116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771560" y="3173400"/>
            <a:ext cx="608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4726080" y="5305320"/>
            <a:ext cx="582120" cy="102960"/>
            <a:chOff x="4726080" y="5305320"/>
            <a:chExt cx="582120" cy="102960"/>
          </a:xfrm>
        </p:grpSpPr>
        <p:sp>
          <p:nvSpPr>
            <p:cNvPr id="2362" name=""/>
            <p:cNvSpPr/>
            <p:nvPr/>
          </p:nvSpPr>
          <p:spPr>
            <a:xfrm>
              <a:off x="4726080" y="5305320"/>
              <a:ext cx="58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9760" y="5408280"/>
              <a:ext cx="19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4" name=""/>
          <p:cNvSpPr/>
          <p:nvPr/>
        </p:nvSpPr>
        <p:spPr>
          <a:xfrm>
            <a:off x="50356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0356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495520" y="4838760"/>
            <a:ext cx="254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2435400" y="4782960"/>
            <a:ext cx="9360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5398920" y="5057640"/>
            <a:ext cx="66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807000" y="3629160"/>
            <a:ext cx="82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4473720" y="3828960"/>
            <a:ext cx="316800" cy="76320"/>
            <a:chOff x="4473720" y="3828960"/>
            <a:chExt cx="316800" cy="76320"/>
          </a:xfrm>
        </p:grpSpPr>
        <p:sp>
          <p:nvSpPr>
            <p:cNvPr id="2371" name=""/>
            <p:cNvSpPr/>
            <p:nvPr/>
          </p:nvSpPr>
          <p:spPr>
            <a:xfrm>
              <a:off x="4473720" y="382896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83440" y="3905280"/>
              <a:ext cx="30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3" name=""/>
          <p:cNvSpPr/>
          <p:nvPr/>
        </p:nvSpPr>
        <p:spPr>
          <a:xfrm>
            <a:off x="4637160" y="362916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637160" y="3905280"/>
            <a:ext cx="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575240" y="4773600"/>
            <a:ext cx="9504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746520" y="3583080"/>
            <a:ext cx="9360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096080" y="367668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846600" y="2857680"/>
            <a:ext cx="1058760" cy="1942920"/>
          </a:xfrm>
          <a:custGeom>
            <a:avLst/>
            <a:gdLst/>
            <a:ahLst/>
            <a:rect l="l" t="t" r="r" b="b"/>
            <a:pathLst>
              <a:path w="620" h="1224">
                <a:moveTo>
                  <a:pt x="55" y="0"/>
                </a:moveTo>
                <a:cubicBezTo>
                  <a:pt x="34" y="13"/>
                  <a:pt x="13" y="26"/>
                  <a:pt x="13" y="42"/>
                </a:cubicBezTo>
                <a:cubicBezTo>
                  <a:pt x="13" y="58"/>
                  <a:pt x="56" y="77"/>
                  <a:pt x="55" y="96"/>
                </a:cubicBezTo>
                <a:cubicBezTo>
                  <a:pt x="54" y="115"/>
                  <a:pt x="5" y="137"/>
                  <a:pt x="7" y="156"/>
                </a:cubicBezTo>
                <a:cubicBezTo>
                  <a:pt x="9" y="175"/>
                  <a:pt x="65" y="194"/>
                  <a:pt x="67" y="210"/>
                </a:cubicBezTo>
                <a:cubicBezTo>
                  <a:pt x="69" y="226"/>
                  <a:pt x="17" y="233"/>
                  <a:pt x="19" y="252"/>
                </a:cubicBezTo>
                <a:cubicBezTo>
                  <a:pt x="21" y="271"/>
                  <a:pt x="81" y="305"/>
                  <a:pt x="79" y="324"/>
                </a:cubicBezTo>
                <a:cubicBezTo>
                  <a:pt x="77" y="343"/>
                  <a:pt x="0" y="350"/>
                  <a:pt x="7" y="366"/>
                </a:cubicBezTo>
                <a:cubicBezTo>
                  <a:pt x="14" y="382"/>
                  <a:pt x="83" y="417"/>
                  <a:pt x="121" y="420"/>
                </a:cubicBezTo>
                <a:cubicBezTo>
                  <a:pt x="159" y="423"/>
                  <a:pt x="215" y="382"/>
                  <a:pt x="235" y="384"/>
                </a:cubicBezTo>
                <a:cubicBezTo>
                  <a:pt x="255" y="386"/>
                  <a:pt x="231" y="429"/>
                  <a:pt x="241" y="432"/>
                </a:cubicBezTo>
                <a:cubicBezTo>
                  <a:pt x="251" y="435"/>
                  <a:pt x="279" y="398"/>
                  <a:pt x="295" y="402"/>
                </a:cubicBezTo>
                <a:cubicBezTo>
                  <a:pt x="311" y="406"/>
                  <a:pt x="310" y="452"/>
                  <a:pt x="337" y="456"/>
                </a:cubicBezTo>
                <a:cubicBezTo>
                  <a:pt x="364" y="460"/>
                  <a:pt x="436" y="425"/>
                  <a:pt x="457" y="426"/>
                </a:cubicBezTo>
                <a:cubicBezTo>
                  <a:pt x="478" y="427"/>
                  <a:pt x="445" y="451"/>
                  <a:pt x="463" y="462"/>
                </a:cubicBezTo>
                <a:cubicBezTo>
                  <a:pt x="481" y="473"/>
                  <a:pt x="539" y="464"/>
                  <a:pt x="565" y="492"/>
                </a:cubicBezTo>
                <a:cubicBezTo>
                  <a:pt x="591" y="520"/>
                  <a:pt x="620" y="593"/>
                  <a:pt x="619" y="630"/>
                </a:cubicBezTo>
                <a:cubicBezTo>
                  <a:pt x="618" y="667"/>
                  <a:pt x="564" y="687"/>
                  <a:pt x="559" y="714"/>
                </a:cubicBezTo>
                <a:cubicBezTo>
                  <a:pt x="554" y="741"/>
                  <a:pt x="595" y="771"/>
                  <a:pt x="589" y="792"/>
                </a:cubicBezTo>
                <a:cubicBezTo>
                  <a:pt x="583" y="813"/>
                  <a:pt x="529" y="821"/>
                  <a:pt x="523" y="840"/>
                </a:cubicBezTo>
                <a:cubicBezTo>
                  <a:pt x="517" y="859"/>
                  <a:pt x="556" y="888"/>
                  <a:pt x="553" y="906"/>
                </a:cubicBezTo>
                <a:cubicBezTo>
                  <a:pt x="550" y="924"/>
                  <a:pt x="507" y="895"/>
                  <a:pt x="505" y="948"/>
                </a:cubicBezTo>
                <a:cubicBezTo>
                  <a:pt x="503" y="1001"/>
                  <a:pt x="534" y="1178"/>
                  <a:pt x="541" y="12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rot="10800000">
            <a:off x="3695760" y="3909600"/>
            <a:ext cx="2016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921120" y="4078440"/>
            <a:ext cx="72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6210360" y="3125880"/>
                <a:ext cx="23623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1677960" y="1112760"/>
            <a:ext cx="6797880" cy="4516560"/>
            <a:chOff x="1677960" y="1112760"/>
            <a:chExt cx="6797880" cy="4516560"/>
          </a:xfrm>
        </p:grpSpPr>
        <p:sp>
          <p:nvSpPr>
            <p:cNvPr id="2384" name=""/>
            <p:cNvSpPr/>
            <p:nvPr/>
          </p:nvSpPr>
          <p:spPr>
            <a:xfrm>
              <a:off x="1677960" y="3579840"/>
              <a:ext cx="72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50676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506760" y="3251160"/>
              <a:ext cx="29196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216240" y="31496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79872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3506760" y="2738520"/>
              <a:ext cx="29196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rot="10800000">
              <a:off x="3687840" y="1452240"/>
              <a:ext cx="20304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1" name=""/>
            <p:cNvGrpSpPr/>
            <p:nvPr/>
          </p:nvGrpSpPr>
          <p:grpSpPr>
            <a:xfrm>
              <a:off x="4770360" y="2948040"/>
              <a:ext cx="582480" cy="102600"/>
              <a:chOff x="4770360" y="2948040"/>
              <a:chExt cx="582480" cy="102600"/>
            </a:xfrm>
          </p:grpSpPr>
          <p:sp>
            <p:nvSpPr>
              <p:cNvPr id="2392" name=""/>
              <p:cNvSpPr/>
              <p:nvPr/>
            </p:nvSpPr>
            <p:spPr>
              <a:xfrm>
                <a:off x="4770360" y="2948040"/>
                <a:ext cx="58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964400" y="3050640"/>
                <a:ext cx="19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3824280" y="5629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82104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37778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747960" y="1127160"/>
              <a:ext cx="13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494080" y="3149640"/>
              <a:ext cx="82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828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86360" y="47926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1" name=""/>
            <p:cNvGrpSpPr/>
            <p:nvPr/>
          </p:nvGrpSpPr>
          <p:grpSpPr>
            <a:xfrm>
              <a:off x="2347920" y="4856040"/>
              <a:ext cx="291600" cy="306360"/>
              <a:chOff x="2347920" y="4856040"/>
              <a:chExt cx="291600" cy="306360"/>
            </a:xfrm>
          </p:grpSpPr>
          <p:sp>
            <p:nvSpPr>
              <p:cNvPr id="2402" name=""/>
              <p:cNvSpPr/>
              <p:nvPr/>
            </p:nvSpPr>
            <p:spPr>
              <a:xfrm>
                <a:off x="249948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347920" y="5133960"/>
                <a:ext cx="29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4" name=""/>
            <p:cNvSpPr/>
            <p:nvPr/>
          </p:nvSpPr>
          <p:spPr>
            <a:xfrm>
              <a:off x="5249880" y="2581200"/>
              <a:ext cx="26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40720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68480" y="3151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7828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41353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3173040" y="3385800"/>
              <a:ext cx="384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113360" y="2963880"/>
              <a:ext cx="98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95200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8645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782880" y="2313000"/>
              <a:ext cx="93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0800000">
              <a:off x="2392200" y="3436560"/>
              <a:ext cx="2016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49408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249408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436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008600" y="1495440"/>
              <a:ext cx="72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9" name=""/>
            <p:cNvGrpSpPr/>
            <p:nvPr/>
          </p:nvGrpSpPr>
          <p:grpSpPr>
            <a:xfrm>
              <a:off x="3575160" y="3855960"/>
              <a:ext cx="491760" cy="685800"/>
              <a:chOff x="3575160" y="3855960"/>
              <a:chExt cx="491760" cy="685800"/>
            </a:xfrm>
          </p:grpSpPr>
          <p:sp>
            <p:nvSpPr>
              <p:cNvPr id="2420" name=""/>
              <p:cNvSpPr/>
              <p:nvPr/>
            </p:nvSpPr>
            <p:spPr>
              <a:xfrm>
                <a:off x="3575160" y="38559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3575160" y="4084560"/>
                <a:ext cx="49176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382104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>
              <a:off x="2925720" y="4151160"/>
              <a:ext cx="101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54640" y="3270240"/>
              <a:ext cx="222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r>
                <a:rPr b="0" lang="pl-P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771560" y="3173400"/>
              <a:ext cx="608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726080" y="5305320"/>
              <a:ext cx="582120" cy="102960"/>
              <a:chOff x="4726080" y="5305320"/>
              <a:chExt cx="582120" cy="102960"/>
            </a:xfrm>
          </p:grpSpPr>
          <p:sp>
            <p:nvSpPr>
              <p:cNvPr id="2427" name=""/>
              <p:cNvSpPr/>
              <p:nvPr/>
            </p:nvSpPr>
            <p:spPr>
              <a:xfrm>
                <a:off x="4726080" y="5305320"/>
                <a:ext cx="582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919760" y="5408280"/>
                <a:ext cx="193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>
              <a:off x="50356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0356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5520" y="4838760"/>
              <a:ext cx="254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435400" y="4782960"/>
              <a:ext cx="9360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398920" y="5057640"/>
              <a:ext cx="66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807000" y="3629160"/>
              <a:ext cx="82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5" name=""/>
            <p:cNvGrpSpPr/>
            <p:nvPr/>
          </p:nvGrpSpPr>
          <p:grpSpPr>
            <a:xfrm>
              <a:off x="4473720" y="3828960"/>
              <a:ext cx="316800" cy="76320"/>
              <a:chOff x="4473720" y="3828960"/>
              <a:chExt cx="316800" cy="76320"/>
            </a:xfrm>
          </p:grpSpPr>
          <p:sp>
            <p:nvSpPr>
              <p:cNvPr id="2436" name=""/>
              <p:cNvSpPr/>
              <p:nvPr/>
            </p:nvSpPr>
            <p:spPr>
              <a:xfrm>
                <a:off x="4473720" y="382896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4483440" y="3905280"/>
                <a:ext cx="30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463716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63716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575240" y="4773600"/>
              <a:ext cx="9504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46520" y="3583080"/>
              <a:ext cx="9360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09608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846600" y="2857680"/>
              <a:ext cx="105876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6" name=""/>
          <p:cNvGrpSpPr/>
          <p:nvPr/>
        </p:nvGrpSpPr>
        <p:grpSpPr>
          <a:xfrm>
            <a:off x="1677960" y="1089000"/>
            <a:ext cx="6624720" cy="4540320"/>
            <a:chOff x="1677960" y="1089000"/>
            <a:chExt cx="6624720" cy="4540320"/>
          </a:xfrm>
        </p:grpSpPr>
        <p:sp>
          <p:nvSpPr>
            <p:cNvPr id="2447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7101000" y="2948040"/>
              <a:ext cx="540720" cy="102600"/>
              <a:chOff x="7101000" y="2948040"/>
              <a:chExt cx="540720" cy="102600"/>
            </a:xfrm>
          </p:grpSpPr>
          <p:sp>
            <p:nvSpPr>
              <p:cNvPr id="2451" name=""/>
              <p:cNvSpPr/>
              <p:nvPr/>
            </p:nvSpPr>
            <p:spPr>
              <a:xfrm>
                <a:off x="7101000" y="2948040"/>
                <a:ext cx="54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8100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3673440" y="562932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649680" y="1127160"/>
              <a:ext cx="37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300800" y="47926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>
              <a:off x="7547040" y="2581200"/>
              <a:ext cx="2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69464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35480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2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473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6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7059600" y="5305320"/>
              <a:ext cx="541080" cy="102960"/>
              <a:chOff x="7059600" y="5305320"/>
              <a:chExt cx="541080" cy="102960"/>
            </a:xfrm>
          </p:grpSpPr>
          <p:sp>
            <p:nvSpPr>
              <p:cNvPr id="2479" name=""/>
              <p:cNvSpPr/>
              <p:nvPr/>
            </p:nvSpPr>
            <p:spPr>
              <a:xfrm>
                <a:off x="705960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23960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34688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34688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38280" y="4838760"/>
              <a:ext cx="498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684920" y="5057640"/>
              <a:ext cx="61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896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57600" y="362916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357880" y="286380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H="1">
              <a:off x="5086440" y="324324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5357520" y="31417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 flipV="1">
              <a:off x="5086440" y="273060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H="1">
              <a:off x="5533920" y="3143160"/>
              <a:ext cx="4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100480" y="230508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4773600" y="283176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5553720" y="2560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4628520" y="2305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048280" y="10890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5067360" y="3429000"/>
              <a:ext cx="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5095800" y="1133280"/>
              <a:ext cx="0" cy="16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952960" y="3143160"/>
              <a:ext cx="0" cy="16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175280" y="3662280"/>
              <a:ext cx="906480" cy="51012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rot="10800000">
              <a:off x="5846760" y="3490560"/>
              <a:ext cx="187200" cy="6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4" name=""/>
                <p:cNvSpPr txBox="1"/>
                <p:nvPr/>
              </p:nvSpPr>
              <p:spPr>
                <a:xfrm>
                  <a:off x="5459400" y="1698480"/>
                  <a:ext cx="13795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15" name=""/>
            <p:cNvSpPr/>
            <p:nvPr/>
          </p:nvSpPr>
          <p:spPr>
            <a:xfrm>
              <a:off x="6135840" y="355932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19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520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640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5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646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0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783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7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818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4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865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877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880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2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5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886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889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1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893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897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901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3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908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934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974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3002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3043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3052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4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7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3058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0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3061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3081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9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3090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2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3096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3099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5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3126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3135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7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6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3147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5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3156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9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1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3162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3165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3168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3171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3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3174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6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3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4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3215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3226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8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6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3237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9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7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3248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0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3259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1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9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3270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2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3281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1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3292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4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3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3304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6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3307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9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3310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3313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5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3319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1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9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3330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2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0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3341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3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1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3352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4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355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361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364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3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7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470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1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2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481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3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9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490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3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5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1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502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4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525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7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1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532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6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547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9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4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555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7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8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569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1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6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577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580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2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6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597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1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610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2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8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619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2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4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625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7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628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631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3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654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6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0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661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3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5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676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8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684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7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698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0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5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706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709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1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726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8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73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7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9320" y="29844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08120" y="4343400"/>
                <a:ext cx="359568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21240" y="5421240"/>
                <a:ext cx="137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5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736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751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5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756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780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2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0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791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3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7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808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811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839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1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7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848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851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854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6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7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557640" y="5146560"/>
            <a:ext cx="31863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kojo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5042160" y="5181480"/>
            <a:ext cx="32439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wyższe temperatury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kilkadziesiąt i więcej 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3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874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8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889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3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894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6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918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0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8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929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1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5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946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8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949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1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958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961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3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964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6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2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symulacja PSpic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994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5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6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997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8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składowej stałej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1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7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4018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0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4057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9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2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4073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4076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8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3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4084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4087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4097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9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0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4161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4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4165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9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4180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3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4184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6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9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4190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2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4193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5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9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4210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2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2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4223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5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0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4241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3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8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4259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1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5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4276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8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0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4291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3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4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7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8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9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4300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7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2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4313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5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4316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7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0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4331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4334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4337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9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0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4341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3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4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355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358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0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0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371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7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8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389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4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395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7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0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401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6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407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9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410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2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413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5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424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2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851160" y="2378160"/>
              <a:ext cx="2230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akładana, maksym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 dren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7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478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0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5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506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8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4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15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39680" y="1600200"/>
                <a:ext cx="6303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141720" y="254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92120" y="5548320"/>
                <a:ext cx="55976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7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3443400" y="3043080"/>
            <a:ext cx="239760" cy="20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413160" y="3287880"/>
            <a:ext cx="318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7760" y="2637000"/>
            <a:ext cx="1182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257004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70400" y="2627280"/>
            <a:ext cx="1714320" cy="9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7760" y="3693960"/>
            <a:ext cx="3666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65440" y="3287880"/>
            <a:ext cx="0" cy="406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3720" y="3043080"/>
            <a:ext cx="330120" cy="285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03720" y="3206880"/>
            <a:ext cx="330120" cy="284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67160" y="3032280"/>
            <a:ext cx="1800" cy="48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0380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617920"/>
            <a:ext cx="0" cy="42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3627360"/>
            <a:ext cx="133560" cy="1144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6920" y="2587680"/>
            <a:ext cx="133560" cy="115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694400" y="3065400"/>
                <a:ext cx="128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768920" y="206676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2962440"/>
            <a:ext cx="84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5436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0680" y="198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3520" y="37767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1920" y="263700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8560" y="2617920"/>
            <a:ext cx="37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0760" y="2637000"/>
            <a:ext cx="469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9560" y="2962440"/>
            <a:ext cx="56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87560" y="1905120"/>
            <a:ext cx="484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67160" y="3287880"/>
            <a:ext cx="0" cy="415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4560" y="3629160"/>
            <a:ext cx="133200" cy="1141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25840" y="3633840"/>
            <a:ext cx="889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7868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322360" y="2800080"/>
            <a:ext cx="0" cy="73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00160" y="5470560"/>
                <a:ext cx="4537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przy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57360" y="988920"/>
            <a:ext cx="1902960" cy="1087560"/>
            <a:chOff x="657360" y="988920"/>
            <a:chExt cx="1902960" cy="1087560"/>
          </a:xfrm>
        </p:grpSpPr>
        <p:sp>
          <p:nvSpPr>
            <p:cNvPr id="253" name=""/>
            <p:cNvSpPr/>
            <p:nvPr/>
          </p:nvSpPr>
          <p:spPr>
            <a:xfrm>
              <a:off x="1663920" y="98892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657360" y="993960"/>
              <a:ext cx="1902960" cy="1082520"/>
              <a:chOff x="657360" y="993960"/>
              <a:chExt cx="1902960" cy="1082520"/>
            </a:xfrm>
          </p:grpSpPr>
          <p:sp>
            <p:nvSpPr>
              <p:cNvPr id="255" name=""/>
              <p:cNvSpPr/>
              <p:nvPr/>
            </p:nvSpPr>
            <p:spPr>
              <a:xfrm rot="10800000">
                <a:off x="2326680" y="142092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301840" y="164952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95440" y="104004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95440" y="203040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25680" y="164952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73040" y="99396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360" y="134460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30360" y="104004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692000" y="1040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87440" y="1968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419120" y="119196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22720" y="1004760"/>
                <a:ext cx="32004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77880" y="2117880"/>
                <a:ext cx="75722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5899320" y="3006720"/>
            <a:ext cx="238752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083120" y="3833640"/>
            <a:ext cx="1866960" cy="90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5570640"/>
            <a:ext cx="635040" cy="56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19320" y="4286160"/>
            <a:ext cx="0" cy="12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9320" y="613584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30720" y="5246640"/>
            <a:ext cx="111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(U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Times New Roman"/>
              </a:rPr>
              <a:t>DQ</a:t>
            </a:r>
            <a:r>
              <a:rPr b="0" lang="pl-PL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0520" y="5457960"/>
            <a:ext cx="1032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0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(U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DQ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625400" y="42829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566720" y="6481800"/>
            <a:ext cx="242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66880" y="4282920"/>
            <a:ext cx="811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66560" y="38019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484280" y="4354200"/>
            <a:ext cx="0" cy="20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0000" y="46846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05040" y="5227560"/>
            <a:ext cx="635040" cy="5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32280" y="54388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95640" y="430524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97360" y="5056200"/>
            <a:ext cx="1936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94200" y="4540320"/>
            <a:ext cx="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2811600"/>
            <a:ext cx="1376280" cy="1620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45040" y="4268880"/>
            <a:ext cx="2163600" cy="10382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41560" y="3079800"/>
            <a:ext cx="3844800" cy="10033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21120" y="4594320"/>
            <a:ext cx="0" cy="371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106440" y="4132440"/>
            <a:ext cx="469800" cy="5061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32400" y="59547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model linowy - wielkosygnałow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cp:lastPrinted>2004-04-25T13:15:06Z</cp:lastPrinted>
  <dcterms:modified xsi:type="dcterms:W3CDTF">2004-10-13T13:08:45Z</dcterms:modified>
  <cp:revision>217</cp:revision>
  <dc:subject/>
  <dc:title>UKŁADY ZASILANIA TRANZYSTORÓW</dc:title>
</cp:coreProperties>
</file>