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E82-7E65-4952-A1C2-A7F2CA51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FCF-FD09-4444-AC5F-5CF931CA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52D-6E45-45A5-A0A9-102584E9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D1B-9374-4B45-BDC7-FF7C02FE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D9E-93FE-4A84-9BB5-C485290B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05E-B238-4920-8D40-7CB84AD5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E4B-68E7-461D-9E9D-739B1AFE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E30-5DDD-409F-82D1-797BB804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FFB-2E66-4C2F-A19D-89ECD475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B41-FFD5-4EE2-B7C9-2FD7645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E23-B60E-4E85-9AEE-3FF12D61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F03-C3F5-417E-90D8-B1CA625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9EBA-C6BE-4ED9-90F5-8646DC953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ŁADY ZASILANIA TRANZYST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003/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m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660680" y="2133720"/>
            <a:ext cx="5995800" cy="2220840"/>
          </a:xfrm>
          <a:custGeom>
            <a:avLst/>
            <a:gdLst/>
            <a:ahLst/>
            <a:rect l="l" t="t" r="r" b="b"/>
            <a:pathLst>
              <a:path w="3777" h="1399">
                <a:moveTo>
                  <a:pt x="510" y="67"/>
                </a:moveTo>
                <a:cubicBezTo>
                  <a:pt x="366" y="54"/>
                  <a:pt x="235" y="0"/>
                  <a:pt x="154" y="67"/>
                </a:cubicBezTo>
                <a:cubicBezTo>
                  <a:pt x="73" y="134"/>
                  <a:pt x="21" y="363"/>
                  <a:pt x="21" y="467"/>
                </a:cubicBezTo>
                <a:cubicBezTo>
                  <a:pt x="21" y="571"/>
                  <a:pt x="0" y="634"/>
                  <a:pt x="154" y="689"/>
                </a:cubicBezTo>
                <a:cubicBezTo>
                  <a:pt x="308" y="744"/>
                  <a:pt x="710" y="770"/>
                  <a:pt x="943" y="800"/>
                </a:cubicBezTo>
                <a:cubicBezTo>
                  <a:pt x="1176" y="830"/>
                  <a:pt x="1312" y="797"/>
                  <a:pt x="1554" y="867"/>
                </a:cubicBezTo>
                <a:cubicBezTo>
                  <a:pt x="1796" y="937"/>
                  <a:pt x="2125" y="1141"/>
                  <a:pt x="2399" y="1222"/>
                </a:cubicBezTo>
                <a:cubicBezTo>
                  <a:pt x="2673" y="1303"/>
                  <a:pt x="2986" y="1334"/>
                  <a:pt x="3199" y="1356"/>
                </a:cubicBezTo>
                <a:cubicBezTo>
                  <a:pt x="3412" y="1378"/>
                  <a:pt x="3583" y="1399"/>
                  <a:pt x="3677" y="1356"/>
                </a:cubicBezTo>
                <a:cubicBezTo>
                  <a:pt x="3771" y="1313"/>
                  <a:pt x="3777" y="1213"/>
                  <a:pt x="3766" y="1100"/>
                </a:cubicBezTo>
                <a:cubicBezTo>
                  <a:pt x="3755" y="987"/>
                  <a:pt x="3675" y="806"/>
                  <a:pt x="3610" y="678"/>
                </a:cubicBezTo>
                <a:cubicBezTo>
                  <a:pt x="3545" y="550"/>
                  <a:pt x="3529" y="430"/>
                  <a:pt x="3377" y="334"/>
                </a:cubicBezTo>
                <a:cubicBezTo>
                  <a:pt x="3225" y="238"/>
                  <a:pt x="2890" y="91"/>
                  <a:pt x="2699" y="100"/>
                </a:cubicBezTo>
                <a:cubicBezTo>
                  <a:pt x="2508" y="109"/>
                  <a:pt x="2443" y="346"/>
                  <a:pt x="2232" y="389"/>
                </a:cubicBezTo>
                <a:cubicBezTo>
                  <a:pt x="2021" y="432"/>
                  <a:pt x="1634" y="397"/>
                  <a:pt x="1432" y="356"/>
                </a:cubicBezTo>
                <a:cubicBezTo>
                  <a:pt x="1230" y="315"/>
                  <a:pt x="1171" y="195"/>
                  <a:pt x="1021" y="145"/>
                </a:cubicBezTo>
                <a:cubicBezTo>
                  <a:pt x="871" y="95"/>
                  <a:pt x="654" y="80"/>
                  <a:pt x="510" y="67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wielkosygnałowy, lini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65240" y="151776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65240" y="167004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97000" y="1506600"/>
            <a:ext cx="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0800000">
            <a:off x="1992240" y="2508120"/>
            <a:ext cx="193680" cy="193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967040" y="273672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6064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68560" y="2082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740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9700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97000" y="311796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90880" y="27367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9700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57400" y="30542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3824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265400" y="1441440"/>
                <a:ext cx="64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210816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520" y="13651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47920" y="2127240"/>
            <a:ext cx="392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720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122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86000" y="266076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0816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424240" y="12128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47920" y="311796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57200" y="21272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83000" y="258444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8772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75480" y="151776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75480" y="1670040"/>
            <a:ext cx="26640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07240" y="1506600"/>
            <a:ext cx="14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70520" y="2127240"/>
            <a:ext cx="958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78440" y="20829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67640" y="115740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07240" y="121284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07240" y="4087800"/>
            <a:ext cx="860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07240" y="1212840"/>
            <a:ext cx="0" cy="30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48560" y="402444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48120" y="2093760"/>
            <a:ext cx="108000" cy="108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075280" y="1441440"/>
                <a:ext cx="647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5918040" y="21272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86400" y="136512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37440" y="227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2208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13520" y="380700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18040" y="184644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233760" y="12128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67440" y="212724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97600" y="220356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23000" y="2505240"/>
            <a:ext cx="176040" cy="529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10240" y="3297240"/>
            <a:ext cx="563400" cy="58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891040" y="3384720"/>
            <a:ext cx="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892840" y="386208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910120" y="3033360"/>
            <a:ext cx="0" cy="28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65800" y="3398760"/>
            <a:ext cx="71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4600" y="2502000"/>
            <a:ext cx="4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68760" y="442260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00440" y="5462640"/>
                <a:ext cx="1843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 flipV="1">
            <a:off x="617400" y="3244680"/>
            <a:ext cx="0" cy="25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400" y="580248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2440" y="3343320"/>
            <a:ext cx="1616040" cy="2454120"/>
          </a:xfrm>
          <a:custGeom>
            <a:avLst/>
            <a:gdLst/>
            <a:ahLst/>
            <a:rect l="l" t="t" r="r" b="b"/>
            <a:pathLst>
              <a:path w="1018" h="1546">
                <a:moveTo>
                  <a:pt x="0" y="1546"/>
                </a:moveTo>
                <a:cubicBezTo>
                  <a:pt x="33" y="1544"/>
                  <a:pt x="118" y="1541"/>
                  <a:pt x="196" y="1538"/>
                </a:cubicBezTo>
                <a:cubicBezTo>
                  <a:pt x="274" y="1535"/>
                  <a:pt x="375" y="1537"/>
                  <a:pt x="468" y="1530"/>
                </a:cubicBezTo>
                <a:cubicBezTo>
                  <a:pt x="561" y="1523"/>
                  <a:pt x="684" y="1509"/>
                  <a:pt x="752" y="1494"/>
                </a:cubicBezTo>
                <a:cubicBezTo>
                  <a:pt x="820" y="1479"/>
                  <a:pt x="842" y="1500"/>
                  <a:pt x="876" y="1438"/>
                </a:cubicBezTo>
                <a:cubicBezTo>
                  <a:pt x="910" y="1376"/>
                  <a:pt x="932" y="1362"/>
                  <a:pt x="956" y="1122"/>
                </a:cubicBezTo>
                <a:cubicBezTo>
                  <a:pt x="980" y="882"/>
                  <a:pt x="1005" y="234"/>
                  <a:pt x="101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055600" y="3333600"/>
            <a:ext cx="331560" cy="2460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9120" y="5194440"/>
            <a:ext cx="15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39840" y="5194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14440" y="5856120"/>
            <a:ext cx="66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51720" y="5850000"/>
            <a:ext cx="62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2480" y="486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69400" y="3146400"/>
            <a:ext cx="3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84240" y="534672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714680" y="5810040"/>
            <a:ext cx="33336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162160" y="5838840"/>
            <a:ext cx="85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9760" y="477504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1160" y="1089000"/>
            <a:ext cx="8570880" cy="448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żeli amplitudy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 wszystkich złączach pn nie przekraczają wartości 25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ówczas nieliniowe charakterystyki złą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gą być zastąpione odcinkami linii prost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ca układu w takich warunkach nazywa si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nalizę układu, pracującego w takich warunkach nazyw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izą małosygnałow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odel małosygnałowy „hybryd - pi”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4200" y="1595520"/>
            <a:ext cx="39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50920" y="1808280"/>
            <a:ext cx="2820240" cy="2707560"/>
            <a:chOff x="250920" y="1808280"/>
            <a:chExt cx="2820240" cy="2707560"/>
          </a:xfrm>
        </p:grpSpPr>
        <p:sp>
          <p:nvSpPr>
            <p:cNvPr id="376" name=""/>
            <p:cNvSpPr/>
            <p:nvPr/>
          </p:nvSpPr>
          <p:spPr>
            <a:xfrm>
              <a:off x="1488960" y="234792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88960" y="2500200"/>
              <a:ext cx="266760" cy="266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20720" y="2336760"/>
              <a:ext cx="18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4360" y="295740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92280" y="29131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81120" y="19875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20720" y="2043000"/>
              <a:ext cx="860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20720" y="4300560"/>
              <a:ext cx="860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20720" y="2043000"/>
              <a:ext cx="0" cy="30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62040" y="423720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1960" y="29242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958680" y="2232000"/>
                  <a:ext cx="4129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8" name=""/>
            <p:cNvSpPr/>
            <p:nvPr/>
          </p:nvSpPr>
          <p:spPr>
            <a:xfrm>
              <a:off x="1631880" y="29574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0920" y="3110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70840" y="180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39880" y="40561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31880" y="2676600"/>
              <a:ext cx="0" cy="64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947960" y="20430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80920" y="29574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1080" y="3033720"/>
              <a:ext cx="33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36840" y="333540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606680" y="4074840"/>
              <a:ext cx="0" cy="23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623960" y="386352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08080" y="3332160"/>
              <a:ext cx="49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e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048000" y="177336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’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349800" y="2241360"/>
            <a:ext cx="5252400" cy="2767320"/>
            <a:chOff x="3349800" y="2241360"/>
            <a:chExt cx="5252400" cy="2767320"/>
          </a:xfrm>
        </p:grpSpPr>
        <p:sp>
          <p:nvSpPr>
            <p:cNvPr id="402" name=""/>
            <p:cNvSpPr/>
            <p:nvPr/>
          </p:nvSpPr>
          <p:spPr>
            <a:xfrm>
              <a:off x="5111640" y="329400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200000">
              <a:off x="4283640" y="2799360"/>
              <a:ext cx="17640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983280" y="3195720"/>
              <a:ext cx="417600" cy="717480"/>
              <a:chOff x="6983280" y="3195720"/>
              <a:chExt cx="417600" cy="717480"/>
            </a:xfrm>
          </p:grpSpPr>
          <p:sp>
            <p:nvSpPr>
              <p:cNvPr id="405" name=""/>
              <p:cNvSpPr/>
              <p:nvPr/>
            </p:nvSpPr>
            <p:spPr>
              <a:xfrm>
                <a:off x="6983280" y="3195720"/>
                <a:ext cx="406440" cy="458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94440" y="3454200"/>
                <a:ext cx="406440" cy="459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13680" y="337176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445000" y="3441600"/>
              <a:ext cx="324000" cy="81000"/>
              <a:chOff x="5445000" y="3441600"/>
              <a:chExt cx="324000" cy="81000"/>
            </a:xfrm>
          </p:grpSpPr>
          <p:sp>
            <p:nvSpPr>
              <p:cNvPr id="409" name=""/>
              <p:cNvSpPr/>
              <p:nvPr/>
            </p:nvSpPr>
            <p:spPr>
              <a:xfrm>
                <a:off x="5451480" y="3441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445000" y="3522600"/>
                <a:ext cx="31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053040" y="2927520"/>
              <a:ext cx="81000" cy="323280"/>
              <a:chOff x="6053040" y="2927520"/>
              <a:chExt cx="81000" cy="323280"/>
            </a:xfrm>
          </p:grpSpPr>
          <p:sp>
            <p:nvSpPr>
              <p:cNvPr id="412" name=""/>
              <p:cNvSpPr/>
              <p:nvPr/>
            </p:nvSpPr>
            <p:spPr>
              <a:xfrm flipV="1">
                <a:off x="6053040" y="292752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134040" y="2933640"/>
                <a:ext cx="0" cy="31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774960" y="3070080"/>
              <a:ext cx="3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38600" y="3087720"/>
              <a:ext cx="13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203800" y="30877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610240" y="3087360"/>
              <a:ext cx="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03800" y="382896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7520" y="3529080"/>
              <a:ext cx="0" cy="66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03800" y="4164120"/>
              <a:ext cx="28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38720" y="310500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15120" y="31050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9784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49800" y="2854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18800" y="2836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42400" y="39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28120" y="339408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815240" y="3104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32880" y="391644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06880" y="246528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43120" y="3382920"/>
              <a:ext cx="508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64320" y="3365640"/>
              <a:ext cx="70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31080" y="24480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’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54640" y="32958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3809520" y="3211560"/>
              <a:ext cx="141480" cy="114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82560" y="359424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956120" y="3317760"/>
              <a:ext cx="0" cy="81144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83760" y="246528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b’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87920" y="41259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40600" y="40971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97960" y="41068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59520" y="3030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78760" y="307800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88240" y="3059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6204960" y="2064240"/>
              <a:ext cx="176040" cy="530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610240" y="229356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10240" y="231156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7215120" y="2311560"/>
              <a:ext cx="0" cy="7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562440" y="231156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64160" y="30607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549680" y="4151160"/>
                  <a:ext cx="1126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>
                  <a:off x="5248440" y="4464000"/>
                  <a:ext cx="305424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'</m:t>
                          </m:r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β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3792600" y="307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91080" y="251928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małosygnałowe modelu hybryd-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84040" y="907920"/>
                <a:ext cx="416556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Q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4040" y="3227400"/>
                <a:ext cx="1457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040" y="2043000"/>
                <a:ext cx="43689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284040" y="4086360"/>
                <a:ext cx="17654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84040" y="4869000"/>
                <a:ext cx="17622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84040" y="5543640"/>
                <a:ext cx="34038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6274080" y="2254320"/>
            <a:ext cx="220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bliczenie 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89840" y="2892600"/>
            <a:ext cx="2187360" cy="987120"/>
          </a:xfrm>
          <a:prstGeom prst="wedgeRoundRectCallout">
            <a:avLst>
              <a:gd name="adj1" fmla="val 1449"/>
              <a:gd name="adj2" fmla="val 151930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yle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7851600" y="2930400"/>
                <a:ext cx="4366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5" name=""/>
          <p:cNvGrpSpPr/>
          <p:nvPr/>
        </p:nvGrpSpPr>
        <p:grpSpPr>
          <a:xfrm>
            <a:off x="4246200" y="4368960"/>
            <a:ext cx="4120200" cy="2034000"/>
            <a:chOff x="4246200" y="4368960"/>
            <a:chExt cx="4120200" cy="2034000"/>
          </a:xfrm>
        </p:grpSpPr>
        <p:grpSp>
          <p:nvGrpSpPr>
            <p:cNvPr id="466" name=""/>
            <p:cNvGrpSpPr/>
            <p:nvPr/>
          </p:nvGrpSpPr>
          <p:grpSpPr>
            <a:xfrm>
              <a:off x="4246200" y="4368960"/>
              <a:ext cx="4120200" cy="2034000"/>
              <a:chOff x="4246200" y="4368960"/>
              <a:chExt cx="4120200" cy="2034000"/>
            </a:xfrm>
          </p:grpSpPr>
          <p:sp>
            <p:nvSpPr>
              <p:cNvPr id="467" name=""/>
              <p:cNvSpPr/>
              <p:nvPr/>
            </p:nvSpPr>
            <p:spPr>
              <a:xfrm flipV="1">
                <a:off x="6321600" y="4410000"/>
                <a:ext cx="0" cy="146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14960" y="584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6361200" y="4906440"/>
                <a:ext cx="47520" cy="91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4456080" y="4646520"/>
                <a:ext cx="3691080" cy="120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6423120" y="4410000"/>
                <a:ext cx="1565280" cy="54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402240" y="5037120"/>
                <a:ext cx="1644840" cy="41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6402240" y="5403600"/>
                <a:ext cx="1644840" cy="26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46200" y="5892840"/>
                <a:ext cx="2684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   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napięcie Earleg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40360" y="589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71240" y="4368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4498920" y="5749560"/>
              <a:ext cx="0" cy="17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022640" y="1604880"/>
            <a:ext cx="370080" cy="776520"/>
          </a:xfrm>
          <a:custGeom>
            <a:avLst/>
            <a:gdLst/>
            <a:ahLst/>
            <a:rect l="l" t="t" r="r" b="b"/>
            <a:pathLst>
              <a:path w="233" h="489">
                <a:moveTo>
                  <a:pt x="200" y="489"/>
                </a:moveTo>
                <a:cubicBezTo>
                  <a:pt x="216" y="385"/>
                  <a:pt x="233" y="281"/>
                  <a:pt x="200" y="200"/>
                </a:cubicBezTo>
                <a:cubicBezTo>
                  <a:pt x="167" y="119"/>
                  <a:pt x="83" y="59"/>
                  <a:pt x="0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320" y="-36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spółczynnika wzmocnienia prąd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587600" y="1639440"/>
            <a:ext cx="0" cy="277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17760" y="4444920"/>
            <a:ext cx="437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4880" y="2274840"/>
            <a:ext cx="15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74840" y="2274840"/>
            <a:ext cx="1887840" cy="217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83640" y="41338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32640" y="449892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840" y="4462560"/>
            <a:ext cx="48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72080" y="136512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840" y="2309760"/>
            <a:ext cx="0" cy="2135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00200" y="2271600"/>
            <a:ext cx="4013280" cy="2211480"/>
          </a:xfrm>
          <a:custGeom>
            <a:avLst/>
            <a:gdLst/>
            <a:ahLst/>
            <a:rect l="l" t="t" r="r" b="b"/>
            <a:pathLst>
              <a:path w="2528" h="1393">
                <a:moveTo>
                  <a:pt x="0" y="9"/>
                </a:moveTo>
                <a:cubicBezTo>
                  <a:pt x="255" y="4"/>
                  <a:pt x="511" y="0"/>
                  <a:pt x="656" y="9"/>
                </a:cubicBezTo>
                <a:cubicBezTo>
                  <a:pt x="801" y="18"/>
                  <a:pt x="792" y="26"/>
                  <a:pt x="872" y="65"/>
                </a:cubicBezTo>
                <a:cubicBezTo>
                  <a:pt x="952" y="104"/>
                  <a:pt x="957" y="70"/>
                  <a:pt x="1136" y="241"/>
                </a:cubicBezTo>
                <a:cubicBezTo>
                  <a:pt x="1315" y="412"/>
                  <a:pt x="1761" y="905"/>
                  <a:pt x="1944" y="1089"/>
                </a:cubicBezTo>
                <a:cubicBezTo>
                  <a:pt x="2127" y="1273"/>
                  <a:pt x="2135" y="1297"/>
                  <a:pt x="2232" y="1345"/>
                </a:cubicBezTo>
                <a:cubicBezTo>
                  <a:pt x="2329" y="1393"/>
                  <a:pt x="2479" y="1373"/>
                  <a:pt x="2528" y="137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3800" y="2066760"/>
            <a:ext cx="5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24520" y="16034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174840" y="24760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74840" y="149868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73920" y="3743280"/>
            <a:ext cx="11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58840" y="5164200"/>
                <a:ext cx="3308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938760" y="5386320"/>
                <a:ext cx="2111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6150960" y="5445000"/>
            <a:ext cx="2614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e wzmocnien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pola wzmocnieni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 prądu emitera i napięcia kolektor-em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23960" y="199188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17400" y="4921200"/>
            <a:ext cx="289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05040" y="17175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0920" y="511020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7640" y="2727360"/>
            <a:ext cx="2311200" cy="852480"/>
          </a:xfrm>
          <a:custGeom>
            <a:avLst/>
            <a:gdLst/>
            <a:ahLst/>
            <a:rect l="l" t="t" r="r" b="b"/>
            <a:pathLst>
              <a:path w="1456" h="537">
                <a:moveTo>
                  <a:pt x="0" y="537"/>
                </a:moveTo>
                <a:cubicBezTo>
                  <a:pt x="83" y="454"/>
                  <a:pt x="166" y="371"/>
                  <a:pt x="244" y="304"/>
                </a:cubicBezTo>
                <a:cubicBezTo>
                  <a:pt x="322" y="237"/>
                  <a:pt x="387" y="185"/>
                  <a:pt x="467" y="137"/>
                </a:cubicBezTo>
                <a:cubicBezTo>
                  <a:pt x="547" y="89"/>
                  <a:pt x="631" y="30"/>
                  <a:pt x="722" y="15"/>
                </a:cubicBezTo>
                <a:cubicBezTo>
                  <a:pt x="813" y="0"/>
                  <a:pt x="918" y="10"/>
                  <a:pt x="1011" y="49"/>
                </a:cubicBezTo>
                <a:cubicBezTo>
                  <a:pt x="1104" y="88"/>
                  <a:pt x="1204" y="202"/>
                  <a:pt x="1278" y="248"/>
                </a:cubicBezTo>
                <a:cubicBezTo>
                  <a:pt x="1352" y="294"/>
                  <a:pt x="1404" y="310"/>
                  <a:pt x="1456" y="32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773600" y="203796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67400" y="4967280"/>
            <a:ext cx="289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4680" y="176364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99920" y="515628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010120" y="2857680"/>
            <a:ext cx="2452680" cy="863280"/>
          </a:xfrm>
          <a:custGeom>
            <a:avLst/>
            <a:gdLst/>
            <a:ahLst/>
            <a:rect l="l" t="t" r="r" b="b"/>
            <a:pathLst>
              <a:path w="1545" h="544">
                <a:moveTo>
                  <a:pt x="0" y="544"/>
                </a:moveTo>
                <a:cubicBezTo>
                  <a:pt x="50" y="464"/>
                  <a:pt x="100" y="385"/>
                  <a:pt x="167" y="344"/>
                </a:cubicBezTo>
                <a:cubicBezTo>
                  <a:pt x="234" y="303"/>
                  <a:pt x="319" y="309"/>
                  <a:pt x="400" y="300"/>
                </a:cubicBezTo>
                <a:cubicBezTo>
                  <a:pt x="481" y="291"/>
                  <a:pt x="543" y="302"/>
                  <a:pt x="656" y="289"/>
                </a:cubicBezTo>
                <a:cubicBezTo>
                  <a:pt x="769" y="276"/>
                  <a:pt x="961" y="239"/>
                  <a:pt x="1078" y="222"/>
                </a:cubicBezTo>
                <a:cubicBezTo>
                  <a:pt x="1195" y="205"/>
                  <a:pt x="1278" y="226"/>
                  <a:pt x="1356" y="189"/>
                </a:cubicBezTo>
                <a:cubicBezTo>
                  <a:pt x="1434" y="152"/>
                  <a:pt x="1489" y="76"/>
                  <a:pt x="1545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polowego, złącz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43480" y="2882880"/>
            <a:ext cx="36324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30480" y="1346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5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66960" y="1706400"/>
            <a:ext cx="1731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41840" y="17413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66960" y="2454120"/>
            <a:ext cx="212760" cy="27792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63800" y="2489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875040" y="1927080"/>
            <a:ext cx="800280" cy="3056040"/>
            <a:chOff x="3875040" y="1927080"/>
            <a:chExt cx="800280" cy="3056040"/>
          </a:xfrm>
        </p:grpSpPr>
        <p:sp>
          <p:nvSpPr>
            <p:cNvPr id="517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  <a:lnTo>
                    <a:pt x="504" y="192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5040" y="1927080"/>
              <a:ext cx="800280" cy="3056040"/>
            </a:xfrm>
            <a:custGeom>
              <a:avLst/>
              <a:gdLst/>
              <a:ahLst/>
              <a:rect l="l" t="t" r="r" b="b"/>
              <a:pathLst>
                <a:path w="504" h="1925">
                  <a:moveTo>
                    <a:pt x="504" y="0"/>
                  </a:moveTo>
                  <a:lnTo>
                    <a:pt x="479" y="3"/>
                  </a:lnTo>
                  <a:lnTo>
                    <a:pt x="454" y="11"/>
                  </a:lnTo>
                  <a:lnTo>
                    <a:pt x="426" y="23"/>
                  </a:lnTo>
                  <a:lnTo>
                    <a:pt x="404" y="39"/>
                  </a:lnTo>
                  <a:lnTo>
                    <a:pt x="379" y="62"/>
                  </a:lnTo>
                  <a:lnTo>
                    <a:pt x="354" y="87"/>
                  </a:lnTo>
                  <a:lnTo>
                    <a:pt x="332" y="117"/>
                  </a:lnTo>
                  <a:lnTo>
                    <a:pt x="309" y="151"/>
                  </a:lnTo>
                  <a:lnTo>
                    <a:pt x="287" y="190"/>
                  </a:lnTo>
                  <a:lnTo>
                    <a:pt x="265" y="231"/>
                  </a:lnTo>
                  <a:lnTo>
                    <a:pt x="243" y="279"/>
                  </a:lnTo>
                  <a:lnTo>
                    <a:pt x="223" y="329"/>
                  </a:lnTo>
                  <a:lnTo>
                    <a:pt x="204" y="382"/>
                  </a:lnTo>
                  <a:lnTo>
                    <a:pt x="184" y="440"/>
                  </a:lnTo>
                  <a:lnTo>
                    <a:pt x="165" y="499"/>
                  </a:lnTo>
                  <a:lnTo>
                    <a:pt x="148" y="563"/>
                  </a:lnTo>
                  <a:lnTo>
                    <a:pt x="131" y="630"/>
                  </a:lnTo>
                  <a:lnTo>
                    <a:pt x="114" y="699"/>
                  </a:lnTo>
                  <a:lnTo>
                    <a:pt x="101" y="772"/>
                  </a:lnTo>
                  <a:lnTo>
                    <a:pt x="87" y="850"/>
                  </a:lnTo>
                  <a:lnTo>
                    <a:pt x="62" y="1006"/>
                  </a:lnTo>
                  <a:lnTo>
                    <a:pt x="39" y="1176"/>
                  </a:lnTo>
                  <a:lnTo>
                    <a:pt x="23" y="1351"/>
                  </a:lnTo>
                  <a:lnTo>
                    <a:pt x="11" y="1538"/>
                  </a:lnTo>
                  <a:lnTo>
                    <a:pt x="3" y="1727"/>
                  </a:lnTo>
                  <a:lnTo>
                    <a:pt x="0" y="192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817800" y="1347840"/>
            <a:ext cx="93960" cy="3635280"/>
            <a:chOff x="3817800" y="1347840"/>
            <a:chExt cx="93960" cy="3635280"/>
          </a:xfrm>
        </p:grpSpPr>
        <p:sp>
          <p:nvSpPr>
            <p:cNvPr id="520" name=""/>
            <p:cNvSpPr/>
            <p:nvPr/>
          </p:nvSpPr>
          <p:spPr>
            <a:xfrm>
              <a:off x="3862440" y="1432080"/>
              <a:ext cx="1440" cy="35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7800" y="1347840"/>
              <a:ext cx="9396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28" y="0"/>
                  </a:lnTo>
                  <a:lnTo>
                    <a:pt x="0" y="59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452600" y="4938840"/>
            <a:ext cx="6238800" cy="96840"/>
            <a:chOff x="1452600" y="4938840"/>
            <a:chExt cx="6238800" cy="96840"/>
          </a:xfrm>
        </p:grpSpPr>
        <p:sp>
          <p:nvSpPr>
            <p:cNvPr id="523" name=""/>
            <p:cNvSpPr/>
            <p:nvPr/>
          </p:nvSpPr>
          <p:spPr>
            <a:xfrm flipH="1">
              <a:off x="1536840" y="4987800"/>
              <a:ext cx="607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99240" y="4943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8" y="28"/>
                  </a:lnTo>
                  <a:lnTo>
                    <a:pt x="0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52600" y="493884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0" y="31"/>
                  </a:lnTo>
                  <a:lnTo>
                    <a:pt x="58" y="5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106800" y="4889520"/>
            <a:ext cx="324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4936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75040" y="256392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75040" y="1778040"/>
            <a:ext cx="9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62440" y="3363840"/>
            <a:ext cx="96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75040" y="4208400"/>
            <a:ext cx="98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40400" y="4889520"/>
            <a:ext cx="180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83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37240" y="4876920"/>
            <a:ext cx="144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689360" y="1829880"/>
            <a:ext cx="214488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875040" y="3197160"/>
            <a:ext cx="800280" cy="1754280"/>
            <a:chOff x="3875040" y="3197160"/>
            <a:chExt cx="800280" cy="1754280"/>
          </a:xfrm>
        </p:grpSpPr>
        <p:sp>
          <p:nvSpPr>
            <p:cNvPr id="537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  <a:lnTo>
                    <a:pt x="504" y="110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75040" y="3197160"/>
              <a:ext cx="800280" cy="1754280"/>
            </a:xfrm>
            <a:custGeom>
              <a:avLst/>
              <a:gdLst/>
              <a:ahLst/>
              <a:rect l="l" t="t" r="r" b="b"/>
              <a:pathLst>
                <a:path w="504" h="1105">
                  <a:moveTo>
                    <a:pt x="504" y="0"/>
                  </a:moveTo>
                  <a:lnTo>
                    <a:pt x="479" y="2"/>
                  </a:lnTo>
                  <a:lnTo>
                    <a:pt x="454" y="5"/>
                  </a:lnTo>
                  <a:lnTo>
                    <a:pt x="404" y="22"/>
                  </a:lnTo>
                  <a:lnTo>
                    <a:pt x="354" y="50"/>
                  </a:lnTo>
                  <a:lnTo>
                    <a:pt x="309" y="86"/>
                  </a:lnTo>
                  <a:lnTo>
                    <a:pt x="265" y="133"/>
                  </a:lnTo>
                  <a:lnTo>
                    <a:pt x="223" y="189"/>
                  </a:lnTo>
                  <a:lnTo>
                    <a:pt x="184" y="253"/>
                  </a:lnTo>
                  <a:lnTo>
                    <a:pt x="148" y="323"/>
                  </a:lnTo>
                  <a:lnTo>
                    <a:pt x="114" y="403"/>
                  </a:lnTo>
                  <a:lnTo>
                    <a:pt x="87" y="487"/>
                  </a:lnTo>
                  <a:lnTo>
                    <a:pt x="62" y="579"/>
                  </a:lnTo>
                  <a:lnTo>
                    <a:pt x="39" y="676"/>
                  </a:lnTo>
                  <a:lnTo>
                    <a:pt x="23" y="777"/>
                  </a:lnTo>
                  <a:lnTo>
                    <a:pt x="11" y="883"/>
                  </a:lnTo>
                  <a:lnTo>
                    <a:pt x="3" y="991"/>
                  </a:lnTo>
                  <a:lnTo>
                    <a:pt x="0" y="110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flipV="1">
            <a:off x="4689360" y="3046320"/>
            <a:ext cx="2144880" cy="154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875040" y="4302000"/>
            <a:ext cx="376200" cy="636840"/>
            <a:chOff x="3875040" y="4302000"/>
            <a:chExt cx="376200" cy="636840"/>
          </a:xfrm>
        </p:grpSpPr>
        <p:sp>
          <p:nvSpPr>
            <p:cNvPr id="541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  <a:lnTo>
                    <a:pt x="237" y="40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75040" y="4302000"/>
              <a:ext cx="376200" cy="636840"/>
            </a:xfrm>
            <a:custGeom>
              <a:avLst/>
              <a:gdLst/>
              <a:ahLst/>
              <a:rect l="l" t="t" r="r" b="b"/>
              <a:pathLst>
                <a:path w="237" h="401">
                  <a:moveTo>
                    <a:pt x="237" y="0"/>
                  </a:moveTo>
                  <a:lnTo>
                    <a:pt x="212" y="3"/>
                  </a:lnTo>
                  <a:lnTo>
                    <a:pt x="190" y="8"/>
                  </a:lnTo>
                  <a:lnTo>
                    <a:pt x="167" y="19"/>
                  </a:lnTo>
                  <a:lnTo>
                    <a:pt x="145" y="31"/>
                  </a:lnTo>
                  <a:lnTo>
                    <a:pt x="123" y="50"/>
                  </a:lnTo>
                  <a:lnTo>
                    <a:pt x="103" y="70"/>
                  </a:lnTo>
                  <a:lnTo>
                    <a:pt x="87" y="92"/>
                  </a:lnTo>
                  <a:lnTo>
                    <a:pt x="70" y="117"/>
                  </a:lnTo>
                  <a:lnTo>
                    <a:pt x="42" y="178"/>
                  </a:lnTo>
                  <a:lnTo>
                    <a:pt x="20" y="245"/>
                  </a:lnTo>
                  <a:lnTo>
                    <a:pt x="6" y="320"/>
                  </a:lnTo>
                  <a:lnTo>
                    <a:pt x="0" y="40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 flipV="1">
            <a:off x="4246560" y="4151160"/>
            <a:ext cx="2573280" cy="168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889440" y="4775040"/>
            <a:ext cx="207720" cy="123840"/>
            <a:chOff x="3889440" y="4775040"/>
            <a:chExt cx="207720" cy="123840"/>
          </a:xfrm>
        </p:grpSpPr>
        <p:sp>
          <p:nvSpPr>
            <p:cNvPr id="545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  <a:lnTo>
                    <a:pt x="131" y="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89440" y="4775040"/>
              <a:ext cx="207720" cy="123840"/>
            </a:xfrm>
            <a:custGeom>
              <a:avLst/>
              <a:gdLst/>
              <a:ahLst/>
              <a:rect l="l" t="t" r="r" b="b"/>
              <a:pathLst>
                <a:path w="131" h="78">
                  <a:moveTo>
                    <a:pt x="131" y="0"/>
                  </a:moveTo>
                  <a:lnTo>
                    <a:pt x="105" y="3"/>
                  </a:lnTo>
                  <a:lnTo>
                    <a:pt x="80" y="5"/>
                  </a:lnTo>
                  <a:lnTo>
                    <a:pt x="58" y="14"/>
                  </a:lnTo>
                  <a:lnTo>
                    <a:pt x="39" y="22"/>
                  </a:lnTo>
                  <a:lnTo>
                    <a:pt x="22" y="33"/>
                  </a:lnTo>
                  <a:lnTo>
                    <a:pt x="11" y="47"/>
                  </a:lnTo>
                  <a:lnTo>
                    <a:pt x="2" y="61"/>
                  </a:lnTo>
                  <a:lnTo>
                    <a:pt x="0" y="7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 flipV="1">
            <a:off x="4083120" y="4651200"/>
            <a:ext cx="273672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81120" y="5022720"/>
            <a:ext cx="3920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53880" y="4714920"/>
            <a:ext cx="272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73280" y="1305000"/>
            <a:ext cx="3542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10800" y="1344600"/>
            <a:ext cx="6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68400" y="1432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59040" y="2201760"/>
            <a:ext cx="861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71000" y="2241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02760" y="23302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55760" y="224172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89640" y="5062680"/>
            <a:ext cx="3938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37520" y="51022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6720" y="51912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21320" y="2771640"/>
            <a:ext cx="103824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68200" y="2808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00320" y="28954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51160" y="2808360"/>
            <a:ext cx="5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-0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97360" y="1538280"/>
            <a:ext cx="6019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84120" y="15778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14440" y="16668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67080" y="1577880"/>
            <a:ext cx="22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89680" y="4332240"/>
            <a:ext cx="557280" cy="2793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7320" y="4368960"/>
            <a:ext cx="4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,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3859200"/>
            <a:ext cx="349200" cy="2840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2480" y="389880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828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6756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90600" y="50101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0240" y="5045040"/>
            <a:ext cx="16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626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40760" y="50450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57520" y="326700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79920" y="330192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57520" y="40813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679920" y="412128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10160" y="5010120"/>
            <a:ext cx="26496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732200" y="50450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21600" y="5022720"/>
            <a:ext cx="26964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95040" y="5057640"/>
            <a:ext cx="19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51200" y="5022720"/>
            <a:ext cx="26532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73600" y="5057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0544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708680" y="50925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89120" y="5010120"/>
            <a:ext cx="270000" cy="2826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05400" y="5045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71640" y="2519280"/>
            <a:ext cx="836640" cy="2844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01960" y="2568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92320" y="265752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35880" y="25686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=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77160" y="2550960"/>
            <a:ext cx="4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20720" y="25686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42920" y="5468760"/>
                <a:ext cx="3138480" cy="11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3452760" y="5549760"/>
                <a:ext cx="54802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2057400" y="1771560"/>
            <a:ext cx="1790640" cy="3214800"/>
          </a:xfrm>
          <a:custGeom>
            <a:avLst/>
            <a:gdLst/>
            <a:ahLst/>
            <a:rect l="l" t="t" r="r" b="b"/>
            <a:pathLst>
              <a:path w="1128" h="2025">
                <a:moveTo>
                  <a:pt x="0" y="2025"/>
                </a:moveTo>
                <a:cubicBezTo>
                  <a:pt x="50" y="2012"/>
                  <a:pt x="211" y="1992"/>
                  <a:pt x="303" y="1944"/>
                </a:cubicBezTo>
                <a:cubicBezTo>
                  <a:pt x="395" y="1896"/>
                  <a:pt x="488" y="1806"/>
                  <a:pt x="552" y="1734"/>
                </a:cubicBezTo>
                <a:cubicBezTo>
                  <a:pt x="616" y="1662"/>
                  <a:pt x="641" y="1595"/>
                  <a:pt x="684" y="1509"/>
                </a:cubicBezTo>
                <a:cubicBezTo>
                  <a:pt x="727" y="1423"/>
                  <a:pt x="754" y="1378"/>
                  <a:pt x="810" y="1218"/>
                </a:cubicBezTo>
                <a:cubicBezTo>
                  <a:pt x="866" y="1058"/>
                  <a:pt x="967" y="749"/>
                  <a:pt x="1020" y="546"/>
                </a:cubicBezTo>
                <a:cubicBezTo>
                  <a:pt x="1073" y="343"/>
                  <a:pt x="1106" y="114"/>
                  <a:pt x="11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23920" y="2162160"/>
            <a:ext cx="1843200" cy="2814480"/>
          </a:xfrm>
          <a:custGeom>
            <a:avLst/>
            <a:gdLst/>
            <a:ahLst/>
            <a:rect l="l" t="t" r="r" b="b"/>
            <a:pathLst>
              <a:path w="1161" h="1773">
                <a:moveTo>
                  <a:pt x="0" y="1773"/>
                </a:moveTo>
                <a:cubicBezTo>
                  <a:pt x="13" y="1771"/>
                  <a:pt x="43" y="1770"/>
                  <a:pt x="81" y="1758"/>
                </a:cubicBezTo>
                <a:cubicBezTo>
                  <a:pt x="119" y="1746"/>
                  <a:pt x="187" y="1717"/>
                  <a:pt x="231" y="1698"/>
                </a:cubicBezTo>
                <a:cubicBezTo>
                  <a:pt x="275" y="1679"/>
                  <a:pt x="304" y="1670"/>
                  <a:pt x="348" y="1641"/>
                </a:cubicBezTo>
                <a:cubicBezTo>
                  <a:pt x="392" y="1612"/>
                  <a:pt x="439" y="1582"/>
                  <a:pt x="495" y="1524"/>
                </a:cubicBezTo>
                <a:cubicBezTo>
                  <a:pt x="551" y="1466"/>
                  <a:pt x="617" y="1393"/>
                  <a:pt x="681" y="1296"/>
                </a:cubicBezTo>
                <a:cubicBezTo>
                  <a:pt x="745" y="1199"/>
                  <a:pt x="829" y="1047"/>
                  <a:pt x="879" y="942"/>
                </a:cubicBezTo>
                <a:cubicBezTo>
                  <a:pt x="929" y="837"/>
                  <a:pt x="950" y="756"/>
                  <a:pt x="981" y="666"/>
                </a:cubicBezTo>
                <a:cubicBezTo>
                  <a:pt x="1012" y="576"/>
                  <a:pt x="1035" y="513"/>
                  <a:pt x="1065" y="402"/>
                </a:cubicBezTo>
                <a:cubicBezTo>
                  <a:pt x="1095" y="291"/>
                  <a:pt x="1141" y="84"/>
                  <a:pt x="1161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81400" y="2085840"/>
            <a:ext cx="2676600" cy="476280"/>
          </a:xfrm>
          <a:custGeom>
            <a:avLst/>
            <a:gdLst/>
            <a:ahLst/>
            <a:rect l="l" t="t" r="r" b="b"/>
            <a:pathLst>
              <a:path w="1686" h="300">
                <a:moveTo>
                  <a:pt x="0" y="300"/>
                </a:moveTo>
                <a:cubicBezTo>
                  <a:pt x="22" y="247"/>
                  <a:pt x="44" y="194"/>
                  <a:pt x="96" y="156"/>
                </a:cubicBezTo>
                <a:cubicBezTo>
                  <a:pt x="148" y="118"/>
                  <a:pt x="47" y="98"/>
                  <a:pt x="312" y="72"/>
                </a:cubicBezTo>
                <a:cubicBezTo>
                  <a:pt x="577" y="46"/>
                  <a:pt x="1131" y="23"/>
                  <a:pt x="168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86360" y="3143160"/>
            <a:ext cx="3079440" cy="609840"/>
          </a:xfrm>
          <a:custGeom>
            <a:avLst/>
            <a:gdLst/>
            <a:ahLst/>
            <a:rect l="l" t="t" r="r" b="b"/>
            <a:pathLst>
              <a:path w="1940" h="384">
                <a:moveTo>
                  <a:pt x="0" y="384"/>
                </a:moveTo>
                <a:cubicBezTo>
                  <a:pt x="27" y="334"/>
                  <a:pt x="55" y="284"/>
                  <a:pt x="96" y="240"/>
                </a:cubicBezTo>
                <a:cubicBezTo>
                  <a:pt x="137" y="196"/>
                  <a:pt x="173" y="148"/>
                  <a:pt x="246" y="120"/>
                </a:cubicBezTo>
                <a:cubicBezTo>
                  <a:pt x="319" y="92"/>
                  <a:pt x="287" y="90"/>
                  <a:pt x="534" y="72"/>
                </a:cubicBezTo>
                <a:cubicBezTo>
                  <a:pt x="781" y="54"/>
                  <a:pt x="1516" y="24"/>
                  <a:pt x="1728" y="12"/>
                </a:cubicBezTo>
                <a:cubicBezTo>
                  <a:pt x="1940" y="0"/>
                  <a:pt x="1873" y="0"/>
                  <a:pt x="180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71880" y="4095720"/>
            <a:ext cx="2828880" cy="409680"/>
          </a:xfrm>
          <a:custGeom>
            <a:avLst/>
            <a:gdLst/>
            <a:ahLst/>
            <a:rect l="l" t="t" r="r" b="b"/>
            <a:pathLst>
              <a:path w="1782" h="258">
                <a:moveTo>
                  <a:pt x="0" y="258"/>
                </a:moveTo>
                <a:cubicBezTo>
                  <a:pt x="23" y="236"/>
                  <a:pt x="6" y="151"/>
                  <a:pt x="138" y="120"/>
                </a:cubicBezTo>
                <a:cubicBezTo>
                  <a:pt x="270" y="89"/>
                  <a:pt x="518" y="92"/>
                  <a:pt x="792" y="72"/>
                </a:cubicBezTo>
                <a:cubicBezTo>
                  <a:pt x="1066" y="52"/>
                  <a:pt x="1426" y="25"/>
                  <a:pt x="178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02040" y="4562640"/>
            <a:ext cx="2889360" cy="295200"/>
          </a:xfrm>
          <a:custGeom>
            <a:avLst/>
            <a:gdLst/>
            <a:ahLst/>
            <a:rect l="l" t="t" r="r" b="b"/>
            <a:pathLst>
              <a:path w="1820" h="186">
                <a:moveTo>
                  <a:pt x="2" y="186"/>
                </a:moveTo>
                <a:cubicBezTo>
                  <a:pt x="1" y="155"/>
                  <a:pt x="0" y="124"/>
                  <a:pt x="68" y="102"/>
                </a:cubicBezTo>
                <a:cubicBezTo>
                  <a:pt x="136" y="80"/>
                  <a:pt x="118" y="71"/>
                  <a:pt x="410" y="54"/>
                </a:cubicBezTo>
                <a:cubicBezTo>
                  <a:pt x="702" y="37"/>
                  <a:pt x="1584" y="9"/>
                  <a:pt x="182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05160" y="3114720"/>
            <a:ext cx="447840" cy="523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1520" y="303228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zrost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533320" y="4362120"/>
            <a:ext cx="523800" cy="447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46080" y="5011560"/>
            <a:ext cx="372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76480" y="48672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19440" y="-8280"/>
            <a:ext cx="906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małosygnałowy tranzystora pol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025720" y="1954080"/>
            <a:ext cx="4356360" cy="2211120"/>
            <a:chOff x="2025720" y="1954080"/>
            <a:chExt cx="4356360" cy="2211120"/>
          </a:xfrm>
        </p:grpSpPr>
        <p:grpSp>
          <p:nvGrpSpPr>
            <p:cNvPr id="613" name=""/>
            <p:cNvGrpSpPr/>
            <p:nvPr/>
          </p:nvGrpSpPr>
          <p:grpSpPr>
            <a:xfrm>
              <a:off x="4649040" y="2816280"/>
              <a:ext cx="449640" cy="826920"/>
              <a:chOff x="4649040" y="2816280"/>
              <a:chExt cx="449640" cy="826920"/>
            </a:xfrm>
          </p:grpSpPr>
          <p:sp>
            <p:nvSpPr>
              <p:cNvPr id="614" name=""/>
              <p:cNvSpPr/>
              <p:nvPr/>
            </p:nvSpPr>
            <p:spPr>
              <a:xfrm>
                <a:off x="4649040" y="2816280"/>
                <a:ext cx="437760" cy="528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60920" y="3114000"/>
                <a:ext cx="437760" cy="529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7080" y="3018960"/>
                <a:ext cx="0" cy="48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990880" y="3099600"/>
              <a:ext cx="348840" cy="92880"/>
              <a:chOff x="2990880" y="3099600"/>
              <a:chExt cx="348840" cy="92880"/>
            </a:xfrm>
          </p:grpSpPr>
          <p:sp>
            <p:nvSpPr>
              <p:cNvPr id="618" name=""/>
              <p:cNvSpPr/>
              <p:nvPr/>
            </p:nvSpPr>
            <p:spPr>
              <a:xfrm>
                <a:off x="2997720" y="309960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90880" y="3192480"/>
                <a:ext cx="34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3646440" y="2507400"/>
              <a:ext cx="86760" cy="372600"/>
              <a:chOff x="3646440" y="2507400"/>
              <a:chExt cx="86760" cy="372600"/>
            </a:xfrm>
          </p:grpSpPr>
          <p:sp>
            <p:nvSpPr>
              <p:cNvPr id="621" name=""/>
              <p:cNvSpPr/>
              <p:nvPr/>
            </p:nvSpPr>
            <p:spPr>
              <a:xfrm flipV="1">
                <a:off x="3646440" y="250740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733200" y="2514600"/>
                <a:ext cx="0" cy="36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2672640" y="2691720"/>
              <a:ext cx="95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3169080" y="2691720"/>
              <a:ext cx="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187440" y="3200400"/>
              <a:ext cx="0" cy="77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30600" y="3933000"/>
              <a:ext cx="30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38600" y="2711880"/>
              <a:ext cx="21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99240" y="2711880"/>
              <a:ext cx="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80520" y="364716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00600" y="2382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81760" y="240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91320" y="368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35040" y="3012120"/>
              <a:ext cx="75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16920" y="1954080"/>
              <a:ext cx="56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862720" y="2793960"/>
              <a:ext cx="0" cy="935280"/>
            </a:xfrm>
            <a:prstGeom prst="line">
              <a:avLst/>
            </a:prstGeom>
            <a:ln w="190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12840" y="2969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44960" y="388872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18600" y="385596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60000" y="268092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19400" y="2660400"/>
              <a:ext cx="8028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2025720" y="3918240"/>
                  <a:ext cx="121320" cy="24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381640" y="2087640"/>
                <a:ext cx="19051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43240" y="4352760"/>
                <a:ext cx="21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Q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prosta pracy, punkt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5664240" y="2433600"/>
                <a:ext cx="2432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46" name=""/>
          <p:cNvGrpSpPr/>
          <p:nvPr/>
        </p:nvGrpSpPr>
        <p:grpSpPr>
          <a:xfrm>
            <a:off x="255600" y="1453680"/>
            <a:ext cx="4695480" cy="3207240"/>
            <a:chOff x="255600" y="1453680"/>
            <a:chExt cx="4695480" cy="3207240"/>
          </a:xfrm>
        </p:grpSpPr>
        <p:sp>
          <p:nvSpPr>
            <p:cNvPr id="647" name=""/>
            <p:cNvSpPr/>
            <p:nvPr/>
          </p:nvSpPr>
          <p:spPr>
            <a:xfrm rot="10800000">
              <a:off x="1763280" y="1628640"/>
              <a:ext cx="276120" cy="781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1716120" y="3933720"/>
              <a:ext cx="394920" cy="399960"/>
              <a:chOff x="1716120" y="3933720"/>
              <a:chExt cx="394920" cy="399960"/>
            </a:xfrm>
          </p:grpSpPr>
          <p:sp>
            <p:nvSpPr>
              <p:cNvPr id="649" name=""/>
              <p:cNvSpPr/>
              <p:nvPr/>
            </p:nvSpPr>
            <p:spPr>
              <a:xfrm>
                <a:off x="1920600" y="393372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716120" y="4296600"/>
                <a:ext cx="39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506760" y="2884320"/>
              <a:ext cx="1129680" cy="941040"/>
              <a:chOff x="3506760" y="2884320"/>
              <a:chExt cx="1129680" cy="94104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3845520" y="3290040"/>
                <a:ext cx="790920" cy="134640"/>
                <a:chOff x="3845520" y="3290040"/>
                <a:chExt cx="790920" cy="1346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3845520" y="3290040"/>
                  <a:ext cx="790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08680" y="3424680"/>
                  <a:ext cx="26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4241520" y="342540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06760" y="2884320"/>
                <a:ext cx="364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4349880" y="263844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3640" y="1724040"/>
              <a:ext cx="59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508120" y="282708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84520" y="2962440"/>
              <a:ext cx="101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71680" y="1996920"/>
              <a:ext cx="63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671400" y="2953800"/>
              <a:ext cx="1236240" cy="936720"/>
              <a:chOff x="671400" y="2953800"/>
              <a:chExt cx="1236240" cy="936720"/>
            </a:xfrm>
          </p:grpSpPr>
          <p:sp>
            <p:nvSpPr>
              <p:cNvPr id="663" name=""/>
              <p:cNvSpPr/>
              <p:nvPr/>
            </p:nvSpPr>
            <p:spPr>
              <a:xfrm>
                <a:off x="1512720" y="3141000"/>
                <a:ext cx="0" cy="66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512720" y="3621960"/>
                <a:ext cx="394920" cy="268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1512720" y="2953800"/>
                <a:ext cx="394920" cy="401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671400" y="3486960"/>
                <a:ext cx="78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 flipV="1">
              <a:off x="1889280" y="24206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1913040" y="14536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13040" y="1454040"/>
              <a:ext cx="23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251240" y="1453680"/>
              <a:ext cx="0" cy="18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4049640" y="3844800"/>
              <a:ext cx="393480" cy="399960"/>
              <a:chOff x="4049640" y="3844800"/>
              <a:chExt cx="393480" cy="399960"/>
            </a:xfrm>
          </p:grpSpPr>
          <p:sp>
            <p:nvSpPr>
              <p:cNvPr id="672" name=""/>
              <p:cNvSpPr/>
              <p:nvPr/>
            </p:nvSpPr>
            <p:spPr>
              <a:xfrm>
                <a:off x="4253400" y="3844800"/>
                <a:ext cx="0" cy="399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49640" y="4207680"/>
                <a:ext cx="39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255600" y="3187800"/>
              <a:ext cx="90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11480" y="1736640"/>
              <a:ext cx="1738080" cy="2924280"/>
            </a:xfrm>
            <a:custGeom>
              <a:avLst/>
              <a:gdLst/>
              <a:ahLst/>
              <a:rect l="l" t="t" r="r" b="b"/>
              <a:pathLst>
                <a:path w="907" h="1376">
                  <a:moveTo>
                    <a:pt x="907" y="384"/>
                  </a:moveTo>
                  <a:cubicBezTo>
                    <a:pt x="871" y="231"/>
                    <a:pt x="835" y="78"/>
                    <a:pt x="730" y="39"/>
                  </a:cubicBezTo>
                  <a:cubicBezTo>
                    <a:pt x="625" y="0"/>
                    <a:pt x="393" y="37"/>
                    <a:pt x="274" y="150"/>
                  </a:cubicBezTo>
                  <a:cubicBezTo>
                    <a:pt x="155" y="263"/>
                    <a:pt x="36" y="536"/>
                    <a:pt x="18" y="717"/>
                  </a:cubicBezTo>
                  <a:cubicBezTo>
                    <a:pt x="0" y="898"/>
                    <a:pt x="54" y="1135"/>
                    <a:pt x="163" y="1239"/>
                  </a:cubicBezTo>
                  <a:cubicBezTo>
                    <a:pt x="272" y="1343"/>
                    <a:pt x="552" y="1376"/>
                    <a:pt x="674" y="1339"/>
                  </a:cubicBezTo>
                  <a:cubicBezTo>
                    <a:pt x="796" y="1302"/>
                    <a:pt x="846" y="1159"/>
                    <a:pt x="896" y="1017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5623200" y="193680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00320" y="4626000"/>
            <a:ext cx="1995840" cy="579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96160" y="401652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nkt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 flipV="1">
            <a:off x="1800360" y="15681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93800" y="41083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817640" y="2009520"/>
            <a:ext cx="193680" cy="20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28960" y="1585800"/>
            <a:ext cx="28400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994040" y="2114640"/>
            <a:ext cx="28573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976400" y="2538000"/>
            <a:ext cx="292896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941480" y="2908440"/>
            <a:ext cx="29098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1870200" y="3279240"/>
            <a:ext cx="2981160" cy="26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852560" y="3649680"/>
            <a:ext cx="29466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98800" y="361008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46960" y="1363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17640" y="2114640"/>
            <a:ext cx="2840040" cy="1976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84440" y="3975120"/>
            <a:ext cx="8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49240" y="2627280"/>
            <a:ext cx="8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17640" y="3086280"/>
            <a:ext cx="1376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93920" y="306720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38600" y="3154320"/>
            <a:ext cx="3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710160" y="892080"/>
            <a:ext cx="1954080" cy="745560"/>
          </a:xfrm>
          <a:noFill/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achyl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-1/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ta pracy, punkt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97880" y="202572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09760" y="4251240"/>
            <a:ext cx="0" cy="23986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68760" y="3068640"/>
            <a:ext cx="42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856120" y="1622520"/>
            <a:ext cx="0" cy="2487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91040" y="2627280"/>
            <a:ext cx="1676520" cy="79704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200" y="13892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87480" y="4532400"/>
            <a:ext cx="36338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845600" y="456264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33cc33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058600" y="28526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42240" y="6145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297480" y="26809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698560" y="5837400"/>
            <a:ext cx="42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00160" y="193500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49760" y="5605560"/>
            <a:ext cx="53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411960" y="4282920"/>
                <a:ext cx="14731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 flipV="1">
            <a:off x="3740040" y="343836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59120" y="3457440"/>
            <a:ext cx="370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010120" y="187020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2803320" y="2662200"/>
            <a:ext cx="936360" cy="65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74840" y="303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2339640" y="4844520"/>
            <a:ext cx="1676520" cy="1130400"/>
          </a:xfrm>
          <a:custGeom>
            <a:avLst/>
            <a:gdLst/>
            <a:ahLst/>
            <a:rect l="l" t="t" r="r" b="b"/>
            <a:pathLst>
              <a:path w="1056" h="1246">
                <a:moveTo>
                  <a:pt x="0" y="633"/>
                </a:moveTo>
                <a:cubicBezTo>
                  <a:pt x="44" y="458"/>
                  <a:pt x="89" y="284"/>
                  <a:pt x="134" y="178"/>
                </a:cubicBezTo>
                <a:cubicBezTo>
                  <a:pt x="179" y="72"/>
                  <a:pt x="217" y="0"/>
                  <a:pt x="267" y="0"/>
                </a:cubicBezTo>
                <a:cubicBezTo>
                  <a:pt x="317" y="0"/>
                  <a:pt x="388" y="74"/>
                  <a:pt x="434" y="178"/>
                </a:cubicBezTo>
                <a:cubicBezTo>
                  <a:pt x="480" y="282"/>
                  <a:pt x="508" y="480"/>
                  <a:pt x="545" y="622"/>
                </a:cubicBezTo>
                <a:cubicBezTo>
                  <a:pt x="582" y="764"/>
                  <a:pt x="608" y="929"/>
                  <a:pt x="656" y="1033"/>
                </a:cubicBezTo>
                <a:cubicBezTo>
                  <a:pt x="704" y="1137"/>
                  <a:pt x="784" y="1242"/>
                  <a:pt x="834" y="1244"/>
                </a:cubicBezTo>
                <a:cubicBezTo>
                  <a:pt x="884" y="1246"/>
                  <a:pt x="919" y="1146"/>
                  <a:pt x="956" y="1044"/>
                </a:cubicBezTo>
                <a:cubicBezTo>
                  <a:pt x="993" y="942"/>
                  <a:pt x="1035" y="719"/>
                  <a:pt x="1056" y="6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59680" y="9079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yczna prosta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88480" y="3730680"/>
            <a:ext cx="17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=(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małosygnałowa układu elektron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46400" y="914400"/>
            <a:ext cx="4113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matematyczne element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iowy      -  I=G•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eliniowy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I=f(U, T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67040" y="1541520"/>
                <a:ext cx="2411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36000" y="2619360"/>
            <a:ext cx="4935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rądów i napięć stałych w układ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yli obliczenie tzw. punktów pracy Q(U,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541680"/>
            <a:ext cx="55612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kształcenie modeli nieliniowych w lin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otoczeniu ich punktów pracy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0960" y="4578480"/>
            <a:ext cx="54856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a liniowego układu elektronicznego np.. Pr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mocy równań potencjałów węzł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760" y="5508720"/>
            <a:ext cx="677808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liczenie parametrów roboczych układu, Ku, Kp, fg, Zwe, it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ładowa stała i składowa zmienna w obwodz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662440" y="3303720"/>
                <a:ext cx="249876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796000" y="2019240"/>
                <a:ext cx="155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 rot="10800000">
            <a:off x="1709640" y="2228760"/>
            <a:ext cx="276480" cy="78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757680" y="3343320"/>
            <a:ext cx="1120320" cy="1530360"/>
            <a:chOff x="3757680" y="3343320"/>
            <a:chExt cx="1120320" cy="1530360"/>
          </a:xfrm>
        </p:grpSpPr>
        <p:grpSp>
          <p:nvGrpSpPr>
            <p:cNvPr id="726" name=""/>
            <p:cNvGrpSpPr/>
            <p:nvPr/>
          </p:nvGrpSpPr>
          <p:grpSpPr>
            <a:xfrm>
              <a:off x="3792600" y="3890880"/>
              <a:ext cx="790200" cy="134640"/>
              <a:chOff x="3792600" y="3890880"/>
              <a:chExt cx="790200" cy="134640"/>
            </a:xfrm>
          </p:grpSpPr>
          <p:sp>
            <p:nvSpPr>
              <p:cNvPr id="727" name=""/>
              <p:cNvSpPr/>
              <p:nvPr/>
            </p:nvSpPr>
            <p:spPr>
              <a:xfrm>
                <a:off x="3792600" y="389088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055760" y="4025520"/>
                <a:ext cx="26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4187880" y="4025880"/>
              <a:ext cx="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57680" y="357984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76800" y="334332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92280" y="2360520"/>
            <a:ext cx="87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60440" y="3568320"/>
            <a:ext cx="0" cy="97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89040" y="373860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06600" y="236700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617400" y="3553920"/>
            <a:ext cx="1236600" cy="936720"/>
            <a:chOff x="617400" y="3553920"/>
            <a:chExt cx="1236600" cy="936720"/>
          </a:xfrm>
        </p:grpSpPr>
        <p:sp>
          <p:nvSpPr>
            <p:cNvPr id="737" name=""/>
            <p:cNvSpPr/>
            <p:nvPr/>
          </p:nvSpPr>
          <p:spPr>
            <a:xfrm>
              <a:off x="1458720" y="374112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58720" y="4222080"/>
              <a:ext cx="395280" cy="26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458720" y="3553920"/>
              <a:ext cx="395280" cy="40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617400" y="408708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V="1">
            <a:off x="1835280" y="302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859040" y="20538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59040" y="2054160"/>
            <a:ext cx="23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197240" y="2053800"/>
            <a:ext cx="0" cy="18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1600" y="378792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78000" y="3881520"/>
            <a:ext cx="276480" cy="78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627280" y="3132000"/>
            <a:ext cx="100080" cy="447480"/>
            <a:chOff x="2627280" y="3132000"/>
            <a:chExt cx="100080" cy="447480"/>
          </a:xfrm>
        </p:grpSpPr>
        <p:sp>
          <p:nvSpPr>
            <p:cNvPr id="748" name=""/>
            <p:cNvSpPr/>
            <p:nvPr/>
          </p:nvSpPr>
          <p:spPr>
            <a:xfrm>
              <a:off x="2627280" y="313812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27360" y="3132000"/>
              <a:ext cx="0" cy="44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 flipH="1">
            <a:off x="1798560" y="33336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51120" y="335124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27400" y="33512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000240" y="4651200"/>
            <a:ext cx="393840" cy="399960"/>
            <a:chOff x="3000240" y="4651200"/>
            <a:chExt cx="393840" cy="399960"/>
          </a:xfrm>
        </p:grpSpPr>
        <p:sp>
          <p:nvSpPr>
            <p:cNvPr id="754" name=""/>
            <p:cNvSpPr/>
            <p:nvPr/>
          </p:nvSpPr>
          <p:spPr>
            <a:xfrm>
              <a:off x="3205080" y="46512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00240" y="502416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3162600" y="28368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36120" y="3559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84520" y="3292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3981600" y="4680000"/>
            <a:ext cx="393480" cy="399960"/>
            <a:chOff x="3981600" y="4680000"/>
            <a:chExt cx="393480" cy="399960"/>
          </a:xfrm>
        </p:grpSpPr>
        <p:sp>
          <p:nvSpPr>
            <p:cNvPr id="760" name=""/>
            <p:cNvSpPr/>
            <p:nvPr/>
          </p:nvSpPr>
          <p:spPr>
            <a:xfrm>
              <a:off x="4186080" y="468000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81600" y="505296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1619280" y="4632480"/>
            <a:ext cx="393840" cy="399960"/>
            <a:chOff x="1619280" y="4632480"/>
            <a:chExt cx="393840" cy="399960"/>
          </a:xfrm>
        </p:grpSpPr>
        <p:sp>
          <p:nvSpPr>
            <p:cNvPr id="763" name=""/>
            <p:cNvSpPr/>
            <p:nvPr/>
          </p:nvSpPr>
          <p:spPr>
            <a:xfrm>
              <a:off x="1824120" y="4632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19280" y="500544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 flipV="1">
            <a:off x="1822320" y="44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8040" y="2154240"/>
            <a:ext cx="2019240" cy="3487680"/>
          </a:xfrm>
          <a:custGeom>
            <a:avLst/>
            <a:gdLst/>
            <a:ahLst/>
            <a:rect l="l" t="t" r="r" b="b"/>
            <a:pathLst>
              <a:path w="1272" h="2197">
                <a:moveTo>
                  <a:pt x="1265" y="521"/>
                </a:moveTo>
                <a:cubicBezTo>
                  <a:pt x="1268" y="336"/>
                  <a:pt x="1272" y="152"/>
                  <a:pt x="1165" y="76"/>
                </a:cubicBezTo>
                <a:cubicBezTo>
                  <a:pt x="1058" y="0"/>
                  <a:pt x="775" y="48"/>
                  <a:pt x="621" y="65"/>
                </a:cubicBezTo>
                <a:cubicBezTo>
                  <a:pt x="467" y="82"/>
                  <a:pt x="334" y="56"/>
                  <a:pt x="243" y="176"/>
                </a:cubicBezTo>
                <a:cubicBezTo>
                  <a:pt x="152" y="296"/>
                  <a:pt x="109" y="573"/>
                  <a:pt x="76" y="788"/>
                </a:cubicBezTo>
                <a:cubicBezTo>
                  <a:pt x="43" y="1003"/>
                  <a:pt x="34" y="1284"/>
                  <a:pt x="43" y="1465"/>
                </a:cubicBezTo>
                <a:cubicBezTo>
                  <a:pt x="52" y="1646"/>
                  <a:pt x="0" y="1765"/>
                  <a:pt x="132" y="1876"/>
                </a:cubicBezTo>
                <a:cubicBezTo>
                  <a:pt x="264" y="1987"/>
                  <a:pt x="656" y="2197"/>
                  <a:pt x="832" y="2132"/>
                </a:cubicBezTo>
                <a:cubicBezTo>
                  <a:pt x="1008" y="2067"/>
                  <a:pt x="1128" y="1592"/>
                  <a:pt x="1187" y="1487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01760" y="1714680"/>
            <a:ext cx="2630520" cy="1989000"/>
          </a:xfrm>
          <a:custGeom>
            <a:avLst/>
            <a:gdLst/>
            <a:ahLst/>
            <a:rect l="l" t="t" r="r" b="b"/>
            <a:pathLst>
              <a:path w="1657" h="1253">
                <a:moveTo>
                  <a:pt x="1657" y="65"/>
                </a:moveTo>
                <a:cubicBezTo>
                  <a:pt x="1596" y="32"/>
                  <a:pt x="1536" y="0"/>
                  <a:pt x="1469" y="9"/>
                </a:cubicBezTo>
                <a:cubicBezTo>
                  <a:pt x="1402" y="18"/>
                  <a:pt x="1326" y="115"/>
                  <a:pt x="1257" y="120"/>
                </a:cubicBezTo>
                <a:cubicBezTo>
                  <a:pt x="1188" y="125"/>
                  <a:pt x="1129" y="38"/>
                  <a:pt x="1057" y="42"/>
                </a:cubicBezTo>
                <a:cubicBezTo>
                  <a:pt x="985" y="46"/>
                  <a:pt x="891" y="144"/>
                  <a:pt x="824" y="142"/>
                </a:cubicBezTo>
                <a:cubicBezTo>
                  <a:pt x="757" y="140"/>
                  <a:pt x="731" y="25"/>
                  <a:pt x="657" y="31"/>
                </a:cubicBezTo>
                <a:cubicBezTo>
                  <a:pt x="583" y="37"/>
                  <a:pt x="451" y="169"/>
                  <a:pt x="379" y="176"/>
                </a:cubicBezTo>
                <a:cubicBezTo>
                  <a:pt x="307" y="183"/>
                  <a:pt x="272" y="63"/>
                  <a:pt x="224" y="76"/>
                </a:cubicBezTo>
                <a:cubicBezTo>
                  <a:pt x="176" y="89"/>
                  <a:pt x="93" y="190"/>
                  <a:pt x="91" y="253"/>
                </a:cubicBezTo>
                <a:cubicBezTo>
                  <a:pt x="89" y="316"/>
                  <a:pt x="226" y="396"/>
                  <a:pt x="213" y="453"/>
                </a:cubicBezTo>
                <a:cubicBezTo>
                  <a:pt x="200" y="510"/>
                  <a:pt x="26" y="542"/>
                  <a:pt x="13" y="598"/>
                </a:cubicBezTo>
                <a:cubicBezTo>
                  <a:pt x="0" y="654"/>
                  <a:pt x="124" y="728"/>
                  <a:pt x="135" y="787"/>
                </a:cubicBezTo>
                <a:cubicBezTo>
                  <a:pt x="146" y="846"/>
                  <a:pt x="62" y="909"/>
                  <a:pt x="79" y="953"/>
                </a:cubicBezTo>
                <a:cubicBezTo>
                  <a:pt x="96" y="997"/>
                  <a:pt x="218" y="1003"/>
                  <a:pt x="235" y="1053"/>
                </a:cubicBezTo>
                <a:cubicBezTo>
                  <a:pt x="252" y="1103"/>
                  <a:pt x="215" y="1178"/>
                  <a:pt x="179" y="125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51120" y="3044880"/>
            <a:ext cx="1895400" cy="1647720"/>
          </a:xfrm>
          <a:custGeom>
            <a:avLst/>
            <a:gdLst/>
            <a:ahLst/>
            <a:rect l="l" t="t" r="r" b="b"/>
            <a:pathLst>
              <a:path w="1194" h="1038">
                <a:moveTo>
                  <a:pt x="1134" y="1038"/>
                </a:moveTo>
                <a:cubicBezTo>
                  <a:pt x="1099" y="1005"/>
                  <a:pt x="1065" y="973"/>
                  <a:pt x="1067" y="938"/>
                </a:cubicBezTo>
                <a:cubicBezTo>
                  <a:pt x="1069" y="903"/>
                  <a:pt x="1145" y="874"/>
                  <a:pt x="1145" y="826"/>
                </a:cubicBezTo>
                <a:cubicBezTo>
                  <a:pt x="1145" y="778"/>
                  <a:pt x="1060" y="699"/>
                  <a:pt x="1067" y="649"/>
                </a:cubicBezTo>
                <a:cubicBezTo>
                  <a:pt x="1074" y="599"/>
                  <a:pt x="1194" y="563"/>
                  <a:pt x="1189" y="526"/>
                </a:cubicBezTo>
                <a:cubicBezTo>
                  <a:pt x="1184" y="489"/>
                  <a:pt x="1045" y="465"/>
                  <a:pt x="1034" y="426"/>
                </a:cubicBezTo>
                <a:cubicBezTo>
                  <a:pt x="1023" y="387"/>
                  <a:pt x="1127" y="328"/>
                  <a:pt x="1123" y="293"/>
                </a:cubicBezTo>
                <a:cubicBezTo>
                  <a:pt x="1119" y="258"/>
                  <a:pt x="1039" y="246"/>
                  <a:pt x="1011" y="215"/>
                </a:cubicBezTo>
                <a:cubicBezTo>
                  <a:pt x="983" y="184"/>
                  <a:pt x="987" y="111"/>
                  <a:pt x="956" y="104"/>
                </a:cubicBezTo>
                <a:cubicBezTo>
                  <a:pt x="925" y="97"/>
                  <a:pt x="857" y="180"/>
                  <a:pt x="822" y="171"/>
                </a:cubicBezTo>
                <a:cubicBezTo>
                  <a:pt x="787" y="162"/>
                  <a:pt x="774" y="49"/>
                  <a:pt x="745" y="49"/>
                </a:cubicBezTo>
                <a:cubicBezTo>
                  <a:pt x="716" y="49"/>
                  <a:pt x="676" y="178"/>
                  <a:pt x="645" y="171"/>
                </a:cubicBezTo>
                <a:cubicBezTo>
                  <a:pt x="614" y="164"/>
                  <a:pt x="597" y="8"/>
                  <a:pt x="556" y="4"/>
                </a:cubicBezTo>
                <a:cubicBezTo>
                  <a:pt x="515" y="0"/>
                  <a:pt x="441" y="138"/>
                  <a:pt x="400" y="149"/>
                </a:cubicBezTo>
                <a:cubicBezTo>
                  <a:pt x="359" y="160"/>
                  <a:pt x="342" y="73"/>
                  <a:pt x="311" y="71"/>
                </a:cubicBezTo>
                <a:cubicBezTo>
                  <a:pt x="280" y="69"/>
                  <a:pt x="246" y="136"/>
                  <a:pt x="211" y="138"/>
                </a:cubicBezTo>
                <a:cubicBezTo>
                  <a:pt x="176" y="140"/>
                  <a:pt x="120" y="62"/>
                  <a:pt x="100" y="82"/>
                </a:cubicBezTo>
                <a:cubicBezTo>
                  <a:pt x="80" y="102"/>
                  <a:pt x="106" y="197"/>
                  <a:pt x="89" y="260"/>
                </a:cubicBezTo>
                <a:cubicBezTo>
                  <a:pt x="72" y="323"/>
                  <a:pt x="15" y="427"/>
                  <a:pt x="0" y="46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88440" y="1512720"/>
            <a:ext cx="42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i'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12600" y="3235320"/>
            <a:ext cx="4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”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5708520" y="4630680"/>
                <a:ext cx="1814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1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yczna i dynamiczna prosta pracy - ilustracja grafi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849240" y="1243080"/>
            <a:ext cx="7916040" cy="5406840"/>
            <a:chOff x="849240" y="1243080"/>
            <a:chExt cx="7916040" cy="5406840"/>
          </a:xfrm>
        </p:grpSpPr>
        <p:sp>
          <p:nvSpPr>
            <p:cNvPr id="774" name=""/>
            <p:cNvSpPr/>
            <p:nvPr/>
          </p:nvSpPr>
          <p:spPr>
            <a:xfrm flipV="1">
              <a:off x="1800360" y="1864800"/>
              <a:ext cx="0" cy="24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93800" y="42559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817640" y="2280960"/>
              <a:ext cx="193680" cy="19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028960" y="1881000"/>
              <a:ext cx="284004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1994040" y="2379240"/>
              <a:ext cx="285732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1976400" y="2777760"/>
              <a:ext cx="29289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1941480" y="3125880"/>
              <a:ext cx="290988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1870200" y="3476520"/>
              <a:ext cx="298116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1852560" y="3823920"/>
              <a:ext cx="29466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03560" y="377028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46960" y="16714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817640" y="2379600"/>
              <a:ext cx="2840040" cy="1860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03520" y="4148280"/>
              <a:ext cx="82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49240" y="286236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17640" y="329400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93920" y="3276720"/>
              <a:ext cx="0" cy="1012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91400" y="2822400"/>
              <a:ext cx="400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11560" y="1243080"/>
              <a:ext cx="1954080" cy="745560"/>
            </a:xfrm>
            <a:noFill/>
            <a:ln w="93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Nachyl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-1/(R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||R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93120" y="28749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209760" y="4390920"/>
              <a:ext cx="0" cy="225900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68760" y="327816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856120" y="1916280"/>
              <a:ext cx="0" cy="234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73760" y="2463840"/>
              <a:ext cx="1676520" cy="166212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19200" y="169560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200000">
              <a:off x="2388240" y="4917240"/>
              <a:ext cx="157968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87480" y="465624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845600" y="468468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058600" y="307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342240" y="61754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297480" y="25300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16200" y="586908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00160" y="220968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20920" y="56340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122880" y="4324320"/>
                  <a:ext cx="202428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8" name=""/>
            <p:cNvSpPr/>
            <p:nvPr/>
          </p:nvSpPr>
          <p:spPr>
            <a:xfrm>
              <a:off x="2401920" y="2081160"/>
              <a:ext cx="1373040" cy="207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3228840"/>
              <a:ext cx="74880" cy="6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757680" y="41418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91040" y="2862360"/>
              <a:ext cx="1676520" cy="75096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25440" y="1243080"/>
              <a:ext cx="33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ynamiczna prosta pr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6161040" y="5410080"/>
                  <a:ext cx="153360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Q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Q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06480" y="4095720"/>
            <a:ext cx="299412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817" name=""/>
            <p:cNvGrpSpPr/>
            <p:nvPr/>
          </p:nvGrpSpPr>
          <p:grpSpPr>
            <a:xfrm>
              <a:off x="2666880" y="2133720"/>
              <a:ext cx="1090800" cy="1869840"/>
              <a:chOff x="2666880" y="2133720"/>
              <a:chExt cx="1090800" cy="1869840"/>
            </a:xfrm>
          </p:grpSpPr>
          <p:sp>
            <p:nvSpPr>
              <p:cNvPr id="818" name=""/>
              <p:cNvSpPr/>
              <p:nvPr/>
            </p:nvSpPr>
            <p:spPr>
              <a:xfrm>
                <a:off x="2679840" y="2133720"/>
                <a:ext cx="1060200" cy="1869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666880" y="2133720"/>
                <a:ext cx="1090800" cy="186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 flipV="1">
              <a:off x="1800360" y="1568160"/>
              <a:ext cx="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93800" y="41083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1817640" y="2009520"/>
              <a:ext cx="193680" cy="20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028960" y="1585800"/>
              <a:ext cx="284004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994040" y="2114640"/>
              <a:ext cx="285732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976400" y="2538000"/>
              <a:ext cx="292896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1941480" y="2908440"/>
              <a:ext cx="290988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1870200" y="3279240"/>
              <a:ext cx="298116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1852560" y="3649680"/>
              <a:ext cx="29466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03560" y="359244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46960" y="1363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62040" y="402912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49240" y="2627280"/>
              <a:ext cx="82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17640" y="30862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93920" y="306720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93120" y="264168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09760" y="4251240"/>
              <a:ext cx="0" cy="23986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68760" y="3068640"/>
              <a:ext cx="42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5856120" y="1622520"/>
              <a:ext cx="0" cy="24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73760" y="2205000"/>
              <a:ext cx="1676520" cy="17654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19200" y="1389240"/>
              <a:ext cx="34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2339640" y="4844520"/>
              <a:ext cx="1676520" cy="113040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87480" y="4532400"/>
              <a:ext cx="363384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45600" y="4562640"/>
              <a:ext cx="50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cc33"/>
                  </a:solidFill>
                  <a:latin typeface="Times New Roman"/>
                </a:rPr>
                <a:t>u</a:t>
              </a:r>
              <a:r>
                <a:rPr b="1" lang="pl-PL" sz="2400" spc="-1" strike="noStrike" baseline="-25000">
                  <a:solidFill>
                    <a:srgbClr val="33cc33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058600" y="2852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342240" y="6145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297480" y="2274840"/>
              <a:ext cx="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2716200" y="581976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00160" y="1935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021040" y="558972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39920" y="3016080"/>
              <a:ext cx="74880" cy="74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3757680" y="398628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91040" y="2627280"/>
              <a:ext cx="1676520" cy="797040"/>
            </a:xfrm>
            <a:custGeom>
              <a:avLst/>
              <a:gdLst/>
              <a:ahLst/>
              <a:rect l="l" t="t" r="r" b="b"/>
              <a:pathLst>
                <a:path w="1056" h="1246">
                  <a:moveTo>
                    <a:pt x="0" y="633"/>
                  </a:moveTo>
                  <a:cubicBezTo>
                    <a:pt x="44" y="458"/>
                    <a:pt x="89" y="284"/>
                    <a:pt x="134" y="178"/>
                  </a:cubicBezTo>
                  <a:cubicBezTo>
                    <a:pt x="179" y="72"/>
                    <a:pt x="217" y="0"/>
                    <a:pt x="267" y="0"/>
                  </a:cubicBezTo>
                  <a:cubicBezTo>
                    <a:pt x="317" y="0"/>
                    <a:pt x="388" y="74"/>
                    <a:pt x="434" y="178"/>
                  </a:cubicBezTo>
                  <a:cubicBezTo>
                    <a:pt x="480" y="282"/>
                    <a:pt x="508" y="480"/>
                    <a:pt x="545" y="622"/>
                  </a:cubicBezTo>
                  <a:cubicBezTo>
                    <a:pt x="582" y="764"/>
                    <a:pt x="608" y="929"/>
                    <a:pt x="656" y="1033"/>
                  </a:cubicBezTo>
                  <a:cubicBezTo>
                    <a:pt x="704" y="1137"/>
                    <a:pt x="784" y="1242"/>
                    <a:pt x="834" y="1244"/>
                  </a:cubicBezTo>
                  <a:cubicBezTo>
                    <a:pt x="884" y="1246"/>
                    <a:pt x="919" y="1146"/>
                    <a:pt x="956" y="1044"/>
                  </a:cubicBezTo>
                  <a:cubicBezTo>
                    <a:pt x="993" y="942"/>
                    <a:pt x="1035" y="719"/>
                    <a:pt x="1056" y="633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17640" y="2114640"/>
              <a:ext cx="2840040" cy="1976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843520" y="4535640"/>
                <a:ext cx="2168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Q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5973840" y="5783400"/>
                <a:ext cx="2668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4002480" y="5807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żna przyjąć, ż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1039680" y="1363680"/>
            <a:ext cx="7725600" cy="5214960"/>
            <a:chOff x="1039680" y="1363680"/>
            <a:chExt cx="7725600" cy="5214960"/>
          </a:xfrm>
        </p:grpSpPr>
        <p:grpSp>
          <p:nvGrpSpPr>
            <p:cNvPr id="859" name=""/>
            <p:cNvGrpSpPr/>
            <p:nvPr/>
          </p:nvGrpSpPr>
          <p:grpSpPr>
            <a:xfrm>
              <a:off x="1039680" y="1363680"/>
              <a:ext cx="7725600" cy="5214960"/>
              <a:chOff x="1039680" y="1363680"/>
              <a:chExt cx="7725600" cy="521496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1908000" y="1587600"/>
                <a:ext cx="1090800" cy="1869840"/>
                <a:chOff x="1908000" y="1587600"/>
                <a:chExt cx="1090800" cy="186984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1920960" y="1587600"/>
                  <a:ext cx="106020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908000" y="1587600"/>
                  <a:ext cx="109080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39680" y="4054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1817640" y="1391760"/>
                <a:ext cx="300240" cy="27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790640" y="3975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079640" y="2363760"/>
                <a:ext cx="826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442880" y="2579760"/>
                <a:ext cx="100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484360" y="2602080"/>
                <a:ext cx="0" cy="15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432160" y="417996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703680" y="254016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908680" y="1884240"/>
                <a:ext cx="1676520" cy="1557360"/>
              </a:xfrm>
              <a:custGeom>
                <a:avLst/>
                <a:gdLst/>
                <a:ahLst/>
                <a:rect l="l" t="t" r="r" b="b"/>
                <a:pathLst>
                  <a:path w="1056" h="981">
                    <a:moveTo>
                      <a:pt x="0" y="434"/>
                    </a:moveTo>
                    <a:cubicBezTo>
                      <a:pt x="19" y="373"/>
                      <a:pt x="68" y="136"/>
                      <a:pt x="112" y="68"/>
                    </a:cubicBezTo>
                    <a:cubicBezTo>
                      <a:pt x="156" y="0"/>
                      <a:pt x="213" y="22"/>
                      <a:pt x="267" y="24"/>
                    </a:cubicBezTo>
                    <a:cubicBezTo>
                      <a:pt x="321" y="26"/>
                      <a:pt x="388" y="13"/>
                      <a:pt x="434" y="80"/>
                    </a:cubicBezTo>
                    <a:cubicBezTo>
                      <a:pt x="480" y="147"/>
                      <a:pt x="508" y="306"/>
                      <a:pt x="545" y="424"/>
                    </a:cubicBezTo>
                    <a:cubicBezTo>
                      <a:pt x="582" y="542"/>
                      <a:pt x="608" y="698"/>
                      <a:pt x="656" y="791"/>
                    </a:cubicBezTo>
                    <a:cubicBezTo>
                      <a:pt x="704" y="884"/>
                      <a:pt x="784" y="977"/>
                      <a:pt x="834" y="979"/>
                    </a:cubicBezTo>
                    <a:cubicBezTo>
                      <a:pt x="884" y="981"/>
                      <a:pt x="919" y="892"/>
                      <a:pt x="956" y="801"/>
                    </a:cubicBezTo>
                    <a:cubicBezTo>
                      <a:pt x="993" y="710"/>
                      <a:pt x="1035" y="511"/>
                      <a:pt x="1056" y="43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038320" y="4498920"/>
                <a:ext cx="925560" cy="1676520"/>
              </a:xfrm>
              <a:custGeom>
                <a:avLst/>
                <a:gdLst/>
                <a:ahLst/>
                <a:rect l="l" t="t" r="r" b="b"/>
                <a:pathLst>
                  <a:path w="583" h="1056">
                    <a:moveTo>
                      <a:pt x="233" y="1056"/>
                    </a:moveTo>
                    <a:cubicBezTo>
                      <a:pt x="201" y="1039"/>
                      <a:pt x="76" y="1002"/>
                      <a:pt x="38" y="955"/>
                    </a:cubicBezTo>
                    <a:cubicBezTo>
                      <a:pt x="0" y="908"/>
                      <a:pt x="3" y="836"/>
                      <a:pt x="5" y="777"/>
                    </a:cubicBezTo>
                    <a:cubicBezTo>
                      <a:pt x="7" y="718"/>
                      <a:pt x="13" y="643"/>
                      <a:pt x="50" y="599"/>
                    </a:cubicBezTo>
                    <a:cubicBezTo>
                      <a:pt x="87" y="555"/>
                      <a:pt x="158" y="544"/>
                      <a:pt x="226" y="511"/>
                    </a:cubicBezTo>
                    <a:cubicBezTo>
                      <a:pt x="294" y="478"/>
                      <a:pt x="402" y="448"/>
                      <a:pt x="461" y="400"/>
                    </a:cubicBezTo>
                    <a:cubicBezTo>
                      <a:pt x="521" y="352"/>
                      <a:pt x="581" y="272"/>
                      <a:pt x="582" y="222"/>
                    </a:cubicBezTo>
                    <a:cubicBezTo>
                      <a:pt x="583" y="172"/>
                      <a:pt x="526" y="137"/>
                      <a:pt x="468" y="100"/>
                    </a:cubicBezTo>
                    <a:cubicBezTo>
                      <a:pt x="409" y="63"/>
                      <a:pt x="282" y="21"/>
                      <a:pt x="233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109520" y="4460760"/>
                <a:ext cx="36338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67640" y="449100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64280" y="6073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59160" y="2544840"/>
                <a:ext cx="74520" cy="74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200">
                <a:off x="1914480" y="1587600"/>
                <a:ext cx="166680" cy="1685880"/>
              </a:xfrm>
              <a:custGeom>
                <a:avLst/>
                <a:gdLst/>
                <a:ahLst/>
                <a:rect l="l" t="t" r="r" b="b"/>
                <a:pathLst>
                  <a:path w="126" h="1062">
                    <a:moveTo>
                      <a:pt x="0" y="0"/>
                    </a:moveTo>
                    <a:lnTo>
                      <a:pt x="126" y="0"/>
                    </a:lnTo>
                    <a:lnTo>
                      <a:pt x="6" y="10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076480" y="1581120"/>
                <a:ext cx="901800" cy="29196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1806480" y="40291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zajęty przez sygna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849240" y="1363680"/>
            <a:ext cx="7916040" cy="5286240"/>
            <a:chOff x="849240" y="1363680"/>
            <a:chExt cx="7916040" cy="5286240"/>
          </a:xfrm>
        </p:grpSpPr>
        <p:grpSp>
          <p:nvGrpSpPr>
            <p:cNvPr id="896" name=""/>
            <p:cNvGrpSpPr/>
            <p:nvPr/>
          </p:nvGrpSpPr>
          <p:grpSpPr>
            <a:xfrm>
              <a:off x="849240" y="1363680"/>
              <a:ext cx="7916040" cy="5286240"/>
              <a:chOff x="849240" y="1363680"/>
              <a:chExt cx="7916040" cy="528624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3249720" y="2416320"/>
                <a:ext cx="1090440" cy="1869840"/>
                <a:chOff x="3249720" y="2416320"/>
                <a:chExt cx="1090440" cy="186984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262320" y="2416320"/>
                  <a:ext cx="1059840" cy="18698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249720" y="2416320"/>
                  <a:ext cx="1090440" cy="1869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 flipV="1">
                <a:off x="1800360" y="1568160"/>
                <a:ext cx="0" cy="26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93800" y="410832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1817640" y="2009520"/>
                <a:ext cx="193680" cy="20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2028960" y="1585800"/>
                <a:ext cx="28400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1994040" y="2114640"/>
                <a:ext cx="2857320" cy="3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1976400" y="2538000"/>
                <a:ext cx="292896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1941480" y="2908440"/>
                <a:ext cx="290988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1870200" y="3279240"/>
                <a:ext cx="2981160" cy="26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852560" y="3649680"/>
                <a:ext cx="294660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903560" y="35924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046960" y="1363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49240" y="336708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676520" y="3597120"/>
                <a:ext cx="22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35520" y="35784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893120" y="264168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1360" y="4251240"/>
                <a:ext cx="0" cy="239868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668760" y="3598920"/>
                <a:ext cx="4216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5856120" y="1622520"/>
                <a:ext cx="0" cy="248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73760" y="2681280"/>
                <a:ext cx="1676520" cy="1424160"/>
              </a:xfrm>
              <a:custGeom>
                <a:avLst/>
                <a:gdLst/>
                <a:ahLst/>
                <a:rect l="l" t="t" r="r" b="b"/>
                <a:pathLst>
                  <a:path w="1056" h="897">
                    <a:moveTo>
                      <a:pt x="0" y="565"/>
                    </a:moveTo>
                    <a:cubicBezTo>
                      <a:pt x="44" y="409"/>
                      <a:pt x="89" y="253"/>
                      <a:pt x="134" y="159"/>
                    </a:cubicBezTo>
                    <a:cubicBezTo>
                      <a:pt x="179" y="64"/>
                      <a:pt x="217" y="0"/>
                      <a:pt x="267" y="0"/>
                    </a:cubicBezTo>
                    <a:cubicBezTo>
                      <a:pt x="317" y="0"/>
                      <a:pt x="388" y="66"/>
                      <a:pt x="434" y="159"/>
                    </a:cubicBezTo>
                    <a:cubicBezTo>
                      <a:pt x="480" y="252"/>
                      <a:pt x="506" y="441"/>
                      <a:pt x="545" y="555"/>
                    </a:cubicBezTo>
                    <a:cubicBezTo>
                      <a:pt x="584" y="669"/>
                      <a:pt x="618" y="791"/>
                      <a:pt x="667" y="844"/>
                    </a:cubicBezTo>
                    <a:cubicBezTo>
                      <a:pt x="716" y="897"/>
                      <a:pt x="788" y="871"/>
                      <a:pt x="836" y="871"/>
                    </a:cubicBezTo>
                    <a:cubicBezTo>
                      <a:pt x="884" y="871"/>
                      <a:pt x="919" y="895"/>
                      <a:pt x="956" y="844"/>
                    </a:cubicBezTo>
                    <a:cubicBezTo>
                      <a:pt x="993" y="793"/>
                      <a:pt x="1035" y="623"/>
                      <a:pt x="1056" y="565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019200" y="1389240"/>
                <a:ext cx="34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1" lang="pl-PL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52680" y="4570560"/>
                <a:ext cx="857520" cy="1676160"/>
              </a:xfrm>
              <a:custGeom>
                <a:avLst/>
                <a:gdLst/>
                <a:ahLst/>
                <a:rect l="l" t="t" r="r" b="b"/>
                <a:pathLst>
                  <a:path w="540" h="1056">
                    <a:moveTo>
                      <a:pt x="362" y="1056"/>
                    </a:moveTo>
                    <a:cubicBezTo>
                      <a:pt x="262" y="1012"/>
                      <a:pt x="162" y="967"/>
                      <a:pt x="102" y="922"/>
                    </a:cubicBezTo>
                    <a:cubicBezTo>
                      <a:pt x="41" y="877"/>
                      <a:pt x="0" y="839"/>
                      <a:pt x="0" y="789"/>
                    </a:cubicBezTo>
                    <a:cubicBezTo>
                      <a:pt x="0" y="739"/>
                      <a:pt x="42" y="668"/>
                      <a:pt x="102" y="622"/>
                    </a:cubicBezTo>
                    <a:cubicBezTo>
                      <a:pt x="161" y="576"/>
                      <a:pt x="288" y="545"/>
                      <a:pt x="355" y="511"/>
                    </a:cubicBezTo>
                    <a:cubicBezTo>
                      <a:pt x="422" y="477"/>
                      <a:pt x="475" y="463"/>
                      <a:pt x="504" y="417"/>
                    </a:cubicBezTo>
                    <a:cubicBezTo>
                      <a:pt x="533" y="371"/>
                      <a:pt x="527" y="285"/>
                      <a:pt x="528" y="233"/>
                    </a:cubicBezTo>
                    <a:cubicBezTo>
                      <a:pt x="529" y="181"/>
                      <a:pt x="540" y="144"/>
                      <a:pt x="512" y="105"/>
                    </a:cubicBezTo>
                    <a:cubicBezTo>
                      <a:pt x="484" y="66"/>
                      <a:pt x="393" y="22"/>
                      <a:pt x="36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629080" y="4532400"/>
                <a:ext cx="363348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586840" y="4562640"/>
                <a:ext cx="50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33cc33"/>
                    </a:solidFill>
                    <a:latin typeface="Times New Roman"/>
                  </a:rPr>
                  <a:t>u</a:t>
                </a:r>
                <a:r>
                  <a:rPr b="1" lang="pl-PL" sz="2400" spc="-1" strike="noStrike" baseline="-25000">
                    <a:solidFill>
                      <a:srgbClr val="33cc33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058600" y="28526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083840" y="6145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z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902040" y="3554280"/>
                <a:ext cx="74520" cy="74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17640" y="2114640"/>
                <a:ext cx="2840040" cy="19764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57640" y="4105440"/>
                <a:ext cx="1076400" cy="19980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290760" y="4029120"/>
                <a:ext cx="82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210200" y="2419200"/>
                <a:ext cx="120600" cy="187344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1806480" y="4095720"/>
              <a:ext cx="299412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923760"/>
            <a:ext cx="8781840" cy="577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bór właściwego punktu pracy jest w istotny sposób uzależniony od przeznaczenia i założonych warunków pracy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ważniejsze czynniki, które trzeba uwzględnić przy doborze optymalnego punktu prac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ielkość wzmocnienia: 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40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mocy wydzielanej w tranzystorach, stabilność termi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y napięć i prądów na wyjściu 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graniczenia częstotliwo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iekształcenia nielin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szu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iom impedancji wejściowej i wyjś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ki zasilania - stabilizowane, niestabilizowane, 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zar bezpiecznej pracy (SO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259000" y="1911240"/>
            <a:ext cx="4716360" cy="4373640"/>
          </a:xfrm>
          <a:prstGeom prst="rect">
            <a:avLst/>
          </a:prstGeom>
          <a:solidFill>
            <a:srgbClr val="f2f2f2"/>
          </a:solidFill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600280" y="2919240"/>
            <a:ext cx="4011480" cy="2797200"/>
          </a:xfrm>
          <a:custGeom>
            <a:avLst/>
            <a:gdLst/>
            <a:ahLst/>
            <a:rect l="l" t="t" r="r" b="b"/>
            <a:pathLst>
              <a:path w="2527" h="1762">
                <a:moveTo>
                  <a:pt x="863" y="0"/>
                </a:moveTo>
                <a:lnTo>
                  <a:pt x="317" y="0"/>
                </a:lnTo>
                <a:lnTo>
                  <a:pt x="0" y="1762"/>
                </a:lnTo>
                <a:lnTo>
                  <a:pt x="2527" y="1762"/>
                </a:lnTo>
                <a:lnTo>
                  <a:pt x="2527" y="1382"/>
                </a:lnTo>
                <a:lnTo>
                  <a:pt x="2331" y="1328"/>
                </a:lnTo>
                <a:lnTo>
                  <a:pt x="2264" y="1257"/>
                </a:lnTo>
                <a:lnTo>
                  <a:pt x="2165" y="1132"/>
                </a:lnTo>
                <a:lnTo>
                  <a:pt x="2080" y="993"/>
                </a:lnTo>
                <a:lnTo>
                  <a:pt x="2040" y="935"/>
                </a:lnTo>
                <a:lnTo>
                  <a:pt x="1830" y="868"/>
                </a:lnTo>
                <a:lnTo>
                  <a:pt x="1619" y="743"/>
                </a:lnTo>
                <a:lnTo>
                  <a:pt x="1369" y="573"/>
                </a:lnTo>
                <a:lnTo>
                  <a:pt x="1118" y="349"/>
                </a:lnTo>
                <a:lnTo>
                  <a:pt x="988" y="210"/>
                </a:lnTo>
                <a:lnTo>
                  <a:pt x="86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2195640" y="1244520"/>
            <a:ext cx="147600" cy="5040360"/>
            <a:chOff x="2195640" y="1244520"/>
            <a:chExt cx="147600" cy="5040360"/>
          </a:xfrm>
        </p:grpSpPr>
        <p:sp>
          <p:nvSpPr>
            <p:cNvPr id="937" name=""/>
            <p:cNvSpPr/>
            <p:nvPr/>
          </p:nvSpPr>
          <p:spPr>
            <a:xfrm>
              <a:off x="2265480" y="1379520"/>
              <a:ext cx="1440" cy="490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95640" y="12445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94"/>
                  </a:moveTo>
                  <a:lnTo>
                    <a:pt x="44" y="0"/>
                  </a:lnTo>
                  <a:lnTo>
                    <a:pt x="0" y="94"/>
                  </a:lnTo>
                  <a:lnTo>
                    <a:pt x="9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2265480" y="6207120"/>
            <a:ext cx="5035320" cy="149400"/>
            <a:chOff x="2265480" y="6207120"/>
            <a:chExt cx="5035320" cy="149400"/>
          </a:xfrm>
        </p:grpSpPr>
        <p:sp>
          <p:nvSpPr>
            <p:cNvPr id="940" name=""/>
            <p:cNvSpPr/>
            <p:nvPr/>
          </p:nvSpPr>
          <p:spPr>
            <a:xfrm flipH="1">
              <a:off x="2265480" y="6276960"/>
              <a:ext cx="4900320" cy="7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53200" y="6207120"/>
              <a:ext cx="14760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4"/>
                  </a:moveTo>
                  <a:lnTo>
                    <a:pt x="93" y="44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5888160" y="4403880"/>
            <a:ext cx="1015920" cy="361800"/>
            <a:chOff x="5888160" y="4403880"/>
            <a:chExt cx="1015920" cy="361800"/>
          </a:xfrm>
        </p:grpSpPr>
        <p:sp>
          <p:nvSpPr>
            <p:cNvPr id="943" name=""/>
            <p:cNvSpPr/>
            <p:nvPr/>
          </p:nvSpPr>
          <p:spPr>
            <a:xfrm>
              <a:off x="5896080" y="4403880"/>
              <a:ext cx="1000080" cy="353880"/>
            </a:xfrm>
            <a:custGeom>
              <a:avLst/>
              <a:gdLst/>
              <a:ahLst/>
              <a:rect l="l" t="t" r="r" b="b"/>
              <a:pathLst>
                <a:path w="630" h="223">
                  <a:moveTo>
                    <a:pt x="630" y="223"/>
                  </a:moveTo>
                  <a:lnTo>
                    <a:pt x="505" y="219"/>
                  </a:lnTo>
                  <a:lnTo>
                    <a:pt x="384" y="206"/>
                  </a:lnTo>
                  <a:lnTo>
                    <a:pt x="277" y="188"/>
                  </a:lnTo>
                  <a:lnTo>
                    <a:pt x="183" y="161"/>
                  </a:lnTo>
                  <a:lnTo>
                    <a:pt x="143" y="143"/>
                  </a:lnTo>
                  <a:lnTo>
                    <a:pt x="107" y="125"/>
                  </a:lnTo>
                  <a:lnTo>
                    <a:pt x="76" y="107"/>
                  </a:lnTo>
                  <a:lnTo>
                    <a:pt x="49" y="89"/>
                  </a:lnTo>
                  <a:lnTo>
                    <a:pt x="26" y="67"/>
                  </a:lnTo>
                  <a:lnTo>
                    <a:pt x="13" y="45"/>
                  </a:lnTo>
                  <a:lnTo>
                    <a:pt x="4" y="22"/>
                  </a:lnTo>
                  <a:lnTo>
                    <a:pt x="0" y="0"/>
                  </a:lnTo>
                  <a:lnTo>
                    <a:pt x="630" y="0"/>
                  </a:lnTo>
                  <a:lnTo>
                    <a:pt x="630" y="22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8968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12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3244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04000" y="4751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7556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48560" y="474336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5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1976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91320" y="4743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62880" y="47433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408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605640" y="473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57684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548400" y="4730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19960" y="47228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491160" y="47228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64160" y="47163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35720" y="47084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07280" y="470844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378480" y="4702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56520" y="46944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29520" y="46879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00720" y="4680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72280" y="46735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43480" y="4665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15040" y="46594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86600" y="46512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65720" y="46371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137280" y="46306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108840" y="46162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86520" y="46101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5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058080" y="459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037200" y="45813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008760" y="4567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8788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65920" y="453060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45040" y="4510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23080" y="448956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9" y="8"/>
                  </a:lnTo>
                  <a:lnTo>
                    <a:pt x="9" y="4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10120" y="44672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9"/>
                  </a:lnTo>
                  <a:lnTo>
                    <a:pt x="8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896080" y="44467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888160" y="44179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661000" y="3949560"/>
            <a:ext cx="177840" cy="439920"/>
            <a:chOff x="5661000" y="3949560"/>
            <a:chExt cx="177840" cy="439920"/>
          </a:xfrm>
        </p:grpSpPr>
        <p:sp>
          <p:nvSpPr>
            <p:cNvPr id="985" name=""/>
            <p:cNvSpPr/>
            <p:nvPr/>
          </p:nvSpPr>
          <p:spPr>
            <a:xfrm>
              <a:off x="5824440" y="43750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816520" y="4346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802480" y="43257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96000" y="429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81600" y="426888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7548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61080" y="421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53160" y="41911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46680" y="4162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732640" y="4133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724360" y="41133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4"/>
                  </a:moveTo>
                  <a:lnTo>
                    <a:pt x="0" y="8"/>
                  </a:lnTo>
                  <a:lnTo>
                    <a:pt x="5" y="8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10320" y="408456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03840" y="40561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89440" y="40273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81520" y="4005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675400" y="397836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661000" y="39495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379600" y="1138320"/>
            <a:ext cx="461880" cy="503280"/>
            <a:chOff x="2379600" y="1138320"/>
            <a:chExt cx="461880" cy="503280"/>
          </a:xfrm>
        </p:grpSpPr>
        <p:sp>
          <p:nvSpPr>
            <p:cNvPr id="1003" name=""/>
            <p:cNvSpPr/>
            <p:nvPr/>
          </p:nvSpPr>
          <p:spPr>
            <a:xfrm>
              <a:off x="2386080" y="1144440"/>
              <a:ext cx="447480" cy="49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79600" y="1144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379600" y="1173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79600" y="1201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379600" y="1230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79600" y="1258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79600" y="1287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79600" y="13161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79600" y="1344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79600" y="1373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79600" y="1400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79600" y="1428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79600" y="1457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79600" y="1486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379600" y="1514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79600" y="1542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79600" y="1571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79600" y="1600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79600" y="162864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084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368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65280" y="1628640"/>
              <a:ext cx="1296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922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210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495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7796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0676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3520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6400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69244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20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4788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76680" y="16286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05120" y="1628640"/>
              <a:ext cx="144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827440" y="1620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7440" y="1592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27440" y="15638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827440" y="15350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827440" y="15080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27440" y="1479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827440" y="14508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27440" y="1422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27440" y="1393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27440" y="1365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27440" y="1336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27440" y="130824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27440" y="1279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27440" y="125244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27440" y="1224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27440" y="1195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27440" y="1166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27440" y="113832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7986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702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417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7129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845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557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2728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00280" y="1138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7184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4304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460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48616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45736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428920" y="1138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00480" y="1138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7039080" y="5659560"/>
            <a:ext cx="596880" cy="504720"/>
            <a:chOff x="7039080" y="5659560"/>
            <a:chExt cx="596880" cy="504720"/>
          </a:xfrm>
        </p:grpSpPr>
        <p:sp>
          <p:nvSpPr>
            <p:cNvPr id="1071" name=""/>
            <p:cNvSpPr/>
            <p:nvPr/>
          </p:nvSpPr>
          <p:spPr>
            <a:xfrm>
              <a:off x="7045200" y="5667480"/>
              <a:ext cx="582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9080" y="5667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9080" y="5695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9080" y="57243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039080" y="57513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039080" y="57801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39080" y="5808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39080" y="5837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39080" y="586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039080" y="5894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039080" y="5923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039080" y="5951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039080" y="5979960"/>
              <a:ext cx="140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039080" y="600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9080" y="6035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39080" y="6064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39080" y="6093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39080" y="6121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39080" y="614988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675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959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247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532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802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090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374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658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946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231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3515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8036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0880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37600" y="6149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46460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49304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52148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550280" y="6149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57872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07160" y="6149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621560" y="6135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560" y="6107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21560" y="60786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621560" y="6049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621560" y="6021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15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21560" y="5965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21560" y="5937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21560" y="5908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21560" y="58802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21560" y="5851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21560" y="5823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21560" y="5794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21560" y="576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621560" y="5737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21560" y="5710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21560" y="5681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13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585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5582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52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009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4725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437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152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3864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580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296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00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2738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45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1692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1881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159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1308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102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7400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0452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782720" y="5992920"/>
            <a:ext cx="412920" cy="484200"/>
            <a:chOff x="1782720" y="5992920"/>
            <a:chExt cx="412920" cy="484200"/>
          </a:xfrm>
        </p:grpSpPr>
        <p:sp>
          <p:nvSpPr>
            <p:cNvPr id="1149" name=""/>
            <p:cNvSpPr/>
            <p:nvPr/>
          </p:nvSpPr>
          <p:spPr>
            <a:xfrm>
              <a:off x="1789200" y="6000840"/>
              <a:ext cx="398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782720" y="60008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82720" y="60292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82720" y="6058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782720" y="6086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782720" y="611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782720" y="614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782720" y="61707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782720" y="6199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782720" y="6227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782720" y="6256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82720" y="628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82720" y="6313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82720" y="634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82720" y="6369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782720" y="6397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782720" y="6426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82720" y="645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032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320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8604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8892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177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94616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7496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00340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031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5884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08764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1608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44880" y="64627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73320" y="6462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181240" y="6440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181240" y="6411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81240" y="6383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181240" y="63565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81240" y="6327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81240" y="6299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181240" y="6270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81240" y="6242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81240" y="6213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81240" y="6184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81240" y="6156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81240" y="612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81240" y="610092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81240" y="6072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81240" y="6043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81240" y="6014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1733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448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160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08764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058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318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00340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7496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4616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91772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889280" y="59929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86048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320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03240" y="5992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1911240" y="604980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2933640" y="4084560"/>
            <a:ext cx="546120" cy="482760"/>
            <a:chOff x="2933640" y="4084560"/>
            <a:chExt cx="546120" cy="482760"/>
          </a:xfrm>
        </p:grpSpPr>
        <p:sp>
          <p:nvSpPr>
            <p:cNvPr id="1213" name=""/>
            <p:cNvSpPr/>
            <p:nvPr/>
          </p:nvSpPr>
          <p:spPr>
            <a:xfrm>
              <a:off x="2940120" y="409104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3364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93364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93364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93364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93364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93364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33640" y="4260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33640" y="4289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933640" y="4317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933640" y="4346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33640" y="4375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33640" y="4403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33640" y="4432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33640" y="4460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33640" y="4489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33640" y="4516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933640" y="4545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9541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9829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114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0402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686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970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1258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154320" y="4552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1813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097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3856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6700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9580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32424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35268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381480" y="45529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409920" y="4552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438360" y="455292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465360" y="4552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65360" y="4524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465360" y="4495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465360" y="4467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65360" y="4438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465360" y="4410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465360" y="4381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465360" y="43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465360" y="4325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65360" y="4297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465360" y="4268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465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65360" y="4211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465360" y="4183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465360" y="4154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465360" y="412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465360" y="4098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451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4243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3955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3670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386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3098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2814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2529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241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957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66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3992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1148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8304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5424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02580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99736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68560" y="408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940120" y="408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4133880" y="3772080"/>
            <a:ext cx="546120" cy="482400"/>
            <a:chOff x="4133880" y="3772080"/>
            <a:chExt cx="546120" cy="482400"/>
          </a:xfrm>
        </p:grpSpPr>
        <p:sp>
          <p:nvSpPr>
            <p:cNvPr id="1286" name=""/>
            <p:cNvSpPr/>
            <p:nvPr/>
          </p:nvSpPr>
          <p:spPr>
            <a:xfrm>
              <a:off x="4140360" y="3778200"/>
              <a:ext cx="53316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33880" y="3778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133880" y="3807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133880" y="3835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133880" y="3863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133880" y="38926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133880" y="3921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33880" y="394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33880" y="397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33880" y="4005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33880" y="4033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133880" y="4062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33880" y="4091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33880" y="4119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33880" y="4148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33880" y="4176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33880" y="420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33880" y="42339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544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832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116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400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688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973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3257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3545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383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100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3880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6724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9568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524480" y="4240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5292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813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61016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638600" y="4240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667400" y="42400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667400" y="42116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67400" y="4183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67400" y="41544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67400" y="4125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67400" y="40989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67400" y="40705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67400" y="40417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667400" y="40132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67400" y="3984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67400" y="39560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67400" y="39276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67400" y="38988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667400" y="3871800"/>
              <a:ext cx="126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67400" y="38433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67400" y="38149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67400" y="37861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530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245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957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5673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385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5100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4816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4528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4244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397400" y="377208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689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4016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1172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8292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25448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22604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9724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168800" y="37720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40360" y="3772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240080" y="5191200"/>
            <a:ext cx="554040" cy="482400"/>
            <a:chOff x="4240080" y="5191200"/>
            <a:chExt cx="554040" cy="482400"/>
          </a:xfrm>
        </p:grpSpPr>
        <p:sp>
          <p:nvSpPr>
            <p:cNvPr id="1359" name=""/>
            <p:cNvSpPr/>
            <p:nvPr/>
          </p:nvSpPr>
          <p:spPr>
            <a:xfrm>
              <a:off x="4248000" y="5199120"/>
              <a:ext cx="54000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240080" y="519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240080" y="5227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40080" y="5254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240080" y="5283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240080" y="531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240080" y="5340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240080" y="5369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240080" y="539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40080" y="5425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240080" y="5454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240080" y="54831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240080" y="5510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40080" y="5538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40080" y="5567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240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240080" y="5624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40080" y="5653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62400" y="565956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894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78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466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3750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4038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4323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4607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4895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18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5450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57344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0224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3068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5948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8792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1636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745160" y="56595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773600" y="56595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780080" y="56386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780080" y="56102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780080" y="55818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80080" y="55530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780080" y="5524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780080" y="5495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780080" y="54687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80080" y="54403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780080" y="54118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780080" y="53830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80080" y="53546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80080" y="5326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780080" y="52974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80080" y="5268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80080" y="52401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780080" y="52135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7736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451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716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6879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6594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6306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60224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5734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45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180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956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4607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43232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403880" y="51912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7508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466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1784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8940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62400" y="51912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5994360" y="5127480"/>
            <a:ext cx="554040" cy="482760"/>
            <a:chOff x="5994360" y="5127480"/>
            <a:chExt cx="554040" cy="482760"/>
          </a:xfrm>
        </p:grpSpPr>
        <p:sp>
          <p:nvSpPr>
            <p:cNvPr id="1432" name=""/>
            <p:cNvSpPr/>
            <p:nvPr/>
          </p:nvSpPr>
          <p:spPr>
            <a:xfrm>
              <a:off x="6002280" y="5133960"/>
              <a:ext cx="53964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94360" y="5133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94360" y="516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94360" y="51912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94360" y="521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94360" y="52484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94360" y="5276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94360" y="530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94360" y="53341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94360" y="53625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94360" y="53895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94360" y="54180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94360" y="54468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94360" y="547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94360" y="5504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94360" y="553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94360" y="5560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94360" y="5589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0166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045120" y="559584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0721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1009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1293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578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1866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150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34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722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30072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329520" y="55958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35652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38496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1340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44220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47064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499080" y="5595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527880" y="5595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534000" y="55753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534000" y="55468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534000" y="5518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534000" y="54896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534000" y="5460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534000" y="5432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534000" y="5403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534000" y="5375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534000" y="5348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534000" y="53197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34000" y="52912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534000" y="5262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34000" y="5234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34000" y="5205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34000" y="5176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34000" y="5148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278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4990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4706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4422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4134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849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565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2952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007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272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2434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2150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1866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578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129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0092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0721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45120" y="512748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016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5419800" y="4659480"/>
            <a:ext cx="546120" cy="482400"/>
            <a:chOff x="5419800" y="4659480"/>
            <a:chExt cx="546120" cy="482400"/>
          </a:xfrm>
        </p:grpSpPr>
        <p:sp>
          <p:nvSpPr>
            <p:cNvPr id="1505" name=""/>
            <p:cNvSpPr/>
            <p:nvPr/>
          </p:nvSpPr>
          <p:spPr>
            <a:xfrm>
              <a:off x="5425920" y="4665600"/>
              <a:ext cx="533520" cy="4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419800" y="46656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9800" y="46944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19800" y="47228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419800" y="47512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419800" y="47800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419800" y="48085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419800" y="4836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419800" y="4865760"/>
              <a:ext cx="140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19800" y="489276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19800" y="492120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19800" y="495000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19800" y="497844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19800" y="50068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19800" y="50356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19800" y="506412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419800" y="5092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419800" y="51195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4403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4687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975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260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5548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832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6116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640480" y="5127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6674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69592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243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75316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160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1040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83884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867280" y="5127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96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923080" y="512748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951520" y="51274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951520" y="50990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951520" y="50706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951520" y="5041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951520" y="50133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951520" y="49863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951520" y="49579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51520" y="49291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51520" y="49006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951520" y="48718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951520" y="48434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951520" y="481500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951520" y="47862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51520" y="47577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951520" y="473076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9515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951520" y="4673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371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910120" y="4659480"/>
              <a:ext cx="1296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8816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8532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244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7960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675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7387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7103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6815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653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62608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59764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56884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54040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1196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48316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4720" y="465948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425920" y="465948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3289320" y="2955960"/>
            <a:ext cx="546120" cy="482400"/>
            <a:chOff x="3289320" y="2955960"/>
            <a:chExt cx="546120" cy="482400"/>
          </a:xfrm>
        </p:grpSpPr>
        <p:sp>
          <p:nvSpPr>
            <p:cNvPr id="1578" name=""/>
            <p:cNvSpPr/>
            <p:nvPr/>
          </p:nvSpPr>
          <p:spPr>
            <a:xfrm>
              <a:off x="3295800" y="2962440"/>
              <a:ext cx="533160" cy="4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289320" y="29624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289320" y="29908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289320" y="30193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89320" y="30481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89320" y="30765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289320" y="3105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289320" y="31320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89320" y="31608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289320" y="318924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289320" y="321804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89320" y="324648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289320" y="327492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289320" y="33037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289320" y="333216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89320" y="3360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89320" y="3387600"/>
              <a:ext cx="126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89320" y="341640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3098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386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3670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3955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424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4513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4797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082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5370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56544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9424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62268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65112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679920" y="3424320"/>
              <a:ext cx="1404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708360" y="3424320"/>
              <a:ext cx="126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3536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7638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792600" y="34243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821040" y="342432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821040" y="33955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1040" y="33670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21040" y="33386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821040" y="33098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21040" y="32814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821040" y="3252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821040" y="32259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821040" y="31971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821040" y="316872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821040" y="313992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821040" y="311148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821040" y="308304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821040" y="305424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821040" y="302580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821040" y="2998800"/>
              <a:ext cx="144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821040" y="2970360"/>
              <a:ext cx="14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8070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782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7497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720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939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655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70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82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798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5514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52260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9416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6536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38360" y="2955960"/>
              <a:ext cx="1296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40992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38148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35268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324240" y="2955960"/>
              <a:ext cx="14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295800" y="2955960"/>
              <a:ext cx="140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5537160" y="3022560"/>
            <a:ext cx="1243080" cy="646200"/>
          </a:xfrm>
          <a:prstGeom prst="wedgeRoundRectCallout">
            <a:avLst>
              <a:gd name="adj1" fmla="val -109898"/>
              <a:gd name="adj2" fmla="val 77763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467480" y="3962520"/>
            <a:ext cx="1255680" cy="645840"/>
          </a:xfrm>
          <a:prstGeom prst="wedgeRoundRectCallout">
            <a:avLst>
              <a:gd name="adj1" fmla="val -161884"/>
              <a:gd name="adj2" fmla="val 64004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tó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99440" y="4876920"/>
            <a:ext cx="1577880" cy="645840"/>
          </a:xfrm>
          <a:prstGeom prst="wedgeRoundRectCallout">
            <a:avLst>
              <a:gd name="adj1" fmla="val -97685"/>
              <a:gd name="adj2" fmla="val 32555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eb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pięci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84600" y="1320840"/>
            <a:ext cx="2454480" cy="861840"/>
          </a:xfrm>
          <a:prstGeom prst="wedgeRoundRectCallout">
            <a:avLst>
              <a:gd name="adj1" fmla="val -88097"/>
              <a:gd name="adj2" fmla="val 131217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zepalenie połącze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39680" y="2019240"/>
            <a:ext cx="1738440" cy="978120"/>
          </a:xfrm>
          <a:prstGeom prst="wedgeRoundRectCallout">
            <a:avLst>
              <a:gd name="adj1" fmla="val 111736"/>
              <a:gd name="adj2" fmla="val 10714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y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zniekształc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9000" y="4127400"/>
            <a:ext cx="1879560" cy="1030320"/>
          </a:xfrm>
          <a:prstGeom prst="wedgeRoundRectCallout">
            <a:avLst>
              <a:gd name="adj1" fmla="val 154393"/>
              <a:gd name="adj2" fmla="val 100384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tk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niekształce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665160" y="4200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406240" y="115884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443000" y="6010200"/>
            <a:ext cx="6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228600" y="1471680"/>
          <a:ext cx="891540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71680"/>
                    <a:ext cx="8915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punktu pracy ze względu na zastos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ór napięcia kolektor-emiter lub dren-źródł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względu na stabilność termiczną tranzy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3470400" y="5792760"/>
                <a:ext cx="2288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Q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4" name=""/>
          <p:cNvSpPr/>
          <p:nvPr/>
        </p:nvSpPr>
        <p:spPr>
          <a:xfrm>
            <a:off x="4240080" y="1930320"/>
            <a:ext cx="1690920" cy="3106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89560" y="2436840"/>
            <a:ext cx="3449520" cy="1233360"/>
          </a:xfrm>
          <a:prstGeom prst="wedgeRoundRectCallout">
            <a:avLst>
              <a:gd name="adj1" fmla="val -64402"/>
              <a:gd name="adj2" fmla="val 92222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roś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554200" y="1932120"/>
            <a:ext cx="1690920" cy="310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149640" y="1843200"/>
            <a:ext cx="3681360" cy="296856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16120" y="1504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328520" y="462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561920" y="1138320"/>
            <a:ext cx="431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hiperbola mocy admisyjnej 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71840" y="2330280"/>
            <a:ext cx="3149640" cy="27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457440" y="1776240"/>
            <a:ext cx="3434040" cy="277020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75040" y="1716120"/>
            <a:ext cx="3299040" cy="2679840"/>
          </a:xfrm>
          <a:custGeom>
            <a:avLst/>
            <a:gdLst/>
            <a:ahLst/>
            <a:rect l="l" t="t" r="r" b="b"/>
            <a:pathLst>
              <a:path w="2467" h="2166">
                <a:moveTo>
                  <a:pt x="0" y="0"/>
                </a:moveTo>
                <a:cubicBezTo>
                  <a:pt x="20" y="213"/>
                  <a:pt x="41" y="426"/>
                  <a:pt x="100" y="633"/>
                </a:cubicBezTo>
                <a:cubicBezTo>
                  <a:pt x="159" y="840"/>
                  <a:pt x="258" y="1077"/>
                  <a:pt x="356" y="1244"/>
                </a:cubicBezTo>
                <a:cubicBezTo>
                  <a:pt x="454" y="1411"/>
                  <a:pt x="530" y="1509"/>
                  <a:pt x="689" y="1633"/>
                </a:cubicBezTo>
                <a:cubicBezTo>
                  <a:pt x="848" y="1757"/>
                  <a:pt x="1016" y="1900"/>
                  <a:pt x="1312" y="1989"/>
                </a:cubicBezTo>
                <a:cubicBezTo>
                  <a:pt x="1608" y="2078"/>
                  <a:pt x="2037" y="2122"/>
                  <a:pt x="2467" y="216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20760" y="1152360"/>
            <a:ext cx="158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554800" y="508320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760920" y="3375000"/>
            <a:ext cx="117360" cy="92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067360" y="4487760"/>
            <a:ext cx="11592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flipV="1">
            <a:off x="3260880" y="2925360"/>
            <a:ext cx="490320" cy="4158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094200" y="2795760"/>
            <a:ext cx="115560" cy="9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 flipV="1">
            <a:off x="4625640" y="4095720"/>
            <a:ext cx="415800" cy="3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500720" y="3992400"/>
            <a:ext cx="11556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4246560" y="1949400"/>
            <a:ext cx="0" cy="3106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4030560" y="5054760"/>
                <a:ext cx="700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3696120" y="2843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239440" y="427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2554200" y="1750680"/>
            <a:ext cx="0" cy="328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503440" y="5040360"/>
            <a:ext cx="5091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2570040" y="2376360"/>
            <a:ext cx="381240" cy="266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2968560" y="2041560"/>
            <a:ext cx="3614760" cy="334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884320" y="2452680"/>
            <a:ext cx="3683160" cy="379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2784600" y="3517920"/>
            <a:ext cx="3633840" cy="39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2685960" y="4021200"/>
            <a:ext cx="3614760" cy="35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2801880" y="2970360"/>
            <a:ext cx="3583080" cy="41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7647120" y="314640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5" name=""/>
          <p:cNvSpPr/>
          <p:nvPr/>
        </p:nvSpPr>
        <p:spPr>
          <a:xfrm>
            <a:off x="530280" y="4592520"/>
            <a:ext cx="3449520" cy="1233720"/>
          </a:xfrm>
          <a:prstGeom prst="wedgeRoundRectCallout">
            <a:avLst>
              <a:gd name="adj1" fmla="val 36851"/>
              <a:gd name="adj2" fmla="val -165666"/>
              <a:gd name="adj3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c strat mal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wzroście 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zy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2854440" y="5354640"/>
                <a:ext cx="37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7" name=""/>
          <p:cNvSpPr/>
          <p:nvPr/>
        </p:nvSpPr>
        <p:spPr>
          <a:xfrm>
            <a:off x="2084400" y="6081840"/>
            <a:ext cx="1280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o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naliza ogólnego, dwubateryjnego układu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1476360" y="1684440"/>
            <a:ext cx="5647680" cy="3987360"/>
            <a:chOff x="1476360" y="1684440"/>
            <a:chExt cx="5647680" cy="3987360"/>
          </a:xfrm>
        </p:grpSpPr>
        <p:sp>
          <p:nvSpPr>
            <p:cNvPr id="1700" name=""/>
            <p:cNvSpPr/>
            <p:nvPr/>
          </p:nvSpPr>
          <p:spPr>
            <a:xfrm>
              <a:off x="3987000" y="232668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987000" y="2853720"/>
              <a:ext cx="36504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21600" y="2707560"/>
              <a:ext cx="36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352400" y="3147120"/>
              <a:ext cx="0" cy="58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3987000" y="2121840"/>
              <a:ext cx="36504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rot="10800000">
              <a:off x="5815440" y="241524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523240" y="3167280"/>
              <a:ext cx="254520" cy="856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5572440" y="4753800"/>
              <a:ext cx="730440" cy="147240"/>
              <a:chOff x="5572440" y="4753800"/>
              <a:chExt cx="730440" cy="147240"/>
            </a:xfrm>
          </p:grpSpPr>
          <p:sp>
            <p:nvSpPr>
              <p:cNvPr id="1708" name=""/>
              <p:cNvSpPr/>
              <p:nvPr/>
            </p:nvSpPr>
            <p:spPr>
              <a:xfrm>
                <a:off x="5572440" y="4753800"/>
                <a:ext cx="73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1544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2280960" y="4753800"/>
              <a:ext cx="730080" cy="147240"/>
              <a:chOff x="2280960" y="4753800"/>
              <a:chExt cx="730080" cy="147240"/>
            </a:xfrm>
          </p:grpSpPr>
          <p:sp>
            <p:nvSpPr>
              <p:cNvPr id="1711" name=""/>
              <p:cNvSpPr/>
              <p:nvPr/>
            </p:nvSpPr>
            <p:spPr>
              <a:xfrm>
                <a:off x="2280960" y="475380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23960" y="4901040"/>
                <a:ext cx="2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26460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38200" y="4901760"/>
              <a:ext cx="0" cy="43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46000" y="5339160"/>
              <a:ext cx="32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41800" y="3293280"/>
              <a:ext cx="0" cy="14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46000" y="4024440"/>
              <a:ext cx="0" cy="72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323960" y="4601880"/>
              <a:ext cx="0" cy="68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52400" y="16844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646000" y="2707560"/>
              <a:ext cx="0" cy="43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352400" y="1684440"/>
              <a:ext cx="15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46000" y="2707560"/>
              <a:ext cx="109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41800" y="1684440"/>
              <a:ext cx="0" cy="73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68880" y="5252400"/>
              <a:ext cx="115200" cy="135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332240" y="5234040"/>
              <a:ext cx="0" cy="43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142880" y="563112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257440" y="4309920"/>
              <a:ext cx="33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84680" y="4505040"/>
              <a:ext cx="63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006000" y="4236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76360" y="4407480"/>
              <a:ext cx="675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367320" y="2418120"/>
              <a:ext cx="55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872360" y="309852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924280" y="2709720"/>
              <a:ext cx="56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4774680" y="1684440"/>
              <a:ext cx="40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4774680" y="2267640"/>
              <a:ext cx="0" cy="106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3567960" y="3045960"/>
              <a:ext cx="482400" cy="68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37400" y="2559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85280" y="333792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175920" y="18792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rot="10800000">
              <a:off x="4211280" y="3726360"/>
              <a:ext cx="254520" cy="855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614120" y="3921480"/>
              <a:ext cx="539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2" name=""/>
          <p:cNvSpPr/>
          <p:nvPr/>
        </p:nvSpPr>
        <p:spPr>
          <a:xfrm>
            <a:off x="4876920" y="1143000"/>
            <a:ext cx="42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tranzystora bipolar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0120" y="907920"/>
            <a:ext cx="0" cy="425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8600" y="5184720"/>
            <a:ext cx="628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110120" y="1584000"/>
            <a:ext cx="28260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6400" y="1076400"/>
            <a:ext cx="2116080" cy="410832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81400" y="942840"/>
            <a:ext cx="3033720" cy="3712680"/>
            <a:chOff x="4181400" y="942840"/>
            <a:chExt cx="3033720" cy="3712680"/>
          </a:xfrm>
        </p:grpSpPr>
        <p:sp>
          <p:nvSpPr>
            <p:cNvPr id="56" name=""/>
            <p:cNvSpPr/>
            <p:nvPr/>
          </p:nvSpPr>
          <p:spPr>
            <a:xfrm flipV="1">
              <a:off x="4410000" y="1535040"/>
              <a:ext cx="2803320" cy="52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0160" y="2256840"/>
              <a:ext cx="2874960" cy="33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286160" y="2874960"/>
              <a:ext cx="292896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251240" y="3526920"/>
              <a:ext cx="2946240" cy="15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16320" y="4092120"/>
              <a:ext cx="2981160" cy="10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181400" y="4620600"/>
              <a:ext cx="301608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427280" y="942840"/>
              <a:ext cx="2735280" cy="62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375720" y="85896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242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7880" y="5321160"/>
            <a:ext cx="62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199760" y="579600"/>
            <a:ext cx="3183840" cy="4023360"/>
            <a:chOff x="4199760" y="579600"/>
            <a:chExt cx="3183840" cy="4023360"/>
          </a:xfrm>
        </p:grpSpPr>
        <p:sp>
          <p:nvSpPr>
            <p:cNvPr id="67" name=""/>
            <p:cNvSpPr/>
            <p:nvPr/>
          </p:nvSpPr>
          <p:spPr>
            <a:xfrm flipV="1">
              <a:off x="4401000" y="1185120"/>
              <a:ext cx="2910600" cy="72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361400" y="1927080"/>
              <a:ext cx="2997720" cy="528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286160" y="2560320"/>
              <a:ext cx="3059280" cy="46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246560" y="3249000"/>
              <a:ext cx="3083040" cy="35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260600" y="3814560"/>
              <a:ext cx="3123000" cy="298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199760" y="4373640"/>
              <a:ext cx="3164040" cy="229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388040" y="579600"/>
              <a:ext cx="2831760" cy="818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181240" y="1071720"/>
            <a:ext cx="1940040" cy="4089240"/>
          </a:xfrm>
          <a:custGeom>
            <a:avLst/>
            <a:gdLst/>
            <a:ahLst/>
            <a:rect l="l" t="t" r="r" b="b"/>
            <a:pathLst>
              <a:path w="1333" h="2588">
                <a:moveTo>
                  <a:pt x="1333" y="2588"/>
                </a:moveTo>
                <a:cubicBezTo>
                  <a:pt x="1192" y="2586"/>
                  <a:pt x="1052" y="2584"/>
                  <a:pt x="911" y="2577"/>
                </a:cubicBezTo>
                <a:cubicBezTo>
                  <a:pt x="770" y="2570"/>
                  <a:pt x="598" y="2568"/>
                  <a:pt x="489" y="2544"/>
                </a:cubicBezTo>
                <a:cubicBezTo>
                  <a:pt x="380" y="2520"/>
                  <a:pt x="314" y="2487"/>
                  <a:pt x="255" y="2433"/>
                </a:cubicBezTo>
                <a:cubicBezTo>
                  <a:pt x="196" y="2379"/>
                  <a:pt x="164" y="2355"/>
                  <a:pt x="133" y="2222"/>
                </a:cubicBezTo>
                <a:cubicBezTo>
                  <a:pt x="102" y="2089"/>
                  <a:pt x="88" y="2003"/>
                  <a:pt x="66" y="1633"/>
                </a:cubicBezTo>
                <a:cubicBezTo>
                  <a:pt x="44" y="1263"/>
                  <a:pt x="22" y="631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58880" y="2398680"/>
            <a:ext cx="1074960" cy="6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920" y="30463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z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421320" y="3703680"/>
            <a:ext cx="247680" cy="109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812160" y="498600"/>
            <a:ext cx="77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tępując tranzystor uproszczonym modelem Ebersa - M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85800" y="1523880"/>
            <a:ext cx="7358760" cy="4406760"/>
            <a:chOff x="685800" y="1523880"/>
            <a:chExt cx="7358760" cy="4406760"/>
          </a:xfrm>
        </p:grpSpPr>
        <p:sp>
          <p:nvSpPr>
            <p:cNvPr id="1745" name=""/>
            <p:cNvSpPr/>
            <p:nvPr/>
          </p:nvSpPr>
          <p:spPr>
            <a:xfrm>
              <a:off x="2032560" y="2324880"/>
              <a:ext cx="75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014200" y="2324880"/>
              <a:ext cx="0" cy="62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rot="10800000">
              <a:off x="1888560" y="2948400"/>
              <a:ext cx="253800" cy="78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6578640" y="4415400"/>
              <a:ext cx="727920" cy="135000"/>
              <a:chOff x="6578640" y="4415400"/>
              <a:chExt cx="727920" cy="135000"/>
            </a:xfrm>
          </p:grpSpPr>
          <p:sp>
            <p:nvSpPr>
              <p:cNvPr id="1749" name=""/>
              <p:cNvSpPr/>
              <p:nvPr/>
            </p:nvSpPr>
            <p:spPr>
              <a:xfrm>
                <a:off x="6578640" y="4415400"/>
                <a:ext cx="727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820920" y="4550400"/>
                <a:ext cx="24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1604520" y="4415400"/>
              <a:ext cx="728280" cy="135000"/>
              <a:chOff x="1604520" y="4415400"/>
              <a:chExt cx="728280" cy="135000"/>
            </a:xfrm>
          </p:grpSpPr>
          <p:sp>
            <p:nvSpPr>
              <p:cNvPr id="1752" name=""/>
              <p:cNvSpPr/>
              <p:nvPr/>
            </p:nvSpPr>
            <p:spPr>
              <a:xfrm>
                <a:off x="1604520" y="4415400"/>
                <a:ext cx="72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846800" y="4550400"/>
                <a:ext cx="242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4" name=""/>
            <p:cNvSpPr/>
            <p:nvPr/>
          </p:nvSpPr>
          <p:spPr>
            <a:xfrm>
              <a:off x="1969200" y="4550760"/>
              <a:ext cx="0" cy="97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942600" y="4550760"/>
              <a:ext cx="0" cy="97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69200" y="5529960"/>
              <a:ext cx="497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999080" y="3749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57360" y="348228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257360" y="5151960"/>
              <a:ext cx="0" cy="37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272120" y="55299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71600" y="5893920"/>
              <a:ext cx="36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407600" y="4016520"/>
              <a:ext cx="33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443360" y="41943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65160" y="4020480"/>
              <a:ext cx="352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85800" y="410580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43640" y="3037320"/>
              <a:ext cx="549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176840" y="2948400"/>
              <a:ext cx="50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0800000">
              <a:off x="4134960" y="4391280"/>
              <a:ext cx="253800" cy="782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36000" y="4461480"/>
              <a:ext cx="537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10800000">
              <a:off x="3807360" y="2770200"/>
              <a:ext cx="203760" cy="22608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3780720" y="3037320"/>
              <a:ext cx="2721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931840" y="2324880"/>
              <a:ext cx="100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60600" y="225108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97920" y="2314080"/>
              <a:ext cx="1462320" cy="10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894480" y="3482280"/>
              <a:ext cx="72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11040" y="3037320"/>
              <a:ext cx="0" cy="44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455720" y="2770200"/>
              <a:ext cx="280800" cy="31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55720" y="2948400"/>
              <a:ext cx="280800" cy="31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594680" y="2757240"/>
              <a:ext cx="1800" cy="53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15240" y="3415680"/>
              <a:ext cx="75240" cy="8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586040" y="2304720"/>
              <a:ext cx="0" cy="461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206960" y="383868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802960" y="2271240"/>
              <a:ext cx="113400" cy="126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4" name=""/>
                <p:cNvSpPr txBox="1"/>
                <p:nvPr/>
              </p:nvSpPr>
              <p:spPr>
                <a:xfrm>
                  <a:off x="5258160" y="3482280"/>
                  <a:ext cx="1325160" cy="42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85" name=""/>
            <p:cNvSpPr/>
            <p:nvPr/>
          </p:nvSpPr>
          <p:spPr>
            <a:xfrm>
              <a:off x="4937040" y="1702080"/>
              <a:ext cx="41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771280" y="2859120"/>
              <a:ext cx="72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452320" y="1523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741280" y="1612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455720" y="366048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16080" y="2324880"/>
              <a:ext cx="0" cy="454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936680" y="230472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38840" y="2324880"/>
              <a:ext cx="40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356800" y="27126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32880" y="1702080"/>
              <a:ext cx="41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594680" y="3037320"/>
              <a:ext cx="0" cy="453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215240" y="5461200"/>
              <a:ext cx="75240" cy="8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5097960" y="2503080"/>
              <a:ext cx="0" cy="80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3573360" y="2680920"/>
              <a:ext cx="0" cy="80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253760" y="3957120"/>
              <a:ext cx="0" cy="41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74640" y="2324880"/>
              <a:ext cx="0" cy="62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10800000">
              <a:off x="6848640" y="2948400"/>
              <a:ext cx="253800" cy="784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59520" y="3749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185520" y="2324880"/>
              <a:ext cx="75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4776480" y="3215520"/>
              <a:ext cx="400680" cy="44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245480" y="3482280"/>
              <a:ext cx="0" cy="35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742920" y="342468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610720" y="3877560"/>
              <a:ext cx="932400" cy="1029600"/>
            </a:xfrm>
            <a:prstGeom prst="uturnArrow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093120" y="4550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5308200" y="3927600"/>
              <a:ext cx="992880" cy="1029600"/>
            </a:xfrm>
            <a:prstGeom prst="uturnArrow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99720" y="455076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"/>
          <p:cNvSpPr/>
          <p:nvPr/>
        </p:nvSpPr>
        <p:spPr>
          <a:xfrm>
            <a:off x="987120" y="3808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oczka wejściowego (I) ma post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993600" y="907920"/>
            <a:ext cx="733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965160" y="17683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korzystując zależnoś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4" name=""/>
              <p:cNvSpPr txBox="1"/>
              <p:nvPr/>
            </p:nvSpPr>
            <p:spPr>
              <a:xfrm>
                <a:off x="2865600" y="2441520"/>
                <a:ext cx="3163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5" name=""/>
          <p:cNvSpPr/>
          <p:nvPr/>
        </p:nvSpPr>
        <p:spPr>
          <a:xfrm>
            <a:off x="1077120" y="36399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yskuje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882720" y="4708440"/>
                <a:ext cx="67453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"/>
          <p:cNvSpPr/>
          <p:nvPr/>
        </p:nvSpPr>
        <p:spPr>
          <a:xfrm>
            <a:off x="757080" y="450720"/>
            <a:ext cx="750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zyskamy z równania oczka wyjściowego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67720" y="1473120"/>
            <a:ext cx="782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30280" y="3051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dstawieniu zależności i przekształceniu równ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876240" y="4303800"/>
                <a:ext cx="69645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1052640" y="48096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spełnione są warunki (zwykle są 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870120" y="1622520"/>
                <a:ext cx="72928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3" name=""/>
          <p:cNvSpPr/>
          <p:nvPr/>
        </p:nvSpPr>
        <p:spPr>
          <a:xfrm>
            <a:off x="686880" y="28195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52160" y="3809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obnie, jeżeli spełnione są warun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669960" y="4343400"/>
                <a:ext cx="7805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az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518760" y="583236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ówcz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232000" y="5756400"/>
                <a:ext cx="5045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2755800" y="2652840"/>
                <a:ext cx="24116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temperatury na zmiany punktu p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półczynniki stabilizacji prą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8000" y="1308240"/>
            <a:ext cx="8442000" cy="118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elkości 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β, 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B0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leżą od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087640" y="2867040"/>
            <a:ext cx="5056200" cy="57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2320" y="3816360"/>
            <a:ext cx="8645040" cy="238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zie c jest współczynnikiem zmian temperaturowych zmian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 ten niemal nie zależy od prądu i jest stały w szero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ie zmian temperatu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Jego wartość wynosi od 1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 do 2,5 mV/</a:t>
            </a:r>
            <a:r>
              <a:rPr b="1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2076480" y="907920"/>
            <a:ext cx="5168880" cy="5796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β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β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[1 + γ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80880" y="1600200"/>
            <a:ext cx="8561520" cy="1557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γ jest współczynnikiem temperaturowych zmian 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 ten niemal nie zależy od temper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go wartość wynosi od 5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do 10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009880" y="3468600"/>
                <a:ext cx="53038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6" name=""/>
          <p:cNvSpPr/>
          <p:nvPr/>
        </p:nvSpPr>
        <p:spPr>
          <a:xfrm>
            <a:off x="660240" y="4648320"/>
            <a:ext cx="8001000" cy="1607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jest współczynnikiem temperaturowych zmian prąd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 krzemu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898200" y="422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1800" y="839880"/>
            <a:ext cx="4347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f [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B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, β(T) 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10720" y="1793880"/>
            <a:ext cx="79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ając różniczkę zupełną powyższej funkcji otrzymujem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1600200" y="2424240"/>
                <a:ext cx="63705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d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1" name=""/>
          <p:cNvSpPr/>
          <p:nvPr/>
        </p:nvSpPr>
        <p:spPr>
          <a:xfrm>
            <a:off x="2615760" y="38512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ępując różniczki przyrosta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1703520" y="4648320"/>
                <a:ext cx="616248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r>
                          <m:t xml:space="preserve">Δβ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669960" y="2700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3695760" y="1249200"/>
                <a:ext cx="22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142920" y="2860560"/>
                <a:ext cx="89121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142920" y="4403880"/>
                <a:ext cx="7392960" cy="20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Δ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142920" y="907920"/>
                <a:ext cx="8161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|</m:t>
                    </m:r>
                    <m:sSub>
                      <m:e>
                        <m:eqAr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  <m:r>
                              <m:t xml:space="preserve">,</m:t>
                            </m:r>
                          </m:e>
                        </m:eqArr>
                      </m:e>
                      <m:sub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/>
          <p:nvPr/>
        </p:nvSpPr>
        <p:spPr>
          <a:xfrm>
            <a:off x="680760" y="422280"/>
            <a:ext cx="8161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wyznaczymy różniczkując wyrażenie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kol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1889280" y="2930400"/>
                <a:ext cx="48402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3011400" y="4683240"/>
                <a:ext cx="2594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1" name=""/>
          <p:cNvSpPr/>
          <p:nvPr/>
        </p:nvSpPr>
        <p:spPr>
          <a:xfrm>
            <a:off x="304920" y="5791320"/>
            <a:ext cx="7947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ci przybliżone obowiązują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β &gt;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 tak jest w większości układów prakt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1965240" y="1406520"/>
                <a:ext cx="46846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301320" y="304920"/>
            <a:ext cx="8848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ując wzory (2.3.10) - (2.3.12) widzimy, że w celu uzysk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 najmniejszych współczynników stabilizacji należy dążyć do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większej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jak najmniejszej wartości rezys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stosować tranzystory o jak największej wartości 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uważmy, że duża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do minim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zystkich współczynników stabilizacji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88800" y="2590920"/>
            <a:ext cx="795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ę napięcia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owodowaną zmianą temperatury moż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iczyć z zależnośc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438280" y="3429000"/>
            <a:ext cx="4111920" cy="57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Δ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Δ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80880" y="4191120"/>
            <a:ext cx="8147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sowanie zatem zbyt dużych wartości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wadzi zatem z drugiej strony do wzrostu napięcia zasilania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zwiększenia zmian napięcia Δ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 temperatur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80880" y="5486400"/>
            <a:ext cx="847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atem wartość rezystora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zarówno od góry 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d do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0560" y="1289160"/>
                <a:ext cx="352584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70560" y="2673360"/>
                <a:ext cx="3547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57600" y="4179960"/>
                <a:ext cx="2421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" name=""/>
          <p:cNvGrpSpPr/>
          <p:nvPr/>
        </p:nvGrpSpPr>
        <p:grpSpPr>
          <a:xfrm>
            <a:off x="285480" y="1365120"/>
            <a:ext cx="3891960" cy="3596760"/>
            <a:chOff x="285480" y="1365120"/>
            <a:chExt cx="3891960" cy="3596760"/>
          </a:xfrm>
        </p:grpSpPr>
        <p:sp>
          <p:nvSpPr>
            <p:cNvPr id="83" name=""/>
            <p:cNvSpPr/>
            <p:nvPr/>
          </p:nvSpPr>
          <p:spPr>
            <a:xfrm>
              <a:off x="1676520" y="23860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25714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24480" y="2372400"/>
              <a:ext cx="1440" cy="55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520" y="35002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3685680"/>
              <a:ext cx="299160" cy="324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824480" y="3468600"/>
              <a:ext cx="1440" cy="55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508840" y="3592800"/>
              <a:ext cx="217440" cy="2358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480040" y="3871440"/>
              <a:ext cx="290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75000" y="2496240"/>
              <a:ext cx="290160" cy="261000"/>
              <a:chOff x="2475000" y="2496240"/>
              <a:chExt cx="290160" cy="261000"/>
            </a:xfrm>
          </p:grpSpPr>
          <p:sp>
            <p:nvSpPr>
              <p:cNvPr id="92" name=""/>
              <p:cNvSpPr/>
              <p:nvPr/>
            </p:nvSpPr>
            <p:spPr>
              <a:xfrm>
                <a:off x="2521440" y="2521440"/>
                <a:ext cx="217080" cy="23580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475000" y="2496240"/>
                <a:ext cx="29016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72200" y="3128760"/>
              <a:ext cx="1882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7720" y="2757600"/>
              <a:ext cx="0" cy="835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94520" y="3078720"/>
              <a:ext cx="7992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92080" y="307476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0120" y="196452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80120" y="4258440"/>
              <a:ext cx="8028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06920" y="1946880"/>
              <a:ext cx="120960" cy="1314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47520" y="2921400"/>
              <a:ext cx="0" cy="556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4480" y="2014560"/>
              <a:ext cx="188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4480" y="4335840"/>
              <a:ext cx="1882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19360" y="2014560"/>
              <a:ext cx="0" cy="46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9360" y="3871440"/>
              <a:ext cx="0" cy="464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4480" y="2014560"/>
              <a:ext cx="0" cy="37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4480" y="3964320"/>
              <a:ext cx="0" cy="371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06920" y="4258440"/>
              <a:ext cx="120960" cy="1310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680" y="3088080"/>
              <a:ext cx="120960" cy="1314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882720" y="2200320"/>
                  <a:ext cx="848520" cy="46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927720" y="3778560"/>
                  <a:ext cx="725040" cy="46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 flipV="1">
              <a:off x="2637720" y="2757240"/>
              <a:ext cx="0" cy="27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37720" y="3128760"/>
              <a:ext cx="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65880" y="2664720"/>
              <a:ext cx="440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65880" y="3035880"/>
              <a:ext cx="440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480" y="331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09080" y="2107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4040" y="3685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022560" y="2014560"/>
              <a:ext cx="42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36880" y="4335840"/>
              <a:ext cx="428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4080" y="3128760"/>
              <a:ext cx="42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51560" y="1365120"/>
              <a:ext cx="51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22560" y="4521240"/>
              <a:ext cx="599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9200" y="3035880"/>
              <a:ext cx="378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tałoprądowy model Ebersa - Molla (przypomnie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65080" y="4667400"/>
                <a:ext cx="177192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353520" y="193680"/>
            <a:ext cx="871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góry wartość ta jest ograniczona dwoma czynnika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maksymalnym napięciem zasilania, które w może być za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układ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523880" y="1981080"/>
                <a:ext cx="603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0" name=""/>
          <p:cNvSpPr/>
          <p:nvPr/>
        </p:nvSpPr>
        <p:spPr>
          <a:xfrm>
            <a:off x="517680" y="3241800"/>
            <a:ext cx="823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warunkami stabilizacji napięcia kolektora, które pogarszają si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śn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494000" y="4724280"/>
                <a:ext cx="60069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380880" y="228600"/>
            <a:ext cx="8348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dołu,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st ograniczona warunkami stabilizacji prą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ektora, które pogarszają się, gd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l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221120" y="1143000"/>
            <a:ext cx="601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ną wartość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żna wyznaczyć jak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1584360" y="1655640"/>
                <a:ext cx="6180120" cy="187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Δ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Δβ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6" name=""/>
          <p:cNvSpPr/>
          <p:nvPr/>
        </p:nvSpPr>
        <p:spPr>
          <a:xfrm>
            <a:off x="536400" y="3581280"/>
            <a:ext cx="827604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leży podkreślić, że we wzmacniaczy rezystancyjnym zbyt m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odują w praktyce nadmierne zmniejs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a dla składowych zmiennych, ponieważ rezystancje 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cznikują wejście i wyjście tranzys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1160" y="5157720"/>
            <a:ext cx="896796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 więc, przy wyborz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leży się kierować rozsąd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romisem między warunkami stabilizacji prądowej i napięciow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z wartością napięcia zasilania i wzmocnienia układu oraz rezystan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jściowej i wyjściowej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y zasilania tranzystorów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12720" y="614520"/>
            <a:ext cx="779472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rócz omówionego poprzednio układu zasilania tranzys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polarnego z dwu baterii stosowane są również układy zasila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b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ego ze sprzężeniem emite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tencjometryczny ze sprzężeniem kolektor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tałym prądem emit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 nieliniowymi elementami kompensującymi wpływ zmia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empera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69720" y="4173480"/>
            <a:ext cx="8280720" cy="252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ą to układy zasilania jednobateryjne, w których bateria 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stąpiona jest odpowiednim dzielnikiem rezystancyjny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Analiza i projektowanie tych układów odbywa się za pomoc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wzorów wyprowadzonych dla układu zasilania dwubateryj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z tym, że obydwa układy należy sprowadzić najpierw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równoważnego układu zasilania dwubateryj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3352680" y="5105520"/>
            <a:ext cx="1600200" cy="1218960"/>
          </a:xfrm>
          <a:prstGeom prst="wedgeRoundRectCallout">
            <a:avLst>
              <a:gd name="adj1" fmla="val -120930"/>
              <a:gd name="adj2" fmla="val -2109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228600" y="1752480"/>
            <a:ext cx="3465000" cy="3275280"/>
            <a:chOff x="228600" y="1752480"/>
            <a:chExt cx="3465000" cy="3275280"/>
          </a:xfrm>
        </p:grpSpPr>
        <p:sp>
          <p:nvSpPr>
            <p:cNvPr id="1873" name=""/>
            <p:cNvSpPr/>
            <p:nvPr/>
          </p:nvSpPr>
          <p:spPr>
            <a:xfrm>
              <a:off x="1687320" y="3160800"/>
              <a:ext cx="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687320" y="3454560"/>
              <a:ext cx="214560" cy="16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73120" y="337356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1687320" y="3046320"/>
              <a:ext cx="214560" cy="24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rot="10800000">
              <a:off x="1820880" y="2022120"/>
              <a:ext cx="14904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2617560" y="3213000"/>
              <a:ext cx="428760" cy="82440"/>
              <a:chOff x="2617560" y="3213000"/>
              <a:chExt cx="428760" cy="82440"/>
            </a:xfrm>
          </p:grpSpPr>
          <p:sp>
            <p:nvSpPr>
              <p:cNvPr id="1879" name=""/>
              <p:cNvSpPr/>
              <p:nvPr/>
            </p:nvSpPr>
            <p:spPr>
              <a:xfrm>
                <a:off x="2617560" y="3213000"/>
                <a:ext cx="428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760120" y="3295440"/>
                <a:ext cx="14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1" name=""/>
            <p:cNvSpPr/>
            <p:nvPr/>
          </p:nvSpPr>
          <p:spPr>
            <a:xfrm>
              <a:off x="2840040" y="3322800"/>
              <a:ext cx="0" cy="15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04760" y="4842000"/>
              <a:ext cx="9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90720" y="3581280"/>
              <a:ext cx="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1887120" y="2479680"/>
              <a:ext cx="324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14400" y="1763640"/>
              <a:ext cx="19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00000" y="3373560"/>
              <a:ext cx="64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890720" y="1763640"/>
              <a:ext cx="14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852560" y="4794120"/>
              <a:ext cx="68040" cy="74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90720" y="47829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779480" y="5005440"/>
              <a:ext cx="2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971800" y="2921040"/>
              <a:ext cx="19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92400" y="3322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86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63440" y="33750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890720" y="27082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2149200" y="3127320"/>
              <a:ext cx="0" cy="59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1441080" y="3562200"/>
              <a:ext cx="2840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133360" y="3225960"/>
              <a:ext cx="72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225080" y="37242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216440" y="291132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28800" y="1752480"/>
              <a:ext cx="66600" cy="763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90720" y="27082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rot="10800000">
              <a:off x="837720" y="2057040"/>
              <a:ext cx="149400" cy="47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1440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91440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819160" y="1752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057400" y="20574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8" name=""/>
          <p:cNvSpPr/>
          <p:nvPr/>
        </p:nvSpPr>
        <p:spPr>
          <a:xfrm>
            <a:off x="146160" y="304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ze stałym prądem b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9" name=""/>
              <p:cNvSpPr txBox="1"/>
              <p:nvPr/>
            </p:nvSpPr>
            <p:spPr>
              <a:xfrm>
                <a:off x="3176640" y="4437000"/>
                <a:ext cx="56084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0" name=""/>
          <p:cNvSpPr/>
          <p:nvPr/>
        </p:nvSpPr>
        <p:spPr>
          <a:xfrm>
            <a:off x="3425400" y="1811160"/>
            <a:ext cx="4992120" cy="875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zadko stosowany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względu na bardzo duże wartośc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915200" y="51814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82600" y="340344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809880" y="2666880"/>
            <a:ext cx="2362320" cy="12956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304920" y="1219320"/>
            <a:ext cx="3287160" cy="3096720"/>
            <a:chOff x="304920" y="1219320"/>
            <a:chExt cx="3287160" cy="3096720"/>
          </a:xfrm>
        </p:grpSpPr>
        <p:sp>
          <p:nvSpPr>
            <p:cNvPr id="1915" name=""/>
            <p:cNvSpPr/>
            <p:nvPr/>
          </p:nvSpPr>
          <p:spPr>
            <a:xfrm>
              <a:off x="2990880" y="182880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304920" y="1219320"/>
              <a:ext cx="2939400" cy="3096720"/>
              <a:chOff x="304920" y="1219320"/>
              <a:chExt cx="2939400" cy="3096720"/>
            </a:xfrm>
          </p:grpSpPr>
          <p:sp>
            <p:nvSpPr>
              <p:cNvPr id="1917" name=""/>
              <p:cNvSpPr/>
              <p:nvPr/>
            </p:nvSpPr>
            <p:spPr>
              <a:xfrm>
                <a:off x="1763640" y="2449440"/>
                <a:ext cx="0" cy="40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63640" y="2743200"/>
                <a:ext cx="213840" cy="16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549440" y="2662200"/>
                <a:ext cx="21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977840" y="2906640"/>
                <a:ext cx="0" cy="32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1763640" y="2334600"/>
                <a:ext cx="213840" cy="24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0800000">
                <a:off x="1896840" y="152388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0800000">
                <a:off x="904680" y="2919240"/>
                <a:ext cx="149040" cy="47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4" name=""/>
              <p:cNvGrpSpPr/>
              <p:nvPr/>
            </p:nvGrpSpPr>
            <p:grpSpPr>
              <a:xfrm>
                <a:off x="2693880" y="2501640"/>
                <a:ext cx="428400" cy="82080"/>
                <a:chOff x="2693880" y="2501640"/>
                <a:chExt cx="428400" cy="82080"/>
              </a:xfrm>
            </p:grpSpPr>
            <p:sp>
              <p:nvSpPr>
                <p:cNvPr id="1925" name=""/>
                <p:cNvSpPr/>
                <p:nvPr/>
              </p:nvSpPr>
              <p:spPr>
                <a:xfrm>
                  <a:off x="2693880" y="2501640"/>
                  <a:ext cx="428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836440" y="2583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7" name=""/>
              <p:cNvSpPr/>
              <p:nvPr/>
            </p:nvSpPr>
            <p:spPr>
              <a:xfrm>
                <a:off x="976320" y="3886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913120" y="2611440"/>
                <a:ext cx="0" cy="15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976320" y="4130640"/>
                <a:ext cx="1931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13120" y="1253880"/>
                <a:ext cx="0" cy="124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976320" y="3396960"/>
                <a:ext cx="0" cy="515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966680" y="371952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>
                <a:off x="1963440" y="1981080"/>
                <a:ext cx="2520" cy="35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976320" y="266220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976320" y="1253880"/>
                <a:ext cx="192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976320" y="2662200"/>
                <a:ext cx="64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968480" y="1249200"/>
                <a:ext cx="0" cy="25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928880" y="4082760"/>
                <a:ext cx="67680" cy="745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66680" y="4071960"/>
                <a:ext cx="0" cy="24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855800" y="4294080"/>
                <a:ext cx="21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047760" y="2209680"/>
                <a:ext cx="19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109600" y="1579320"/>
                <a:ext cx="709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04920" y="281916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139760" y="2663640"/>
                <a:ext cx="329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979640" y="1979280"/>
                <a:ext cx="0" cy="26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2225520" y="2415600"/>
                <a:ext cx="0" cy="596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 flipV="1">
                <a:off x="1517040" y="2850480"/>
                <a:ext cx="284040" cy="37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209680" y="2514600"/>
                <a:ext cx="72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301040" y="3012840"/>
                <a:ext cx="626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292400" y="2199960"/>
                <a:ext cx="4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0800000">
                <a:off x="1895040" y="3229920"/>
                <a:ext cx="148680" cy="477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131920" y="3340080"/>
                <a:ext cx="53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0800000">
                <a:off x="891720" y="1763640"/>
                <a:ext cx="148680" cy="50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976320" y="2286000"/>
                <a:ext cx="0" cy="37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976320" y="1253880"/>
                <a:ext cx="0" cy="488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934920" y="2619360"/>
                <a:ext cx="66240" cy="756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941480" y="1219320"/>
                <a:ext cx="66240" cy="759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65480" y="185076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523880" y="182880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0" name=""/>
          <p:cNvSpPr/>
          <p:nvPr/>
        </p:nvSpPr>
        <p:spPr>
          <a:xfrm>
            <a:off x="305280" y="228600"/>
            <a:ext cx="84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emite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3708360" y="1922400"/>
                <a:ext cx="530388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β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β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304920" y="5029200"/>
                <a:ext cx="789444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,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o</m:t>
                                  </m:r>
                                  <m:r>
                                    <m:t xml:space="preserve">0,4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- wzmacniacze napięciowe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kłady o małych prądach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do 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e>
                              </m:d>
                              <m:f>
                                <m:num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- wzmacniacze mocy 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kłady o dużych prądach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3594240" y="4013280"/>
                <a:ext cx="2009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5892840" y="3963960"/>
                <a:ext cx="2560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5" name=""/>
          <p:cNvSpPr/>
          <p:nvPr/>
        </p:nvSpPr>
        <p:spPr>
          <a:xfrm>
            <a:off x="228600" y="2664000"/>
            <a:ext cx="566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6" name=""/>
          <p:cNvGraphicFramePr/>
          <p:nvPr/>
        </p:nvGraphicFramePr>
        <p:xfrm>
          <a:off x="833400" y="1033560"/>
          <a:ext cx="7475400" cy="26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3560"/>
                    <a:ext cx="7475400" cy="26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kształcenie w układ dwubateryuj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971640" y="3944880"/>
                <a:ext cx="2316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5162400" y="5100480"/>
                <a:ext cx="143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971640" y="5064120"/>
                <a:ext cx="143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5035680" y="3878280"/>
                <a:ext cx="29318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971640" y="5824440"/>
                <a:ext cx="1646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74" name=""/>
          <p:cNvSpPr/>
          <p:nvPr/>
        </p:nvSpPr>
        <p:spPr>
          <a:xfrm>
            <a:off x="3429000" y="121932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10960" y="2257560"/>
            <a:ext cx="760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potencjometryczne ze sprzężeniem kolek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282600" y="1447920"/>
            <a:ext cx="8650440" cy="3886200"/>
            <a:chOff x="282600" y="1447920"/>
            <a:chExt cx="8650440" cy="3886200"/>
          </a:xfrm>
        </p:grpSpPr>
        <p:sp>
          <p:nvSpPr>
            <p:cNvPr id="1978" name=""/>
            <p:cNvSpPr/>
            <p:nvPr/>
          </p:nvSpPr>
          <p:spPr>
            <a:xfrm>
              <a:off x="3733920" y="4038480"/>
              <a:ext cx="2057400" cy="129564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654200" y="2855880"/>
              <a:ext cx="0" cy="38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654200" y="3133800"/>
              <a:ext cx="19836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455840" y="3057480"/>
              <a:ext cx="19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852560" y="3289320"/>
              <a:ext cx="0" cy="11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1654200" y="2747880"/>
              <a:ext cx="19836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rot="10800000">
              <a:off x="1776240" y="1779120"/>
              <a:ext cx="13824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rot="10800000">
              <a:off x="858600" y="3300120"/>
              <a:ext cx="13788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2514600" y="2905200"/>
              <a:ext cx="395280" cy="78840"/>
              <a:chOff x="2514600" y="2905200"/>
              <a:chExt cx="395280" cy="78840"/>
            </a:xfrm>
          </p:grpSpPr>
          <p:sp>
            <p:nvSpPr>
              <p:cNvPr id="1987" name=""/>
              <p:cNvSpPr/>
              <p:nvPr/>
            </p:nvSpPr>
            <p:spPr>
              <a:xfrm>
                <a:off x="2514600" y="2905200"/>
                <a:ext cx="395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646000" y="2984040"/>
                <a:ext cx="13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925560" y="42163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719440" y="3009960"/>
              <a:ext cx="0" cy="14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25560" y="4446720"/>
              <a:ext cx="178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725560" y="1523880"/>
              <a:ext cx="0" cy="13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925560" y="3753000"/>
              <a:ext cx="0" cy="48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1837800" y="2211480"/>
              <a:ext cx="3240" cy="53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925560" y="305748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841400" y="1535040"/>
              <a:ext cx="8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925560" y="3057480"/>
              <a:ext cx="59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841400" y="1535040"/>
              <a:ext cx="180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806480" y="4402080"/>
              <a:ext cx="63720" cy="698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841400" y="439092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738440" y="4602240"/>
              <a:ext cx="19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840040" y="2629080"/>
              <a:ext cx="1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954520" y="300996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982880" y="1779480"/>
              <a:ext cx="655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04920" y="3206880"/>
              <a:ext cx="49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076400" y="305928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841400" y="2428920"/>
              <a:ext cx="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V="1">
              <a:off x="2081160" y="2824200"/>
              <a:ext cx="0" cy="5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 flipV="1">
              <a:off x="1425600" y="3236400"/>
              <a:ext cx="263520" cy="3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66760" y="2917800"/>
              <a:ext cx="67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226880" y="3389400"/>
              <a:ext cx="626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218240" y="26208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5400000">
              <a:off x="1254240" y="2217600"/>
              <a:ext cx="141120" cy="471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925560" y="2451240"/>
              <a:ext cx="0" cy="61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1560600" y="2428920"/>
              <a:ext cx="280800" cy="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87400" y="3017880"/>
              <a:ext cx="6192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800360" y="2386080"/>
              <a:ext cx="619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066680" y="1779480"/>
              <a:ext cx="4622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841400" y="242892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560" y="2451240"/>
              <a:ext cx="15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1" name=""/>
                <p:cNvSpPr txBox="1"/>
                <p:nvPr/>
              </p:nvSpPr>
              <p:spPr>
                <a:xfrm>
                  <a:off x="3276720" y="1447920"/>
                  <a:ext cx="32763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C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2" name=""/>
                <p:cNvSpPr txBox="1"/>
                <p:nvPr/>
              </p:nvSpPr>
              <p:spPr>
                <a:xfrm>
                  <a:off x="3330720" y="1909800"/>
                  <a:ext cx="25700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3" name=""/>
                <p:cNvSpPr txBox="1"/>
                <p:nvPr/>
              </p:nvSpPr>
              <p:spPr>
                <a:xfrm>
                  <a:off x="3376440" y="3392640"/>
                  <a:ext cx="5556600" cy="190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β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E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β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≈</m:t>
                          </m:r>
                          <m:r>
                            <m:t xml:space="preserve">≈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E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r>
                            <m:t xml:space="preserve">β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4" name=""/>
            <p:cNvSpPr/>
            <p:nvPr/>
          </p:nvSpPr>
          <p:spPr>
            <a:xfrm>
              <a:off x="282600" y="30510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509840" y="30492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525680" y="152388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1525680" y="2819520"/>
                <a:ext cx="32050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1616040" y="3962520"/>
                <a:ext cx="3811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1555920" y="5257800"/>
                <a:ext cx="3960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  <m:sup>
                        <m:sSup>
                          <m:e/>
                          <m:sup>
                            <m:r>
                              <m:t xml:space="preserve">,</m:t>
                            </m:r>
                          </m:sup>
                        </m:sSup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  <m:r>
                          <m:t xml:space="preserve"> 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ze stałym prądem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1677960" y="1112760"/>
            <a:ext cx="5894280" cy="4516560"/>
            <a:chOff x="1677960" y="1112760"/>
            <a:chExt cx="5894280" cy="4516560"/>
          </a:xfrm>
        </p:grpSpPr>
        <p:sp>
          <p:nvSpPr>
            <p:cNvPr id="2032" name=""/>
            <p:cNvSpPr/>
            <p:nvPr/>
          </p:nvSpPr>
          <p:spPr>
            <a:xfrm>
              <a:off x="1677960" y="3579840"/>
              <a:ext cx="673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378240" y="2881440"/>
              <a:ext cx="0" cy="51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378240" y="3251160"/>
              <a:ext cx="271440" cy="20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108240" y="314964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649680" y="3456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3378240" y="2738520"/>
              <a:ext cx="271440" cy="3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10800000">
              <a:off x="3546000" y="1452240"/>
              <a:ext cx="18900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9" name=""/>
            <p:cNvGrpSpPr/>
            <p:nvPr/>
          </p:nvGrpSpPr>
          <p:grpSpPr>
            <a:xfrm>
              <a:off x="4552920" y="2948040"/>
              <a:ext cx="541080" cy="102600"/>
              <a:chOff x="4552920" y="2948040"/>
              <a:chExt cx="541080" cy="102600"/>
            </a:xfrm>
          </p:grpSpPr>
          <p:sp>
            <p:nvSpPr>
              <p:cNvPr id="2040" name=""/>
              <p:cNvSpPr/>
              <p:nvPr/>
            </p:nvSpPr>
            <p:spPr>
              <a:xfrm>
                <a:off x="4552920" y="294804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732920" y="305064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2" name=""/>
            <p:cNvSpPr/>
            <p:nvPr/>
          </p:nvSpPr>
          <p:spPr>
            <a:xfrm>
              <a:off x="3673440" y="5629320"/>
              <a:ext cx="11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670200" y="4559400"/>
              <a:ext cx="0" cy="10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3630240" y="2025720"/>
              <a:ext cx="468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602160" y="112716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436840" y="3149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635280" y="1127160"/>
              <a:ext cx="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753080" y="479268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9" name=""/>
            <p:cNvGrpSpPr/>
            <p:nvPr/>
          </p:nvGrpSpPr>
          <p:grpSpPr>
            <a:xfrm>
              <a:off x="2300400" y="4856040"/>
              <a:ext cx="271440" cy="306360"/>
              <a:chOff x="2300400" y="4856040"/>
              <a:chExt cx="271440" cy="306360"/>
            </a:xfrm>
          </p:grpSpPr>
          <p:sp>
            <p:nvSpPr>
              <p:cNvPr id="2050" name=""/>
              <p:cNvSpPr/>
              <p:nvPr/>
            </p:nvSpPr>
            <p:spPr>
              <a:xfrm>
                <a:off x="2441520" y="4856040"/>
                <a:ext cx="0" cy="3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300400" y="5133960"/>
                <a:ext cx="2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2" name=""/>
            <p:cNvSpPr/>
            <p:nvPr/>
          </p:nvSpPr>
          <p:spPr>
            <a:xfrm>
              <a:off x="4998960" y="2581200"/>
              <a:ext cx="2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46920" y="3086280"/>
              <a:ext cx="601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784600" y="3151080"/>
              <a:ext cx="4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635280" y="2313000"/>
              <a:ext cx="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3962520" y="2839680"/>
              <a:ext cx="0" cy="74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 flipV="1">
              <a:off x="3068640" y="3385800"/>
              <a:ext cx="357120" cy="47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941640" y="2963880"/>
              <a:ext cx="91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863080" y="3548160"/>
              <a:ext cx="5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81720" y="256860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635280" y="2313000"/>
              <a:ext cx="86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10800000">
              <a:off x="2341080" y="3436560"/>
              <a:ext cx="187560" cy="60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436840" y="3166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2436840" y="4044600"/>
              <a:ext cx="0" cy="79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807080" y="111276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844800" y="14954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7" name=""/>
            <p:cNvGrpSpPr/>
            <p:nvPr/>
          </p:nvGrpSpPr>
          <p:grpSpPr>
            <a:xfrm>
              <a:off x="3441600" y="3855960"/>
              <a:ext cx="457200" cy="685800"/>
              <a:chOff x="3441600" y="3855960"/>
              <a:chExt cx="457200" cy="685800"/>
            </a:xfrm>
          </p:grpSpPr>
          <p:sp>
            <p:nvSpPr>
              <p:cNvPr id="2068" name=""/>
              <p:cNvSpPr/>
              <p:nvPr/>
            </p:nvSpPr>
            <p:spPr>
              <a:xfrm>
                <a:off x="3441600" y="38559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441600" y="4084560"/>
                <a:ext cx="457200" cy="457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670200" y="4008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1" name=""/>
            <p:cNvSpPr/>
            <p:nvPr/>
          </p:nvSpPr>
          <p:spPr>
            <a:xfrm>
              <a:off x="2838600" y="4151160"/>
              <a:ext cx="944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932440" y="3270240"/>
              <a:ext cx="163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CQ</a:t>
              </a:r>
              <a:r>
                <a:rPr b="0" lang="pl-PL" sz="28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r>
                <a:rPr b="0" lang="pl-PL" sz="28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765440" y="3173400"/>
              <a:ext cx="56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4511520" y="5305320"/>
              <a:ext cx="541080" cy="102960"/>
              <a:chOff x="4511520" y="5305320"/>
              <a:chExt cx="541080" cy="102960"/>
            </a:xfrm>
          </p:grpSpPr>
          <p:sp>
            <p:nvSpPr>
              <p:cNvPr id="2075" name=""/>
              <p:cNvSpPr/>
              <p:nvPr/>
            </p:nvSpPr>
            <p:spPr>
              <a:xfrm>
                <a:off x="4511520" y="5305320"/>
                <a:ext cx="54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691520" y="5408280"/>
                <a:ext cx="18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7" name=""/>
            <p:cNvSpPr/>
            <p:nvPr/>
          </p:nvSpPr>
          <p:spPr>
            <a:xfrm>
              <a:off x="4799160" y="3051000"/>
              <a:ext cx="0" cy="22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799160" y="541512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438280" y="48387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381400" y="4782960"/>
              <a:ext cx="87120" cy="93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37200" y="5057640"/>
              <a:ext cx="61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657600" y="36291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4276800" y="3828960"/>
              <a:ext cx="295200" cy="76320"/>
              <a:chOff x="4276800" y="3828960"/>
              <a:chExt cx="295200" cy="76320"/>
            </a:xfrm>
          </p:grpSpPr>
          <p:sp>
            <p:nvSpPr>
              <p:cNvPr id="2084" name=""/>
              <p:cNvSpPr/>
              <p:nvPr/>
            </p:nvSpPr>
            <p:spPr>
              <a:xfrm>
                <a:off x="4276800" y="3828960"/>
                <a:ext cx="28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286160" y="3905280"/>
                <a:ext cx="28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>
              <a:off x="4429080" y="36291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29080" y="390528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371840" y="477360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600360" y="35830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26160" y="3676680"/>
              <a:ext cx="41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693960" y="2857680"/>
              <a:ext cx="984240" cy="1942920"/>
            </a:xfrm>
            <a:custGeom>
              <a:avLst/>
              <a:gdLst/>
              <a:ahLst/>
              <a:rect l="l" t="t" r="r" b="b"/>
              <a:pathLst>
                <a:path w="620" h="1224">
                  <a:moveTo>
                    <a:pt x="55" y="0"/>
                  </a:moveTo>
                  <a:cubicBezTo>
                    <a:pt x="34" y="13"/>
                    <a:pt x="13" y="26"/>
                    <a:pt x="13" y="42"/>
                  </a:cubicBezTo>
                  <a:cubicBezTo>
                    <a:pt x="13" y="58"/>
                    <a:pt x="56" y="77"/>
                    <a:pt x="55" y="96"/>
                  </a:cubicBezTo>
                  <a:cubicBezTo>
                    <a:pt x="54" y="115"/>
                    <a:pt x="5" y="137"/>
                    <a:pt x="7" y="156"/>
                  </a:cubicBezTo>
                  <a:cubicBezTo>
                    <a:pt x="9" y="175"/>
                    <a:pt x="65" y="194"/>
                    <a:pt x="67" y="210"/>
                  </a:cubicBezTo>
                  <a:cubicBezTo>
                    <a:pt x="69" y="226"/>
                    <a:pt x="17" y="233"/>
                    <a:pt x="19" y="252"/>
                  </a:cubicBezTo>
                  <a:cubicBezTo>
                    <a:pt x="21" y="271"/>
                    <a:pt x="81" y="305"/>
                    <a:pt x="79" y="324"/>
                  </a:cubicBezTo>
                  <a:cubicBezTo>
                    <a:pt x="77" y="343"/>
                    <a:pt x="0" y="350"/>
                    <a:pt x="7" y="366"/>
                  </a:cubicBezTo>
                  <a:cubicBezTo>
                    <a:pt x="14" y="382"/>
                    <a:pt x="83" y="417"/>
                    <a:pt x="121" y="420"/>
                  </a:cubicBezTo>
                  <a:cubicBezTo>
                    <a:pt x="159" y="423"/>
                    <a:pt x="215" y="382"/>
                    <a:pt x="235" y="384"/>
                  </a:cubicBezTo>
                  <a:cubicBezTo>
                    <a:pt x="255" y="386"/>
                    <a:pt x="231" y="429"/>
                    <a:pt x="241" y="432"/>
                  </a:cubicBezTo>
                  <a:cubicBezTo>
                    <a:pt x="251" y="435"/>
                    <a:pt x="279" y="398"/>
                    <a:pt x="295" y="402"/>
                  </a:cubicBezTo>
                  <a:cubicBezTo>
                    <a:pt x="311" y="406"/>
                    <a:pt x="310" y="452"/>
                    <a:pt x="337" y="456"/>
                  </a:cubicBezTo>
                  <a:cubicBezTo>
                    <a:pt x="364" y="460"/>
                    <a:pt x="436" y="425"/>
                    <a:pt x="457" y="426"/>
                  </a:cubicBezTo>
                  <a:cubicBezTo>
                    <a:pt x="478" y="427"/>
                    <a:pt x="445" y="451"/>
                    <a:pt x="463" y="462"/>
                  </a:cubicBezTo>
                  <a:cubicBezTo>
                    <a:pt x="481" y="473"/>
                    <a:pt x="539" y="464"/>
                    <a:pt x="565" y="492"/>
                  </a:cubicBezTo>
                  <a:cubicBezTo>
                    <a:pt x="591" y="520"/>
                    <a:pt x="620" y="593"/>
                    <a:pt x="619" y="630"/>
                  </a:cubicBezTo>
                  <a:cubicBezTo>
                    <a:pt x="618" y="667"/>
                    <a:pt x="564" y="687"/>
                    <a:pt x="559" y="714"/>
                  </a:cubicBezTo>
                  <a:cubicBezTo>
                    <a:pt x="554" y="741"/>
                    <a:pt x="595" y="771"/>
                    <a:pt x="589" y="792"/>
                  </a:cubicBezTo>
                  <a:cubicBezTo>
                    <a:pt x="583" y="813"/>
                    <a:pt x="529" y="821"/>
                    <a:pt x="523" y="840"/>
                  </a:cubicBezTo>
                  <a:cubicBezTo>
                    <a:pt x="517" y="859"/>
                    <a:pt x="556" y="888"/>
                    <a:pt x="553" y="906"/>
                  </a:cubicBezTo>
                  <a:cubicBezTo>
                    <a:pt x="550" y="924"/>
                    <a:pt x="507" y="895"/>
                    <a:pt x="505" y="948"/>
                  </a:cubicBezTo>
                  <a:cubicBezTo>
                    <a:pt x="503" y="1001"/>
                    <a:pt x="534" y="1178"/>
                    <a:pt x="541" y="122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bez kondensatora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677960" y="3579840"/>
            <a:ext cx="67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649680" y="3456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rot="10800000">
            <a:off x="3546000" y="1452240"/>
            <a:ext cx="18900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101000" y="2948040"/>
            <a:ext cx="540720" cy="102600"/>
            <a:chOff x="7101000" y="2948040"/>
            <a:chExt cx="540720" cy="102600"/>
          </a:xfrm>
        </p:grpSpPr>
        <p:sp>
          <p:nvSpPr>
            <p:cNvPr id="2097" name=""/>
            <p:cNvSpPr/>
            <p:nvPr/>
          </p:nvSpPr>
          <p:spPr>
            <a:xfrm>
              <a:off x="7101000" y="2948040"/>
              <a:ext cx="54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81000" y="3050640"/>
              <a:ext cx="1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3673440" y="56293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670200" y="4559400"/>
            <a:ext cx="0" cy="10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3630240" y="2025720"/>
            <a:ext cx="4680" cy="7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649680" y="1127160"/>
            <a:ext cx="37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436840" y="3149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5280" y="112716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300800" y="479268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6" name=""/>
          <p:cNvGrpSpPr/>
          <p:nvPr/>
        </p:nvGrpSpPr>
        <p:grpSpPr>
          <a:xfrm>
            <a:off x="2300400" y="4856040"/>
            <a:ext cx="271440" cy="306360"/>
            <a:chOff x="2300400" y="4856040"/>
            <a:chExt cx="271440" cy="306360"/>
          </a:xfrm>
        </p:grpSpPr>
        <p:sp>
          <p:nvSpPr>
            <p:cNvPr id="2107" name=""/>
            <p:cNvSpPr/>
            <p:nvPr/>
          </p:nvSpPr>
          <p:spPr>
            <a:xfrm>
              <a:off x="2441520" y="48560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300400" y="5133960"/>
              <a:ext cx="27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9" name=""/>
          <p:cNvSpPr/>
          <p:nvPr/>
        </p:nvSpPr>
        <p:spPr>
          <a:xfrm>
            <a:off x="7547040" y="2581200"/>
            <a:ext cx="2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694640" y="30862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 flipV="1">
            <a:off x="3068640" y="3385800"/>
            <a:ext cx="357120" cy="477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63080" y="3548160"/>
            <a:ext cx="51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rot="10800000">
            <a:off x="2341080" y="3436560"/>
            <a:ext cx="187560" cy="60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436840" y="31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2436840" y="4044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354800" y="1112760"/>
            <a:ext cx="0" cy="18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44800" y="149544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3441600" y="3855960"/>
            <a:ext cx="457200" cy="685800"/>
            <a:chOff x="3441600" y="3855960"/>
            <a:chExt cx="457200" cy="685800"/>
          </a:xfrm>
        </p:grpSpPr>
        <p:sp>
          <p:nvSpPr>
            <p:cNvPr id="2119" name=""/>
            <p:cNvSpPr/>
            <p:nvPr/>
          </p:nvSpPr>
          <p:spPr>
            <a:xfrm>
              <a:off x="3441600" y="3855960"/>
              <a:ext cx="457200" cy="457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441600" y="4084560"/>
              <a:ext cx="457200" cy="457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670200" y="4008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2" name=""/>
          <p:cNvSpPr/>
          <p:nvPr/>
        </p:nvSpPr>
        <p:spPr>
          <a:xfrm>
            <a:off x="2838600" y="415116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932440" y="3270240"/>
            <a:ext cx="163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CQ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765440" y="3173400"/>
            <a:ext cx="564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5" name=""/>
          <p:cNvGrpSpPr/>
          <p:nvPr/>
        </p:nvGrpSpPr>
        <p:grpSpPr>
          <a:xfrm>
            <a:off x="7059600" y="5305320"/>
            <a:ext cx="541080" cy="102960"/>
            <a:chOff x="7059600" y="5305320"/>
            <a:chExt cx="541080" cy="102960"/>
          </a:xfrm>
        </p:grpSpPr>
        <p:sp>
          <p:nvSpPr>
            <p:cNvPr id="2126" name=""/>
            <p:cNvSpPr/>
            <p:nvPr/>
          </p:nvSpPr>
          <p:spPr>
            <a:xfrm>
              <a:off x="7059600" y="5305320"/>
              <a:ext cx="54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39600" y="5408280"/>
              <a:ext cx="1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8" name=""/>
          <p:cNvSpPr/>
          <p:nvPr/>
        </p:nvSpPr>
        <p:spPr>
          <a:xfrm>
            <a:off x="7346880" y="3051000"/>
            <a:ext cx="0" cy="22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346880" y="541512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438280" y="4838760"/>
            <a:ext cx="498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381400" y="4782960"/>
            <a:ext cx="87120" cy="9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684920" y="505764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5896080" y="4792680"/>
            <a:ext cx="8712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378240" y="288144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378240" y="3251160"/>
            <a:ext cx="27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108240" y="314964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3378240" y="2738520"/>
            <a:ext cx="27144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84600" y="3151080"/>
            <a:ext cx="41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635280" y="231300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3962520" y="283968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941640" y="2963880"/>
            <a:ext cx="91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781720" y="256860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35280" y="231300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657600" y="3629160"/>
            <a:ext cx="14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600360" y="358308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357880" y="286380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H="1">
            <a:off x="5086440" y="3243240"/>
            <a:ext cx="27144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5357520" y="314172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 flipV="1">
            <a:off x="5086440" y="2730600"/>
            <a:ext cx="271440" cy="3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H="1">
            <a:off x="5533920" y="3143160"/>
            <a:ext cx="41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100480" y="2305080"/>
            <a:ext cx="0" cy="3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4773600" y="2831760"/>
            <a:ext cx="0" cy="749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5553720" y="2560680"/>
            <a:ext cx="40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4628520" y="230508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5048280" y="1089000"/>
            <a:ext cx="8712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5067360" y="34290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5095800" y="1133280"/>
            <a:ext cx="0" cy="16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952960" y="3143160"/>
            <a:ext cx="0" cy="16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175280" y="3662280"/>
            <a:ext cx="906480" cy="510120"/>
          </a:xfrm>
          <a:prstGeom prst="rect">
            <a:avLst/>
          </a:prstGeom>
          <a:solidFill>
            <a:srgbClr val="ff6699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507120" y="5857920"/>
            <a:ext cx="2289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kład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61600" y="1295280"/>
            <a:ext cx="813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 wiadomo, że tranzystor pracuje w obszarze aktywnym pr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yzacji normalnej (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0 ) dla tranzystora n-p-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ożna uprościć do posta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041640"/>
            <a:ext cx="3798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 - 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odel Ebersa - Molla dla tranzystora n-p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3920" y="2612880"/>
            <a:ext cx="3343680" cy="3070440"/>
            <a:chOff x="763920" y="2612880"/>
            <a:chExt cx="3343680" cy="3070440"/>
          </a:xfrm>
        </p:grpSpPr>
        <p:sp>
          <p:nvSpPr>
            <p:cNvPr id="131" name=""/>
            <p:cNvSpPr/>
            <p:nvPr/>
          </p:nvSpPr>
          <p:spPr>
            <a:xfrm>
              <a:off x="2292480" y="3486240"/>
              <a:ext cx="330120" cy="355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2325600" y="4809600"/>
              <a:ext cx="239760" cy="2588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295000" y="5114880"/>
              <a:ext cx="319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8520" y="4300560"/>
              <a:ext cx="11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1000" y="424188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7920" y="300528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55920" y="307800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55920" y="562464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48000" y="5114880"/>
              <a:ext cx="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55920" y="307800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7920" y="5538960"/>
              <a:ext cx="13320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7680" y="4255920"/>
              <a:ext cx="1335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1378080" y="3097080"/>
                  <a:ext cx="90000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"/>
            <p:cNvSpPr/>
            <p:nvPr/>
          </p:nvSpPr>
          <p:spPr>
            <a:xfrm>
              <a:off x="2468520" y="4300560"/>
              <a:ext cx="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00320" y="26128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7880" y="4441680"/>
              <a:ext cx="48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3920" y="4503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07280" y="26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92480" y="3689280"/>
              <a:ext cx="330120" cy="357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55920" y="3471840"/>
              <a:ext cx="14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68520" y="3925800"/>
              <a:ext cx="0" cy="8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122280" y="307800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65520" y="5624640"/>
              <a:ext cx="37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41520" y="4300560"/>
              <a:ext cx="4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57120" y="4862520"/>
              <a:ext cx="3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58000" y="4352760"/>
              <a:ext cx="40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901960" y="3465360"/>
              <a:ext cx="330120" cy="609840"/>
              <a:chOff x="2901960" y="3465360"/>
              <a:chExt cx="330120" cy="609840"/>
            </a:xfrm>
          </p:grpSpPr>
          <p:sp>
            <p:nvSpPr>
              <p:cNvPr id="158" name=""/>
              <p:cNvSpPr/>
              <p:nvPr/>
            </p:nvSpPr>
            <p:spPr>
              <a:xfrm>
                <a:off x="2901960" y="3479760"/>
                <a:ext cx="330120" cy="35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01960" y="3683160"/>
                <a:ext cx="330120" cy="35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65400" y="3465360"/>
                <a:ext cx="180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070080" y="3086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70320" y="4303800"/>
              <a:ext cx="59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070080" y="4038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7440" y="3557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21120" y="3013200"/>
              <a:ext cx="8712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62560" y="4883040"/>
                <a:ext cx="209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e 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032280" y="4425840"/>
                <a:ext cx="2323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28600" y="3048120"/>
                <a:ext cx="39322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4043520" y="1722600"/>
            <a:ext cx="596880" cy="404640"/>
            <a:chOff x="4043520" y="1722600"/>
            <a:chExt cx="596880" cy="404640"/>
          </a:xfrm>
        </p:grpSpPr>
        <p:sp>
          <p:nvSpPr>
            <p:cNvPr id="2165" name=""/>
            <p:cNvSpPr/>
            <p:nvPr/>
          </p:nvSpPr>
          <p:spPr>
            <a:xfrm>
              <a:off x="4046400" y="1725480"/>
              <a:ext cx="59076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043520" y="172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43520" y="1743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043520" y="1758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43520" y="177624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43520" y="1792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043520" y="1809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43520" y="18255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43520" y="1843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43520" y="18590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043520" y="187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043520" y="18921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43520" y="1909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043520" y="19256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043520" y="1943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43520" y="1960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043520" y="1976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43520" y="1994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43520" y="2009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043520" y="2027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43520" y="204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043520" y="2060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043520" y="2076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43520" y="2093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043520" y="2109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514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06728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4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10040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1180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135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1511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1688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1846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2022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2181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235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2512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2688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28472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3020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784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3354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35132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3689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3862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4020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4197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43556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45284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46868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4863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50216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519440" y="211932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5356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5529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568760" y="211932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58640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602240" y="211932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619520" y="2119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632480" y="2114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632480" y="209700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632480" y="2081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632480" y="206388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32480" y="2048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632480" y="2030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632480" y="2014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632480" y="199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632480" y="1981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632480" y="19638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632480" y="19479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632480" y="193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32480" y="1914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632480" y="18972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632480" y="1881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32480" y="1863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632480" y="18464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632480" y="183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632480" y="18129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632480" y="1797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632480" y="17794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32480" y="17636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632480" y="17463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32480" y="1730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24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069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5910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573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5576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540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5226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068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48956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473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45608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440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42260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4067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3894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36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3560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3401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2288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3070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894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7212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55920" y="1722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386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228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05160" y="1722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1893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172040" y="172260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15620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1385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1227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1054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08924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07196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056120" y="172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4" name=""/>
          <p:cNvGrpSpPr/>
          <p:nvPr/>
        </p:nvGrpSpPr>
        <p:grpSpPr>
          <a:xfrm>
            <a:off x="4114080" y="1695600"/>
            <a:ext cx="378000" cy="366120"/>
            <a:chOff x="4114080" y="1695600"/>
            <a:chExt cx="378000" cy="366120"/>
          </a:xfrm>
        </p:grpSpPr>
        <p:sp>
          <p:nvSpPr>
            <p:cNvPr id="2285" name=""/>
            <p:cNvSpPr/>
            <p:nvPr/>
          </p:nvSpPr>
          <p:spPr>
            <a:xfrm>
              <a:off x="4375440" y="1695600"/>
              <a:ext cx="11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114080" y="17668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257360" y="17924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8" name=""/>
          <p:cNvSpPr/>
          <p:nvPr/>
        </p:nvSpPr>
        <p:spPr>
          <a:xfrm>
            <a:off x="7432560" y="2583000"/>
            <a:ext cx="306360" cy="2714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773680" y="2611440"/>
            <a:ext cx="30492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0" name=""/>
          <p:cNvGrpSpPr/>
          <p:nvPr/>
        </p:nvGrpSpPr>
        <p:grpSpPr>
          <a:xfrm>
            <a:off x="4435560" y="1028880"/>
            <a:ext cx="672840" cy="455400"/>
            <a:chOff x="4435560" y="1028880"/>
            <a:chExt cx="672840" cy="455400"/>
          </a:xfrm>
        </p:grpSpPr>
        <p:sp>
          <p:nvSpPr>
            <p:cNvPr id="2291" name=""/>
            <p:cNvSpPr/>
            <p:nvPr/>
          </p:nvSpPr>
          <p:spPr>
            <a:xfrm>
              <a:off x="4440240" y="1031760"/>
              <a:ext cx="66348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435560" y="10317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435560" y="10494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35560" y="10652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435560" y="1082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435560" y="10987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35560" y="1116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435560" y="1131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435560" y="1149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435560" y="1166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35560" y="1182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435560" y="1200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435560" y="1216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435560" y="12333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435560" y="1249200"/>
              <a:ext cx="792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435560" y="12668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435560" y="1282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435560" y="1300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435560" y="13161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435560" y="1333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435560" y="13492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435560" y="1366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435560" y="138276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435560" y="1400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435560" y="141588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435560" y="1433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35560" y="1449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435560" y="1467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44348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460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47660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4942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511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527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545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60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5784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943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611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2744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6450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6092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67820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9440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711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72752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7451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7624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7782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7959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8117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8290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844880" y="1474920"/>
              <a:ext cx="8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625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8783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8960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9118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9291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944960" y="1474920"/>
              <a:ext cx="97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9626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978440" y="1474920"/>
              <a:ext cx="93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99572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0133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0292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04684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06268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07996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095800" y="1474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100480" y="14619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00480" y="14461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100480" y="142884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100480" y="1413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100480" y="139536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100480" y="13795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100480" y="13622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100480" y="13460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100480" y="13287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100480" y="13129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100480" y="12952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100480" y="127944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100480" y="12621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100480" y="12463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100480" y="12286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00480" y="121140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100480" y="119556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100480" y="11779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100480" y="11620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100480" y="11444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100480" y="11286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100480" y="1111320"/>
              <a:ext cx="792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0480" y="10954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100480" y="1077840"/>
              <a:ext cx="79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100480" y="106200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100480" y="104472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100480" y="10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08320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067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04972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338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016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000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831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9672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950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33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916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8988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8830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8657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849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83228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8164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79916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782960" y="102888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7656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7498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7322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7163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6990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832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6656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64832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63248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61484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5990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581360" y="102888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5655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548240" y="1028880"/>
              <a:ext cx="93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5324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5147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49892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48164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46580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448160" y="1028880"/>
              <a:ext cx="79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5" name=""/>
          <p:cNvSpPr/>
          <p:nvPr/>
        </p:nvSpPr>
        <p:spPr>
          <a:xfrm>
            <a:off x="4557240" y="10620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Zak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489560" y="125424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Times New Roman"/>
              </a:rPr>
              <a:t>triodow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4749840" y="2119320"/>
            <a:ext cx="133200" cy="512640"/>
            <a:chOff x="4749840" y="2119320"/>
            <a:chExt cx="133200" cy="512640"/>
          </a:xfrm>
        </p:grpSpPr>
        <p:sp>
          <p:nvSpPr>
            <p:cNvPr id="2428" name=""/>
            <p:cNvSpPr/>
            <p:nvPr/>
          </p:nvSpPr>
          <p:spPr>
            <a:xfrm>
              <a:off x="4753080" y="2119320"/>
              <a:ext cx="125280" cy="509760"/>
            </a:xfrm>
            <a:custGeom>
              <a:avLst/>
              <a:gdLst/>
              <a:ahLst/>
              <a:rect l="l" t="t" r="r" b="b"/>
              <a:pathLst>
                <a:path w="79" h="321">
                  <a:moveTo>
                    <a:pt x="0" y="321"/>
                  </a:moveTo>
                  <a:lnTo>
                    <a:pt x="8" y="318"/>
                  </a:lnTo>
                  <a:lnTo>
                    <a:pt x="16" y="315"/>
                  </a:lnTo>
                  <a:lnTo>
                    <a:pt x="24" y="307"/>
                  </a:lnTo>
                  <a:lnTo>
                    <a:pt x="29" y="294"/>
                  </a:lnTo>
                  <a:lnTo>
                    <a:pt x="37" y="281"/>
                  </a:lnTo>
                  <a:lnTo>
                    <a:pt x="45" y="265"/>
                  </a:lnTo>
                  <a:lnTo>
                    <a:pt x="56" y="226"/>
                  </a:lnTo>
                  <a:lnTo>
                    <a:pt x="66" y="178"/>
                  </a:lnTo>
                  <a:lnTo>
                    <a:pt x="74" y="123"/>
                  </a:lnTo>
                  <a:lnTo>
                    <a:pt x="77" y="6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749840" y="2624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76568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778280" y="2606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786200" y="25956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799160" y="25830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803840" y="256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811760" y="2552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819680" y="2536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824360" y="251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829040" y="250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832280" y="24908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836960" y="247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2000" y="245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844880" y="2440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84992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849920" y="2406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853160" y="2390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857840" y="2373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578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8625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62520" y="2322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865760" y="23065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865760" y="228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65760" y="22734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870440" y="22557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870440" y="2239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70440" y="2222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870440" y="2206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875120" y="2189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875120" y="2173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875120" y="215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875120" y="213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875120" y="2122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4414680" y="2744640"/>
            <a:ext cx="292320" cy="473400"/>
            <a:chOff x="4414680" y="2744640"/>
            <a:chExt cx="292320" cy="473400"/>
          </a:xfrm>
        </p:grpSpPr>
        <p:sp>
          <p:nvSpPr>
            <p:cNvPr id="2463" name=""/>
            <p:cNvSpPr/>
            <p:nvPr/>
          </p:nvSpPr>
          <p:spPr>
            <a:xfrm>
              <a:off x="4419720" y="2744640"/>
              <a:ext cx="284040" cy="468360"/>
            </a:xfrm>
            <a:custGeom>
              <a:avLst/>
              <a:gdLst/>
              <a:ahLst/>
              <a:rect l="l" t="t" r="r" b="b"/>
              <a:pathLst>
                <a:path w="179" h="295">
                  <a:moveTo>
                    <a:pt x="0" y="295"/>
                  </a:moveTo>
                  <a:lnTo>
                    <a:pt x="18" y="292"/>
                  </a:lnTo>
                  <a:lnTo>
                    <a:pt x="36" y="290"/>
                  </a:lnTo>
                  <a:lnTo>
                    <a:pt x="52" y="282"/>
                  </a:lnTo>
                  <a:lnTo>
                    <a:pt x="68" y="271"/>
                  </a:lnTo>
                  <a:lnTo>
                    <a:pt x="100" y="245"/>
                  </a:lnTo>
                  <a:lnTo>
                    <a:pt x="126" y="208"/>
                  </a:lnTo>
                  <a:lnTo>
                    <a:pt x="147" y="166"/>
                  </a:lnTo>
                  <a:lnTo>
                    <a:pt x="166" y="116"/>
                  </a:lnTo>
                  <a:lnTo>
                    <a:pt x="176" y="61"/>
                  </a:lnTo>
                  <a:lnTo>
                    <a:pt x="179" y="0"/>
                  </a:lnTo>
                  <a:lnTo>
                    <a:pt x="0" y="0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41468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432320" y="32083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448160" y="3205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465800" y="32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48164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494240" y="31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511520" y="3179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522680" y="317196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535640" y="3162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548240" y="31510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560840" y="313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573440" y="31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581360" y="311292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594320" y="31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602240" y="3087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614840" y="3075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619520" y="305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627440" y="3046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637160" y="3029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45080" y="301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53000" y="300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657680" y="298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660920" y="29671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665600" y="29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673520" y="2936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678200" y="292104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678200" y="290340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683240" y="288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686480" y="2870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691160" y="285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94400" y="28368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694400" y="2820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694400" y="28036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694400" y="2787480"/>
              <a:ext cx="936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699080" y="2770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699080" y="2754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0" name=""/>
          <p:cNvSpPr/>
          <p:nvPr/>
        </p:nvSpPr>
        <p:spPr>
          <a:xfrm>
            <a:off x="1797120" y="2335320"/>
            <a:ext cx="142920" cy="3762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865160" y="2193840"/>
            <a:ext cx="1800" cy="154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865160" y="2703600"/>
            <a:ext cx="1800" cy="183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986120" y="2414520"/>
            <a:ext cx="304560" cy="26820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052360" y="24480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161440" y="2532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305000" y="1892160"/>
            <a:ext cx="422280" cy="4273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1581120" y="1984320"/>
            <a:ext cx="1440" cy="238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1592280" y="2027160"/>
            <a:ext cx="117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317600" y="2135160"/>
            <a:ext cx="184320" cy="96840"/>
            <a:chOff x="1317600" y="2135160"/>
            <a:chExt cx="184320" cy="96840"/>
          </a:xfrm>
        </p:grpSpPr>
        <p:sp>
          <p:nvSpPr>
            <p:cNvPr id="2510" name=""/>
            <p:cNvSpPr/>
            <p:nvPr/>
          </p:nvSpPr>
          <p:spPr>
            <a:xfrm>
              <a:off x="1317600" y="2181240"/>
              <a:ext cx="184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09760" y="2135160"/>
              <a:ext cx="9216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61"/>
                  </a:moveTo>
                  <a:lnTo>
                    <a:pt x="58" y="29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2" name=""/>
          <p:cNvSpPr/>
          <p:nvPr/>
        </p:nvSpPr>
        <p:spPr>
          <a:xfrm>
            <a:off x="1476360" y="2181240"/>
            <a:ext cx="104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H="1">
            <a:off x="1592280" y="2181240"/>
            <a:ext cx="11736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852560" y="1528920"/>
            <a:ext cx="1800" cy="493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166760" y="2176560"/>
            <a:ext cx="150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722600" y="2030400"/>
            <a:ext cx="145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735200" y="2189160"/>
            <a:ext cx="1461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1174680" y="2193840"/>
            <a:ext cx="1800" cy="69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1161720" y="2887560"/>
            <a:ext cx="1476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flipH="1" flipV="1">
            <a:off x="1855440" y="1525320"/>
            <a:ext cx="3524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1" name=""/>
          <p:cNvGrpSpPr/>
          <p:nvPr/>
        </p:nvGrpSpPr>
        <p:grpSpPr>
          <a:xfrm>
            <a:off x="2208240" y="1479600"/>
            <a:ext cx="417600" cy="87120"/>
            <a:chOff x="2208240" y="1479600"/>
            <a:chExt cx="417600" cy="87120"/>
          </a:xfrm>
        </p:grpSpPr>
        <p:sp>
          <p:nvSpPr>
            <p:cNvPr id="2522" name=""/>
            <p:cNvSpPr/>
            <p:nvPr/>
          </p:nvSpPr>
          <p:spPr>
            <a:xfrm flipH="1" flipV="1">
              <a:off x="2208240" y="1525320"/>
              <a:ext cx="41760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208240" y="1479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9"/>
                  </a:lnTo>
                  <a:lnTo>
                    <a:pt x="55" y="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4" name=""/>
          <p:cNvGrpSpPr/>
          <p:nvPr/>
        </p:nvGrpSpPr>
        <p:grpSpPr>
          <a:xfrm>
            <a:off x="2571840" y="1699920"/>
            <a:ext cx="87120" cy="1019160"/>
            <a:chOff x="2571840" y="1699920"/>
            <a:chExt cx="87120" cy="1019160"/>
          </a:xfrm>
        </p:grpSpPr>
        <p:sp>
          <p:nvSpPr>
            <p:cNvPr id="2525" name=""/>
            <p:cNvSpPr/>
            <p:nvPr/>
          </p:nvSpPr>
          <p:spPr>
            <a:xfrm flipV="1">
              <a:off x="2608200" y="1699920"/>
              <a:ext cx="4680" cy="1019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571840" y="1700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56"/>
                  </a:moveTo>
                  <a:lnTo>
                    <a:pt x="26" y="0"/>
                  </a:lnTo>
                  <a:lnTo>
                    <a:pt x="0" y="5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7" name=""/>
          <p:cNvSpPr/>
          <p:nvPr/>
        </p:nvSpPr>
        <p:spPr>
          <a:xfrm>
            <a:off x="2687760" y="2027160"/>
            <a:ext cx="230040" cy="262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733840" y="205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128680" y="1203480"/>
            <a:ext cx="225720" cy="2808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4343400" y="1031760"/>
            <a:ext cx="88920" cy="2314800"/>
            <a:chOff x="4343400" y="1031760"/>
            <a:chExt cx="88920" cy="2314800"/>
          </a:xfrm>
        </p:grpSpPr>
        <p:sp>
          <p:nvSpPr>
            <p:cNvPr id="2531" name=""/>
            <p:cNvSpPr/>
            <p:nvPr/>
          </p:nvSpPr>
          <p:spPr>
            <a:xfrm>
              <a:off x="4386240" y="1111320"/>
              <a:ext cx="3240" cy="2235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343400" y="1031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3" name=""/>
          <p:cNvGrpSpPr/>
          <p:nvPr/>
        </p:nvGrpSpPr>
        <p:grpSpPr>
          <a:xfrm>
            <a:off x="4250880" y="3179880"/>
            <a:ext cx="3880440" cy="87120"/>
            <a:chOff x="4250880" y="3179880"/>
            <a:chExt cx="3880440" cy="87120"/>
          </a:xfrm>
        </p:grpSpPr>
        <p:sp>
          <p:nvSpPr>
            <p:cNvPr id="2534" name=""/>
            <p:cNvSpPr/>
            <p:nvPr/>
          </p:nvSpPr>
          <p:spPr>
            <a:xfrm flipH="1">
              <a:off x="4250880" y="3220920"/>
              <a:ext cx="38005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043840" y="317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55" y="26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6" name=""/>
          <p:cNvSpPr/>
          <p:nvPr/>
        </p:nvSpPr>
        <p:spPr>
          <a:xfrm flipV="1">
            <a:off x="4386240" y="1829880"/>
            <a:ext cx="287280" cy="1390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4673520" y="1312920"/>
            <a:ext cx="795240" cy="525240"/>
            <a:chOff x="4673520" y="1312920"/>
            <a:chExt cx="795240" cy="525240"/>
          </a:xfrm>
        </p:grpSpPr>
        <p:sp>
          <p:nvSpPr>
            <p:cNvPr id="2538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1" y="33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673520" y="1312920"/>
              <a:ext cx="795240" cy="525240"/>
            </a:xfrm>
            <a:custGeom>
              <a:avLst/>
              <a:gdLst/>
              <a:ahLst/>
              <a:rect l="l" t="t" r="r" b="b"/>
              <a:pathLst>
                <a:path w="501" h="331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8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5" y="147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4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0" name=""/>
          <p:cNvSpPr/>
          <p:nvPr/>
        </p:nvSpPr>
        <p:spPr>
          <a:xfrm flipV="1">
            <a:off x="5459400" y="1208160"/>
            <a:ext cx="2023920" cy="100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1" name=""/>
          <p:cNvGrpSpPr/>
          <p:nvPr/>
        </p:nvGrpSpPr>
        <p:grpSpPr>
          <a:xfrm>
            <a:off x="4560840" y="1881360"/>
            <a:ext cx="793800" cy="525240"/>
            <a:chOff x="4560840" y="1881360"/>
            <a:chExt cx="793800" cy="525240"/>
          </a:xfrm>
        </p:grpSpPr>
        <p:sp>
          <p:nvSpPr>
            <p:cNvPr id="2542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  <a:lnTo>
                    <a:pt x="500" y="331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560840" y="1881360"/>
              <a:ext cx="793800" cy="52524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500" y="0"/>
                  </a:moveTo>
                  <a:lnTo>
                    <a:pt x="450" y="2"/>
                  </a:lnTo>
                  <a:lnTo>
                    <a:pt x="400" y="7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1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3" y="121"/>
                  </a:lnTo>
                  <a:lnTo>
                    <a:pt x="84" y="144"/>
                  </a:lnTo>
                  <a:lnTo>
                    <a:pt x="61" y="173"/>
                  </a:lnTo>
                  <a:lnTo>
                    <a:pt x="40" y="202"/>
                  </a:lnTo>
                  <a:lnTo>
                    <a:pt x="24" y="231"/>
                  </a:lnTo>
                  <a:lnTo>
                    <a:pt x="11" y="265"/>
                  </a:lnTo>
                  <a:lnTo>
                    <a:pt x="3" y="297"/>
                  </a:lnTo>
                  <a:lnTo>
                    <a:pt x="0" y="3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4" name=""/>
          <p:cNvSpPr/>
          <p:nvPr/>
        </p:nvSpPr>
        <p:spPr>
          <a:xfrm flipV="1">
            <a:off x="5346720" y="1758960"/>
            <a:ext cx="2346480" cy="117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4443480" y="2457360"/>
            <a:ext cx="795240" cy="522360"/>
            <a:chOff x="4443480" y="2457360"/>
            <a:chExt cx="795240" cy="522360"/>
          </a:xfrm>
        </p:grpSpPr>
        <p:sp>
          <p:nvSpPr>
            <p:cNvPr id="2546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  <a:lnTo>
                    <a:pt x="501" y="329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443480" y="2457360"/>
              <a:ext cx="795240" cy="522360"/>
            </a:xfrm>
            <a:custGeom>
              <a:avLst/>
              <a:gdLst/>
              <a:ahLst/>
              <a:rect l="l" t="t" r="r" b="b"/>
              <a:pathLst>
                <a:path w="501" h="329">
                  <a:moveTo>
                    <a:pt x="501" y="0"/>
                  </a:moveTo>
                  <a:lnTo>
                    <a:pt x="451" y="2"/>
                  </a:lnTo>
                  <a:lnTo>
                    <a:pt x="401" y="8"/>
                  </a:lnTo>
                  <a:lnTo>
                    <a:pt x="353" y="15"/>
                  </a:lnTo>
                  <a:lnTo>
                    <a:pt x="306" y="26"/>
                  </a:lnTo>
                  <a:lnTo>
                    <a:pt x="261" y="39"/>
                  </a:lnTo>
                  <a:lnTo>
                    <a:pt x="222" y="55"/>
                  </a:lnTo>
                  <a:lnTo>
                    <a:pt x="182" y="76"/>
                  </a:lnTo>
                  <a:lnTo>
                    <a:pt x="148" y="97"/>
                  </a:lnTo>
                  <a:lnTo>
                    <a:pt x="114" y="121"/>
                  </a:lnTo>
                  <a:lnTo>
                    <a:pt x="85" y="144"/>
                  </a:lnTo>
                  <a:lnTo>
                    <a:pt x="61" y="171"/>
                  </a:lnTo>
                  <a:lnTo>
                    <a:pt x="40" y="200"/>
                  </a:lnTo>
                  <a:lnTo>
                    <a:pt x="24" y="231"/>
                  </a:lnTo>
                  <a:lnTo>
                    <a:pt x="11" y="263"/>
                  </a:lnTo>
                  <a:lnTo>
                    <a:pt x="3" y="294"/>
                  </a:lnTo>
                  <a:lnTo>
                    <a:pt x="0" y="329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8" name=""/>
          <p:cNvSpPr/>
          <p:nvPr/>
        </p:nvSpPr>
        <p:spPr>
          <a:xfrm flipV="1">
            <a:off x="5229360" y="2319120"/>
            <a:ext cx="2668320" cy="128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H="1">
            <a:off x="4385880" y="1863720"/>
            <a:ext cx="102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4386240" y="1817640"/>
            <a:ext cx="2782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 flipV="1">
            <a:off x="6613560" y="1797120"/>
            <a:ext cx="1090440" cy="5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4670280" y="2590920"/>
            <a:ext cx="115920" cy="392040"/>
            <a:chOff x="4670280" y="2590920"/>
            <a:chExt cx="115920" cy="392040"/>
          </a:xfrm>
        </p:grpSpPr>
        <p:sp>
          <p:nvSpPr>
            <p:cNvPr id="2553" name=""/>
            <p:cNvSpPr/>
            <p:nvPr/>
          </p:nvSpPr>
          <p:spPr>
            <a:xfrm>
              <a:off x="4670280" y="29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673520" y="29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678200" y="294156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683240" y="2924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686480" y="2913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691160" y="289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699080" y="28782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703760" y="2862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707000" y="28447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711680" y="2828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716360" y="2816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719600" y="27986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724280" y="2782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727520" y="2765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732200" y="27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737240" y="2732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740120" y="27162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749840" y="270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753080" y="2685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757760" y="267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762440" y="2652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765680" y="263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770360" y="261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773600" y="2606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778280" y="2590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4865760" y="1763640"/>
            <a:ext cx="193680" cy="617760"/>
            <a:chOff x="4865760" y="1763640"/>
            <a:chExt cx="193680" cy="617760"/>
          </a:xfrm>
        </p:grpSpPr>
        <p:sp>
          <p:nvSpPr>
            <p:cNvPr id="2579" name=""/>
            <p:cNvSpPr/>
            <p:nvPr/>
          </p:nvSpPr>
          <p:spPr>
            <a:xfrm>
              <a:off x="4865760" y="237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870440" y="2357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875120" y="2340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878360" y="23274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888080" y="231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890960" y="2293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896000" y="2278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898880" y="22604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903920" y="224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908600" y="2232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911840" y="2214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921200" y="219852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924440" y="2181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929120" y="2163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933800" y="214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937040" y="2135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941720" y="211932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944960" y="210168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954680" y="20844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957920" y="20685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962600" y="20509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967280" y="203976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970520" y="2022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975200" y="200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983120" y="1989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987800" y="1971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991040" y="19558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995720" y="1943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000760" y="1925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003640" y="19098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008680" y="18921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0166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021280" y="1859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024520" y="1846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029200" y="1830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033880" y="18129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037120" y="17971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041800" y="1779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49720" y="17636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4957920" y="1492200"/>
            <a:ext cx="125280" cy="397080"/>
            <a:chOff x="4957920" y="1492200"/>
            <a:chExt cx="125280" cy="397080"/>
          </a:xfrm>
        </p:grpSpPr>
        <p:sp>
          <p:nvSpPr>
            <p:cNvPr id="2619" name=""/>
            <p:cNvSpPr/>
            <p:nvPr/>
          </p:nvSpPr>
          <p:spPr>
            <a:xfrm>
              <a:off x="4962600" y="1492200"/>
              <a:ext cx="117360" cy="392040"/>
            </a:xfrm>
            <a:custGeom>
              <a:avLst/>
              <a:gdLst/>
              <a:ahLst/>
              <a:rect l="l" t="t" r="r" b="b"/>
              <a:pathLst>
                <a:path w="74" h="247">
                  <a:moveTo>
                    <a:pt x="0" y="247"/>
                  </a:moveTo>
                  <a:lnTo>
                    <a:pt x="8" y="247"/>
                  </a:lnTo>
                  <a:lnTo>
                    <a:pt x="16" y="242"/>
                  </a:lnTo>
                  <a:lnTo>
                    <a:pt x="29" y="229"/>
                  </a:lnTo>
                  <a:lnTo>
                    <a:pt x="42" y="205"/>
                  </a:lnTo>
                  <a:lnTo>
                    <a:pt x="53" y="173"/>
                  </a:lnTo>
                  <a:lnTo>
                    <a:pt x="61" y="137"/>
                  </a:lnTo>
                  <a:lnTo>
                    <a:pt x="68" y="95"/>
                  </a:lnTo>
                  <a:lnTo>
                    <a:pt x="71" y="50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957920" y="1881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975200" y="1876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987800" y="1868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00760" y="1855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008680" y="18432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016600" y="18255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024520" y="1812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029200" y="1797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037120" y="1779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041800" y="176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046840" y="17463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049720" y="1733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054760" y="1717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059440" y="1700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059440" y="1684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062680" y="1666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062680" y="165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067360" y="1633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067360" y="1617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70600" y="1600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070600" y="15843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070600" y="15667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3"/>
                  </a:moveTo>
                  <a:lnTo>
                    <a:pt x="3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075280" y="1550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075280" y="1533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075280" y="1517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075280" y="1500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6" name=""/>
          <p:cNvGrpSpPr/>
          <p:nvPr/>
        </p:nvGrpSpPr>
        <p:grpSpPr>
          <a:xfrm>
            <a:off x="5049720" y="1108080"/>
            <a:ext cx="58680" cy="371520"/>
            <a:chOff x="5049720" y="1108080"/>
            <a:chExt cx="58680" cy="371520"/>
          </a:xfrm>
        </p:grpSpPr>
        <p:sp>
          <p:nvSpPr>
            <p:cNvPr id="2647" name=""/>
            <p:cNvSpPr/>
            <p:nvPr/>
          </p:nvSpPr>
          <p:spPr>
            <a:xfrm>
              <a:off x="5054760" y="1111320"/>
              <a:ext cx="48960" cy="368280"/>
            </a:xfrm>
            <a:custGeom>
              <a:avLst/>
              <a:gdLst/>
              <a:ahLst/>
              <a:rect l="l" t="t" r="r" b="b"/>
              <a:pathLst>
                <a:path w="31" h="232">
                  <a:moveTo>
                    <a:pt x="0" y="0"/>
                  </a:moveTo>
                  <a:lnTo>
                    <a:pt x="8" y="6"/>
                  </a:lnTo>
                  <a:lnTo>
                    <a:pt x="13" y="19"/>
                  </a:lnTo>
                  <a:lnTo>
                    <a:pt x="18" y="40"/>
                  </a:lnTo>
                  <a:lnTo>
                    <a:pt x="24" y="69"/>
                  </a:lnTo>
                  <a:lnTo>
                    <a:pt x="26" y="103"/>
                  </a:lnTo>
                  <a:lnTo>
                    <a:pt x="29" y="142"/>
                  </a:lnTo>
                  <a:lnTo>
                    <a:pt x="31" y="185"/>
                  </a:lnTo>
                  <a:lnTo>
                    <a:pt x="31" y="232"/>
                  </a:lnTo>
                  <a:lnTo>
                    <a:pt x="0" y="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049720" y="110808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062680" y="1120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070600" y="1131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075280" y="114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079960" y="1166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079960" y="1182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083200" y="12002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2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087880" y="1216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087880" y="1233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092560" y="1249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092560" y="126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092560" y="128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095800" y="1300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095800" y="131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095800" y="133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095800" y="1349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095800" y="1366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100480" y="1382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100480" y="1400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100480" y="1415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100480" y="1433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100480" y="14493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100480" y="1467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1" name=""/>
          <p:cNvSpPr/>
          <p:nvPr/>
        </p:nvSpPr>
        <p:spPr>
          <a:xfrm>
            <a:off x="4059360" y="995400"/>
            <a:ext cx="268200" cy="279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4117320" y="1023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176360" y="1108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7967520" y="3274920"/>
            <a:ext cx="4352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8051760" y="3309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8176680" y="33926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7721640" y="1697040"/>
            <a:ext cx="434880" cy="2667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7763040" y="173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7887960" y="1709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7964280" y="18129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7237440" y="1461960"/>
            <a:ext cx="433440" cy="268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299360" y="14954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424280" y="147492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7462440" y="15796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809720" y="2820960"/>
            <a:ext cx="87480" cy="93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1888560" y="1017720"/>
            <a:ext cx="102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7" name=""/>
          <p:cNvGrpSpPr/>
          <p:nvPr/>
        </p:nvGrpSpPr>
        <p:grpSpPr>
          <a:xfrm>
            <a:off x="295200" y="3938400"/>
            <a:ext cx="2770200" cy="2636640"/>
            <a:chOff x="295200" y="3938400"/>
            <a:chExt cx="2770200" cy="2636640"/>
          </a:xfrm>
        </p:grpSpPr>
        <p:sp>
          <p:nvSpPr>
            <p:cNvPr id="2688" name=""/>
            <p:cNvSpPr/>
            <p:nvPr/>
          </p:nvSpPr>
          <p:spPr>
            <a:xfrm>
              <a:off x="2077920" y="5672160"/>
              <a:ext cx="166680" cy="43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57120" y="5505480"/>
              <a:ext cx="4680" cy="1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57120" y="6102360"/>
              <a:ext cx="468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307960" y="57355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420640" y="57751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746000" y="5081400"/>
              <a:ext cx="498600" cy="49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896840" y="5187960"/>
              <a:ext cx="4680" cy="27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1917360" y="5145120"/>
              <a:ext cx="244440" cy="10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6" name=""/>
            <p:cNvGrpSpPr/>
            <p:nvPr/>
          </p:nvGrpSpPr>
          <p:grpSpPr>
            <a:xfrm>
              <a:off x="1917360" y="5364000"/>
              <a:ext cx="150840" cy="102960"/>
              <a:chOff x="1917360" y="5364000"/>
              <a:chExt cx="150840" cy="102960"/>
            </a:xfrm>
          </p:grpSpPr>
          <p:sp>
            <p:nvSpPr>
              <p:cNvPr id="2697" name=""/>
              <p:cNvSpPr/>
              <p:nvPr/>
            </p:nvSpPr>
            <p:spPr>
              <a:xfrm>
                <a:off x="1917360" y="53874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946160" y="53640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9" name=""/>
            <p:cNvSpPr/>
            <p:nvPr/>
          </p:nvSpPr>
          <p:spPr>
            <a:xfrm>
              <a:off x="2068200" y="5462640"/>
              <a:ext cx="9360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>
              <a:off x="1746000" y="5330880"/>
              <a:ext cx="155520" cy="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2161800" y="4425840"/>
              <a:ext cx="1800" cy="70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2" name=""/>
            <p:cNvGrpSpPr/>
            <p:nvPr/>
          </p:nvGrpSpPr>
          <p:grpSpPr>
            <a:xfrm>
              <a:off x="2108160" y="3938400"/>
              <a:ext cx="101520" cy="487080"/>
              <a:chOff x="2108160" y="3938400"/>
              <a:chExt cx="101520" cy="487080"/>
            </a:xfrm>
          </p:grpSpPr>
          <p:sp>
            <p:nvSpPr>
              <p:cNvPr id="2703" name=""/>
              <p:cNvSpPr/>
              <p:nvPr/>
            </p:nvSpPr>
            <p:spPr>
              <a:xfrm flipV="1">
                <a:off x="2161800" y="3938400"/>
                <a:ext cx="1800" cy="48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108160" y="432432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5" name=""/>
            <p:cNvGrpSpPr/>
            <p:nvPr/>
          </p:nvGrpSpPr>
          <p:grpSpPr>
            <a:xfrm>
              <a:off x="2674800" y="4411440"/>
              <a:ext cx="101520" cy="1450800"/>
              <a:chOff x="2674800" y="4411440"/>
              <a:chExt cx="101520" cy="1450800"/>
            </a:xfrm>
          </p:grpSpPr>
          <p:sp>
            <p:nvSpPr>
              <p:cNvPr id="2706" name=""/>
              <p:cNvSpPr/>
              <p:nvPr/>
            </p:nvSpPr>
            <p:spPr>
              <a:xfrm>
                <a:off x="2724120" y="44114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674800" y="44114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8" name=""/>
            <p:cNvSpPr/>
            <p:nvPr/>
          </p:nvSpPr>
          <p:spPr>
            <a:xfrm>
              <a:off x="2268360" y="51735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361600" y="5213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64920" y="5526000"/>
              <a:ext cx="416160" cy="306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613880" y="5564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760040" y="56624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801880" y="4973760"/>
              <a:ext cx="263520" cy="312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855520" y="5018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09560" y="5613480"/>
              <a:ext cx="42516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61840" y="5676840"/>
              <a:ext cx="13644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920520" y="5691240"/>
              <a:ext cx="4680" cy="639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H="1">
              <a:off x="905760" y="5340240"/>
              <a:ext cx="83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906120" y="5340240"/>
              <a:ext cx="1800" cy="27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>
              <a:off x="920520" y="6316560"/>
              <a:ext cx="12412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95200" y="5462640"/>
              <a:ext cx="86040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48200" y="554508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91960" y="6264360"/>
              <a:ext cx="87480" cy="932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132560" y="412092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5479200" y="3741840"/>
            <a:ext cx="3463560" cy="2862000"/>
            <a:chOff x="5479200" y="3741840"/>
            <a:chExt cx="3463560" cy="2862000"/>
          </a:xfrm>
        </p:grpSpPr>
        <p:sp>
          <p:nvSpPr>
            <p:cNvPr id="2726" name=""/>
            <p:cNvSpPr/>
            <p:nvPr/>
          </p:nvSpPr>
          <p:spPr>
            <a:xfrm>
              <a:off x="7684920" y="57006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764480" y="5533920"/>
              <a:ext cx="46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764480" y="6130800"/>
              <a:ext cx="4680" cy="4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915320" y="5764320"/>
              <a:ext cx="35712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28000" y="58039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353360" y="5110200"/>
              <a:ext cx="498240" cy="492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504200" y="5216400"/>
              <a:ext cx="46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7524720" y="5173560"/>
              <a:ext cx="24444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4" name=""/>
            <p:cNvGrpSpPr/>
            <p:nvPr/>
          </p:nvGrpSpPr>
          <p:grpSpPr>
            <a:xfrm>
              <a:off x="7524720" y="5392800"/>
              <a:ext cx="150840" cy="102960"/>
              <a:chOff x="7524720" y="5392800"/>
              <a:chExt cx="150840" cy="102960"/>
            </a:xfrm>
          </p:grpSpPr>
          <p:sp>
            <p:nvSpPr>
              <p:cNvPr id="2735" name=""/>
              <p:cNvSpPr/>
              <p:nvPr/>
            </p:nvSpPr>
            <p:spPr>
              <a:xfrm>
                <a:off x="7524720" y="5416200"/>
                <a:ext cx="1508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53520" y="5392800"/>
                <a:ext cx="122040" cy="10296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65"/>
                    </a:moveTo>
                    <a:lnTo>
                      <a:pt x="77" y="62"/>
                    </a:lnTo>
                    <a:lnTo>
                      <a:pt x="3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7" name=""/>
            <p:cNvSpPr/>
            <p:nvPr/>
          </p:nvSpPr>
          <p:spPr>
            <a:xfrm>
              <a:off x="7675560" y="5491080"/>
              <a:ext cx="936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H="1">
              <a:off x="7353360" y="5359320"/>
              <a:ext cx="1555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V="1">
              <a:off x="7769160" y="4454280"/>
              <a:ext cx="180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0" name=""/>
            <p:cNvGrpSpPr/>
            <p:nvPr/>
          </p:nvGrpSpPr>
          <p:grpSpPr>
            <a:xfrm>
              <a:off x="7715160" y="3967200"/>
              <a:ext cx="101520" cy="487440"/>
              <a:chOff x="7715160" y="3967200"/>
              <a:chExt cx="101520" cy="487440"/>
            </a:xfrm>
          </p:grpSpPr>
          <p:sp>
            <p:nvSpPr>
              <p:cNvPr id="2741" name=""/>
              <p:cNvSpPr/>
              <p:nvPr/>
            </p:nvSpPr>
            <p:spPr>
              <a:xfrm flipV="1">
                <a:off x="7768800" y="3967200"/>
                <a:ext cx="1800" cy="48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715160" y="43531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0"/>
                    </a:moveTo>
                    <a:lnTo>
                      <a:pt x="34" y="64"/>
                    </a:lnTo>
                    <a:lnTo>
                      <a:pt x="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3" name=""/>
            <p:cNvGrpSpPr/>
            <p:nvPr/>
          </p:nvGrpSpPr>
          <p:grpSpPr>
            <a:xfrm>
              <a:off x="8282160" y="4440240"/>
              <a:ext cx="101520" cy="1450800"/>
              <a:chOff x="8282160" y="4440240"/>
              <a:chExt cx="101520" cy="1450800"/>
            </a:xfrm>
          </p:grpSpPr>
          <p:sp>
            <p:nvSpPr>
              <p:cNvPr id="2744" name=""/>
              <p:cNvSpPr/>
              <p:nvPr/>
            </p:nvSpPr>
            <p:spPr>
              <a:xfrm>
                <a:off x="8331480" y="4440240"/>
                <a:ext cx="1440" cy="14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8282160" y="4440240"/>
                <a:ext cx="101520" cy="10296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64" y="65"/>
                    </a:moveTo>
                    <a:lnTo>
                      <a:pt x="31" y="0"/>
                    </a:lnTo>
                    <a:lnTo>
                      <a:pt x="0" y="6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6" name=""/>
            <p:cNvSpPr/>
            <p:nvPr/>
          </p:nvSpPr>
          <p:spPr>
            <a:xfrm>
              <a:off x="7875720" y="5202360"/>
              <a:ext cx="307800" cy="312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968960" y="5241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172280" y="5554800"/>
              <a:ext cx="415800" cy="306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221240" y="5592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367400" y="569124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408880" y="5002200"/>
              <a:ext cx="263520" cy="31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462520" y="5046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6549840" y="5369040"/>
              <a:ext cx="80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6527880" y="6345360"/>
              <a:ext cx="124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902200" y="5491080"/>
              <a:ext cx="860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378480" y="3741840"/>
              <a:ext cx="441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724880" y="6292800"/>
              <a:ext cx="8712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914600" y="4025880"/>
              <a:ext cx="102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= I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ź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489720" y="5594400"/>
              <a:ext cx="166680" cy="43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489720" y="4356000"/>
              <a:ext cx="166680" cy="43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V="1">
              <a:off x="6568920" y="602424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6556320" y="4788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V="1">
              <a:off x="6568920" y="39337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491160" y="5316480"/>
              <a:ext cx="87480" cy="936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961600" y="447660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13800" y="5654520"/>
              <a:ext cx="30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479200" y="5688000"/>
              <a:ext cx="287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pl-PL" sz="25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818320" y="5479920"/>
              <a:ext cx="528480" cy="874800"/>
            </a:xfrm>
            <a:custGeom>
              <a:avLst/>
              <a:gdLst/>
              <a:ahLst/>
              <a:rect l="l" t="t" r="r" b="b"/>
              <a:pathLst>
                <a:path w="333" h="551">
                  <a:moveTo>
                    <a:pt x="278" y="499"/>
                  </a:moveTo>
                  <a:cubicBezTo>
                    <a:pt x="264" y="525"/>
                    <a:pt x="251" y="551"/>
                    <a:pt x="208" y="499"/>
                  </a:cubicBezTo>
                  <a:cubicBezTo>
                    <a:pt x="165" y="447"/>
                    <a:pt x="0" y="270"/>
                    <a:pt x="21" y="187"/>
                  </a:cubicBezTo>
                  <a:cubicBezTo>
                    <a:pt x="42" y="104"/>
                    <a:pt x="187" y="52"/>
                    <a:pt x="3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źródła prądowego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2386080" y="1224000"/>
            <a:ext cx="3821040" cy="2901960"/>
            <a:chOff x="2386080" y="1224000"/>
            <a:chExt cx="3821040" cy="2901960"/>
          </a:xfrm>
        </p:grpSpPr>
        <p:sp>
          <p:nvSpPr>
            <p:cNvPr id="2771" name=""/>
            <p:cNvSpPr/>
            <p:nvPr/>
          </p:nvSpPr>
          <p:spPr>
            <a:xfrm>
              <a:off x="2832120" y="1887480"/>
              <a:ext cx="1792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921040" y="17017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921040" y="235440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386080" y="198756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552040" y="20304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780080" y="2916360"/>
              <a:ext cx="536400" cy="536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944960" y="303372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4960800" y="298620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9" name=""/>
            <p:cNvGrpSpPr/>
            <p:nvPr/>
          </p:nvGrpSpPr>
          <p:grpSpPr>
            <a:xfrm>
              <a:off x="4960800" y="3224160"/>
              <a:ext cx="163800" cy="111240"/>
              <a:chOff x="4960800" y="3224160"/>
              <a:chExt cx="163800" cy="111240"/>
            </a:xfrm>
          </p:grpSpPr>
          <p:sp>
            <p:nvSpPr>
              <p:cNvPr id="2780" name=""/>
              <p:cNvSpPr/>
              <p:nvPr/>
            </p:nvSpPr>
            <p:spPr>
              <a:xfrm>
                <a:off x="4960800" y="3251160"/>
                <a:ext cx="1638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992840" y="3224160"/>
                <a:ext cx="1317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2" name=""/>
            <p:cNvSpPr/>
            <p:nvPr/>
          </p:nvSpPr>
          <p:spPr>
            <a:xfrm>
              <a:off x="5124600" y="3330720"/>
              <a:ext cx="101520" cy="52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H="1">
              <a:off x="4775040" y="318780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226120" y="3378240"/>
              <a:ext cx="144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5226120" y="2204640"/>
              <a:ext cx="144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594320" y="318780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884320" y="2544840"/>
              <a:ext cx="74880" cy="6336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836800" y="2916360"/>
              <a:ext cx="541440" cy="541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203640" y="30337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H="1" flipV="1">
              <a:off x="2920680" y="2986200"/>
              <a:ext cx="2667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1" name=""/>
            <p:cNvGrpSpPr/>
            <p:nvPr/>
          </p:nvGrpSpPr>
          <p:grpSpPr>
            <a:xfrm>
              <a:off x="3022200" y="3224160"/>
              <a:ext cx="165240" cy="111240"/>
              <a:chOff x="3022200" y="3224160"/>
              <a:chExt cx="165240" cy="111240"/>
            </a:xfrm>
          </p:grpSpPr>
          <p:sp>
            <p:nvSpPr>
              <p:cNvPr id="2792" name=""/>
              <p:cNvSpPr/>
              <p:nvPr/>
            </p:nvSpPr>
            <p:spPr>
              <a:xfrm flipH="1">
                <a:off x="3022200" y="32511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022560" y="32241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4" name=""/>
            <p:cNvSpPr/>
            <p:nvPr/>
          </p:nvSpPr>
          <p:spPr>
            <a:xfrm flipH="1">
              <a:off x="2921040" y="3335400"/>
              <a:ext cx="1015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203640" y="31924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921040" y="33829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2916360" y="2789280"/>
              <a:ext cx="468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H="1">
              <a:off x="3367080" y="31924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936880" y="3994200"/>
              <a:ext cx="228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0" name=""/>
            <p:cNvGrpSpPr/>
            <p:nvPr/>
          </p:nvGrpSpPr>
          <p:grpSpPr>
            <a:xfrm>
              <a:off x="3559320" y="3133800"/>
              <a:ext cx="1046160" cy="117360"/>
              <a:chOff x="3559320" y="3133800"/>
              <a:chExt cx="1046160" cy="117360"/>
            </a:xfrm>
          </p:grpSpPr>
          <p:sp>
            <p:nvSpPr>
              <p:cNvPr id="2801" name=""/>
              <p:cNvSpPr/>
              <p:nvPr/>
            </p:nvSpPr>
            <p:spPr>
              <a:xfrm>
                <a:off x="3559320" y="3192480"/>
                <a:ext cx="1046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559320" y="31338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492800" y="3138480"/>
                <a:ext cx="11268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4" name=""/>
            <p:cNvSpPr/>
            <p:nvPr/>
          </p:nvSpPr>
          <p:spPr>
            <a:xfrm flipV="1">
              <a:off x="4078440" y="2549160"/>
              <a:ext cx="144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916360" y="2565360"/>
              <a:ext cx="116208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2857680" y="2560680"/>
              <a:ext cx="112680" cy="264960"/>
              <a:chOff x="2857680" y="2560680"/>
              <a:chExt cx="112680" cy="264960"/>
            </a:xfrm>
          </p:grpSpPr>
          <p:sp>
            <p:nvSpPr>
              <p:cNvPr id="2807" name=""/>
              <p:cNvSpPr/>
              <p:nvPr/>
            </p:nvSpPr>
            <p:spPr>
              <a:xfrm flipV="1">
                <a:off x="2916360" y="256068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857680" y="271476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9" name=""/>
            <p:cNvGrpSpPr/>
            <p:nvPr/>
          </p:nvGrpSpPr>
          <p:grpSpPr>
            <a:xfrm>
              <a:off x="2857680" y="1425600"/>
              <a:ext cx="112680" cy="264960"/>
              <a:chOff x="2857680" y="1425600"/>
              <a:chExt cx="112680" cy="264960"/>
            </a:xfrm>
          </p:grpSpPr>
          <p:sp>
            <p:nvSpPr>
              <p:cNvPr id="2810" name=""/>
              <p:cNvSpPr/>
              <p:nvPr/>
            </p:nvSpPr>
            <p:spPr>
              <a:xfrm flipV="1">
                <a:off x="2916360" y="1425600"/>
                <a:ext cx="468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857680" y="1579680"/>
                <a:ext cx="11268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2" name=""/>
            <p:cNvGrpSpPr/>
            <p:nvPr/>
          </p:nvGrpSpPr>
          <p:grpSpPr>
            <a:xfrm>
              <a:off x="5167440" y="1674360"/>
              <a:ext cx="110880" cy="530640"/>
              <a:chOff x="5167440" y="1674360"/>
              <a:chExt cx="110880" cy="530640"/>
            </a:xfrm>
          </p:grpSpPr>
          <p:sp>
            <p:nvSpPr>
              <p:cNvPr id="2813" name=""/>
              <p:cNvSpPr/>
              <p:nvPr/>
            </p:nvSpPr>
            <p:spPr>
              <a:xfrm flipV="1">
                <a:off x="5226120" y="16743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167440" y="20937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4025880" y="3330720"/>
              <a:ext cx="111240" cy="566640"/>
              <a:chOff x="4025880" y="3330720"/>
              <a:chExt cx="111240" cy="566640"/>
            </a:xfrm>
          </p:grpSpPr>
          <p:sp>
            <p:nvSpPr>
              <p:cNvPr id="2816" name=""/>
              <p:cNvSpPr/>
              <p:nvPr/>
            </p:nvSpPr>
            <p:spPr>
              <a:xfrm>
                <a:off x="4078440" y="333072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025880" y="333072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8" name=""/>
            <p:cNvGrpSpPr/>
            <p:nvPr/>
          </p:nvGrpSpPr>
          <p:grpSpPr>
            <a:xfrm>
              <a:off x="5783400" y="2189160"/>
              <a:ext cx="110880" cy="1576440"/>
              <a:chOff x="5783400" y="2189160"/>
              <a:chExt cx="110880" cy="1576440"/>
            </a:xfrm>
          </p:grpSpPr>
          <p:sp>
            <p:nvSpPr>
              <p:cNvPr id="2819" name=""/>
              <p:cNvSpPr/>
              <p:nvPr/>
            </p:nvSpPr>
            <p:spPr>
              <a:xfrm>
                <a:off x="5835600" y="2189160"/>
                <a:ext cx="6480" cy="1576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783400" y="21891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2879640" y="14097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046400" y="3154320"/>
              <a:ext cx="748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454120" y="3017880"/>
              <a:ext cx="33984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256284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67588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342040" y="301788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450400" y="3059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563800" y="3165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310360" y="20192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412960" y="2066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678200" y="2236680"/>
              <a:ext cx="3034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85840" y="2279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852800" y="23860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540160" y="1504800"/>
              <a:ext cx="301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647440" y="1552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714400" y="16588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313160" y="27669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36640" y="2809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07920" y="2916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484440" y="2782800"/>
              <a:ext cx="355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3580920" y="28256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652560" y="2932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556000" y="2619360"/>
              <a:ext cx="3016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640960" y="26622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711520" y="27669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148280" y="3430440"/>
              <a:ext cx="4507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245480" y="3473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02800" y="357984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038400" y="122400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114000" y="1265400"/>
              <a:ext cx="29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394080" y="1371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921280" y="2800440"/>
              <a:ext cx="28584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024960" y="2847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211640" y="3994200"/>
              <a:ext cx="1440" cy="11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078440" y="4094280"/>
              <a:ext cx="26640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1952640" y="4551480"/>
                <a:ext cx="4551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1947960" y="5486400"/>
                <a:ext cx="2428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8" name=""/>
          <p:cNvSpPr/>
          <p:nvPr/>
        </p:nvSpPr>
        <p:spPr>
          <a:xfrm>
            <a:off x="6748920" y="4697280"/>
            <a:ext cx="21038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9" name=""/>
          <p:cNvGrpSpPr/>
          <p:nvPr/>
        </p:nvGrpSpPr>
        <p:grpSpPr>
          <a:xfrm>
            <a:off x="597240" y="1001880"/>
            <a:ext cx="8143200" cy="3053880"/>
            <a:chOff x="597240" y="1001880"/>
            <a:chExt cx="8143200" cy="3053880"/>
          </a:xfrm>
        </p:grpSpPr>
        <p:sp>
          <p:nvSpPr>
            <p:cNvPr id="2860" name=""/>
            <p:cNvSpPr/>
            <p:nvPr/>
          </p:nvSpPr>
          <p:spPr>
            <a:xfrm>
              <a:off x="597240" y="1001880"/>
              <a:ext cx="506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b)                                c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445720" y="2848680"/>
              <a:ext cx="3589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514480" y="2895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642280" y="30142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548760" y="2683440"/>
              <a:ext cx="56376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609240" y="27320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777720" y="2848680"/>
              <a:ext cx="24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005840" y="2789640"/>
              <a:ext cx="56592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392480" y="2918880"/>
              <a:ext cx="144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 flipV="1">
              <a:off x="1096560" y="2866680"/>
              <a:ext cx="2786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1195560" y="3131640"/>
              <a:ext cx="178920" cy="123480"/>
              <a:chOff x="1195560" y="3131640"/>
              <a:chExt cx="178920" cy="123480"/>
            </a:xfrm>
          </p:grpSpPr>
          <p:sp>
            <p:nvSpPr>
              <p:cNvPr id="2871" name=""/>
              <p:cNvSpPr/>
              <p:nvPr/>
            </p:nvSpPr>
            <p:spPr>
              <a:xfrm flipH="1">
                <a:off x="1195560" y="316008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195920" y="3131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3" name=""/>
            <p:cNvSpPr/>
            <p:nvPr/>
          </p:nvSpPr>
          <p:spPr>
            <a:xfrm flipH="1">
              <a:off x="1096200" y="3248280"/>
              <a:ext cx="1062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39248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096560" y="3307680"/>
              <a:ext cx="180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1089720" y="1665000"/>
              <a:ext cx="6840" cy="11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155988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968480" y="2789640"/>
              <a:ext cx="563760" cy="6008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141280" y="2918880"/>
              <a:ext cx="1800" cy="336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2158560" y="2866680"/>
              <a:ext cx="2800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1" name=""/>
            <p:cNvGrpSpPr/>
            <p:nvPr/>
          </p:nvGrpSpPr>
          <p:grpSpPr>
            <a:xfrm>
              <a:off x="2158560" y="3136680"/>
              <a:ext cx="178920" cy="123480"/>
              <a:chOff x="2158560" y="3136680"/>
              <a:chExt cx="178920" cy="123480"/>
            </a:xfrm>
          </p:grpSpPr>
          <p:sp>
            <p:nvSpPr>
              <p:cNvPr id="2882" name=""/>
              <p:cNvSpPr/>
              <p:nvPr/>
            </p:nvSpPr>
            <p:spPr>
              <a:xfrm>
                <a:off x="2158560" y="3159720"/>
                <a:ext cx="17892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2197440" y="3136680"/>
                <a:ext cx="14004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4" name=""/>
            <p:cNvSpPr/>
            <p:nvPr/>
          </p:nvSpPr>
          <p:spPr>
            <a:xfrm>
              <a:off x="2338200" y="3248280"/>
              <a:ext cx="10080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1968120" y="3095280"/>
              <a:ext cx="172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439000" y="3307680"/>
              <a:ext cx="1440" cy="69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H="1" flipV="1">
              <a:off x="2439000" y="1688760"/>
              <a:ext cx="5040" cy="116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771920" y="3095280"/>
              <a:ext cx="201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39452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73800" y="200160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V="1">
              <a:off x="4591440" y="1942200"/>
              <a:ext cx="27828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2" name=""/>
            <p:cNvGrpSpPr/>
            <p:nvPr/>
          </p:nvGrpSpPr>
          <p:grpSpPr>
            <a:xfrm>
              <a:off x="4591440" y="2214000"/>
              <a:ext cx="172080" cy="121680"/>
              <a:chOff x="4591440" y="2214000"/>
              <a:chExt cx="172080" cy="121680"/>
            </a:xfrm>
          </p:grpSpPr>
          <p:sp>
            <p:nvSpPr>
              <p:cNvPr id="2893" name=""/>
              <p:cNvSpPr/>
              <p:nvPr/>
            </p:nvSpPr>
            <p:spPr>
              <a:xfrm>
                <a:off x="4591440" y="2237040"/>
                <a:ext cx="1720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625280" y="221400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5" name=""/>
            <p:cNvSpPr/>
            <p:nvPr/>
          </p:nvSpPr>
          <p:spPr>
            <a:xfrm>
              <a:off x="4763880" y="2330640"/>
              <a:ext cx="1058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H="1">
              <a:off x="4394520" y="2172600"/>
              <a:ext cx="17928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8697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4869720" y="1524960"/>
              <a:ext cx="1800" cy="41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20480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394520" y="2843640"/>
              <a:ext cx="5709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568760" y="2973240"/>
              <a:ext cx="50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4586040" y="2918880"/>
              <a:ext cx="28368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4586040" y="3190680"/>
              <a:ext cx="177480" cy="121680"/>
              <a:chOff x="4586040" y="3190680"/>
              <a:chExt cx="177480" cy="121680"/>
            </a:xfrm>
          </p:grpSpPr>
          <p:sp>
            <p:nvSpPr>
              <p:cNvPr id="2904" name=""/>
              <p:cNvSpPr/>
              <p:nvPr/>
            </p:nvSpPr>
            <p:spPr>
              <a:xfrm>
                <a:off x="4586040" y="3213720"/>
                <a:ext cx="17748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625280" y="3190680"/>
                <a:ext cx="138240" cy="12168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68"/>
                    </a:moveTo>
                    <a:lnTo>
                      <a:pt x="81" y="65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6" name=""/>
            <p:cNvSpPr/>
            <p:nvPr/>
          </p:nvSpPr>
          <p:spPr>
            <a:xfrm>
              <a:off x="4763880" y="3302280"/>
              <a:ext cx="1058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4394520" y="3149640"/>
              <a:ext cx="1792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864680" y="3354120"/>
              <a:ext cx="50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486972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19976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303560" y="1890000"/>
              <a:ext cx="568800" cy="5986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476360" y="2019600"/>
              <a:ext cx="50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498320" y="196560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4" name=""/>
            <p:cNvGrpSpPr/>
            <p:nvPr/>
          </p:nvGrpSpPr>
          <p:grpSpPr>
            <a:xfrm>
              <a:off x="1498320" y="2229840"/>
              <a:ext cx="172440" cy="123840"/>
              <a:chOff x="1498320" y="2229840"/>
              <a:chExt cx="172440" cy="123840"/>
            </a:xfrm>
          </p:grpSpPr>
          <p:sp>
            <p:nvSpPr>
              <p:cNvPr id="2915" name=""/>
              <p:cNvSpPr/>
              <p:nvPr/>
            </p:nvSpPr>
            <p:spPr>
              <a:xfrm>
                <a:off x="1498320" y="2260080"/>
                <a:ext cx="172440" cy="87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1532520" y="2229840"/>
                <a:ext cx="138240" cy="1238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0" y="69"/>
                    </a:moveTo>
                    <a:lnTo>
                      <a:pt x="81" y="66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7" name=""/>
            <p:cNvSpPr/>
            <p:nvPr/>
          </p:nvSpPr>
          <p:spPr>
            <a:xfrm>
              <a:off x="1671120" y="2348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1303200" y="2196000"/>
              <a:ext cx="1774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779120" y="2400840"/>
              <a:ext cx="144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1779120" y="1447200"/>
              <a:ext cx="1440" cy="50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112040" y="2196000"/>
              <a:ext cx="196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416760" y="187236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803040" y="2001600"/>
              <a:ext cx="144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 flipV="1">
              <a:off x="3504960" y="1942200"/>
              <a:ext cx="280440" cy="135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5" name=""/>
            <p:cNvGrpSpPr/>
            <p:nvPr/>
          </p:nvGrpSpPr>
          <p:grpSpPr>
            <a:xfrm>
              <a:off x="3612960" y="2206800"/>
              <a:ext cx="172440" cy="123480"/>
              <a:chOff x="3612960" y="2206800"/>
              <a:chExt cx="172440" cy="123480"/>
            </a:xfrm>
          </p:grpSpPr>
          <p:sp>
            <p:nvSpPr>
              <p:cNvPr id="2926" name=""/>
              <p:cNvSpPr/>
              <p:nvPr/>
            </p:nvSpPr>
            <p:spPr>
              <a:xfrm flipH="1">
                <a:off x="3612960" y="2237040"/>
                <a:ext cx="172440" cy="9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613320" y="2206800"/>
                <a:ext cx="138240" cy="12348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45" y="0"/>
                    </a:moveTo>
                    <a:lnTo>
                      <a:pt x="0" y="69"/>
                    </a:lnTo>
                    <a:lnTo>
                      <a:pt x="81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8" name=""/>
            <p:cNvSpPr/>
            <p:nvPr/>
          </p:nvSpPr>
          <p:spPr>
            <a:xfrm flipH="1">
              <a:off x="3504960" y="2330640"/>
              <a:ext cx="107640" cy="59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803040" y="2172600"/>
              <a:ext cx="17244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505320" y="2382840"/>
              <a:ext cx="1800" cy="33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3500280" y="1542960"/>
              <a:ext cx="50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3975840" y="2172600"/>
              <a:ext cx="196560" cy="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416760" y="2843640"/>
              <a:ext cx="563760" cy="5990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803040" y="2973240"/>
              <a:ext cx="1440" cy="334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H="1" flipV="1">
              <a:off x="3504960" y="2918880"/>
              <a:ext cx="280440" cy="129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6" name=""/>
            <p:cNvGrpSpPr/>
            <p:nvPr/>
          </p:nvGrpSpPr>
          <p:grpSpPr>
            <a:xfrm>
              <a:off x="3606120" y="3183840"/>
              <a:ext cx="178920" cy="123480"/>
              <a:chOff x="3606120" y="3183840"/>
              <a:chExt cx="178920" cy="123480"/>
            </a:xfrm>
          </p:grpSpPr>
          <p:sp>
            <p:nvSpPr>
              <p:cNvPr id="2937" name=""/>
              <p:cNvSpPr/>
              <p:nvPr/>
            </p:nvSpPr>
            <p:spPr>
              <a:xfrm flipH="1">
                <a:off x="3606120" y="3213720"/>
                <a:ext cx="178920" cy="93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606480" y="31838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46" y="0"/>
                    </a:moveTo>
                    <a:lnTo>
                      <a:pt x="0" y="69"/>
                    </a:lnTo>
                    <a:lnTo>
                      <a:pt x="82" y="69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9" name=""/>
            <p:cNvSpPr/>
            <p:nvPr/>
          </p:nvSpPr>
          <p:spPr>
            <a:xfrm flipH="1">
              <a:off x="3504960" y="3302280"/>
              <a:ext cx="107640" cy="5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803040" y="3149640"/>
              <a:ext cx="172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505320" y="3354120"/>
              <a:ext cx="1800" cy="701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V="1">
              <a:off x="3500280" y="2695680"/>
              <a:ext cx="1800" cy="212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H="1">
              <a:off x="3970800" y="314964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4187880" y="2677680"/>
              <a:ext cx="1440" cy="46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4204800" y="1706760"/>
              <a:ext cx="1440" cy="45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187880" y="2678040"/>
              <a:ext cx="681840" cy="5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505320" y="1706760"/>
              <a:ext cx="699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8" name=""/>
            <p:cNvGrpSpPr/>
            <p:nvPr/>
          </p:nvGrpSpPr>
          <p:grpSpPr>
            <a:xfrm>
              <a:off x="3444120" y="1318320"/>
              <a:ext cx="117360" cy="240480"/>
              <a:chOff x="3444120" y="1318320"/>
              <a:chExt cx="117360" cy="240480"/>
            </a:xfrm>
          </p:grpSpPr>
          <p:sp>
            <p:nvSpPr>
              <p:cNvPr id="2949" name=""/>
              <p:cNvSpPr/>
              <p:nvPr/>
            </p:nvSpPr>
            <p:spPr>
              <a:xfrm>
                <a:off x="35049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444120" y="1436760"/>
                <a:ext cx="11736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1" name=""/>
            <p:cNvGrpSpPr/>
            <p:nvPr/>
          </p:nvGrpSpPr>
          <p:grpSpPr>
            <a:xfrm>
              <a:off x="4809960" y="1318320"/>
              <a:ext cx="115920" cy="240480"/>
              <a:chOff x="4809960" y="1318320"/>
              <a:chExt cx="115920" cy="240480"/>
            </a:xfrm>
          </p:grpSpPr>
          <p:sp>
            <p:nvSpPr>
              <p:cNvPr id="2952" name=""/>
              <p:cNvSpPr/>
              <p:nvPr/>
            </p:nvSpPr>
            <p:spPr>
              <a:xfrm>
                <a:off x="4869360" y="1318320"/>
                <a:ext cx="180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09960" y="1436760"/>
                <a:ext cx="115920" cy="12204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0" y="0"/>
                    </a:moveTo>
                    <a:lnTo>
                      <a:pt x="35" y="68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4" name=""/>
            <p:cNvGrpSpPr/>
            <p:nvPr/>
          </p:nvGrpSpPr>
          <p:grpSpPr>
            <a:xfrm>
              <a:off x="1028520" y="1478160"/>
              <a:ext cx="117360" cy="240480"/>
              <a:chOff x="1028520" y="1478160"/>
              <a:chExt cx="117360" cy="240480"/>
            </a:xfrm>
          </p:grpSpPr>
          <p:sp>
            <p:nvSpPr>
              <p:cNvPr id="2955" name=""/>
              <p:cNvSpPr/>
              <p:nvPr/>
            </p:nvSpPr>
            <p:spPr>
              <a:xfrm>
                <a:off x="1089360" y="1478160"/>
                <a:ext cx="68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1028520" y="15948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3"/>
                    </a:moveTo>
                    <a:lnTo>
                      <a:pt x="40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7" name=""/>
            <p:cNvGrpSpPr/>
            <p:nvPr/>
          </p:nvGrpSpPr>
          <p:grpSpPr>
            <a:xfrm>
              <a:off x="2377080" y="1465560"/>
              <a:ext cx="115920" cy="240480"/>
              <a:chOff x="2377080" y="1465560"/>
              <a:chExt cx="115920" cy="240480"/>
            </a:xfrm>
          </p:grpSpPr>
          <p:sp>
            <p:nvSpPr>
              <p:cNvPr id="2958" name=""/>
              <p:cNvSpPr/>
              <p:nvPr/>
            </p:nvSpPr>
            <p:spPr>
              <a:xfrm>
                <a:off x="2438640" y="1465560"/>
                <a:ext cx="1440" cy="24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2377080" y="158220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36" y="69"/>
                    </a:lnTo>
                    <a:lnTo>
                      <a:pt x="6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0" name=""/>
            <p:cNvSpPr/>
            <p:nvPr/>
          </p:nvSpPr>
          <p:spPr>
            <a:xfrm>
              <a:off x="5810400" y="2719440"/>
              <a:ext cx="570960" cy="5932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196320" y="2848680"/>
              <a:ext cx="1800" cy="329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 flipV="1">
              <a:off x="5898960" y="2789280"/>
              <a:ext cx="28008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3" name=""/>
            <p:cNvGrpSpPr/>
            <p:nvPr/>
          </p:nvGrpSpPr>
          <p:grpSpPr>
            <a:xfrm>
              <a:off x="6004440" y="3055680"/>
              <a:ext cx="173880" cy="121680"/>
              <a:chOff x="6004440" y="3055680"/>
              <a:chExt cx="173880" cy="121680"/>
            </a:xfrm>
          </p:grpSpPr>
          <p:sp>
            <p:nvSpPr>
              <p:cNvPr id="2964" name=""/>
              <p:cNvSpPr/>
              <p:nvPr/>
            </p:nvSpPr>
            <p:spPr>
              <a:xfrm flipH="1">
                <a:off x="6004440" y="3084480"/>
                <a:ext cx="173880" cy="9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004800" y="3055680"/>
                <a:ext cx="140040" cy="121680"/>
              </a:xfrm>
              <a:custGeom>
                <a:avLst/>
                <a:gdLst/>
                <a:ahLst/>
                <a:rect l="l" t="t" r="r" b="b"/>
                <a:pathLst>
                  <a:path w="82" h="68">
                    <a:moveTo>
                      <a:pt x="46" y="0"/>
                    </a:moveTo>
                    <a:lnTo>
                      <a:pt x="0" y="68"/>
                    </a:lnTo>
                    <a:lnTo>
                      <a:pt x="82" y="6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6" name=""/>
            <p:cNvSpPr/>
            <p:nvPr/>
          </p:nvSpPr>
          <p:spPr>
            <a:xfrm flipH="1">
              <a:off x="5898960" y="3178080"/>
              <a:ext cx="105840" cy="54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196320" y="3019680"/>
              <a:ext cx="1778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898960" y="3232440"/>
              <a:ext cx="1440" cy="758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V="1">
              <a:off x="5898960" y="2348640"/>
              <a:ext cx="1440" cy="42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6369480" y="3019680"/>
              <a:ext cx="1965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47880" y="2295000"/>
              <a:ext cx="563760" cy="595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420680" y="2424600"/>
              <a:ext cx="1440" cy="33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7437960" y="2366640"/>
              <a:ext cx="278640" cy="129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4" name=""/>
            <p:cNvGrpSpPr/>
            <p:nvPr/>
          </p:nvGrpSpPr>
          <p:grpSpPr>
            <a:xfrm>
              <a:off x="7437960" y="2636640"/>
              <a:ext cx="172080" cy="123480"/>
              <a:chOff x="7437960" y="2636640"/>
              <a:chExt cx="172080" cy="123480"/>
            </a:xfrm>
          </p:grpSpPr>
          <p:sp>
            <p:nvSpPr>
              <p:cNvPr id="2975" name=""/>
              <p:cNvSpPr/>
              <p:nvPr/>
            </p:nvSpPr>
            <p:spPr>
              <a:xfrm>
                <a:off x="7437960" y="2659680"/>
                <a:ext cx="172080" cy="9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470360" y="2636640"/>
                <a:ext cx="139680" cy="1234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82" y="66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7" name=""/>
            <p:cNvSpPr/>
            <p:nvPr/>
          </p:nvSpPr>
          <p:spPr>
            <a:xfrm>
              <a:off x="7610400" y="2755440"/>
              <a:ext cx="106200" cy="57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H="1">
              <a:off x="7247880" y="2595600"/>
              <a:ext cx="172800" cy="68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716600" y="2807640"/>
              <a:ext cx="1440" cy="24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 flipV="1">
              <a:off x="7710840" y="1688400"/>
              <a:ext cx="11880" cy="665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898960" y="2589840"/>
              <a:ext cx="1348560" cy="12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6566040" y="2589480"/>
              <a:ext cx="1440" cy="424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810400" y="1613160"/>
              <a:ext cx="189360" cy="52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898960" y="1406520"/>
              <a:ext cx="1440" cy="22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5" name=""/>
            <p:cNvGrpSpPr/>
            <p:nvPr/>
          </p:nvGrpSpPr>
          <p:grpSpPr>
            <a:xfrm>
              <a:off x="5837400" y="2125800"/>
              <a:ext cx="117720" cy="256320"/>
              <a:chOff x="5837400" y="2125800"/>
              <a:chExt cx="117720" cy="256320"/>
            </a:xfrm>
          </p:grpSpPr>
          <p:sp>
            <p:nvSpPr>
              <p:cNvPr id="2986" name=""/>
              <p:cNvSpPr/>
              <p:nvPr/>
            </p:nvSpPr>
            <p:spPr>
              <a:xfrm>
                <a:off x="5898600" y="2125800"/>
                <a:ext cx="1440" cy="25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837400" y="2260080"/>
                <a:ext cx="117720" cy="1220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0"/>
                    </a:moveTo>
                    <a:lnTo>
                      <a:pt x="36" y="68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8" name=""/>
            <p:cNvSpPr/>
            <p:nvPr/>
          </p:nvSpPr>
          <p:spPr>
            <a:xfrm>
              <a:off x="6061680" y="1719360"/>
              <a:ext cx="40860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189120" y="17715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627320" y="3214080"/>
              <a:ext cx="189720" cy="5234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716600" y="3007080"/>
              <a:ext cx="1440" cy="225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716600" y="372672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989680" y="1131120"/>
              <a:ext cx="514440" cy="38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044040" y="1183320"/>
              <a:ext cx="27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346800" y="1300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6" name=""/>
            <p:cNvGrpSpPr/>
            <p:nvPr/>
          </p:nvGrpSpPr>
          <p:grpSpPr>
            <a:xfrm>
              <a:off x="7655040" y="1447560"/>
              <a:ext cx="117360" cy="258480"/>
              <a:chOff x="7655040" y="1447560"/>
              <a:chExt cx="117360" cy="258480"/>
            </a:xfrm>
          </p:grpSpPr>
          <p:sp>
            <p:nvSpPr>
              <p:cNvPr id="2997" name=""/>
              <p:cNvSpPr/>
              <p:nvPr/>
            </p:nvSpPr>
            <p:spPr>
              <a:xfrm>
                <a:off x="7716240" y="1447560"/>
                <a:ext cx="1440" cy="258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655040" y="158220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0" y="0"/>
                    </a:moveTo>
                    <a:lnTo>
                      <a:pt x="36" y="69"/>
                    </a:lnTo>
                    <a:lnTo>
                      <a:pt x="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6492240" y="3136680"/>
              <a:ext cx="117360" cy="683280"/>
              <a:chOff x="6492240" y="3136680"/>
              <a:chExt cx="117360" cy="683280"/>
            </a:xfrm>
          </p:grpSpPr>
          <p:sp>
            <p:nvSpPr>
              <p:cNvPr id="3000" name=""/>
              <p:cNvSpPr/>
              <p:nvPr/>
            </p:nvSpPr>
            <p:spPr>
              <a:xfrm flipV="1">
                <a:off x="6548760" y="3136680"/>
                <a:ext cx="1440" cy="68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492240" y="3136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2" name=""/>
            <p:cNvGrpSpPr/>
            <p:nvPr/>
          </p:nvGrpSpPr>
          <p:grpSpPr>
            <a:xfrm>
              <a:off x="7907760" y="3118680"/>
              <a:ext cx="115920" cy="682920"/>
              <a:chOff x="7907760" y="3118680"/>
              <a:chExt cx="115920" cy="682920"/>
            </a:xfrm>
          </p:grpSpPr>
          <p:sp>
            <p:nvSpPr>
              <p:cNvPr id="3003" name=""/>
              <p:cNvSpPr/>
              <p:nvPr/>
            </p:nvSpPr>
            <p:spPr>
              <a:xfrm flipV="1">
                <a:off x="7962480" y="3118680"/>
                <a:ext cx="1440" cy="68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07760" y="3119040"/>
                <a:ext cx="115920" cy="123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69"/>
                    </a:moveTo>
                    <a:lnTo>
                      <a:pt x="32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5" name=""/>
            <p:cNvGrpSpPr/>
            <p:nvPr/>
          </p:nvGrpSpPr>
          <p:grpSpPr>
            <a:xfrm>
              <a:off x="7034400" y="2641680"/>
              <a:ext cx="117360" cy="371880"/>
              <a:chOff x="7034400" y="2641680"/>
              <a:chExt cx="117360" cy="371880"/>
            </a:xfrm>
          </p:grpSpPr>
          <p:sp>
            <p:nvSpPr>
              <p:cNvPr id="3006" name=""/>
              <p:cNvSpPr/>
              <p:nvPr/>
            </p:nvSpPr>
            <p:spPr>
              <a:xfrm flipV="1">
                <a:off x="7090920" y="2641680"/>
                <a:ext cx="1440" cy="37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034400" y="264204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69" y="69"/>
                    </a:moveTo>
                    <a:lnTo>
                      <a:pt x="33" y="0"/>
                    </a:lnTo>
                    <a:lnTo>
                      <a:pt x="0" y="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8" name=""/>
            <p:cNvGrpSpPr/>
            <p:nvPr/>
          </p:nvGrpSpPr>
          <p:grpSpPr>
            <a:xfrm>
              <a:off x="7063560" y="3079440"/>
              <a:ext cx="637200" cy="10080"/>
              <a:chOff x="7063560" y="3079440"/>
              <a:chExt cx="637200" cy="10080"/>
            </a:xfrm>
          </p:grpSpPr>
          <p:sp>
            <p:nvSpPr>
              <p:cNvPr id="3009" name=""/>
              <p:cNvSpPr/>
              <p:nvPr/>
            </p:nvSpPr>
            <p:spPr>
              <a:xfrm>
                <a:off x="706356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08552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1078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1301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1521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1744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1967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2187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2414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263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2874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3094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33140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3540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37604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3983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4206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44264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4649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4872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50960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53156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5556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5776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60032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622280" y="30794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644240" y="307944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6692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688880" y="3079440"/>
                <a:ext cx="11880" cy="100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8" name=""/>
            <p:cNvSpPr/>
            <p:nvPr/>
          </p:nvSpPr>
          <p:spPr>
            <a:xfrm>
              <a:off x="4825440" y="2642040"/>
              <a:ext cx="7848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155120" y="311364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172400" y="2136600"/>
              <a:ext cx="77040" cy="77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473280" y="1672200"/>
              <a:ext cx="7164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733040" y="3048840"/>
              <a:ext cx="781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057320" y="2149200"/>
              <a:ext cx="766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062360" y="141336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1744560" y="1413360"/>
              <a:ext cx="734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199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866560" y="2553840"/>
              <a:ext cx="78480" cy="720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404800" y="141336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671960" y="1377360"/>
              <a:ext cx="784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866560" y="1336320"/>
              <a:ext cx="78480" cy="770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837680" y="1266120"/>
              <a:ext cx="7164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473280" y="1284120"/>
              <a:ext cx="7812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96156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382560" y="4032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748400" y="404892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77620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93480" y="3978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315520" y="3996720"/>
              <a:ext cx="245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993200" y="2001600"/>
              <a:ext cx="35388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060520" y="2048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189400" y="2165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052440" y="2954880"/>
              <a:ext cx="351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12084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32486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21360" y="2900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93360" y="2949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21160" y="3066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839720" y="2424600"/>
              <a:ext cx="358920" cy="3718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908120" y="2473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035920" y="2589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970880" y="295488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044320" y="3007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171040" y="3125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544840" y="2918880"/>
              <a:ext cx="3571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610720" y="29660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739240" y="3084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015000" y="1965600"/>
              <a:ext cx="35676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3086640" y="2012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214800" y="2131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1895040" y="2019600"/>
              <a:ext cx="3589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1967760" y="2066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096640" y="2183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824240" y="1524960"/>
              <a:ext cx="217080" cy="370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885440" y="1571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989680" y="2165400"/>
              <a:ext cx="31788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056280" y="22140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134760" y="23306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596040" y="1284120"/>
              <a:ext cx="31788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661920" y="13309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741120" y="1447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163160" y="1483560"/>
              <a:ext cx="32472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235160" y="1535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313640" y="16545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970880" y="1395360"/>
              <a:ext cx="218520" cy="370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038200" y="14421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510640" y="1559520"/>
              <a:ext cx="218520" cy="3776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570760" y="160776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615720" y="3343680"/>
              <a:ext cx="563760" cy="375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698160" y="33904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867000" y="350712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!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031240" y="3289680"/>
              <a:ext cx="709200" cy="372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130240" y="33256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276040" y="334908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445240" y="346752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1481400" y="1006920"/>
              <a:ext cx="632520" cy="375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532160" y="10533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1855800" y="11707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e źródła prądowe z kompensacją nielini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200160" y="4657680"/>
                <a:ext cx="2673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3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3228840" y="4683240"/>
                <a:ext cx="216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5975280" y="4702320"/>
                <a:ext cx="23907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6195960" y="5570640"/>
                <a:ext cx="1187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-106560" y="266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w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295200" y="1668600"/>
            <a:ext cx="8424720" cy="4105080"/>
            <a:chOff x="295200" y="1668600"/>
            <a:chExt cx="8424720" cy="4105080"/>
          </a:xfrm>
        </p:grpSpPr>
        <p:sp>
          <p:nvSpPr>
            <p:cNvPr id="3115" name=""/>
            <p:cNvSpPr/>
            <p:nvPr/>
          </p:nvSpPr>
          <p:spPr>
            <a:xfrm>
              <a:off x="295200" y="2124000"/>
              <a:ext cx="3873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6" name=""/>
                <p:cNvSpPr txBox="1"/>
                <p:nvPr/>
              </p:nvSpPr>
              <p:spPr>
                <a:xfrm>
                  <a:off x="3155760" y="5286240"/>
                  <a:ext cx="300348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źr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17" name=""/>
            <p:cNvSpPr/>
            <p:nvPr/>
          </p:nvSpPr>
          <p:spPr>
            <a:xfrm>
              <a:off x="1015920" y="2332080"/>
              <a:ext cx="177480" cy="4762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104840" y="214632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104840" y="2798640"/>
              <a:ext cx="144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91920" y="24750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68120" y="2989080"/>
              <a:ext cx="74520" cy="6372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020600" y="3360600"/>
              <a:ext cx="539640" cy="54144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385640" y="3478320"/>
              <a:ext cx="1440" cy="301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H="1" flipV="1">
              <a:off x="1104840" y="3430440"/>
              <a:ext cx="26496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5" name=""/>
            <p:cNvGrpSpPr/>
            <p:nvPr/>
          </p:nvGrpSpPr>
          <p:grpSpPr>
            <a:xfrm>
              <a:off x="1204200" y="3668760"/>
              <a:ext cx="165240" cy="111240"/>
              <a:chOff x="1204200" y="3668760"/>
              <a:chExt cx="165240" cy="111240"/>
            </a:xfrm>
          </p:grpSpPr>
          <p:sp>
            <p:nvSpPr>
              <p:cNvPr id="3126" name=""/>
              <p:cNvSpPr/>
              <p:nvPr/>
            </p:nvSpPr>
            <p:spPr>
              <a:xfrm flipH="1">
                <a:off x="1204200" y="3695760"/>
                <a:ext cx="165240" cy="84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1204560" y="366876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84" h="70">
                    <a:moveTo>
                      <a:pt x="47" y="0"/>
                    </a:moveTo>
                    <a:lnTo>
                      <a:pt x="0" y="70"/>
                    </a:lnTo>
                    <a:lnTo>
                      <a:pt x="84" y="7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8" name=""/>
            <p:cNvSpPr/>
            <p:nvPr/>
          </p:nvSpPr>
          <p:spPr>
            <a:xfrm flipH="1">
              <a:off x="1104480" y="3780000"/>
              <a:ext cx="99720" cy="47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1385640" y="3637080"/>
              <a:ext cx="163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104840" y="3827520"/>
              <a:ext cx="1440" cy="62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V="1">
              <a:off x="1099800" y="3233880"/>
              <a:ext cx="5040" cy="185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H="1">
              <a:off x="1549080" y="3637080"/>
              <a:ext cx="1857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1120680" y="4438800"/>
              <a:ext cx="654984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4" name=""/>
            <p:cNvGrpSpPr/>
            <p:nvPr/>
          </p:nvGrpSpPr>
          <p:grpSpPr>
            <a:xfrm>
              <a:off x="1741320" y="3578040"/>
              <a:ext cx="1044360" cy="117360"/>
              <a:chOff x="1741320" y="3578040"/>
              <a:chExt cx="1044360" cy="117360"/>
            </a:xfrm>
          </p:grpSpPr>
          <p:sp>
            <p:nvSpPr>
              <p:cNvPr id="3135" name=""/>
              <p:cNvSpPr/>
              <p:nvPr/>
            </p:nvSpPr>
            <p:spPr>
              <a:xfrm>
                <a:off x="1741320" y="3636720"/>
                <a:ext cx="104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1741320" y="3578040"/>
                <a:ext cx="11052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0"/>
                    </a:moveTo>
                    <a:lnTo>
                      <a:pt x="0" y="37"/>
                    </a:lnTo>
                    <a:lnTo>
                      <a:pt x="7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673000" y="3582720"/>
                <a:ext cx="112320" cy="112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1"/>
                    </a:moveTo>
                    <a:lnTo>
                      <a:pt x="71" y="34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8" name=""/>
            <p:cNvSpPr/>
            <p:nvPr/>
          </p:nvSpPr>
          <p:spPr>
            <a:xfrm flipV="1">
              <a:off x="2258640" y="2993760"/>
              <a:ext cx="1800" cy="63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099800" y="3009960"/>
              <a:ext cx="1158840" cy="6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0" name=""/>
            <p:cNvGrpSpPr/>
            <p:nvPr/>
          </p:nvGrpSpPr>
          <p:grpSpPr>
            <a:xfrm>
              <a:off x="1041120" y="3005280"/>
              <a:ext cx="111240" cy="264960"/>
              <a:chOff x="1041120" y="3005280"/>
              <a:chExt cx="111240" cy="264960"/>
            </a:xfrm>
          </p:grpSpPr>
          <p:sp>
            <p:nvSpPr>
              <p:cNvPr id="3141" name=""/>
              <p:cNvSpPr/>
              <p:nvPr/>
            </p:nvSpPr>
            <p:spPr>
              <a:xfrm flipV="1">
                <a:off x="1098720" y="300528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1041120" y="31593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3" name=""/>
            <p:cNvGrpSpPr/>
            <p:nvPr/>
          </p:nvGrpSpPr>
          <p:grpSpPr>
            <a:xfrm>
              <a:off x="1041120" y="1870200"/>
              <a:ext cx="111240" cy="264960"/>
              <a:chOff x="1041120" y="1870200"/>
              <a:chExt cx="111240" cy="264960"/>
            </a:xfrm>
          </p:grpSpPr>
          <p:sp>
            <p:nvSpPr>
              <p:cNvPr id="3144" name=""/>
              <p:cNvSpPr/>
              <p:nvPr/>
            </p:nvSpPr>
            <p:spPr>
              <a:xfrm flipV="1">
                <a:off x="1098720" y="1870200"/>
                <a:ext cx="4320" cy="264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041120" y="202428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0" y="0"/>
                    </a:moveTo>
                    <a:lnTo>
                      <a:pt x="37" y="70"/>
                    </a:lnTo>
                    <a:lnTo>
                      <a:pt x="71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2206440" y="3774960"/>
              <a:ext cx="111240" cy="566640"/>
              <a:chOff x="2206440" y="3774960"/>
              <a:chExt cx="111240" cy="566640"/>
            </a:xfrm>
          </p:grpSpPr>
          <p:sp>
            <p:nvSpPr>
              <p:cNvPr id="3147" name=""/>
              <p:cNvSpPr/>
              <p:nvPr/>
            </p:nvSpPr>
            <p:spPr>
              <a:xfrm>
                <a:off x="2259000" y="3774960"/>
                <a:ext cx="1440" cy="566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206440" y="377496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1063440" y="1854360"/>
              <a:ext cx="7452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226960" y="35989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37920" y="3462480"/>
              <a:ext cx="33984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00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2332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55200" y="1960560"/>
              <a:ext cx="176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493720" y="3211560"/>
              <a:ext cx="4032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666800" y="3227400"/>
              <a:ext cx="3553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719000" y="327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793520" y="33764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39440" y="3063960"/>
              <a:ext cx="3016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80840" y="310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55360" y="32115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328480" y="3875040"/>
              <a:ext cx="45108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380680" y="391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220400" y="1668600"/>
              <a:ext cx="45108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252080" y="170964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+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960280" y="3360600"/>
              <a:ext cx="53532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125520" y="3478320"/>
              <a:ext cx="1800" cy="296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3141360" y="343044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9" name=""/>
            <p:cNvGrpSpPr/>
            <p:nvPr/>
          </p:nvGrpSpPr>
          <p:grpSpPr>
            <a:xfrm>
              <a:off x="3141360" y="3668760"/>
              <a:ext cx="162000" cy="111240"/>
              <a:chOff x="3141360" y="3668760"/>
              <a:chExt cx="162000" cy="111240"/>
            </a:xfrm>
          </p:grpSpPr>
          <p:sp>
            <p:nvSpPr>
              <p:cNvPr id="3170" name=""/>
              <p:cNvSpPr/>
              <p:nvPr/>
            </p:nvSpPr>
            <p:spPr>
              <a:xfrm>
                <a:off x="3141360" y="3695760"/>
                <a:ext cx="162000" cy="79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3173040" y="3668760"/>
                <a:ext cx="129960" cy="11124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3303360" y="3774960"/>
              <a:ext cx="10152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2955600" y="3632040"/>
              <a:ext cx="169920" cy="5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404880" y="3822840"/>
              <a:ext cx="1800" cy="625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V="1">
              <a:off x="3404880" y="2649240"/>
              <a:ext cx="1800" cy="77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6" name=""/>
            <p:cNvGrpSpPr/>
            <p:nvPr/>
          </p:nvGrpSpPr>
          <p:grpSpPr>
            <a:xfrm>
              <a:off x="3346200" y="2118960"/>
              <a:ext cx="110880" cy="530640"/>
              <a:chOff x="3346200" y="2118960"/>
              <a:chExt cx="110880" cy="530640"/>
            </a:xfrm>
          </p:grpSpPr>
          <p:sp>
            <p:nvSpPr>
              <p:cNvPr id="3177" name=""/>
              <p:cNvSpPr/>
              <p:nvPr/>
            </p:nvSpPr>
            <p:spPr>
              <a:xfrm flipV="1">
                <a:off x="3404880" y="2118960"/>
                <a:ext cx="144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3346200" y="253836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3520800" y="3462480"/>
              <a:ext cx="33516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58344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706200" y="361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489120" y="2463840"/>
              <a:ext cx="2016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547800" y="2511360"/>
              <a:ext cx="8002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źr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573280" y="32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647800" y="33606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541600" y="40244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100400" y="324468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79088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956120" y="3481200"/>
              <a:ext cx="144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4971960" y="3433680"/>
              <a:ext cx="2635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1" name=""/>
            <p:cNvGrpSpPr/>
            <p:nvPr/>
          </p:nvGrpSpPr>
          <p:grpSpPr>
            <a:xfrm>
              <a:off x="4971960" y="3672000"/>
              <a:ext cx="163440" cy="110880"/>
              <a:chOff x="4971960" y="3672000"/>
              <a:chExt cx="163440" cy="110880"/>
            </a:xfrm>
          </p:grpSpPr>
          <p:sp>
            <p:nvSpPr>
              <p:cNvPr id="3192" name=""/>
              <p:cNvSpPr/>
              <p:nvPr/>
            </p:nvSpPr>
            <p:spPr>
              <a:xfrm>
                <a:off x="497196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00364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4" name=""/>
            <p:cNvSpPr/>
            <p:nvPr/>
          </p:nvSpPr>
          <p:spPr>
            <a:xfrm>
              <a:off x="5135400" y="3778200"/>
              <a:ext cx="1000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478620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23548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V="1">
              <a:off x="523548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60512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9" name=""/>
            <p:cNvGrpSpPr/>
            <p:nvPr/>
          </p:nvGrpSpPr>
          <p:grpSpPr>
            <a:xfrm>
              <a:off x="5178240" y="2122200"/>
              <a:ext cx="109440" cy="530640"/>
              <a:chOff x="5178240" y="2122200"/>
              <a:chExt cx="109440" cy="530640"/>
            </a:xfrm>
          </p:grpSpPr>
          <p:sp>
            <p:nvSpPr>
              <p:cNvPr id="3200" name=""/>
              <p:cNvSpPr/>
              <p:nvPr/>
            </p:nvSpPr>
            <p:spPr>
              <a:xfrm flipV="1">
                <a:off x="523584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17824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2" name=""/>
            <p:cNvSpPr/>
            <p:nvPr/>
          </p:nvSpPr>
          <p:spPr>
            <a:xfrm>
              <a:off x="5351400" y="3465360"/>
              <a:ext cx="33480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41404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53644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31936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378400" y="2514600"/>
              <a:ext cx="572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40352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7804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930640" y="3247920"/>
              <a:ext cx="2840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730920" y="3363840"/>
              <a:ext cx="534960" cy="53676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895800" y="3481200"/>
              <a:ext cx="1800" cy="297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V="1">
              <a:off x="6911640" y="3433680"/>
              <a:ext cx="26532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3" name=""/>
            <p:cNvGrpSpPr/>
            <p:nvPr/>
          </p:nvGrpSpPr>
          <p:grpSpPr>
            <a:xfrm>
              <a:off x="6911640" y="3672000"/>
              <a:ext cx="163440" cy="110880"/>
              <a:chOff x="6911640" y="3672000"/>
              <a:chExt cx="163440" cy="110880"/>
            </a:xfrm>
          </p:grpSpPr>
          <p:sp>
            <p:nvSpPr>
              <p:cNvPr id="3214" name=""/>
              <p:cNvSpPr/>
              <p:nvPr/>
            </p:nvSpPr>
            <p:spPr>
              <a:xfrm>
                <a:off x="6911640" y="3698640"/>
                <a:ext cx="163440" cy="79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943320" y="3672000"/>
                <a:ext cx="13140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0" y="70"/>
                    </a:moveTo>
                    <a:lnTo>
                      <a:pt x="83" y="67"/>
                    </a:lnTo>
                    <a:lnTo>
                      <a:pt x="3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7075080" y="3778200"/>
              <a:ext cx="101880" cy="5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6725880" y="3635280"/>
              <a:ext cx="16992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176960" y="3825720"/>
              <a:ext cx="1440" cy="62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 flipV="1">
              <a:off x="7176960" y="2652840"/>
              <a:ext cx="1440" cy="76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545160" y="3635280"/>
              <a:ext cx="18576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1" name=""/>
            <p:cNvGrpSpPr/>
            <p:nvPr/>
          </p:nvGrpSpPr>
          <p:grpSpPr>
            <a:xfrm>
              <a:off x="7118280" y="2122200"/>
              <a:ext cx="109440" cy="530640"/>
              <a:chOff x="7118280" y="2122200"/>
              <a:chExt cx="109440" cy="530640"/>
            </a:xfrm>
          </p:grpSpPr>
          <p:sp>
            <p:nvSpPr>
              <p:cNvPr id="3222" name=""/>
              <p:cNvSpPr/>
              <p:nvPr/>
            </p:nvSpPr>
            <p:spPr>
              <a:xfrm flipV="1">
                <a:off x="7175880" y="2122200"/>
                <a:ext cx="1080" cy="530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118280" y="2541600"/>
                <a:ext cx="1094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7732440" y="2637000"/>
              <a:ext cx="110880" cy="1576080"/>
              <a:chOff x="7732440" y="2637000"/>
              <a:chExt cx="110880" cy="1576080"/>
            </a:xfrm>
          </p:grpSpPr>
          <p:sp>
            <p:nvSpPr>
              <p:cNvPr id="3225" name=""/>
              <p:cNvSpPr/>
              <p:nvPr/>
            </p:nvSpPr>
            <p:spPr>
              <a:xfrm>
                <a:off x="7784640" y="2637000"/>
                <a:ext cx="6480" cy="157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732440" y="263700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70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7" name=""/>
            <p:cNvSpPr/>
            <p:nvPr/>
          </p:nvSpPr>
          <p:spPr>
            <a:xfrm>
              <a:off x="7291080" y="3465360"/>
              <a:ext cx="33516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3537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476480" y="3612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59400" y="2467080"/>
              <a:ext cx="2016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318080" y="2514600"/>
              <a:ext cx="6778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ź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343560" y="3257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418080" y="336384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70680" y="3247920"/>
              <a:ext cx="28584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929000" y="3295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H="1">
              <a:off x="2766600" y="3637080"/>
              <a:ext cx="3817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3368520" y="441180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213160" y="4405320"/>
              <a:ext cx="7452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135560" y="4398840"/>
              <a:ext cx="73080" cy="698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781760" y="4438800"/>
              <a:ext cx="938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1" name=""/>
            <p:cNvGrpSpPr/>
            <p:nvPr/>
          </p:nvGrpSpPr>
          <p:grpSpPr>
            <a:xfrm>
              <a:off x="3282840" y="4402080"/>
              <a:ext cx="266760" cy="191880"/>
              <a:chOff x="3282840" y="4402080"/>
              <a:chExt cx="266760" cy="191880"/>
            </a:xfrm>
          </p:grpSpPr>
          <p:sp>
            <p:nvSpPr>
              <p:cNvPr id="3242" name=""/>
              <p:cNvSpPr/>
              <p:nvPr/>
            </p:nvSpPr>
            <p:spPr>
              <a:xfrm>
                <a:off x="3282840" y="4562280"/>
                <a:ext cx="26676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V="1">
                <a:off x="3411360" y="4402080"/>
                <a:ext cx="0" cy="17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"/>
          <p:cNvSpPr/>
          <p:nvPr/>
        </p:nvSpPr>
        <p:spPr>
          <a:xfrm>
            <a:off x="295200" y="2124000"/>
            <a:ext cx="3873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5" name=""/>
              <p:cNvSpPr txBox="1"/>
              <p:nvPr/>
            </p:nvSpPr>
            <p:spPr>
              <a:xfrm>
                <a:off x="3170160" y="5270400"/>
                <a:ext cx="2975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ź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6" name=""/>
          <p:cNvSpPr/>
          <p:nvPr/>
        </p:nvSpPr>
        <p:spPr>
          <a:xfrm>
            <a:off x="1015920" y="2332080"/>
            <a:ext cx="17784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104840" y="2146320"/>
            <a:ext cx="1800" cy="20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1104840" y="2798640"/>
            <a:ext cx="1800" cy="23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692280" y="24750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068480" y="2989440"/>
            <a:ext cx="7452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020600" y="3360600"/>
            <a:ext cx="540000" cy="54144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386000" y="3478320"/>
            <a:ext cx="1440" cy="301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H="1" flipV="1">
            <a:off x="1104480" y="3430440"/>
            <a:ext cx="2653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4" name=""/>
          <p:cNvGrpSpPr/>
          <p:nvPr/>
        </p:nvGrpSpPr>
        <p:grpSpPr>
          <a:xfrm>
            <a:off x="1204560" y="3668760"/>
            <a:ext cx="165240" cy="111240"/>
            <a:chOff x="1204560" y="3668760"/>
            <a:chExt cx="165240" cy="111240"/>
          </a:xfrm>
        </p:grpSpPr>
        <p:sp>
          <p:nvSpPr>
            <p:cNvPr id="3255" name=""/>
            <p:cNvSpPr/>
            <p:nvPr/>
          </p:nvSpPr>
          <p:spPr>
            <a:xfrm flipH="1">
              <a:off x="1204560" y="3695760"/>
              <a:ext cx="1652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204920" y="3668760"/>
              <a:ext cx="133560" cy="111240"/>
            </a:xfrm>
            <a:custGeom>
              <a:avLst/>
              <a:gdLst/>
              <a:ahLst/>
              <a:rect l="l" t="t" r="r" b="b"/>
              <a:pathLst>
                <a:path w="84" h="70">
                  <a:moveTo>
                    <a:pt x="47" y="0"/>
                  </a:moveTo>
                  <a:lnTo>
                    <a:pt x="0" y="70"/>
                  </a:lnTo>
                  <a:lnTo>
                    <a:pt x="84" y="7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7" name=""/>
          <p:cNvSpPr/>
          <p:nvPr/>
        </p:nvSpPr>
        <p:spPr>
          <a:xfrm flipH="1">
            <a:off x="1104840" y="3780000"/>
            <a:ext cx="100080" cy="47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1386000" y="3637080"/>
            <a:ext cx="163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1104840" y="3827520"/>
            <a:ext cx="1800" cy="62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 flipV="1">
            <a:off x="1100160" y="3233880"/>
            <a:ext cx="4680" cy="185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 flipH="1">
            <a:off x="1549440" y="3637080"/>
            <a:ext cx="1857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1120680" y="4438800"/>
            <a:ext cx="65502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1741320" y="3578400"/>
            <a:ext cx="1044720" cy="117360"/>
            <a:chOff x="1741320" y="3578400"/>
            <a:chExt cx="1044720" cy="117360"/>
          </a:xfrm>
        </p:grpSpPr>
        <p:sp>
          <p:nvSpPr>
            <p:cNvPr id="3264" name=""/>
            <p:cNvSpPr/>
            <p:nvPr/>
          </p:nvSpPr>
          <p:spPr>
            <a:xfrm>
              <a:off x="1741320" y="3637080"/>
              <a:ext cx="10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1741320" y="3578400"/>
              <a:ext cx="11052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7"/>
                  </a:lnTo>
                  <a:lnTo>
                    <a:pt x="7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673360" y="3583080"/>
              <a:ext cx="11232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1" y="3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7" name=""/>
          <p:cNvSpPr/>
          <p:nvPr/>
        </p:nvSpPr>
        <p:spPr>
          <a:xfrm flipV="1">
            <a:off x="2259000" y="2993760"/>
            <a:ext cx="1440" cy="63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1100160" y="3009960"/>
            <a:ext cx="11588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1041480" y="3005280"/>
            <a:ext cx="110880" cy="264960"/>
            <a:chOff x="1041480" y="3005280"/>
            <a:chExt cx="110880" cy="264960"/>
          </a:xfrm>
        </p:grpSpPr>
        <p:sp>
          <p:nvSpPr>
            <p:cNvPr id="3270" name=""/>
            <p:cNvSpPr/>
            <p:nvPr/>
          </p:nvSpPr>
          <p:spPr>
            <a:xfrm flipV="1">
              <a:off x="1099080" y="300528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041480" y="315936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1041480" y="1870200"/>
            <a:ext cx="110880" cy="264960"/>
            <a:chOff x="1041480" y="1870200"/>
            <a:chExt cx="110880" cy="264960"/>
          </a:xfrm>
        </p:grpSpPr>
        <p:sp>
          <p:nvSpPr>
            <p:cNvPr id="3273" name=""/>
            <p:cNvSpPr/>
            <p:nvPr/>
          </p:nvSpPr>
          <p:spPr>
            <a:xfrm flipV="1">
              <a:off x="1099080" y="1870200"/>
              <a:ext cx="4320" cy="26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041480" y="2024280"/>
              <a:ext cx="110880" cy="11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0"/>
                  </a:moveTo>
                  <a:lnTo>
                    <a:pt x="37" y="70"/>
                  </a:lnTo>
                  <a:lnTo>
                    <a:pt x="7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5" name=""/>
          <p:cNvGrpSpPr/>
          <p:nvPr/>
        </p:nvGrpSpPr>
        <p:grpSpPr>
          <a:xfrm>
            <a:off x="2206800" y="3774960"/>
            <a:ext cx="110880" cy="566640"/>
            <a:chOff x="2206800" y="3774960"/>
            <a:chExt cx="110880" cy="566640"/>
          </a:xfrm>
        </p:grpSpPr>
        <p:sp>
          <p:nvSpPr>
            <p:cNvPr id="3276" name=""/>
            <p:cNvSpPr/>
            <p:nvPr/>
          </p:nvSpPr>
          <p:spPr>
            <a:xfrm>
              <a:off x="2259000" y="3774960"/>
              <a:ext cx="1080" cy="56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06800" y="37749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8" name=""/>
          <p:cNvSpPr/>
          <p:nvPr/>
        </p:nvSpPr>
        <p:spPr>
          <a:xfrm>
            <a:off x="1063800" y="1854360"/>
            <a:ext cx="74520" cy="633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2227320" y="35989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638280" y="3462480"/>
            <a:ext cx="3394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70092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82368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655560" y="1960560"/>
            <a:ext cx="1760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2494080" y="3211560"/>
            <a:ext cx="4032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666800" y="3227400"/>
            <a:ext cx="35568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719360" y="32702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793880" y="33764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39800" y="3063960"/>
            <a:ext cx="30168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781200" y="310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855720" y="321156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2328840" y="3875040"/>
            <a:ext cx="45072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238104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1220760" y="1668600"/>
            <a:ext cx="45072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1252080" y="17096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2960640" y="336060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125880" y="347832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 flipV="1">
            <a:off x="3141720" y="343044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8" name=""/>
          <p:cNvGrpSpPr/>
          <p:nvPr/>
        </p:nvGrpSpPr>
        <p:grpSpPr>
          <a:xfrm>
            <a:off x="3141720" y="3668760"/>
            <a:ext cx="162000" cy="111240"/>
            <a:chOff x="3141720" y="3668760"/>
            <a:chExt cx="162000" cy="111240"/>
          </a:xfrm>
        </p:grpSpPr>
        <p:sp>
          <p:nvSpPr>
            <p:cNvPr id="3299" name=""/>
            <p:cNvSpPr/>
            <p:nvPr/>
          </p:nvSpPr>
          <p:spPr>
            <a:xfrm>
              <a:off x="3141720" y="3695760"/>
              <a:ext cx="162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173400" y="3668760"/>
              <a:ext cx="129960" cy="11124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1" name=""/>
          <p:cNvSpPr/>
          <p:nvPr/>
        </p:nvSpPr>
        <p:spPr>
          <a:xfrm>
            <a:off x="3303720" y="377496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H="1">
            <a:off x="2955960" y="3632040"/>
            <a:ext cx="169920" cy="5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405240" y="3822840"/>
            <a:ext cx="1440" cy="625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3405240" y="264924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5" name=""/>
          <p:cNvGrpSpPr/>
          <p:nvPr/>
        </p:nvGrpSpPr>
        <p:grpSpPr>
          <a:xfrm>
            <a:off x="3346560" y="2118960"/>
            <a:ext cx="110880" cy="530640"/>
            <a:chOff x="3346560" y="2118960"/>
            <a:chExt cx="110880" cy="530640"/>
          </a:xfrm>
        </p:grpSpPr>
        <p:sp>
          <p:nvSpPr>
            <p:cNvPr id="3306" name=""/>
            <p:cNvSpPr/>
            <p:nvPr/>
          </p:nvSpPr>
          <p:spPr>
            <a:xfrm flipV="1">
              <a:off x="3405240" y="2118960"/>
              <a:ext cx="144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346560" y="253836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8" name=""/>
          <p:cNvSpPr/>
          <p:nvPr/>
        </p:nvSpPr>
        <p:spPr>
          <a:xfrm>
            <a:off x="3521160" y="3462480"/>
            <a:ext cx="3348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3583800" y="3503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3706560" y="3610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3489480" y="2463840"/>
            <a:ext cx="2016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548160" y="2511360"/>
            <a:ext cx="799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ź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573280" y="32544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647800" y="336060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541960" y="40244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4100400" y="3244680"/>
            <a:ext cx="28440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479124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4956120" y="3481560"/>
            <a:ext cx="180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 flipV="1">
            <a:off x="4971960" y="3433680"/>
            <a:ext cx="26352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0" name=""/>
          <p:cNvGrpSpPr/>
          <p:nvPr/>
        </p:nvGrpSpPr>
        <p:grpSpPr>
          <a:xfrm>
            <a:off x="4971960" y="3672000"/>
            <a:ext cx="163440" cy="110880"/>
            <a:chOff x="4971960" y="3672000"/>
            <a:chExt cx="163440" cy="110880"/>
          </a:xfrm>
        </p:grpSpPr>
        <p:sp>
          <p:nvSpPr>
            <p:cNvPr id="3321" name=""/>
            <p:cNvSpPr/>
            <p:nvPr/>
          </p:nvSpPr>
          <p:spPr>
            <a:xfrm>
              <a:off x="497196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00364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3" name=""/>
          <p:cNvSpPr/>
          <p:nvPr/>
        </p:nvSpPr>
        <p:spPr>
          <a:xfrm>
            <a:off x="5135400" y="3778200"/>
            <a:ext cx="10008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 flipH="1">
            <a:off x="478620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23548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 flipV="1">
            <a:off x="523548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60548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8" name=""/>
          <p:cNvGrpSpPr/>
          <p:nvPr/>
        </p:nvGrpSpPr>
        <p:grpSpPr>
          <a:xfrm>
            <a:off x="5178600" y="2122200"/>
            <a:ext cx="109440" cy="530640"/>
            <a:chOff x="5178600" y="2122200"/>
            <a:chExt cx="109440" cy="530640"/>
          </a:xfrm>
        </p:grpSpPr>
        <p:sp>
          <p:nvSpPr>
            <p:cNvPr id="3329" name=""/>
            <p:cNvSpPr/>
            <p:nvPr/>
          </p:nvSpPr>
          <p:spPr>
            <a:xfrm flipV="1">
              <a:off x="523620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17860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1" name=""/>
          <p:cNvSpPr/>
          <p:nvPr/>
        </p:nvSpPr>
        <p:spPr>
          <a:xfrm>
            <a:off x="5351400" y="3465360"/>
            <a:ext cx="33516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541404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53680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531972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5378400" y="2514600"/>
            <a:ext cx="5731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440388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447840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5931000" y="3247920"/>
            <a:ext cx="2840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6730920" y="3363840"/>
            <a:ext cx="534960" cy="53676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6896160" y="3481560"/>
            <a:ext cx="1440" cy="2966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 flipV="1">
            <a:off x="6912000" y="3433680"/>
            <a:ext cx="264960" cy="115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2" name=""/>
          <p:cNvGrpSpPr/>
          <p:nvPr/>
        </p:nvGrpSpPr>
        <p:grpSpPr>
          <a:xfrm>
            <a:off x="6912000" y="3672000"/>
            <a:ext cx="163440" cy="110880"/>
            <a:chOff x="6912000" y="3672000"/>
            <a:chExt cx="163440" cy="110880"/>
          </a:xfrm>
        </p:grpSpPr>
        <p:sp>
          <p:nvSpPr>
            <p:cNvPr id="3343" name=""/>
            <p:cNvSpPr/>
            <p:nvPr/>
          </p:nvSpPr>
          <p:spPr>
            <a:xfrm>
              <a:off x="6912000" y="3698640"/>
              <a:ext cx="16344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943680" y="3672000"/>
              <a:ext cx="131400" cy="110880"/>
            </a:xfrm>
            <a:custGeom>
              <a:avLst/>
              <a:gdLst/>
              <a:ahLst/>
              <a:rect l="l" t="t" r="r" b="b"/>
              <a:pathLst>
                <a:path w="83" h="70">
                  <a:moveTo>
                    <a:pt x="0" y="70"/>
                  </a:moveTo>
                  <a:lnTo>
                    <a:pt x="83" y="67"/>
                  </a:lnTo>
                  <a:lnTo>
                    <a:pt x="33" y="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5" name=""/>
          <p:cNvSpPr/>
          <p:nvPr/>
        </p:nvSpPr>
        <p:spPr>
          <a:xfrm>
            <a:off x="7075440" y="3778200"/>
            <a:ext cx="101520" cy="52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H="1">
            <a:off x="6726240" y="3635280"/>
            <a:ext cx="16992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7176960" y="3825720"/>
            <a:ext cx="1800" cy="62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 flipV="1">
            <a:off x="7176960" y="2652840"/>
            <a:ext cx="1800" cy="769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6545160" y="3635280"/>
            <a:ext cx="1857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0" name=""/>
          <p:cNvGrpSpPr/>
          <p:nvPr/>
        </p:nvGrpSpPr>
        <p:grpSpPr>
          <a:xfrm>
            <a:off x="7118280" y="2122200"/>
            <a:ext cx="109440" cy="530640"/>
            <a:chOff x="7118280" y="2122200"/>
            <a:chExt cx="109440" cy="530640"/>
          </a:xfrm>
        </p:grpSpPr>
        <p:sp>
          <p:nvSpPr>
            <p:cNvPr id="3351" name=""/>
            <p:cNvSpPr/>
            <p:nvPr/>
          </p:nvSpPr>
          <p:spPr>
            <a:xfrm flipV="1">
              <a:off x="7175880" y="2122200"/>
              <a:ext cx="1080" cy="53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118280" y="2541600"/>
              <a:ext cx="1094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37" y="70"/>
                  </a:lnTo>
                  <a:lnTo>
                    <a:pt x="7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7732800" y="2637000"/>
            <a:ext cx="110880" cy="1576080"/>
            <a:chOff x="7732800" y="2637000"/>
            <a:chExt cx="110880" cy="1576080"/>
          </a:xfrm>
        </p:grpSpPr>
        <p:sp>
          <p:nvSpPr>
            <p:cNvPr id="3354" name=""/>
            <p:cNvSpPr/>
            <p:nvPr/>
          </p:nvSpPr>
          <p:spPr>
            <a:xfrm>
              <a:off x="7785000" y="2637000"/>
              <a:ext cx="6480" cy="157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7732800" y="263700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6" name=""/>
          <p:cNvSpPr/>
          <p:nvPr/>
        </p:nvSpPr>
        <p:spPr>
          <a:xfrm>
            <a:off x="7291440" y="3465360"/>
            <a:ext cx="334800" cy="3398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7354080" y="350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7476840" y="36133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259760" y="2467080"/>
            <a:ext cx="201600" cy="33948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7318440" y="2514600"/>
            <a:ext cx="67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ź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6343560" y="325764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6418440" y="336384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870680" y="3247920"/>
            <a:ext cx="28584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7929360" y="3295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2766960" y="3637080"/>
            <a:ext cx="381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3368520" y="4411800"/>
            <a:ext cx="748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213520" y="4405320"/>
            <a:ext cx="7452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7135920" y="4398840"/>
            <a:ext cx="73080" cy="698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7781760" y="4438800"/>
            <a:ext cx="938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0" name=""/>
          <p:cNvGrpSpPr/>
          <p:nvPr/>
        </p:nvGrpSpPr>
        <p:grpSpPr>
          <a:xfrm>
            <a:off x="3282840" y="4402080"/>
            <a:ext cx="266760" cy="191880"/>
            <a:chOff x="3282840" y="4402080"/>
            <a:chExt cx="266760" cy="191880"/>
          </a:xfrm>
        </p:grpSpPr>
        <p:sp>
          <p:nvSpPr>
            <p:cNvPr id="3371" name=""/>
            <p:cNvSpPr/>
            <p:nvPr/>
          </p:nvSpPr>
          <p:spPr>
            <a:xfrm>
              <a:off x="3282840" y="4562280"/>
              <a:ext cx="26676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3411360" y="44020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3" name=""/>
          <p:cNvSpPr/>
          <p:nvPr/>
        </p:nvSpPr>
        <p:spPr>
          <a:xfrm>
            <a:off x="5172120" y="397044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7118280" y="3962520"/>
            <a:ext cx="135000" cy="358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5566320" y="38908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6528240" y="3865680"/>
            <a:ext cx="5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6205320" y="3878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736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o wymuszające kilka różnych prąd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233280" y="1300320"/>
            <a:ext cx="3992760" cy="3395520"/>
            <a:chOff x="233280" y="1300320"/>
            <a:chExt cx="3992760" cy="3395520"/>
          </a:xfrm>
        </p:grpSpPr>
        <p:sp>
          <p:nvSpPr>
            <p:cNvPr id="3381" name=""/>
            <p:cNvSpPr/>
            <p:nvPr/>
          </p:nvSpPr>
          <p:spPr>
            <a:xfrm>
              <a:off x="893880" y="4284720"/>
              <a:ext cx="24588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100080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85912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96892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02976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695680" y="3983040"/>
              <a:ext cx="17280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776680" y="3462480"/>
              <a:ext cx="46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776680" y="4448160"/>
              <a:ext cx="4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92572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04092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16440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34792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505240" y="2749680"/>
              <a:ext cx="144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flipV="1">
              <a:off x="2521080" y="2703600"/>
              <a:ext cx="26028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5" name=""/>
            <p:cNvGrpSpPr/>
            <p:nvPr/>
          </p:nvGrpSpPr>
          <p:grpSpPr>
            <a:xfrm>
              <a:off x="2521080" y="2944800"/>
              <a:ext cx="163440" cy="111240"/>
              <a:chOff x="2521080" y="2944800"/>
              <a:chExt cx="163440" cy="111240"/>
            </a:xfrm>
          </p:grpSpPr>
          <p:sp>
            <p:nvSpPr>
              <p:cNvPr id="3396" name=""/>
              <p:cNvSpPr/>
              <p:nvPr/>
            </p:nvSpPr>
            <p:spPr>
              <a:xfrm>
                <a:off x="2521080" y="2967120"/>
                <a:ext cx="16344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255744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268452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>
              <a:off x="2347560" y="2908440"/>
              <a:ext cx="1573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0" name=""/>
            <p:cNvGrpSpPr/>
            <p:nvPr/>
          </p:nvGrpSpPr>
          <p:grpSpPr>
            <a:xfrm>
              <a:off x="2725560" y="3098880"/>
              <a:ext cx="108000" cy="379440"/>
              <a:chOff x="2725560" y="3098880"/>
              <a:chExt cx="108000" cy="379440"/>
            </a:xfrm>
          </p:grpSpPr>
          <p:sp>
            <p:nvSpPr>
              <p:cNvPr id="3401" name=""/>
              <p:cNvSpPr/>
              <p:nvPr/>
            </p:nvSpPr>
            <p:spPr>
              <a:xfrm>
                <a:off x="2776680" y="3098880"/>
                <a:ext cx="468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272556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3" name=""/>
            <p:cNvSpPr/>
            <p:nvPr/>
          </p:nvSpPr>
          <p:spPr>
            <a:xfrm flipV="1">
              <a:off x="278136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1994040" y="2903400"/>
              <a:ext cx="358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74176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117468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1257480" y="315612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1257480" y="3803760"/>
              <a:ext cx="14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405080" y="344016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53576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165924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68920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776680" y="1511280"/>
              <a:ext cx="1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776680" y="2154240"/>
              <a:ext cx="14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92572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04092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16296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17468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125748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25748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1405080" y="1959120"/>
              <a:ext cx="37440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153576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165924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4" name=""/>
            <p:cNvGrpSpPr/>
            <p:nvPr/>
          </p:nvGrpSpPr>
          <p:grpSpPr>
            <a:xfrm>
              <a:off x="2720880" y="2333520"/>
              <a:ext cx="108000" cy="200160"/>
              <a:chOff x="2720880" y="2333520"/>
              <a:chExt cx="108000" cy="200160"/>
            </a:xfrm>
          </p:grpSpPr>
          <p:sp>
            <p:nvSpPr>
              <p:cNvPr id="3425" name=""/>
              <p:cNvSpPr/>
              <p:nvPr/>
            </p:nvSpPr>
            <p:spPr>
              <a:xfrm>
                <a:off x="2776680" y="233352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272088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7" name=""/>
            <p:cNvSpPr/>
            <p:nvPr/>
          </p:nvSpPr>
          <p:spPr>
            <a:xfrm>
              <a:off x="1257480" y="1500120"/>
              <a:ext cx="2209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257480" y="4664160"/>
              <a:ext cx="220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23192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74176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25748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52908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67704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96360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5" name=""/>
            <p:cNvGrpSpPr/>
            <p:nvPr/>
          </p:nvGrpSpPr>
          <p:grpSpPr>
            <a:xfrm>
              <a:off x="1257480" y="2849400"/>
              <a:ext cx="736560" cy="111240"/>
              <a:chOff x="1257480" y="2849400"/>
              <a:chExt cx="736560" cy="111240"/>
            </a:xfrm>
          </p:grpSpPr>
          <p:sp>
            <p:nvSpPr>
              <p:cNvPr id="3436" name=""/>
              <p:cNvSpPr/>
              <p:nvPr/>
            </p:nvSpPr>
            <p:spPr>
              <a:xfrm>
                <a:off x="125748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188604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8" name=""/>
            <p:cNvSpPr/>
            <p:nvPr/>
          </p:nvSpPr>
          <p:spPr>
            <a:xfrm>
              <a:off x="180504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91952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98180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85912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97360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03588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14444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16064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1257480" y="443232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16064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14444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16064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1257480" y="4021200"/>
              <a:ext cx="1267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16064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2" name=""/>
            <p:cNvGrpSpPr/>
            <p:nvPr/>
          </p:nvGrpSpPr>
          <p:grpSpPr>
            <a:xfrm>
              <a:off x="1200240" y="2944800"/>
              <a:ext cx="108000" cy="200160"/>
              <a:chOff x="1200240" y="2944800"/>
              <a:chExt cx="108000" cy="200160"/>
            </a:xfrm>
          </p:grpSpPr>
          <p:sp>
            <p:nvSpPr>
              <p:cNvPr id="3453" name=""/>
              <p:cNvSpPr/>
              <p:nvPr/>
            </p:nvSpPr>
            <p:spPr>
              <a:xfrm>
                <a:off x="125748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120024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5" name=""/>
            <p:cNvGrpSpPr/>
            <p:nvPr/>
          </p:nvGrpSpPr>
          <p:grpSpPr>
            <a:xfrm>
              <a:off x="1252440" y="4030560"/>
              <a:ext cx="14400" cy="559080"/>
              <a:chOff x="1252440" y="4030560"/>
              <a:chExt cx="14400" cy="559080"/>
            </a:xfrm>
          </p:grpSpPr>
          <p:sp>
            <p:nvSpPr>
              <p:cNvPr id="3456" name=""/>
              <p:cNvSpPr/>
              <p:nvPr/>
            </p:nvSpPr>
            <p:spPr>
              <a:xfrm>
                <a:off x="1252440" y="40305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1252440" y="4052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1252440" y="4073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1252440" y="4094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1252440" y="41148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1252440" y="4137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1252440" y="4157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1252440" y="41781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1252440" y="41990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1252440" y="42210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252440" y="42418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1252440" y="426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1252440" y="4284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1252440" y="4305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1257480" y="43257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1257480" y="4346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1257480" y="436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1257480" y="4389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1257480" y="4410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1257480" y="443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1257480" y="4452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1257480" y="447372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1257480" y="449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1257480" y="4516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1257480" y="4537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1257480" y="4557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1257480" y="4579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3" name=""/>
            <p:cNvGrpSpPr/>
            <p:nvPr/>
          </p:nvGrpSpPr>
          <p:grpSpPr>
            <a:xfrm>
              <a:off x="1206360" y="2333520"/>
              <a:ext cx="106560" cy="322200"/>
              <a:chOff x="1206360" y="2333520"/>
              <a:chExt cx="106560" cy="322200"/>
            </a:xfrm>
          </p:grpSpPr>
          <p:sp>
            <p:nvSpPr>
              <p:cNvPr id="3484" name=""/>
              <p:cNvSpPr/>
              <p:nvPr/>
            </p:nvSpPr>
            <p:spPr>
              <a:xfrm>
                <a:off x="125748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120636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6" name=""/>
            <p:cNvSpPr/>
            <p:nvPr/>
          </p:nvSpPr>
          <p:spPr>
            <a:xfrm>
              <a:off x="89388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01304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07640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9388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101304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07640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2" name=""/>
            <p:cNvGrpSpPr/>
            <p:nvPr/>
          </p:nvGrpSpPr>
          <p:grpSpPr>
            <a:xfrm>
              <a:off x="1384200" y="4394160"/>
              <a:ext cx="108000" cy="201600"/>
              <a:chOff x="1384200" y="4394160"/>
              <a:chExt cx="108000" cy="201600"/>
            </a:xfrm>
          </p:grpSpPr>
          <p:sp>
            <p:nvSpPr>
              <p:cNvPr id="3493" name=""/>
              <p:cNvSpPr/>
              <p:nvPr/>
            </p:nvSpPr>
            <p:spPr>
              <a:xfrm flipV="1">
                <a:off x="1436760" y="439416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38420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5" name=""/>
            <p:cNvGrpSpPr/>
            <p:nvPr/>
          </p:nvGrpSpPr>
          <p:grpSpPr>
            <a:xfrm>
              <a:off x="1384200" y="3983040"/>
              <a:ext cx="108000" cy="201600"/>
              <a:chOff x="1384200" y="3983040"/>
              <a:chExt cx="108000" cy="201600"/>
            </a:xfrm>
          </p:grpSpPr>
          <p:sp>
            <p:nvSpPr>
              <p:cNvPr id="3496" name=""/>
              <p:cNvSpPr/>
              <p:nvPr/>
            </p:nvSpPr>
            <p:spPr>
              <a:xfrm flipV="1">
                <a:off x="1436760" y="3983040"/>
                <a:ext cx="144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38420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8" name=""/>
            <p:cNvGrpSpPr/>
            <p:nvPr/>
          </p:nvGrpSpPr>
          <p:grpSpPr>
            <a:xfrm>
              <a:off x="792000" y="3935520"/>
              <a:ext cx="106560" cy="712800"/>
              <a:chOff x="792000" y="3935520"/>
              <a:chExt cx="106560" cy="712800"/>
            </a:xfrm>
          </p:grpSpPr>
          <p:sp>
            <p:nvSpPr>
              <p:cNvPr id="3499" name=""/>
              <p:cNvSpPr/>
              <p:nvPr/>
            </p:nvSpPr>
            <p:spPr>
              <a:xfrm flipV="1">
                <a:off x="843120" y="3935520"/>
                <a:ext cx="144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200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1" name=""/>
            <p:cNvSpPr/>
            <p:nvPr/>
          </p:nvSpPr>
          <p:spPr>
            <a:xfrm>
              <a:off x="233280" y="4137120"/>
              <a:ext cx="55260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2436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2100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533600" y="4300560"/>
              <a:ext cx="35856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162360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176688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51272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60776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5104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92376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0105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3352680" y="1981080"/>
            <a:ext cx="138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60000" y="5146560"/>
            <a:ext cx="358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zmian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skie i średnie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042160" y="5181480"/>
            <a:ext cx="3243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mpensacja wpływu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yższe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523880" y="3086280"/>
            <a:ext cx="1105200" cy="1511280"/>
          </a:xfrm>
          <a:custGeom>
            <a:avLst/>
            <a:gdLst/>
            <a:ahLst/>
            <a:rect l="l" t="t" r="r" b="b"/>
            <a:pathLst>
              <a:path w="696" h="952">
                <a:moveTo>
                  <a:pt x="0" y="120"/>
                </a:moveTo>
                <a:cubicBezTo>
                  <a:pt x="140" y="60"/>
                  <a:pt x="280" y="0"/>
                  <a:pt x="384" y="24"/>
                </a:cubicBezTo>
                <a:cubicBezTo>
                  <a:pt x="488" y="48"/>
                  <a:pt x="576" y="152"/>
                  <a:pt x="624" y="264"/>
                </a:cubicBezTo>
                <a:cubicBezTo>
                  <a:pt x="672" y="376"/>
                  <a:pt x="696" y="592"/>
                  <a:pt x="672" y="696"/>
                </a:cubicBezTo>
                <a:cubicBezTo>
                  <a:pt x="648" y="800"/>
                  <a:pt x="560" y="856"/>
                  <a:pt x="480" y="888"/>
                </a:cubicBezTo>
                <a:cubicBezTo>
                  <a:pt x="400" y="920"/>
                  <a:pt x="272" y="952"/>
                  <a:pt x="192" y="888"/>
                </a:cubicBezTo>
                <a:cubicBezTo>
                  <a:pt x="112" y="824"/>
                  <a:pt x="56" y="664"/>
                  <a:pt x="0" y="504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3125520" y="3429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17400" y="2892600"/>
            <a:ext cx="565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8" name=""/>
          <p:cNvGrpSpPr/>
          <p:nvPr/>
        </p:nvGrpSpPr>
        <p:grpSpPr>
          <a:xfrm>
            <a:off x="4424400" y="1300320"/>
            <a:ext cx="3992400" cy="3395520"/>
            <a:chOff x="4424400" y="1300320"/>
            <a:chExt cx="3992400" cy="3395520"/>
          </a:xfrm>
        </p:grpSpPr>
        <p:sp>
          <p:nvSpPr>
            <p:cNvPr id="3519" name=""/>
            <p:cNvSpPr/>
            <p:nvPr/>
          </p:nvSpPr>
          <p:spPr>
            <a:xfrm>
              <a:off x="5084640" y="4284720"/>
              <a:ext cx="2462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141160" y="43210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050240" y="22924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16480" y="23288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88120" y="243360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886440" y="3983040"/>
              <a:ext cx="17316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6967440" y="3462480"/>
              <a:ext cx="504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967440" y="4448160"/>
              <a:ext cx="504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16840" y="4083120"/>
              <a:ext cx="3729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7400" y="4125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321680" y="42307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539040" y="2639880"/>
              <a:ext cx="515880" cy="532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696000" y="2749680"/>
              <a:ext cx="1800" cy="301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V="1">
              <a:off x="6711840" y="2703600"/>
              <a:ext cx="260640" cy="115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3" name=""/>
            <p:cNvGrpSpPr/>
            <p:nvPr/>
          </p:nvGrpSpPr>
          <p:grpSpPr>
            <a:xfrm>
              <a:off x="6711840" y="2944800"/>
              <a:ext cx="163800" cy="111240"/>
              <a:chOff x="6711840" y="2944800"/>
              <a:chExt cx="163800" cy="111240"/>
            </a:xfrm>
          </p:grpSpPr>
          <p:sp>
            <p:nvSpPr>
              <p:cNvPr id="3534" name=""/>
              <p:cNvSpPr/>
              <p:nvPr/>
            </p:nvSpPr>
            <p:spPr>
              <a:xfrm>
                <a:off x="6711840" y="2967120"/>
                <a:ext cx="163800" cy="83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748560" y="29448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0" y="70"/>
                    </a:moveTo>
                    <a:lnTo>
                      <a:pt x="80" y="67"/>
                    </a:lnTo>
                    <a:lnTo>
                      <a:pt x="3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6" name=""/>
            <p:cNvSpPr/>
            <p:nvPr/>
          </p:nvSpPr>
          <p:spPr>
            <a:xfrm>
              <a:off x="6875640" y="3051000"/>
              <a:ext cx="96840" cy="47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6539040" y="2908440"/>
              <a:ext cx="1569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916680" y="3098880"/>
              <a:ext cx="108000" cy="379440"/>
              <a:chOff x="6916680" y="3098880"/>
              <a:chExt cx="108000" cy="379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967440" y="3098880"/>
                <a:ext cx="504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916680" y="336708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0"/>
                    </a:moveTo>
                    <a:lnTo>
                      <a:pt x="35" y="70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1" name=""/>
            <p:cNvSpPr/>
            <p:nvPr/>
          </p:nvSpPr>
          <p:spPr>
            <a:xfrm flipV="1">
              <a:off x="6972480" y="25081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184800" y="2903400"/>
              <a:ext cx="3589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932520" y="1469880"/>
              <a:ext cx="666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365800" y="3340080"/>
              <a:ext cx="17460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448240" y="3156120"/>
              <a:ext cx="180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5448240" y="3803760"/>
              <a:ext cx="18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595840" y="344016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682600" y="34830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816160" y="3587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880320" y="1690560"/>
              <a:ext cx="179280" cy="474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967440" y="1511280"/>
              <a:ext cx="18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967440" y="215424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116840" y="1790640"/>
              <a:ext cx="372960" cy="3430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187400" y="18381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321680" y="19432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365800" y="1859040"/>
              <a:ext cx="174600" cy="474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448240" y="1515960"/>
              <a:ext cx="4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448240" y="2655720"/>
              <a:ext cx="468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595840" y="1959120"/>
              <a:ext cx="3747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682600" y="20019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816160" y="2106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2" name=""/>
            <p:cNvGrpSpPr/>
            <p:nvPr/>
          </p:nvGrpSpPr>
          <p:grpSpPr>
            <a:xfrm>
              <a:off x="6912000" y="2333520"/>
              <a:ext cx="108000" cy="200160"/>
              <a:chOff x="6912000" y="2333520"/>
              <a:chExt cx="108000" cy="200160"/>
            </a:xfrm>
          </p:grpSpPr>
          <p:sp>
            <p:nvSpPr>
              <p:cNvPr id="3563" name=""/>
              <p:cNvSpPr/>
              <p:nvPr/>
            </p:nvSpPr>
            <p:spPr>
              <a:xfrm>
                <a:off x="6967440" y="2333520"/>
                <a:ext cx="504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6912000" y="24242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8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5" name=""/>
            <p:cNvSpPr/>
            <p:nvPr/>
          </p:nvSpPr>
          <p:spPr>
            <a:xfrm>
              <a:off x="5448240" y="1500120"/>
              <a:ext cx="2210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448240" y="4664160"/>
              <a:ext cx="221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423040" y="2876400"/>
              <a:ext cx="7128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932520" y="463248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448240" y="4579920"/>
              <a:ext cx="468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719840" y="1300320"/>
              <a:ext cx="69696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22080" y="1343160"/>
              <a:ext cx="30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+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120520" y="1447920"/>
              <a:ext cx="18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5448240" y="2849400"/>
              <a:ext cx="736560" cy="111240"/>
              <a:chOff x="5448240" y="2849400"/>
              <a:chExt cx="736560" cy="111240"/>
            </a:xfrm>
          </p:grpSpPr>
          <p:sp>
            <p:nvSpPr>
              <p:cNvPr id="3574" name=""/>
              <p:cNvSpPr/>
              <p:nvPr/>
            </p:nvSpPr>
            <p:spPr>
              <a:xfrm>
                <a:off x="5448240" y="2903400"/>
                <a:ext cx="736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6076800" y="284940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0" y="70"/>
                    </a:moveTo>
                    <a:lnTo>
                      <a:pt x="68" y="3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>
              <a:off x="5996160" y="2454120"/>
              <a:ext cx="306360" cy="37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067080" y="249228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138720" y="25970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050240" y="3314880"/>
              <a:ext cx="3110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7121160" y="33512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7192800" y="34560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335560" y="444816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351400" y="446400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V="1">
              <a:off x="5448240" y="443232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5351400" y="45799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335560" y="403704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351400" y="405288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V="1">
              <a:off x="5448240" y="4021200"/>
              <a:ext cx="12708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351400" y="416880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0" name=""/>
            <p:cNvGrpSpPr/>
            <p:nvPr/>
          </p:nvGrpSpPr>
          <p:grpSpPr>
            <a:xfrm>
              <a:off x="5391000" y="2944800"/>
              <a:ext cx="108000" cy="200160"/>
              <a:chOff x="5391000" y="2944800"/>
              <a:chExt cx="108000" cy="200160"/>
            </a:xfrm>
          </p:grpSpPr>
          <p:sp>
            <p:nvSpPr>
              <p:cNvPr id="3591" name=""/>
              <p:cNvSpPr/>
              <p:nvPr/>
            </p:nvSpPr>
            <p:spPr>
              <a:xfrm>
                <a:off x="5448240" y="2944800"/>
                <a:ext cx="4680" cy="20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391000" y="3035160"/>
                <a:ext cx="108000" cy="109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3"/>
                    </a:moveTo>
                    <a:lnTo>
                      <a:pt x="39" y="6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3" name=""/>
            <p:cNvGrpSpPr/>
            <p:nvPr/>
          </p:nvGrpSpPr>
          <p:grpSpPr>
            <a:xfrm>
              <a:off x="5397480" y="2333520"/>
              <a:ext cx="106560" cy="322200"/>
              <a:chOff x="5397480" y="2333520"/>
              <a:chExt cx="106560" cy="322200"/>
            </a:xfrm>
          </p:grpSpPr>
          <p:sp>
            <p:nvSpPr>
              <p:cNvPr id="3594" name=""/>
              <p:cNvSpPr/>
              <p:nvPr/>
            </p:nvSpPr>
            <p:spPr>
              <a:xfrm>
                <a:off x="5448240" y="2333520"/>
                <a:ext cx="468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397480" y="254484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0" y="0"/>
                    </a:moveTo>
                    <a:lnTo>
                      <a:pt x="35" y="70"/>
                    </a:ln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6" name=""/>
            <p:cNvSpPr/>
            <p:nvPr/>
          </p:nvSpPr>
          <p:spPr>
            <a:xfrm>
              <a:off x="5084640" y="242424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5160600" y="246060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233680" y="2565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5084640" y="2951280"/>
              <a:ext cx="30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160600" y="298764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233680" y="3092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5575320" y="4394160"/>
              <a:ext cx="108000" cy="201600"/>
              <a:chOff x="5575320" y="4394160"/>
              <a:chExt cx="108000" cy="201600"/>
            </a:xfrm>
          </p:grpSpPr>
          <p:sp>
            <p:nvSpPr>
              <p:cNvPr id="3603" name=""/>
              <p:cNvSpPr/>
              <p:nvPr/>
            </p:nvSpPr>
            <p:spPr>
              <a:xfrm flipV="1">
                <a:off x="5627520" y="439416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575320" y="439416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5575320" y="3983040"/>
              <a:ext cx="108000" cy="201600"/>
              <a:chOff x="5575320" y="3983040"/>
              <a:chExt cx="108000" cy="201600"/>
            </a:xfrm>
          </p:grpSpPr>
          <p:sp>
            <p:nvSpPr>
              <p:cNvPr id="3606" name=""/>
              <p:cNvSpPr/>
              <p:nvPr/>
            </p:nvSpPr>
            <p:spPr>
              <a:xfrm flipV="1">
                <a:off x="5627520" y="3983040"/>
                <a:ext cx="18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575320" y="3983040"/>
                <a:ext cx="108000" cy="11124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68" y="70"/>
                    </a:moveTo>
                    <a:lnTo>
                      <a:pt x="33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4983120" y="3935520"/>
              <a:ext cx="106560" cy="712800"/>
              <a:chOff x="4983120" y="3935520"/>
              <a:chExt cx="106560" cy="712800"/>
            </a:xfrm>
          </p:grpSpPr>
          <p:sp>
            <p:nvSpPr>
              <p:cNvPr id="3609" name=""/>
              <p:cNvSpPr/>
              <p:nvPr/>
            </p:nvSpPr>
            <p:spPr>
              <a:xfrm flipV="1">
                <a:off x="5033880" y="3935520"/>
                <a:ext cx="1800" cy="71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983120" y="3935520"/>
                <a:ext cx="106560" cy="11088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70"/>
                    </a:moveTo>
                    <a:lnTo>
                      <a:pt x="32" y="0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1" name=""/>
            <p:cNvSpPr/>
            <p:nvPr/>
          </p:nvSpPr>
          <p:spPr>
            <a:xfrm>
              <a:off x="4424400" y="4137120"/>
              <a:ext cx="5522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515480" y="4173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700" spc="-1" strike="noStrike">
                  <a:solidFill>
                    <a:srgbClr val="000000"/>
                  </a:solidFill>
                  <a:latin typeface="Times New Roman"/>
                </a:rPr>
                <a:t>n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778280" y="42782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724360" y="430056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5769360" y="43369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5924520" y="4441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5703840" y="3905280"/>
              <a:ext cx="35892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753520" y="3941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5908680" y="4046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114880" y="3921120"/>
              <a:ext cx="20016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155920" y="39574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168960" y="4268880"/>
              <a:ext cx="204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V="1">
              <a:off x="6184800" y="4152960"/>
              <a:ext cx="9684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281640" y="4152960"/>
              <a:ext cx="128520" cy="131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184800" y="4137120"/>
              <a:ext cx="20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flipV="1">
              <a:off x="6281640" y="2903040"/>
              <a:ext cx="1800" cy="123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281640" y="4268880"/>
              <a:ext cx="1800" cy="3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256440" y="2881440"/>
              <a:ext cx="71280" cy="6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256440" y="4616280"/>
              <a:ext cx="7128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072120" y="3610080"/>
              <a:ext cx="8240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317280" y="36464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472080" y="37512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083280" y="1752480"/>
              <a:ext cx="749160" cy="2667240"/>
            </a:xfrm>
            <a:custGeom>
              <a:avLst/>
              <a:gdLst/>
              <a:ahLst/>
              <a:rect l="l" t="t" r="r" b="b"/>
              <a:pathLst>
                <a:path w="472" h="1680">
                  <a:moveTo>
                    <a:pt x="440" y="0"/>
                  </a:moveTo>
                  <a:cubicBezTo>
                    <a:pt x="456" y="172"/>
                    <a:pt x="472" y="344"/>
                    <a:pt x="440" y="432"/>
                  </a:cubicBezTo>
                  <a:cubicBezTo>
                    <a:pt x="408" y="520"/>
                    <a:pt x="312" y="488"/>
                    <a:pt x="248" y="528"/>
                  </a:cubicBezTo>
                  <a:cubicBezTo>
                    <a:pt x="184" y="568"/>
                    <a:pt x="96" y="568"/>
                    <a:pt x="56" y="672"/>
                  </a:cubicBezTo>
                  <a:cubicBezTo>
                    <a:pt x="16" y="776"/>
                    <a:pt x="16" y="984"/>
                    <a:pt x="8" y="1152"/>
                  </a:cubicBezTo>
                  <a:cubicBezTo>
                    <a:pt x="0" y="1320"/>
                    <a:pt x="4" y="1500"/>
                    <a:pt x="8" y="168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172920" y="1946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816440" y="29098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448240" y="41623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795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wpływ temperatury na prąd kole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8" name=""/>
          <p:cNvGrpSpPr/>
          <p:nvPr/>
        </p:nvGrpSpPr>
        <p:grpSpPr>
          <a:xfrm>
            <a:off x="0" y="1162080"/>
            <a:ext cx="9144000" cy="5441760"/>
            <a:chOff x="0" y="1162080"/>
            <a:chExt cx="9144000" cy="5441760"/>
          </a:xfrm>
        </p:grpSpPr>
        <p:pic>
          <p:nvPicPr>
            <p:cNvPr id="3639" name="" descr=""/>
            <p:cNvPicPr/>
            <p:nvPr/>
          </p:nvPicPr>
          <p:blipFill>
            <a:blip r:embed="rId1">
              <a:lum contrast="58000"/>
            </a:blip>
            <a:stretch/>
          </p:blipFill>
          <p:spPr>
            <a:xfrm>
              <a:off x="0" y="1162080"/>
              <a:ext cx="9144000" cy="54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0" name=""/>
            <p:cNvSpPr/>
            <p:nvPr/>
          </p:nvSpPr>
          <p:spPr>
            <a:xfrm flipV="1">
              <a:off x="819000" y="3133800"/>
              <a:ext cx="832500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1" name="Clipboard01" descr=""/>
          <p:cNvPicPr/>
          <p:nvPr/>
        </p:nvPicPr>
        <p:blipFill>
          <a:blip r:embed="rId1"/>
          <a:stretch/>
        </p:blipFill>
        <p:spPr>
          <a:xfrm>
            <a:off x="0" y="1011240"/>
            <a:ext cx="9144000" cy="5440320"/>
          </a:xfrm>
          <a:prstGeom prst="rect">
            <a:avLst/>
          </a:prstGeom>
          <a:ln w="0">
            <a:noFill/>
          </a:ln>
        </p:spPr>
      </p:pic>
      <p:sp>
        <p:nvSpPr>
          <p:cNvPr id="3642" name=""/>
          <p:cNvSpPr/>
          <p:nvPr/>
        </p:nvSpPr>
        <p:spPr>
          <a:xfrm>
            <a:off x="3225960" y="5289480"/>
            <a:ext cx="1231920" cy="662040"/>
          </a:xfrm>
          <a:prstGeom prst="wedgeRoundRectCallout">
            <a:avLst>
              <a:gd name="adj1" fmla="val 185310"/>
              <a:gd name="adj2" fmla="val -91245"/>
              <a:gd name="adj3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10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3" name="Clipboard04" descr=""/>
          <p:cNvPicPr/>
          <p:nvPr/>
        </p:nvPicPr>
        <p:blipFill>
          <a:blip r:embed="rId2"/>
          <a:stretch/>
        </p:blipFill>
        <p:spPr>
          <a:xfrm>
            <a:off x="5986440" y="0"/>
            <a:ext cx="3157560" cy="2695680"/>
          </a:xfrm>
          <a:prstGeom prst="rect">
            <a:avLst/>
          </a:prstGeom>
          <a:ln w="0">
            <a:noFill/>
          </a:ln>
        </p:spPr>
      </p:pic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ływ prądu kolektora na wzmocnienie - składowa zm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6" name="Clipboard01" descr=""/>
          <p:cNvPicPr/>
          <p:nvPr/>
        </p:nvPicPr>
        <p:blipFill>
          <a:blip r:embed="rId1"/>
          <a:stretch/>
        </p:blipFill>
        <p:spPr>
          <a:xfrm>
            <a:off x="0" y="1162080"/>
            <a:ext cx="914400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"/>
          <p:cNvSpPr/>
          <p:nvPr/>
        </p:nvSpPr>
        <p:spPr>
          <a:xfrm>
            <a:off x="171360" y="3086280"/>
            <a:ext cx="1666800" cy="2085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wody polaryzacji tranzystorów bipolarnych z elementami nieliniow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2192400" y="1774800"/>
            <a:ext cx="30312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257560" y="1808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2325600" y="19051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1652760" y="3182760"/>
            <a:ext cx="712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2048040" y="4016520"/>
            <a:ext cx="17460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2133720" y="384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2133720" y="4432320"/>
            <a:ext cx="144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2276640" y="41022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234072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246996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711440" y="2790720"/>
            <a:ext cx="501480" cy="487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865160" y="2895480"/>
            <a:ext cx="1800" cy="2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 flipV="1">
            <a:off x="1879560" y="2852280"/>
            <a:ext cx="254160" cy="1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2" name=""/>
          <p:cNvGrpSpPr/>
          <p:nvPr/>
        </p:nvGrpSpPr>
        <p:grpSpPr>
          <a:xfrm>
            <a:off x="1879560" y="3073320"/>
            <a:ext cx="158760" cy="100080"/>
            <a:chOff x="1879560" y="3073320"/>
            <a:chExt cx="158760" cy="100080"/>
          </a:xfrm>
        </p:grpSpPr>
        <p:sp>
          <p:nvSpPr>
            <p:cNvPr id="3663" name=""/>
            <p:cNvSpPr/>
            <p:nvPr/>
          </p:nvSpPr>
          <p:spPr>
            <a:xfrm>
              <a:off x="1879560" y="3092400"/>
              <a:ext cx="158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914480" y="3073320"/>
              <a:ext cx="123840" cy="10008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63"/>
                  </a:moveTo>
                  <a:lnTo>
                    <a:pt x="78" y="60"/>
                  </a:lnTo>
                  <a:lnTo>
                    <a:pt x="3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5" name=""/>
          <p:cNvSpPr/>
          <p:nvPr/>
        </p:nvSpPr>
        <p:spPr>
          <a:xfrm>
            <a:off x="2038320" y="3168720"/>
            <a:ext cx="95400" cy="4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H="1">
            <a:off x="1711080" y="3038400"/>
            <a:ext cx="153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2127240" y="3211560"/>
            <a:ext cx="6480" cy="6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2133720" y="2674800"/>
            <a:ext cx="144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660240" y="3038400"/>
            <a:ext cx="1055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2093760" y="1731960"/>
            <a:ext cx="63720" cy="57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581040" y="3206880"/>
            <a:ext cx="16812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660240" y="303840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660240" y="3629160"/>
            <a:ext cx="18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804960" y="3297240"/>
            <a:ext cx="36180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883440" y="333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1012320" y="343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581040" y="4002120"/>
            <a:ext cx="168120" cy="425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660240" y="3833640"/>
            <a:ext cx="180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660240" y="4417920"/>
            <a:ext cx="180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804960" y="408780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883440" y="41306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012320" y="4227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048040" y="2100240"/>
            <a:ext cx="174600" cy="42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133720" y="1933560"/>
            <a:ext cx="1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133720" y="2517840"/>
            <a:ext cx="144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276640" y="2187720"/>
            <a:ext cx="36180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2340720" y="22305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2469960" y="23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576360" y="2085840"/>
            <a:ext cx="16812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60240" y="177480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660240" y="2508120"/>
            <a:ext cx="180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798480" y="2176560"/>
            <a:ext cx="362160" cy="30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883440" y="2216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1012320" y="2311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1216080" y="4016520"/>
            <a:ext cx="168120" cy="4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1295280" y="3848040"/>
            <a:ext cx="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1295280" y="4432320"/>
            <a:ext cx="180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1438200" y="4102200"/>
            <a:ext cx="362160" cy="311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1512000" y="41450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1641240" y="4241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2073240" y="1755720"/>
            <a:ext cx="104760" cy="182520"/>
            <a:chOff x="2073240" y="1755720"/>
            <a:chExt cx="104760" cy="182520"/>
          </a:xfrm>
        </p:grpSpPr>
        <p:sp>
          <p:nvSpPr>
            <p:cNvPr id="3702" name=""/>
            <p:cNvSpPr/>
            <p:nvPr/>
          </p:nvSpPr>
          <p:spPr>
            <a:xfrm>
              <a:off x="2127240" y="1755720"/>
              <a:ext cx="6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073240" y="1836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3"/>
                  </a:moveTo>
                  <a:lnTo>
                    <a:pt x="38" y="64"/>
                  </a:lnTo>
                  <a:lnTo>
                    <a:pt x="6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660240" y="1760400"/>
            <a:ext cx="213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 flipH="1">
            <a:off x="660240" y="3848040"/>
            <a:ext cx="63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660240" y="4633920"/>
            <a:ext cx="213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630360" y="3009960"/>
            <a:ext cx="6984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625320" y="3814920"/>
            <a:ext cx="6984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255680" y="4605480"/>
            <a:ext cx="6840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2727360" y="1731960"/>
            <a:ext cx="6984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2093760" y="4605480"/>
            <a:ext cx="6372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120320" y="4078440"/>
            <a:ext cx="31284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120680" y="4379760"/>
            <a:ext cx="1800" cy="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2857680" y="1577880"/>
            <a:ext cx="672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2955600" y="1617840"/>
            <a:ext cx="26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243240" y="1712880"/>
            <a:ext cx="16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7" name=""/>
          <p:cNvGrpSpPr/>
          <p:nvPr/>
        </p:nvGrpSpPr>
        <p:grpSpPr>
          <a:xfrm>
            <a:off x="3675240" y="2043000"/>
            <a:ext cx="104760" cy="2274840"/>
            <a:chOff x="3675240" y="2043000"/>
            <a:chExt cx="104760" cy="2274840"/>
          </a:xfrm>
        </p:grpSpPr>
        <p:sp>
          <p:nvSpPr>
            <p:cNvPr id="3718" name=""/>
            <p:cNvSpPr/>
            <p:nvPr/>
          </p:nvSpPr>
          <p:spPr>
            <a:xfrm>
              <a:off x="3724200" y="2133720"/>
              <a:ext cx="180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675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0" name=""/>
          <p:cNvGrpSpPr/>
          <p:nvPr/>
        </p:nvGrpSpPr>
        <p:grpSpPr>
          <a:xfrm>
            <a:off x="3570120" y="4149720"/>
            <a:ext cx="2355840" cy="101520"/>
            <a:chOff x="3570120" y="4149720"/>
            <a:chExt cx="2355840" cy="101520"/>
          </a:xfrm>
        </p:grpSpPr>
        <p:sp>
          <p:nvSpPr>
            <p:cNvPr id="3721" name=""/>
            <p:cNvSpPr/>
            <p:nvPr/>
          </p:nvSpPr>
          <p:spPr>
            <a:xfrm flipH="1">
              <a:off x="3570120" y="4199040"/>
              <a:ext cx="226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821200" y="41497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0" y="64"/>
                  </a:moveTo>
                  <a:lnTo>
                    <a:pt x="66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3" name=""/>
          <p:cNvSpPr/>
          <p:nvPr/>
        </p:nvSpPr>
        <p:spPr>
          <a:xfrm>
            <a:off x="3352680" y="1986120"/>
            <a:ext cx="3016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402000" y="4213080"/>
            <a:ext cx="29844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349668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5708520" y="4275000"/>
            <a:ext cx="3016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579708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699240" y="2043000"/>
            <a:ext cx="104760" cy="2274840"/>
            <a:chOff x="6699240" y="2043000"/>
            <a:chExt cx="104760" cy="2274840"/>
          </a:xfrm>
        </p:grpSpPr>
        <p:sp>
          <p:nvSpPr>
            <p:cNvPr id="3729" name=""/>
            <p:cNvSpPr/>
            <p:nvPr/>
          </p:nvSpPr>
          <p:spPr>
            <a:xfrm>
              <a:off x="6748560" y="2133720"/>
              <a:ext cx="1440" cy="21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699240" y="204300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66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6589440" y="4149720"/>
            <a:ext cx="2360880" cy="101520"/>
            <a:chOff x="6589440" y="4149720"/>
            <a:chExt cx="2360880" cy="101520"/>
          </a:xfrm>
        </p:grpSpPr>
        <p:sp>
          <p:nvSpPr>
            <p:cNvPr id="3732" name=""/>
            <p:cNvSpPr/>
            <p:nvPr/>
          </p:nvSpPr>
          <p:spPr>
            <a:xfrm flipH="1">
              <a:off x="6589440" y="4199040"/>
              <a:ext cx="226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847000" y="4149720"/>
              <a:ext cx="103320" cy="10152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64"/>
                  </a:moveTo>
                  <a:lnTo>
                    <a:pt x="65" y="31"/>
                  </a:lnTo>
                  <a:lnTo>
                    <a:pt x="0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4" name=""/>
          <p:cNvSpPr/>
          <p:nvPr/>
        </p:nvSpPr>
        <p:spPr>
          <a:xfrm>
            <a:off x="6377040" y="1986120"/>
            <a:ext cx="29844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6442200" y="2019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6511680" y="2114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6421320" y="4213080"/>
            <a:ext cx="303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6516000" y="42512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8732880" y="4275000"/>
            <a:ext cx="2970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8821440" y="4308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3962520" y="2344680"/>
            <a:ext cx="1606320" cy="1432080"/>
            <a:chOff x="3962520" y="2344680"/>
            <a:chExt cx="1606320" cy="1432080"/>
          </a:xfrm>
        </p:grpSpPr>
        <p:sp>
          <p:nvSpPr>
            <p:cNvPr id="3742" name=""/>
            <p:cNvSpPr/>
            <p:nvPr/>
          </p:nvSpPr>
          <p:spPr>
            <a:xfrm>
              <a:off x="3971880" y="2344680"/>
              <a:ext cx="1596960" cy="1422360"/>
            </a:xfrm>
            <a:custGeom>
              <a:avLst/>
              <a:gdLst/>
              <a:ahLst/>
              <a:rect l="l" t="t" r="r" b="b"/>
              <a:pathLst>
                <a:path w="1006" h="896">
                  <a:moveTo>
                    <a:pt x="1006" y="896"/>
                  </a:moveTo>
                  <a:lnTo>
                    <a:pt x="903" y="890"/>
                  </a:lnTo>
                  <a:lnTo>
                    <a:pt x="803" y="878"/>
                  </a:lnTo>
                  <a:lnTo>
                    <a:pt x="706" y="857"/>
                  </a:lnTo>
                  <a:lnTo>
                    <a:pt x="616" y="827"/>
                  </a:lnTo>
                  <a:lnTo>
                    <a:pt x="525" y="787"/>
                  </a:lnTo>
                  <a:lnTo>
                    <a:pt x="444" y="742"/>
                  </a:lnTo>
                  <a:lnTo>
                    <a:pt x="366" y="691"/>
                  </a:lnTo>
                  <a:lnTo>
                    <a:pt x="294" y="634"/>
                  </a:lnTo>
                  <a:lnTo>
                    <a:pt x="231" y="570"/>
                  </a:lnTo>
                  <a:lnTo>
                    <a:pt x="172" y="501"/>
                  </a:lnTo>
                  <a:lnTo>
                    <a:pt x="122" y="428"/>
                  </a:lnTo>
                  <a:lnTo>
                    <a:pt x="78" y="350"/>
                  </a:lnTo>
                  <a:lnTo>
                    <a:pt x="44" y="266"/>
                  </a:lnTo>
                  <a:lnTo>
                    <a:pt x="22" y="181"/>
                  </a:lnTo>
                  <a:lnTo>
                    <a:pt x="7" y="91"/>
                  </a:lnTo>
                  <a:lnTo>
                    <a:pt x="0" y="0"/>
                  </a:lnTo>
                  <a:lnTo>
                    <a:pt x="1006" y="0"/>
                  </a:lnTo>
                  <a:lnTo>
                    <a:pt x="1006" y="8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549760" y="37576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510160" y="37530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54705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4309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391000" y="37479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351400" y="3743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311800" y="37386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272200" y="37339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232240" y="372420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5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192640" y="37148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153040" y="3710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118120" y="370044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9" y="15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078520" y="3691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038560" y="367668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5"/>
                  </a:moveTo>
                  <a:lnTo>
                    <a:pt x="15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003640" y="3666960"/>
              <a:ext cx="2088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9" y="15"/>
                  </a:moveTo>
                  <a:lnTo>
                    <a:pt x="13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964040" y="36529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3" y="15"/>
                  </a:moveTo>
                  <a:lnTo>
                    <a:pt x="16" y="3"/>
                  </a:lnTo>
                  <a:lnTo>
                    <a:pt x="3" y="0"/>
                  </a:lnTo>
                  <a:lnTo>
                    <a:pt x="0" y="12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924440" y="363852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3" y="18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889520" y="36241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3" y="18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854600" y="360828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0" y="16"/>
                  </a:moveTo>
                  <a:lnTo>
                    <a:pt x="16" y="3"/>
                  </a:lnTo>
                  <a:lnTo>
                    <a:pt x="7" y="0"/>
                  </a:lnTo>
                  <a:lnTo>
                    <a:pt x="0" y="13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815000" y="3589200"/>
              <a:ext cx="2988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3" y="19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12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780080" y="3575160"/>
              <a:ext cx="2988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746600" y="355608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11680" y="353700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2" y="15"/>
                  </a:moveTo>
                  <a:lnTo>
                    <a:pt x="18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676760" y="35179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2" y="15"/>
                  </a:moveTo>
                  <a:lnTo>
                    <a:pt x="19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646520" y="34988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6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611600" y="347976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5"/>
                  </a:moveTo>
                  <a:lnTo>
                    <a:pt x="16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576680" y="34560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3" y="15"/>
                  </a:moveTo>
                  <a:lnTo>
                    <a:pt x="19" y="6"/>
                  </a:lnTo>
                  <a:lnTo>
                    <a:pt x="7" y="0"/>
                  </a:lnTo>
                  <a:lnTo>
                    <a:pt x="0" y="9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543560" y="343224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8"/>
                  </a:moveTo>
                  <a:lnTo>
                    <a:pt x="18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513320" y="340848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483080" y="3384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18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452840" y="336060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424400" y="3336840"/>
              <a:ext cx="2844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15"/>
                  </a:moveTo>
                  <a:lnTo>
                    <a:pt x="18" y="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394160" y="3306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368960" y="3278160"/>
              <a:ext cx="2988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9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338720" y="325440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0" y="15"/>
                  </a:moveTo>
                  <a:lnTo>
                    <a:pt x="19" y="6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314960" y="322596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289400" y="319248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265640" y="316404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18"/>
                  </a:moveTo>
                  <a:lnTo>
                    <a:pt x="15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240080" y="3135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214880" y="31068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15"/>
                  </a:moveTo>
                  <a:lnTo>
                    <a:pt x="16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195800" y="307332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15"/>
                  </a:moveTo>
                  <a:lnTo>
                    <a:pt x="16" y="9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170240" y="30384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0" y="19"/>
                  </a:moveTo>
                  <a:lnTo>
                    <a:pt x="19" y="13"/>
                  </a:lnTo>
                  <a:lnTo>
                    <a:pt x="10" y="0"/>
                  </a:lnTo>
                  <a:lnTo>
                    <a:pt x="0" y="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51160" y="30099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15"/>
                  </a:moveTo>
                  <a:lnTo>
                    <a:pt x="15" y="9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35320" y="2976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4" y="15"/>
                  </a:moveTo>
                  <a:lnTo>
                    <a:pt x="13" y="9"/>
                  </a:lnTo>
                  <a:lnTo>
                    <a:pt x="10" y="0"/>
                  </a:lnTo>
                  <a:lnTo>
                    <a:pt x="0" y="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116240" y="293832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18"/>
                  </a:moveTo>
                  <a:lnTo>
                    <a:pt x="16" y="12"/>
                  </a:lnTo>
                  <a:lnTo>
                    <a:pt x="9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095720" y="29052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18"/>
                  </a:moveTo>
                  <a:lnTo>
                    <a:pt x="16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76640" y="2871720"/>
              <a:ext cx="3024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18"/>
                  </a:moveTo>
                  <a:lnTo>
                    <a:pt x="19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67280" y="2838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4051440" y="280044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3" y="18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037040" y="276696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9"/>
                  </a:lnTo>
                  <a:lnTo>
                    <a:pt x="12" y="0"/>
                  </a:lnTo>
                  <a:lnTo>
                    <a:pt x="0" y="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022640" y="273204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12"/>
                  </a:moveTo>
                  <a:lnTo>
                    <a:pt x="15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011480" y="269388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4002120" y="26557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992400" y="261792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987720" y="25797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3" y="15"/>
                  </a:moveTo>
                  <a:lnTo>
                    <a:pt x="15" y="12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983040" y="2546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971880" y="25081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15"/>
                  </a:moveTo>
                  <a:lnTo>
                    <a:pt x="16" y="12"/>
                  </a:lnTo>
                  <a:lnTo>
                    <a:pt x="13" y="0"/>
                  </a:lnTo>
                  <a:lnTo>
                    <a:pt x="0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3967200" y="24685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3" y="13"/>
                  </a:moveTo>
                  <a:lnTo>
                    <a:pt x="16" y="13"/>
                  </a:lnTo>
                  <a:lnTo>
                    <a:pt x="13" y="0"/>
                  </a:lnTo>
                  <a:lnTo>
                    <a:pt x="0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3967200" y="2430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967200" y="2392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962520" y="23544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4" name=""/>
          <p:cNvSpPr/>
          <p:nvPr/>
        </p:nvSpPr>
        <p:spPr>
          <a:xfrm flipV="1">
            <a:off x="6531120" y="2909880"/>
            <a:ext cx="53964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5" name=""/>
          <p:cNvGrpSpPr/>
          <p:nvPr/>
        </p:nvGrpSpPr>
        <p:grpSpPr>
          <a:xfrm>
            <a:off x="6981840" y="2909880"/>
            <a:ext cx="480960" cy="76320"/>
            <a:chOff x="6981840" y="2909880"/>
            <a:chExt cx="480960" cy="76320"/>
          </a:xfrm>
        </p:grpSpPr>
        <p:sp>
          <p:nvSpPr>
            <p:cNvPr id="3806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981840" y="2909880"/>
              <a:ext cx="480960" cy="76320"/>
            </a:xfrm>
            <a:custGeom>
              <a:avLst/>
              <a:gdLst/>
              <a:ahLst/>
              <a:rect l="l" t="t" r="r" b="b"/>
              <a:pathLst>
                <a:path w="303" h="48">
                  <a:moveTo>
                    <a:pt x="0" y="0"/>
                  </a:moveTo>
                  <a:lnTo>
                    <a:pt x="60" y="0"/>
                  </a:lnTo>
                  <a:lnTo>
                    <a:pt x="119" y="3"/>
                  </a:lnTo>
                  <a:lnTo>
                    <a:pt x="169" y="9"/>
                  </a:lnTo>
                  <a:lnTo>
                    <a:pt x="213" y="15"/>
                  </a:lnTo>
                  <a:lnTo>
                    <a:pt x="250" y="21"/>
                  </a:lnTo>
                  <a:lnTo>
                    <a:pt x="278" y="30"/>
                  </a:lnTo>
                  <a:lnTo>
                    <a:pt x="297" y="39"/>
                  </a:lnTo>
                  <a:lnTo>
                    <a:pt x="303" y="45"/>
                  </a:lnTo>
                  <a:lnTo>
                    <a:pt x="303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8" name=""/>
          <p:cNvSpPr/>
          <p:nvPr/>
        </p:nvSpPr>
        <p:spPr>
          <a:xfrm>
            <a:off x="7458120" y="2971800"/>
            <a:ext cx="4665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9" name=""/>
          <p:cNvGrpSpPr/>
          <p:nvPr/>
        </p:nvGrpSpPr>
        <p:grpSpPr>
          <a:xfrm>
            <a:off x="7924680" y="2943360"/>
            <a:ext cx="406440" cy="120600"/>
            <a:chOff x="7924680" y="2943360"/>
            <a:chExt cx="406440" cy="120600"/>
          </a:xfrm>
        </p:grpSpPr>
        <p:sp>
          <p:nvSpPr>
            <p:cNvPr id="3810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924680" y="2943360"/>
              <a:ext cx="406440" cy="120600"/>
            </a:xfrm>
            <a:custGeom>
              <a:avLst/>
              <a:gdLst/>
              <a:ahLst/>
              <a:rect l="l" t="t" r="r" b="b"/>
              <a:pathLst>
                <a:path w="256" h="76">
                  <a:moveTo>
                    <a:pt x="0" y="76"/>
                  </a:moveTo>
                  <a:lnTo>
                    <a:pt x="50" y="76"/>
                  </a:lnTo>
                  <a:lnTo>
                    <a:pt x="100" y="70"/>
                  </a:lnTo>
                  <a:lnTo>
                    <a:pt x="143" y="64"/>
                  </a:lnTo>
                  <a:lnTo>
                    <a:pt x="181" y="54"/>
                  </a:lnTo>
                  <a:lnTo>
                    <a:pt x="212" y="42"/>
                  </a:lnTo>
                  <a:lnTo>
                    <a:pt x="237" y="30"/>
                  </a:lnTo>
                  <a:lnTo>
                    <a:pt x="250" y="15"/>
                  </a:lnTo>
                  <a:lnTo>
                    <a:pt x="2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2" name=""/>
          <p:cNvSpPr/>
          <p:nvPr/>
        </p:nvSpPr>
        <p:spPr>
          <a:xfrm>
            <a:off x="4815000" y="3164040"/>
            <a:ext cx="436320" cy="30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4656240" y="3686040"/>
            <a:ext cx="368280" cy="31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4735440" y="3728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4865400" y="3824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264960" y="3033720"/>
            <a:ext cx="389160" cy="1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3467160" y="3581280"/>
            <a:ext cx="2238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 flipH="1">
            <a:off x="3495600" y="2695680"/>
            <a:ext cx="2276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4081320" y="2300400"/>
            <a:ext cx="84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+R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3790080" y="318600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3571920" y="2712960"/>
            <a:ext cx="2047680" cy="830520"/>
          </a:xfrm>
          <a:custGeom>
            <a:avLst/>
            <a:gdLst/>
            <a:ahLst/>
            <a:rect l="l" t="t" r="r" b="b"/>
            <a:pathLst>
              <a:path w="1290" h="523">
                <a:moveTo>
                  <a:pt x="0" y="1"/>
                </a:moveTo>
                <a:cubicBezTo>
                  <a:pt x="65" y="3"/>
                  <a:pt x="132" y="0"/>
                  <a:pt x="192" y="7"/>
                </a:cubicBezTo>
                <a:cubicBezTo>
                  <a:pt x="252" y="14"/>
                  <a:pt x="308" y="7"/>
                  <a:pt x="360" y="43"/>
                </a:cubicBezTo>
                <a:cubicBezTo>
                  <a:pt x="412" y="79"/>
                  <a:pt x="449" y="160"/>
                  <a:pt x="504" y="223"/>
                </a:cubicBezTo>
                <a:cubicBezTo>
                  <a:pt x="559" y="286"/>
                  <a:pt x="636" y="375"/>
                  <a:pt x="690" y="421"/>
                </a:cubicBezTo>
                <a:cubicBezTo>
                  <a:pt x="744" y="467"/>
                  <a:pt x="766" y="483"/>
                  <a:pt x="828" y="499"/>
                </a:cubicBezTo>
                <a:cubicBezTo>
                  <a:pt x="890" y="515"/>
                  <a:pt x="985" y="513"/>
                  <a:pt x="1062" y="517"/>
                </a:cubicBezTo>
                <a:cubicBezTo>
                  <a:pt x="1139" y="521"/>
                  <a:pt x="1214" y="522"/>
                  <a:pt x="1290" y="5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3155400" y="2104920"/>
            <a:ext cx="53892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209680" y="1371600"/>
            <a:ext cx="3927960" cy="2212200"/>
            <a:chOff x="2209680" y="1371600"/>
            <a:chExt cx="3927960" cy="2212200"/>
          </a:xfrm>
        </p:grpSpPr>
        <p:sp>
          <p:nvSpPr>
            <p:cNvPr id="168" name=""/>
            <p:cNvSpPr/>
            <p:nvPr/>
          </p:nvSpPr>
          <p:spPr>
            <a:xfrm rot="10800000">
              <a:off x="3879720" y="243792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853800" y="266688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7760" y="205704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630320" y="1985760"/>
              <a:ext cx="968400" cy="107640"/>
              <a:chOff x="4630320" y="1985760"/>
              <a:chExt cx="968400" cy="107640"/>
            </a:xfrm>
          </p:grpSpPr>
          <p:sp>
            <p:nvSpPr>
              <p:cNvPr id="172" name=""/>
              <p:cNvSpPr/>
              <p:nvPr/>
            </p:nvSpPr>
            <p:spPr>
              <a:xfrm>
                <a:off x="5490720" y="1985760"/>
                <a:ext cx="108000" cy="10764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30320" y="2040840"/>
                <a:ext cx="860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047760" y="3047760"/>
              <a:ext cx="25146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8000" y="266688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95680" y="24382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259056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7440" y="2427120"/>
              <a:ext cx="144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668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9520" y="203976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0680" y="298440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25360" y="20109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794120" y="2438280"/>
                  <a:ext cx="53964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4" name=""/>
            <p:cNvSpPr/>
            <p:nvPr/>
          </p:nvSpPr>
          <p:spPr>
            <a:xfrm>
              <a:off x="4952880" y="152388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9680" y="236196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2360" y="137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40840" y="159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560" y="3124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82680" y="205704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952880" y="2039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4680" y="20570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4600" y="236196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8640" y="13716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7440" y="266688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9760" y="298584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46320" y="2990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236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971440" y="220968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27400" y="533520"/>
            <a:ext cx="77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praktyce projektowej model ten bywa stosowany w post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dstawionej na poniższym rysunk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49520" y="4343400"/>
                <a:ext cx="35114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E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36880" y="3429000"/>
            <a:ext cx="61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modelu tym prądy bazy i kolektora wynosz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52920" y="5421240"/>
                <a:ext cx="13082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247680" y="1920960"/>
            <a:ext cx="8634240" cy="3301920"/>
            <a:chOff x="247680" y="1920960"/>
            <a:chExt cx="8634240" cy="3301920"/>
          </a:xfrm>
        </p:grpSpPr>
        <p:sp>
          <p:nvSpPr>
            <p:cNvPr id="3825" name=""/>
            <p:cNvSpPr/>
            <p:nvPr/>
          </p:nvSpPr>
          <p:spPr>
            <a:xfrm flipH="1">
              <a:off x="1719360" y="1925640"/>
              <a:ext cx="188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517760" y="2820960"/>
              <a:ext cx="1440" cy="496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H="1">
              <a:off x="1004400" y="4227480"/>
              <a:ext cx="2597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8" name=""/>
            <p:cNvGrpSpPr/>
            <p:nvPr/>
          </p:nvGrpSpPr>
          <p:grpSpPr>
            <a:xfrm>
              <a:off x="2311560" y="2820960"/>
              <a:ext cx="142560" cy="496800"/>
              <a:chOff x="2311560" y="2820960"/>
              <a:chExt cx="142560" cy="496800"/>
            </a:xfrm>
          </p:grpSpPr>
          <p:sp>
            <p:nvSpPr>
              <p:cNvPr id="3829" name=""/>
              <p:cNvSpPr/>
              <p:nvPr/>
            </p:nvSpPr>
            <p:spPr>
              <a:xfrm>
                <a:off x="2363760" y="2820960"/>
                <a:ext cx="31680" cy="496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311560" y="2820960"/>
                <a:ext cx="142560" cy="136440"/>
              </a:xfrm>
              <a:custGeom>
                <a:avLst/>
                <a:gdLst/>
                <a:ahLst/>
                <a:rect l="l" t="t" r="r" b="b"/>
                <a:pathLst>
                  <a:path w="90" h="86">
                    <a:moveTo>
                      <a:pt x="90" y="86"/>
                    </a:moveTo>
                    <a:lnTo>
                      <a:pt x="43" y="0"/>
                    </a:lnTo>
                    <a:lnTo>
                      <a:pt x="0" y="86"/>
                    </a:lnTo>
                  </a:path>
                </a:pathLst>
              </a:custGeom>
              <a:noFill/>
              <a:ln w="31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1" name=""/>
            <p:cNvSpPr/>
            <p:nvPr/>
          </p:nvSpPr>
          <p:spPr>
            <a:xfrm>
              <a:off x="1004760" y="3186000"/>
              <a:ext cx="333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533600" y="31748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1719360" y="2751120"/>
              <a:ext cx="144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4" name=""/>
            <p:cNvGrpSpPr/>
            <p:nvPr/>
          </p:nvGrpSpPr>
          <p:grpSpPr>
            <a:xfrm>
              <a:off x="950760" y="3191040"/>
              <a:ext cx="111240" cy="147600"/>
              <a:chOff x="950760" y="3191040"/>
              <a:chExt cx="111240" cy="147600"/>
            </a:xfrm>
          </p:grpSpPr>
          <p:sp>
            <p:nvSpPr>
              <p:cNvPr id="3835" name=""/>
              <p:cNvSpPr/>
              <p:nvPr/>
            </p:nvSpPr>
            <p:spPr>
              <a:xfrm flipV="1">
                <a:off x="100980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95076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1267920" y="3127320"/>
              <a:ext cx="249840" cy="122400"/>
              <a:chOff x="1267920" y="3127320"/>
              <a:chExt cx="249840" cy="122400"/>
            </a:xfrm>
          </p:grpSpPr>
          <p:sp>
            <p:nvSpPr>
              <p:cNvPr id="3838" name=""/>
              <p:cNvSpPr/>
              <p:nvPr/>
            </p:nvSpPr>
            <p:spPr>
              <a:xfrm flipH="1">
                <a:off x="1267920" y="3186000"/>
                <a:ext cx="249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1401840" y="312732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73" h="77">
                    <a:moveTo>
                      <a:pt x="0" y="77"/>
                    </a:moveTo>
                    <a:lnTo>
                      <a:pt x="73" y="37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0" name=""/>
            <p:cNvSpPr/>
            <p:nvPr/>
          </p:nvSpPr>
          <p:spPr>
            <a:xfrm>
              <a:off x="919080" y="3529080"/>
              <a:ext cx="1810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04760" y="334476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004760" y="398952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157400" y="3624120"/>
              <a:ext cx="3873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2268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363680" y="3778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660680" y="4191120"/>
              <a:ext cx="7452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781600" y="3000240"/>
              <a:ext cx="4680" cy="497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686560" y="3116160"/>
              <a:ext cx="1440" cy="2653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H="1">
              <a:off x="6114600" y="2174760"/>
              <a:ext cx="102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781600" y="3036960"/>
              <a:ext cx="333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781600" y="3449520"/>
              <a:ext cx="36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992920" y="3238560"/>
              <a:ext cx="149040" cy="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935600" y="4238640"/>
              <a:ext cx="2222280" cy="4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5802480" y="3179880"/>
              <a:ext cx="180720" cy="110880"/>
              <a:chOff x="5802480" y="3179880"/>
              <a:chExt cx="180720" cy="110880"/>
            </a:xfrm>
          </p:grpSpPr>
          <p:sp>
            <p:nvSpPr>
              <p:cNvPr id="3855" name=""/>
              <p:cNvSpPr/>
              <p:nvPr/>
            </p:nvSpPr>
            <p:spPr>
              <a:xfrm flipH="1">
                <a:off x="5802480" y="3233880"/>
                <a:ext cx="792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5872320" y="3179880"/>
                <a:ext cx="11088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70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7" name=""/>
            <p:cNvSpPr/>
            <p:nvPr/>
          </p:nvSpPr>
          <p:spPr>
            <a:xfrm flipH="1">
              <a:off x="5427360" y="3365640"/>
              <a:ext cx="2588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533600" y="2894040"/>
              <a:ext cx="185760" cy="11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12800" y="3529080"/>
              <a:ext cx="17964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697040" y="334476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697040" y="3989520"/>
              <a:ext cx="144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51120" y="362412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939680" y="3672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077560" y="3778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28640" y="2106720"/>
              <a:ext cx="179640" cy="4698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19360" y="1920960"/>
              <a:ext cx="1440" cy="20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7" name=""/>
            <p:cNvGrpSpPr/>
            <p:nvPr/>
          </p:nvGrpSpPr>
          <p:grpSpPr>
            <a:xfrm>
              <a:off x="1660680" y="2571840"/>
              <a:ext cx="110880" cy="233280"/>
              <a:chOff x="1660680" y="2571840"/>
              <a:chExt cx="110880" cy="233280"/>
            </a:xfrm>
          </p:grpSpPr>
          <p:sp>
            <p:nvSpPr>
              <p:cNvPr id="3868" name=""/>
              <p:cNvSpPr/>
              <p:nvPr/>
            </p:nvSpPr>
            <p:spPr>
              <a:xfrm>
                <a:off x="1719360" y="2571840"/>
                <a:ext cx="1440" cy="233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660680" y="2693880"/>
                <a:ext cx="11088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0" name=""/>
            <p:cNvSpPr/>
            <p:nvPr/>
          </p:nvSpPr>
          <p:spPr>
            <a:xfrm>
              <a:off x="1871640" y="220680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939680" y="22496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078280" y="2354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4834080" y="3560760"/>
              <a:ext cx="18072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4924440" y="3376440"/>
              <a:ext cx="144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924440" y="4027320"/>
              <a:ext cx="1440" cy="231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072040" y="3662280"/>
              <a:ext cx="38736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146560" y="37036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284800" y="3809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062760" y="3544920"/>
              <a:ext cx="179280" cy="4716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146640" y="3233880"/>
              <a:ext cx="1800" cy="326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6146640" y="4005360"/>
              <a:ext cx="1800" cy="23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300720" y="364644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384600" y="36878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6522840" y="379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5" name=""/>
            <p:cNvGrpSpPr/>
            <p:nvPr/>
          </p:nvGrpSpPr>
          <p:grpSpPr>
            <a:xfrm>
              <a:off x="1644480" y="3191040"/>
              <a:ext cx="111240" cy="147600"/>
              <a:chOff x="1644480" y="3191040"/>
              <a:chExt cx="111240" cy="147600"/>
            </a:xfrm>
          </p:grpSpPr>
          <p:sp>
            <p:nvSpPr>
              <p:cNvPr id="3886" name=""/>
              <p:cNvSpPr/>
              <p:nvPr/>
            </p:nvSpPr>
            <p:spPr>
              <a:xfrm flipV="1">
                <a:off x="1703520" y="3191040"/>
                <a:ext cx="1440" cy="147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644480" y="3227400"/>
                <a:ext cx="111240" cy="11124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0"/>
                    </a:moveTo>
                    <a:lnTo>
                      <a:pt x="37" y="70"/>
                    </a:lnTo>
                    <a:lnTo>
                      <a:pt x="7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8" name=""/>
            <p:cNvSpPr/>
            <p:nvPr/>
          </p:nvSpPr>
          <p:spPr>
            <a:xfrm>
              <a:off x="549360" y="3079800"/>
              <a:ext cx="385560" cy="3445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649080" y="3127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723960" y="32338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1787400" y="2603520"/>
              <a:ext cx="38592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1887120" y="26463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962360" y="27511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771560" y="3132000"/>
              <a:ext cx="385920" cy="3398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887120" y="3174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61640" y="32814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463840" y="2884320"/>
              <a:ext cx="498600" cy="33840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538360" y="29257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697120" y="3032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411360" y="2909880"/>
              <a:ext cx="40824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606840" y="1925280"/>
              <a:ext cx="6480" cy="979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 flipV="1">
              <a:off x="3606840" y="3306600"/>
              <a:ext cx="6480" cy="92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3" name=""/>
            <p:cNvGrpSpPr/>
            <p:nvPr/>
          </p:nvGrpSpPr>
          <p:grpSpPr>
            <a:xfrm>
              <a:off x="3549600" y="2979720"/>
              <a:ext cx="120600" cy="270000"/>
              <a:chOff x="3549600" y="2979720"/>
              <a:chExt cx="120600" cy="270000"/>
            </a:xfrm>
          </p:grpSpPr>
          <p:sp>
            <p:nvSpPr>
              <p:cNvPr id="3904" name=""/>
              <p:cNvSpPr/>
              <p:nvPr/>
            </p:nvSpPr>
            <p:spPr>
              <a:xfrm>
                <a:off x="3606840" y="297972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3549600" y="2979720"/>
                <a:ext cx="120600" cy="115920"/>
              </a:xfrm>
              <a:custGeom>
                <a:avLst/>
                <a:gdLst/>
                <a:ahLst/>
                <a:rect l="l" t="t" r="r" b="b"/>
                <a:pathLst>
                  <a:path w="76" h="73">
                    <a:moveTo>
                      <a:pt x="76" y="73"/>
                    </a:moveTo>
                    <a:lnTo>
                      <a:pt x="36" y="0"/>
                    </a:lnTo>
                    <a:lnTo>
                      <a:pt x="0" y="7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6" name=""/>
            <p:cNvSpPr/>
            <p:nvPr/>
          </p:nvSpPr>
          <p:spPr>
            <a:xfrm>
              <a:off x="3903840" y="2948040"/>
              <a:ext cx="496800" cy="34272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3962520" y="2995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121640" y="310032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6110280" y="3413160"/>
              <a:ext cx="68400" cy="684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110280" y="4206960"/>
              <a:ext cx="6840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6024600" y="2354400"/>
              <a:ext cx="181080" cy="4712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6114960" y="2170080"/>
              <a:ext cx="1800" cy="20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6114960" y="2814480"/>
              <a:ext cx="1800" cy="23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6262560" y="2455920"/>
              <a:ext cx="3873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6337080" y="2496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6475320" y="26035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6951600" y="3005280"/>
              <a:ext cx="401760" cy="4078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7147080" y="3413160"/>
              <a:ext cx="4680" cy="830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H="1">
              <a:off x="7146720" y="2174760"/>
              <a:ext cx="4680" cy="83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0" name=""/>
            <p:cNvGrpSpPr/>
            <p:nvPr/>
          </p:nvGrpSpPr>
          <p:grpSpPr>
            <a:xfrm>
              <a:off x="7083360" y="3068640"/>
              <a:ext cx="122400" cy="270000"/>
              <a:chOff x="7083360" y="3068640"/>
              <a:chExt cx="122400" cy="270000"/>
            </a:xfrm>
          </p:grpSpPr>
          <p:sp>
            <p:nvSpPr>
              <p:cNvPr id="3921" name=""/>
              <p:cNvSpPr/>
              <p:nvPr/>
            </p:nvSpPr>
            <p:spPr>
              <a:xfrm flipV="1">
                <a:off x="7147080" y="3068640"/>
                <a:ext cx="1440" cy="270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083360" y="322272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0" y="0"/>
                    </a:moveTo>
                    <a:lnTo>
                      <a:pt x="40" y="73"/>
                    </a:lnTo>
                    <a:lnTo>
                      <a:pt x="7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3" name=""/>
            <p:cNvSpPr/>
            <p:nvPr/>
          </p:nvSpPr>
          <p:spPr>
            <a:xfrm>
              <a:off x="7443720" y="3036960"/>
              <a:ext cx="496800" cy="33948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7500960" y="307980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660080" y="3186000"/>
              <a:ext cx="20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560520" y="4492800"/>
              <a:ext cx="8321400" cy="730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81400" y="4529160"/>
              <a:ext cx="650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Elementarne obwody zasilania tranzystorów: a) J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027920" y="4529160"/>
              <a:ext cx="1279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N;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368360" y="4842000"/>
              <a:ext cx="210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b) MOSFET z kan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516480" y="4842000"/>
              <a:ext cx="116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100" spc="-1" strike="noStrike">
                  <a:solidFill>
                    <a:srgbClr val="000000"/>
                  </a:solidFill>
                  <a:latin typeface="Times New Roman"/>
                </a:rPr>
                <a:t>łem typu 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4924440" y="3365640"/>
              <a:ext cx="496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961920" y="2587680"/>
              <a:ext cx="497160" cy="338040"/>
            </a:xfrm>
            <a:prstGeom prst="rect">
              <a:avLst/>
            </a:prstGeom>
            <a:solidFill>
              <a:srgbClr val="ffffff"/>
            </a:solidFill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036800" y="2630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195560" y="2735280"/>
              <a:ext cx="17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5" name=""/>
            <p:cNvGrpSpPr/>
            <p:nvPr/>
          </p:nvGrpSpPr>
          <p:grpSpPr>
            <a:xfrm>
              <a:off x="1247760" y="3259080"/>
              <a:ext cx="317520" cy="419040"/>
              <a:chOff x="1247760" y="3259080"/>
              <a:chExt cx="317520" cy="419040"/>
            </a:xfrm>
          </p:grpSpPr>
          <p:sp>
            <p:nvSpPr>
              <p:cNvPr id="3936" name=""/>
              <p:cNvSpPr/>
              <p:nvPr/>
            </p:nvSpPr>
            <p:spPr>
              <a:xfrm>
                <a:off x="1247760" y="3259080"/>
                <a:ext cx="317520" cy="419040"/>
              </a:xfrm>
              <a:custGeom>
                <a:avLst/>
                <a:gdLst/>
                <a:ahLst/>
                <a:rect l="l" t="t" r="r" b="b"/>
                <a:pathLst>
                  <a:path w="200" h="264">
                    <a:moveTo>
                      <a:pt x="17" y="0"/>
                    </a:moveTo>
                    <a:lnTo>
                      <a:pt x="0" y="10"/>
                    </a:lnTo>
                    <a:lnTo>
                      <a:pt x="183" y="264"/>
                    </a:lnTo>
                    <a:lnTo>
                      <a:pt x="200" y="2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1258920" y="326556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90" y="43"/>
                    </a:moveTo>
                    <a:lnTo>
                      <a:pt x="0" y="0"/>
                    </a:lnTo>
                    <a:lnTo>
                      <a:pt x="16" y="96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8" name=""/>
            <p:cNvSpPr/>
            <p:nvPr/>
          </p:nvSpPr>
          <p:spPr>
            <a:xfrm>
              <a:off x="247680" y="308628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9" name=""/>
          <p:cNvGraphicFramePr/>
          <p:nvPr/>
        </p:nvGraphicFramePr>
        <p:xfrm>
          <a:off x="304920" y="1492200"/>
          <a:ext cx="815652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2200"/>
                    <a:ext cx="8156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2" name=""/>
              <p:cNvSpPr txBox="1"/>
              <p:nvPr/>
            </p:nvSpPr>
            <p:spPr>
              <a:xfrm>
                <a:off x="4140360" y="5486400"/>
                <a:ext cx="4444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3" name=""/>
              <p:cNvSpPr txBox="1"/>
              <p:nvPr/>
            </p:nvSpPr>
            <p:spPr>
              <a:xfrm>
                <a:off x="366840" y="1600200"/>
                <a:ext cx="2162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4" name=""/>
          <p:cNvGrpSpPr/>
          <p:nvPr/>
        </p:nvGrpSpPr>
        <p:grpSpPr>
          <a:xfrm>
            <a:off x="4854600" y="3684600"/>
            <a:ext cx="922320" cy="367560"/>
            <a:chOff x="4854600" y="3684600"/>
            <a:chExt cx="922320" cy="367560"/>
          </a:xfrm>
        </p:grpSpPr>
        <p:sp>
          <p:nvSpPr>
            <p:cNvPr id="3945" name=""/>
            <p:cNvSpPr/>
            <p:nvPr/>
          </p:nvSpPr>
          <p:spPr>
            <a:xfrm>
              <a:off x="4854600" y="3684600"/>
              <a:ext cx="9223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4946400" y="3716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051520" y="3808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08428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=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31756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382720" y="3716640"/>
              <a:ext cx="25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&gt;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616000" y="3808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2" name=""/>
          <p:cNvSpPr/>
          <p:nvPr/>
        </p:nvSpPr>
        <p:spPr>
          <a:xfrm>
            <a:off x="6346800" y="2071800"/>
            <a:ext cx="63828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6443280" y="2104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6548400" y="219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579720" y="210492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6814440" y="2195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7" name=""/>
          <p:cNvGrpSpPr/>
          <p:nvPr/>
        </p:nvGrpSpPr>
        <p:grpSpPr>
          <a:xfrm>
            <a:off x="7035840" y="4064040"/>
            <a:ext cx="187200" cy="100080"/>
            <a:chOff x="7035840" y="4064040"/>
            <a:chExt cx="187200" cy="100080"/>
          </a:xfrm>
        </p:grpSpPr>
        <p:sp>
          <p:nvSpPr>
            <p:cNvPr id="3958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  <a:lnTo>
                    <a:pt x="118" y="63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7035840" y="4064040"/>
              <a:ext cx="187200" cy="10008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18" y="0"/>
                  </a:moveTo>
                  <a:lnTo>
                    <a:pt x="72" y="6"/>
                  </a:lnTo>
                  <a:lnTo>
                    <a:pt x="52" y="11"/>
                  </a:lnTo>
                  <a:lnTo>
                    <a:pt x="34" y="20"/>
                  </a:lnTo>
                  <a:lnTo>
                    <a:pt x="20" y="29"/>
                  </a:lnTo>
                  <a:lnTo>
                    <a:pt x="8" y="40"/>
                  </a:lnTo>
                  <a:lnTo>
                    <a:pt x="2" y="52"/>
                  </a:lnTo>
                  <a:lnTo>
                    <a:pt x="0" y="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0" name=""/>
          <p:cNvGrpSpPr/>
          <p:nvPr/>
        </p:nvGrpSpPr>
        <p:grpSpPr>
          <a:xfrm>
            <a:off x="6630840" y="3595680"/>
            <a:ext cx="592200" cy="284040"/>
            <a:chOff x="6630840" y="3595680"/>
            <a:chExt cx="592200" cy="284040"/>
          </a:xfrm>
        </p:grpSpPr>
        <p:sp>
          <p:nvSpPr>
            <p:cNvPr id="3961" name=""/>
            <p:cNvSpPr/>
            <p:nvPr/>
          </p:nvSpPr>
          <p:spPr>
            <a:xfrm>
              <a:off x="6649920" y="3692520"/>
              <a:ext cx="573120" cy="187200"/>
            </a:xfrm>
            <a:custGeom>
              <a:avLst/>
              <a:gdLst/>
              <a:ahLst/>
              <a:rect l="l" t="t" r="r" b="b"/>
              <a:pathLst>
                <a:path w="361" h="118">
                  <a:moveTo>
                    <a:pt x="361" y="0"/>
                  </a:moveTo>
                  <a:lnTo>
                    <a:pt x="289" y="3"/>
                  </a:lnTo>
                  <a:lnTo>
                    <a:pt x="219" y="8"/>
                  </a:lnTo>
                  <a:lnTo>
                    <a:pt x="159" y="20"/>
                  </a:lnTo>
                  <a:lnTo>
                    <a:pt x="107" y="34"/>
                  </a:lnTo>
                  <a:lnTo>
                    <a:pt x="60" y="52"/>
                  </a:lnTo>
                  <a:lnTo>
                    <a:pt x="43" y="60"/>
                  </a:lnTo>
                  <a:lnTo>
                    <a:pt x="29" y="72"/>
                  </a:lnTo>
                  <a:lnTo>
                    <a:pt x="17" y="84"/>
                  </a:lnTo>
                  <a:lnTo>
                    <a:pt x="8" y="95"/>
                  </a:lnTo>
                  <a:lnTo>
                    <a:pt x="3" y="107"/>
                  </a:lnTo>
                  <a:lnTo>
                    <a:pt x="0" y="118"/>
                  </a:lnTo>
                  <a:lnTo>
                    <a:pt x="361" y="118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7182000" y="3673440"/>
              <a:ext cx="4104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7099200" y="3673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7016760" y="3678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6"/>
                  </a:moveTo>
                  <a:lnTo>
                    <a:pt x="2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2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6934320" y="36925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3"/>
                  </a:moveTo>
                  <a:lnTo>
                    <a:pt x="26" y="0"/>
                  </a:lnTo>
                  <a:lnTo>
                    <a:pt x="0" y="5"/>
                  </a:lnTo>
                  <a:lnTo>
                    <a:pt x="3" y="29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6851520" y="3705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4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6" y="32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769080" y="3728880"/>
              <a:ext cx="55440" cy="5112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23"/>
                  </a:moveTo>
                  <a:lnTo>
                    <a:pt x="26" y="0"/>
                  </a:lnTo>
                  <a:lnTo>
                    <a:pt x="0" y="9"/>
                  </a:lnTo>
                  <a:lnTo>
                    <a:pt x="9" y="32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6691320" y="3760920"/>
              <a:ext cx="58680" cy="554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20"/>
                  </a:moveTo>
                  <a:lnTo>
                    <a:pt x="26" y="0"/>
                  </a:lnTo>
                  <a:lnTo>
                    <a:pt x="8" y="9"/>
                  </a:lnTo>
                  <a:lnTo>
                    <a:pt x="0" y="15"/>
                  </a:lnTo>
                  <a:lnTo>
                    <a:pt x="14" y="35"/>
                  </a:lnTo>
                  <a:lnTo>
                    <a:pt x="26" y="26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630840" y="3816360"/>
              <a:ext cx="6048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4"/>
                  </a:moveTo>
                  <a:lnTo>
                    <a:pt x="18" y="0"/>
                  </a:lnTo>
                  <a:lnTo>
                    <a:pt x="12" y="8"/>
                  </a:lnTo>
                  <a:lnTo>
                    <a:pt x="6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5" y="29"/>
                  </a:lnTo>
                  <a:lnTo>
                    <a:pt x="23" y="37"/>
                  </a:lnTo>
                  <a:lnTo>
                    <a:pt x="29" y="26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997680" y="35956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9" y="142"/>
                  </a:moveTo>
                  <a:lnTo>
                    <a:pt x="142" y="61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6649920" y="368784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81" y="0"/>
                  </a:moveTo>
                  <a:lnTo>
                    <a:pt x="0" y="121"/>
                  </a:lnTo>
                  <a:lnTo>
                    <a:pt x="136" y="69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2" name=""/>
          <p:cNvSpPr/>
          <p:nvPr/>
        </p:nvSpPr>
        <p:spPr>
          <a:xfrm>
            <a:off x="2763720" y="3908520"/>
            <a:ext cx="306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817720" y="3940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936160" y="4032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5" name=""/>
          <p:cNvGrpSpPr/>
          <p:nvPr/>
        </p:nvGrpSpPr>
        <p:grpSpPr>
          <a:xfrm>
            <a:off x="3089160" y="1282680"/>
            <a:ext cx="96840" cy="3225960"/>
            <a:chOff x="3089160" y="1282680"/>
            <a:chExt cx="96840" cy="3225960"/>
          </a:xfrm>
        </p:grpSpPr>
        <p:sp>
          <p:nvSpPr>
            <p:cNvPr id="3976" name=""/>
            <p:cNvSpPr/>
            <p:nvPr/>
          </p:nvSpPr>
          <p:spPr>
            <a:xfrm>
              <a:off x="31352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0891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8" name=""/>
          <p:cNvGrpSpPr/>
          <p:nvPr/>
        </p:nvGrpSpPr>
        <p:grpSpPr>
          <a:xfrm>
            <a:off x="560520" y="4467240"/>
            <a:ext cx="3230280" cy="96840"/>
            <a:chOff x="560520" y="4467240"/>
            <a:chExt cx="3230280" cy="96840"/>
          </a:xfrm>
        </p:grpSpPr>
        <p:sp>
          <p:nvSpPr>
            <p:cNvPr id="3979" name=""/>
            <p:cNvSpPr/>
            <p:nvPr/>
          </p:nvSpPr>
          <p:spPr>
            <a:xfrm>
              <a:off x="647640" y="4518000"/>
              <a:ext cx="3143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60520" y="44672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0"/>
                  </a:moveTo>
                  <a:lnTo>
                    <a:pt x="0" y="32"/>
                  </a:lnTo>
                  <a:lnTo>
                    <a:pt x="61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1" name=""/>
          <p:cNvGrpSpPr/>
          <p:nvPr/>
        </p:nvGrpSpPr>
        <p:grpSpPr>
          <a:xfrm>
            <a:off x="1630440" y="3879720"/>
            <a:ext cx="761760" cy="628920"/>
            <a:chOff x="1630440" y="3879720"/>
            <a:chExt cx="761760" cy="628920"/>
          </a:xfrm>
        </p:grpSpPr>
        <p:sp>
          <p:nvSpPr>
            <p:cNvPr id="3982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630440" y="3879720"/>
              <a:ext cx="761760" cy="628920"/>
            </a:xfrm>
            <a:custGeom>
              <a:avLst/>
              <a:gdLst/>
              <a:ahLst/>
              <a:rect l="l" t="t" r="r" b="b"/>
              <a:pathLst>
                <a:path w="480" h="396">
                  <a:moveTo>
                    <a:pt x="0" y="396"/>
                  </a:moveTo>
                  <a:lnTo>
                    <a:pt x="49" y="393"/>
                  </a:lnTo>
                  <a:lnTo>
                    <a:pt x="98" y="388"/>
                  </a:lnTo>
                  <a:lnTo>
                    <a:pt x="144" y="379"/>
                  </a:lnTo>
                  <a:lnTo>
                    <a:pt x="188" y="364"/>
                  </a:lnTo>
                  <a:lnTo>
                    <a:pt x="228" y="350"/>
                  </a:lnTo>
                  <a:lnTo>
                    <a:pt x="269" y="330"/>
                  </a:lnTo>
                  <a:lnTo>
                    <a:pt x="306" y="307"/>
                  </a:lnTo>
                  <a:lnTo>
                    <a:pt x="341" y="281"/>
                  </a:lnTo>
                  <a:lnTo>
                    <a:pt x="370" y="252"/>
                  </a:lnTo>
                  <a:lnTo>
                    <a:pt x="399" y="223"/>
                  </a:lnTo>
                  <a:lnTo>
                    <a:pt x="422" y="188"/>
                  </a:lnTo>
                  <a:lnTo>
                    <a:pt x="442" y="156"/>
                  </a:lnTo>
                  <a:lnTo>
                    <a:pt x="459" y="119"/>
                  </a:lnTo>
                  <a:lnTo>
                    <a:pt x="471" y="81"/>
                  </a:lnTo>
                  <a:lnTo>
                    <a:pt x="477" y="41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4" name=""/>
          <p:cNvSpPr/>
          <p:nvPr/>
        </p:nvSpPr>
        <p:spPr>
          <a:xfrm flipV="1">
            <a:off x="2359080" y="1728720"/>
            <a:ext cx="90468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1055520" y="4022640"/>
            <a:ext cx="817560" cy="473040"/>
            <a:chOff x="1055520" y="4022640"/>
            <a:chExt cx="817560" cy="473040"/>
          </a:xfrm>
        </p:grpSpPr>
        <p:sp>
          <p:nvSpPr>
            <p:cNvPr id="3986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055520" y="4022640"/>
              <a:ext cx="817560" cy="473040"/>
            </a:xfrm>
            <a:custGeom>
              <a:avLst/>
              <a:gdLst/>
              <a:ahLst/>
              <a:rect l="l" t="t" r="r" b="b"/>
              <a:pathLst>
                <a:path w="515" h="298">
                  <a:moveTo>
                    <a:pt x="0" y="298"/>
                  </a:moveTo>
                  <a:lnTo>
                    <a:pt x="53" y="298"/>
                  </a:lnTo>
                  <a:lnTo>
                    <a:pt x="105" y="292"/>
                  </a:lnTo>
                  <a:lnTo>
                    <a:pt x="200" y="274"/>
                  </a:lnTo>
                  <a:lnTo>
                    <a:pt x="287" y="246"/>
                  </a:lnTo>
                  <a:lnTo>
                    <a:pt x="327" y="231"/>
                  </a:lnTo>
                  <a:lnTo>
                    <a:pt x="365" y="211"/>
                  </a:lnTo>
                  <a:lnTo>
                    <a:pt x="396" y="191"/>
                  </a:lnTo>
                  <a:lnTo>
                    <a:pt x="428" y="167"/>
                  </a:lnTo>
                  <a:lnTo>
                    <a:pt x="451" y="141"/>
                  </a:lnTo>
                  <a:lnTo>
                    <a:pt x="474" y="115"/>
                  </a:lnTo>
                  <a:lnTo>
                    <a:pt x="492" y="89"/>
                  </a:lnTo>
                  <a:lnTo>
                    <a:pt x="503" y="61"/>
                  </a:lnTo>
                  <a:lnTo>
                    <a:pt x="512" y="32"/>
                  </a:lnTo>
                  <a:lnTo>
                    <a:pt x="51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 flipV="1">
            <a:off x="1887480" y="1539360"/>
            <a:ext cx="963720" cy="249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 flipH="1" flipV="1">
            <a:off x="1800360" y="3158640"/>
            <a:ext cx="133488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2460600" y="3821040"/>
            <a:ext cx="67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2101680" y="3476520"/>
            <a:ext cx="10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3222720" y="1255680"/>
            <a:ext cx="3063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32911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33555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652320" y="4568760"/>
            <a:ext cx="4953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72216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92304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6676920" y="3408480"/>
            <a:ext cx="5367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9" name=""/>
          <p:cNvGrpSpPr/>
          <p:nvPr/>
        </p:nvGrpSpPr>
        <p:grpSpPr>
          <a:xfrm>
            <a:off x="7176960" y="1282680"/>
            <a:ext cx="96840" cy="3225960"/>
            <a:chOff x="7176960" y="1282680"/>
            <a:chExt cx="96840" cy="3225960"/>
          </a:xfrm>
        </p:grpSpPr>
        <p:sp>
          <p:nvSpPr>
            <p:cNvPr id="4000" name=""/>
            <p:cNvSpPr/>
            <p:nvPr/>
          </p:nvSpPr>
          <p:spPr>
            <a:xfrm>
              <a:off x="7223040" y="1370160"/>
              <a:ext cx="1800" cy="31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7176960" y="12826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29" y="0"/>
                  </a:lnTo>
                  <a:lnTo>
                    <a:pt x="0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2" name=""/>
          <p:cNvGrpSpPr/>
          <p:nvPr/>
        </p:nvGrpSpPr>
        <p:grpSpPr>
          <a:xfrm>
            <a:off x="4649760" y="4467240"/>
            <a:ext cx="3224160" cy="96840"/>
            <a:chOff x="4649760" y="4467240"/>
            <a:chExt cx="3224160" cy="96840"/>
          </a:xfrm>
        </p:grpSpPr>
        <p:sp>
          <p:nvSpPr>
            <p:cNvPr id="4003" name=""/>
            <p:cNvSpPr/>
            <p:nvPr/>
          </p:nvSpPr>
          <p:spPr>
            <a:xfrm>
              <a:off x="4735440" y="4518000"/>
              <a:ext cx="313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4649760" y="446724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60" y="0"/>
                  </a:moveTo>
                  <a:lnTo>
                    <a:pt x="0" y="32"/>
                  </a:lnTo>
                  <a:lnTo>
                    <a:pt x="60" y="6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5" name=""/>
          <p:cNvSpPr/>
          <p:nvPr/>
        </p:nvSpPr>
        <p:spPr>
          <a:xfrm>
            <a:off x="5740560" y="1371600"/>
            <a:ext cx="1447560" cy="3162240"/>
          </a:xfrm>
          <a:custGeom>
            <a:avLst/>
            <a:gdLst/>
            <a:ahLst/>
            <a:rect l="l" t="t" r="r" b="b"/>
            <a:pathLst>
              <a:path w="912" h="1992">
                <a:moveTo>
                  <a:pt x="0" y="1992"/>
                </a:moveTo>
                <a:lnTo>
                  <a:pt x="160" y="1920"/>
                </a:lnTo>
                <a:lnTo>
                  <a:pt x="256" y="1840"/>
                </a:lnTo>
                <a:lnTo>
                  <a:pt x="344" y="1720"/>
                </a:lnTo>
                <a:lnTo>
                  <a:pt x="448" y="1472"/>
                </a:lnTo>
                <a:lnTo>
                  <a:pt x="552" y="1144"/>
                </a:lnTo>
                <a:lnTo>
                  <a:pt x="696" y="704"/>
                </a:lnTo>
                <a:lnTo>
                  <a:pt x="91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 flipH="1" flipV="1">
            <a:off x="6319800" y="2948040"/>
            <a:ext cx="88920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6637320" y="3424320"/>
            <a:ext cx="57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6548400" y="3332160"/>
            <a:ext cx="6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305840" y="1255680"/>
            <a:ext cx="3078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378920" y="12873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443360" y="13795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4740120" y="4568760"/>
            <a:ext cx="4971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805280" y="4600440"/>
            <a:ext cx="2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006160" y="46926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5" name=""/>
          <p:cNvGrpSpPr/>
          <p:nvPr/>
        </p:nvGrpSpPr>
        <p:grpSpPr>
          <a:xfrm>
            <a:off x="6080040" y="3328920"/>
            <a:ext cx="1143000" cy="1193760"/>
            <a:chOff x="6080040" y="3328920"/>
            <a:chExt cx="1143000" cy="1193760"/>
          </a:xfrm>
        </p:grpSpPr>
        <p:sp>
          <p:nvSpPr>
            <p:cNvPr id="4016" name=""/>
            <p:cNvSpPr/>
            <p:nvPr/>
          </p:nvSpPr>
          <p:spPr>
            <a:xfrm>
              <a:off x="7080120" y="437508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883560" y="4164120"/>
              <a:ext cx="137880" cy="147600"/>
            </a:xfrm>
            <a:custGeom>
              <a:avLst/>
              <a:gdLst/>
              <a:ahLst/>
              <a:rect l="l" t="t" r="r" b="b"/>
              <a:pathLst>
                <a:path w="87" h="93">
                  <a:moveTo>
                    <a:pt x="69" y="93"/>
                  </a:moveTo>
                  <a:lnTo>
                    <a:pt x="87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6681960" y="3957480"/>
              <a:ext cx="142560" cy="14796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2" y="93"/>
                  </a:moveTo>
                  <a:lnTo>
                    <a:pt x="90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6485040" y="374652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69" y="93"/>
                  </a:moveTo>
                  <a:lnTo>
                    <a:pt x="86" y="76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69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6283440" y="35402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72" y="93"/>
                  </a:moveTo>
                  <a:lnTo>
                    <a:pt x="89" y="75"/>
                  </a:lnTo>
                  <a:lnTo>
                    <a:pt x="17" y="0"/>
                  </a:lnTo>
                  <a:lnTo>
                    <a:pt x="0" y="18"/>
                  </a:lnTo>
                  <a:lnTo>
                    <a:pt x="72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6080040" y="332892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73" y="93"/>
                  </a:moveTo>
                  <a:lnTo>
                    <a:pt x="90" y="7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7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2" name=""/>
          <p:cNvSpPr/>
          <p:nvPr/>
        </p:nvSpPr>
        <p:spPr>
          <a:xfrm>
            <a:off x="6934320" y="3733920"/>
            <a:ext cx="26676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6970680" y="3770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7089120" y="38624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538200" y="4981680"/>
            <a:ext cx="815328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375840" y="5283360"/>
            <a:ext cx="8449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reślenie zmian prądu dre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przy rozrzucie charakterystyk; b) przy zmianach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3189960" y="34146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7487640" y="3487680"/>
            <a:ext cx="75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S 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5435640" y="2158920"/>
            <a:ext cx="1778040" cy="2362320"/>
          </a:xfrm>
          <a:custGeom>
            <a:avLst/>
            <a:gdLst/>
            <a:ahLst/>
            <a:rect l="l" t="t" r="r" b="b"/>
            <a:pathLst>
              <a:path w="1120" h="1488">
                <a:moveTo>
                  <a:pt x="0" y="1488"/>
                </a:moveTo>
                <a:cubicBezTo>
                  <a:pt x="54" y="1482"/>
                  <a:pt x="103" y="1475"/>
                  <a:pt x="168" y="1448"/>
                </a:cubicBezTo>
                <a:cubicBezTo>
                  <a:pt x="233" y="1421"/>
                  <a:pt x="313" y="1408"/>
                  <a:pt x="392" y="1328"/>
                </a:cubicBezTo>
                <a:cubicBezTo>
                  <a:pt x="471" y="1248"/>
                  <a:pt x="565" y="1088"/>
                  <a:pt x="640" y="968"/>
                </a:cubicBezTo>
                <a:cubicBezTo>
                  <a:pt x="715" y="848"/>
                  <a:pt x="760" y="769"/>
                  <a:pt x="840" y="608"/>
                </a:cubicBezTo>
                <a:cubicBezTo>
                  <a:pt x="920" y="447"/>
                  <a:pt x="1062" y="127"/>
                  <a:pt x="112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7291800" y="3043080"/>
            <a:ext cx="1293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ład zasilania tranzystora pol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większej stałości prądu dr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3" name=""/>
          <p:cNvGrpSpPr/>
          <p:nvPr/>
        </p:nvGrpSpPr>
        <p:grpSpPr>
          <a:xfrm>
            <a:off x="210960" y="1195560"/>
            <a:ext cx="8933040" cy="5152680"/>
            <a:chOff x="210960" y="1195560"/>
            <a:chExt cx="8933040" cy="5152680"/>
          </a:xfrm>
        </p:grpSpPr>
        <p:sp>
          <p:nvSpPr>
            <p:cNvPr id="4034" name=""/>
            <p:cNvSpPr/>
            <p:nvPr/>
          </p:nvSpPr>
          <p:spPr>
            <a:xfrm>
              <a:off x="295200" y="3519360"/>
              <a:ext cx="365040" cy="30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61800" y="3556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485280" y="36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121360" y="3684600"/>
              <a:ext cx="660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135400" y="3898800"/>
              <a:ext cx="7081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ff0000"/>
                  </a:solidFill>
                  <a:latin typeface="Times New Roman"/>
                </a:rPr>
                <a:t>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9" name=""/>
            <p:cNvGrpSpPr/>
            <p:nvPr/>
          </p:nvGrpSpPr>
          <p:grpSpPr>
            <a:xfrm>
              <a:off x="4227480" y="4216320"/>
              <a:ext cx="698400" cy="507960"/>
              <a:chOff x="4227480" y="4216320"/>
              <a:chExt cx="698400" cy="507960"/>
            </a:xfrm>
          </p:grpSpPr>
          <p:sp>
            <p:nvSpPr>
              <p:cNvPr id="4040" name=""/>
              <p:cNvSpPr/>
              <p:nvPr/>
            </p:nvSpPr>
            <p:spPr>
              <a:xfrm>
                <a:off x="4227480" y="4216320"/>
                <a:ext cx="684360" cy="493920"/>
              </a:xfrm>
              <a:custGeom>
                <a:avLst/>
                <a:gdLst/>
                <a:ahLst/>
                <a:rect l="l" t="t" r="r" b="b"/>
                <a:pathLst>
                  <a:path w="431" h="311">
                    <a:moveTo>
                      <a:pt x="0" y="311"/>
                    </a:moveTo>
                    <a:lnTo>
                      <a:pt x="45" y="308"/>
                    </a:lnTo>
                    <a:lnTo>
                      <a:pt x="87" y="305"/>
                    </a:lnTo>
                    <a:lnTo>
                      <a:pt x="168" y="287"/>
                    </a:lnTo>
                    <a:lnTo>
                      <a:pt x="243" y="257"/>
                    </a:lnTo>
                    <a:lnTo>
                      <a:pt x="306" y="218"/>
                    </a:lnTo>
                    <a:lnTo>
                      <a:pt x="332" y="198"/>
                    </a:lnTo>
                    <a:lnTo>
                      <a:pt x="359" y="174"/>
                    </a:lnTo>
                    <a:lnTo>
                      <a:pt x="380" y="147"/>
                    </a:lnTo>
                    <a:lnTo>
                      <a:pt x="398" y="120"/>
                    </a:lnTo>
                    <a:lnTo>
                      <a:pt x="413" y="93"/>
                    </a:lnTo>
                    <a:lnTo>
                      <a:pt x="422" y="63"/>
                    </a:lnTo>
                    <a:lnTo>
                      <a:pt x="428" y="33"/>
                    </a:lnTo>
                    <a:lnTo>
                      <a:pt x="43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227480" y="4216320"/>
                <a:ext cx="698400" cy="507960"/>
              </a:xfrm>
              <a:custGeom>
                <a:avLst/>
                <a:gdLst/>
                <a:ahLst/>
                <a:rect l="l" t="t" r="r" b="b"/>
                <a:pathLst>
                  <a:path w="440" h="320">
                    <a:moveTo>
                      <a:pt x="0" y="302"/>
                    </a:moveTo>
                    <a:lnTo>
                      <a:pt x="0" y="320"/>
                    </a:lnTo>
                    <a:lnTo>
                      <a:pt x="42" y="317"/>
                    </a:lnTo>
                    <a:lnTo>
                      <a:pt x="45" y="317"/>
                    </a:lnTo>
                    <a:lnTo>
                      <a:pt x="90" y="314"/>
                    </a:lnTo>
                    <a:lnTo>
                      <a:pt x="171" y="296"/>
                    </a:lnTo>
                    <a:lnTo>
                      <a:pt x="243" y="266"/>
                    </a:lnTo>
                    <a:lnTo>
                      <a:pt x="246" y="266"/>
                    </a:lnTo>
                    <a:lnTo>
                      <a:pt x="311" y="227"/>
                    </a:lnTo>
                    <a:lnTo>
                      <a:pt x="338" y="206"/>
                    </a:lnTo>
                    <a:lnTo>
                      <a:pt x="362" y="180"/>
                    </a:lnTo>
                    <a:lnTo>
                      <a:pt x="365" y="177"/>
                    </a:lnTo>
                    <a:lnTo>
                      <a:pt x="386" y="153"/>
                    </a:lnTo>
                    <a:lnTo>
                      <a:pt x="404" y="126"/>
                    </a:lnTo>
                    <a:lnTo>
                      <a:pt x="419" y="96"/>
                    </a:lnTo>
                    <a:lnTo>
                      <a:pt x="422" y="93"/>
                    </a:lnTo>
                    <a:lnTo>
                      <a:pt x="431" y="63"/>
                    </a:lnTo>
                    <a:lnTo>
                      <a:pt x="437" y="33"/>
                    </a:lnTo>
                    <a:lnTo>
                      <a:pt x="437" y="30"/>
                    </a:lnTo>
                    <a:lnTo>
                      <a:pt x="440" y="0"/>
                    </a:lnTo>
                    <a:lnTo>
                      <a:pt x="422" y="0"/>
                    </a:lnTo>
                    <a:lnTo>
                      <a:pt x="419" y="33"/>
                    </a:lnTo>
                    <a:lnTo>
                      <a:pt x="428" y="33"/>
                    </a:lnTo>
                    <a:lnTo>
                      <a:pt x="419" y="30"/>
                    </a:lnTo>
                    <a:lnTo>
                      <a:pt x="413" y="60"/>
                    </a:lnTo>
                    <a:lnTo>
                      <a:pt x="404" y="90"/>
                    </a:lnTo>
                    <a:lnTo>
                      <a:pt x="413" y="93"/>
                    </a:lnTo>
                    <a:lnTo>
                      <a:pt x="404" y="87"/>
                    </a:lnTo>
                    <a:lnTo>
                      <a:pt x="389" y="117"/>
                    </a:lnTo>
                    <a:lnTo>
                      <a:pt x="371" y="144"/>
                    </a:lnTo>
                    <a:lnTo>
                      <a:pt x="350" y="168"/>
                    </a:lnTo>
                    <a:lnTo>
                      <a:pt x="359" y="174"/>
                    </a:lnTo>
                    <a:lnTo>
                      <a:pt x="353" y="165"/>
                    </a:lnTo>
                    <a:lnTo>
                      <a:pt x="329" y="192"/>
                    </a:lnTo>
                    <a:lnTo>
                      <a:pt x="303" y="212"/>
                    </a:lnTo>
                    <a:lnTo>
                      <a:pt x="237" y="251"/>
                    </a:lnTo>
                    <a:lnTo>
                      <a:pt x="243" y="257"/>
                    </a:lnTo>
                    <a:lnTo>
                      <a:pt x="240" y="248"/>
                    </a:lnTo>
                    <a:lnTo>
                      <a:pt x="168" y="278"/>
                    </a:lnTo>
                    <a:lnTo>
                      <a:pt x="87" y="296"/>
                    </a:lnTo>
                    <a:lnTo>
                      <a:pt x="42" y="299"/>
                    </a:lnTo>
                    <a:lnTo>
                      <a:pt x="45" y="308"/>
                    </a:lnTo>
                    <a:lnTo>
                      <a:pt x="45" y="299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3724200" y="4040280"/>
              <a:ext cx="9558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959360" y="2093760"/>
              <a:ext cx="655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067000" y="1865160"/>
              <a:ext cx="498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r>
                <a:rPr b="1" lang="pl-PL" sz="2400" spc="-1" strike="noStrike" baseline="-25000">
                  <a:solidFill>
                    <a:srgbClr val="0000ff"/>
                  </a:solidFill>
                  <a:latin typeface="Times New Roman"/>
                </a:rPr>
                <a:t>m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5" name=""/>
            <p:cNvGrpSpPr/>
            <p:nvPr/>
          </p:nvGrpSpPr>
          <p:grpSpPr>
            <a:xfrm>
              <a:off x="8474040" y="4216320"/>
              <a:ext cx="357120" cy="271440"/>
              <a:chOff x="8474040" y="4216320"/>
              <a:chExt cx="357120" cy="271440"/>
            </a:xfrm>
          </p:grpSpPr>
          <p:sp>
            <p:nvSpPr>
              <p:cNvPr id="4046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  <a:lnTo>
                      <a:pt x="225" y="17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8474040" y="4216320"/>
                <a:ext cx="357120" cy="271440"/>
              </a:xfrm>
              <a:custGeom>
                <a:avLst/>
                <a:gdLst/>
                <a:ahLst/>
                <a:rect l="l" t="t" r="r" b="b"/>
                <a:pathLst>
                  <a:path w="225" h="171">
                    <a:moveTo>
                      <a:pt x="225" y="0"/>
                    </a:moveTo>
                    <a:lnTo>
                      <a:pt x="180" y="3"/>
                    </a:lnTo>
                    <a:lnTo>
                      <a:pt x="138" y="12"/>
                    </a:lnTo>
                    <a:lnTo>
                      <a:pt x="99" y="30"/>
                    </a:lnTo>
                    <a:lnTo>
                      <a:pt x="66" y="51"/>
                    </a:lnTo>
                    <a:lnTo>
                      <a:pt x="39" y="75"/>
                    </a:lnTo>
                    <a:lnTo>
                      <a:pt x="18" y="105"/>
                    </a:lnTo>
                    <a:lnTo>
                      <a:pt x="6" y="135"/>
                    </a:lnTo>
                    <a:lnTo>
                      <a:pt x="0" y="17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8" name=""/>
            <p:cNvSpPr/>
            <p:nvPr/>
          </p:nvSpPr>
          <p:spPr>
            <a:xfrm>
              <a:off x="8369280" y="3936960"/>
              <a:ext cx="31896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8426520" y="3970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8550000" y="40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1" name=""/>
            <p:cNvGrpSpPr/>
            <p:nvPr/>
          </p:nvGrpSpPr>
          <p:grpSpPr>
            <a:xfrm>
              <a:off x="5891040" y="1353960"/>
              <a:ext cx="98640" cy="3337200"/>
              <a:chOff x="5891040" y="1353960"/>
              <a:chExt cx="98640" cy="3337200"/>
            </a:xfrm>
          </p:grpSpPr>
          <p:sp>
            <p:nvSpPr>
              <p:cNvPr id="4052" name=""/>
              <p:cNvSpPr/>
              <p:nvPr/>
            </p:nvSpPr>
            <p:spPr>
              <a:xfrm>
                <a:off x="5937120" y="1444680"/>
                <a:ext cx="180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5891040" y="135396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  <a:lnTo>
                      <a:pt x="6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4" name=""/>
            <p:cNvGrpSpPr/>
            <p:nvPr/>
          </p:nvGrpSpPr>
          <p:grpSpPr>
            <a:xfrm>
              <a:off x="3273480" y="4643280"/>
              <a:ext cx="5870520" cy="100080"/>
              <a:chOff x="3273480" y="4643280"/>
              <a:chExt cx="5870520" cy="100080"/>
            </a:xfrm>
          </p:grpSpPr>
          <p:sp>
            <p:nvSpPr>
              <p:cNvPr id="4055" name=""/>
              <p:cNvSpPr/>
              <p:nvPr/>
            </p:nvSpPr>
            <p:spPr>
              <a:xfrm flipH="1">
                <a:off x="3273480" y="4691160"/>
                <a:ext cx="57801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9043920" y="46432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0" y="63"/>
                    </a:moveTo>
                    <a:lnTo>
                      <a:pt x="63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7" name=""/>
            <p:cNvGrpSpPr/>
            <p:nvPr/>
          </p:nvGrpSpPr>
          <p:grpSpPr>
            <a:xfrm>
              <a:off x="3533760" y="4440240"/>
              <a:ext cx="860400" cy="264960"/>
              <a:chOff x="3533760" y="4440240"/>
              <a:chExt cx="860400" cy="264960"/>
            </a:xfrm>
          </p:grpSpPr>
          <p:sp>
            <p:nvSpPr>
              <p:cNvPr id="4058" name=""/>
              <p:cNvSpPr/>
              <p:nvPr/>
            </p:nvSpPr>
            <p:spPr>
              <a:xfrm>
                <a:off x="3533760" y="4440240"/>
                <a:ext cx="846000" cy="250920"/>
              </a:xfrm>
              <a:custGeom>
                <a:avLst/>
                <a:gdLst/>
                <a:ahLst/>
                <a:rect l="l" t="t" r="r" b="b"/>
                <a:pathLst>
                  <a:path w="533" h="158">
                    <a:moveTo>
                      <a:pt x="0" y="158"/>
                    </a:moveTo>
                    <a:lnTo>
                      <a:pt x="108" y="155"/>
                    </a:lnTo>
                    <a:lnTo>
                      <a:pt x="207" y="146"/>
                    </a:lnTo>
                    <a:lnTo>
                      <a:pt x="297" y="131"/>
                    </a:lnTo>
                    <a:lnTo>
                      <a:pt x="339" y="122"/>
                    </a:lnTo>
                    <a:lnTo>
                      <a:pt x="377" y="113"/>
                    </a:lnTo>
                    <a:lnTo>
                      <a:pt x="410" y="101"/>
                    </a:lnTo>
                    <a:lnTo>
                      <a:pt x="443" y="89"/>
                    </a:lnTo>
                    <a:lnTo>
                      <a:pt x="467" y="77"/>
                    </a:lnTo>
                    <a:lnTo>
                      <a:pt x="491" y="62"/>
                    </a:lnTo>
                    <a:lnTo>
                      <a:pt x="509" y="48"/>
                    </a:lnTo>
                    <a:lnTo>
                      <a:pt x="521" y="33"/>
                    </a:lnTo>
                    <a:lnTo>
                      <a:pt x="530" y="18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3533760" y="4440240"/>
                <a:ext cx="860400" cy="264960"/>
              </a:xfrm>
              <a:custGeom>
                <a:avLst/>
                <a:gdLst/>
                <a:ahLst/>
                <a:rect l="l" t="t" r="r" b="b"/>
                <a:pathLst>
                  <a:path w="542" h="167">
                    <a:moveTo>
                      <a:pt x="0" y="149"/>
                    </a:moveTo>
                    <a:lnTo>
                      <a:pt x="0" y="167"/>
                    </a:lnTo>
                    <a:lnTo>
                      <a:pt x="105" y="164"/>
                    </a:lnTo>
                    <a:lnTo>
                      <a:pt x="108" y="164"/>
                    </a:lnTo>
                    <a:lnTo>
                      <a:pt x="210" y="155"/>
                    </a:lnTo>
                    <a:lnTo>
                      <a:pt x="300" y="140"/>
                    </a:lnTo>
                    <a:lnTo>
                      <a:pt x="342" y="131"/>
                    </a:lnTo>
                    <a:lnTo>
                      <a:pt x="377" y="122"/>
                    </a:lnTo>
                    <a:lnTo>
                      <a:pt x="413" y="110"/>
                    </a:lnTo>
                    <a:lnTo>
                      <a:pt x="443" y="98"/>
                    </a:lnTo>
                    <a:lnTo>
                      <a:pt x="470" y="86"/>
                    </a:lnTo>
                    <a:lnTo>
                      <a:pt x="473" y="83"/>
                    </a:lnTo>
                    <a:lnTo>
                      <a:pt x="497" y="68"/>
                    </a:lnTo>
                    <a:lnTo>
                      <a:pt x="515" y="57"/>
                    </a:lnTo>
                    <a:lnTo>
                      <a:pt x="518" y="54"/>
                    </a:lnTo>
                    <a:lnTo>
                      <a:pt x="530" y="36"/>
                    </a:lnTo>
                    <a:lnTo>
                      <a:pt x="539" y="21"/>
                    </a:lnTo>
                    <a:lnTo>
                      <a:pt x="539" y="18"/>
                    </a:lnTo>
                    <a:lnTo>
                      <a:pt x="539" y="15"/>
                    </a:lnTo>
                    <a:lnTo>
                      <a:pt x="542" y="0"/>
                    </a:lnTo>
                    <a:lnTo>
                      <a:pt x="524" y="0"/>
                    </a:lnTo>
                    <a:lnTo>
                      <a:pt x="521" y="18"/>
                    </a:lnTo>
                    <a:lnTo>
                      <a:pt x="521" y="15"/>
                    </a:lnTo>
                    <a:lnTo>
                      <a:pt x="521" y="18"/>
                    </a:lnTo>
                    <a:lnTo>
                      <a:pt x="530" y="18"/>
                    </a:lnTo>
                    <a:lnTo>
                      <a:pt x="524" y="12"/>
                    </a:lnTo>
                    <a:lnTo>
                      <a:pt x="515" y="27"/>
                    </a:lnTo>
                    <a:lnTo>
                      <a:pt x="503" y="45"/>
                    </a:lnTo>
                    <a:lnTo>
                      <a:pt x="509" y="48"/>
                    </a:lnTo>
                    <a:lnTo>
                      <a:pt x="506" y="42"/>
                    </a:lnTo>
                    <a:lnTo>
                      <a:pt x="488" y="54"/>
                    </a:lnTo>
                    <a:lnTo>
                      <a:pt x="464" y="68"/>
                    </a:lnTo>
                    <a:lnTo>
                      <a:pt x="467" y="77"/>
                    </a:lnTo>
                    <a:lnTo>
                      <a:pt x="467" y="68"/>
                    </a:lnTo>
                    <a:lnTo>
                      <a:pt x="440" y="80"/>
                    </a:lnTo>
                    <a:lnTo>
                      <a:pt x="410" y="92"/>
                    </a:lnTo>
                    <a:lnTo>
                      <a:pt x="374" y="104"/>
                    </a:lnTo>
                    <a:lnTo>
                      <a:pt x="339" y="113"/>
                    </a:lnTo>
                    <a:lnTo>
                      <a:pt x="297" y="122"/>
                    </a:lnTo>
                    <a:lnTo>
                      <a:pt x="207" y="137"/>
                    </a:lnTo>
                    <a:lnTo>
                      <a:pt x="105" y="146"/>
                    </a:lnTo>
                    <a:lnTo>
                      <a:pt x="108" y="155"/>
                    </a:lnTo>
                    <a:lnTo>
                      <a:pt x="108" y="146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0" name=""/>
            <p:cNvSpPr/>
            <p:nvPr/>
          </p:nvSpPr>
          <p:spPr>
            <a:xfrm>
              <a:off x="4370400" y="2844720"/>
              <a:ext cx="1724040" cy="1652760"/>
            </a:xfrm>
            <a:custGeom>
              <a:avLst/>
              <a:gdLst/>
              <a:ahLst/>
              <a:rect l="l" t="t" r="r" b="b"/>
              <a:pathLst>
                <a:path w="1086" h="1041">
                  <a:moveTo>
                    <a:pt x="0" y="1029"/>
                  </a:moveTo>
                  <a:lnTo>
                    <a:pt x="12" y="1041"/>
                  </a:lnTo>
                  <a:lnTo>
                    <a:pt x="1086" y="12"/>
                  </a:lnTo>
                  <a:lnTo>
                    <a:pt x="1074" y="0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4854600" y="1795320"/>
              <a:ext cx="1022400" cy="2592360"/>
            </a:xfrm>
            <a:custGeom>
              <a:avLst/>
              <a:gdLst/>
              <a:ahLst/>
              <a:rect l="l" t="t" r="r" b="b"/>
              <a:pathLst>
                <a:path w="644" h="1633">
                  <a:moveTo>
                    <a:pt x="0" y="1627"/>
                  </a:moveTo>
                  <a:lnTo>
                    <a:pt x="18" y="1633"/>
                  </a:lnTo>
                  <a:lnTo>
                    <a:pt x="644" y="6"/>
                  </a:lnTo>
                  <a:lnTo>
                    <a:pt x="626" y="0"/>
                  </a:lnTo>
                  <a:lnTo>
                    <a:pt x="0" y="162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159520" y="2987640"/>
              <a:ext cx="3722400" cy="1717560"/>
            </a:xfrm>
            <a:custGeom>
              <a:avLst/>
              <a:gdLst/>
              <a:ahLst/>
              <a:rect l="l" t="t" r="r" b="b"/>
              <a:pathLst>
                <a:path w="2345" h="1082">
                  <a:moveTo>
                    <a:pt x="2339" y="1082"/>
                  </a:moveTo>
                  <a:lnTo>
                    <a:pt x="2345" y="106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39" y="1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83040" y="3119400"/>
              <a:ext cx="148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883040" y="344808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7643880" y="4719600"/>
              <a:ext cx="5126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7741800" y="4757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7884720" y="485316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8" name=""/>
            <p:cNvGrpSpPr/>
            <p:nvPr/>
          </p:nvGrpSpPr>
          <p:grpSpPr>
            <a:xfrm>
              <a:off x="5197320" y="2701800"/>
              <a:ext cx="739800" cy="1994040"/>
              <a:chOff x="5197320" y="2701800"/>
              <a:chExt cx="739800" cy="1994040"/>
            </a:xfrm>
          </p:grpSpPr>
          <p:sp>
            <p:nvSpPr>
              <p:cNvPr id="4069" name=""/>
              <p:cNvSpPr/>
              <p:nvPr/>
            </p:nvSpPr>
            <p:spPr>
              <a:xfrm>
                <a:off x="5899320" y="466236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881680" y="461016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6" y="18"/>
                    </a:moveTo>
                    <a:lnTo>
                      <a:pt x="23" y="15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862600" y="455292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843520" y="45021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824440" y="4449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5805360" y="439272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5786280" y="4340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5767560" y="42879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5748480" y="423072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5729400" y="41781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5710320" y="41259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5686560" y="407340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9" y="18"/>
                    </a:moveTo>
                    <a:lnTo>
                      <a:pt x="27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5667480" y="401796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6" y="20"/>
                    </a:moveTo>
                    <a:lnTo>
                      <a:pt x="24" y="17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5648400" y="39654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5629320" y="39132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5610240" y="3855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5591160" y="38037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5572080" y="37512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5553000" y="36939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5533920" y="364176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5514840" y="35892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5495760" y="3538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6" y="17"/>
                    </a:moveTo>
                    <a:lnTo>
                      <a:pt x="24" y="14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5477040" y="3481560"/>
                <a:ext cx="3780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5457960" y="342900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5438880" y="33764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5419800" y="331956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5400720" y="3267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5381640" y="32148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5362560" y="316224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5343480" y="31050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5324400" y="305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5305320" y="3002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5288040" y="294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5268960" y="289260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6" y="21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5245200" y="2840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24" y="15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5226120" y="278280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5207040" y="27306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6" y="21"/>
                    </a:moveTo>
                    <a:lnTo>
                      <a:pt x="24" y="18"/>
                    </a:lnTo>
                    <a:lnTo>
                      <a:pt x="18" y="0"/>
                    </a:lnTo>
                    <a:lnTo>
                      <a:pt x="0" y="3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5197320" y="2701800"/>
                <a:ext cx="28800" cy="504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3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7" name=""/>
            <p:cNvSpPr/>
            <p:nvPr/>
          </p:nvSpPr>
          <p:spPr>
            <a:xfrm>
              <a:off x="5715000" y="3238560"/>
              <a:ext cx="6508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8853480" y="3965400"/>
              <a:ext cx="1440" cy="85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365880" y="2673360"/>
              <a:ext cx="447840" cy="236520"/>
            </a:xfrm>
            <a:custGeom>
              <a:avLst/>
              <a:gdLst/>
              <a:ahLst/>
              <a:rect l="l" t="t" r="r" b="b"/>
              <a:pathLst>
                <a:path w="282" h="149">
                  <a:moveTo>
                    <a:pt x="0" y="149"/>
                  </a:moveTo>
                  <a:lnTo>
                    <a:pt x="14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853320" y="2378160"/>
              <a:ext cx="1285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Dopuszczal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zmiana prą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8904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7004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70040" y="2820960"/>
              <a:ext cx="14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90520" y="2494080"/>
              <a:ext cx="3459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715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95000" y="2625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673280" y="4040280"/>
              <a:ext cx="6192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065240" y="2897280"/>
              <a:ext cx="541440" cy="51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392120" y="2944800"/>
              <a:ext cx="180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392120" y="3016080"/>
              <a:ext cx="16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V="1">
              <a:off x="1392120" y="3262320"/>
              <a:ext cx="19548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2" name=""/>
            <p:cNvGrpSpPr/>
            <p:nvPr/>
          </p:nvGrpSpPr>
          <p:grpSpPr>
            <a:xfrm>
              <a:off x="1098360" y="3214800"/>
              <a:ext cx="293760" cy="109440"/>
              <a:chOff x="1098360" y="3214800"/>
              <a:chExt cx="293760" cy="109440"/>
            </a:xfrm>
          </p:grpSpPr>
          <p:sp>
            <p:nvSpPr>
              <p:cNvPr id="4123" name=""/>
              <p:cNvSpPr/>
              <p:nvPr/>
            </p:nvSpPr>
            <p:spPr>
              <a:xfrm flipH="1">
                <a:off x="1098360" y="3267000"/>
                <a:ext cx="29340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1287360" y="321480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0" y="69"/>
                    </a:moveTo>
                    <a:lnTo>
                      <a:pt x="66" y="33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5" name=""/>
            <p:cNvSpPr/>
            <p:nvPr/>
          </p:nvSpPr>
          <p:spPr>
            <a:xfrm>
              <a:off x="1558800" y="301608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587600" y="3267000"/>
              <a:ext cx="137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70040" y="3267000"/>
              <a:ext cx="32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89040" y="3443400"/>
              <a:ext cx="16668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70040" y="3281400"/>
              <a:ext cx="144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70040" y="3860640"/>
              <a:ext cx="14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907920" y="3533760"/>
              <a:ext cx="34632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98424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10772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625760" y="3443400"/>
              <a:ext cx="160200" cy="426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706400" y="3281400"/>
              <a:ext cx="180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706400" y="3860640"/>
              <a:ext cx="1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843200" y="3533760"/>
              <a:ext cx="347400" cy="3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919160" y="35701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042640" y="3665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596960" y="2408400"/>
              <a:ext cx="1620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677960" y="2241720"/>
              <a:ext cx="1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677960" y="2820960"/>
              <a:ext cx="14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809720" y="2494080"/>
              <a:ext cx="347760" cy="307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876320" y="2532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999800" y="2625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770040" y="2227320"/>
              <a:ext cx="1158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770040" y="4068720"/>
              <a:ext cx="136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36560" y="3238560"/>
              <a:ext cx="6192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639800" y="2198520"/>
              <a:ext cx="6660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0" name=""/>
            <p:cNvGrpSpPr/>
            <p:nvPr/>
          </p:nvGrpSpPr>
          <p:grpSpPr>
            <a:xfrm>
              <a:off x="547560" y="3343320"/>
              <a:ext cx="98640" cy="636480"/>
              <a:chOff x="547560" y="3343320"/>
              <a:chExt cx="98640" cy="636480"/>
            </a:xfrm>
          </p:grpSpPr>
          <p:sp>
            <p:nvSpPr>
              <p:cNvPr id="4151" name=""/>
              <p:cNvSpPr/>
              <p:nvPr/>
            </p:nvSpPr>
            <p:spPr>
              <a:xfrm>
                <a:off x="593640" y="3343320"/>
                <a:ext cx="1800" cy="6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47560" y="3343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63"/>
                    </a:moveTo>
                    <a:lnTo>
                      <a:pt x="29" y="0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3" name=""/>
            <p:cNvSpPr/>
            <p:nvPr/>
          </p:nvSpPr>
          <p:spPr>
            <a:xfrm>
              <a:off x="210960" y="3227400"/>
              <a:ext cx="565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8320" y="4092480"/>
              <a:ext cx="7958160" cy="1814760"/>
            </a:xfrm>
            <a:custGeom>
              <a:avLst/>
              <a:gdLst/>
              <a:ahLst/>
              <a:rect l="l" t="t" r="r" b="b"/>
              <a:pathLst>
                <a:path w="5046" h="1121">
                  <a:moveTo>
                    <a:pt x="0" y="0"/>
                  </a:moveTo>
                  <a:cubicBezTo>
                    <a:pt x="179" y="366"/>
                    <a:pt x="359" y="733"/>
                    <a:pt x="878" y="911"/>
                  </a:cubicBezTo>
                  <a:cubicBezTo>
                    <a:pt x="1397" y="1089"/>
                    <a:pt x="2417" y="1121"/>
                    <a:pt x="3112" y="1066"/>
                  </a:cubicBezTo>
                  <a:cubicBezTo>
                    <a:pt x="3807" y="1011"/>
                    <a:pt x="4426" y="794"/>
                    <a:pt x="5046" y="578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95760" y="2967120"/>
              <a:ext cx="191700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Zmiana I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D 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w układz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konwencjonalny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(tzn. bez R</a:t>
              </a:r>
              <a:r>
                <a:rPr b="0" lang="pl-PL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pl-PL" sz="1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 flipV="1">
              <a:off x="4924440" y="3142800"/>
              <a:ext cx="0" cy="2667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6296040" y="3267000"/>
              <a:ext cx="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6296040" y="2610000"/>
              <a:ext cx="0" cy="495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9" name=""/>
                <p:cNvSpPr txBox="1"/>
                <p:nvPr/>
              </p:nvSpPr>
              <p:spPr>
                <a:xfrm>
                  <a:off x="3314880" y="5435640"/>
                  <a:ext cx="264924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60" name=""/>
            <p:cNvSpPr/>
            <p:nvPr/>
          </p:nvSpPr>
          <p:spPr>
            <a:xfrm>
              <a:off x="8510040" y="479268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6111000" y="119556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063160" y="1952640"/>
              <a:ext cx="65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9600" y="45720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ydwa modele są zgodne, gdy pomiędzy ich parametrami zachodz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ępujące związk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187280" y="1600200"/>
                <a:ext cx="60073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144080" y="22096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ą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251160" y="2543040"/>
                <a:ext cx="18781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915480" y="3429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41240" y="3798720"/>
                <a:ext cx="7475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ϕ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0280" y="49528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zymujemy za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562720"/>
                <a:ext cx="5181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228600"/>
            <a:ext cx="8458200" cy="1607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śli temperatura złącza tranzystora bipolarnego jest wys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bliska maksymalnej temperaturze złącza przyjmowanej zwy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krzemu jako T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j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= 15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,. to może być konieczne uwzględnienie w modelu tranzystora  zerowego prądu kolek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1905120"/>
            <a:ext cx="4613760" cy="2212200"/>
            <a:chOff x="1828800" y="1905120"/>
            <a:chExt cx="4613760" cy="2212200"/>
          </a:xfrm>
        </p:grpSpPr>
        <p:sp>
          <p:nvSpPr>
            <p:cNvPr id="214" name=""/>
            <p:cNvSpPr/>
            <p:nvPr/>
          </p:nvSpPr>
          <p:spPr>
            <a:xfrm rot="10800000">
              <a:off x="3498840" y="2971440"/>
              <a:ext cx="193680" cy="1933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473280" y="3200400"/>
              <a:ext cx="25884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7240" y="2590560"/>
              <a:ext cx="958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9040" y="252720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49800" y="2581200"/>
              <a:ext cx="1389240" cy="9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67240" y="35812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97480" y="3200400"/>
              <a:ext cx="0" cy="38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297180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14800" y="3124080"/>
              <a:ext cx="266760" cy="26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46560" y="2960640"/>
              <a:ext cx="180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5800" y="35240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38640" y="2573280"/>
              <a:ext cx="0" cy="39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9040" y="3517920"/>
              <a:ext cx="108000" cy="1072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44840" y="254448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4380120" y="2971800"/>
                  <a:ext cx="1258920" cy="36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I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4572000" y="2057400"/>
              <a:ext cx="392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2895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11840" y="190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6280" y="1981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96040" y="36576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02160" y="2590560"/>
              <a:ext cx="0" cy="388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571640" y="25732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63800" y="259056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79520" y="2895480"/>
              <a:ext cx="56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1905120"/>
              <a:ext cx="392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46560" y="3200400"/>
              <a:ext cx="0" cy="38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59240" y="3519360"/>
              <a:ext cx="108000" cy="10764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65800" y="3524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715000" y="274320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590920" y="2743200"/>
              <a:ext cx="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052720" y="426708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tranzystora z prądem zerow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000" y="4876920"/>
            <a:ext cx="74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nieją następujące związki pomiędzy prądami zerowym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286000" y="5470560"/>
                <a:ext cx="39625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yzacja diody - model lin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8720" y="1198440"/>
            <a:ext cx="1902960" cy="1087560"/>
            <a:chOff x="558720" y="1198440"/>
            <a:chExt cx="1902960" cy="1087560"/>
          </a:xfrm>
        </p:grpSpPr>
        <p:sp>
          <p:nvSpPr>
            <p:cNvPr id="249" name=""/>
            <p:cNvSpPr/>
            <p:nvPr/>
          </p:nvSpPr>
          <p:spPr>
            <a:xfrm>
              <a:off x="1565280" y="1198440"/>
              <a:ext cx="727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8720" y="1203480"/>
              <a:ext cx="1902960" cy="1082520"/>
              <a:chOff x="558720" y="1203480"/>
              <a:chExt cx="1902960" cy="1082520"/>
            </a:xfrm>
          </p:grpSpPr>
          <p:sp>
            <p:nvSpPr>
              <p:cNvPr id="251" name=""/>
              <p:cNvSpPr/>
              <p:nvPr/>
            </p:nvSpPr>
            <p:spPr>
              <a:xfrm rot="10800000">
                <a:off x="2228040" y="1630440"/>
                <a:ext cx="193320" cy="19368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203200" y="1859040"/>
                <a:ext cx="258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96800" y="1249560"/>
                <a:ext cx="958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96800" y="2239920"/>
                <a:ext cx="9248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27040" y="1859040"/>
                <a:ext cx="0" cy="380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74400" y="120348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8720" y="1554120"/>
                <a:ext cx="685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31720" y="1249560"/>
                <a:ext cx="0" cy="38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593360" y="124956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288800" y="2178000"/>
                <a:ext cx="107640" cy="108000"/>
              </a:xfrm>
              <a:prstGeom prst="ellipse">
                <a:avLst/>
              </a:prstGeom>
              <a:solidFill>
                <a:srgbClr val="ffffff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320480" y="140148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87720" y="1177920"/>
                <a:ext cx="32004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k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84040" y="2557440"/>
                <a:ext cx="6621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41440" y="4048200"/>
                <a:ext cx="29988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⋯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 flipV="1">
            <a:off x="2874960" y="5714640"/>
            <a:ext cx="2822400" cy="176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392800" y="3514680"/>
            <a:ext cx="3477960" cy="3061800"/>
            <a:chOff x="5392800" y="3514680"/>
            <a:chExt cx="3477960" cy="3061800"/>
          </a:xfrm>
        </p:grpSpPr>
        <p:sp>
          <p:nvSpPr>
            <p:cNvPr id="267" name=""/>
            <p:cNvSpPr/>
            <p:nvPr/>
          </p:nvSpPr>
          <p:spPr>
            <a:xfrm flipV="1">
              <a:off x="5955480" y="3714480"/>
              <a:ext cx="0" cy="22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55480" y="6001560"/>
              <a:ext cx="221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51880" y="3808800"/>
              <a:ext cx="1747080" cy="2188800"/>
            </a:xfrm>
            <a:custGeom>
              <a:avLst/>
              <a:gdLst/>
              <a:ahLst/>
              <a:rect l="l" t="t" r="r" b="b"/>
              <a:pathLst>
                <a:path w="906" h="1014">
                  <a:moveTo>
                    <a:pt x="0" y="1014"/>
                  </a:moveTo>
                  <a:cubicBezTo>
                    <a:pt x="143" y="1013"/>
                    <a:pt x="288" y="1012"/>
                    <a:pt x="384" y="1010"/>
                  </a:cubicBezTo>
                  <a:cubicBezTo>
                    <a:pt x="480" y="1009"/>
                    <a:pt x="525" y="1011"/>
                    <a:pt x="579" y="1003"/>
                  </a:cubicBezTo>
                  <a:cubicBezTo>
                    <a:pt x="633" y="995"/>
                    <a:pt x="673" y="991"/>
                    <a:pt x="708" y="962"/>
                  </a:cubicBezTo>
                  <a:cubicBezTo>
                    <a:pt x="743" y="933"/>
                    <a:pt x="767" y="879"/>
                    <a:pt x="788" y="830"/>
                  </a:cubicBezTo>
                  <a:cubicBezTo>
                    <a:pt x="809" y="781"/>
                    <a:pt x="821" y="716"/>
                    <a:pt x="832" y="666"/>
                  </a:cubicBezTo>
                  <a:cubicBezTo>
                    <a:pt x="843" y="616"/>
                    <a:pt x="843" y="599"/>
                    <a:pt x="852" y="530"/>
                  </a:cubicBezTo>
                  <a:cubicBezTo>
                    <a:pt x="861" y="461"/>
                    <a:pt x="875" y="338"/>
                    <a:pt x="884" y="250"/>
                  </a:cubicBezTo>
                  <a:cubicBezTo>
                    <a:pt x="893" y="162"/>
                    <a:pt x="902" y="52"/>
                    <a:pt x="9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459560" y="3514680"/>
              <a:ext cx="345600" cy="2540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21840" y="5090040"/>
              <a:ext cx="91440" cy="101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940720" y="5156280"/>
              <a:ext cx="1587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63960" y="5211360"/>
              <a:ext cx="0" cy="830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17320" y="467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92800" y="4836240"/>
              <a:ext cx="72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06160" y="6170760"/>
              <a:ext cx="50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01880" y="5552280"/>
              <a:ext cx="66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41160" y="3669120"/>
              <a:ext cx="72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5760" y="6161760"/>
              <a:ext cx="100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613280" y="6023160"/>
              <a:ext cx="142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185600" y="6063480"/>
              <a:ext cx="244800" cy="224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95960" y="2617920"/>
            <a:ext cx="1692360" cy="87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73" y="2968"/>
                </a:moveTo>
                <a:lnTo>
                  <a:pt x="25186" y="2968"/>
                </a:lnTo>
                <a:lnTo>
                  <a:pt x="25186" y="31040"/>
                </a:lnTo>
                <a:lnTo>
                  <a:pt x="8549" y="30377"/>
                </a:lnTo>
              </a:path>
            </a:pathLst>
          </a:custGeom>
          <a:solidFill>
            <a:srgbClr val="ff7c80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achylenie g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90520" y="3716280"/>
            <a:ext cx="1895400" cy="2703600"/>
            <a:chOff x="290520" y="3716280"/>
            <a:chExt cx="1895400" cy="2703600"/>
          </a:xfrm>
        </p:grpSpPr>
        <p:sp>
          <p:nvSpPr>
            <p:cNvPr id="284" name=""/>
            <p:cNvSpPr/>
            <p:nvPr/>
          </p:nvSpPr>
          <p:spPr>
            <a:xfrm>
              <a:off x="1782720" y="4427640"/>
              <a:ext cx="193680" cy="58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50880" y="5484960"/>
              <a:ext cx="635040" cy="56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870200" y="553860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1870200" y="499248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887480" y="416196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70200" y="604980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9680" y="4541760"/>
              <a:ext cx="941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8960" y="5533920"/>
              <a:ext cx="11318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D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D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76280" y="419724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17600" y="6396120"/>
              <a:ext cx="14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400" y="4197240"/>
              <a:ext cx="811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17440" y="3716280"/>
              <a:ext cx="42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34800" y="4268880"/>
              <a:ext cx="0" cy="20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520" y="459900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3:33:12Z</dcterms:created>
  <dc:creator>Agnieszka Kukawczynska</dc:creator>
  <dc:description/>
  <dc:language>en-US</dc:language>
  <cp:lastModifiedBy>MK</cp:lastModifiedBy>
  <dcterms:modified xsi:type="dcterms:W3CDTF">2004-03-09T11:27:38Z</dcterms:modified>
  <cp:revision>189</cp:revision>
  <dc:subject/>
  <dc:title>UKŁADY ZASILANIA TRANZYSTORÓW</dc:title>
</cp:coreProperties>
</file>