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86A-AC96-4D9D-ACF9-A376ECFA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1B1-2000-433D-97F4-DC8F5F49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2AA-E260-47F7-A977-9C054236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0039-76C2-4EC2-9950-250DB32E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876-7926-41D9-B557-72D21893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B48-A7D9-4280-8D79-ACBFC4B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9B6-46C6-4BFE-93E1-CCC3A357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9AA-D43C-4C60-8D90-81AF263A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851-F93B-4988-9113-06D0BE80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BAF-B7F3-4B14-90D0-55C3C5B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DC7-F419-4F62-87E9-2717B38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56C-8124-41BE-9752-5068FD7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991-B0A7-4454-BC61-F418F263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0040" y="1482840"/>
            <a:ext cx="7897680" cy="4967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6040" y="210816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9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37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58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1480" y="5826240"/>
            <a:ext cx="59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73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74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91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przenoszen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ormalizowana charakterystyka faz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ustopniowego wzmacniacza ze sprzęż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77800" y="1252440"/>
            <a:ext cx="76294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|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4680" y="1231920"/>
            <a:ext cx="82976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73280" y="1498680"/>
            <a:ext cx="7872120" cy="4951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 dwustopni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ze sprzężeniem: faza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79800" y="1130400"/>
                <a:ext cx="416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  F = różnica zwrot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struktury blokowe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0" y="1380960"/>
            <a:ext cx="7878240" cy="4754520"/>
            <a:chOff x="360" y="1380960"/>
            <a:chExt cx="7878240" cy="4754520"/>
          </a:xfrm>
        </p:grpSpPr>
        <p:sp>
          <p:nvSpPr>
            <p:cNvPr id="227" name=""/>
            <p:cNvSpPr/>
            <p:nvPr/>
          </p:nvSpPr>
          <p:spPr>
            <a:xfrm>
              <a:off x="2505240" y="2319120"/>
              <a:ext cx="142848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98760" y="31762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7640" y="26017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9720" y="28951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4488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6680" y="28540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4880" y="333648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960" y="3630240"/>
              <a:ext cx="46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05000" y="33523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68480" y="3655800"/>
              <a:ext cx="55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5400" y="227772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68920" y="313488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87800" y="25603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3880" y="285408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15040" y="251892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16840" y="28126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15040" y="329544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07120" y="358920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8560" y="331128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5440" y="36144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260172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4960" y="2890440"/>
              <a:ext cx="0" cy="77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45040" y="2584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2720" y="2866680"/>
              <a:ext cx="0" cy="75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3520" y="45414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7040" y="5398920"/>
              <a:ext cx="1428840" cy="723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16280" y="482400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000" y="51177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3520" y="478296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44960" y="5076360"/>
              <a:ext cx="250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3520" y="5559120"/>
              <a:ext cx="23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5600" y="58528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32080" y="5574960"/>
              <a:ext cx="279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8040" y="5878080"/>
              <a:ext cx="57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4680" y="4830480"/>
              <a:ext cx="0" cy="74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62080" y="511308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6160" y="507816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10360" y="2868480"/>
              <a:ext cx="0" cy="43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0320" y="4554360"/>
              <a:ext cx="1428840" cy="723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03840" y="541152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22720" y="48369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29080" y="5130360"/>
              <a:ext cx="37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9960" y="479556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51760" y="508932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49960" y="5571720"/>
              <a:ext cx="34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2040" y="586548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4120" y="5587560"/>
              <a:ext cx="384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40360" y="58910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45280" y="5124240"/>
              <a:ext cx="0" cy="4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97720" y="5106600"/>
              <a:ext cx="0" cy="4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86760" y="2514240"/>
              <a:ext cx="0" cy="7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69360" y="2814480"/>
              <a:ext cx="0" cy="7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" y="2631600"/>
              <a:ext cx="16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pięci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4800" y="49082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ąd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3600" y="138096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30120" y="139824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6960" y="19458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36560" y="18921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2800" y="4114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01280" y="4151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10240" y="254880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78600" y="249012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268880" y="4667040"/>
              <a:ext cx="371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313400" y="467820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162400" y="261432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197320" y="321444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197320" y="4871880"/>
              <a:ext cx="0" cy="280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97320" y="5558760"/>
              <a:ext cx="0" cy="28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87440" y="3018600"/>
              <a:ext cx="0" cy="28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27120" y="5225760"/>
              <a:ext cx="0" cy="280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2600" y="4713120"/>
              <a:ext cx="371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1040" y="2518920"/>
              <a:ext cx="3715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4880" y="175068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napię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74360" y="19839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prą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2400" y="288432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91120" y="287784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86120" y="5135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3680" y="51544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703600" y="38239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943600" y="371124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49040" y="6032160"/>
              <a:ext cx="84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931000" y="604332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803680" y="1103400"/>
                <a:ext cx="286524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0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5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5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6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25200" y="114624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60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61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61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2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3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4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5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5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5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8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8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9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9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70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70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2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3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4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5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5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6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7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8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8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9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9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80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80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2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3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3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4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38360" y="5311800"/>
                <a:ext cx="38098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455200" y="174636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5873760" y="4691160"/>
            <a:ext cx="151272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8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8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489720" y="4858920"/>
            <a:ext cx="0" cy="330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9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90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91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2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35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3716280"/>
            <a:ext cx="0" cy="303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89960" y="25876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71240" y="4754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4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65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69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80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84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96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1004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1009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1011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2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9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33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38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48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53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59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63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80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83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91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100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681280" y="1736640"/>
                <a:ext cx="4205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3430440" y="3814920"/>
                <a:ext cx="1855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397872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22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24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29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33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42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5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6" name=""/>
            <p:cNvSpPr/>
            <p:nvPr/>
          </p:nvSpPr>
          <p:spPr>
            <a:xfrm>
              <a:off x="3729240" y="3273840"/>
              <a:ext cx="44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117880" y="4254480"/>
                <a:ext cx="48942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83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85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4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98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522360" y="2800440"/>
                <a:ext cx="699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407880" y="2054160"/>
                <a:ext cx="10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213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217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21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26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29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33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38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0160" y="17524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92480" y="5311800"/>
                <a:ext cx="43020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5440" y="1981080"/>
            <a:ext cx="105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32040" y="5398920"/>
                <a:ext cx="5030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acc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2200" y="17542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37960" y="1905120"/>
            <a:ext cx="73512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Zmniejsza wzmocnienie układu: 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: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lt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Zwiększa się pasmo przenoszenia: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&gt;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36960" y="1119240"/>
                <a:ext cx="2444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03400" y="1954080"/>
            <a:ext cx="688644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51320" y="5407200"/>
            <a:ext cx="1274760" cy="841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1120" y="5622840"/>
            <a:ext cx="174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cj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6880" y="1467000"/>
            <a:ext cx="7923240" cy="4983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7000" y="2344680"/>
            <a:ext cx="17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4-03-16T11:32:38Z</dcterms:modified>
  <cp:revision>121</cp:revision>
  <dc:subject/>
  <dc:title>Sprzężenie zwrotne</dc:title>
</cp:coreProperties>
</file>