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D02-3544-4FFD-82F3-41946EF4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532-8514-4C6C-85D9-B9AE210D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3A5-009D-4357-A668-150E0466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EF2-3173-4A73-AA64-ABD4A150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AF5-D619-4EAF-B6EB-B2BC929C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BF8-3C1F-4170-B061-83BB37F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622-778F-4A48-BC8C-B8D5DBAB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CC6-EC53-4D09-8356-AC75F42E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B01-2031-44F2-988C-D80110A2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568-94A4-43D6-906B-6D06F76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5E5-5381-4088-BB0E-6990217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3F2-7777-4946-8D06-FABD52B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DC1-EA3D-49FC-A0C3-0895581CF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zężenie zwrot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jedno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85280" y="1154160"/>
            <a:ext cx="4299480" cy="3122280"/>
            <a:chOff x="4085280" y="1154160"/>
            <a:chExt cx="4299480" cy="3122280"/>
          </a:xfrm>
        </p:grpSpPr>
        <p:sp>
          <p:nvSpPr>
            <p:cNvPr id="124" name=""/>
            <p:cNvSpPr/>
            <p:nvPr/>
          </p:nvSpPr>
          <p:spPr>
            <a:xfrm>
              <a:off x="4670280" y="1154160"/>
              <a:ext cx="0" cy="29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7960" y="3685320"/>
              <a:ext cx="38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2087280"/>
              <a:ext cx="112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720" y="2087280"/>
              <a:ext cx="1575000" cy="15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78200" y="37663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88160" y="269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84680" y="2068200"/>
              <a:ext cx="3355560" cy="1625760"/>
            </a:xfrm>
            <a:custGeom>
              <a:avLst/>
              <a:gdLst/>
              <a:ahLst/>
              <a:rect l="l" t="t" r="r" b="b"/>
              <a:pathLst>
                <a:path w="1431" h="586">
                  <a:moveTo>
                    <a:pt x="0" y="7"/>
                  </a:moveTo>
                  <a:cubicBezTo>
                    <a:pt x="105" y="4"/>
                    <a:pt x="207" y="0"/>
                    <a:pt x="285" y="7"/>
                  </a:cubicBezTo>
                  <a:cubicBezTo>
                    <a:pt x="363" y="14"/>
                    <a:pt x="419" y="33"/>
                    <a:pt x="471" y="52"/>
                  </a:cubicBezTo>
                  <a:cubicBezTo>
                    <a:pt x="523" y="71"/>
                    <a:pt x="552" y="90"/>
                    <a:pt x="597" y="121"/>
                  </a:cubicBezTo>
                  <a:cubicBezTo>
                    <a:pt x="642" y="152"/>
                    <a:pt x="684" y="189"/>
                    <a:pt x="744" y="241"/>
                  </a:cubicBezTo>
                  <a:cubicBezTo>
                    <a:pt x="804" y="293"/>
                    <a:pt x="899" y="382"/>
                    <a:pt x="960" y="433"/>
                  </a:cubicBezTo>
                  <a:cubicBezTo>
                    <a:pt x="1021" y="484"/>
                    <a:pt x="1053" y="523"/>
                    <a:pt x="1110" y="547"/>
                  </a:cubicBezTo>
                  <a:cubicBezTo>
                    <a:pt x="1167" y="571"/>
                    <a:pt x="1249" y="574"/>
                    <a:pt x="1302" y="580"/>
                  </a:cubicBezTo>
                  <a:cubicBezTo>
                    <a:pt x="1355" y="586"/>
                    <a:pt x="1409" y="582"/>
                    <a:pt x="1431" y="5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39360" y="21038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9960" y="2085840"/>
              <a:ext cx="0" cy="102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9440" y="1174680"/>
              <a:ext cx="13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, 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6320" y="3098880"/>
              <a:ext cx="21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5040" y="309888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68840" y="3090240"/>
              <a:ext cx="2913120" cy="590040"/>
            </a:xfrm>
            <a:custGeom>
              <a:avLst/>
              <a:gdLst/>
              <a:ahLst/>
              <a:rect l="l" t="t" r="r" b="b"/>
              <a:pathLst>
                <a:path w="2232" h="400">
                  <a:moveTo>
                    <a:pt x="0" y="4"/>
                  </a:moveTo>
                  <a:cubicBezTo>
                    <a:pt x="196" y="4"/>
                    <a:pt x="392" y="4"/>
                    <a:pt x="570" y="4"/>
                  </a:cubicBezTo>
                  <a:cubicBezTo>
                    <a:pt x="748" y="4"/>
                    <a:pt x="928" y="0"/>
                    <a:pt x="1068" y="4"/>
                  </a:cubicBezTo>
                  <a:cubicBezTo>
                    <a:pt x="1208" y="8"/>
                    <a:pt x="1321" y="8"/>
                    <a:pt x="1410" y="28"/>
                  </a:cubicBezTo>
                  <a:cubicBezTo>
                    <a:pt x="1499" y="48"/>
                    <a:pt x="1539" y="83"/>
                    <a:pt x="1602" y="124"/>
                  </a:cubicBezTo>
                  <a:cubicBezTo>
                    <a:pt x="1665" y="165"/>
                    <a:pt x="1725" y="232"/>
                    <a:pt x="1788" y="274"/>
                  </a:cubicBezTo>
                  <a:cubicBezTo>
                    <a:pt x="1851" y="316"/>
                    <a:pt x="1906" y="355"/>
                    <a:pt x="1980" y="376"/>
                  </a:cubicBezTo>
                  <a:cubicBezTo>
                    <a:pt x="2054" y="397"/>
                    <a:pt x="2143" y="398"/>
                    <a:pt x="2232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98080" y="3763440"/>
              <a:ext cx="470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6720" y="2085840"/>
              <a:ext cx="0" cy="1594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6720" y="343296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10120" y="182304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85280" y="2833200"/>
              <a:ext cx="71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U0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65400" y="4643280"/>
                <a:ext cx="5608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9120" y="3652920"/>
                <a:ext cx="1803240" cy="22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F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F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353880" y="1641600"/>
            <a:ext cx="2816280" cy="1581120"/>
            <a:chOff x="353880" y="1641600"/>
            <a:chExt cx="2816280" cy="1581120"/>
          </a:xfrm>
        </p:grpSpPr>
        <p:sp>
          <p:nvSpPr>
            <p:cNvPr id="145" name=""/>
            <p:cNvSpPr/>
            <p:nvPr/>
          </p:nvSpPr>
          <p:spPr>
            <a:xfrm>
              <a:off x="1041480" y="1641600"/>
              <a:ext cx="1428840" cy="72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5000" y="2498760"/>
              <a:ext cx="1428840" cy="72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880" y="19242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1120" y="188280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81120" y="2659320"/>
              <a:ext cx="222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1240" y="26751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1240" y="192420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1280" y="1906560"/>
              <a:ext cx="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9000" y="22068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239840" y="314640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478520" y="822240"/>
            <a:ext cx="62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200" y="1252440"/>
            <a:ext cx="2522520" cy="441360"/>
          </a:xfrm>
          <a:custGeom>
            <a:avLst/>
            <a:gdLst/>
            <a:ahLst/>
            <a:rect l="l" t="t" r="r" b="b"/>
            <a:pathLst>
              <a:path w="1589" h="278">
                <a:moveTo>
                  <a:pt x="0" y="244"/>
                </a:moveTo>
                <a:cubicBezTo>
                  <a:pt x="131" y="169"/>
                  <a:pt x="263" y="94"/>
                  <a:pt x="389" y="55"/>
                </a:cubicBezTo>
                <a:cubicBezTo>
                  <a:pt x="515" y="16"/>
                  <a:pt x="615" y="13"/>
                  <a:pt x="756" y="11"/>
                </a:cubicBezTo>
                <a:cubicBezTo>
                  <a:pt x="897" y="9"/>
                  <a:pt x="1095" y="0"/>
                  <a:pt x="1234" y="44"/>
                </a:cubicBezTo>
                <a:cubicBezTo>
                  <a:pt x="1373" y="88"/>
                  <a:pt x="1481" y="183"/>
                  <a:pt x="1589" y="278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4600" y="5832360"/>
            <a:ext cx="57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e wzmocnienia: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B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11600" y="1081080"/>
            <a:ext cx="4303440" cy="2894760"/>
            <a:chOff x="4611600" y="1081080"/>
            <a:chExt cx="4303440" cy="2894760"/>
          </a:xfrm>
        </p:grpSpPr>
        <p:grpSp>
          <p:nvGrpSpPr>
            <p:cNvPr id="160" name=""/>
            <p:cNvGrpSpPr/>
            <p:nvPr/>
          </p:nvGrpSpPr>
          <p:grpSpPr>
            <a:xfrm>
              <a:off x="4611600" y="1081080"/>
              <a:ext cx="4267080" cy="2894760"/>
              <a:chOff x="4611600" y="1081080"/>
              <a:chExt cx="4267080" cy="2894760"/>
            </a:xfrm>
          </p:grpSpPr>
          <p:sp>
            <p:nvSpPr>
              <p:cNvPr id="161" name=""/>
              <p:cNvSpPr/>
              <p:nvPr/>
            </p:nvSpPr>
            <p:spPr>
              <a:xfrm>
                <a:off x="5360040" y="1081080"/>
                <a:ext cx="0" cy="266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1000" y="3378240"/>
                <a:ext cx="36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60040" y="1928160"/>
                <a:ext cx="1491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1160" y="1928160"/>
                <a:ext cx="1055880" cy="73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80160" y="345060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357760" y="2986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74080" y="18608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4560" y="1099800"/>
                <a:ext cx="65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|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46760" y="346572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1160" y="1926720"/>
                <a:ext cx="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11600" y="16866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900560" y="2664000"/>
                <a:ext cx="237960" cy="69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88320" y="2682360"/>
                <a:ext cx="0" cy="70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8792640" y="2910600"/>
                  <a:ext cx="12240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04640" y="3516480"/>
                <a:ext cx="8380440" cy="30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ϖ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230040" y="1643040"/>
            <a:ext cx="4119840" cy="1440000"/>
            <a:chOff x="230040" y="1643040"/>
            <a:chExt cx="4119840" cy="1440000"/>
          </a:xfrm>
        </p:grpSpPr>
        <p:sp>
          <p:nvSpPr>
            <p:cNvPr id="178" name=""/>
            <p:cNvSpPr/>
            <p:nvPr/>
          </p:nvSpPr>
          <p:spPr>
            <a:xfrm>
              <a:off x="820800" y="1643040"/>
              <a:ext cx="1198080" cy="605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040" y="19231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3480" y="188856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54760" y="1922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2800" y="21592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240" y="1644480"/>
              <a:ext cx="1198080" cy="604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U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4400" y="2477880"/>
              <a:ext cx="1198080" cy="605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2440" y="1962720"/>
              <a:ext cx="57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39840" y="1982520"/>
              <a:ext cx="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5080" y="217368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400040" y="3004560"/>
              <a:ext cx="70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387520" y="2761920"/>
              <a:ext cx="15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54760" y="2792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82800" y="96984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54360" y="153828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2800" y="1179360"/>
            <a:ext cx="28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5400" y="1179360"/>
            <a:ext cx="39708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2320" y="95076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63520" y="1519200"/>
            <a:ext cx="96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92320" y="13320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3040" y="1312920"/>
            <a:ext cx="22860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5880" y="114444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7640" y="1001880"/>
            <a:ext cx="48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U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arakterystyka%20Kf" descr=""/>
          <p:cNvPicPr/>
          <p:nvPr/>
        </p:nvPicPr>
        <p:blipFill>
          <a:blip r:embed="rId1"/>
          <a:stretch/>
        </p:blipFill>
        <p:spPr>
          <a:xfrm>
            <a:off x="398520" y="833400"/>
            <a:ext cx="8012160" cy="5800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69960" y="3261960"/>
            <a:ext cx="6421680" cy="3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przenoszenia wzmacniacza dwustopn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harakterystka%20fazowa%20Kf" descr=""/>
          <p:cNvPicPr/>
          <p:nvPr/>
        </p:nvPicPr>
        <p:blipFill>
          <a:blip r:embed="rId1"/>
          <a:stretch/>
        </p:blipFill>
        <p:spPr>
          <a:xfrm>
            <a:off x="630360" y="963720"/>
            <a:ext cx="7665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blokowe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1886040"/>
            <a:ext cx="142848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98760" y="27432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7640" y="21686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24620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488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46680" y="2421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44880" y="2903400"/>
            <a:ext cx="22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6960" y="3197160"/>
            <a:ext cx="4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5000" y="291924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68480" y="3222720"/>
            <a:ext cx="55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75400" y="184464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68920" y="270180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87800" y="2127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03880" y="2421000"/>
            <a:ext cx="36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5040" y="20858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6840" y="23796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5040" y="2862360"/>
            <a:ext cx="16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7120" y="3156120"/>
            <a:ext cx="47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08560" y="287820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05440" y="31813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5000" y="216864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74960" y="2457360"/>
            <a:ext cx="0" cy="77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45040" y="2151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243360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3520" y="4108320"/>
            <a:ext cx="1428840" cy="723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7040" y="4965840"/>
            <a:ext cx="1428840" cy="723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6280" y="439092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46846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43520" y="434988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4960" y="4643280"/>
            <a:ext cx="2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3520" y="5126040"/>
            <a:ext cx="23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5600" y="54198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32080" y="5141880"/>
            <a:ext cx="27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48040" y="5445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44680" y="439740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62080" y="4680000"/>
            <a:ext cx="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4645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10360" y="2435400"/>
            <a:ext cx="0" cy="43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0320" y="4121280"/>
            <a:ext cx="1428840" cy="723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3840" y="4978440"/>
            <a:ext cx="142884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2720" y="44038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29080" y="4697280"/>
            <a:ext cx="37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9960" y="43624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1760" y="4656240"/>
            <a:ext cx="34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5138640"/>
            <a:ext cx="34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2040" y="543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5154480"/>
            <a:ext cx="38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40360" y="545796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5280" y="4691160"/>
            <a:ext cx="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97720" y="4673520"/>
            <a:ext cx="0" cy="45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6760" y="2081160"/>
            <a:ext cx="0" cy="7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9360" y="2381400"/>
            <a:ext cx="0" cy="7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0" y="219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4800" y="4475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43600" y="947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30120" y="965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56960" y="15127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6560" y="1459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62800" y="3681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1280" y="3718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10240" y="211572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78600" y="205704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8880" y="423396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313400" y="424512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162400" y="218124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197320" y="278136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97320" y="4438800"/>
            <a:ext cx="0" cy="280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97320" y="512568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87440" y="2585520"/>
            <a:ext cx="0" cy="2811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27120" y="4792680"/>
            <a:ext cx="0" cy="2808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2600" y="4280040"/>
            <a:ext cx="3711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1040" y="2085840"/>
            <a:ext cx="371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4880" y="1317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4360" y="155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ą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2400" y="245124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1120" y="244476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6120" y="470232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3680" y="472140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703600" y="33908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943600" y="327816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49040" y="5599080"/>
            <a:ext cx="84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931000" y="5610240"/>
            <a:ext cx="84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dancja wejściowa i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5280" y="1752480"/>
                <a:ext cx="4923000" cy="357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e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e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wy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y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</m:den>
                                  </m:f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β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122000" y="16844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E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86440" y="4113360"/>
            <a:ext cx="47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szeregow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łączenie równoległe na WYJŚC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792520" y="1114560"/>
                <a:ext cx="28890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263760" y="4343400"/>
            <a:ext cx="1506600" cy="896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5405400"/>
            <a:ext cx="1505160" cy="89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0680" y="4692600"/>
            <a:ext cx="7048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3520" y="5057640"/>
            <a:ext cx="385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82960" y="4643280"/>
            <a:ext cx="725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2960" y="5603760"/>
            <a:ext cx="36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78200" y="5622840"/>
            <a:ext cx="39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81440" y="5075280"/>
            <a:ext cx="1440" cy="54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770200" y="566244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21200" y="4459320"/>
            <a:ext cx="476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707080" y="562428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9520" y="6124680"/>
            <a:ext cx="295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52760" y="5670720"/>
            <a:ext cx="28908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597120" y="5753160"/>
            <a:ext cx="180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62320" y="56055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98920" y="6004080"/>
            <a:ext cx="144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340160" y="5592600"/>
            <a:ext cx="40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721480" y="4686120"/>
            <a:ext cx="1440" cy="493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62400" y="4649760"/>
            <a:ext cx="1800" cy="95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5360" y="4697280"/>
            <a:ext cx="1800" cy="140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75200" y="4838760"/>
            <a:ext cx="35388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44960" y="4856040"/>
            <a:ext cx="354240" cy="40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59080" y="5832360"/>
            <a:ext cx="4777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4080" y="5111640"/>
            <a:ext cx="7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2400" y="560376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18120" y="4611600"/>
            <a:ext cx="8712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480" y="5597640"/>
            <a:ext cx="81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600360" y="559440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0640" y="3498840"/>
            <a:ext cx="428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ia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zy sprzężeniu N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3520" y="4705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05200" y="4703760"/>
            <a:ext cx="1440" cy="347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3960" y="3040200"/>
            <a:ext cx="315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ymiary transmitancji K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0" y="1111320"/>
            <a:ext cx="8773920" cy="5051520"/>
            <a:chOff x="0" y="1111320"/>
            <a:chExt cx="8773920" cy="50515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82" name=""/>
            <p:cNvGrpSpPr/>
            <p:nvPr/>
          </p:nvGrpSpPr>
          <p:grpSpPr>
            <a:xfrm>
              <a:off x="1693800" y="1111320"/>
              <a:ext cx="7080120" cy="4795560"/>
              <a:chOff x="1693800" y="1111320"/>
              <a:chExt cx="7080120" cy="47955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254640" y="4106880"/>
                <a:ext cx="2519280" cy="1800000"/>
                <a:chOff x="6254640" y="4106880"/>
                <a:chExt cx="2519280" cy="18000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869160" y="4472640"/>
                  <a:ext cx="1278000" cy="65628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863760" y="5250240"/>
                  <a:ext cx="1278000" cy="6566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254640" y="472896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28600" y="4995360"/>
                  <a:ext cx="335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157600" y="469152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59040" y="4957920"/>
                  <a:ext cx="30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157600" y="5395680"/>
                  <a:ext cx="309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32920" y="5410080"/>
                  <a:ext cx="343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542640" y="4989600"/>
                  <a:ext cx="0" cy="41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68640" y="4973760"/>
                  <a:ext cx="0" cy="41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20520" y="41068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8303400" y="45849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6410520" y="476064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9160" y="5476320"/>
                  <a:ext cx="0" cy="25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074000" y="465408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7092360" y="54259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267240" y="5771520"/>
                  <a:ext cx="243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1751040" y="4030560"/>
                <a:ext cx="2518920" cy="1800000"/>
                <a:chOff x="1751040" y="4030560"/>
                <a:chExt cx="2518920" cy="18000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365560" y="4413600"/>
                  <a:ext cx="1278000" cy="64836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0160" y="5181840"/>
                  <a:ext cx="1277640" cy="6487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751040" y="466668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53640" y="4629600"/>
                  <a:ext cx="61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655080" y="4893120"/>
                  <a:ext cx="224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653640" y="532548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884240" y="5339520"/>
                  <a:ext cx="47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895760" y="4672080"/>
                  <a:ext cx="0" cy="66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71080" y="4894200"/>
                  <a:ext cx="0" cy="426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87760" y="403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3854880" y="452556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1944000" y="498348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012040" y="4558320"/>
                  <a:ext cx="3322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618280" y="4595400"/>
                  <a:ext cx="75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2568960" y="5339520"/>
                  <a:ext cx="75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800360" y="5694120"/>
                  <a:ext cx="2436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48600" y="4637880"/>
                  <a:ext cx="68040" cy="6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207120" y="1114560"/>
                <a:ext cx="2518920" cy="1799640"/>
                <a:chOff x="6207120" y="1114560"/>
                <a:chExt cx="2518920" cy="179964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6207120" y="1114560"/>
                  <a:ext cx="2518920" cy="1799640"/>
                  <a:chOff x="6207120" y="1114560"/>
                  <a:chExt cx="2518920" cy="17996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821640" y="1467360"/>
                    <a:ext cx="1278000" cy="66240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15880" y="2251800"/>
                    <a:ext cx="1278000" cy="6624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7120" y="17262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489360" y="1994760"/>
                    <a:ext cx="3265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10080" y="1688400"/>
                    <a:ext cx="615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110080" y="2398680"/>
                    <a:ext cx="147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493680" y="2413080"/>
                    <a:ext cx="335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495120" y="2007720"/>
                    <a:ext cx="0" cy="402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63440" y="1684080"/>
                    <a:ext cx="0" cy="709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234560" y="1114560"/>
                    <a:ext cx="569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6405840" y="1757880"/>
                    <a:ext cx="0" cy="2566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V="1">
                    <a:off x="6402600" y="2443680"/>
                    <a:ext cx="0" cy="257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027560" y="1641960"/>
                    <a:ext cx="75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7019280" y="240876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V="1">
                    <a:off x="8595720" y="1797120"/>
                    <a:ext cx="0" cy="85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284880" y="278352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>
                  <a:off x="8210520" y="1649520"/>
                  <a:ext cx="7632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1693800" y="1111320"/>
                <a:ext cx="2518920" cy="1799640"/>
                <a:chOff x="1693800" y="1111320"/>
                <a:chExt cx="2518920" cy="1799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1693800" y="1111320"/>
                  <a:ext cx="2518920" cy="1799640"/>
                  <a:chOff x="1693800" y="1111320"/>
                  <a:chExt cx="2518920" cy="179964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308680" y="1455120"/>
                    <a:ext cx="1277640" cy="666720"/>
                  </a:xfrm>
                  <a:prstGeom prst="rect">
                    <a:avLst/>
                  </a:prstGeom>
                  <a:solidFill>
                    <a:srgbClr val="00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302920" y="2244240"/>
                    <a:ext cx="1278000" cy="66672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693800" y="171540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596400" y="1677240"/>
                    <a:ext cx="616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596400" y="2391840"/>
                    <a:ext cx="198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>
                    <a:off x="1886760" y="2406600"/>
                    <a:ext cx="428760" cy="8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886760" y="1715400"/>
                    <a:ext cx="0" cy="698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783960" y="1663920"/>
                    <a:ext cx="0" cy="734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23320" y="1111320"/>
                    <a:ext cx="60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127760" y="1763280"/>
                    <a:ext cx="0" cy="864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V="1">
                    <a:off x="1952280" y="2072880"/>
                    <a:ext cx="0" cy="258840"/>
                  </a:xfrm>
                  <a:prstGeom prst="line">
                    <a:avLst/>
                  </a:prstGeom>
                  <a:ln w="1908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967760" y="1595160"/>
                    <a:ext cx="332280" cy="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575800" y="165960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>
                    <a:off x="2469240" y="2393640"/>
                    <a:ext cx="756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712160" y="2788200"/>
                    <a:ext cx="24368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854360" y="1674000"/>
                    <a:ext cx="67680" cy="68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3745080" y="1633680"/>
                  <a:ext cx="75960" cy="74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984480" y="493092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75560" y="5016600"/>
                <a:ext cx="0" cy="331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2096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03848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8195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1722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895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0760" y="1143000"/>
                <a:ext cx="4278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81920" y="2438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4320" y="236232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5715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 F = różnica zwrot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wzmocnienie pęt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e idealnych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1111320"/>
            <a:ext cx="8774280" cy="5051520"/>
            <a:chOff x="0" y="1111320"/>
            <a:chExt cx="8774280" cy="5051520"/>
          </a:xfrm>
        </p:grpSpPr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4551480" y="167652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0" y="1600200"/>
                  <a:ext cx="1479600" cy="14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4648320" y="4724280"/>
                  <a:ext cx="1479600" cy="14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7000" y="4648320"/>
                  <a:ext cx="1479600" cy="14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β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Y</m:t>
                                  </m:r>
                                </m:sub>
                              </m:sSub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6869160" y="4471920"/>
              <a:ext cx="1278000" cy="657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4480" y="5249880"/>
              <a:ext cx="1277640" cy="657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54640" y="47293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29320" y="49957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58320" y="46911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9760" y="4957920"/>
              <a:ext cx="309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8320" y="5396040"/>
              <a:ext cx="30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32560" y="5410080"/>
              <a:ext cx="34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43720" y="498960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9360" y="497376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20520" y="410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304120" y="458460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410160" y="476064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419880" y="5476680"/>
              <a:ext cx="0" cy="253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4000" y="46544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67600" y="577224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5200" y="4413240"/>
              <a:ext cx="1278000" cy="649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0520" y="5181480"/>
              <a:ext cx="127800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1040" y="466740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54360" y="462924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56160" y="4892760"/>
              <a:ext cx="22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4360" y="532620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84240" y="5340240"/>
              <a:ext cx="4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95400" y="4672080"/>
              <a:ext cx="0" cy="66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71800" y="4894200"/>
              <a:ext cx="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8120" y="4030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3855960" y="4525920"/>
              <a:ext cx="331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944720" y="4984920"/>
              <a:ext cx="0" cy="25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13120" y="4559400"/>
              <a:ext cx="3315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19360" y="45957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0360" y="56944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49320" y="463860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21640" y="1467000"/>
              <a:ext cx="1277640" cy="663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16600" y="2252520"/>
              <a:ext cx="1278000" cy="662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07120" y="17254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89720" y="1995480"/>
              <a:ext cx="32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0440" y="168912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10440" y="2398680"/>
              <a:ext cx="14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94400" y="24130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96200" y="2008080"/>
              <a:ext cx="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263080" y="1684440"/>
              <a:ext cx="0" cy="70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5280" y="11145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05480" y="17575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402240" y="2443320"/>
              <a:ext cx="0" cy="25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7920" y="164160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596440" y="1796760"/>
              <a:ext cx="0" cy="85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84880" y="278460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10520" y="1649520"/>
              <a:ext cx="763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1454040"/>
              <a:ext cx="1278000" cy="66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3640" y="2244600"/>
              <a:ext cx="1277640" cy="666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93800" y="171468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7120" y="1677960"/>
              <a:ext cx="6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7120" y="2392200"/>
              <a:ext cx="19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887480" y="2406240"/>
              <a:ext cx="428760" cy="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87480" y="1714680"/>
              <a:ext cx="0" cy="69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4680" y="1663560"/>
              <a:ext cx="0" cy="73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3320" y="11113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127400" y="1763280"/>
              <a:ext cx="0" cy="863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952640" y="2072880"/>
              <a:ext cx="0" cy="258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68480" y="1595520"/>
              <a:ext cx="3319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76520" y="165888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12880" y="2789280"/>
              <a:ext cx="243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54360" y="16747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45080" y="163368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451240" y="2428920"/>
              <a:ext cx="198360" cy="298440"/>
              <a:chOff x="2451240" y="2428920"/>
              <a:chExt cx="198360" cy="298440"/>
            </a:xfrm>
          </p:grpSpPr>
          <p:sp>
            <p:nvSpPr>
              <p:cNvPr id="531" name=""/>
              <p:cNvSpPr/>
              <p:nvPr/>
            </p:nvSpPr>
            <p:spPr>
              <a:xfrm>
                <a:off x="2451240" y="24289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50240" y="24782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451240" y="25282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517840" y="5359320"/>
              <a:ext cx="198360" cy="298440"/>
              <a:chOff x="2517840" y="5359320"/>
              <a:chExt cx="198360" cy="298440"/>
            </a:xfrm>
          </p:grpSpPr>
          <p:sp>
            <p:nvSpPr>
              <p:cNvPr id="535" name=""/>
              <p:cNvSpPr/>
              <p:nvPr/>
            </p:nvSpPr>
            <p:spPr>
              <a:xfrm>
                <a:off x="2517840" y="535932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616840" y="5408640"/>
                <a:ext cx="0" cy="19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7840" y="5458680"/>
                <a:ext cx="198360" cy="19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981840" y="2448000"/>
              <a:ext cx="244440" cy="24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04240" y="2509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7048440" y="5457960"/>
              <a:ext cx="244440" cy="244440"/>
              <a:chOff x="7048440" y="5457960"/>
              <a:chExt cx="244440" cy="244440"/>
            </a:xfrm>
          </p:grpSpPr>
          <p:sp>
            <p:nvSpPr>
              <p:cNvPr id="541" name=""/>
              <p:cNvSpPr/>
              <p:nvPr/>
            </p:nvSpPr>
            <p:spPr>
              <a:xfrm>
                <a:off x="7048440" y="5457960"/>
                <a:ext cx="244440" cy="24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170840" y="551880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305080" y="241920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52760" y="271476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62320" y="53434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610000" y="5657760"/>
              <a:ext cx="936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19840" y="24004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7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240048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05680" y="26956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53200" y="54100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72280" y="5715000"/>
              <a:ext cx="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2284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733880" y="23907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304800" y="53244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838640" y="53910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05160" y="532440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5410080"/>
              <a:ext cx="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4480" y="493092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75560" y="5016600"/>
              <a:ext cx="0" cy="331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impedancji generatora na działan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ętli ujemnego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514760" y="432756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470640" y="2587680"/>
            <a:ext cx="1278000" cy="663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65960" y="3373560"/>
            <a:ext cx="1278000" cy="662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56120" y="284652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43760" y="3533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78520" y="116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054840" y="28782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051600" y="3564000"/>
            <a:ext cx="0" cy="25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76920" y="2762280"/>
            <a:ext cx="7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3905280"/>
            <a:ext cx="17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6680" y="2587680"/>
            <a:ext cx="1278000" cy="668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32000" y="3378240"/>
            <a:ext cx="1278000" cy="66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17760" y="28479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16200" y="284796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25560" y="11462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zężenia 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881360" y="3206880"/>
            <a:ext cx="0" cy="2584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7200" y="2728800"/>
            <a:ext cx="33156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05240" y="279252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0880" y="3922560"/>
            <a:ext cx="182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82720" y="28083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379600" y="3562200"/>
            <a:ext cx="198360" cy="298440"/>
            <a:chOff x="2379600" y="3562200"/>
            <a:chExt cx="198360" cy="298440"/>
          </a:xfrm>
        </p:grpSpPr>
        <p:sp>
          <p:nvSpPr>
            <p:cNvPr id="583" name=""/>
            <p:cNvSpPr/>
            <p:nvPr/>
          </p:nvSpPr>
          <p:spPr>
            <a:xfrm>
              <a:off x="2379600" y="356220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478600" y="3611520"/>
              <a:ext cx="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79600" y="3661560"/>
              <a:ext cx="198360" cy="19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630840" y="3568680"/>
            <a:ext cx="244800" cy="24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753240" y="36306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81120" y="384804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9200" y="35211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45320" y="3521160"/>
            <a:ext cx="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54680" y="381636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6840" y="4505400"/>
            <a:ext cx="3146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1400" y="4540320"/>
            <a:ext cx="368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silniejsze przy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działa przy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85800" y="2778120"/>
            <a:ext cx="910800" cy="122400"/>
            <a:chOff x="685800" y="2778120"/>
            <a:chExt cx="910800" cy="122400"/>
          </a:xfrm>
        </p:grpSpPr>
        <p:sp>
          <p:nvSpPr>
            <p:cNvPr id="595" name=""/>
            <p:cNvSpPr/>
            <p:nvPr/>
          </p:nvSpPr>
          <p:spPr>
            <a:xfrm>
              <a:off x="928440" y="277812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3600" y="2839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2839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984920" y="2782800"/>
            <a:ext cx="910800" cy="122400"/>
            <a:chOff x="4984920" y="2782800"/>
            <a:chExt cx="910800" cy="122400"/>
          </a:xfrm>
        </p:grpSpPr>
        <p:sp>
          <p:nvSpPr>
            <p:cNvPr id="599" name=""/>
            <p:cNvSpPr/>
            <p:nvPr/>
          </p:nvSpPr>
          <p:spPr>
            <a:xfrm>
              <a:off x="5227560" y="27828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652720" y="28440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84920" y="28440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817640" y="35481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149880" y="313992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59600" y="313992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5840" y="290340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2914560"/>
            <a:ext cx="4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36680" y="3218040"/>
            <a:ext cx="487080" cy="485640"/>
            <a:chOff x="436680" y="3218040"/>
            <a:chExt cx="487080" cy="485640"/>
          </a:xfrm>
        </p:grpSpPr>
        <p:sp>
          <p:nvSpPr>
            <p:cNvPr id="608" name=""/>
            <p:cNvSpPr/>
            <p:nvPr/>
          </p:nvSpPr>
          <p:spPr>
            <a:xfrm>
              <a:off x="436680" y="3218040"/>
              <a:ext cx="48708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0400" y="333900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flipV="1">
            <a:off x="655560" y="36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746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749840" y="3209760"/>
            <a:ext cx="487440" cy="486000"/>
            <a:chOff x="4749840" y="3209760"/>
            <a:chExt cx="487440" cy="486000"/>
          </a:xfrm>
        </p:grpSpPr>
        <p:sp>
          <p:nvSpPr>
            <p:cNvPr id="613" name=""/>
            <p:cNvSpPr/>
            <p:nvPr/>
          </p:nvSpPr>
          <p:spPr>
            <a:xfrm>
              <a:off x="4749840" y="3209760"/>
              <a:ext cx="487440" cy="4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93560" y="3330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4968720" y="3682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987800" y="2835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3606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79680" y="33908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5892840" y="1841400"/>
            <a:ext cx="914400" cy="72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95560" y="1371600"/>
            <a:ext cx="1130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85800" y="5380200"/>
                <a:ext cx="211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2920320" y="74916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943280" y="3571920"/>
                <a:ext cx="1215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5" name=""/>
          <p:cNvGrpSpPr/>
          <p:nvPr/>
        </p:nvGrpSpPr>
        <p:grpSpPr>
          <a:xfrm>
            <a:off x="944640" y="2500200"/>
            <a:ext cx="910800" cy="122400"/>
            <a:chOff x="944640" y="2500200"/>
            <a:chExt cx="910800" cy="122400"/>
          </a:xfrm>
        </p:grpSpPr>
        <p:sp>
          <p:nvSpPr>
            <p:cNvPr id="626" name=""/>
            <p:cNvSpPr/>
            <p:nvPr/>
          </p:nvSpPr>
          <p:spPr>
            <a:xfrm>
              <a:off x="1187280" y="2500200"/>
              <a:ext cx="42516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12440" y="2561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44640" y="25614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120760" y="2317680"/>
            <a:ext cx="974880" cy="1034640"/>
            <a:chOff x="2120760" y="2317680"/>
            <a:chExt cx="974880" cy="1034640"/>
          </a:xfrm>
        </p:grpSpPr>
        <p:sp>
          <p:nvSpPr>
            <p:cNvPr id="630" name=""/>
            <p:cNvSpPr/>
            <p:nvPr/>
          </p:nvSpPr>
          <p:spPr>
            <a:xfrm>
              <a:off x="2120760" y="2317680"/>
              <a:ext cx="974880" cy="1034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89880" y="263592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9880" y="30340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259720" y="2954160"/>
              <a:ext cx="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57200" y="2793960"/>
            <a:ext cx="487440" cy="485640"/>
            <a:chOff x="457200" y="2793960"/>
            <a:chExt cx="487440" cy="485640"/>
          </a:xfrm>
        </p:grpSpPr>
        <p:sp>
          <p:nvSpPr>
            <p:cNvPr id="635" name=""/>
            <p:cNvSpPr/>
            <p:nvPr/>
          </p:nvSpPr>
          <p:spPr>
            <a:xfrm>
              <a:off x="457200" y="2793960"/>
              <a:ext cx="487440" cy="485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0920" y="29149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752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165400" y="1635120"/>
            <a:ext cx="912240" cy="122400"/>
            <a:chOff x="2165400" y="1635120"/>
            <a:chExt cx="912240" cy="122400"/>
          </a:xfrm>
        </p:grpSpPr>
        <p:sp>
          <p:nvSpPr>
            <p:cNvPr id="639" name=""/>
            <p:cNvSpPr/>
            <p:nvPr/>
          </p:nvSpPr>
          <p:spPr>
            <a:xfrm>
              <a:off x="2408400" y="163512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4280" y="16963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65400" y="16963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928880" y="169560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95640" y="27939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38640" y="170820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878120" y="3110040"/>
            <a:ext cx="242640" cy="425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699840" y="25621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0200" y="256212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0200" y="329256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600" y="3535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82800" y="254484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46920" y="175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360" y="2022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15920" y="27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38640" y="2844720"/>
            <a:ext cx="0" cy="68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0280" y="2511360"/>
            <a:ext cx="263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65160" y="2144880"/>
            <a:ext cx="0" cy="264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98600" y="264312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5257800" y="5380200"/>
                <a:ext cx="2508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415120" y="4665600"/>
                <a:ext cx="2655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4495680" y="41641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720" y="50022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19720" y="1143000"/>
            <a:ext cx="3533760" cy="2400480"/>
            <a:chOff x="4419720" y="1143000"/>
            <a:chExt cx="3533760" cy="2400480"/>
          </a:xfrm>
        </p:grpSpPr>
        <p:grpSp>
          <p:nvGrpSpPr>
            <p:cNvPr id="663" name=""/>
            <p:cNvGrpSpPr/>
            <p:nvPr/>
          </p:nvGrpSpPr>
          <p:grpSpPr>
            <a:xfrm>
              <a:off x="6792120" y="2667600"/>
              <a:ext cx="182880" cy="365760"/>
              <a:chOff x="6792120" y="2667600"/>
              <a:chExt cx="182880" cy="365760"/>
            </a:xfrm>
          </p:grpSpPr>
          <p:sp>
            <p:nvSpPr>
              <p:cNvPr id="664" name=""/>
              <p:cNvSpPr/>
              <p:nvPr/>
            </p:nvSpPr>
            <p:spPr>
              <a:xfrm>
                <a:off x="6792120" y="2667600"/>
                <a:ext cx="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92120" y="285048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6792120" y="2667600"/>
                <a:ext cx="18288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6185160" y="2484360"/>
              <a:ext cx="0" cy="265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8560" y="2789280"/>
              <a:ext cx="20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953480" y="2301120"/>
              <a:ext cx="0" cy="690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060600" y="2240640"/>
              <a:ext cx="914040" cy="122040"/>
              <a:chOff x="6060600" y="2240640"/>
              <a:chExt cx="914040" cy="122040"/>
            </a:xfrm>
          </p:grpSpPr>
          <p:sp>
            <p:nvSpPr>
              <p:cNvPr id="671" name=""/>
              <p:cNvSpPr/>
              <p:nvPr/>
            </p:nvSpPr>
            <p:spPr>
              <a:xfrm>
                <a:off x="6303960" y="224064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30920" y="230148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600" y="230148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6914520" y="1386720"/>
              <a:ext cx="121680" cy="914040"/>
              <a:chOff x="6914520" y="1386720"/>
              <a:chExt cx="121680" cy="914040"/>
            </a:xfrm>
          </p:grpSpPr>
          <p:sp>
            <p:nvSpPr>
              <p:cNvPr id="675" name=""/>
              <p:cNvSpPr/>
              <p:nvPr/>
            </p:nvSpPr>
            <p:spPr>
              <a:xfrm rot="5400000">
                <a:off x="6761880" y="1782360"/>
                <a:ext cx="426600" cy="121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75360" y="2057040"/>
                <a:ext cx="0" cy="24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75360" y="13867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6975000" y="230148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63120" y="2301480"/>
              <a:ext cx="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060600" y="285048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75000" y="30333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3320" y="3521160"/>
              <a:ext cx="24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660920" y="2789280"/>
              <a:ext cx="914040" cy="122040"/>
              <a:chOff x="4660920" y="2789280"/>
              <a:chExt cx="914040" cy="122040"/>
            </a:xfrm>
          </p:grpSpPr>
          <p:sp>
            <p:nvSpPr>
              <p:cNvPr id="684" name=""/>
              <p:cNvSpPr/>
              <p:nvPr/>
            </p:nvSpPr>
            <p:spPr>
              <a:xfrm>
                <a:off x="4904280" y="2789280"/>
                <a:ext cx="426600" cy="122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31240" y="2850120"/>
                <a:ext cx="24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60920" y="285012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419720" y="2924280"/>
              <a:ext cx="487440" cy="487440"/>
              <a:chOff x="4419720" y="2924280"/>
              <a:chExt cx="487440" cy="487440"/>
            </a:xfrm>
          </p:grpSpPr>
          <p:sp>
            <p:nvSpPr>
              <p:cNvPr id="688" name=""/>
              <p:cNvSpPr/>
              <p:nvPr/>
            </p:nvSpPr>
            <p:spPr>
              <a:xfrm>
                <a:off x="4419720" y="2924280"/>
                <a:ext cx="487440" cy="487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63440" y="30456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973400" y="29721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60920" y="2850480"/>
              <a:ext cx="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39240" y="3521160"/>
              <a:ext cx="24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60920" y="339912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39480" y="23346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39160" y="1785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68320" y="16916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1800" y="2268360"/>
              <a:ext cx="608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30360" y="2817360"/>
              <a:ext cx="6048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14520" y="1265040"/>
              <a:ext cx="121680" cy="12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7280" y="114300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+U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72960" y="254556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82800" y="242352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07840" y="3033360"/>
              <a:ext cx="56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575320" y="2728440"/>
              <a:ext cx="60840" cy="243720"/>
              <a:chOff x="5575320" y="2728440"/>
              <a:chExt cx="60840" cy="243720"/>
            </a:xfrm>
          </p:grpSpPr>
          <p:sp>
            <p:nvSpPr>
              <p:cNvPr id="705" name=""/>
              <p:cNvSpPr/>
              <p:nvPr/>
            </p:nvSpPr>
            <p:spPr>
              <a:xfrm>
                <a:off x="557532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636160" y="272844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H="1">
              <a:off x="5636160" y="2850480"/>
              <a:ext cx="4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77880" y="2301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7343640" y="2179800"/>
              <a:ext cx="60840" cy="243720"/>
              <a:chOff x="7343640" y="2179800"/>
              <a:chExt cx="60840" cy="243720"/>
            </a:xfrm>
          </p:grpSpPr>
          <p:sp>
            <p:nvSpPr>
              <p:cNvPr id="710" name=""/>
              <p:cNvSpPr/>
              <p:nvPr/>
            </p:nvSpPr>
            <p:spPr>
              <a:xfrm>
                <a:off x="734364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04480" y="2179800"/>
                <a:ext cx="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7404480" y="230148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48560" y="2240640"/>
              <a:ext cx="12168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828800" y="2565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943280" y="1701720"/>
            <a:ext cx="26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1701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080800" y="1266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28840" y="1838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446640" y="1371600"/>
                <a:ext cx="87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927760" y="3192480"/>
            <a:ext cx="1994040" cy="676080"/>
          </a:xfrm>
          <a:custGeom>
            <a:avLst/>
            <a:gdLst/>
            <a:ahLst/>
            <a:rect l="l" t="t" r="r" b="b"/>
            <a:pathLst>
              <a:path w="1256" h="426">
                <a:moveTo>
                  <a:pt x="0" y="44"/>
                </a:moveTo>
                <a:cubicBezTo>
                  <a:pt x="39" y="89"/>
                  <a:pt x="131" y="248"/>
                  <a:pt x="233" y="311"/>
                </a:cubicBezTo>
                <a:cubicBezTo>
                  <a:pt x="335" y="374"/>
                  <a:pt x="487" y="418"/>
                  <a:pt x="611" y="422"/>
                </a:cubicBezTo>
                <a:cubicBezTo>
                  <a:pt x="735" y="426"/>
                  <a:pt x="870" y="403"/>
                  <a:pt x="978" y="333"/>
                </a:cubicBezTo>
                <a:cubicBezTo>
                  <a:pt x="1086" y="263"/>
                  <a:pt x="1198" y="69"/>
                  <a:pt x="1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570360" y="385920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4851360" y="3352680"/>
            <a:ext cx="207000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1523880"/>
            <a:ext cx="274320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68040" y="7239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5187960" y="5688000"/>
                <a:ext cx="2290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7" name=""/>
          <p:cNvGrpSpPr/>
          <p:nvPr/>
        </p:nvGrpSpPr>
        <p:grpSpPr>
          <a:xfrm>
            <a:off x="5800680" y="2833200"/>
            <a:ext cx="182520" cy="365760"/>
            <a:chOff x="5800680" y="2833200"/>
            <a:chExt cx="182520" cy="365760"/>
          </a:xfrm>
        </p:grpSpPr>
        <p:sp>
          <p:nvSpPr>
            <p:cNvPr id="728" name=""/>
            <p:cNvSpPr/>
            <p:nvPr/>
          </p:nvSpPr>
          <p:spPr>
            <a:xfrm>
              <a:off x="5800680" y="28335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00680" y="30160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5800680" y="2833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 flipH="1" flipV="1">
            <a:off x="8053560" y="3533760"/>
            <a:ext cx="144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520880" y="2101680"/>
            <a:ext cx="120600" cy="914040"/>
            <a:chOff x="4520880" y="2101680"/>
            <a:chExt cx="120600" cy="914040"/>
          </a:xfrm>
        </p:grpSpPr>
        <p:sp>
          <p:nvSpPr>
            <p:cNvPr id="733" name=""/>
            <p:cNvSpPr/>
            <p:nvPr/>
          </p:nvSpPr>
          <p:spPr>
            <a:xfrm rot="5400000">
              <a:off x="4367880" y="249804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1360" y="27720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81360" y="210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921280" y="1554120"/>
            <a:ext cx="122400" cy="912600"/>
            <a:chOff x="5921280" y="1554120"/>
            <a:chExt cx="122400" cy="912600"/>
          </a:xfrm>
        </p:grpSpPr>
        <p:sp>
          <p:nvSpPr>
            <p:cNvPr id="737" name=""/>
            <p:cNvSpPr/>
            <p:nvPr/>
          </p:nvSpPr>
          <p:spPr>
            <a:xfrm rot="5400000">
              <a:off x="5769360" y="194868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82480" y="22233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82480" y="15541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983200" y="246708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579560" y="30160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64400" y="426420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17000" y="28940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183000" y="18590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38920" y="2435400"/>
            <a:ext cx="619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40320" y="2986200"/>
            <a:ext cx="601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02080" y="13716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569360" y="3351240"/>
            <a:ext cx="60120" cy="243000"/>
            <a:chOff x="7569360" y="3351240"/>
            <a:chExt cx="60120" cy="243000"/>
          </a:xfrm>
        </p:grpSpPr>
        <p:sp>
          <p:nvSpPr>
            <p:cNvPr id="749" name=""/>
            <p:cNvSpPr/>
            <p:nvPr/>
          </p:nvSpPr>
          <p:spPr>
            <a:xfrm>
              <a:off x="756936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629480" y="33512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 flipV="1">
            <a:off x="5738760" y="377640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99400" y="2284560"/>
            <a:ext cx="182520" cy="366840"/>
            <a:chOff x="6899400" y="2284560"/>
            <a:chExt cx="182520" cy="366840"/>
          </a:xfrm>
        </p:grpSpPr>
        <p:sp>
          <p:nvSpPr>
            <p:cNvPr id="753" name=""/>
            <p:cNvSpPr/>
            <p:nvPr/>
          </p:nvSpPr>
          <p:spPr>
            <a:xfrm flipV="1">
              <a:off x="6899400" y="2284560"/>
              <a:ext cx="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99400" y="22845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99400" y="2468160"/>
              <a:ext cx="1825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5985000" y="24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85000" y="1554120"/>
            <a:ext cx="19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81920" y="1554120"/>
            <a:ext cx="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021080" y="3351240"/>
            <a:ext cx="120600" cy="912600"/>
            <a:chOff x="7021080" y="3351240"/>
            <a:chExt cx="120600" cy="912600"/>
          </a:xfrm>
        </p:grpSpPr>
        <p:sp>
          <p:nvSpPr>
            <p:cNvPr id="760" name=""/>
            <p:cNvSpPr/>
            <p:nvPr/>
          </p:nvSpPr>
          <p:spPr>
            <a:xfrm rot="5400000">
              <a:off x="68684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815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815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959520" y="4264200"/>
            <a:ext cx="244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924520" y="3351240"/>
            <a:ext cx="122400" cy="912600"/>
            <a:chOff x="5924520" y="3351240"/>
            <a:chExt cx="122400" cy="912600"/>
          </a:xfrm>
        </p:grpSpPr>
        <p:sp>
          <p:nvSpPr>
            <p:cNvPr id="765" name=""/>
            <p:cNvSpPr/>
            <p:nvPr/>
          </p:nvSpPr>
          <p:spPr>
            <a:xfrm rot="5400000">
              <a:off x="5772600" y="3745800"/>
              <a:ext cx="42588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8572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8572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7081920" y="265104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167520" y="3411360"/>
            <a:ext cx="914040" cy="122400"/>
            <a:chOff x="6167520" y="3411360"/>
            <a:chExt cx="914040" cy="122400"/>
          </a:xfrm>
        </p:grpSpPr>
        <p:sp>
          <p:nvSpPr>
            <p:cNvPr id="770" name=""/>
            <p:cNvSpPr/>
            <p:nvPr/>
          </p:nvSpPr>
          <p:spPr>
            <a:xfrm>
              <a:off x="641088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3784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6752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 flipH="1">
            <a:off x="5984640" y="347328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520880" y="3351240"/>
            <a:ext cx="120600" cy="912600"/>
            <a:chOff x="4520880" y="3351240"/>
            <a:chExt cx="120600" cy="912600"/>
          </a:xfrm>
        </p:grpSpPr>
        <p:sp>
          <p:nvSpPr>
            <p:cNvPr id="775" name=""/>
            <p:cNvSpPr/>
            <p:nvPr/>
          </p:nvSpPr>
          <p:spPr>
            <a:xfrm rot="5400000">
              <a:off x="4368240" y="37468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81360" y="40204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1360" y="33512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445932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581360" y="3015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81360" y="1554120"/>
            <a:ext cx="14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581360" y="1553760"/>
            <a:ext cx="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1920" y="34732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9480" y="34732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946760" y="3776760"/>
            <a:ext cx="244440" cy="61920"/>
            <a:chOff x="4946760" y="3776760"/>
            <a:chExt cx="244440" cy="61920"/>
          </a:xfrm>
        </p:grpSpPr>
        <p:sp>
          <p:nvSpPr>
            <p:cNvPr id="785" name=""/>
            <p:cNvSpPr/>
            <p:nvPr/>
          </p:nvSpPr>
          <p:spPr>
            <a:xfrm>
              <a:off x="4946760" y="383868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46760" y="3776760"/>
              <a:ext cx="244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068800" y="3411360"/>
            <a:ext cx="914040" cy="122400"/>
            <a:chOff x="5068800" y="3411360"/>
            <a:chExt cx="914040" cy="122400"/>
          </a:xfrm>
        </p:grpSpPr>
        <p:sp>
          <p:nvSpPr>
            <p:cNvPr id="788" name=""/>
            <p:cNvSpPr/>
            <p:nvPr/>
          </p:nvSpPr>
          <p:spPr>
            <a:xfrm>
              <a:off x="5312160" y="34113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39120" y="34725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8800" y="34725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5068800" y="34732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68800" y="38386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46760" y="426420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47000" y="3440160"/>
            <a:ext cx="6012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40360" y="34304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848720" y="152388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50160" y="341136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56360" y="1521000"/>
            <a:ext cx="60480" cy="61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112440" y="3656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279920" y="36561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5594040" y="312120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605040" y="335268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950080" y="15112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06120" y="35766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80640" y="3581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092480" y="2901960"/>
            <a:ext cx="61920" cy="243000"/>
            <a:chOff x="4092480" y="2901960"/>
            <a:chExt cx="61920" cy="243000"/>
          </a:xfrm>
        </p:grpSpPr>
        <p:sp>
          <p:nvSpPr>
            <p:cNvPr id="807" name=""/>
            <p:cNvSpPr/>
            <p:nvPr/>
          </p:nvSpPr>
          <p:spPr>
            <a:xfrm>
              <a:off x="409248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54400" y="290196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H="1">
            <a:off x="4154400" y="3017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3605040" y="301788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44920" y="295740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15960" y="5688000"/>
                <a:ext cx="2209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1584360" y="2198520"/>
            <a:ext cx="974520" cy="1036440"/>
            <a:chOff x="1584360" y="2198520"/>
            <a:chExt cx="974520" cy="1036440"/>
          </a:xfrm>
        </p:grpSpPr>
        <p:sp>
          <p:nvSpPr>
            <p:cNvPr id="814" name=""/>
            <p:cNvSpPr/>
            <p:nvPr/>
          </p:nvSpPr>
          <p:spPr>
            <a:xfrm>
              <a:off x="1584360" y="2198520"/>
              <a:ext cx="974520" cy="10364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53480" y="251748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53480" y="29160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723320" y="283572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1309680" y="1862280"/>
            <a:ext cx="914040" cy="120600"/>
            <a:chOff x="1309680" y="1862280"/>
            <a:chExt cx="914040" cy="120600"/>
          </a:xfrm>
        </p:grpSpPr>
        <p:sp>
          <p:nvSpPr>
            <p:cNvPr id="819" name=""/>
            <p:cNvSpPr/>
            <p:nvPr/>
          </p:nvSpPr>
          <p:spPr>
            <a:xfrm>
              <a:off x="1553040" y="186228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0000" y="192240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0968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96720" y="1862280"/>
            <a:ext cx="912600" cy="120600"/>
            <a:chOff x="396720" y="1862280"/>
            <a:chExt cx="912600" cy="120600"/>
          </a:xfrm>
        </p:grpSpPr>
        <p:sp>
          <p:nvSpPr>
            <p:cNvPr id="823" name=""/>
            <p:cNvSpPr/>
            <p:nvPr/>
          </p:nvSpPr>
          <p:spPr>
            <a:xfrm>
              <a:off x="639720" y="186228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5960" y="19224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6720" y="19224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>
            <a:off x="1309320" y="240984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309680" y="192240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43040" y="26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24080" y="1922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33560" y="19224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17320" y="301932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0200" y="3019320"/>
            <a:ext cx="85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720" y="1922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680" y="222732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71520" y="189864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0848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5400" y="1447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480" y="33004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6280" y="2060640"/>
            <a:ext cx="206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397160" y="256392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819520" y="28951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251460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31640" y="3111480"/>
            <a:ext cx="0" cy="69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81520" y="32004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981760" y="32000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26440" y="1508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306400" y="3959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022560" y="1503360"/>
                <a:ext cx="1406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462560" y="4794120"/>
                <a:ext cx="37846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025640" y="4929120"/>
                <a:ext cx="1216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5376600" y="2430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13400" y="244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5400" y="29448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408800" y="25574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73720" y="2052720"/>
            <a:ext cx="165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07120" y="53928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2760" y="46134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niewa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0164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9680" y="28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63600" y="29462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72120" y="4691160"/>
            <a:ext cx="13143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7640" y="853920"/>
            <a:ext cx="79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owe-Szereg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tórnik na wzm. operacyjnym  i wtórnik emiterowy (źródł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546960" y="3801600"/>
            <a:ext cx="182520" cy="365760"/>
            <a:chOff x="6546960" y="3801600"/>
            <a:chExt cx="182520" cy="365760"/>
          </a:xfrm>
        </p:grpSpPr>
        <p:sp>
          <p:nvSpPr>
            <p:cNvPr id="865" name=""/>
            <p:cNvSpPr/>
            <p:nvPr/>
          </p:nvSpPr>
          <p:spPr>
            <a:xfrm>
              <a:off x="6546960" y="380196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46960" y="398448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546960" y="38016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267160" y="3070080"/>
            <a:ext cx="120960" cy="914040"/>
            <a:chOff x="5267160" y="3070080"/>
            <a:chExt cx="120960" cy="914040"/>
          </a:xfrm>
        </p:grpSpPr>
        <p:sp>
          <p:nvSpPr>
            <p:cNvPr id="869" name=""/>
            <p:cNvSpPr/>
            <p:nvPr/>
          </p:nvSpPr>
          <p:spPr>
            <a:xfrm rot="5400000">
              <a:off x="5114160" y="3466080"/>
              <a:ext cx="42660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7640" y="374040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30700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 flipH="1">
            <a:off x="5325840" y="398448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610320" y="543240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86240" y="396396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24400" y="25876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489720" y="485892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30920" y="287496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70440" y="4519440"/>
            <a:ext cx="122040" cy="912600"/>
            <a:chOff x="6670440" y="4519440"/>
            <a:chExt cx="122040" cy="912600"/>
          </a:xfrm>
        </p:grpSpPr>
        <p:sp>
          <p:nvSpPr>
            <p:cNvPr id="879" name=""/>
            <p:cNvSpPr/>
            <p:nvPr/>
          </p:nvSpPr>
          <p:spPr>
            <a:xfrm rot="5400000">
              <a:off x="6518520" y="4914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31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31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H="1">
            <a:off x="6748200" y="455292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267160" y="4519440"/>
            <a:ext cx="120960" cy="912600"/>
            <a:chOff x="5267160" y="4519440"/>
            <a:chExt cx="120960" cy="912600"/>
          </a:xfrm>
        </p:grpSpPr>
        <p:sp>
          <p:nvSpPr>
            <p:cNvPr id="884" name=""/>
            <p:cNvSpPr/>
            <p:nvPr/>
          </p:nvSpPr>
          <p:spPr>
            <a:xfrm rot="5400000">
              <a:off x="5114520" y="491472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27640" y="5188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27640" y="4519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5205240" y="5432400"/>
            <a:ext cx="24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327640" y="433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327280" y="2874960"/>
            <a:ext cx="14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3920" y="45100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800840" y="279072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9800" y="48243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6330600" y="4175280"/>
            <a:ext cx="169560" cy="11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696000" y="283212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26920" y="47498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4838760" y="3879720"/>
            <a:ext cx="61920" cy="243000"/>
            <a:chOff x="4838760" y="3879720"/>
            <a:chExt cx="61920" cy="243000"/>
          </a:xfrm>
        </p:grpSpPr>
        <p:sp>
          <p:nvSpPr>
            <p:cNvPr id="897" name=""/>
            <p:cNvSpPr/>
            <p:nvPr/>
          </p:nvSpPr>
          <p:spPr>
            <a:xfrm>
              <a:off x="483876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00680" y="38797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 flipH="1">
            <a:off x="4900680" y="399564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351320" y="399564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90840" y="393552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012080" y="4432320"/>
            <a:ext cx="61920" cy="243000"/>
            <a:chOff x="7012080" y="4432320"/>
            <a:chExt cx="61920" cy="243000"/>
          </a:xfrm>
        </p:grpSpPr>
        <p:sp>
          <p:nvSpPr>
            <p:cNvPr id="903" name=""/>
            <p:cNvSpPr/>
            <p:nvPr/>
          </p:nvSpPr>
          <p:spPr>
            <a:xfrm>
              <a:off x="701208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74000" y="4432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7081920" y="455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494480" y="44942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7610400" y="4691160"/>
            <a:ext cx="0" cy="62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72760" y="48672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730920" y="4138200"/>
            <a:ext cx="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713640" y="28684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26200" y="2874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326200" y="39700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45600" y="281160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76280" y="2664000"/>
            <a:ext cx="1895400" cy="634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884240" y="3338640"/>
            <a:ext cx="974880" cy="1036080"/>
            <a:chOff x="1884240" y="3338640"/>
            <a:chExt cx="974880" cy="1036080"/>
          </a:xfrm>
        </p:grpSpPr>
        <p:sp>
          <p:nvSpPr>
            <p:cNvPr id="916" name=""/>
            <p:cNvSpPr/>
            <p:nvPr/>
          </p:nvSpPr>
          <p:spPr>
            <a:xfrm>
              <a:off x="1884240" y="3338640"/>
              <a:ext cx="974880" cy="10360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53360" y="365760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3360" y="4055760"/>
              <a:ext cx="13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023200" y="3975840"/>
              <a:ext cx="0" cy="15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1609560" y="3549600"/>
            <a:ext cx="24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609560" y="306216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3280" y="382104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06680" y="3062160"/>
            <a:ext cx="152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33800" y="30621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817200" y="415908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00080" y="415908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55720" y="444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97040" y="3703680"/>
            <a:ext cx="0" cy="204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402000" y="39114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36600" y="3654360"/>
            <a:ext cx="4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1880" y="42508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81400" y="4340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390320" y="2587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3480" y="408636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25680" y="376380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4307040" y="4299120"/>
            <a:ext cx="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92400" y="378468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057360" y="4692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54200" y="361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713640" y="39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089240" y="4417920"/>
            <a:ext cx="1006560" cy="635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01040" y="93204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e-Szereg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70360" y="5621400"/>
                <a:ext cx="2730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5" name=""/>
          <p:cNvGrpSpPr/>
          <p:nvPr/>
        </p:nvGrpSpPr>
        <p:grpSpPr>
          <a:xfrm>
            <a:off x="4330800" y="3701520"/>
            <a:ext cx="182520" cy="365760"/>
            <a:chOff x="4330800" y="3701520"/>
            <a:chExt cx="182520" cy="365760"/>
          </a:xfrm>
        </p:grpSpPr>
        <p:sp>
          <p:nvSpPr>
            <p:cNvPr id="946" name=""/>
            <p:cNvSpPr/>
            <p:nvPr/>
          </p:nvSpPr>
          <p:spPr>
            <a:xfrm>
              <a:off x="4330800" y="370188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30800" y="38844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330800" y="37015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768400" y="2652840"/>
            <a:ext cx="120600" cy="914040"/>
            <a:chOff x="2768400" y="2652840"/>
            <a:chExt cx="120600" cy="914040"/>
          </a:xfrm>
        </p:grpSpPr>
        <p:sp>
          <p:nvSpPr>
            <p:cNvPr id="950" name=""/>
            <p:cNvSpPr/>
            <p:nvPr/>
          </p:nvSpPr>
          <p:spPr>
            <a:xfrm rot="5400000">
              <a:off x="2615400" y="3049200"/>
              <a:ext cx="42660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28880" y="332316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28880" y="2652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2827440" y="388476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4160" y="5156280"/>
            <a:ext cx="2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06640" y="24098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87480" y="385452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08240" y="18176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330800" y="4566960"/>
            <a:ext cx="0" cy="206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14760" y="21049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454280" y="4243320"/>
            <a:ext cx="122040" cy="912600"/>
            <a:chOff x="4454280" y="4243320"/>
            <a:chExt cx="122040" cy="912600"/>
          </a:xfrm>
        </p:grpSpPr>
        <p:sp>
          <p:nvSpPr>
            <p:cNvPr id="961" name=""/>
            <p:cNvSpPr/>
            <p:nvPr/>
          </p:nvSpPr>
          <p:spPr>
            <a:xfrm rot="5400000">
              <a:off x="4302360" y="463824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154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154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768400" y="4243320"/>
            <a:ext cx="120600" cy="912600"/>
            <a:chOff x="2768400" y="4243320"/>
            <a:chExt cx="120600" cy="912600"/>
          </a:xfrm>
        </p:grpSpPr>
        <p:sp>
          <p:nvSpPr>
            <p:cNvPr id="965" name=""/>
            <p:cNvSpPr/>
            <p:nvPr/>
          </p:nvSpPr>
          <p:spPr>
            <a:xfrm rot="5400000">
              <a:off x="2615760" y="463896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28880" y="491256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28880" y="4243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706840" y="515628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828880" y="3479760"/>
            <a:ext cx="0" cy="8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84680" y="202104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608720" y="4548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4078080" y="4196520"/>
            <a:ext cx="169560" cy="114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852560" y="424512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9840" y="2062080"/>
            <a:ext cx="6048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28160" y="44737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340000" y="3770280"/>
            <a:ext cx="61920" cy="243000"/>
            <a:chOff x="2340000" y="3770280"/>
            <a:chExt cx="61920" cy="243000"/>
          </a:xfrm>
        </p:grpSpPr>
        <p:sp>
          <p:nvSpPr>
            <p:cNvPr id="977" name=""/>
            <p:cNvSpPr/>
            <p:nvPr/>
          </p:nvSpPr>
          <p:spPr>
            <a:xfrm>
              <a:off x="234000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920" y="3770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H="1">
            <a:off x="2401920" y="38862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852560" y="388620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792440" y="382572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533920" y="3586320"/>
            <a:ext cx="0" cy="1317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32640" y="28274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457520" y="2138400"/>
            <a:ext cx="122040" cy="912240"/>
            <a:chOff x="4457520" y="2138400"/>
            <a:chExt cx="122040" cy="912240"/>
          </a:xfrm>
        </p:grpSpPr>
        <p:sp>
          <p:nvSpPr>
            <p:cNvPr id="985" name=""/>
            <p:cNvSpPr/>
            <p:nvPr/>
          </p:nvSpPr>
          <p:spPr>
            <a:xfrm rot="5400000">
              <a:off x="4305600" y="253332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18720" y="28072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18720" y="213840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518000" y="3024360"/>
            <a:ext cx="6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487040" y="2952720"/>
            <a:ext cx="1055160" cy="242640"/>
            <a:chOff x="4487040" y="2952720"/>
            <a:chExt cx="1055160" cy="242640"/>
          </a:xfrm>
        </p:grpSpPr>
        <p:sp>
          <p:nvSpPr>
            <p:cNvPr id="990" name=""/>
            <p:cNvSpPr/>
            <p:nvPr/>
          </p:nvSpPr>
          <p:spPr>
            <a:xfrm>
              <a:off x="4487040" y="3036600"/>
              <a:ext cx="601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4933080" y="2952720"/>
              <a:ext cx="61560" cy="242640"/>
              <a:chOff x="4933080" y="2952720"/>
              <a:chExt cx="61560" cy="242640"/>
            </a:xfrm>
          </p:grpSpPr>
          <p:sp>
            <p:nvSpPr>
              <p:cNvPr id="992" name=""/>
              <p:cNvSpPr/>
              <p:nvPr/>
            </p:nvSpPr>
            <p:spPr>
              <a:xfrm>
                <a:off x="493308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994640" y="2952720"/>
                <a:ext cx="0" cy="2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4507200" y="306864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994640" y="3068640"/>
              <a:ext cx="48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20160" y="3008160"/>
              <a:ext cx="122040" cy="1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162320" y="342108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869000" y="326376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40200" y="377208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22760" y="346536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29240" y="405432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124080" y="4606920"/>
                <a:ext cx="85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 flipV="1">
            <a:off x="4516560" y="40669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25280" y="2101680"/>
            <a:ext cx="336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825640" y="21016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990960" y="3441600"/>
            <a:ext cx="2057400" cy="1917720"/>
          </a:xfrm>
          <a:custGeom>
            <a:avLst/>
            <a:gdLst/>
            <a:ahLst/>
            <a:rect l="l" t="t" r="r" b="b"/>
            <a:pathLst>
              <a:path w="1296" h="1208">
                <a:moveTo>
                  <a:pt x="8" y="1208"/>
                </a:moveTo>
                <a:lnTo>
                  <a:pt x="1296" y="1208"/>
                </a:lnTo>
                <a:lnTo>
                  <a:pt x="1296" y="0"/>
                </a:lnTo>
                <a:lnTo>
                  <a:pt x="464" y="0"/>
                </a:lnTo>
                <a:lnTo>
                  <a:pt x="464" y="728"/>
                </a:lnTo>
                <a:lnTo>
                  <a:pt x="0" y="728"/>
                </a:lnTo>
                <a:lnTo>
                  <a:pt x="8" y="120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-190440" y="-360"/>
            <a:ext cx="91440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układów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0480" y="878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owo-Równoleg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4181400" y="5545080"/>
                <a:ext cx="2422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1541880" y="5695920"/>
            <a:ext cx="18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19880" y="26002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1640" y="326556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4143240" y="3220560"/>
            <a:ext cx="182520" cy="365760"/>
            <a:chOff x="4143240" y="3220560"/>
            <a:chExt cx="182520" cy="365760"/>
          </a:xfrm>
        </p:grpSpPr>
        <p:sp>
          <p:nvSpPr>
            <p:cNvPr id="1014" name=""/>
            <p:cNvSpPr/>
            <p:nvPr/>
          </p:nvSpPr>
          <p:spPr>
            <a:xfrm>
              <a:off x="4143240" y="32209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43240" y="34034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143240" y="322056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H="1" flipV="1">
            <a:off x="6453360" y="2909880"/>
            <a:ext cx="2880" cy="1541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263840" y="1725480"/>
            <a:ext cx="122040" cy="912600"/>
            <a:chOff x="4263840" y="1725480"/>
            <a:chExt cx="122040" cy="912600"/>
          </a:xfrm>
        </p:grpSpPr>
        <p:sp>
          <p:nvSpPr>
            <p:cNvPr id="1019" name=""/>
            <p:cNvSpPr/>
            <p:nvPr/>
          </p:nvSpPr>
          <p:spPr>
            <a:xfrm rot="5400000">
              <a:off x="4111920" y="212040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25040" y="23947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25040" y="172548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325760" y="28544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922120" y="3403440"/>
            <a:ext cx="12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206960" y="4498920"/>
            <a:ext cx="24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25920" y="16876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81480" y="2963880"/>
            <a:ext cx="619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44640" y="17589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5924520" y="2328840"/>
            <a:ext cx="60480" cy="243000"/>
            <a:chOff x="5924520" y="2328840"/>
            <a:chExt cx="60480" cy="243000"/>
          </a:xfrm>
        </p:grpSpPr>
        <p:sp>
          <p:nvSpPr>
            <p:cNvPr id="1029" name=""/>
            <p:cNvSpPr/>
            <p:nvPr/>
          </p:nvSpPr>
          <p:spPr>
            <a:xfrm>
              <a:off x="592452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85000" y="232884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4327560" y="2995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14960" y="1471680"/>
            <a:ext cx="19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364000" y="3586320"/>
            <a:ext cx="120960" cy="912240"/>
            <a:chOff x="5364000" y="3586320"/>
            <a:chExt cx="120960" cy="912240"/>
          </a:xfrm>
        </p:grpSpPr>
        <p:sp>
          <p:nvSpPr>
            <p:cNvPr id="1034" name=""/>
            <p:cNvSpPr/>
            <p:nvPr/>
          </p:nvSpPr>
          <p:spPr>
            <a:xfrm rot="5400000">
              <a:off x="5211360" y="3981600"/>
              <a:ext cx="425880" cy="120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4480" y="425520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24480" y="358632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302080" y="4498920"/>
            <a:ext cx="244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424480" y="303840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4057560" y="4971960"/>
            <a:ext cx="914040" cy="122400"/>
            <a:chOff x="4057560" y="4971960"/>
            <a:chExt cx="914040" cy="122400"/>
          </a:xfrm>
        </p:grpSpPr>
        <p:sp>
          <p:nvSpPr>
            <p:cNvPr id="1040" name=""/>
            <p:cNvSpPr/>
            <p:nvPr/>
          </p:nvSpPr>
          <p:spPr>
            <a:xfrm>
              <a:off x="4300920" y="4971960"/>
              <a:ext cx="426600" cy="12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727880" y="5033160"/>
              <a:ext cx="24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57560" y="503316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946520" y="3347640"/>
            <a:ext cx="912600" cy="120600"/>
            <a:chOff x="1946520" y="3347640"/>
            <a:chExt cx="912600" cy="120600"/>
          </a:xfrm>
        </p:grpSpPr>
        <p:sp>
          <p:nvSpPr>
            <p:cNvPr id="1044" name=""/>
            <p:cNvSpPr/>
            <p:nvPr/>
          </p:nvSpPr>
          <p:spPr>
            <a:xfrm rot="10800000">
              <a:off x="2190240" y="3347640"/>
              <a:ext cx="425880" cy="12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946520" y="340812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616120" y="340812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1620720" y="4511520"/>
            <a:ext cx="244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37080" y="2457360"/>
            <a:ext cx="4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985000" y="2465280"/>
            <a:ext cx="30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392800" y="2425680"/>
            <a:ext cx="6012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486240" y="33847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8680" y="1441440"/>
            <a:ext cx="12204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00720" y="2398680"/>
            <a:ext cx="12240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86320" y="14382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77160" y="45133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5280" y="3890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274760" y="3575160"/>
            <a:ext cx="0" cy="85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599520" y="331164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9080" y="38037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867040" y="3289320"/>
            <a:ext cx="61920" cy="243000"/>
            <a:chOff x="2867040" y="3289320"/>
            <a:chExt cx="61920" cy="243000"/>
          </a:xfrm>
        </p:grpSpPr>
        <p:sp>
          <p:nvSpPr>
            <p:cNvPr id="1061" name=""/>
            <p:cNvSpPr/>
            <p:nvPr/>
          </p:nvSpPr>
          <p:spPr>
            <a:xfrm>
              <a:off x="286704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28960" y="328932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248440" y="2803320"/>
            <a:ext cx="182520" cy="365400"/>
            <a:chOff x="5248440" y="2803320"/>
            <a:chExt cx="182520" cy="365400"/>
          </a:xfrm>
        </p:grpSpPr>
        <p:sp>
          <p:nvSpPr>
            <p:cNvPr id="1064" name=""/>
            <p:cNvSpPr/>
            <p:nvPr/>
          </p:nvSpPr>
          <p:spPr>
            <a:xfrm>
              <a:off x="5248440" y="280368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48440" y="298620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248440" y="280332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 flipH="1">
            <a:off x="4971960" y="366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71960" y="3664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24400" y="343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524040" y="503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368680" y="1522440"/>
            <a:ext cx="122040" cy="912600"/>
            <a:chOff x="5368680" y="1522440"/>
            <a:chExt cx="122040" cy="912600"/>
          </a:xfrm>
        </p:grpSpPr>
        <p:sp>
          <p:nvSpPr>
            <p:cNvPr id="1072" name=""/>
            <p:cNvSpPr/>
            <p:nvPr/>
          </p:nvSpPr>
          <p:spPr>
            <a:xfrm rot="5400000">
              <a:off x="5216760" y="1917360"/>
              <a:ext cx="425880" cy="12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29880" y="219168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29880" y="1522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V="1">
            <a:off x="4324320" y="14540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05200" y="176364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5430960" y="2328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324320" y="242568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91000" y="362592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487520" y="3738600"/>
            <a:ext cx="487440" cy="488880"/>
            <a:chOff x="1487520" y="3738600"/>
            <a:chExt cx="487440" cy="488880"/>
          </a:xfrm>
        </p:grpSpPr>
        <p:sp>
          <p:nvSpPr>
            <p:cNvPr id="1081" name=""/>
            <p:cNvSpPr/>
            <p:nvPr/>
          </p:nvSpPr>
          <p:spPr>
            <a:xfrm>
              <a:off x="1487520" y="3738600"/>
              <a:ext cx="48744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1731240" y="386028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 flipV="1">
            <a:off x="1746360" y="33973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746360" y="340992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733400" y="42228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81520" y="2790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24320" y="3587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97440" y="2806560"/>
            <a:ext cx="59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99040" y="275112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781600" y="2580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530680" y="3298680"/>
            <a:ext cx="0" cy="331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76680" y="3993840"/>
            <a:ext cx="0" cy="2588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705120" y="3259080"/>
            <a:ext cx="2588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27160" y="486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89800" y="4713120"/>
                <a:ext cx="14716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651040" y="1969920"/>
                <a:ext cx="3299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β</m:t>
                        </m:r>
                      </m:den>
                    </m:f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Up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2651040" y="3778200"/>
                <a:ext cx="1521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2815200" y="2984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03920" y="797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487520" y="1727280"/>
            <a:ext cx="5289120" cy="3834720"/>
            <a:chOff x="1487520" y="1727280"/>
            <a:chExt cx="5289120" cy="3834720"/>
          </a:xfrm>
        </p:grpSpPr>
        <p:sp>
          <p:nvSpPr>
            <p:cNvPr id="1103" name=""/>
            <p:cNvSpPr/>
            <p:nvPr/>
          </p:nvSpPr>
          <p:spPr>
            <a:xfrm>
              <a:off x="3223440" y="1744200"/>
              <a:ext cx="2780640" cy="16502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4597200" y="3624120"/>
              <a:ext cx="897840" cy="1122480"/>
              <a:chOff x="4597200" y="3624120"/>
              <a:chExt cx="897840" cy="1122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4597200" y="3624120"/>
                <a:ext cx="897840" cy="1122480"/>
              </a:xfrm>
              <a:custGeom>
                <a:avLst/>
                <a:gdLst/>
                <a:ahLst/>
                <a:rect l="l" t="t" r="r" b="b"/>
                <a:pathLst>
                  <a:path w="672" h="624">
                    <a:moveTo>
                      <a:pt x="0" y="0"/>
                    </a:moveTo>
                    <a:lnTo>
                      <a:pt x="0" y="624"/>
                    </a:lnTo>
                    <a:lnTo>
                      <a:pt x="67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60920" y="396936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0920" y="4401000"/>
                <a:ext cx="12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725360" y="4314600"/>
                <a:ext cx="0" cy="17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4344480" y="2882880"/>
              <a:ext cx="840960" cy="130320"/>
              <a:chOff x="4344480" y="2882880"/>
              <a:chExt cx="840960" cy="130320"/>
            </a:xfrm>
          </p:grpSpPr>
          <p:sp>
            <p:nvSpPr>
              <p:cNvPr id="1110" name=""/>
              <p:cNvSpPr/>
              <p:nvPr/>
            </p:nvSpPr>
            <p:spPr>
              <a:xfrm>
                <a:off x="456840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96116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34448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3503160" y="2882880"/>
              <a:ext cx="840960" cy="130320"/>
              <a:chOff x="3503160" y="2882880"/>
              <a:chExt cx="840960" cy="130320"/>
            </a:xfrm>
          </p:grpSpPr>
          <p:sp>
            <p:nvSpPr>
              <p:cNvPr id="1114" name=""/>
              <p:cNvSpPr/>
              <p:nvPr/>
            </p:nvSpPr>
            <p:spPr>
              <a:xfrm>
                <a:off x="3727080" y="2882880"/>
                <a:ext cx="39240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19840" y="294804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03160" y="294804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 flipH="1">
              <a:off x="4344480" y="3854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4344480" y="3120120"/>
              <a:ext cx="0" cy="7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1000" y="4147560"/>
              <a:ext cx="112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6160" y="2947320"/>
              <a:ext cx="5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5160" y="2676960"/>
              <a:ext cx="0" cy="14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3392280" y="4776480"/>
              <a:ext cx="447120" cy="528840"/>
              <a:chOff x="3392280" y="4776480"/>
              <a:chExt cx="447120" cy="528840"/>
            </a:xfrm>
          </p:grpSpPr>
          <p:sp>
            <p:nvSpPr>
              <p:cNvPr id="1123" name=""/>
              <p:cNvSpPr/>
              <p:nvPr/>
            </p:nvSpPr>
            <p:spPr>
              <a:xfrm>
                <a:off x="3392280" y="4776480"/>
                <a:ext cx="447120" cy="528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3615840" y="4908240"/>
                <a:ext cx="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 flipH="1">
              <a:off x="3615480" y="451332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15840" y="452556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15840" y="5295960"/>
              <a:ext cx="0" cy="2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03160" y="5558760"/>
              <a:ext cx="22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83240" y="451332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495960" y="2836080"/>
              <a:ext cx="0" cy="262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310280" y="2921760"/>
              <a:ext cx="5580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45360" y="24102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92880" y="2402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21280" y="4873680"/>
              <a:ext cx="92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23120" y="3204000"/>
              <a:ext cx="46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21160" y="4137840"/>
              <a:ext cx="0" cy="22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253200" y="4324680"/>
              <a:ext cx="0" cy="1237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67120" y="3920400"/>
              <a:ext cx="412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121280" y="4709880"/>
              <a:ext cx="0" cy="747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98920" y="488556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4357440" y="2207520"/>
              <a:ext cx="840960" cy="129960"/>
              <a:chOff x="4357440" y="2207520"/>
              <a:chExt cx="840960" cy="1299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81360" y="2207520"/>
                <a:ext cx="392400" cy="12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74120" y="2272320"/>
                <a:ext cx="2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357440" y="2272320"/>
                <a:ext cx="2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5188320" y="2127960"/>
              <a:ext cx="70560" cy="330480"/>
              <a:chOff x="5188320" y="2127960"/>
              <a:chExt cx="70560" cy="330480"/>
            </a:xfrm>
          </p:grpSpPr>
          <p:sp>
            <p:nvSpPr>
              <p:cNvPr id="1146" name=""/>
              <p:cNvSpPr/>
              <p:nvPr/>
            </p:nvSpPr>
            <p:spPr>
              <a:xfrm>
                <a:off x="518832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58880" y="2127960"/>
                <a:ext cx="0" cy="33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 flipV="1">
              <a:off x="5748120" y="2264040"/>
              <a:ext cx="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55280" y="2277720"/>
              <a:ext cx="49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43040" y="2277720"/>
              <a:ext cx="0" cy="8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18000" y="17287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76720" y="1727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560" y="264960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48120" y="267264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15520" y="1760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6" name=""/>
                <p:cNvSpPr txBox="1"/>
                <p:nvPr/>
              </p:nvSpPr>
              <p:spPr>
                <a:xfrm>
                  <a:off x="1487520" y="2003400"/>
                  <a:ext cx="168120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7" name=""/>
            <p:cNvSpPr/>
            <p:nvPr/>
          </p:nvSpPr>
          <p:spPr>
            <a:xfrm>
              <a:off x="3730320" y="329724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02040" y="4044960"/>
              <a:ext cx="17460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242040" y="4126320"/>
              <a:ext cx="56160" cy="65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746600" y="202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068560" y="4254480"/>
                <a:ext cx="49924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ształtow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99960" y="1665360"/>
            <a:ext cx="3389400" cy="2245320"/>
            <a:chOff x="1299960" y="1665360"/>
            <a:chExt cx="3389400" cy="2245320"/>
          </a:xfrm>
        </p:grpSpPr>
        <p:grpSp>
          <p:nvGrpSpPr>
            <p:cNvPr id="1164" name=""/>
            <p:cNvGrpSpPr/>
            <p:nvPr/>
          </p:nvGrpSpPr>
          <p:grpSpPr>
            <a:xfrm>
              <a:off x="1299960" y="1665360"/>
              <a:ext cx="3389400" cy="2245320"/>
              <a:chOff x="1299960" y="1665360"/>
              <a:chExt cx="3389400" cy="2245320"/>
            </a:xfrm>
          </p:grpSpPr>
          <p:grpSp>
            <p:nvGrpSpPr>
              <p:cNvPr id="1165" name=""/>
              <p:cNvGrpSpPr/>
              <p:nvPr/>
            </p:nvGrpSpPr>
            <p:grpSpPr>
              <a:xfrm>
                <a:off x="1299960" y="1665360"/>
                <a:ext cx="3389400" cy="2245320"/>
                <a:chOff x="1299960" y="1665360"/>
                <a:chExt cx="3389400" cy="2245320"/>
              </a:xfrm>
            </p:grpSpPr>
            <p:sp>
              <p:nvSpPr>
                <p:cNvPr id="1166" name=""/>
                <p:cNvSpPr/>
                <p:nvPr/>
              </p:nvSpPr>
              <p:spPr>
                <a:xfrm flipV="1">
                  <a:off x="1992240" y="1852200"/>
                  <a:ext cx="0" cy="162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903320" y="3370320"/>
                  <a:ext cx="269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1992240" y="2293920"/>
                  <a:ext cx="2009520" cy="776160"/>
                </a:xfrm>
                <a:custGeom>
                  <a:avLst/>
                  <a:gdLst/>
                  <a:ahLst/>
                  <a:rect l="l" t="t" r="r" b="b"/>
                  <a:pathLst>
                    <a:path w="1266" h="489">
                      <a:moveTo>
                        <a:pt x="0" y="489"/>
                      </a:moveTo>
                      <a:lnTo>
                        <a:pt x="311" y="489"/>
                      </a:lnTo>
                      <a:lnTo>
                        <a:pt x="578" y="0"/>
                      </a:lnTo>
                      <a:lnTo>
                        <a:pt x="1266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45960" y="1665360"/>
                  <a:ext cx="7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|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f)|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06400" y="294156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299960" y="2835360"/>
                  <a:ext cx="71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407960" y="206064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1920240" y="2311560"/>
                  <a:ext cx="9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31640" y="3400560"/>
                  <a:ext cx="8668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f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2481120" y="3036960"/>
                <a:ext cx="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9880" y="2303640"/>
                <a:ext cx="0" cy="11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039760" y="2278080"/>
              <a:ext cx="1571760" cy="79524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902120" y="1636560"/>
            <a:ext cx="3249720" cy="2239200"/>
            <a:chOff x="4902120" y="1636560"/>
            <a:chExt cx="3249720" cy="2239200"/>
          </a:xfrm>
        </p:grpSpPr>
        <p:sp>
          <p:nvSpPr>
            <p:cNvPr id="1179" name=""/>
            <p:cNvSpPr/>
            <p:nvPr/>
          </p:nvSpPr>
          <p:spPr>
            <a:xfrm flipV="1">
              <a:off x="5454720" y="1817280"/>
              <a:ext cx="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365800" y="333540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454720" y="2259000"/>
              <a:ext cx="2009880" cy="776160"/>
            </a:xfrm>
            <a:custGeom>
              <a:avLst/>
              <a:gdLst/>
              <a:ahLst/>
              <a:rect l="l" t="t" r="r" b="b"/>
              <a:pathLst>
                <a:path w="1266" h="489">
                  <a:moveTo>
                    <a:pt x="0" y="489"/>
                  </a:moveTo>
                  <a:lnTo>
                    <a:pt x="311" y="489"/>
                  </a:lnTo>
                  <a:lnTo>
                    <a:pt x="578" y="0"/>
                  </a:lnTo>
                  <a:lnTo>
                    <a:pt x="126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16360" y="1636560"/>
              <a:ext cx="92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)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868880" y="2906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02120" y="2800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487480" y="301608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94120" y="3365640"/>
              <a:ext cx="8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18040" y="2268360"/>
              <a:ext cx="0" cy="109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6520" y="3002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477040" y="2252520"/>
              <a:ext cx="1571400" cy="795600"/>
            </a:xfrm>
            <a:custGeom>
              <a:avLst/>
              <a:gdLst/>
              <a:ahLst/>
              <a:rect l="l" t="t" r="r" b="b"/>
              <a:pathLst>
                <a:path w="990" h="501">
                  <a:moveTo>
                    <a:pt x="0" y="501"/>
                  </a:moveTo>
                  <a:cubicBezTo>
                    <a:pt x="63" y="499"/>
                    <a:pt x="127" y="497"/>
                    <a:pt x="174" y="489"/>
                  </a:cubicBezTo>
                  <a:cubicBezTo>
                    <a:pt x="221" y="481"/>
                    <a:pt x="243" y="489"/>
                    <a:pt x="282" y="453"/>
                  </a:cubicBezTo>
                  <a:cubicBezTo>
                    <a:pt x="321" y="417"/>
                    <a:pt x="368" y="327"/>
                    <a:pt x="408" y="273"/>
                  </a:cubicBezTo>
                  <a:cubicBezTo>
                    <a:pt x="448" y="219"/>
                    <a:pt x="476" y="170"/>
                    <a:pt x="522" y="129"/>
                  </a:cubicBezTo>
                  <a:cubicBezTo>
                    <a:pt x="568" y="88"/>
                    <a:pt x="623" y="48"/>
                    <a:pt x="684" y="27"/>
                  </a:cubicBezTo>
                  <a:cubicBezTo>
                    <a:pt x="745" y="6"/>
                    <a:pt x="837" y="6"/>
                    <a:pt x="888" y="3"/>
                  </a:cubicBezTo>
                  <a:cubicBezTo>
                    <a:pt x="939" y="0"/>
                    <a:pt x="964" y="4"/>
                    <a:pt x="990" y="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28480" y="280044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422280" y="2054160"/>
                <a:ext cx="105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16765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505320"/>
            <a:ext cx="2438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379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62940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79240" y="182880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000" y="1752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41972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1194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1198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1202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1207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1214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1219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16765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5053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74284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9343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1160" y="175248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1200" y="17524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676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343400"/>
            <a:ext cx="1981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9051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733920"/>
            <a:ext cx="2438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514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81916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04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010280" y="2590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590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36440" y="1981080"/>
            <a:ext cx="93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8240" y="19810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wy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572000"/>
            <a:ext cx="1981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układów z ujemnym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7960" y="1905120"/>
            <a:ext cx="7351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Zmniejsza wzmocnienie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aleje współczynnik zawartości harmo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oprawia się stałość punktów pracy - sprzężenie dla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Zmniejsza wraż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Zwiększa się pasmo przenosze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Zmienia się impedancja wejściowa i wyjści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pływa na stabilność ukł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iana współczynnika zawartości harmo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02040" y="1130400"/>
                <a:ext cx="2514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362320" y="41148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4133880"/>
            <a:ext cx="1130400" cy="8380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96720" y="3298680"/>
            <a:ext cx="1252440" cy="87336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4100400"/>
            <a:ext cx="349596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014720" y="3220200"/>
            <a:ext cx="3495600" cy="90828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528"/>
                </a:moveTo>
                <a:cubicBezTo>
                  <a:pt x="236" y="524"/>
                  <a:pt x="472" y="520"/>
                  <a:pt x="624" y="432"/>
                </a:cubicBezTo>
                <a:cubicBezTo>
                  <a:pt x="776" y="344"/>
                  <a:pt x="864" y="72"/>
                  <a:pt x="91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53360" y="37162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4520" y="246528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2239920"/>
            <a:ext cx="3157560" cy="917640"/>
          </a:xfrm>
          <a:prstGeom prst="wedgeRectCallout">
            <a:avLst>
              <a:gd name="adj1" fmla="val 65736"/>
              <a:gd name="adj2" fmla="val 11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99160" y="4657680"/>
            <a:ext cx="2628720" cy="774720"/>
          </a:xfrm>
          <a:prstGeom prst="wedgeRectCallout">
            <a:avLst>
              <a:gd name="adj1" fmla="val -59180"/>
              <a:gd name="adj2" fmla="val -180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29724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7320" y="3273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7675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4520" y="60102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kres liniowej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305000"/>
            <a:ext cx="7480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awa stałości punktów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61920"/>
            <a:ext cx="8718480" cy="5558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75120" y="288756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8760" y="405144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32640" y="3562200"/>
            <a:ext cx="2734920" cy="1006560"/>
          </a:xfrm>
          <a:prstGeom prst="wedgeRectCallout">
            <a:avLst>
              <a:gd name="adj1" fmla="val -46226"/>
              <a:gd name="adj2" fmla="val -108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kty pracy dla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8:45:18Z</dcterms:created>
  <dc:creator>Agnieszka Kukawczynska</dc:creator>
  <dc:description/>
  <dc:language>en-US</dc:language>
  <cp:lastModifiedBy>MK</cp:lastModifiedBy>
  <dcterms:modified xsi:type="dcterms:W3CDTF">2003-11-24T06:27:21Z</dcterms:modified>
  <cp:revision>111</cp:revision>
  <dc:subject/>
  <dc:title>Sprzężenie zwrotne</dc:title>
</cp:coreProperties>
</file>