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2.bin" ContentType="application/vnd.openxmlformats-officedocument.oleObject"/>
  <Override PartName="/ppt/media/image29.wmf" ContentType="image/x-wmf"/>
  <Override PartName="/ppt/media/image15.wmf" ContentType="image/x-wmf"/>
  <Override PartName="/ppt/media/image7.png" ContentType="image/png"/>
  <Override PartName="/ppt/media/image22.jpeg" ContentType="image/jpeg"/>
  <Override PartName="/ppt/media/image3.png" ContentType="image/png"/>
  <Override PartName="/ppt/media/image11.wmf" ContentType="image/x-wmf"/>
  <Override PartName="/ppt/media/image26.png" ContentType="image/png"/>
  <Override PartName="/ppt/media/image5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4.png" ContentType="image/png"/>
  <Override PartName="/ppt/media/image12.wmf" ContentType="image/x-wmf"/>
  <Override PartName="/ppt/media/image27.png" ContentType="image/png"/>
  <Override PartName="/ppt/media/image30.wmf" ContentType="image/x-wmf"/>
  <Override PartName="/ppt/media/image28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23.jpeg" ContentType="image/jpeg"/>
  <Override PartName="/ppt/media/image25.wmf" ContentType="image/x-wmf"/>
  <Override PartName="/ppt/media/image1.wmf" ContentType="image/x-wmf"/>
  <Override PartName="/ppt/media/image24.wmf" ContentType="image/x-wmf"/>
  <Override PartName="/ppt/media/image16.wmf" ContentType="image/x-wmf"/>
  <Override PartName="/ppt/media/image17.wmf" ContentType="image/x-wmf"/>
  <Override PartName="/ppt/media/image18.png" ContentType="image/png"/>
  <Override PartName="/ppt/media/image19.wmf" ContentType="image/x-wmf"/>
  <Override PartName="/ppt/media/image20.wmf" ContentType="image/x-wmf"/>
  <Override PartName="/ppt/media/image2.wmf" ContentType="image/x-wmf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97F3-D0E6-4152-BD39-7F0EA459F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6754-F013-4F21-9135-CAADECEF6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FF96-DBF4-457A-AF58-A08128C33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7A82-991B-45B8-8C03-B95CE5F6F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2393-72FB-4529-9F7E-2D57CC94A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D1B0-D521-4A4B-BEE5-269D6DECA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074C-C2A7-4437-97E4-F6907A7B6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F4F8-69CE-46F1-BAA5-FAF5FE6E6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43D3-07EF-4F91-849D-9365715EE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B073-2952-4383-BCA6-9E9D1D99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E535-CFFB-4CA0-B64D-38D9622E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6E0C-E495-486C-A5EC-AF1020EFC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BDAEE-3B58-40F4-9DA9-4FB58A4B70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89154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średniczy w zasilani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mienia napięcie zmienne na stałe o możliwie małych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ętnieni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wykle zawiera transformator, układ prostowniczy i filt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format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łuży do uzyskania napięć, które bezpośrednio będą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 ogół ma przekładnię obniżając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zoluje galwanicznie prostownik i zasilane układy od sie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c przetwarzan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:      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 f S B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ierzchnia rdzeni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4760" y="304920"/>
            <a:ext cx="280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sieci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4724280" y="5867280"/>
                <a:ext cx="914400" cy="7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≈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1254240" y="179280"/>
            <a:ext cx="63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zebiegi w prostowniku dwupołówk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 wejściem pojemnościowym i jednopołówk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11280" y="1284120"/>
            <a:ext cx="820584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7" name=""/>
          <p:cNvGraphicFramePr/>
          <p:nvPr/>
        </p:nvGraphicFramePr>
        <p:xfrm>
          <a:off x="299880" y="917640"/>
          <a:ext cx="7796520" cy="513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880" y="917640"/>
                    <a:ext cx="7796520" cy="51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9" name=""/>
          <p:cNvSpPr/>
          <p:nvPr/>
        </p:nvSpPr>
        <p:spPr>
          <a:xfrm>
            <a:off x="1288800" y="304920"/>
            <a:ext cx="62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filtrem o wejściu pojemnoś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54920" y="6019920"/>
            <a:ext cx="7634520" cy="5101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ąd tętnień 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może zniszczyć pojemność zbiorczą C (filtru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1" name=""/>
          <p:cNvGraphicFramePr/>
          <p:nvPr/>
        </p:nvGraphicFramePr>
        <p:xfrm>
          <a:off x="914400" y="1676520"/>
          <a:ext cx="6735600" cy="299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676520"/>
                    <a:ext cx="6735600" cy="29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"/>
          <p:cNvSpPr/>
          <p:nvPr/>
        </p:nvSpPr>
        <p:spPr>
          <a:xfrm>
            <a:off x="1288800" y="304920"/>
            <a:ext cx="626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filtrem o wejściu pojemnoś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zmniejszenie tętnień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4" name=""/>
          <p:cNvGraphicFramePr/>
          <p:nvPr/>
        </p:nvGraphicFramePr>
        <p:xfrm>
          <a:off x="1143000" y="533520"/>
          <a:ext cx="6208560" cy="600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533520"/>
                    <a:ext cx="6208560" cy="600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6" name=""/>
          <p:cNvSpPr/>
          <p:nvPr/>
        </p:nvSpPr>
        <p:spPr>
          <a:xfrm>
            <a:off x="300240" y="0"/>
            <a:ext cx="82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ostownik dwupołówkowy z filtrem o wejściu pojemnoś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7" name=""/>
          <p:cNvGraphicFramePr/>
          <p:nvPr/>
        </p:nvGraphicFramePr>
        <p:xfrm>
          <a:off x="990720" y="685800"/>
          <a:ext cx="7162560" cy="384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685800"/>
                    <a:ext cx="7162560" cy="384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1523880" y="4572000"/>
          <a:ext cx="5886720" cy="19494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4572000"/>
                    <a:ext cx="5886720" cy="194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1" name=""/>
          <p:cNvSpPr/>
          <p:nvPr/>
        </p:nvSpPr>
        <p:spPr>
          <a:xfrm>
            <a:off x="1441440" y="0"/>
            <a:ext cx="62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filtrem o wejściu pojemnoś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2" name=""/>
          <p:cNvGraphicFramePr/>
          <p:nvPr/>
        </p:nvGraphicFramePr>
        <p:xfrm>
          <a:off x="1066680" y="1295280"/>
          <a:ext cx="73152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295280"/>
                    <a:ext cx="73152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4" name=""/>
          <p:cNvSpPr/>
          <p:nvPr/>
        </p:nvSpPr>
        <p:spPr>
          <a:xfrm>
            <a:off x="1288800" y="304920"/>
            <a:ext cx="62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filtrem o wejściu pojemnoś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5" name=""/>
          <p:cNvGraphicFramePr/>
          <p:nvPr/>
        </p:nvGraphicFramePr>
        <p:xfrm>
          <a:off x="914400" y="1219320"/>
          <a:ext cx="7507440" cy="45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219320"/>
                    <a:ext cx="750744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"/>
          <p:cNvSpPr/>
          <p:nvPr/>
        </p:nvSpPr>
        <p:spPr>
          <a:xfrm>
            <a:off x="1288800" y="304920"/>
            <a:ext cx="62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filtrem o wejściu pojemnoś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8" name=""/>
          <p:cNvGraphicFramePr/>
          <p:nvPr/>
        </p:nvGraphicFramePr>
        <p:xfrm>
          <a:off x="1979640" y="1138320"/>
          <a:ext cx="5108400" cy="4602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138320"/>
                    <a:ext cx="5108400" cy="460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1288800" y="304920"/>
            <a:ext cx="62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filtrem o wejściu pojemnoś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1" name=""/>
          <p:cNvGraphicFramePr/>
          <p:nvPr/>
        </p:nvGraphicFramePr>
        <p:xfrm>
          <a:off x="228600" y="4495680"/>
          <a:ext cx="8915400" cy="109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495680"/>
                    <a:ext cx="8915400" cy="109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3" name=""/>
          <p:cNvSpPr/>
          <p:nvPr/>
        </p:nvSpPr>
        <p:spPr>
          <a:xfrm>
            <a:off x="1288800" y="304920"/>
            <a:ext cx="62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filtrem o wejściu pojemnoś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3994200" y="2647800"/>
            <a:ext cx="152280" cy="152640"/>
            <a:chOff x="3994200" y="2647800"/>
            <a:chExt cx="152280" cy="152640"/>
          </a:xfrm>
        </p:grpSpPr>
        <p:sp>
          <p:nvSpPr>
            <p:cNvPr id="375" name=""/>
            <p:cNvSpPr/>
            <p:nvPr/>
          </p:nvSpPr>
          <p:spPr>
            <a:xfrm>
              <a:off x="3994200" y="280044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4070520" y="264780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304920" y="1219320"/>
            <a:ext cx="8305560" cy="2238120"/>
            <a:chOff x="304920" y="1219320"/>
            <a:chExt cx="8305560" cy="2238120"/>
          </a:xfrm>
        </p:grpSpPr>
        <p:graphicFrame>
          <p:nvGraphicFramePr>
            <p:cNvPr id="378" name=""/>
            <p:cNvGraphicFramePr/>
            <p:nvPr/>
          </p:nvGraphicFramePr>
          <p:xfrm>
            <a:off x="304920" y="1219320"/>
            <a:ext cx="8305560" cy="22381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7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4920" y="1219320"/>
                      <a:ext cx="8305560" cy="223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80" name=""/>
            <p:cNvGrpSpPr/>
            <p:nvPr/>
          </p:nvGrpSpPr>
          <p:grpSpPr>
            <a:xfrm>
              <a:off x="7186680" y="2649240"/>
              <a:ext cx="152280" cy="152640"/>
              <a:chOff x="7186680" y="2649240"/>
              <a:chExt cx="152280" cy="152640"/>
            </a:xfrm>
          </p:grpSpPr>
          <p:sp>
            <p:nvSpPr>
              <p:cNvPr id="381" name=""/>
              <p:cNvSpPr/>
              <p:nvPr/>
            </p:nvSpPr>
            <p:spPr>
              <a:xfrm>
                <a:off x="7186680" y="2801880"/>
                <a:ext cx="152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V="1">
                <a:off x="7263000" y="264924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474840" y="1217520"/>
            <a:ext cx="8393040" cy="527868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2317680" y="301680"/>
            <a:ext cx="412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zebiegi w podwajaczu Del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685800"/>
            <a:ext cx="8686800" cy="6030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Główne parametry układów prostowniczych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/E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spółczynnik wykorzystania napięcia prostowane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/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=k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spółczynnik zawartości tętnień (wart. skuteczna tętnień/nap.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yjscioweg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artość średnia prądu wyjściowe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ąd tętnień w kondensatorze filtru (zbiorczy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DM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wtarzająca się wartość szczytowa prądu dio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artość szczytowa pojedynczego impulsu prądu diody (prąd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darowego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DRMS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artość skuteczna prądu dio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ZW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artość maksymalna napięcia polaryzacji zwrotnej dio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lość prostowanych połówek (1, 2, 3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prawność energetycz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5" name=""/>
          <p:cNvGraphicFramePr/>
          <p:nvPr/>
        </p:nvGraphicFramePr>
        <p:xfrm>
          <a:off x="841320" y="3129120"/>
          <a:ext cx="6840720" cy="313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3129120"/>
                    <a:ext cx="6840720" cy="31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7" name=""/>
          <p:cNvGraphicFramePr/>
          <p:nvPr/>
        </p:nvGraphicFramePr>
        <p:xfrm>
          <a:off x="228600" y="1371600"/>
          <a:ext cx="8610480" cy="1035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371600"/>
                    <a:ext cx="8610480" cy="10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9" name=""/>
          <p:cNvSpPr/>
          <p:nvPr/>
        </p:nvSpPr>
        <p:spPr>
          <a:xfrm>
            <a:off x="1288800" y="304920"/>
            <a:ext cx="62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filtrem o wejściu pojemnoś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Wykres_Schadego1" descr=""/>
          <p:cNvPicPr/>
          <p:nvPr/>
        </p:nvPicPr>
        <p:blipFill>
          <a:blip r:embed="rId1"/>
          <a:stretch/>
        </p:blipFill>
        <p:spPr>
          <a:xfrm>
            <a:off x="762120" y="392040"/>
            <a:ext cx="7924680" cy="60721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2433600" y="5105520"/>
            <a:ext cx="4894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spółczynnik wykorzystania napię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8458200" y="3429000"/>
                <a:ext cx="4334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Wykres_Schadego2" descr=""/>
          <p:cNvPicPr/>
          <p:nvPr/>
        </p:nvPicPr>
        <p:blipFill>
          <a:blip r:embed="rId1"/>
          <a:stretch/>
        </p:blipFill>
        <p:spPr>
          <a:xfrm>
            <a:off x="609480" y="0"/>
            <a:ext cx="7772400" cy="651528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1281240" y="193680"/>
            <a:ext cx="3992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rt. skuteczna prądu di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204560" y="2174760"/>
            <a:ext cx="40089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rt. szczytowa prądu di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Wykres_Schadego3" descr=""/>
          <p:cNvPicPr/>
          <p:nvPr/>
        </p:nvPicPr>
        <p:blipFill>
          <a:blip r:embed="rId1"/>
          <a:stretch/>
        </p:blipFill>
        <p:spPr>
          <a:xfrm>
            <a:off x="685800" y="77760"/>
            <a:ext cx="7086600" cy="656928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1524240" y="4343400"/>
            <a:ext cx="3003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spółczynnik tętnie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8" name=""/>
          <p:cNvGraphicFramePr/>
          <p:nvPr/>
        </p:nvGraphicFramePr>
        <p:xfrm>
          <a:off x="1066680" y="762120"/>
          <a:ext cx="7010640" cy="422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762120"/>
                    <a:ext cx="7010640" cy="42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0" name=""/>
          <p:cNvGraphicFramePr/>
          <p:nvPr/>
        </p:nvGraphicFramePr>
        <p:xfrm>
          <a:off x="762120" y="5105520"/>
          <a:ext cx="7543800" cy="15476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5105520"/>
                    <a:ext cx="7543800" cy="15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"/>
          <p:cNvSpPr/>
          <p:nvPr/>
        </p:nvSpPr>
        <p:spPr>
          <a:xfrm>
            <a:off x="1517760" y="228600"/>
            <a:ext cx="570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filtrem o wejściu indukcyj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2981160" y="2130120"/>
            <a:ext cx="152280" cy="152640"/>
            <a:chOff x="2981160" y="2130120"/>
            <a:chExt cx="152280" cy="152640"/>
          </a:xfrm>
        </p:grpSpPr>
        <p:sp>
          <p:nvSpPr>
            <p:cNvPr id="404" name=""/>
            <p:cNvSpPr/>
            <p:nvPr/>
          </p:nvSpPr>
          <p:spPr>
            <a:xfrm>
              <a:off x="2981160" y="228276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3057480" y="21301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6789600" y="1882440"/>
            <a:ext cx="152280" cy="152640"/>
            <a:chOff x="6789600" y="1882440"/>
            <a:chExt cx="152280" cy="152640"/>
          </a:xfrm>
        </p:grpSpPr>
        <p:sp>
          <p:nvSpPr>
            <p:cNvPr id="407" name=""/>
            <p:cNvSpPr/>
            <p:nvPr/>
          </p:nvSpPr>
          <p:spPr>
            <a:xfrm>
              <a:off x="6789600" y="203508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6865920" y="18824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2757600" y="3947760"/>
            <a:ext cx="152280" cy="152640"/>
            <a:chOff x="2757600" y="3947760"/>
            <a:chExt cx="152280" cy="152640"/>
          </a:xfrm>
        </p:grpSpPr>
        <p:sp>
          <p:nvSpPr>
            <p:cNvPr id="410" name=""/>
            <p:cNvSpPr/>
            <p:nvPr/>
          </p:nvSpPr>
          <p:spPr>
            <a:xfrm>
              <a:off x="2757600" y="410040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2833920" y="39477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511200" y="1306440"/>
            <a:ext cx="8096400" cy="509112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2"/>
          <a:stretch/>
        </p:blipFill>
        <p:spPr>
          <a:xfrm>
            <a:off x="5500800" y="1839960"/>
            <a:ext cx="3052800" cy="183672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1518480" y="22860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 z filtrem o wejściu indukcyj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5" name=""/>
          <p:cNvGraphicFramePr/>
          <p:nvPr/>
        </p:nvGraphicFramePr>
        <p:xfrm>
          <a:off x="533520" y="787320"/>
          <a:ext cx="8001000" cy="523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787320"/>
                    <a:ext cx="8001000" cy="523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7" name=""/>
          <p:cNvSpPr/>
          <p:nvPr/>
        </p:nvSpPr>
        <p:spPr>
          <a:xfrm>
            <a:off x="1517760" y="228600"/>
            <a:ext cx="577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filtrem o wejściu indukcyjny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8" name=""/>
          <p:cNvGraphicFramePr/>
          <p:nvPr/>
        </p:nvGraphicFramePr>
        <p:xfrm>
          <a:off x="762120" y="1211400"/>
          <a:ext cx="7711920" cy="3963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211400"/>
                    <a:ext cx="7711920" cy="396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0" name=""/>
          <p:cNvSpPr/>
          <p:nvPr/>
        </p:nvSpPr>
        <p:spPr>
          <a:xfrm>
            <a:off x="1517760" y="228600"/>
            <a:ext cx="570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filtrem o wejściu indukcyj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1" name=""/>
          <p:cNvGraphicFramePr/>
          <p:nvPr/>
        </p:nvGraphicFramePr>
        <p:xfrm>
          <a:off x="457200" y="1617840"/>
          <a:ext cx="8077320" cy="36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17840"/>
                    <a:ext cx="8077320" cy="36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3" name=""/>
          <p:cNvSpPr/>
          <p:nvPr/>
        </p:nvSpPr>
        <p:spPr>
          <a:xfrm>
            <a:off x="1517760" y="228600"/>
            <a:ext cx="570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filtrem o wejściu indukcyj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71520" y="1066680"/>
            <a:ext cx="8017200" cy="11912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obciążeniem ( filtr o wejściu ..) rezystancyj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obciążeniem ( filtr o wejściu ..) pojemnoś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obciążeniem ( filtr o wejściu ..) indukcyj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58520" y="2819520"/>
            <a:ext cx="7579800" cy="8254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ostowniki półprzewodnikowe niesterowa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ostowniki półprzewodnikowe sterowane (np. tyrystorow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3360" y="4343400"/>
            <a:ext cx="7148520" cy="15570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ostowniki lampowe (można spotkać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lampy próżniowe - praktycznie już nie stosow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lampy gazowane (ksenonowe, rteciow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lampy gazowane sterowane (tyratro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76800" y="1143000"/>
            <a:ext cx="7820640" cy="44830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ostowniki z obciążeniem rezystancyjny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stosowane, np. do  ładowanie akumulator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ostowniki z obciążeniem pojemnoś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małe i średnie moce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o kilkudziesięciu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ostowniki z obciążeniem indukcyj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duże i bardzo duże moce (setki - tysiące 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ostowniki lampowe z lampami gazowanym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 megawaty (tysiące amperów i dziesiątki kilowoltó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1523880" y="2819520"/>
            <a:ext cx="5538600" cy="2016360"/>
            <a:chOff x="1523880" y="2819520"/>
            <a:chExt cx="5538600" cy="2016360"/>
          </a:xfrm>
        </p:grpSpPr>
        <p:sp>
          <p:nvSpPr>
            <p:cNvPr id="50" name=""/>
            <p:cNvSpPr/>
            <p:nvPr/>
          </p:nvSpPr>
          <p:spPr>
            <a:xfrm>
              <a:off x="4057560" y="3127320"/>
              <a:ext cx="1440" cy="912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4057560" y="3217680"/>
              <a:ext cx="684720" cy="160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067640" y="3217680"/>
              <a:ext cx="684720" cy="160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5514840" y="3227040"/>
              <a:ext cx="685440" cy="160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24560" y="3227040"/>
              <a:ext cx="685440" cy="160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4057560" y="3624120"/>
              <a:ext cx="684720" cy="79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076640" y="3624120"/>
              <a:ext cx="685440" cy="79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5505480" y="3633480"/>
              <a:ext cx="684720" cy="79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524560" y="3633480"/>
              <a:ext cx="685440" cy="79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400280" y="3217680"/>
              <a:ext cx="2152800" cy="108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4781520" y="3217680"/>
              <a:ext cx="684720" cy="160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791600" y="3217680"/>
              <a:ext cx="684720" cy="160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4781520" y="3624120"/>
              <a:ext cx="684720" cy="79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800600" y="3624120"/>
              <a:ext cx="685440" cy="79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flipV="1">
              <a:off x="4052520" y="4034880"/>
              <a:ext cx="300996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6229080" y="3217680"/>
              <a:ext cx="685440" cy="160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6219720" y="3624120"/>
              <a:ext cx="684720" cy="79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00280" y="3624120"/>
              <a:ext cx="2162160" cy="108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038400" y="3425760"/>
              <a:ext cx="171360" cy="2250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1793880" y="3303360"/>
              <a:ext cx="195120" cy="482400"/>
              <a:chOff x="1793880" y="3303360"/>
              <a:chExt cx="195120" cy="482400"/>
            </a:xfrm>
          </p:grpSpPr>
          <p:sp>
            <p:nvSpPr>
              <p:cNvPr id="70" name=""/>
              <p:cNvSpPr/>
              <p:nvPr/>
            </p:nvSpPr>
            <p:spPr>
              <a:xfrm>
                <a:off x="1808280" y="3403080"/>
                <a:ext cx="18072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808280" y="3493440"/>
                <a:ext cx="18072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808280" y="3584160"/>
                <a:ext cx="18072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793880" y="3385080"/>
                <a:ext cx="109800" cy="307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912680" y="330336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912680" y="368352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2138400" y="3533400"/>
              <a:ext cx="37800" cy="3312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01920" y="3368520"/>
              <a:ext cx="100080" cy="256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351240" y="3081240"/>
              <a:ext cx="1440" cy="2962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351240" y="3622320"/>
              <a:ext cx="1440" cy="417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440160" y="3423960"/>
              <a:ext cx="218880" cy="182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2079360" y="3068280"/>
              <a:ext cx="195480" cy="482400"/>
              <a:chOff x="2079360" y="3068280"/>
              <a:chExt cx="195480" cy="482400"/>
            </a:xfrm>
          </p:grpSpPr>
          <p:sp>
            <p:nvSpPr>
              <p:cNvPr id="82" name=""/>
              <p:cNvSpPr/>
              <p:nvPr/>
            </p:nvSpPr>
            <p:spPr>
              <a:xfrm>
                <a:off x="2079360" y="3359880"/>
                <a:ext cx="18108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079360" y="3269520"/>
                <a:ext cx="18108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079360" y="3179160"/>
                <a:ext cx="18108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164680" y="3160800"/>
                <a:ext cx="110160" cy="307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>
                <a:off x="2155320" y="344844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>
                <a:off x="2155320" y="306828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" name=""/>
            <p:cNvGrpSpPr/>
            <p:nvPr/>
          </p:nvGrpSpPr>
          <p:grpSpPr>
            <a:xfrm>
              <a:off x="2079360" y="3547800"/>
              <a:ext cx="195480" cy="482400"/>
              <a:chOff x="2079360" y="3547800"/>
              <a:chExt cx="195480" cy="482400"/>
            </a:xfrm>
          </p:grpSpPr>
          <p:sp>
            <p:nvSpPr>
              <p:cNvPr id="89" name=""/>
              <p:cNvSpPr/>
              <p:nvPr/>
            </p:nvSpPr>
            <p:spPr>
              <a:xfrm>
                <a:off x="2079360" y="3839400"/>
                <a:ext cx="18108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079360" y="3749040"/>
                <a:ext cx="18108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2079360" y="3658680"/>
                <a:ext cx="18108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164680" y="3640320"/>
                <a:ext cx="110160" cy="307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V="1">
                <a:off x="2155320" y="392796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V="1">
                <a:off x="2155320" y="354780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1724040" y="3308040"/>
              <a:ext cx="1904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733400" y="3786120"/>
              <a:ext cx="1904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690560" y="3768480"/>
              <a:ext cx="39600" cy="3312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690560" y="3288960"/>
              <a:ext cx="39600" cy="3312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23880" y="3416040"/>
              <a:ext cx="304920" cy="2808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~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819160" y="4039920"/>
              <a:ext cx="54288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2037960" y="3195360"/>
              <a:ext cx="4680" cy="718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2162160" y="3017520"/>
              <a:ext cx="419040" cy="136440"/>
              <a:chOff x="2162160" y="3017520"/>
              <a:chExt cx="419040" cy="136440"/>
            </a:xfrm>
          </p:grpSpPr>
          <p:grpSp>
            <p:nvGrpSpPr>
              <p:cNvPr id="103" name=""/>
              <p:cNvGrpSpPr/>
              <p:nvPr/>
            </p:nvGrpSpPr>
            <p:grpSpPr>
              <a:xfrm>
                <a:off x="2333160" y="3017520"/>
                <a:ext cx="86400" cy="136440"/>
                <a:chOff x="2333160" y="3017520"/>
                <a:chExt cx="86400" cy="13644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2342880" y="3017520"/>
                  <a:ext cx="360" cy="118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2352240" y="3026520"/>
                  <a:ext cx="57600" cy="55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 flipH="1">
                  <a:off x="2333160" y="3080880"/>
                  <a:ext cx="76680" cy="73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2419200" y="3026520"/>
                  <a:ext cx="360" cy="118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2162160" y="3080880"/>
                <a:ext cx="19080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418840" y="3080880"/>
                <a:ext cx="16236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2152440" y="3976560"/>
              <a:ext cx="419040" cy="136080"/>
              <a:chOff x="2152440" y="3976560"/>
              <a:chExt cx="419040" cy="136080"/>
            </a:xfrm>
          </p:grpSpPr>
          <p:grpSp>
            <p:nvGrpSpPr>
              <p:cNvPr id="111" name=""/>
              <p:cNvGrpSpPr/>
              <p:nvPr/>
            </p:nvGrpSpPr>
            <p:grpSpPr>
              <a:xfrm>
                <a:off x="2323080" y="3976560"/>
                <a:ext cx="86400" cy="136080"/>
                <a:chOff x="2323080" y="3976560"/>
                <a:chExt cx="86400" cy="13608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2332800" y="3976560"/>
                  <a:ext cx="360" cy="118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342520" y="3985560"/>
                  <a:ext cx="57600" cy="54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 flipH="1">
                  <a:off x="2323080" y="4039920"/>
                  <a:ext cx="76680" cy="72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2409120" y="3985560"/>
                  <a:ext cx="360" cy="118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2152440" y="4039920"/>
                <a:ext cx="19080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409120" y="4039920"/>
                <a:ext cx="16236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2562120" y="4039920"/>
              <a:ext cx="11412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2676240" y="3081240"/>
              <a:ext cx="1800" cy="958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600280" y="3081240"/>
              <a:ext cx="22860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162160" y="3551040"/>
              <a:ext cx="66672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2819160" y="3550680"/>
              <a:ext cx="1800" cy="488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838240" y="3081240"/>
              <a:ext cx="5144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2209680" y="3171600"/>
              <a:ext cx="1440" cy="280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2200320" y="3650760"/>
              <a:ext cx="1440" cy="280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238120" y="3225600"/>
              <a:ext cx="162000" cy="1821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i="1" lang="en-US" sz="9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238120" y="3705120"/>
              <a:ext cx="162000" cy="1821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i="1" lang="en-US" sz="9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295360" y="2819520"/>
              <a:ext cx="190440" cy="1807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266920" y="4140000"/>
              <a:ext cx="190440" cy="1807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3019320" y="3180600"/>
              <a:ext cx="1440" cy="741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485800" y="2873160"/>
              <a:ext cx="219240" cy="1728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d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495520" y="4076640"/>
              <a:ext cx="218880" cy="1710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d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743200" y="2873160"/>
              <a:ext cx="180720" cy="1728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995560" y="4022640"/>
              <a:ext cx="38160" cy="3132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985840" y="3063600"/>
              <a:ext cx="38160" cy="3132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652480" y="3063600"/>
              <a:ext cx="38160" cy="3132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62160" y="4066920"/>
              <a:ext cx="2886120" cy="1900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                      </a:t>
              </a:r>
              <a:r>
                <a:rPr b="0" lang="pl-P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                   2</a:t>
              </a:r>
              <a:r>
                <a:rPr b="0" lang="pl-P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                   3</a:t>
              </a:r>
              <a:r>
                <a:rPr b="0" lang="pl-P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            </a:t>
              </a:r>
              <a:r>
                <a:rPr b="0" lang="pl-P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809880" y="3063600"/>
              <a:ext cx="219240" cy="3268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28880" y="3009600"/>
              <a:ext cx="247680" cy="1728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924440" y="3416040"/>
              <a:ext cx="295200" cy="1807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D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676520" y="1295280"/>
            <a:ext cx="5438160" cy="1817640"/>
            <a:chOff x="1676520" y="1295280"/>
            <a:chExt cx="5438160" cy="1817640"/>
          </a:xfrm>
        </p:grpSpPr>
        <p:sp>
          <p:nvSpPr>
            <p:cNvPr id="142" name=""/>
            <p:cNvSpPr/>
            <p:nvPr/>
          </p:nvSpPr>
          <p:spPr>
            <a:xfrm>
              <a:off x="4114800" y="1403280"/>
              <a:ext cx="0" cy="9144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4114800" y="1494000"/>
              <a:ext cx="684000" cy="160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125240" y="1494000"/>
              <a:ext cx="684000" cy="160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5553000" y="1503360"/>
              <a:ext cx="684000" cy="160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563440" y="1503360"/>
              <a:ext cx="684000" cy="160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4114800" y="1900080"/>
              <a:ext cx="684000" cy="79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134600" y="1900080"/>
              <a:ext cx="684000" cy="79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5543280" y="1909800"/>
              <a:ext cx="684720" cy="79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563440" y="1909800"/>
              <a:ext cx="684000" cy="79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457520" y="1494000"/>
              <a:ext cx="1456920" cy="144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57520" y="1900080"/>
              <a:ext cx="2161800" cy="180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4105080" y="2313000"/>
              <a:ext cx="30096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57320" y="1657440"/>
              <a:ext cx="237960" cy="1807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3197160" y="1519200"/>
              <a:ext cx="356760" cy="480960"/>
              <a:chOff x="3197160" y="1519200"/>
              <a:chExt cx="356760" cy="480960"/>
            </a:xfrm>
          </p:grpSpPr>
          <p:sp>
            <p:nvSpPr>
              <p:cNvPr id="156" name=""/>
              <p:cNvSpPr/>
              <p:nvPr/>
            </p:nvSpPr>
            <p:spPr>
              <a:xfrm>
                <a:off x="3197160" y="1619280"/>
                <a:ext cx="100800" cy="256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247200" y="1519200"/>
                <a:ext cx="360" cy="109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247200" y="1873080"/>
                <a:ext cx="360" cy="127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334680" y="1673280"/>
                <a:ext cx="219240" cy="183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i="1" lang="en-US" sz="10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2232000" y="1509840"/>
              <a:ext cx="194760" cy="482400"/>
              <a:chOff x="2232000" y="1509840"/>
              <a:chExt cx="194760" cy="482400"/>
            </a:xfrm>
          </p:grpSpPr>
          <p:sp>
            <p:nvSpPr>
              <p:cNvPr id="161" name=""/>
              <p:cNvSpPr/>
              <p:nvPr/>
            </p:nvSpPr>
            <p:spPr>
              <a:xfrm>
                <a:off x="2232000" y="1609560"/>
                <a:ext cx="18036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232000" y="1700280"/>
                <a:ext cx="18036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232000" y="1790640"/>
                <a:ext cx="18036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316960" y="1591560"/>
                <a:ext cx="109800" cy="307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307600" y="150984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307600" y="189000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>
              <a:off x="2190600" y="1620720"/>
              <a:ext cx="0" cy="254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304720" y="1992240"/>
              <a:ext cx="9428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2314440" y="1449360"/>
              <a:ext cx="418680" cy="136440"/>
              <a:chOff x="2314440" y="1449360"/>
              <a:chExt cx="418680" cy="136440"/>
            </a:xfrm>
          </p:grpSpPr>
          <p:grpSp>
            <p:nvGrpSpPr>
              <p:cNvPr id="170" name=""/>
              <p:cNvGrpSpPr/>
              <p:nvPr/>
            </p:nvGrpSpPr>
            <p:grpSpPr>
              <a:xfrm>
                <a:off x="2485080" y="1449360"/>
                <a:ext cx="86400" cy="136440"/>
                <a:chOff x="2485080" y="1449360"/>
                <a:chExt cx="86400" cy="13644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2494800" y="1449360"/>
                  <a:ext cx="360" cy="118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2504160" y="1458360"/>
                  <a:ext cx="57600" cy="54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 flipH="1">
                  <a:off x="2485080" y="1512720"/>
                  <a:ext cx="76680" cy="73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2571120" y="1458360"/>
                  <a:ext cx="360" cy="118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5" name=""/>
              <p:cNvSpPr/>
              <p:nvPr/>
            </p:nvSpPr>
            <p:spPr>
              <a:xfrm>
                <a:off x="2314440" y="1512720"/>
                <a:ext cx="19044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571120" y="1512720"/>
                <a:ext cx="16200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>
              <a:off x="2724120" y="1512720"/>
              <a:ext cx="5328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85760" y="1584360"/>
              <a:ext cx="0" cy="336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862000" y="1494000"/>
              <a:ext cx="37800" cy="3312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862000" y="1974960"/>
              <a:ext cx="37800" cy="316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1946160" y="1509840"/>
              <a:ext cx="194760" cy="482400"/>
              <a:chOff x="1946160" y="1509840"/>
              <a:chExt cx="194760" cy="482400"/>
            </a:xfrm>
          </p:grpSpPr>
          <p:sp>
            <p:nvSpPr>
              <p:cNvPr id="182" name=""/>
              <p:cNvSpPr/>
              <p:nvPr/>
            </p:nvSpPr>
            <p:spPr>
              <a:xfrm>
                <a:off x="1960560" y="1609560"/>
                <a:ext cx="18036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960560" y="1699920"/>
                <a:ext cx="18036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960560" y="1790640"/>
                <a:ext cx="18036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946160" y="1591560"/>
                <a:ext cx="109800" cy="307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064600" y="150984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064600" y="189000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>
              <a:off x="1876320" y="1512720"/>
              <a:ext cx="1900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885680" y="1992240"/>
              <a:ext cx="1900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842840" y="1973160"/>
              <a:ext cx="39240" cy="334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842840" y="1494000"/>
              <a:ext cx="39240" cy="3312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676520" y="1620720"/>
              <a:ext cx="304560" cy="2811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~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028760" y="2325600"/>
              <a:ext cx="2885760" cy="1904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                      </a:t>
              </a:r>
              <a:r>
                <a:rPr b="0" lang="pl-P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                   2</a:t>
              </a:r>
              <a:r>
                <a:rPr b="0" lang="pl-P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                   3</a:t>
              </a:r>
              <a:r>
                <a:rPr b="0" lang="pl-P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            </a:t>
              </a:r>
              <a:r>
                <a:rPr b="0" lang="pl-P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867120" y="1368360"/>
              <a:ext cx="218520" cy="3254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010120" y="1295280"/>
              <a:ext cx="247320" cy="1731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010120" y="1684440"/>
              <a:ext cx="294840" cy="1807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D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1676520" y="5029200"/>
            <a:ext cx="5486400" cy="2108160"/>
            <a:chOff x="1676520" y="5029200"/>
            <a:chExt cx="5486400" cy="2108160"/>
          </a:xfrm>
        </p:grpSpPr>
        <p:sp>
          <p:nvSpPr>
            <p:cNvPr id="198" name=""/>
            <p:cNvSpPr/>
            <p:nvPr/>
          </p:nvSpPr>
          <p:spPr>
            <a:xfrm>
              <a:off x="3191040" y="5635800"/>
              <a:ext cx="171360" cy="2268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1946520" y="5515200"/>
              <a:ext cx="196920" cy="482400"/>
              <a:chOff x="1946520" y="5515200"/>
              <a:chExt cx="196920" cy="482400"/>
            </a:xfrm>
          </p:grpSpPr>
          <p:sp>
            <p:nvSpPr>
              <p:cNvPr id="200" name=""/>
              <p:cNvSpPr/>
              <p:nvPr/>
            </p:nvSpPr>
            <p:spPr>
              <a:xfrm>
                <a:off x="1960920" y="5614920"/>
                <a:ext cx="18252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960920" y="5705640"/>
                <a:ext cx="18252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960920" y="5796000"/>
                <a:ext cx="18252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946520" y="5596920"/>
                <a:ext cx="110880" cy="307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066400" y="551520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066400" y="589536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2291040" y="5743800"/>
              <a:ext cx="39600" cy="3312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454560" y="5580000"/>
              <a:ext cx="101520" cy="255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505320" y="5292720"/>
              <a:ext cx="0" cy="295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05320" y="5832720"/>
              <a:ext cx="0" cy="128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592800" y="5634000"/>
              <a:ext cx="218880" cy="182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2232360" y="5280120"/>
              <a:ext cx="196560" cy="482760"/>
              <a:chOff x="2232360" y="5280120"/>
              <a:chExt cx="196560" cy="482760"/>
            </a:xfrm>
          </p:grpSpPr>
          <p:sp>
            <p:nvSpPr>
              <p:cNvPr id="212" name=""/>
              <p:cNvSpPr/>
              <p:nvPr/>
            </p:nvSpPr>
            <p:spPr>
              <a:xfrm>
                <a:off x="2232360" y="5571720"/>
                <a:ext cx="18216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232360" y="5481360"/>
                <a:ext cx="18216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232360" y="5391000"/>
                <a:ext cx="18216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318040" y="5373000"/>
                <a:ext cx="110880" cy="3081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2308680" y="566064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V="1">
                <a:off x="2308680" y="528012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2232360" y="5757840"/>
              <a:ext cx="196560" cy="482760"/>
              <a:chOff x="2232360" y="5757840"/>
              <a:chExt cx="196560" cy="482760"/>
            </a:xfrm>
          </p:grpSpPr>
          <p:sp>
            <p:nvSpPr>
              <p:cNvPr id="219" name=""/>
              <p:cNvSpPr/>
              <p:nvPr/>
            </p:nvSpPr>
            <p:spPr>
              <a:xfrm>
                <a:off x="2232360" y="6049440"/>
                <a:ext cx="18216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232360" y="5959080"/>
                <a:ext cx="18216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232360" y="5868720"/>
                <a:ext cx="18216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318040" y="5850720"/>
                <a:ext cx="110880" cy="3081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V="1">
                <a:off x="2308680" y="613836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V="1">
                <a:off x="2308680" y="575784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1876680" y="5518440"/>
              <a:ext cx="1904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886040" y="5997600"/>
              <a:ext cx="1904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843200" y="5978520"/>
              <a:ext cx="39600" cy="334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843200" y="5499360"/>
              <a:ext cx="39600" cy="3312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676520" y="5626080"/>
              <a:ext cx="304920" cy="2811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~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972160" y="6249960"/>
              <a:ext cx="5428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2190600" y="5405400"/>
              <a:ext cx="4680" cy="7192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2314800" y="5229360"/>
              <a:ext cx="419040" cy="135000"/>
              <a:chOff x="2314800" y="5229360"/>
              <a:chExt cx="419040" cy="135000"/>
            </a:xfrm>
          </p:grpSpPr>
          <p:grpSp>
            <p:nvGrpSpPr>
              <p:cNvPr id="233" name=""/>
              <p:cNvGrpSpPr/>
              <p:nvPr/>
            </p:nvGrpSpPr>
            <p:grpSpPr>
              <a:xfrm>
                <a:off x="2485440" y="5229360"/>
                <a:ext cx="86400" cy="135000"/>
                <a:chOff x="2485440" y="5229360"/>
                <a:chExt cx="86400" cy="13500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2495160" y="5229360"/>
                  <a:ext cx="360" cy="117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2504520" y="5238000"/>
                  <a:ext cx="57600" cy="54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>
                  <a:off x="2485440" y="5292000"/>
                  <a:ext cx="76680" cy="72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571480" y="5238000"/>
                  <a:ext cx="360" cy="117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2314800" y="5292000"/>
                <a:ext cx="19080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571480" y="5292000"/>
                <a:ext cx="16236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2305080" y="6186600"/>
              <a:ext cx="419400" cy="136440"/>
              <a:chOff x="2305080" y="6186600"/>
              <a:chExt cx="419400" cy="13644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2476080" y="6186600"/>
                <a:ext cx="86400" cy="136440"/>
                <a:chOff x="2476080" y="6186600"/>
                <a:chExt cx="86400" cy="13644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2485800" y="6186600"/>
                  <a:ext cx="360" cy="118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2495160" y="6195600"/>
                  <a:ext cx="57600" cy="55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 flipH="1">
                  <a:off x="2476080" y="6249960"/>
                  <a:ext cx="76680" cy="73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562120" y="6195600"/>
                  <a:ext cx="360" cy="118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6" name=""/>
              <p:cNvSpPr/>
              <p:nvPr/>
            </p:nvSpPr>
            <p:spPr>
              <a:xfrm>
                <a:off x="2305080" y="6249960"/>
                <a:ext cx="19080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562120" y="6249960"/>
                <a:ext cx="16236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2714760" y="6249960"/>
              <a:ext cx="1144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2829240" y="5292360"/>
              <a:ext cx="0" cy="957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752920" y="5292720"/>
              <a:ext cx="2286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314800" y="5762880"/>
              <a:ext cx="6667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2972160" y="5762520"/>
              <a:ext cx="0" cy="487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990880" y="5292720"/>
              <a:ext cx="5144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2362320" y="5381280"/>
              <a:ext cx="0" cy="281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2352960" y="5860800"/>
              <a:ext cx="0" cy="281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391120" y="5437440"/>
              <a:ext cx="161640" cy="1807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i="1" lang="en-US" sz="9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391120" y="5915160"/>
              <a:ext cx="161640" cy="1825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i="1" lang="en-US" sz="9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448000" y="5029200"/>
              <a:ext cx="190800" cy="1825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419560" y="6350040"/>
              <a:ext cx="190440" cy="1810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3171960" y="5391000"/>
              <a:ext cx="0" cy="741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638800" y="5085000"/>
              <a:ext cx="218880" cy="1713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d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648160" y="6286680"/>
              <a:ext cx="219240" cy="1713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d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895840" y="5085000"/>
              <a:ext cx="181080" cy="1713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148200" y="6232680"/>
              <a:ext cx="38160" cy="316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138840" y="5273640"/>
              <a:ext cx="37800" cy="334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805480" y="5273640"/>
              <a:ext cx="39600" cy="3348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515040" y="6005520"/>
              <a:ext cx="0" cy="24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391200" y="596124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448080" y="6005520"/>
              <a:ext cx="142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657960" y="5888160"/>
              <a:ext cx="228600" cy="190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4152960" y="5518440"/>
              <a:ext cx="685440" cy="160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162680" y="5518440"/>
              <a:ext cx="685440" cy="160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5610600" y="5527800"/>
              <a:ext cx="684720" cy="160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619960" y="5527800"/>
              <a:ext cx="685440" cy="160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4305600" y="5924520"/>
              <a:ext cx="380160" cy="79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315680" y="5924520"/>
              <a:ext cx="398880" cy="79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5753160" y="5934240"/>
              <a:ext cx="380880" cy="79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762880" y="5934240"/>
              <a:ext cx="399600" cy="79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496040" y="5518440"/>
              <a:ext cx="2152440" cy="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4876920" y="5518440"/>
              <a:ext cx="685440" cy="160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886640" y="5518440"/>
              <a:ext cx="685440" cy="160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5010480" y="5924520"/>
              <a:ext cx="418320" cy="79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029920" y="5924520"/>
              <a:ext cx="418320" cy="79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6334200" y="5527800"/>
              <a:ext cx="685440" cy="160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6477120" y="5924520"/>
              <a:ext cx="361440" cy="79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96040" y="5924520"/>
              <a:ext cx="2162160" cy="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152960" y="5427720"/>
              <a:ext cx="0" cy="9129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4295880" y="5699160"/>
              <a:ext cx="0" cy="63360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5448600" y="5689440"/>
              <a:ext cx="0" cy="63324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4724640" y="5689440"/>
              <a:ext cx="0" cy="63324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5000760" y="5689440"/>
              <a:ext cx="0" cy="63324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5743800" y="5689440"/>
              <a:ext cx="0" cy="63324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6477120" y="5689440"/>
              <a:ext cx="0" cy="63324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6172560" y="5689440"/>
              <a:ext cx="0" cy="63324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077000" y="6367680"/>
              <a:ext cx="2886120" cy="1904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                      </a:t>
              </a:r>
              <a:r>
                <a:rPr b="0" lang="pl-P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                   2</a:t>
              </a:r>
              <a:r>
                <a:rPr b="0" lang="pl-P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                   3</a:t>
              </a:r>
              <a:r>
                <a:rPr b="0" lang="pl-P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            </a:t>
              </a:r>
              <a:r>
                <a:rPr b="0" lang="pl-P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905280" y="5391360"/>
              <a:ext cx="219240" cy="3268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362920" y="5310360"/>
              <a:ext cx="247680" cy="1713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077080" y="5726160"/>
              <a:ext cx="295200" cy="1810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D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467600" y="6059520"/>
              <a:ext cx="171360" cy="1731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410360" y="5554800"/>
              <a:ext cx="171360" cy="1983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152960" y="5699160"/>
              <a:ext cx="25718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53600" y="5618160"/>
              <a:ext cx="228600" cy="1717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305600" y="6330960"/>
              <a:ext cx="0" cy="190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714920" y="6330960"/>
              <a:ext cx="0" cy="190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400640" y="6340680"/>
              <a:ext cx="219240" cy="1443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305600" y="6485040"/>
              <a:ext cx="4093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4148280" y="6330960"/>
              <a:ext cx="3014640" cy="5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1670040" y="228600"/>
            <a:ext cx="549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obciążeniem rezystancyj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507120" y="76212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Jednopołówko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79240" y="251460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Dwupołówko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979640" y="4495680"/>
            <a:ext cx="497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Dwupołówkowy w obwodzie ładownia akumulato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2806560" y="1993680"/>
            <a:ext cx="152280" cy="152640"/>
            <a:chOff x="2806560" y="1993680"/>
            <a:chExt cx="152280" cy="152640"/>
          </a:xfrm>
        </p:grpSpPr>
        <p:sp>
          <p:nvSpPr>
            <p:cNvPr id="313" name=""/>
            <p:cNvSpPr/>
            <p:nvPr/>
          </p:nvSpPr>
          <p:spPr>
            <a:xfrm>
              <a:off x="2806560" y="214632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2882880" y="19936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2940120" y="4032000"/>
            <a:ext cx="152280" cy="152640"/>
            <a:chOff x="2940120" y="4032000"/>
            <a:chExt cx="152280" cy="152640"/>
          </a:xfrm>
        </p:grpSpPr>
        <p:sp>
          <p:nvSpPr>
            <p:cNvPr id="316" name=""/>
            <p:cNvSpPr/>
            <p:nvPr/>
          </p:nvSpPr>
          <p:spPr>
            <a:xfrm>
              <a:off x="2940120" y="418464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016440" y="4032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3092400" y="6241680"/>
            <a:ext cx="152280" cy="152640"/>
            <a:chOff x="3092400" y="6241680"/>
            <a:chExt cx="152280" cy="152640"/>
          </a:xfrm>
        </p:grpSpPr>
        <p:sp>
          <p:nvSpPr>
            <p:cNvPr id="319" name=""/>
            <p:cNvSpPr/>
            <p:nvPr/>
          </p:nvSpPr>
          <p:spPr>
            <a:xfrm>
              <a:off x="3092400" y="639432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168720" y="62416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1" name=""/>
          <p:cNvGraphicFramePr/>
          <p:nvPr/>
        </p:nvGraphicFramePr>
        <p:xfrm>
          <a:off x="228600" y="917640"/>
          <a:ext cx="8626320" cy="546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17640"/>
                    <a:ext cx="8626320" cy="54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"/>
          <p:cNvSpPr/>
          <p:nvPr/>
        </p:nvSpPr>
        <p:spPr>
          <a:xfrm>
            <a:off x="1670040" y="228600"/>
            <a:ext cx="549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obciążeniem rezystancyj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1288800" y="304920"/>
            <a:ext cx="62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filtrem o wejściu pojemnoś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2781360" y="1523880"/>
            <a:ext cx="152280" cy="152640"/>
            <a:chOff x="2781360" y="1523880"/>
            <a:chExt cx="152280" cy="152640"/>
          </a:xfrm>
        </p:grpSpPr>
        <p:sp>
          <p:nvSpPr>
            <p:cNvPr id="326" name=""/>
            <p:cNvSpPr/>
            <p:nvPr/>
          </p:nvSpPr>
          <p:spPr>
            <a:xfrm>
              <a:off x="2781360" y="167652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2857680" y="15238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28" name=""/>
          <p:cNvGraphicFramePr/>
          <p:nvPr/>
        </p:nvGraphicFramePr>
        <p:xfrm>
          <a:off x="1295280" y="990720"/>
          <a:ext cx="6553440" cy="534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990720"/>
                    <a:ext cx="6553440" cy="534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0" name=""/>
          <p:cNvGrpSpPr/>
          <p:nvPr/>
        </p:nvGrpSpPr>
        <p:grpSpPr>
          <a:xfrm>
            <a:off x="6234120" y="1919160"/>
            <a:ext cx="152280" cy="152640"/>
            <a:chOff x="6234120" y="1919160"/>
            <a:chExt cx="152280" cy="152640"/>
          </a:xfrm>
        </p:grpSpPr>
        <p:sp>
          <p:nvSpPr>
            <p:cNvPr id="331" name=""/>
            <p:cNvSpPr/>
            <p:nvPr/>
          </p:nvSpPr>
          <p:spPr>
            <a:xfrm>
              <a:off x="6234120" y="207180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6310440" y="19191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6022800" y="3119040"/>
            <a:ext cx="152280" cy="152640"/>
            <a:chOff x="6022800" y="3119040"/>
            <a:chExt cx="152280" cy="152640"/>
          </a:xfrm>
        </p:grpSpPr>
        <p:sp>
          <p:nvSpPr>
            <p:cNvPr id="334" name=""/>
            <p:cNvSpPr/>
            <p:nvPr/>
          </p:nvSpPr>
          <p:spPr>
            <a:xfrm>
              <a:off x="6022800" y="327168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6099120" y="31190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6518160" y="4579560"/>
            <a:ext cx="152280" cy="152640"/>
            <a:chOff x="6518160" y="4579560"/>
            <a:chExt cx="152280" cy="152640"/>
          </a:xfrm>
        </p:grpSpPr>
        <p:sp>
          <p:nvSpPr>
            <p:cNvPr id="337" name=""/>
            <p:cNvSpPr/>
            <p:nvPr/>
          </p:nvSpPr>
          <p:spPr>
            <a:xfrm>
              <a:off x="6518160" y="473220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6594480" y="45795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277920" y="1090440"/>
            <a:ext cx="8456400" cy="531828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1614600" y="2847960"/>
            <a:ext cx="2063520" cy="171612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1613160" y="179280"/>
            <a:ext cx="566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zebiegi w prostowniku jednopołówk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 wejściem pojemnoś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399960" y="1252440"/>
            <a:ext cx="8436240" cy="530568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2"/>
          <a:stretch/>
        </p:blipFill>
        <p:spPr>
          <a:xfrm>
            <a:off x="4916520" y="1592280"/>
            <a:ext cx="2800440" cy="236232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1288800" y="304920"/>
            <a:ext cx="626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filtrem o wejściu pojemnoś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prąd udarowy diody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7T07:53:30Z</dcterms:created>
  <dc:creator>Agnieszka Kukawczynska</dc:creator>
  <dc:description/>
  <dc:language>en-US</dc:language>
  <cp:lastModifiedBy>MK</cp:lastModifiedBy>
  <dcterms:modified xsi:type="dcterms:W3CDTF">2004-06-07T10:18:11Z</dcterms:modified>
  <cp:revision>51</cp:revision>
  <dc:subject/>
  <dc:title>Bez tytułu slajdu</dc:title>
</cp:coreProperties>
</file>