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D29-08BB-4A47-A6E8-DA80BEDA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103-1171-43F5-B762-FAA1E243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2A2-71DD-486C-96B9-BC8AD053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FD9-AD29-4A2A-ADED-9083BE74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A71-4CCC-4E0B-A96D-A43A2DEE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6A3-4DE3-4834-864F-DAE9D6A4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EC0-3B15-437E-ACCE-4B7FF1A1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09B-632A-475F-A5AF-4A60EF48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2DB-640F-4E37-B84E-DE17A0EE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671-8A68-47FE-B6C0-5779AB72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543-40DC-48F8-8B59-1883B19C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E78-AFD8-4BD2-8E38-5698484D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2FB9-7915-4940-AD3F-7E4CB7C4E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340520" y="4778280"/>
            <a:ext cx="4596840" cy="74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3800" y="6118200"/>
            <a:ext cx="11224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80880" y="1192320"/>
            <a:ext cx="7747920" cy="2260440"/>
            <a:chOff x="380880" y="1192320"/>
            <a:chExt cx="7747920" cy="2260440"/>
          </a:xfrm>
        </p:grpSpPr>
        <p:sp>
          <p:nvSpPr>
            <p:cNvPr id="238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13760" y="2311560"/>
              <a:ext cx="351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6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9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2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492080" y="3781440"/>
            <a:ext cx="273348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- transmitancja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7760" y="3995640"/>
            <a:ext cx="6793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8800" y="6272280"/>
            <a:ext cx="557280" cy="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7560" y="5121360"/>
            <a:ext cx="542880" cy="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5503320" y="1557360"/>
            <a:ext cx="28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21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35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9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42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45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8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51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7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60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9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73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8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65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72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75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8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81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86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9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92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95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8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604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7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16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9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22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8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08120" y="2838600"/>
            <a:ext cx="5204160" cy="3381840"/>
            <a:chOff x="708120" y="2838600"/>
            <a:chExt cx="5204160" cy="3381840"/>
          </a:xfrm>
        </p:grpSpPr>
        <p:sp>
          <p:nvSpPr>
            <p:cNvPr id="740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8116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1168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89520" y="3019320"/>
              <a:ext cx="32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4360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7212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038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1177920" y="569052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0072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6708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4636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7332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34040" y="301932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104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65960" y="301932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930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21560" y="3022560"/>
              <a:ext cx="468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30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84760" y="3022560"/>
              <a:ext cx="50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6908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9136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177920" y="3016080"/>
              <a:ext cx="46400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1177920" y="3666960"/>
              <a:ext cx="464004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1180800" y="4666680"/>
              <a:ext cx="462924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02200" y="4203360"/>
              <a:ext cx="1708200" cy="1461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80240" y="4275000"/>
              <a:ext cx="98280" cy="1425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7320" y="575928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470400" y="5759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47040" y="57592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6640" y="4576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06840" y="459072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7800" y="5529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17640" y="55450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96840" y="3630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9000" y="3303360"/>
              <a:ext cx="320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8120" y="3085920"/>
              <a:ext cx="180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5600" y="3085920"/>
              <a:ext cx="144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040" y="3078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4200" y="330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38080" y="307800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49240" y="33098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61560" y="3178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69840" y="3408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54760" y="5981400"/>
              <a:ext cx="23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73120" y="573372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86440" y="6006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1080" y="283860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6640" y="6194520"/>
            <a:ext cx="64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amplitudowo-częstotliwościowe pętli I rzę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99640" y="2575080"/>
            <a:ext cx="351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60920" y="5419800"/>
            <a:ext cx="20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4368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73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84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97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12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34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40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9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55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64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70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97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1004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10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0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23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30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6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391480" y="3952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ływ filtru DP na właściwości pęt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41480" y="1231920"/>
            <a:ext cx="8872200" cy="3751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Filtr o dużej częstotliwości granicznej umożliwia szybkie synchronizowa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ię pętli  przy względnie dużym zakresie chwyt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Pętla z filtrem o dużej częstotliwości granicznej jest bardziej podana na zakłó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Pętla z filtrem o względnie małej częstotliwości grani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odporniejsza na zakłóc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Zbyt mała częstotliwość graniczna filtru uniemożliwia nadążanie pętli 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ybkimi zmianami fazy lub częstotliwości sygnału wejściow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modulacji częstotliwości lub fa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28720" y="5265720"/>
            <a:ext cx="7336080" cy="971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nios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 DP ma decydujący wpływ na parametry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30240" y="295128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ktory fa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13040" y="2124000"/>
            <a:ext cx="1440" cy="34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83400" y="1590840"/>
            <a:ext cx="1440" cy="39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83400" y="1620720"/>
            <a:ext cx="921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96000" y="1940040"/>
            <a:ext cx="7956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775560" y="1503360"/>
            <a:ext cx="1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775560" y="1940040"/>
            <a:ext cx="1440" cy="674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646240" y="1881360"/>
            <a:ext cx="1011600" cy="87120"/>
            <a:chOff x="5646240" y="1881360"/>
            <a:chExt cx="1011600" cy="87120"/>
          </a:xfrm>
        </p:grpSpPr>
        <p:sp>
          <p:nvSpPr>
            <p:cNvPr id="1080" name=""/>
            <p:cNvSpPr/>
            <p:nvPr/>
          </p:nvSpPr>
          <p:spPr>
            <a:xfrm flipH="1">
              <a:off x="5646240" y="1922400"/>
              <a:ext cx="1011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570720" y="18813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172200" y="2073240"/>
            <a:ext cx="142920" cy="3780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38800" y="1932120"/>
            <a:ext cx="1800" cy="158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38800" y="244332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402240" y="2190600"/>
            <a:ext cx="10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524280" y="2274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722680" y="1906560"/>
            <a:ext cx="428400" cy="4269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57680" y="1998720"/>
            <a:ext cx="1440" cy="239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870280" y="1960560"/>
            <a:ext cx="20952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870280" y="2154240"/>
            <a:ext cx="129960" cy="87480"/>
            <a:chOff x="2870280" y="2154240"/>
            <a:chExt cx="129960" cy="87480"/>
          </a:xfrm>
        </p:grpSpPr>
        <p:sp>
          <p:nvSpPr>
            <p:cNvPr id="1091" name=""/>
            <p:cNvSpPr/>
            <p:nvPr/>
          </p:nvSpPr>
          <p:spPr>
            <a:xfrm>
              <a:off x="2870280" y="2170080"/>
              <a:ext cx="12996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95480" y="2154240"/>
              <a:ext cx="104760" cy="8748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0" y="55"/>
                  </a:moveTo>
                  <a:lnTo>
                    <a:pt x="66" y="53"/>
                  </a:lnTo>
                  <a:lnTo>
                    <a:pt x="2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3000240" y="2238480"/>
            <a:ext cx="79560" cy="36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2722320" y="2124000"/>
            <a:ext cx="135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79800" y="2274840"/>
            <a:ext cx="1440" cy="495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079800" y="1515600"/>
            <a:ext cx="1440" cy="43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581200" y="2124000"/>
            <a:ext cx="146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42080" y="1473120"/>
            <a:ext cx="58680" cy="5580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54800" y="2090880"/>
            <a:ext cx="172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564160" y="2090880"/>
            <a:ext cx="8244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5646600" y="2090520"/>
            <a:ext cx="9396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567400" y="2195640"/>
            <a:ext cx="1731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23960" y="1457280"/>
            <a:ext cx="37296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77800" y="1523880"/>
            <a:ext cx="158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994040" y="1518840"/>
            <a:ext cx="1854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79480" y="1138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345280" y="142704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202360" y="1498680"/>
            <a:ext cx="1555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715000" y="1495080"/>
            <a:ext cx="1790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424480" y="1074600"/>
            <a:ext cx="268200" cy="306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00800" y="1108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5960" y="205740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13040" y="2128680"/>
            <a:ext cx="155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5680" y="2128680"/>
            <a:ext cx="1843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78000" y="1738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287440" y="1822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54240" y="1503360"/>
            <a:ext cx="558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213600" y="1901880"/>
            <a:ext cx="5868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34960" y="150336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84240" y="2448000"/>
            <a:ext cx="59040" cy="489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05200" y="1503360"/>
            <a:ext cx="5868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46460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18160" y="237960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48360" y="213192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000240" y="2762280"/>
            <a:ext cx="158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3480" y="3048120"/>
            <a:ext cx="160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389240" y="2157480"/>
            <a:ext cx="155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84680" y="2825640"/>
            <a:ext cx="155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86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1722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46600" y="1922400"/>
            <a:ext cx="1800" cy="181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646600" y="220824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6888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5605560" y="2484360"/>
            <a:ext cx="87120" cy="290520"/>
            <a:chOff x="5605560" y="2484360"/>
            <a:chExt cx="87120" cy="290520"/>
          </a:xfrm>
        </p:grpSpPr>
        <p:sp>
          <p:nvSpPr>
            <p:cNvPr id="1135" name=""/>
            <p:cNvSpPr/>
            <p:nvPr/>
          </p:nvSpPr>
          <p:spPr>
            <a:xfrm>
              <a:off x="5646600" y="2484360"/>
              <a:ext cx="180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05560" y="2484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48034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92400" y="183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3092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52600" y="2627280"/>
            <a:ext cx="411120" cy="270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01560" y="2662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90480" y="2744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49520" y="2662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40280" y="1717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27760" y="1801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86800" y="1717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19680" y="1725480"/>
            <a:ext cx="411120" cy="265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9682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57200" y="1838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660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214600" y="2527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03520" y="2611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62560" y="2527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53720" y="1779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141200" y="1863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79720" y="1779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3449520" y="5961240"/>
            <a:ext cx="136440" cy="60120"/>
            <a:chOff x="3449520" y="5961240"/>
            <a:chExt cx="136440" cy="60120"/>
          </a:xfrm>
        </p:grpSpPr>
        <p:sp>
          <p:nvSpPr>
            <p:cNvPr id="1158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2533680" y="6226200"/>
            <a:ext cx="203040" cy="243000"/>
            <a:chOff x="2533680" y="6226200"/>
            <a:chExt cx="203040" cy="243000"/>
          </a:xfrm>
        </p:grpSpPr>
        <p:sp>
          <p:nvSpPr>
            <p:cNvPr id="1161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2187720" y="5961240"/>
            <a:ext cx="345960" cy="264960"/>
            <a:chOff x="2187720" y="5961240"/>
            <a:chExt cx="345960" cy="264960"/>
          </a:xfrm>
        </p:grpSpPr>
        <p:sp>
          <p:nvSpPr>
            <p:cNvPr id="1164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251000" y="6226200"/>
            <a:ext cx="203040" cy="243000"/>
            <a:chOff x="1251000" y="6226200"/>
            <a:chExt cx="203040" cy="243000"/>
          </a:xfrm>
        </p:grpSpPr>
        <p:sp>
          <p:nvSpPr>
            <p:cNvPr id="1167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905040" y="5961240"/>
            <a:ext cx="347400" cy="264960"/>
            <a:chOff x="905040" y="5961240"/>
            <a:chExt cx="347400" cy="264960"/>
          </a:xfrm>
        </p:grpSpPr>
        <p:sp>
          <p:nvSpPr>
            <p:cNvPr id="1170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184560" y="3959280"/>
            <a:ext cx="347400" cy="264960"/>
            <a:chOff x="3184560" y="3959280"/>
            <a:chExt cx="347400" cy="264960"/>
          </a:xfrm>
        </p:grpSpPr>
        <p:sp>
          <p:nvSpPr>
            <p:cNvPr id="1173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  <a:lnTo>
                    <a:pt x="219" y="16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2832120" y="4224240"/>
            <a:ext cx="345960" cy="265320"/>
            <a:chOff x="2832120" y="4224240"/>
            <a:chExt cx="345960" cy="265320"/>
          </a:xfrm>
        </p:grpSpPr>
        <p:sp>
          <p:nvSpPr>
            <p:cNvPr id="1176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2552760" y="4224240"/>
            <a:ext cx="347760" cy="265320"/>
            <a:chOff x="2552760" y="4224240"/>
            <a:chExt cx="347760" cy="265320"/>
          </a:xfrm>
        </p:grpSpPr>
        <p:sp>
          <p:nvSpPr>
            <p:cNvPr id="1179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201760" y="3959280"/>
            <a:ext cx="345960" cy="264960"/>
            <a:chOff x="2201760" y="3959280"/>
            <a:chExt cx="345960" cy="264960"/>
          </a:xfrm>
        </p:grpSpPr>
        <p:sp>
          <p:nvSpPr>
            <p:cNvPr id="1182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1909800" y="3959280"/>
            <a:ext cx="345960" cy="264960"/>
            <a:chOff x="1909800" y="3959280"/>
            <a:chExt cx="345960" cy="264960"/>
          </a:xfrm>
        </p:grpSpPr>
        <p:sp>
          <p:nvSpPr>
            <p:cNvPr id="1185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563840" y="4224240"/>
            <a:ext cx="345960" cy="265320"/>
            <a:chOff x="1563840" y="4224240"/>
            <a:chExt cx="345960" cy="265320"/>
          </a:xfrm>
        </p:grpSpPr>
        <p:sp>
          <p:nvSpPr>
            <p:cNvPr id="1188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1273320" y="4224240"/>
            <a:ext cx="344520" cy="265320"/>
            <a:chOff x="1273320" y="4224240"/>
            <a:chExt cx="344520" cy="265320"/>
          </a:xfrm>
        </p:grpSpPr>
        <p:sp>
          <p:nvSpPr>
            <p:cNvPr id="1191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7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25560" y="3959280"/>
            <a:ext cx="347760" cy="264960"/>
            <a:chOff x="925560" y="3959280"/>
            <a:chExt cx="347760" cy="264960"/>
          </a:xfrm>
        </p:grpSpPr>
        <p:sp>
          <p:nvSpPr>
            <p:cNvPr id="1194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08040" y="3959280"/>
            <a:ext cx="345960" cy="264960"/>
            <a:chOff x="608040" y="3959280"/>
            <a:chExt cx="345960" cy="264960"/>
          </a:xfrm>
        </p:grpSpPr>
        <p:sp>
          <p:nvSpPr>
            <p:cNvPr id="1197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84280" y="3957480"/>
            <a:ext cx="3232800" cy="5040"/>
            <a:chOff x="584280" y="3957480"/>
            <a:chExt cx="3232800" cy="5040"/>
          </a:xfrm>
        </p:grpSpPr>
        <p:grpSp>
          <p:nvGrpSpPr>
            <p:cNvPr id="1200" name=""/>
            <p:cNvGrpSpPr/>
            <p:nvPr/>
          </p:nvGrpSpPr>
          <p:grpSpPr>
            <a:xfrm>
              <a:off x="2085840" y="3957480"/>
              <a:ext cx="1731240" cy="5040"/>
              <a:chOff x="2085840" y="3957480"/>
              <a:chExt cx="1731240" cy="5040"/>
            </a:xfrm>
          </p:grpSpPr>
          <p:sp>
            <p:nvSpPr>
              <p:cNvPr id="1201" name=""/>
              <p:cNvSpPr/>
              <p:nvPr/>
            </p:nvSpPr>
            <p:spPr>
              <a:xfrm>
                <a:off x="3812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79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7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779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7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620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7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74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735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270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71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7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700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6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68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6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665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6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6493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6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631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6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614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6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59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587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5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6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5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552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5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53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5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19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501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4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484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474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46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45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449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439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4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42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4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04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3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38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3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371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3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353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336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326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31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30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291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283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27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26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256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2490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241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23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23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2140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206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19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88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1791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17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161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15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14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136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126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11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10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10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93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84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762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06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05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049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041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03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023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014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0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99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988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979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97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35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953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945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936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9286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918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910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01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89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88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876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866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5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84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841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831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823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815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806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98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788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780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771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763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53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745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73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72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718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10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70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69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685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675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667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658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650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640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633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62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61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606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598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58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58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571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563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555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545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538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528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520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511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503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493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485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476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46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45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45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41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43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42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415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407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398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390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380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372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363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3554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34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37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328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320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31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302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293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285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2777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268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260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250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2428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233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225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215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207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19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190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180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172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16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155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145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138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129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120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112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102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94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085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2077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682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60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50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04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33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253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016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00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0001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904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982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973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965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955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947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38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3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920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912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03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89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85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877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868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860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52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42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834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25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817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079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8000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790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78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7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765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755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4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3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730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722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712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7049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695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87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77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700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6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52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43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3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2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17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08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0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9228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82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574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65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573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547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539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530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5224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1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04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95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48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47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69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460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45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444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34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270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173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4094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400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92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824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374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36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5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47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3395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33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32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3143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3046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96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287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279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2697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2618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52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4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2348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226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21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20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99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919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8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7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667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1570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149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139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31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221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142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104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9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8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79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69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6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5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44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6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27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191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09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01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92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842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7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66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57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4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3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31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22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0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96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88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79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715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61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53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44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366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2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19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09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1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9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84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74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66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58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49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41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1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23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14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06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6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8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1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61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53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6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8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8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0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1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3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4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603360" y="5958000"/>
            <a:ext cx="3232800" cy="4680"/>
            <a:chOff x="603360" y="5958000"/>
            <a:chExt cx="3232800" cy="4680"/>
          </a:xfrm>
        </p:grpSpPr>
        <p:grpSp>
          <p:nvGrpSpPr>
            <p:cNvPr id="1575" name=""/>
            <p:cNvGrpSpPr/>
            <p:nvPr/>
          </p:nvGrpSpPr>
          <p:grpSpPr>
            <a:xfrm>
              <a:off x="2106360" y="5958000"/>
              <a:ext cx="1729800" cy="4680"/>
              <a:chOff x="2106360" y="5958000"/>
              <a:chExt cx="1729800" cy="4680"/>
            </a:xfrm>
          </p:grpSpPr>
          <p:sp>
            <p:nvSpPr>
              <p:cNvPr id="1576" name=""/>
              <p:cNvSpPr/>
              <p:nvPr/>
            </p:nvSpPr>
            <p:spPr>
              <a:xfrm>
                <a:off x="383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23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0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89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77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755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7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38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20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0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9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6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676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668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65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6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41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331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2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07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598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590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5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73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63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55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54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528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5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51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5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493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4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477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4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60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4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42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4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425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15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39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3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380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372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36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3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45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33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330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3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312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30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29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285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277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26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60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250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24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23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22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215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20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2000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9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182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173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1651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15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14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138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13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12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12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03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09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08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69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60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524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4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034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025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17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007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999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990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982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97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964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955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947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93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930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922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12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904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95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87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77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69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6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5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42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34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2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07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799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791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782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774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64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56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747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739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7298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721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712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94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8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77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6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660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652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644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634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626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617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609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599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592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58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57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565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55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54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539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530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52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514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504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496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487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4793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469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461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452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44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43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426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417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40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39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391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383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374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3666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356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349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339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331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322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14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304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296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28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279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269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261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25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244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236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226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218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209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201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191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183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17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166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156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148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13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131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121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113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106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2097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089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079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71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62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54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44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36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027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1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009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001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92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98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974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966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958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949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941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31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23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914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06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896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888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79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7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861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854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44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83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8288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819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11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01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938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84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776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766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75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74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741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31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2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1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06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97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89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6812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71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663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54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45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636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628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619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6110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60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593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584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5760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6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58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508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411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523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515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5062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4983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48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4713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463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44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36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284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420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411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4032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935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85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6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68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586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507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41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3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3237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15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06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888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80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72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63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556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45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2380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28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220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21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03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93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8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7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68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58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5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430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3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25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16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080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098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90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81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7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06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055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46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3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02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20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11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00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954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85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977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968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601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950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942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33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9252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1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907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98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902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8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73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5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55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47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38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30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0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2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0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5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85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77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6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60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50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426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3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25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17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77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99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90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82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28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64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5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7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9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0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20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2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3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584280" y="4487760"/>
            <a:ext cx="3232800" cy="3240"/>
            <a:chOff x="584280" y="4487760"/>
            <a:chExt cx="3232800" cy="3240"/>
          </a:xfrm>
        </p:grpSpPr>
        <p:grpSp>
          <p:nvGrpSpPr>
            <p:cNvPr id="1950" name=""/>
            <p:cNvGrpSpPr/>
            <p:nvPr/>
          </p:nvGrpSpPr>
          <p:grpSpPr>
            <a:xfrm>
              <a:off x="2085840" y="4487760"/>
              <a:ext cx="1731240" cy="3240"/>
              <a:chOff x="2085840" y="4487760"/>
              <a:chExt cx="1731240" cy="3240"/>
            </a:xfrm>
          </p:grpSpPr>
          <p:sp>
            <p:nvSpPr>
              <p:cNvPr id="1951" name=""/>
              <p:cNvSpPr/>
              <p:nvPr/>
            </p:nvSpPr>
            <p:spPr>
              <a:xfrm>
                <a:off x="3812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8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79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7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779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7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7620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74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735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270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1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7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700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6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68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6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665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6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6493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6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631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6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14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59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587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52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5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53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5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519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5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501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4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484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474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46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45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449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439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4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42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4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404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3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38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371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3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353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3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336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326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31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30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3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291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283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27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26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256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2490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241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23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223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2140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206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19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188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1791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17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161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15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14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136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126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11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10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10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093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084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0762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06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05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049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041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3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23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14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0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9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988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979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97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9635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953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945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36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9286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918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910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901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89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88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876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66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5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84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841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831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823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815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806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798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788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780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71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763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753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745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73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72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718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710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70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69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685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675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667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658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650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640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633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62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61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606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598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8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58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571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563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555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545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538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528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520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511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503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493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485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476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46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45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45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441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43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42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415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407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398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390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380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372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363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3554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34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337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328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320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31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02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293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285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2777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268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260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250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2428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233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25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215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207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19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90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180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172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16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155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145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138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129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120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112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102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94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085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077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0682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60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050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04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33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0253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16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0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0001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9904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82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973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65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55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47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38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93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20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912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903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9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85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77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68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860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52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842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34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25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17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8079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000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790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8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755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4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73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30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22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12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7049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695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687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677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6700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66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652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43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3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2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17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608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60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59228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582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574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65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5573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547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539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30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5224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1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504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495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48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47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469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60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45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444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434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4270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4173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4094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400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392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824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74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6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35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347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395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33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32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3143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3046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96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87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79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697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2618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52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4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348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26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0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99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1919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18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17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1667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1570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149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139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131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1221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1142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104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09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08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079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69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06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5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044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036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027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0191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009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001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992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9842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97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966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57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4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93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931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922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1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0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96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88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79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715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61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53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44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366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2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19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09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01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9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84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74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66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8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49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41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31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23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14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6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96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88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7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71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61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53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4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36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8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18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10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01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3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84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814320" y="3944880"/>
            <a:ext cx="9360" cy="1089000"/>
            <a:chOff x="814320" y="3944880"/>
            <a:chExt cx="9360" cy="1089000"/>
          </a:xfrm>
        </p:grpSpPr>
        <p:sp>
          <p:nvSpPr>
            <p:cNvPr id="2325" name=""/>
            <p:cNvSpPr/>
            <p:nvPr/>
          </p:nvSpPr>
          <p:spPr>
            <a:xfrm>
              <a:off x="814320" y="502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14320" y="50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14320" y="501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14320" y="5003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14320" y="499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14320" y="49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14320" y="497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14320" y="496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4320" y="4960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14320" y="49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14320" y="4943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4320" y="493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14320" y="492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14320" y="491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14320" y="490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14320" y="489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14320" y="4890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14320" y="488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14320" y="48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14320" y="486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14320" y="485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4320" y="484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14320" y="48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4320" y="4830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14320" y="482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14320" y="4813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4320" y="48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4320" y="479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4320" y="478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14320" y="477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14320" y="476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4320" y="47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15760" y="4751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760" y="4743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15760" y="473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15760" y="47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15760" y="4716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5760" y="470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15760" y="4700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15760" y="46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15760" y="4683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15760" y="467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15760" y="4665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15760" y="465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15760" y="464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15760" y="463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15760" y="463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15760" y="462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15760" y="46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15760" y="460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15760" y="45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15760" y="458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15760" y="45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15760" y="456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15760" y="456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15760" y="4552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15760" y="45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15760" y="45356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15760" y="452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15760" y="451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15760" y="450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15760" y="450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15760" y="449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15760" y="4483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5760" y="447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15760" y="44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15760" y="445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5760" y="444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5760" y="443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5760" y="443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5760" y="4422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5760" y="441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5760" y="4405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5760" y="4395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5760" y="438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5760" y="437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15760" y="437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15760" y="4361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15760" y="4352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15760" y="434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15760" y="4335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15760" y="432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15760" y="4317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5760" y="430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15760" y="430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15760" y="429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15760" y="428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15760" y="4275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5760" y="426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15760" y="4257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15760" y="424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15760" y="424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15760" y="423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15760" y="422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5760" y="421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19000" y="4205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19000" y="419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19000" y="4187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1900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819000" y="4170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19000" y="416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9000" y="4152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19000" y="4145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19000" y="4135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19000" y="4127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19000" y="41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19000" y="4110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9000" y="4100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19000" y="4092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19000" y="4083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19000" y="40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19000" y="4065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19000" y="4057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19000" y="4048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19000" y="40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19000" y="4030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19000" y="4022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19000" y="4014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19000" y="40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19000" y="3997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19000" y="3987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19000" y="3979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9000" y="3970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19000" y="396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19000" y="3952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19000" y="3944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457280" y="3951360"/>
            <a:ext cx="6120" cy="1089000"/>
            <a:chOff x="1457280" y="3951360"/>
            <a:chExt cx="6120" cy="1089000"/>
          </a:xfrm>
        </p:grpSpPr>
        <p:sp>
          <p:nvSpPr>
            <p:cNvPr id="2452" name=""/>
            <p:cNvSpPr/>
            <p:nvPr/>
          </p:nvSpPr>
          <p:spPr>
            <a:xfrm>
              <a:off x="1457280" y="503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457280" y="50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457280" y="501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457280" y="501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57280" y="500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457280" y="49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457280" y="498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457280" y="497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457280" y="496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57280" y="495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457280" y="4950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457280" y="494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457280" y="4932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457280" y="492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457280" y="49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457280" y="490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457280" y="489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457280" y="488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457280" y="487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457280" y="487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457280" y="486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457280" y="4854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457280" y="484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457280" y="483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457280" y="482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457280" y="481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457280" y="480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457280" y="480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57280" y="479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457280" y="47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457280" y="477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457280" y="4767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457280" y="475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457280" y="47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457280" y="474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457280" y="473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457280" y="472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57280" y="47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457280" y="4707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457280" y="469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457280" y="46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457280" y="468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457280" y="467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57280" y="466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57280" y="4654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457280" y="464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457280" y="46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457280" y="462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457280" y="4619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457280" y="461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457280" y="46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57280" y="4594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57280" y="45846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457280" y="45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457280" y="45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457280" y="455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57280" y="45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457280" y="45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457280" y="453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57280" y="45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457280" y="451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457280" y="45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57280" y="449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458720" y="448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458720" y="447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458720" y="4471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458720" y="4462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458720" y="4454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58720" y="4446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458720" y="4437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458720" y="4429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58720" y="4419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458720" y="4411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458720" y="4402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458720" y="43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458720" y="4384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458720" y="437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458720" y="436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458720" y="4359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458720" y="4349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58720" y="434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458720" y="433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458720" y="4324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458720" y="4316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458720" y="4307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458720" y="42991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458720" y="4289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458720" y="4281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458720" y="4272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458720" y="42642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458720" y="425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458720" y="4246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458720" y="4237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458720" y="422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458720" y="421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458720" y="421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458720" y="4202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58720" y="4194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458720" y="4186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458720" y="4176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458720" y="4168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458720" y="4159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458720" y="4151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458720" y="4141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458720" y="4133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458720" y="4124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458720" y="4116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458720" y="410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458720" y="4098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458720" y="4089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458720" y="4081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458720" y="407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458720" y="4064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458720" y="4054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58720" y="4046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58720" y="4038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458720" y="4029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458720" y="4021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58720" y="4011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458720" y="4003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458720" y="3994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458720" y="3986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58720" y="3976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58720" y="3968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458720" y="395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58720" y="3951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2101680" y="3951360"/>
            <a:ext cx="6480" cy="1089000"/>
            <a:chOff x="2101680" y="3951360"/>
            <a:chExt cx="6480" cy="1089000"/>
          </a:xfrm>
        </p:grpSpPr>
        <p:sp>
          <p:nvSpPr>
            <p:cNvPr id="2579" name=""/>
            <p:cNvSpPr/>
            <p:nvPr/>
          </p:nvSpPr>
          <p:spPr>
            <a:xfrm>
              <a:off x="210168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10168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10168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0168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0168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0168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0168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10168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0168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10168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10168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10168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10168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10168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10168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10168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10168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0168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10168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10168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10168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0168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10168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10168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10168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10168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10168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10168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10168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10168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10168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10168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101680" y="475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101680" y="474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101680" y="4740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01680" y="4732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01680" y="4724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01680" y="4714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01680" y="4707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01680" y="4697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01680" y="4689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101680" y="4680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101680" y="4672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101680" y="4662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101680" y="4654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101680" y="464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101680" y="463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101680" y="4627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101680" y="4619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4610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101680" y="460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101680" y="4594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101680" y="4584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101680" y="4576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101680" y="4567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101680" y="4559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101680" y="4549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101680" y="4541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4532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101680" y="452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101680" y="451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101680" y="4506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101680" y="4497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103120" y="448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103120" y="44798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103120" y="44719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103120" y="4462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103120" y="4454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103120" y="44467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103120" y="4437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103120" y="4429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103120" y="4419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103120" y="44118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103120" y="4402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103120" y="4394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103120" y="4384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103120" y="437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103120" y="4367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103120" y="4359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103120" y="4349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103120" y="434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03120" y="4332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103120" y="43243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103120" y="43164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103120" y="4307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103120" y="42991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103120" y="4289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103120" y="4281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103120" y="4272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103120" y="42642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103120" y="42544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103120" y="4246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103120" y="4237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103120" y="422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103120" y="421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103120" y="4211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103120" y="4202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103120" y="41940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03120" y="4186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103120" y="4176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103120" y="41688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103120" y="41590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03120" y="4151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103120" y="4141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03120" y="41338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103120" y="41241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103120" y="41162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03120" y="410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103120" y="4098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103120" y="40892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03120" y="4081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03120" y="407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103120" y="4064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103120" y="4054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103120" y="4046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103120" y="4038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103120" y="4029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103120" y="40212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103120" y="40114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103120" y="4003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103120" y="3994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103120" y="39862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103120" y="39765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103120" y="3968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103120" y="395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103120" y="39513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5" name=""/>
          <p:cNvGrpSpPr/>
          <p:nvPr/>
        </p:nvGrpSpPr>
        <p:grpSpPr>
          <a:xfrm>
            <a:off x="2730600" y="3959280"/>
            <a:ext cx="9000" cy="1081080"/>
            <a:chOff x="2730600" y="3959280"/>
            <a:chExt cx="9000" cy="1081080"/>
          </a:xfrm>
        </p:grpSpPr>
        <p:sp>
          <p:nvSpPr>
            <p:cNvPr id="2706" name=""/>
            <p:cNvSpPr/>
            <p:nvPr/>
          </p:nvSpPr>
          <p:spPr>
            <a:xfrm>
              <a:off x="27306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7306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7306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7306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7306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7306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7306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7306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7306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7306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7306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7306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7306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7306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7306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7306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7306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7306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7306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306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306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7306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7306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7306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7306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7306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7306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7306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7306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7306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7306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7306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733480" y="4757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733480" y="474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733480" y="47401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733480" y="47322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733480" y="4724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733480" y="4714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733480" y="4707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733480" y="46972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733480" y="46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733480" y="4680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733480" y="4672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733480" y="466236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733480" y="4654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733480" y="4645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733480" y="463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733480" y="4627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733480" y="46195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733480" y="4610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733480" y="460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733480" y="4594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733480" y="45846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733480" y="4576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733480" y="4567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733480" y="4559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733480" y="45496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733480" y="4541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733480" y="4532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733480" y="452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733480" y="4514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733480" y="4506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733480" y="4497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733480" y="4489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733480" y="447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733480" y="4471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733480" y="4462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733480" y="4454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733480" y="44467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733480" y="4437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33480" y="4429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733480" y="4419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733480" y="44118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733480" y="4402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733480" y="4394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733480" y="4384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733480" y="4376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33480" y="436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733480" y="4359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733480" y="4349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733480" y="43419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733480" y="433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733480" y="4324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733480" y="431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733480" y="43070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733480" y="42991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733480" y="4289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733480" y="4281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733480" y="4272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733480" y="42642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733480" y="425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733480" y="4246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733480" y="42372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733480" y="4229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7352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7352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7352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7352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7352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7352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7352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7352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7352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7352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7352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7352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7352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7352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7352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7352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7352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7352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7352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7352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7352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7352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7352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7352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7352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352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7352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7352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7352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7352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7352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3362400" y="3959280"/>
            <a:ext cx="9000" cy="1081080"/>
            <a:chOff x="3362400" y="3959280"/>
            <a:chExt cx="9000" cy="1081080"/>
          </a:xfrm>
        </p:grpSpPr>
        <p:sp>
          <p:nvSpPr>
            <p:cNvPr id="2832" name=""/>
            <p:cNvSpPr/>
            <p:nvPr/>
          </p:nvSpPr>
          <p:spPr>
            <a:xfrm>
              <a:off x="33624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3624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24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24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24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3624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3624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3624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3624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3624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3624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3624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3624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3624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3624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3624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3624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3624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624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624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3624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624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3624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3624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624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3624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3624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624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3624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3624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624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3624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63840" y="4757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63840" y="474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363840" y="47401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363840" y="47322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363840" y="4724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363840" y="4714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363840" y="47070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3840" y="46972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363840" y="46893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363840" y="4680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363840" y="4672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363840" y="46623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363840" y="4654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363840" y="4645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363840" y="463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363840" y="4627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363840" y="46195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363840" y="4610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3840" y="460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363840" y="459432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363840" y="45846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363840" y="45766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363840" y="4567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363840" y="4559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363840" y="45496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363840" y="4541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363840" y="4532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363840" y="452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363840" y="4514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363840" y="4506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363840" y="4497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363840" y="448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3840" y="447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363840" y="4471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63840" y="4462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363840" y="4454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63840" y="44467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363840" y="4437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3840" y="4429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363840" y="4419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363840" y="44118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363840" y="4402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363840" y="4394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363840" y="4384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3840" y="437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363840" y="436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363840" y="4359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363840" y="4349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363840" y="434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363840" y="433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363840" y="4324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363840" y="4316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363840" y="4307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63840" y="42991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63840" y="4289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3840" y="4281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63840" y="4272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63840" y="42642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63840" y="425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63840" y="4246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63840" y="4237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363840" y="422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3670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670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3670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3670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670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3670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670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670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3670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3670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3670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3670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3670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3670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3670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3670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3670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670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670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670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670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670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3670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3670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3670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3670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3670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3670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3670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70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7" name=""/>
          <p:cNvSpPr/>
          <p:nvPr/>
        </p:nvSpPr>
        <p:spPr>
          <a:xfrm>
            <a:off x="593640" y="503244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82080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25480" y="5364000"/>
            <a:ext cx="628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14605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106720" y="5370480"/>
            <a:ext cx="630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27367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367080" y="5370480"/>
            <a:ext cx="2192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45908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103480" y="5040360"/>
            <a:ext cx="1440" cy="33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733840" y="504036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363840" y="5040360"/>
            <a:ext cx="180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00120" y="622620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816120" y="5961240"/>
            <a:ext cx="137880" cy="47520"/>
            <a:chOff x="816120" y="5961240"/>
            <a:chExt cx="137880" cy="47520"/>
          </a:xfrm>
        </p:grpSpPr>
        <p:sp>
          <p:nvSpPr>
            <p:cNvPr id="2970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2" name=""/>
          <p:cNvSpPr/>
          <p:nvPr/>
        </p:nvSpPr>
        <p:spPr>
          <a:xfrm>
            <a:off x="816120" y="6014880"/>
            <a:ext cx="288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454040" y="6225840"/>
            <a:ext cx="180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46052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73060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6" name=""/>
          <p:cNvGrpSpPr/>
          <p:nvPr/>
        </p:nvGrpSpPr>
        <p:grpSpPr>
          <a:xfrm>
            <a:off x="2098800" y="5961240"/>
            <a:ext cx="137880" cy="47520"/>
            <a:chOff x="2098800" y="5961240"/>
            <a:chExt cx="137880" cy="47520"/>
          </a:xfrm>
        </p:grpSpPr>
        <p:sp>
          <p:nvSpPr>
            <p:cNvPr id="2977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9" name=""/>
          <p:cNvSpPr/>
          <p:nvPr/>
        </p:nvSpPr>
        <p:spPr>
          <a:xfrm>
            <a:off x="2098800" y="6014880"/>
            <a:ext cx="144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2730600" y="6225840"/>
            <a:ext cx="144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1" name=""/>
          <p:cNvGrpSpPr/>
          <p:nvPr/>
        </p:nvGrpSpPr>
        <p:grpSpPr>
          <a:xfrm>
            <a:off x="3360600" y="5961240"/>
            <a:ext cx="136440" cy="47520"/>
            <a:chOff x="3360600" y="5961240"/>
            <a:chExt cx="136440" cy="47520"/>
          </a:xfrm>
        </p:grpSpPr>
        <p:sp>
          <p:nvSpPr>
            <p:cNvPr id="2982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86" y="3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4" name=""/>
          <p:cNvSpPr/>
          <p:nvPr/>
        </p:nvSpPr>
        <p:spPr>
          <a:xfrm>
            <a:off x="3360600" y="6014880"/>
            <a:ext cx="180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909800" y="4224240"/>
            <a:ext cx="1440" cy="4888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755880" y="6264360"/>
            <a:ext cx="10980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793320" y="628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3755880" y="5241960"/>
            <a:ext cx="10980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793320" y="5254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727440" y="4265640"/>
            <a:ext cx="1094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3767760" y="4278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77720" y="416412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510480" y="4176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471600" y="5140440"/>
            <a:ext cx="11088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504000" y="515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477720" y="616428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510480" y="6176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255760" y="4495680"/>
            <a:ext cx="15264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290680" y="4506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345400" y="451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146320" y="5526000"/>
            <a:ext cx="11124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177640" y="55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423720" y="5762520"/>
            <a:ext cx="14616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456480" y="5778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00760" y="5821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23720" y="4754520"/>
            <a:ext cx="14616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456480" y="47671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00760" y="48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471600" y="3809880"/>
            <a:ext cx="11088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92840" y="3825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537480" y="3868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2" name=""/>
          <p:cNvGrpSpPr/>
          <p:nvPr/>
        </p:nvGrpSpPr>
        <p:grpSpPr>
          <a:xfrm>
            <a:off x="814320" y="5370480"/>
            <a:ext cx="6120" cy="620640"/>
            <a:chOff x="814320" y="5370480"/>
            <a:chExt cx="6120" cy="620640"/>
          </a:xfrm>
        </p:grpSpPr>
        <p:sp>
          <p:nvSpPr>
            <p:cNvPr id="3013" name=""/>
            <p:cNvSpPr/>
            <p:nvPr/>
          </p:nvSpPr>
          <p:spPr>
            <a:xfrm>
              <a:off x="81432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1432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1432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1432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1432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1432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1432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1432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1432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432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1432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1432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1432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1432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1432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1432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1432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1432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1432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1432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1432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1432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1432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1432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1432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1432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1432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1432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1432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1432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1432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1432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1432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1432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1432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1432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1576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1576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1576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1576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1576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1576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1576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1576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1576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1576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1576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1576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1576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1576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1576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1576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1576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1576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1576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1576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1576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1576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1576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1576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1576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1576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1576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1576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1576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1576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1576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1576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1576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1576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1576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1576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5" name=""/>
          <p:cNvGrpSpPr/>
          <p:nvPr/>
        </p:nvGrpSpPr>
        <p:grpSpPr>
          <a:xfrm>
            <a:off x="2101680" y="5370480"/>
            <a:ext cx="4680" cy="620640"/>
            <a:chOff x="2101680" y="5370480"/>
            <a:chExt cx="4680" cy="620640"/>
          </a:xfrm>
        </p:grpSpPr>
        <p:sp>
          <p:nvSpPr>
            <p:cNvPr id="3086" name=""/>
            <p:cNvSpPr/>
            <p:nvPr/>
          </p:nvSpPr>
          <p:spPr>
            <a:xfrm>
              <a:off x="210168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0168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0168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10168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10168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10168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10168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10168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10168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10168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0168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10168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0168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10168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10168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10168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10168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10168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10168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10168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10168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10168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10168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10168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10168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10168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10168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10168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10168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10168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10168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10168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10168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10168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10168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10168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10168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10168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10168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10168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10168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10168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10168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0168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10168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10168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10168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10168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10168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0168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10168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10168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10168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0168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10168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10168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10168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10168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10168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10168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10168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10168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10168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10168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10168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10168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10168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10168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0168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10168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10168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10168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1457280" y="5364000"/>
            <a:ext cx="3240" cy="863640"/>
            <a:chOff x="1457280" y="5364000"/>
            <a:chExt cx="3240" cy="863640"/>
          </a:xfrm>
        </p:grpSpPr>
        <p:sp>
          <p:nvSpPr>
            <p:cNvPr id="3159" name=""/>
            <p:cNvSpPr/>
            <p:nvPr/>
          </p:nvSpPr>
          <p:spPr>
            <a:xfrm>
              <a:off x="1457280" y="6222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457280" y="621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457280" y="620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457280" y="619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457280" y="618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457280" y="618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457280" y="6170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457280" y="616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457280" y="6153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57280" y="614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457280" y="613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1457280" y="612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457280" y="611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457280" y="611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457280" y="610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457280" y="609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57280" y="60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457280" y="607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457280" y="606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1457280" y="605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457280" y="604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457280" y="6040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457280" y="603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457280" y="6022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457280" y="601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457280" y="6005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457280" y="599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457280" y="598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457280" y="597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457280" y="597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457280" y="596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457280" y="595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457280" y="594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457280" y="593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457280" y="59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457280" y="591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457280" y="591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457280" y="590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457280" y="58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457280" y="588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457280" y="5875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457280" y="586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457280" y="585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457280" y="585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457280" y="584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457280" y="583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457280" y="5824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457280" y="58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457280" y="5807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457280" y="579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457280" y="5789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457280" y="578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1457280" y="577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457280" y="5762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457280" y="5754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457280" y="5745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457280" y="573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457280" y="572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457280" y="571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457280" y="571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457280" y="570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457280" y="5694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1457280" y="56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457280" y="5676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457280" y="566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457280" y="5659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457280" y="56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457280" y="56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457280" y="5632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457280" y="5624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457280" y="56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457280" y="5607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457280" y="5597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457280" y="5589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457280" y="5581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457280" y="5572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457280" y="556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457280" y="55548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457280" y="5546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457280" y="55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457280" y="5529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457280" y="5519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457280" y="5511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457280" y="55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457280" y="549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457280" y="5484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457280" y="5477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457280" y="54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457280" y="5459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457280" y="545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457280" y="5442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457280" y="54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457280" y="54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457280" y="541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457280" y="5407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457280" y="53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457280" y="5389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457280" y="538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457280" y="5372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457280" y="53640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9" name=""/>
          <p:cNvGrpSpPr/>
          <p:nvPr/>
        </p:nvGrpSpPr>
        <p:grpSpPr>
          <a:xfrm>
            <a:off x="2730600" y="5357880"/>
            <a:ext cx="4680" cy="863640"/>
            <a:chOff x="2730600" y="5357880"/>
            <a:chExt cx="4680" cy="863640"/>
          </a:xfrm>
        </p:grpSpPr>
        <p:sp>
          <p:nvSpPr>
            <p:cNvPr id="3260" name=""/>
            <p:cNvSpPr/>
            <p:nvPr/>
          </p:nvSpPr>
          <p:spPr>
            <a:xfrm>
              <a:off x="2730600" y="6216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730600" y="6208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730600" y="619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730600" y="6191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730600" y="618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730600" y="6173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730600" y="616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730600" y="615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730600" y="614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730600" y="613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730600" y="6129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730600" y="612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730600" y="6111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730600" y="610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30600" y="609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30600" y="608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730600" y="607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730600" y="606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730600" y="6060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730600" y="605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730600" y="6043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730600" y="603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730600" y="602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730600" y="601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730600" y="600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730600" y="5999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730600" y="599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730600" y="5981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730600" y="597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730600" y="596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730600" y="595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730600" y="594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730600" y="593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730600" y="5931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730600" y="59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730600" y="5913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730600" y="590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730600" y="589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730600" y="58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730600" y="587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730600" y="5869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730600" y="586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730600" y="58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730600" y="584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730600" y="5834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730600" y="582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730600" y="581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730600" y="580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730600" y="580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730600" y="579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730600" y="57834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730600" y="57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730600" y="5765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730600" y="575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730600" y="574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730600" y="57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730600" y="573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730600" y="572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730600" y="571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730600" y="57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730600" y="569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730600" y="568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730600" y="567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30600" y="567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730600" y="56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730600" y="5653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730600" y="564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730600" y="5635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730600" y="56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730600" y="561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730600" y="560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730600" y="560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730600" y="55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730600" y="558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730600" y="5573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730600" y="5565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730600" y="555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730600" y="554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730600" y="554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730600" y="5530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730600" y="552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730600" y="55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730600" y="5505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730600" y="549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730600" y="5487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730600" y="54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730600" y="547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730600" y="546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730600" y="545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730600" y="54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730600" y="543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730600" y="5425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730600" y="541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730600" y="541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730600" y="540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2730600" y="539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730600" y="538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2730600" y="5375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730600" y="53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730600" y="5357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3362400" y="5370480"/>
            <a:ext cx="4680" cy="620640"/>
            <a:chOff x="3362400" y="5370480"/>
            <a:chExt cx="4680" cy="620640"/>
          </a:xfrm>
        </p:grpSpPr>
        <p:sp>
          <p:nvSpPr>
            <p:cNvPr id="3361" name=""/>
            <p:cNvSpPr/>
            <p:nvPr/>
          </p:nvSpPr>
          <p:spPr>
            <a:xfrm>
              <a:off x="336240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336240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336240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36240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36240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336240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36240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36240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36240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36240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6240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36240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6240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36240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36240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3624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36240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36240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36240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36240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336240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336240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36240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336240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36240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36240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36240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36240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36240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36240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36240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36240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36240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36240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36240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36240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36240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36240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36240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36240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36240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36240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36240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36240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36240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36240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36240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36240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6240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36240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36240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36240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36240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36240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36240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36240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36240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36240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36240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36240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240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240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240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336240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336240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336240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336240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36240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36240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36240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36240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36240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3" name=""/>
          <p:cNvGrpSpPr/>
          <p:nvPr/>
        </p:nvGrpSpPr>
        <p:grpSpPr>
          <a:xfrm>
            <a:off x="6306480" y="5133960"/>
            <a:ext cx="201240" cy="407160"/>
            <a:chOff x="6306480" y="5133960"/>
            <a:chExt cx="201240" cy="407160"/>
          </a:xfrm>
        </p:grpSpPr>
        <p:sp>
          <p:nvSpPr>
            <p:cNvPr id="3434" name=""/>
            <p:cNvSpPr/>
            <p:nvPr/>
          </p:nvSpPr>
          <p:spPr>
            <a:xfrm>
              <a:off x="6402240" y="5308560"/>
              <a:ext cx="96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06480" y="5214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40584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41700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8" name=""/>
          <p:cNvGrpSpPr/>
          <p:nvPr/>
        </p:nvGrpSpPr>
        <p:grpSpPr>
          <a:xfrm>
            <a:off x="7243920" y="5133960"/>
            <a:ext cx="105840" cy="407160"/>
            <a:chOff x="7243920" y="5133960"/>
            <a:chExt cx="105840" cy="407160"/>
          </a:xfrm>
        </p:grpSpPr>
        <p:sp>
          <p:nvSpPr>
            <p:cNvPr id="3439" name=""/>
            <p:cNvSpPr/>
            <p:nvPr/>
          </p:nvSpPr>
          <p:spPr>
            <a:xfrm>
              <a:off x="7243920" y="5308560"/>
              <a:ext cx="968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24788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5904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6419880" y="4565520"/>
            <a:ext cx="420480" cy="314280"/>
            <a:chOff x="6419880" y="4565520"/>
            <a:chExt cx="420480" cy="314280"/>
          </a:xfrm>
        </p:grpSpPr>
        <p:sp>
          <p:nvSpPr>
            <p:cNvPr id="3443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  <a:lnTo>
                    <a:pt x="265" y="19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840360" y="4565520"/>
            <a:ext cx="420840" cy="314280"/>
            <a:chOff x="6840360" y="4565520"/>
            <a:chExt cx="420840" cy="314280"/>
          </a:xfrm>
        </p:grpSpPr>
        <p:sp>
          <p:nvSpPr>
            <p:cNvPr id="3446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8" name=""/>
          <p:cNvSpPr/>
          <p:nvPr/>
        </p:nvSpPr>
        <p:spPr>
          <a:xfrm flipH="1">
            <a:off x="6240600" y="4849920"/>
            <a:ext cx="1728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7248600" y="4849920"/>
            <a:ext cx="1746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0" name=""/>
          <p:cNvGrpSpPr/>
          <p:nvPr/>
        </p:nvGrpSpPr>
        <p:grpSpPr>
          <a:xfrm>
            <a:off x="7423200" y="5383080"/>
            <a:ext cx="417600" cy="317520"/>
            <a:chOff x="7423200" y="5383080"/>
            <a:chExt cx="417600" cy="317520"/>
          </a:xfrm>
        </p:grpSpPr>
        <p:sp>
          <p:nvSpPr>
            <p:cNvPr id="3451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3" y="0"/>
                  </a:lnTo>
                  <a:lnTo>
                    <a:pt x="263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3" name=""/>
          <p:cNvGrpSpPr/>
          <p:nvPr/>
        </p:nvGrpSpPr>
        <p:grpSpPr>
          <a:xfrm>
            <a:off x="7840800" y="5383080"/>
            <a:ext cx="420480" cy="317520"/>
            <a:chOff x="7840800" y="5383080"/>
            <a:chExt cx="420480" cy="317520"/>
          </a:xfrm>
        </p:grpSpPr>
        <p:sp>
          <p:nvSpPr>
            <p:cNvPr id="3454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6" name=""/>
          <p:cNvGrpSpPr/>
          <p:nvPr/>
        </p:nvGrpSpPr>
        <p:grpSpPr>
          <a:xfrm>
            <a:off x="5400720" y="5373720"/>
            <a:ext cx="420480" cy="317520"/>
            <a:chOff x="5400720" y="5373720"/>
            <a:chExt cx="420480" cy="317520"/>
          </a:xfrm>
        </p:grpSpPr>
        <p:sp>
          <p:nvSpPr>
            <p:cNvPr id="3457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26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9" name=""/>
          <p:cNvGrpSpPr/>
          <p:nvPr/>
        </p:nvGrpSpPr>
        <p:grpSpPr>
          <a:xfrm>
            <a:off x="5821200" y="5373720"/>
            <a:ext cx="419040" cy="317520"/>
            <a:chOff x="5821200" y="5373720"/>
            <a:chExt cx="419040" cy="317520"/>
          </a:xfrm>
        </p:grpSpPr>
        <p:sp>
          <p:nvSpPr>
            <p:cNvPr id="3460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2" name=""/>
          <p:cNvSpPr/>
          <p:nvPr/>
        </p:nvSpPr>
        <p:spPr>
          <a:xfrm>
            <a:off x="5307120" y="5108400"/>
            <a:ext cx="85680" cy="268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3" name=""/>
          <p:cNvGrpSpPr/>
          <p:nvPr/>
        </p:nvGrpSpPr>
        <p:grpSpPr>
          <a:xfrm>
            <a:off x="6397560" y="4562640"/>
            <a:ext cx="433440" cy="6120"/>
            <a:chOff x="6397560" y="4562640"/>
            <a:chExt cx="433440" cy="6120"/>
          </a:xfrm>
        </p:grpSpPr>
        <p:sp>
          <p:nvSpPr>
            <p:cNvPr id="3464" name=""/>
            <p:cNvSpPr/>
            <p:nvPr/>
          </p:nvSpPr>
          <p:spPr>
            <a:xfrm>
              <a:off x="6397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64101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6422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433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446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4594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47064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4832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495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50844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6519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532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5451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556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568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58152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592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6052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61824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62940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6420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654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665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6783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691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021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7150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727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738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7514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7640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77700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7881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8007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8133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824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0" name=""/>
          <p:cNvSpPr/>
          <p:nvPr/>
        </p:nvSpPr>
        <p:spPr>
          <a:xfrm>
            <a:off x="6604920" y="4138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6668280" y="4200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6041160" y="4492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6104520" y="45543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6422400" y="5751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6492240" y="5764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6555600" y="58244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936480" y="5157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7952760" y="5141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5895000" y="515160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609480" y="42307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609480" y="52243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09480" y="622620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1484280" y="565308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1967040" y="471312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606600" y="37972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568440" y="47512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581040" y="571500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6827760" y="405756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195880" y="5097600"/>
            <a:ext cx="343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7446960" y="1644120"/>
            <a:ext cx="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5219640" y="15840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1434960" y="162036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1892160" y="2573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3711600" y="16570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7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28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0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41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3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1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72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4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5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76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8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9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80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3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84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6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7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88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0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92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4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96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8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99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602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0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701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9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1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802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66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3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52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66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9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70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2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3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74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6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7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78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0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1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82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4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86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8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9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90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2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93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5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7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98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0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1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4002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5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4006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8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9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2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3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14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6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18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0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1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22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25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1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32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4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35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7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5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46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2" name=""/>
          <p:cNvGrpSpPr/>
          <p:nvPr/>
        </p:nvGrpSpPr>
        <p:grpSpPr>
          <a:xfrm>
            <a:off x="1612800" y="1176480"/>
            <a:ext cx="5646960" cy="4411440"/>
            <a:chOff x="1612800" y="1176480"/>
            <a:chExt cx="5646960" cy="4411440"/>
          </a:xfrm>
        </p:grpSpPr>
        <p:sp>
          <p:nvSpPr>
            <p:cNvPr id="4203" name=""/>
            <p:cNvSpPr/>
            <p:nvPr/>
          </p:nvSpPr>
          <p:spPr>
            <a:xfrm>
              <a:off x="3083040" y="2208240"/>
              <a:ext cx="51264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589200" y="20606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426096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4260960" y="1652760"/>
              <a:ext cx="672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924440" y="165276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924440" y="2060640"/>
              <a:ext cx="355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135160" y="324648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2403360" y="32576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403360" y="3665520"/>
              <a:ext cx="676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79800" y="327024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79800" y="3257640"/>
              <a:ext cx="671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740040" y="32702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740040" y="3678120"/>
              <a:ext cx="676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4416480" y="328284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4416480" y="3270240"/>
              <a:ext cx="658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075280" y="327024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075280" y="3678120"/>
              <a:ext cx="293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151000" y="5397480"/>
              <a:ext cx="125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2766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2289240" y="4721400"/>
              <a:ext cx="109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40336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2403360" y="5397480"/>
              <a:ext cx="447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847960" y="4721400"/>
              <a:ext cx="32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86380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9782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978280" y="5397480"/>
              <a:ext cx="442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4210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43368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54816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548160" y="5397480"/>
              <a:ext cx="439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995640" y="4721400"/>
              <a:ext cx="180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008600" y="472140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122720" y="4721400"/>
              <a:ext cx="1440" cy="68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122720" y="5397480"/>
              <a:ext cx="460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578480" y="4721400"/>
              <a:ext cx="468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4595760" y="4721400"/>
              <a:ext cx="112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470844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708440" y="5397480"/>
              <a:ext cx="4446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1530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16564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28012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280120" y="5397480"/>
              <a:ext cx="21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613120" y="1941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649480" y="3571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703480" y="5137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949480" y="2658960"/>
              <a:ext cx="324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248000" y="2658960"/>
              <a:ext cx="180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3022200" y="2728800"/>
              <a:ext cx="1136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4151160" y="268776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2930400" y="2513160"/>
              <a:ext cx="1526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588480" y="2475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083040" y="16747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513480" y="4846680"/>
              <a:ext cx="74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6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97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1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22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3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24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4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4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7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78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9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90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1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6513480" y="4846680"/>
            <a:ext cx="7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ostokatnych sygnałach steruja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6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97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98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1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402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5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406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411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5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16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8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19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1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22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4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25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7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32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6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77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7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0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41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3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44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6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47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48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0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51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3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54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55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7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58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0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61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62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4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65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7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68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0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6237720" y="1330200"/>
              <a:ext cx="1515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40880" y="1890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4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705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4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15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9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4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25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26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6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27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7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28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8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29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9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6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1740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9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40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3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44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6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47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9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50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2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53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5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7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58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0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61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3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0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71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3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74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6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77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9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1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702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4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8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709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0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41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2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73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3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64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5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9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80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3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8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89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3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94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7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98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7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8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19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2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23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9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6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27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6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4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85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4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1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62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5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4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75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4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6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77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3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84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85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3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4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7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9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1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2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3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5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7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28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29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7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8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0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1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2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5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6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8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9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6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9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100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2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7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108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0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4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25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7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5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86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8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9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90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2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93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5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8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99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1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9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210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4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4" name=""/>
          <p:cNvSpPr/>
          <p:nvPr/>
        </p:nvSpPr>
        <p:spPr>
          <a:xfrm>
            <a:off x="1547280" y="2951280"/>
            <a:ext cx="54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7" name=""/>
          <p:cNvGrpSpPr/>
          <p:nvPr/>
        </p:nvGrpSpPr>
        <p:grpSpPr>
          <a:xfrm>
            <a:off x="1560600" y="1623960"/>
            <a:ext cx="6378480" cy="4633920"/>
            <a:chOff x="1560600" y="1623960"/>
            <a:chExt cx="6378480" cy="4633920"/>
          </a:xfrm>
        </p:grpSpPr>
        <p:sp>
          <p:nvSpPr>
            <p:cNvPr id="7278" name=""/>
            <p:cNvSpPr/>
            <p:nvPr/>
          </p:nvSpPr>
          <p:spPr>
            <a:xfrm>
              <a:off x="5165640" y="226692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5217840" y="2300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5339880" y="2371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5051520" y="249408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5092560" y="252720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 flipH="1">
              <a:off x="5079600" y="251604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2913120" y="236844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3023640" y="240012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3184560" y="258120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4027320" y="232560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4282920" y="253368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5421240" y="232560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5663880" y="25336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1" name=""/>
            <p:cNvGrpSpPr/>
            <p:nvPr/>
          </p:nvGrpSpPr>
          <p:grpSpPr>
            <a:xfrm>
              <a:off x="3735360" y="2533680"/>
              <a:ext cx="279360" cy="82440"/>
              <a:chOff x="3735360" y="2533680"/>
              <a:chExt cx="27936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3735360" y="257328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925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5295960" y="2544840"/>
              <a:ext cx="112680" cy="82440"/>
              <a:chOff x="5295960" y="2544840"/>
              <a:chExt cx="112680" cy="82440"/>
            </a:xfrm>
          </p:grpSpPr>
          <p:sp>
            <p:nvSpPr>
              <p:cNvPr id="7295" name=""/>
              <p:cNvSpPr/>
              <p:nvPr/>
            </p:nvSpPr>
            <p:spPr>
              <a:xfrm>
                <a:off x="5295960" y="258444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531972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7" name=""/>
            <p:cNvGrpSpPr/>
            <p:nvPr/>
          </p:nvGrpSpPr>
          <p:grpSpPr>
            <a:xfrm>
              <a:off x="4873680" y="2544840"/>
              <a:ext cx="166680" cy="82440"/>
              <a:chOff x="4873680" y="2544840"/>
              <a:chExt cx="166680" cy="82440"/>
            </a:xfrm>
          </p:grpSpPr>
          <p:sp>
            <p:nvSpPr>
              <p:cNvPr id="7298" name=""/>
              <p:cNvSpPr/>
              <p:nvPr/>
            </p:nvSpPr>
            <p:spPr>
              <a:xfrm>
                <a:off x="4873680" y="258444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495144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0" name=""/>
            <p:cNvGrpSpPr/>
            <p:nvPr/>
          </p:nvGrpSpPr>
          <p:grpSpPr>
            <a:xfrm>
              <a:off x="5121360" y="2246400"/>
              <a:ext cx="93600" cy="247680"/>
              <a:chOff x="5121360" y="2246400"/>
              <a:chExt cx="93600" cy="247680"/>
            </a:xfrm>
          </p:grpSpPr>
          <p:sp>
            <p:nvSpPr>
              <p:cNvPr id="7301" name=""/>
              <p:cNvSpPr/>
              <p:nvPr/>
            </p:nvSpPr>
            <p:spPr>
              <a:xfrm>
                <a:off x="5165640" y="224640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5121360" y="224640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5121360" y="24145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4" name=""/>
            <p:cNvGrpSpPr/>
            <p:nvPr/>
          </p:nvGrpSpPr>
          <p:grpSpPr>
            <a:xfrm>
              <a:off x="2370240" y="2533680"/>
              <a:ext cx="555480" cy="82440"/>
              <a:chOff x="2370240" y="2533680"/>
              <a:chExt cx="555480" cy="82440"/>
            </a:xfrm>
          </p:grpSpPr>
          <p:sp>
            <p:nvSpPr>
              <p:cNvPr id="7305" name=""/>
              <p:cNvSpPr/>
              <p:nvPr/>
            </p:nvSpPr>
            <p:spPr>
              <a:xfrm>
                <a:off x="2370240" y="257328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836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7" name=""/>
            <p:cNvGrpSpPr/>
            <p:nvPr/>
          </p:nvGrpSpPr>
          <p:grpSpPr>
            <a:xfrm>
              <a:off x="3262320" y="2786040"/>
              <a:ext cx="92160" cy="247680"/>
              <a:chOff x="3262320" y="2786040"/>
              <a:chExt cx="92160" cy="247680"/>
            </a:xfrm>
          </p:grpSpPr>
          <p:sp>
            <p:nvSpPr>
              <p:cNvPr id="7308" name=""/>
              <p:cNvSpPr/>
              <p:nvPr/>
            </p:nvSpPr>
            <p:spPr>
              <a:xfrm flipV="1">
                <a:off x="3306600" y="278604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3262320" y="278604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0" name=""/>
            <p:cNvSpPr/>
            <p:nvPr/>
          </p:nvSpPr>
          <p:spPr>
            <a:xfrm>
              <a:off x="3317760" y="303372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 flipH="1">
              <a:off x="6254280" y="257328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408720" y="258444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4983120" y="211284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 flipH="1">
              <a:off x="5327640" y="217008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 flipH="1">
              <a:off x="4805280" y="217008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377040" y="254808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4813200" y="171756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314440" y="254808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4781520" y="168444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6972480" y="254808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196720" y="2658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2317320" y="2732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2354400" y="2658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4586040" y="1771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6523200" y="261612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6595560" y="2644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664308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6701040" y="2644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694764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5497560" y="210960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2610000" y="270684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2674800" y="270684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2751120" y="270684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2811600" y="272088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 flipH="1" flipV="1">
              <a:off x="2521080" y="279504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 flipH="1">
              <a:off x="2604960" y="270684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 flipH="1">
              <a:off x="2666880" y="279540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2730600" y="270684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2795760" y="279540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5006880" y="162396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5230800" y="18032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2" name=""/>
            <p:cNvGrpSpPr/>
            <p:nvPr/>
          </p:nvGrpSpPr>
          <p:grpSpPr>
            <a:xfrm>
              <a:off x="1719360" y="1781280"/>
              <a:ext cx="83880" cy="465120"/>
              <a:chOff x="1719360" y="1781280"/>
              <a:chExt cx="83880" cy="465120"/>
            </a:xfrm>
          </p:grpSpPr>
          <p:sp>
            <p:nvSpPr>
              <p:cNvPr id="7343" name=""/>
              <p:cNvSpPr/>
              <p:nvPr/>
            </p:nvSpPr>
            <p:spPr>
              <a:xfrm>
                <a:off x="1758960" y="184932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1719360" y="178128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5" name=""/>
            <p:cNvGrpSpPr/>
            <p:nvPr/>
          </p:nvGrpSpPr>
          <p:grpSpPr>
            <a:xfrm>
              <a:off x="1743120" y="2209680"/>
              <a:ext cx="1008000" cy="76320"/>
              <a:chOff x="1743120" y="2209680"/>
              <a:chExt cx="1008000" cy="76320"/>
            </a:xfrm>
          </p:grpSpPr>
          <p:sp>
            <p:nvSpPr>
              <p:cNvPr id="7346" name=""/>
              <p:cNvSpPr/>
              <p:nvPr/>
            </p:nvSpPr>
            <p:spPr>
              <a:xfrm flipH="1">
                <a:off x="1743120" y="224640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2666880" y="220968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"/>
            <p:cNvSpPr/>
            <p:nvPr/>
          </p:nvSpPr>
          <p:spPr>
            <a:xfrm>
              <a:off x="1868400" y="200808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1949400" y="204156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030400" y="207000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116080" y="210168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197080" y="212400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2278080" y="214164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2362320" y="217332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2443320" y="219564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1560600" y="174132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1589040" y="1771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2505240" y="227808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2556360" y="2306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1815120" y="2295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186048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2122920" y="2295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224460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2176560" y="3335400"/>
              <a:ext cx="83880" cy="2666880"/>
              <a:chOff x="2176560" y="3335400"/>
              <a:chExt cx="83880" cy="2666880"/>
            </a:xfrm>
          </p:grpSpPr>
          <p:sp>
            <p:nvSpPr>
              <p:cNvPr id="7365" name=""/>
              <p:cNvSpPr/>
              <p:nvPr/>
            </p:nvSpPr>
            <p:spPr>
              <a:xfrm>
                <a:off x="2216160" y="340344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176560" y="333540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7" name=""/>
            <p:cNvGrpSpPr/>
            <p:nvPr/>
          </p:nvGrpSpPr>
          <p:grpSpPr>
            <a:xfrm>
              <a:off x="2200320" y="5954760"/>
              <a:ext cx="3727440" cy="75960"/>
              <a:chOff x="2200320" y="5954760"/>
              <a:chExt cx="3727440" cy="75960"/>
            </a:xfrm>
          </p:grpSpPr>
          <p:sp>
            <p:nvSpPr>
              <p:cNvPr id="7368" name=""/>
              <p:cNvSpPr/>
              <p:nvPr/>
            </p:nvSpPr>
            <p:spPr>
              <a:xfrm flipH="1">
                <a:off x="2200320" y="599112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5842080" y="59547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0" name=""/>
            <p:cNvGrpSpPr/>
            <p:nvPr/>
          </p:nvGrpSpPr>
          <p:grpSpPr>
            <a:xfrm>
              <a:off x="2171880" y="5491080"/>
              <a:ext cx="607680" cy="14400"/>
              <a:chOff x="2171880" y="5491080"/>
              <a:chExt cx="607680" cy="14400"/>
            </a:xfrm>
          </p:grpSpPr>
          <p:sp>
            <p:nvSpPr>
              <p:cNvPr id="7371" name=""/>
              <p:cNvSpPr/>
              <p:nvPr/>
            </p:nvSpPr>
            <p:spPr>
              <a:xfrm>
                <a:off x="27716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755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73996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722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706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690640" y="549108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674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657520" y="54910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641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625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610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593800" y="54943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576520" y="5494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560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544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529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513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495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479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463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448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432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414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398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382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367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351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33352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317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301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286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270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25252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236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220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205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189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1718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9" name=""/>
            <p:cNvGrpSpPr/>
            <p:nvPr/>
          </p:nvGrpSpPr>
          <p:grpSpPr>
            <a:xfrm>
              <a:off x="2179800" y="5659560"/>
              <a:ext cx="396720" cy="15840"/>
              <a:chOff x="2179800" y="5659560"/>
              <a:chExt cx="396720" cy="15840"/>
            </a:xfrm>
          </p:grpSpPr>
          <p:sp>
            <p:nvSpPr>
              <p:cNvPr id="7410" name=""/>
              <p:cNvSpPr/>
              <p:nvPr/>
            </p:nvSpPr>
            <p:spPr>
              <a:xfrm>
                <a:off x="2568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552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53692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52108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50524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487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471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455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440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42424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406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390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2374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2359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2341440" y="566424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2325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2309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2293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2278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260440" y="5667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24460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22876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221292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219708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2179800" y="5667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5" name=""/>
            <p:cNvSpPr/>
            <p:nvPr/>
          </p:nvSpPr>
          <p:spPr>
            <a:xfrm>
              <a:off x="4991040" y="363852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687920" y="383220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356000" y="402264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051440" y="42037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3711600" y="43830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3456000" y="45846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168720" y="479736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913120" y="498780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2685960" y="516744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471760" y="532620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2281320" y="54943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41720" y="566424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998960" y="364176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962600" y="364176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998960" y="373860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5019840" y="37386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719600" y="382104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683240" y="382104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719600" y="3919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4745160" y="391968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4392720" y="400212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356000" y="400212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392720" y="409896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411800" y="409896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516480" y="45990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479760" y="459900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516480" y="469260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541680" y="469260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2471760" y="54878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432160" y="548784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47176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49552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641680" y="532908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610000" y="532908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641680" y="541188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666880" y="541188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3795840" y="43830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3760920" y="438300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3795840" y="44798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3816360" y="4479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326556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322884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3265560" y="48942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3286080" y="489420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998800" y="4979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962440" y="4979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998800" y="507348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022560" y="507348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100400" y="420372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064040" y="420372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100400" y="429264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121280" y="429264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80368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75904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803680" y="525780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832120" y="525780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5594040" y="6062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5716080" y="6135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1925640" y="3792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058120" y="386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1969920" y="3411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017080" y="3483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1925640" y="55706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058120" y="5641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1925640" y="53323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058120" y="5405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006280" y="580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053440" y="5880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3" name=""/>
                <p:cNvSpPr txBox="1"/>
                <p:nvPr/>
              </p:nvSpPr>
              <p:spPr>
                <a:xfrm>
                  <a:off x="6789600" y="447048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4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5" name=""/>
          <p:cNvGrpSpPr/>
          <p:nvPr/>
        </p:nvGrpSpPr>
        <p:grpSpPr>
          <a:xfrm>
            <a:off x="288720" y="1803240"/>
            <a:ext cx="7902000" cy="3300480"/>
            <a:chOff x="288720" y="1803240"/>
            <a:chExt cx="7902000" cy="3300480"/>
          </a:xfrm>
        </p:grpSpPr>
        <p:sp>
          <p:nvSpPr>
            <p:cNvPr id="7506" name=""/>
            <p:cNvSpPr/>
            <p:nvPr/>
          </p:nvSpPr>
          <p:spPr>
            <a:xfrm>
              <a:off x="4385520" y="2332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488840" y="2430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558680" y="2332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7616880" y="2273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7674840" y="237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7743240" y="2273400"/>
              <a:ext cx="32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8076960" y="2371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753876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766080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7728480" y="2773440"/>
              <a:ext cx="27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800388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812592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8" name=""/>
            <p:cNvGrpSpPr/>
            <p:nvPr/>
          </p:nvGrpSpPr>
          <p:grpSpPr>
            <a:xfrm>
              <a:off x="4757760" y="1803240"/>
              <a:ext cx="2262240" cy="3300480"/>
              <a:chOff x="4757760" y="1803240"/>
              <a:chExt cx="2262240" cy="3300480"/>
            </a:xfrm>
          </p:grpSpPr>
          <p:grpSp>
            <p:nvGrpSpPr>
              <p:cNvPr id="7519" name=""/>
              <p:cNvGrpSpPr/>
              <p:nvPr/>
            </p:nvGrpSpPr>
            <p:grpSpPr>
              <a:xfrm>
                <a:off x="4757760" y="1808280"/>
                <a:ext cx="2262240" cy="3295440"/>
                <a:chOff x="4757760" y="1808280"/>
                <a:chExt cx="2262240" cy="3295440"/>
              </a:xfrm>
            </p:grpSpPr>
            <p:sp>
              <p:nvSpPr>
                <p:cNvPr id="7520" name=""/>
                <p:cNvSpPr/>
                <p:nvPr/>
              </p:nvSpPr>
              <p:spPr>
                <a:xfrm>
                  <a:off x="4762440" y="1808280"/>
                  <a:ext cx="2252880" cy="329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>
                  <a:off x="4757760" y="1808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>
                  <a:off x="4757760" y="1847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3" name=""/>
                <p:cNvSpPr/>
                <p:nvPr/>
              </p:nvSpPr>
              <p:spPr>
                <a:xfrm>
                  <a:off x="4757760" y="1866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4" name=""/>
                <p:cNvSpPr/>
                <p:nvPr/>
              </p:nvSpPr>
              <p:spPr>
                <a:xfrm>
                  <a:off x="4757760" y="1906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5" name=""/>
                <p:cNvSpPr/>
                <p:nvPr/>
              </p:nvSpPr>
              <p:spPr>
                <a:xfrm>
                  <a:off x="4757760" y="1925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4757760" y="1965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7" name=""/>
                <p:cNvSpPr/>
                <p:nvPr/>
              </p:nvSpPr>
              <p:spPr>
                <a:xfrm>
                  <a:off x="4757760" y="1984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8" name=""/>
                <p:cNvSpPr/>
                <p:nvPr/>
              </p:nvSpPr>
              <p:spPr>
                <a:xfrm>
                  <a:off x="4757760" y="2023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9" name=""/>
                <p:cNvSpPr/>
                <p:nvPr/>
              </p:nvSpPr>
              <p:spPr>
                <a:xfrm>
                  <a:off x="4757760" y="2043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4757760" y="2082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>
                  <a:off x="4757760" y="21016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2" name=""/>
                <p:cNvSpPr/>
                <p:nvPr/>
              </p:nvSpPr>
              <p:spPr>
                <a:xfrm>
                  <a:off x="4757760" y="2141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3" name=""/>
                <p:cNvSpPr/>
                <p:nvPr/>
              </p:nvSpPr>
              <p:spPr>
                <a:xfrm>
                  <a:off x="4757760" y="2160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4757760" y="2200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5" name=""/>
                <p:cNvSpPr/>
                <p:nvPr/>
              </p:nvSpPr>
              <p:spPr>
                <a:xfrm>
                  <a:off x="4757760" y="2219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6" name=""/>
                <p:cNvSpPr/>
                <p:nvPr/>
              </p:nvSpPr>
              <p:spPr>
                <a:xfrm>
                  <a:off x="4757760" y="22590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7" name=""/>
                <p:cNvSpPr/>
                <p:nvPr/>
              </p:nvSpPr>
              <p:spPr>
                <a:xfrm>
                  <a:off x="4757760" y="2278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8" name=""/>
                <p:cNvSpPr/>
                <p:nvPr/>
              </p:nvSpPr>
              <p:spPr>
                <a:xfrm>
                  <a:off x="4757760" y="2317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9" name=""/>
                <p:cNvSpPr/>
                <p:nvPr/>
              </p:nvSpPr>
              <p:spPr>
                <a:xfrm>
                  <a:off x="4757760" y="2336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0" name=""/>
                <p:cNvSpPr/>
                <p:nvPr/>
              </p:nvSpPr>
              <p:spPr>
                <a:xfrm>
                  <a:off x="4757760" y="2376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1" name=""/>
                <p:cNvSpPr/>
                <p:nvPr/>
              </p:nvSpPr>
              <p:spPr>
                <a:xfrm>
                  <a:off x="4757760" y="2395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2" name=""/>
                <p:cNvSpPr/>
                <p:nvPr/>
              </p:nvSpPr>
              <p:spPr>
                <a:xfrm>
                  <a:off x="4757760" y="2435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4757760" y="2454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4757760" y="2494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5" name=""/>
                <p:cNvSpPr/>
                <p:nvPr/>
              </p:nvSpPr>
              <p:spPr>
                <a:xfrm>
                  <a:off x="4757760" y="2513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>
                  <a:off x="4757760" y="2552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>
                  <a:off x="4757760" y="2571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>
                  <a:off x="4757760" y="2611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>
                  <a:off x="4757760" y="2630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0" name=""/>
                <p:cNvSpPr/>
                <p:nvPr/>
              </p:nvSpPr>
              <p:spPr>
                <a:xfrm>
                  <a:off x="4757760" y="2670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>
                  <a:off x="4757760" y="2689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>
                  <a:off x="4757760" y="2728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3" name=""/>
                <p:cNvSpPr/>
                <p:nvPr/>
              </p:nvSpPr>
              <p:spPr>
                <a:xfrm>
                  <a:off x="4757760" y="2747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4" name=""/>
                <p:cNvSpPr/>
                <p:nvPr/>
              </p:nvSpPr>
              <p:spPr>
                <a:xfrm>
                  <a:off x="4757760" y="27874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5" name=""/>
                <p:cNvSpPr/>
                <p:nvPr/>
              </p:nvSpPr>
              <p:spPr>
                <a:xfrm>
                  <a:off x="4757760" y="2806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4757760" y="2846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>
                  <a:off x="4757760" y="2865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4757760" y="2905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9" name=""/>
                <p:cNvSpPr/>
                <p:nvPr/>
              </p:nvSpPr>
              <p:spPr>
                <a:xfrm>
                  <a:off x="4757760" y="2924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0" name=""/>
                <p:cNvSpPr/>
                <p:nvPr/>
              </p:nvSpPr>
              <p:spPr>
                <a:xfrm>
                  <a:off x="4757760" y="2963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>
                  <a:off x="4757760" y="2982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2" name=""/>
                <p:cNvSpPr/>
                <p:nvPr/>
              </p:nvSpPr>
              <p:spPr>
                <a:xfrm>
                  <a:off x="4757760" y="3022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3" name=""/>
                <p:cNvSpPr/>
                <p:nvPr/>
              </p:nvSpPr>
              <p:spPr>
                <a:xfrm>
                  <a:off x="4757760" y="3041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4757760" y="3081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4757760" y="3100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>
                  <a:off x="4757760" y="3139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>
                  <a:off x="4757760" y="3159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8" name=""/>
                <p:cNvSpPr/>
                <p:nvPr/>
              </p:nvSpPr>
              <p:spPr>
                <a:xfrm>
                  <a:off x="4757760" y="3198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4757760" y="3218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>
                  <a:off x="4757760" y="3257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>
                  <a:off x="4757760" y="3276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4757760" y="3316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>
                  <a:off x="4757760" y="3335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>
                  <a:off x="4757760" y="3375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>
                  <a:off x="4757760" y="3394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4757760" y="3433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4757760" y="3452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4757760" y="3492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4757760" y="3511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>
                  <a:off x="4757760" y="3551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4757760" y="3570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4757760" y="3610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>
                  <a:off x="4757760" y="3629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>
                  <a:off x="4757760" y="3668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>
                  <a:off x="4757760" y="3687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4757760" y="3727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7" name=""/>
                <p:cNvSpPr/>
                <p:nvPr/>
              </p:nvSpPr>
              <p:spPr>
                <a:xfrm>
                  <a:off x="4757760" y="3746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8" name=""/>
                <p:cNvSpPr/>
                <p:nvPr/>
              </p:nvSpPr>
              <p:spPr>
                <a:xfrm>
                  <a:off x="4757760" y="3786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4757760" y="3805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4757760" y="3844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4757760" y="3863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4757760" y="3903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4757760" y="3922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4757760" y="3962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4757760" y="3981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4757760" y="4021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4757760" y="40402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4757760" y="4079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4757760" y="4098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0" name=""/>
                <p:cNvSpPr/>
                <p:nvPr/>
              </p:nvSpPr>
              <p:spPr>
                <a:xfrm>
                  <a:off x="4757760" y="4138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1" name=""/>
                <p:cNvSpPr/>
                <p:nvPr/>
              </p:nvSpPr>
              <p:spPr>
                <a:xfrm>
                  <a:off x="4757760" y="4157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2" name=""/>
                <p:cNvSpPr/>
                <p:nvPr/>
              </p:nvSpPr>
              <p:spPr>
                <a:xfrm>
                  <a:off x="4757760" y="4197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3" name=""/>
                <p:cNvSpPr/>
                <p:nvPr/>
              </p:nvSpPr>
              <p:spPr>
                <a:xfrm>
                  <a:off x="4757760" y="4216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4" name=""/>
                <p:cNvSpPr/>
                <p:nvPr/>
              </p:nvSpPr>
              <p:spPr>
                <a:xfrm>
                  <a:off x="4757760" y="4255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5" name=""/>
                <p:cNvSpPr/>
                <p:nvPr/>
              </p:nvSpPr>
              <p:spPr>
                <a:xfrm>
                  <a:off x="4757760" y="4275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6" name=""/>
                <p:cNvSpPr/>
                <p:nvPr/>
              </p:nvSpPr>
              <p:spPr>
                <a:xfrm>
                  <a:off x="4757760" y="4314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4757760" y="4334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8" name=""/>
                <p:cNvSpPr/>
                <p:nvPr/>
              </p:nvSpPr>
              <p:spPr>
                <a:xfrm>
                  <a:off x="4757760" y="4373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9" name=""/>
                <p:cNvSpPr/>
                <p:nvPr/>
              </p:nvSpPr>
              <p:spPr>
                <a:xfrm>
                  <a:off x="4757760" y="4392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0" name=""/>
                <p:cNvSpPr/>
                <p:nvPr/>
              </p:nvSpPr>
              <p:spPr>
                <a:xfrm>
                  <a:off x="4757760" y="4432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>
                  <a:off x="4757760" y="4451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4757760" y="4491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>
                  <a:off x="4757760" y="4510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>
                  <a:off x="4757760" y="4549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>
                  <a:off x="4757760" y="4568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4757760" y="4608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>
                  <a:off x="4757760" y="4627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8" name=""/>
                <p:cNvSpPr/>
                <p:nvPr/>
              </p:nvSpPr>
              <p:spPr>
                <a:xfrm>
                  <a:off x="4757760" y="4667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9" name=""/>
                <p:cNvSpPr/>
                <p:nvPr/>
              </p:nvSpPr>
              <p:spPr>
                <a:xfrm>
                  <a:off x="4757760" y="46879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>
                  <a:off x="4757760" y="4726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>
                  <a:off x="4757760" y="47466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4757760" y="4784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3" name=""/>
                <p:cNvSpPr/>
                <p:nvPr/>
              </p:nvSpPr>
              <p:spPr>
                <a:xfrm>
                  <a:off x="4757760" y="480528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4" name=""/>
                <p:cNvSpPr/>
                <p:nvPr/>
              </p:nvSpPr>
              <p:spPr>
                <a:xfrm>
                  <a:off x="4757760" y="48434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5" name=""/>
                <p:cNvSpPr/>
                <p:nvPr/>
              </p:nvSpPr>
              <p:spPr>
                <a:xfrm>
                  <a:off x="4757760" y="486396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6" name=""/>
                <p:cNvSpPr/>
                <p:nvPr/>
              </p:nvSpPr>
              <p:spPr>
                <a:xfrm>
                  <a:off x="4757760" y="4902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7" name=""/>
                <p:cNvSpPr/>
                <p:nvPr/>
              </p:nvSpPr>
              <p:spPr>
                <a:xfrm>
                  <a:off x="4757760" y="49230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8" name=""/>
                <p:cNvSpPr/>
                <p:nvPr/>
              </p:nvSpPr>
              <p:spPr>
                <a:xfrm>
                  <a:off x="4757760" y="4960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9" name=""/>
                <p:cNvSpPr/>
                <p:nvPr/>
              </p:nvSpPr>
              <p:spPr>
                <a:xfrm>
                  <a:off x="4757760" y="498168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>
                  <a:off x="4757760" y="5019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>
                  <a:off x="4757760" y="50403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2" name=""/>
                <p:cNvSpPr/>
                <p:nvPr/>
              </p:nvSpPr>
              <p:spPr>
                <a:xfrm>
                  <a:off x="4757760" y="5078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3" name=""/>
                <p:cNvSpPr/>
                <p:nvPr/>
              </p:nvSpPr>
              <p:spPr>
                <a:xfrm>
                  <a:off x="47624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4" name=""/>
                <p:cNvSpPr/>
                <p:nvPr/>
              </p:nvSpPr>
              <p:spPr>
                <a:xfrm>
                  <a:off x="4802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>
                  <a:off x="48211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6" name=""/>
                <p:cNvSpPr/>
                <p:nvPr/>
              </p:nvSpPr>
              <p:spPr>
                <a:xfrm>
                  <a:off x="4861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7" name=""/>
                <p:cNvSpPr/>
                <p:nvPr/>
              </p:nvSpPr>
              <p:spPr>
                <a:xfrm>
                  <a:off x="48798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8" name=""/>
                <p:cNvSpPr/>
                <p:nvPr/>
              </p:nvSpPr>
              <p:spPr>
                <a:xfrm>
                  <a:off x="4919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9" name=""/>
                <p:cNvSpPr/>
                <p:nvPr/>
              </p:nvSpPr>
              <p:spPr>
                <a:xfrm>
                  <a:off x="493884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0" name=""/>
                <p:cNvSpPr/>
                <p:nvPr/>
              </p:nvSpPr>
              <p:spPr>
                <a:xfrm>
                  <a:off x="4978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1" name=""/>
                <p:cNvSpPr/>
                <p:nvPr/>
              </p:nvSpPr>
              <p:spPr>
                <a:xfrm>
                  <a:off x="49975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5037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>
                  <a:off x="50562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4" name=""/>
                <p:cNvSpPr/>
                <p:nvPr/>
              </p:nvSpPr>
              <p:spPr>
                <a:xfrm>
                  <a:off x="5095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5" name=""/>
                <p:cNvSpPr/>
                <p:nvPr/>
              </p:nvSpPr>
              <p:spPr>
                <a:xfrm>
                  <a:off x="51148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6" name=""/>
                <p:cNvSpPr/>
                <p:nvPr/>
              </p:nvSpPr>
              <p:spPr>
                <a:xfrm>
                  <a:off x="5154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>
                  <a:off x="51735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8" name=""/>
                <p:cNvSpPr/>
                <p:nvPr/>
              </p:nvSpPr>
              <p:spPr>
                <a:xfrm>
                  <a:off x="5213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>
                  <a:off x="52322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5272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529128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2" name=""/>
                <p:cNvSpPr/>
                <p:nvPr/>
              </p:nvSpPr>
              <p:spPr>
                <a:xfrm>
                  <a:off x="5330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>
                  <a:off x="53499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>
                  <a:off x="53895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>
                  <a:off x="54086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>
                  <a:off x="5448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>
                  <a:off x="54673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>
                  <a:off x="5506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55260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>
                  <a:off x="55656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>
                  <a:off x="55846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>
                  <a:off x="5624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>
                  <a:off x="564372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>
                  <a:off x="5683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>
                  <a:off x="5703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6" name=""/>
                <p:cNvSpPr/>
                <p:nvPr/>
              </p:nvSpPr>
              <p:spPr>
                <a:xfrm>
                  <a:off x="5742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7" name=""/>
                <p:cNvSpPr/>
                <p:nvPr/>
              </p:nvSpPr>
              <p:spPr>
                <a:xfrm>
                  <a:off x="5762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8" name=""/>
                <p:cNvSpPr/>
                <p:nvPr/>
              </p:nvSpPr>
              <p:spPr>
                <a:xfrm>
                  <a:off x="5800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9" name=""/>
                <p:cNvSpPr/>
                <p:nvPr/>
              </p:nvSpPr>
              <p:spPr>
                <a:xfrm>
                  <a:off x="5821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>
                  <a:off x="5859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1" name=""/>
                <p:cNvSpPr/>
                <p:nvPr/>
              </p:nvSpPr>
              <p:spPr>
                <a:xfrm>
                  <a:off x="58802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>
                  <a:off x="5918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>
                  <a:off x="59389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>
                  <a:off x="5977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>
                  <a:off x="59976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>
                  <a:off x="6035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>
                  <a:off x="60562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>
                  <a:off x="6094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>
                  <a:off x="611496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>
                  <a:off x="6153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>
                  <a:off x="61736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>
                  <a:off x="6211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62326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>
                  <a:off x="6270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62913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>
                  <a:off x="6329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>
                  <a:off x="63500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>
                  <a:off x="6388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>
                  <a:off x="64087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6446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64674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65055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3" name=""/>
                <p:cNvSpPr/>
                <p:nvPr/>
              </p:nvSpPr>
              <p:spPr>
                <a:xfrm>
                  <a:off x="652608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4" name=""/>
                <p:cNvSpPr/>
                <p:nvPr/>
              </p:nvSpPr>
              <p:spPr>
                <a:xfrm>
                  <a:off x="6564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5" name=""/>
                <p:cNvSpPr/>
                <p:nvPr/>
              </p:nvSpPr>
              <p:spPr>
                <a:xfrm>
                  <a:off x="65851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6" name=""/>
                <p:cNvSpPr/>
                <p:nvPr/>
              </p:nvSpPr>
              <p:spPr>
                <a:xfrm>
                  <a:off x="6622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7" name=""/>
                <p:cNvSpPr/>
                <p:nvPr/>
              </p:nvSpPr>
              <p:spPr>
                <a:xfrm>
                  <a:off x="66438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66819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9" name=""/>
                <p:cNvSpPr/>
                <p:nvPr/>
              </p:nvSpPr>
              <p:spPr>
                <a:xfrm>
                  <a:off x="67024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0" name=""/>
                <p:cNvSpPr/>
                <p:nvPr/>
              </p:nvSpPr>
              <p:spPr>
                <a:xfrm>
                  <a:off x="6740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1" name=""/>
                <p:cNvSpPr/>
                <p:nvPr/>
              </p:nvSpPr>
              <p:spPr>
                <a:xfrm>
                  <a:off x="67611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6799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6819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4" name=""/>
                <p:cNvSpPr/>
                <p:nvPr/>
              </p:nvSpPr>
              <p:spPr>
                <a:xfrm>
                  <a:off x="6858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5" name=""/>
                <p:cNvSpPr/>
                <p:nvPr/>
              </p:nvSpPr>
              <p:spPr>
                <a:xfrm>
                  <a:off x="6878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6916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>
                  <a:off x="6937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>
                  <a:off x="6975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9" name=""/>
                <p:cNvSpPr/>
                <p:nvPr/>
              </p:nvSpPr>
              <p:spPr>
                <a:xfrm>
                  <a:off x="6996240" y="508788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0" y="3"/>
                      </a:moveTo>
                      <a:lnTo>
                        <a:pt x="0" y="10"/>
                      </a:lnTo>
                      <a:lnTo>
                        <a:pt x="12" y="10"/>
                      </a:lnTo>
                      <a:lnTo>
                        <a:pt x="15" y="10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0" name=""/>
                <p:cNvSpPr/>
                <p:nvPr/>
              </p:nvSpPr>
              <p:spPr>
                <a:xfrm>
                  <a:off x="7010280" y="506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1" name=""/>
                <p:cNvSpPr/>
                <p:nvPr/>
              </p:nvSpPr>
              <p:spPr>
                <a:xfrm>
                  <a:off x="7010280" y="502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>
                  <a:off x="7010280" y="501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>
                  <a:off x="7010280" y="497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>
                  <a:off x="7010280" y="495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>
                  <a:off x="7010280" y="49118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>
                  <a:off x="7010280" y="4892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>
                  <a:off x="7010280" y="48531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8" name=""/>
                <p:cNvSpPr/>
                <p:nvPr/>
              </p:nvSpPr>
              <p:spPr>
                <a:xfrm>
                  <a:off x="7010280" y="4834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>
                  <a:off x="7010280" y="47941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0" name=""/>
              <p:cNvSpPr/>
              <p:nvPr/>
            </p:nvSpPr>
            <p:spPr>
              <a:xfrm>
                <a:off x="7010280" y="4775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7010280" y="4735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7010280" y="4716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7010280" y="4676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7010280" y="4657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7010280" y="4618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7010280" y="4599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7010280" y="45594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7010280" y="4540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7010280" y="4500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7010280" y="4481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7010280" y="4441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7010280" y="4422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7010280" y="4383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7010280" y="4363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7010280" y="4324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7010280" y="430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7010280" y="4265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7010280" y="4246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7010280" y="4206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7010280" y="4187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7010280" y="4148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7010280" y="4129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7010280" y="4089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7010280" y="4070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7010280" y="4030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7010280" y="4011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7010280" y="3971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7010280" y="3952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7010280" y="3913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7010280" y="3894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7010280" y="3854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7010280" y="3835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7010280" y="3795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7010280" y="3776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7010280" y="3736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7010280" y="3718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7010280" y="3678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7010280" y="3659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7010280" y="3619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701028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7010280" y="3560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7010280" y="3541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7010280" y="3502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010280" y="3483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7010280" y="344340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7010280" y="3424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7010280" y="3384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7010280" y="3365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7010280" y="3325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7010280" y="3306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7010280" y="3267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7010280" y="3247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7010280" y="3208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7010280" y="3189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7010280" y="3149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7010280" y="3130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7010280" y="3090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7010280" y="3071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7010280" y="3032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7010280" y="3013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7010280" y="2973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7010280" y="2954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7010280" y="2914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7010280" y="2895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7010280" y="2855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7010280" y="2836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7010280" y="2797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7010280" y="27781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7010280" y="2738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7010280" y="2719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7010280" y="2679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7010280" y="2660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7010280" y="2620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7010280" y="2602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7010280" y="2562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7010280" y="2543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7010280" y="2503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7010280" y="2484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7010280" y="2444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7010280" y="2425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7010280" y="2386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7010280" y="2367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7010280" y="23274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7010280" y="23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7010280" y="22683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7010280" y="2249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7010280" y="220968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7010280" y="2190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7010280" y="215100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7010280" y="2131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7010280" y="2092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7010280" y="207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7010280" y="20336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7010280" y="2014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7010280" y="197496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7010280" y="1955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7010280" y="191628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7010280" y="1897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7010280" y="185724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7010280" y="1838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7005600" y="180324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3" y="15"/>
                    </a:moveTo>
                    <a:lnTo>
                      <a:pt x="9" y="15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6985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6946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6926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6888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6867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6829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6808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6770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67500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6711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66913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66531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66326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6594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65739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6535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651528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6477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64562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64184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63975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6359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63388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6300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62802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6242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62215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6183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616284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6124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61038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6066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60451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6006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59864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948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59277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5889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5869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5830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5810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5772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5751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5713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5692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5654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56340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5595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55753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55371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55166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5478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54579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5419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53989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5361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534024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53020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528156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5243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522288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184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516420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5126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51055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5067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50468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008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9878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950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9291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890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8704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832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8117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773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8" name=""/>
            <p:cNvSpPr/>
            <p:nvPr/>
          </p:nvSpPr>
          <p:spPr>
            <a:xfrm>
              <a:off x="5008320" y="184320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1125360" y="2282760"/>
              <a:ext cx="131796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1419840" y="2322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1616040" y="25671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976480" y="2282760"/>
              <a:ext cx="132084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442680" y="256716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5086440" y="2282760"/>
              <a:ext cx="132228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5536800" y="25671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6" name=""/>
            <p:cNvGrpSpPr/>
            <p:nvPr/>
          </p:nvGrpSpPr>
          <p:grpSpPr>
            <a:xfrm>
              <a:off x="2438280" y="2635200"/>
              <a:ext cx="524160" cy="103320"/>
              <a:chOff x="2438280" y="2635200"/>
              <a:chExt cx="524160" cy="103320"/>
            </a:xfrm>
          </p:grpSpPr>
          <p:sp>
            <p:nvSpPr>
              <p:cNvPr id="7907" name=""/>
              <p:cNvSpPr/>
              <p:nvPr/>
            </p:nvSpPr>
            <p:spPr>
              <a:xfrm>
                <a:off x="2438280" y="2679840"/>
                <a:ext cx="5241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285912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9" name=""/>
            <p:cNvGrpSpPr/>
            <p:nvPr/>
          </p:nvGrpSpPr>
          <p:grpSpPr>
            <a:xfrm>
              <a:off x="4303800" y="2616120"/>
              <a:ext cx="782640" cy="103320"/>
              <a:chOff x="4303800" y="2616120"/>
              <a:chExt cx="782640" cy="103320"/>
            </a:xfrm>
          </p:grpSpPr>
          <p:sp>
            <p:nvSpPr>
              <p:cNvPr id="7910" name=""/>
              <p:cNvSpPr/>
              <p:nvPr/>
            </p:nvSpPr>
            <p:spPr>
              <a:xfrm>
                <a:off x="4303800" y="2665440"/>
                <a:ext cx="782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983120" y="26161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2" name=""/>
            <p:cNvGrpSpPr/>
            <p:nvPr/>
          </p:nvGrpSpPr>
          <p:grpSpPr>
            <a:xfrm>
              <a:off x="465120" y="2635200"/>
              <a:ext cx="646200" cy="103320"/>
              <a:chOff x="465120" y="2635200"/>
              <a:chExt cx="646200" cy="103320"/>
            </a:xfrm>
          </p:grpSpPr>
          <p:sp>
            <p:nvSpPr>
              <p:cNvPr id="7913" name=""/>
              <p:cNvSpPr/>
              <p:nvPr/>
            </p:nvSpPr>
            <p:spPr>
              <a:xfrm>
                <a:off x="465120" y="2679840"/>
                <a:ext cx="646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100800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5" name=""/>
            <p:cNvGrpSpPr/>
            <p:nvPr/>
          </p:nvGrpSpPr>
          <p:grpSpPr>
            <a:xfrm>
              <a:off x="1717560" y="3045960"/>
              <a:ext cx="103320" cy="1181160"/>
              <a:chOff x="1717560" y="3045960"/>
              <a:chExt cx="103320" cy="1181160"/>
            </a:xfrm>
          </p:grpSpPr>
          <p:sp>
            <p:nvSpPr>
              <p:cNvPr id="7916" name=""/>
              <p:cNvSpPr/>
              <p:nvPr/>
            </p:nvSpPr>
            <p:spPr>
              <a:xfrm flipV="1">
                <a:off x="1766880" y="3045960"/>
                <a:ext cx="1440" cy="11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1717560" y="30463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8" name=""/>
            <p:cNvSpPr/>
            <p:nvPr/>
          </p:nvSpPr>
          <p:spPr>
            <a:xfrm>
              <a:off x="1782720" y="4227480"/>
              <a:ext cx="331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 flipV="1">
              <a:off x="6676920" y="2679480"/>
              <a:ext cx="1800" cy="15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6423120" y="2665440"/>
              <a:ext cx="150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6648480" y="264492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425520" y="2651040"/>
              <a:ext cx="698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7900920" y="2630520"/>
              <a:ext cx="5868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38040" y="2317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96360" y="2416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225960" y="4334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28392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352320" y="43340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54924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618000" y="43340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693600" y="431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784680" y="433404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96640" y="44323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485880" y="457992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201840" y="4834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26016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328920" y="483408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577680" y="49323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691080" y="48340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766680" y="4815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57760" y="483408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96972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5100480" y="3830760"/>
              <a:ext cx="1322640" cy="75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5654520" y="411480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5" name=""/>
            <p:cNvGrpSpPr/>
            <p:nvPr/>
          </p:nvGrpSpPr>
          <p:grpSpPr>
            <a:xfrm>
              <a:off x="6432480" y="4173480"/>
              <a:ext cx="258840" cy="101520"/>
              <a:chOff x="6432480" y="4173480"/>
              <a:chExt cx="258840" cy="101520"/>
            </a:xfrm>
          </p:grpSpPr>
          <p:sp>
            <p:nvSpPr>
              <p:cNvPr id="7946" name=""/>
              <p:cNvSpPr/>
              <p:nvPr/>
            </p:nvSpPr>
            <p:spPr>
              <a:xfrm>
                <a:off x="6432480" y="4227480"/>
                <a:ext cx="258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6432480" y="4173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5" y="0"/>
                    </a:moveTo>
                    <a:lnTo>
                      <a:pt x="0" y="34"/>
                    </a:lnTo>
                    <a:lnTo>
                      <a:pt x="65" y="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8" name=""/>
            <p:cNvSpPr/>
            <p:nvPr/>
          </p:nvSpPr>
          <p:spPr>
            <a:xfrm>
              <a:off x="1851120" y="3619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1909080" y="371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1977840" y="36194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2172960" y="371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1850760" y="385452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1972800" y="397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288720" y="2768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410760" y="2886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6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7" name=""/>
          <p:cNvGrpSpPr/>
          <p:nvPr/>
        </p:nvGrpSpPr>
        <p:grpSpPr>
          <a:xfrm>
            <a:off x="318960" y="2022480"/>
            <a:ext cx="7907400" cy="3575160"/>
            <a:chOff x="318960" y="2022480"/>
            <a:chExt cx="7907400" cy="3575160"/>
          </a:xfrm>
        </p:grpSpPr>
        <p:grpSp>
          <p:nvGrpSpPr>
            <p:cNvPr id="7958" name=""/>
            <p:cNvGrpSpPr/>
            <p:nvPr/>
          </p:nvGrpSpPr>
          <p:grpSpPr>
            <a:xfrm>
              <a:off x="4856040" y="2022480"/>
              <a:ext cx="2276640" cy="3319560"/>
              <a:chOff x="4856040" y="2022480"/>
              <a:chExt cx="2276640" cy="3319560"/>
            </a:xfrm>
          </p:grpSpPr>
          <p:grpSp>
            <p:nvGrpSpPr>
              <p:cNvPr id="7959" name=""/>
              <p:cNvGrpSpPr/>
              <p:nvPr/>
            </p:nvGrpSpPr>
            <p:grpSpPr>
              <a:xfrm>
                <a:off x="4856040" y="2027160"/>
                <a:ext cx="2276640" cy="3314880"/>
                <a:chOff x="4856040" y="2027160"/>
                <a:chExt cx="2276640" cy="3314880"/>
              </a:xfrm>
            </p:grpSpPr>
            <p:sp>
              <p:nvSpPr>
                <p:cNvPr id="7960" name=""/>
                <p:cNvSpPr/>
                <p:nvPr/>
              </p:nvSpPr>
              <p:spPr>
                <a:xfrm>
                  <a:off x="4861080" y="2027160"/>
                  <a:ext cx="2266920" cy="330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1" name=""/>
                <p:cNvSpPr/>
                <p:nvPr/>
              </p:nvSpPr>
              <p:spPr>
                <a:xfrm>
                  <a:off x="4856040" y="2027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2" name=""/>
                <p:cNvSpPr/>
                <p:nvPr/>
              </p:nvSpPr>
              <p:spPr>
                <a:xfrm>
                  <a:off x="4856040" y="2066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3" name=""/>
                <p:cNvSpPr/>
                <p:nvPr/>
              </p:nvSpPr>
              <p:spPr>
                <a:xfrm>
                  <a:off x="4856040" y="20858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>
                  <a:off x="4856040" y="21258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5" name=""/>
                <p:cNvSpPr/>
                <p:nvPr/>
              </p:nvSpPr>
              <p:spPr>
                <a:xfrm>
                  <a:off x="4856040" y="2146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6" name=""/>
                <p:cNvSpPr/>
                <p:nvPr/>
              </p:nvSpPr>
              <p:spPr>
                <a:xfrm>
                  <a:off x="4856040" y="21844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7" name=""/>
                <p:cNvSpPr/>
                <p:nvPr/>
              </p:nvSpPr>
              <p:spPr>
                <a:xfrm>
                  <a:off x="4856040" y="22050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8" name=""/>
                <p:cNvSpPr/>
                <p:nvPr/>
              </p:nvSpPr>
              <p:spPr>
                <a:xfrm>
                  <a:off x="4856040" y="2244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9" name=""/>
                <p:cNvSpPr/>
                <p:nvPr/>
              </p:nvSpPr>
              <p:spPr>
                <a:xfrm>
                  <a:off x="4856040" y="2263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>
                  <a:off x="4856040" y="2303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1" name=""/>
                <p:cNvSpPr/>
                <p:nvPr/>
              </p:nvSpPr>
              <p:spPr>
                <a:xfrm>
                  <a:off x="4856040" y="23223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2" name=""/>
                <p:cNvSpPr/>
                <p:nvPr/>
              </p:nvSpPr>
              <p:spPr>
                <a:xfrm>
                  <a:off x="4856040" y="23623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>
                  <a:off x="4856040" y="23814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>
                  <a:off x="4856040" y="24210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>
                  <a:off x="4856040" y="24415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>
                  <a:off x="4856040" y="2481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>
                  <a:off x="4856040" y="2500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>
                  <a:off x="4856040" y="25401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>
                  <a:off x="4856040" y="2558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>
                  <a:off x="4856040" y="25988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1" name=""/>
                <p:cNvSpPr/>
                <p:nvPr/>
              </p:nvSpPr>
              <p:spPr>
                <a:xfrm>
                  <a:off x="4856040" y="26179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4856040" y="26575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>
                  <a:off x="4856040" y="26780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>
                  <a:off x="4856040" y="27162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>
                  <a:off x="4856040" y="27367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>
                  <a:off x="4856040" y="27766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>
                  <a:off x="4856040" y="27957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>
                  <a:off x="4856040" y="28353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9" name=""/>
                <p:cNvSpPr/>
                <p:nvPr/>
              </p:nvSpPr>
              <p:spPr>
                <a:xfrm>
                  <a:off x="4856040" y="28544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0" name=""/>
                <p:cNvSpPr/>
                <p:nvPr/>
              </p:nvSpPr>
              <p:spPr>
                <a:xfrm>
                  <a:off x="4856040" y="28940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1" name=""/>
                <p:cNvSpPr/>
                <p:nvPr/>
              </p:nvSpPr>
              <p:spPr>
                <a:xfrm>
                  <a:off x="4856040" y="29145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2" name=""/>
                <p:cNvSpPr/>
                <p:nvPr/>
              </p:nvSpPr>
              <p:spPr>
                <a:xfrm>
                  <a:off x="4856040" y="295272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4856040" y="29732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>
                  <a:off x="4856040" y="30132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5" name=""/>
                <p:cNvSpPr/>
                <p:nvPr/>
              </p:nvSpPr>
              <p:spPr>
                <a:xfrm>
                  <a:off x="4856040" y="30322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6" name=""/>
                <p:cNvSpPr/>
                <p:nvPr/>
              </p:nvSpPr>
              <p:spPr>
                <a:xfrm>
                  <a:off x="4856040" y="3071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>
                  <a:off x="4856040" y="3090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>
                  <a:off x="4856040" y="31305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>
                  <a:off x="4856040" y="31496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>
                  <a:off x="4856040" y="31892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>
                  <a:off x="4856040" y="32097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>
                  <a:off x="4856040" y="32497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>
                  <a:off x="4856040" y="32688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>
                  <a:off x="4856040" y="3308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5" name=""/>
                <p:cNvSpPr/>
                <p:nvPr/>
              </p:nvSpPr>
              <p:spPr>
                <a:xfrm>
                  <a:off x="4856040" y="3327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6" name=""/>
                <p:cNvSpPr/>
                <p:nvPr/>
              </p:nvSpPr>
              <p:spPr>
                <a:xfrm>
                  <a:off x="4856040" y="3367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>
                  <a:off x="4856040" y="3386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>
                  <a:off x="4856040" y="3425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>
                  <a:off x="4856040" y="34466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>
                  <a:off x="4856040" y="34844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>
                  <a:off x="4856040" y="3505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>
                  <a:off x="4856040" y="3544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3" name=""/>
                <p:cNvSpPr/>
                <p:nvPr/>
              </p:nvSpPr>
              <p:spPr>
                <a:xfrm>
                  <a:off x="4856040" y="35640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4" name=""/>
                <p:cNvSpPr/>
                <p:nvPr/>
              </p:nvSpPr>
              <p:spPr>
                <a:xfrm>
                  <a:off x="4856040" y="3603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5" name=""/>
                <p:cNvSpPr/>
                <p:nvPr/>
              </p:nvSpPr>
              <p:spPr>
                <a:xfrm>
                  <a:off x="4856040" y="3622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6" name=""/>
                <p:cNvSpPr/>
                <p:nvPr/>
              </p:nvSpPr>
              <p:spPr>
                <a:xfrm>
                  <a:off x="4856040" y="36622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7" name=""/>
                <p:cNvSpPr/>
                <p:nvPr/>
              </p:nvSpPr>
              <p:spPr>
                <a:xfrm>
                  <a:off x="4856040" y="36831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8" name=""/>
                <p:cNvSpPr/>
                <p:nvPr/>
              </p:nvSpPr>
              <p:spPr>
                <a:xfrm>
                  <a:off x="4856040" y="37209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9" name=""/>
                <p:cNvSpPr/>
                <p:nvPr/>
              </p:nvSpPr>
              <p:spPr>
                <a:xfrm>
                  <a:off x="4856040" y="37418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0" name=""/>
                <p:cNvSpPr/>
                <p:nvPr/>
              </p:nvSpPr>
              <p:spPr>
                <a:xfrm>
                  <a:off x="4856040" y="378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1" name=""/>
                <p:cNvSpPr/>
                <p:nvPr/>
              </p:nvSpPr>
              <p:spPr>
                <a:xfrm>
                  <a:off x="4856040" y="380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2" name=""/>
                <p:cNvSpPr/>
                <p:nvPr/>
              </p:nvSpPr>
              <p:spPr>
                <a:xfrm>
                  <a:off x="4856040" y="384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3" name=""/>
                <p:cNvSpPr/>
                <p:nvPr/>
              </p:nvSpPr>
              <p:spPr>
                <a:xfrm>
                  <a:off x="4856040" y="385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4" name=""/>
                <p:cNvSpPr/>
                <p:nvPr/>
              </p:nvSpPr>
              <p:spPr>
                <a:xfrm>
                  <a:off x="4856040" y="389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5" name=""/>
                <p:cNvSpPr/>
                <p:nvPr/>
              </p:nvSpPr>
              <p:spPr>
                <a:xfrm>
                  <a:off x="4856040" y="3917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6" name=""/>
                <p:cNvSpPr/>
                <p:nvPr/>
              </p:nvSpPr>
              <p:spPr>
                <a:xfrm>
                  <a:off x="4856040" y="39574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7" name=""/>
                <p:cNvSpPr/>
                <p:nvPr/>
              </p:nvSpPr>
              <p:spPr>
                <a:xfrm>
                  <a:off x="4856040" y="39783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8" name=""/>
                <p:cNvSpPr/>
                <p:nvPr/>
              </p:nvSpPr>
              <p:spPr>
                <a:xfrm>
                  <a:off x="4856040" y="40179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4856040" y="40370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>
                  <a:off x="4856040" y="40766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1" name=""/>
                <p:cNvSpPr/>
                <p:nvPr/>
              </p:nvSpPr>
              <p:spPr>
                <a:xfrm>
                  <a:off x="4856040" y="40957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>
                  <a:off x="4856040" y="4135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>
                  <a:off x="4856040" y="41544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>
                  <a:off x="4856040" y="41940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5" name=""/>
                <p:cNvSpPr/>
                <p:nvPr/>
              </p:nvSpPr>
              <p:spPr>
                <a:xfrm>
                  <a:off x="4856040" y="42148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>
                  <a:off x="4856040" y="42530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>
                  <a:off x="4856040" y="42735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>
                  <a:off x="4856040" y="4313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>
                  <a:off x="4856040" y="43322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4856040" y="43718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1" name=""/>
                <p:cNvSpPr/>
                <p:nvPr/>
              </p:nvSpPr>
              <p:spPr>
                <a:xfrm>
                  <a:off x="4856040" y="43909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>
                  <a:off x="4856040" y="4430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3" name=""/>
                <p:cNvSpPr/>
                <p:nvPr/>
              </p:nvSpPr>
              <p:spPr>
                <a:xfrm>
                  <a:off x="4856040" y="44514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>
                  <a:off x="4856040" y="4489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5" name=""/>
                <p:cNvSpPr/>
                <p:nvPr/>
              </p:nvSpPr>
              <p:spPr>
                <a:xfrm>
                  <a:off x="4856040" y="45100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6" name=""/>
                <p:cNvSpPr/>
                <p:nvPr/>
              </p:nvSpPr>
              <p:spPr>
                <a:xfrm>
                  <a:off x="4856040" y="45496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7" name=""/>
                <p:cNvSpPr/>
                <p:nvPr/>
              </p:nvSpPr>
              <p:spPr>
                <a:xfrm>
                  <a:off x="4856040" y="45687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8" name=""/>
                <p:cNvSpPr/>
                <p:nvPr/>
              </p:nvSpPr>
              <p:spPr>
                <a:xfrm>
                  <a:off x="4856040" y="46083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>
                  <a:off x="4856040" y="46274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>
                  <a:off x="4856040" y="4667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>
                  <a:off x="4856040" y="46864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>
                  <a:off x="4856040" y="4726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3" name=""/>
                <p:cNvSpPr/>
                <p:nvPr/>
              </p:nvSpPr>
              <p:spPr>
                <a:xfrm>
                  <a:off x="4856040" y="47466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4" name=""/>
                <p:cNvSpPr/>
                <p:nvPr/>
              </p:nvSpPr>
              <p:spPr>
                <a:xfrm>
                  <a:off x="4856040" y="47862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5" name=""/>
                <p:cNvSpPr/>
                <p:nvPr/>
              </p:nvSpPr>
              <p:spPr>
                <a:xfrm>
                  <a:off x="4856040" y="48052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6" name=""/>
                <p:cNvSpPr/>
                <p:nvPr/>
              </p:nvSpPr>
              <p:spPr>
                <a:xfrm>
                  <a:off x="4856040" y="48448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7" name=""/>
                <p:cNvSpPr/>
                <p:nvPr/>
              </p:nvSpPr>
              <p:spPr>
                <a:xfrm>
                  <a:off x="4856040" y="4863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8" name=""/>
                <p:cNvSpPr/>
                <p:nvPr/>
              </p:nvSpPr>
              <p:spPr>
                <a:xfrm>
                  <a:off x="4856040" y="4903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>
                  <a:off x="4856040" y="49230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>
                  <a:off x="4856040" y="49626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1" name=""/>
                <p:cNvSpPr/>
                <p:nvPr/>
              </p:nvSpPr>
              <p:spPr>
                <a:xfrm>
                  <a:off x="4856040" y="49831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2" name=""/>
                <p:cNvSpPr/>
                <p:nvPr/>
              </p:nvSpPr>
              <p:spPr>
                <a:xfrm>
                  <a:off x="4856040" y="50212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>
                  <a:off x="4856040" y="504180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>
                  <a:off x="4856040" y="5081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>
                  <a:off x="4856040" y="5100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>
                  <a:off x="4856040" y="5140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7" name=""/>
                <p:cNvSpPr/>
                <p:nvPr/>
              </p:nvSpPr>
              <p:spPr>
                <a:xfrm>
                  <a:off x="4856040" y="51595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8" name=""/>
                <p:cNvSpPr/>
                <p:nvPr/>
              </p:nvSpPr>
              <p:spPr>
                <a:xfrm>
                  <a:off x="4856040" y="51991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9" name=""/>
                <p:cNvSpPr/>
                <p:nvPr/>
              </p:nvSpPr>
              <p:spPr>
                <a:xfrm>
                  <a:off x="4856040" y="52196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0" name=""/>
                <p:cNvSpPr/>
                <p:nvPr/>
              </p:nvSpPr>
              <p:spPr>
                <a:xfrm>
                  <a:off x="4856040" y="52578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1" name=""/>
                <p:cNvSpPr/>
                <p:nvPr/>
              </p:nvSpPr>
              <p:spPr>
                <a:xfrm>
                  <a:off x="4856040" y="52783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>
                  <a:off x="4856040" y="53182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486108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4" name=""/>
                <p:cNvSpPr/>
                <p:nvPr/>
              </p:nvSpPr>
              <p:spPr>
                <a:xfrm>
                  <a:off x="49006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>
                  <a:off x="4919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>
                  <a:off x="49593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>
                  <a:off x="497988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8" name=""/>
                <p:cNvSpPr/>
                <p:nvPr/>
              </p:nvSpPr>
              <p:spPr>
                <a:xfrm>
                  <a:off x="501804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9" name=""/>
                <p:cNvSpPr/>
                <p:nvPr/>
              </p:nvSpPr>
              <p:spPr>
                <a:xfrm>
                  <a:off x="503856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0" name=""/>
                <p:cNvSpPr/>
                <p:nvPr/>
              </p:nvSpPr>
              <p:spPr>
                <a:xfrm>
                  <a:off x="50785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1" name=""/>
                <p:cNvSpPr/>
                <p:nvPr/>
              </p:nvSpPr>
              <p:spPr>
                <a:xfrm>
                  <a:off x="509760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2" name=""/>
                <p:cNvSpPr/>
                <p:nvPr/>
              </p:nvSpPr>
              <p:spPr>
                <a:xfrm>
                  <a:off x="513720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3" name=""/>
                <p:cNvSpPr/>
                <p:nvPr/>
              </p:nvSpPr>
              <p:spPr>
                <a:xfrm>
                  <a:off x="5156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4" name=""/>
                <p:cNvSpPr/>
                <p:nvPr/>
              </p:nvSpPr>
              <p:spPr>
                <a:xfrm>
                  <a:off x="51958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5" name=""/>
                <p:cNvSpPr/>
                <p:nvPr/>
              </p:nvSpPr>
              <p:spPr>
                <a:xfrm>
                  <a:off x="521640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6" name=""/>
                <p:cNvSpPr/>
                <p:nvPr/>
              </p:nvSpPr>
              <p:spPr>
                <a:xfrm>
                  <a:off x="525456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7" name=""/>
                <p:cNvSpPr/>
                <p:nvPr/>
              </p:nvSpPr>
              <p:spPr>
                <a:xfrm>
                  <a:off x="52754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53150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>
                  <a:off x="533412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0" name=""/>
                <p:cNvSpPr/>
                <p:nvPr/>
              </p:nvSpPr>
              <p:spPr>
                <a:xfrm>
                  <a:off x="53737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1" name=""/>
                <p:cNvSpPr/>
                <p:nvPr/>
              </p:nvSpPr>
              <p:spPr>
                <a:xfrm>
                  <a:off x="53928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2" name=""/>
                <p:cNvSpPr/>
                <p:nvPr/>
              </p:nvSpPr>
              <p:spPr>
                <a:xfrm>
                  <a:off x="54324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3" name=""/>
                <p:cNvSpPr/>
                <p:nvPr/>
              </p:nvSpPr>
              <p:spPr>
                <a:xfrm>
                  <a:off x="54514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4" name=""/>
                <p:cNvSpPr/>
                <p:nvPr/>
              </p:nvSpPr>
              <p:spPr>
                <a:xfrm>
                  <a:off x="549108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5" name=""/>
                <p:cNvSpPr/>
                <p:nvPr/>
              </p:nvSpPr>
              <p:spPr>
                <a:xfrm>
                  <a:off x="55119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6" name=""/>
                <p:cNvSpPr/>
                <p:nvPr/>
              </p:nvSpPr>
              <p:spPr>
                <a:xfrm>
                  <a:off x="5551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7" name=""/>
                <p:cNvSpPr/>
                <p:nvPr/>
              </p:nvSpPr>
              <p:spPr>
                <a:xfrm>
                  <a:off x="55706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8" name=""/>
                <p:cNvSpPr/>
                <p:nvPr/>
              </p:nvSpPr>
              <p:spPr>
                <a:xfrm>
                  <a:off x="5610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9" name=""/>
                <p:cNvSpPr/>
                <p:nvPr/>
              </p:nvSpPr>
              <p:spPr>
                <a:xfrm>
                  <a:off x="56293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0" name=""/>
                <p:cNvSpPr/>
                <p:nvPr/>
              </p:nvSpPr>
              <p:spPr>
                <a:xfrm>
                  <a:off x="56689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1" name=""/>
                <p:cNvSpPr/>
                <p:nvPr/>
              </p:nvSpPr>
              <p:spPr>
                <a:xfrm>
                  <a:off x="56880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2" name=""/>
                <p:cNvSpPr/>
                <p:nvPr/>
              </p:nvSpPr>
              <p:spPr>
                <a:xfrm>
                  <a:off x="57276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3" name=""/>
                <p:cNvSpPr/>
                <p:nvPr/>
              </p:nvSpPr>
              <p:spPr>
                <a:xfrm>
                  <a:off x="57484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4" name=""/>
                <p:cNvSpPr/>
                <p:nvPr/>
              </p:nvSpPr>
              <p:spPr>
                <a:xfrm>
                  <a:off x="57880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5" name=""/>
                <p:cNvSpPr/>
                <p:nvPr/>
              </p:nvSpPr>
              <p:spPr>
                <a:xfrm>
                  <a:off x="58071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6" name=""/>
                <p:cNvSpPr/>
                <p:nvPr/>
              </p:nvSpPr>
              <p:spPr>
                <a:xfrm>
                  <a:off x="58467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>
                  <a:off x="58658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8" name=""/>
                <p:cNvSpPr/>
                <p:nvPr/>
              </p:nvSpPr>
              <p:spPr>
                <a:xfrm>
                  <a:off x="59054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9" name=""/>
                <p:cNvSpPr/>
                <p:nvPr/>
              </p:nvSpPr>
              <p:spPr>
                <a:xfrm>
                  <a:off x="59245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0" name=""/>
                <p:cNvSpPr/>
                <p:nvPr/>
              </p:nvSpPr>
              <p:spPr>
                <a:xfrm>
                  <a:off x="59641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1" name=""/>
                <p:cNvSpPr/>
                <p:nvPr/>
              </p:nvSpPr>
              <p:spPr>
                <a:xfrm>
                  <a:off x="59850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2" name=""/>
                <p:cNvSpPr/>
                <p:nvPr/>
              </p:nvSpPr>
              <p:spPr>
                <a:xfrm>
                  <a:off x="602280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3" name=""/>
                <p:cNvSpPr/>
                <p:nvPr/>
              </p:nvSpPr>
              <p:spPr>
                <a:xfrm>
                  <a:off x="60436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4" name=""/>
                <p:cNvSpPr/>
                <p:nvPr/>
              </p:nvSpPr>
              <p:spPr>
                <a:xfrm>
                  <a:off x="60832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5" name=""/>
                <p:cNvSpPr/>
                <p:nvPr/>
              </p:nvSpPr>
              <p:spPr>
                <a:xfrm>
                  <a:off x="61023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>
                  <a:off x="61419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7" name=""/>
                <p:cNvSpPr/>
                <p:nvPr/>
              </p:nvSpPr>
              <p:spPr>
                <a:xfrm>
                  <a:off x="61610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8" name=""/>
                <p:cNvSpPr/>
                <p:nvPr/>
              </p:nvSpPr>
              <p:spPr>
                <a:xfrm>
                  <a:off x="62006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9" name=""/>
                <p:cNvSpPr/>
                <p:nvPr/>
              </p:nvSpPr>
              <p:spPr>
                <a:xfrm>
                  <a:off x="62215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0" name=""/>
                <p:cNvSpPr/>
                <p:nvPr/>
              </p:nvSpPr>
              <p:spPr>
                <a:xfrm>
                  <a:off x="625968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62802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63198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3" name=""/>
                <p:cNvSpPr/>
                <p:nvPr/>
              </p:nvSpPr>
              <p:spPr>
                <a:xfrm>
                  <a:off x="63388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4" name=""/>
                <p:cNvSpPr/>
                <p:nvPr/>
              </p:nvSpPr>
              <p:spPr>
                <a:xfrm>
                  <a:off x="63784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63975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6" name=""/>
                <p:cNvSpPr/>
                <p:nvPr/>
              </p:nvSpPr>
              <p:spPr>
                <a:xfrm>
                  <a:off x="64371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7" name=""/>
                <p:cNvSpPr/>
                <p:nvPr/>
              </p:nvSpPr>
              <p:spPr>
                <a:xfrm>
                  <a:off x="64580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8" name=""/>
                <p:cNvSpPr/>
                <p:nvPr/>
              </p:nvSpPr>
              <p:spPr>
                <a:xfrm>
                  <a:off x="649620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9" name=""/>
                <p:cNvSpPr/>
                <p:nvPr/>
              </p:nvSpPr>
              <p:spPr>
                <a:xfrm>
                  <a:off x="65167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0" name=""/>
                <p:cNvSpPr/>
                <p:nvPr/>
              </p:nvSpPr>
              <p:spPr>
                <a:xfrm>
                  <a:off x="65563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65754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66150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3" name=""/>
                <p:cNvSpPr/>
                <p:nvPr/>
              </p:nvSpPr>
              <p:spPr>
                <a:xfrm>
                  <a:off x="66340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4" name=""/>
                <p:cNvSpPr/>
                <p:nvPr/>
              </p:nvSpPr>
              <p:spPr>
                <a:xfrm>
                  <a:off x="66736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5" name=""/>
                <p:cNvSpPr/>
                <p:nvPr/>
              </p:nvSpPr>
              <p:spPr>
                <a:xfrm>
                  <a:off x="6692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6" name=""/>
                <p:cNvSpPr/>
                <p:nvPr/>
              </p:nvSpPr>
              <p:spPr>
                <a:xfrm>
                  <a:off x="67327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7" name=""/>
                <p:cNvSpPr/>
                <p:nvPr/>
              </p:nvSpPr>
              <p:spPr>
                <a:xfrm>
                  <a:off x="67532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8" name=""/>
                <p:cNvSpPr/>
                <p:nvPr/>
              </p:nvSpPr>
              <p:spPr>
                <a:xfrm>
                  <a:off x="67928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9" name=""/>
                <p:cNvSpPr/>
                <p:nvPr/>
              </p:nvSpPr>
              <p:spPr>
                <a:xfrm>
                  <a:off x="68119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0" name=""/>
                <p:cNvSpPr/>
                <p:nvPr/>
              </p:nvSpPr>
              <p:spPr>
                <a:xfrm>
                  <a:off x="68515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>
                  <a:off x="68706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2" name=""/>
                <p:cNvSpPr/>
                <p:nvPr/>
              </p:nvSpPr>
              <p:spPr>
                <a:xfrm>
                  <a:off x="6910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3" name=""/>
                <p:cNvSpPr/>
                <p:nvPr/>
              </p:nvSpPr>
              <p:spPr>
                <a:xfrm>
                  <a:off x="6929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>
                  <a:off x="6969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5" name=""/>
                <p:cNvSpPr/>
                <p:nvPr/>
              </p:nvSpPr>
              <p:spPr>
                <a:xfrm>
                  <a:off x="69897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6" name=""/>
                <p:cNvSpPr/>
                <p:nvPr/>
              </p:nvSpPr>
              <p:spPr>
                <a:xfrm>
                  <a:off x="70279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>
                  <a:off x="70484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>
                  <a:off x="70880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>
                  <a:off x="7107120" y="532764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3"/>
                      </a:moveTo>
                      <a:lnTo>
                        <a:pt x="0" y="9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9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>
                  <a:off x="7121520" y="5307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>
                  <a:off x="7121520" y="52689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>
                  <a:off x="7121520" y="5248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>
                  <a:off x="7121520" y="52084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>
                  <a:off x="7121520" y="51894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5" name=""/>
                <p:cNvSpPr/>
                <p:nvPr/>
              </p:nvSpPr>
              <p:spPr>
                <a:xfrm>
                  <a:off x="7121520" y="51498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6" name=""/>
                <p:cNvSpPr/>
                <p:nvPr/>
              </p:nvSpPr>
              <p:spPr>
                <a:xfrm>
                  <a:off x="7121520" y="51307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7" name=""/>
                <p:cNvSpPr/>
                <p:nvPr/>
              </p:nvSpPr>
              <p:spPr>
                <a:xfrm>
                  <a:off x="7121520" y="50911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8" name=""/>
                <p:cNvSpPr/>
                <p:nvPr/>
              </p:nvSpPr>
              <p:spPr>
                <a:xfrm>
                  <a:off x="7121520" y="5070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9" name=""/>
                <p:cNvSpPr/>
                <p:nvPr/>
              </p:nvSpPr>
              <p:spPr>
                <a:xfrm>
                  <a:off x="7121520" y="503244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0" name=""/>
              <p:cNvSpPr/>
              <p:nvPr/>
            </p:nvSpPr>
            <p:spPr>
              <a:xfrm>
                <a:off x="7121520" y="50115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7121520" y="49719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7121520" y="49528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7121520" y="49132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7121520" y="48942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7121520" y="48546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7121520" y="4835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7121520" y="47959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7121520" y="4775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7121520" y="4735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7121520" y="47163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7121520" y="4676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7121520" y="4657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7121520" y="46180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7121520" y="45990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7121520" y="45594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7121520" y="4538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7121520" y="45007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7121520" y="44798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7121520" y="4440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7121520" y="4421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7121520" y="43815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7121520" y="436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7121520" y="4322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7121520" y="43020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7121520" y="42642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7121520" y="4243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7121520" y="4203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7121520" y="41846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7121520" y="4145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7121520" y="412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7121520" y="40863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7121520" y="4067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7121520" y="40273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7121520" y="4006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7121520" y="3967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7121520" y="39481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7121520" y="3908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7121520" y="38894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7121520" y="384984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7121520" y="38307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7121520" y="37908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7121520" y="37702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7121520" y="37321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7121520" y="37116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7121520" y="367200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7121520" y="36529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7121520" y="361332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7121520" y="3594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7121520" y="35542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7121520" y="35337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7121520" y="34956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7121520" y="34750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7121520" y="343548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7121520" y="3416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7121520" y="3376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7121520" y="33577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7121520" y="3317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7121520" y="3298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7121520" y="32590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7121520" y="32385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7121520" y="31989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7121520" y="31798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7121520" y="31399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7121520" y="3121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7121520" y="3081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7121520" y="3062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7121520" y="30225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7121520" y="3002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7121520" y="2963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7121520" y="29433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7121520" y="29034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7121520" y="2884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7121520" y="2844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7121520" y="28256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7121520" y="2786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7121520" y="2765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7121520" y="27273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7121520" y="27068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7121520" y="26668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7121520" y="26478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7121520" y="2608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7121520" y="25891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7121520" y="2549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7121520" y="25304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7121520" y="24908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7121520" y="24703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7121520" y="24321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7121520" y="24112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7121520" y="23716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7121520" y="23526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7121520" y="23130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7121520" y="22939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7121520" y="22543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7121520" y="2233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7121520" y="21956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7121520" y="21747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7121520" y="21351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7121520" y="21160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7121520" y="20764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7121520" y="2057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7116840" y="20224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3" y="16"/>
                    </a:moveTo>
                    <a:lnTo>
                      <a:pt x="10" y="1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70977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705816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70390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9991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97860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94044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9199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880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8612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82164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8025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7626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7438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7039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6834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64380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6247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58512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5660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5260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5070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46740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44688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40728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388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3482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3295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2895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2704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23088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21036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1722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1516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1117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30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530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339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59943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59738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593568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59151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58752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58561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58165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57974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57578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57373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56991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56786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56386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56196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55800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55609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521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55022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54626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54421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54021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53830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53434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53244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52848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52657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52261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52052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51674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51465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51069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50878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50482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5029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49896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49687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49309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49100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48704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8" name=""/>
            <p:cNvSpPr/>
            <p:nvPr/>
          </p:nvSpPr>
          <p:spPr>
            <a:xfrm>
              <a:off x="5106600" y="206208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1201680" y="2505240"/>
              <a:ext cx="13287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1497600" y="25448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693800" y="279072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3186000" y="2505240"/>
              <a:ext cx="13305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3655440" y="279072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5186520" y="2505240"/>
              <a:ext cx="133020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5638320" y="2790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6" name=""/>
            <p:cNvGrpSpPr/>
            <p:nvPr/>
          </p:nvGrpSpPr>
          <p:grpSpPr>
            <a:xfrm>
              <a:off x="2521080" y="2859120"/>
              <a:ext cx="650880" cy="104760"/>
              <a:chOff x="2521080" y="2859120"/>
              <a:chExt cx="650880" cy="104760"/>
            </a:xfrm>
          </p:grpSpPr>
          <p:sp>
            <p:nvSpPr>
              <p:cNvPr id="8347" name=""/>
              <p:cNvSpPr/>
              <p:nvPr/>
            </p:nvSpPr>
            <p:spPr>
              <a:xfrm>
                <a:off x="2521080" y="2903400"/>
                <a:ext cx="6508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306864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9" name=""/>
            <p:cNvGrpSpPr/>
            <p:nvPr/>
          </p:nvGrpSpPr>
          <p:grpSpPr>
            <a:xfrm>
              <a:off x="4540320" y="2840040"/>
              <a:ext cx="646200" cy="103320"/>
              <a:chOff x="4540320" y="2840040"/>
              <a:chExt cx="646200" cy="103320"/>
            </a:xfrm>
          </p:grpSpPr>
          <p:sp>
            <p:nvSpPr>
              <p:cNvPr id="8350" name=""/>
              <p:cNvSpPr/>
              <p:nvPr/>
            </p:nvSpPr>
            <p:spPr>
              <a:xfrm>
                <a:off x="4540320" y="2889360"/>
                <a:ext cx="64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508320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2" name=""/>
            <p:cNvGrpSpPr/>
            <p:nvPr/>
          </p:nvGrpSpPr>
          <p:grpSpPr>
            <a:xfrm>
              <a:off x="536400" y="2859120"/>
              <a:ext cx="649440" cy="104760"/>
              <a:chOff x="536400" y="2859120"/>
              <a:chExt cx="649440" cy="104760"/>
            </a:xfrm>
          </p:grpSpPr>
          <p:sp>
            <p:nvSpPr>
              <p:cNvPr id="8353" name=""/>
              <p:cNvSpPr/>
              <p:nvPr/>
            </p:nvSpPr>
            <p:spPr>
              <a:xfrm>
                <a:off x="536400" y="2903400"/>
                <a:ext cx="649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108252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5" name=""/>
            <p:cNvGrpSpPr/>
            <p:nvPr/>
          </p:nvGrpSpPr>
          <p:grpSpPr>
            <a:xfrm>
              <a:off x="1797120" y="3273480"/>
              <a:ext cx="102960" cy="1187280"/>
              <a:chOff x="1797120" y="3273480"/>
              <a:chExt cx="102960" cy="1187280"/>
            </a:xfrm>
          </p:grpSpPr>
          <p:sp>
            <p:nvSpPr>
              <p:cNvPr id="8356" name=""/>
              <p:cNvSpPr/>
              <p:nvPr/>
            </p:nvSpPr>
            <p:spPr>
              <a:xfrm flipV="1">
                <a:off x="1846440" y="3273480"/>
                <a:ext cx="144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1797120" y="327348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8" name=""/>
            <p:cNvSpPr/>
            <p:nvPr/>
          </p:nvSpPr>
          <p:spPr>
            <a:xfrm>
              <a:off x="5915160" y="4829040"/>
              <a:ext cx="468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1860480" y="4460760"/>
              <a:ext cx="3340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 flipV="1">
              <a:off x="6786720" y="2903400"/>
              <a:ext cx="144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1" name=""/>
            <p:cNvGrpSpPr/>
            <p:nvPr/>
          </p:nvGrpSpPr>
          <p:grpSpPr>
            <a:xfrm>
              <a:off x="6531120" y="2840040"/>
              <a:ext cx="1512720" cy="103320"/>
              <a:chOff x="6531120" y="2840040"/>
              <a:chExt cx="1512720" cy="103320"/>
            </a:xfrm>
          </p:grpSpPr>
          <p:sp>
            <p:nvSpPr>
              <p:cNvPr id="8362" name=""/>
              <p:cNvSpPr/>
              <p:nvPr/>
            </p:nvSpPr>
            <p:spPr>
              <a:xfrm>
                <a:off x="6531120" y="2889360"/>
                <a:ext cx="1512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794052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4" name=""/>
            <p:cNvSpPr/>
            <p:nvPr/>
          </p:nvSpPr>
          <p:spPr>
            <a:xfrm>
              <a:off x="6757920" y="287028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501480" y="2874960"/>
              <a:ext cx="6372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5896080" y="5529240"/>
              <a:ext cx="5868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318960" y="2505240"/>
              <a:ext cx="34452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07880" y="2540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65480" y="2638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3314880" y="4568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33732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3441240" y="45687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36396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3708360" y="45687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3783960" y="4549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3876840" y="45687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3988080" y="46674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3574800" y="48150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3289320" y="50706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334764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3417840" y="50706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3667680" y="51688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3782880" y="507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3858480" y="50515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3949560" y="50706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06188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5200560" y="4060800"/>
              <a:ext cx="1330560" cy="758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5482440" y="434664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ieszac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9" name=""/>
            <p:cNvGrpSpPr/>
            <p:nvPr/>
          </p:nvGrpSpPr>
          <p:grpSpPr>
            <a:xfrm>
              <a:off x="6540480" y="4406760"/>
              <a:ext cx="262080" cy="103320"/>
              <a:chOff x="6540480" y="4406760"/>
              <a:chExt cx="262080" cy="103320"/>
            </a:xfrm>
          </p:grpSpPr>
          <p:sp>
            <p:nvSpPr>
              <p:cNvPr id="8390" name=""/>
              <p:cNvSpPr/>
              <p:nvPr/>
            </p:nvSpPr>
            <p:spPr>
              <a:xfrm>
                <a:off x="6540480" y="4460760"/>
                <a:ext cx="262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540480" y="440676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0"/>
                    </a:moveTo>
                    <a:lnTo>
                      <a:pt x="0" y="34"/>
                    </a:lnTo>
                    <a:lnTo>
                      <a:pt x="65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2" name=""/>
            <p:cNvSpPr/>
            <p:nvPr/>
          </p:nvSpPr>
          <p:spPr>
            <a:xfrm>
              <a:off x="1998720" y="41101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057040" y="421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126880" y="411012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323080" y="4210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7373880" y="3076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7432200" y="317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7500600" y="30765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769680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7812000" y="3076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7887600" y="30574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7978680" y="30765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809208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7654680" y="33228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7343640" y="3578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7402320" y="367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7472520" y="35784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772200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7835760" y="3578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7913160" y="3559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8004240" y="35784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811584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3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5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8416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3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8424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6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8427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9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8430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2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8433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5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1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8452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4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8465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7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8468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0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1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8472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4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2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2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8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8519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1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9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8530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2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4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8545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7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0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8551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3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6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7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8558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0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8561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3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8564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6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2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4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5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6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7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668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9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670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2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673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5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676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8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679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1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3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684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6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687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9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2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693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5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696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8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1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2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703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5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706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8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0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2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723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5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6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7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8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9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730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2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733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5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6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7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738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6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0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2" name=""/>
          <p:cNvSpPr/>
          <p:nvPr/>
        </p:nvSpPr>
        <p:spPr>
          <a:xfrm>
            <a:off x="2896200" y="2286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łaściwości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244440" y="1430280"/>
            <a:ext cx="8651880" cy="44830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Synchronizuje się do częstotliwości podstawowych lub ich wielokrot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zięki filtrowi DP „pamięta” wartość błędu fazy - praca przy zanikach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Synchronizuje się w obecności zakłóc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Synchronizuje się w obecności innych sygnałów, nawet o poziomach większ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ż poziom sygnału użytecznego (np. w obecności szum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5. Jest mało wrażliwa na zmiany amplitud sygnału wejści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6. Spośród wielu sygnałów „wyławia” jeden. W tym sensie ma właściwości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19240" cy="1897200"/>
            <a:chOff x="171360" y="2244600"/>
            <a:chExt cx="831924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5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563280" y="6095880"/>
            <a:ext cx="45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36880" y="34290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7680" y="5153040"/>
            <a:ext cx="269388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ładowa „wolnozmienn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480" y="5659560"/>
            <a:ext cx="825048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ładowa wolnozmienna jest wyodrębniana przez filtr dolnoprzepustowy (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9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71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4-04-06T09:38:31Z</dcterms:modified>
  <cp:revision>40</cp:revision>
  <dc:subject/>
  <dc:title>Pętla PLL</dc:title>
</cp:coreProperties>
</file>