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56A-2ED9-4496-8649-C5205CD2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E81-25A1-42DB-BD3F-792184FF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736-955C-44AB-A445-76D03234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12E-B02A-4D61-83E1-A2F66EEA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3D6-BB6F-425F-97B3-BDF3E3EB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B30-5748-456D-9C7E-21F2C95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8DA-FB40-4C44-85DB-94726D82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905-A68C-4E89-94CC-2349F567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91B-6289-46A8-BAD4-241E900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58E-17CB-4760-9283-2C9BFCA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513-41CE-4670-999B-EDE87F8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0D1-B6E8-4A01-A714-8EC99B7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5EAD-6C41-4BD7-AD5D-7B43DCAD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ętla P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3200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1752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752480"/>
            <a:ext cx="586728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812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200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048120" y="205740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1752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600200" y="487692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09480" y="11426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90720"/>
            <a:ext cx="19051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napię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160020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MS Shell Dlg"/>
              </a:rPr>
              <a:t>Z </a:t>
            </a:r>
            <a:r>
              <a:rPr b="0" lang="pl-PL" sz="2400" spc="-1" strike="noStrike">
                <a:solidFill>
                  <a:srgbClr val="000000"/>
                </a:solidFill>
                <a:latin typeface="MS Shell Dlg"/>
              </a:rPr>
              <a:t>= zakres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3276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00200" y="304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3526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3352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696080" y="12952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74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124080" y="43434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S Shell Dlg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MS Shell Dlg"/>
              </a:rPr>
              <a:t>= zakres trzy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43828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hylenie=1/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43434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3809880"/>
            <a:ext cx="1066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kres trzymania oraz zask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00400" y="266688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2280" y="4267080"/>
                <a:ext cx="1293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Φ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2120" y="45720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y model pętli fazowej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480" y="3733920"/>
                <a:ext cx="2590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5800" y="4648320"/>
                <a:ext cx="2514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6019920"/>
                <a:ext cx="328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340520" y="4778280"/>
            <a:ext cx="4596840" cy="74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3800" y="6118200"/>
            <a:ext cx="11224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łąd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1192320"/>
            <a:ext cx="7747920" cy="2260440"/>
            <a:chOff x="380880" y="1192320"/>
            <a:chExt cx="7747920" cy="2260440"/>
          </a:xfrm>
        </p:grpSpPr>
        <p:sp>
          <p:nvSpPr>
            <p:cNvPr id="238" name=""/>
            <p:cNvSpPr/>
            <p:nvPr/>
          </p:nvSpPr>
          <p:spPr>
            <a:xfrm>
              <a:off x="1320120" y="266688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25520" y="271296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8720" y="2824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3880" y="27320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96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120" y="24033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600" y="231156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+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49200" y="229392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1080" y="240336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8320" y="23115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49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33720" y="2311560"/>
              <a:ext cx="143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8160" y="2403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13760" y="2311560"/>
              <a:ext cx="351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                                                              Faz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55720" y="2168640"/>
              <a:ext cx="933480" cy="857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25800" y="2436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53600" y="2529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812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86640" y="2457360"/>
              <a:ext cx="106200" cy="501840"/>
              <a:chOff x="6686640" y="2457360"/>
              <a:chExt cx="106200" cy="50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86640" y="2703600"/>
                <a:ext cx="10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93480" y="24573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5000" y="2730600"/>
                <a:ext cx="75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843440" y="2182680"/>
              <a:ext cx="92700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08480" y="245412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6640" y="2546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0240" y="2182680"/>
              <a:ext cx="932040" cy="857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79120" y="2454120"/>
              <a:ext cx="31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79840" y="2556000"/>
              <a:ext cx="576000" cy="96840"/>
              <a:chOff x="2679840" y="2556000"/>
              <a:chExt cx="576000" cy="9684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9840" y="2601720"/>
                <a:ext cx="576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159000" y="255600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11640" y="2570040"/>
              <a:ext cx="617400" cy="96840"/>
              <a:chOff x="4211640" y="2570040"/>
              <a:chExt cx="617400" cy="96840"/>
            </a:xfrm>
          </p:grpSpPr>
          <p:sp>
            <p:nvSpPr>
              <p:cNvPr id="269" name=""/>
              <p:cNvSpPr/>
              <p:nvPr/>
            </p:nvSpPr>
            <p:spPr>
              <a:xfrm>
                <a:off x="4211640" y="2616120"/>
                <a:ext cx="617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32200" y="257004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780160" y="2570040"/>
              <a:ext cx="493560" cy="96840"/>
              <a:chOff x="5780160" y="2570040"/>
              <a:chExt cx="493560" cy="96840"/>
            </a:xfrm>
          </p:grpSpPr>
          <p:sp>
            <p:nvSpPr>
              <p:cNvPr id="272" name=""/>
              <p:cNvSpPr/>
              <p:nvPr/>
            </p:nvSpPr>
            <p:spPr>
              <a:xfrm>
                <a:off x="5780160" y="2616120"/>
                <a:ext cx="493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76880" y="2570040"/>
                <a:ext cx="9648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25440" y="2556000"/>
              <a:ext cx="549360" cy="96840"/>
              <a:chOff x="1225440" y="2556000"/>
              <a:chExt cx="549360" cy="9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1225440" y="2601720"/>
                <a:ext cx="54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779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31640" y="2556000"/>
              <a:ext cx="563760" cy="96840"/>
              <a:chOff x="431640" y="2556000"/>
              <a:chExt cx="563760" cy="9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431640" y="2601720"/>
                <a:ext cx="563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8560" y="2556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0" y="61"/>
                    </a:moveTo>
                    <a:lnTo>
                      <a:pt x="61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068480" y="2680920"/>
              <a:ext cx="96840" cy="765000"/>
              <a:chOff x="1068480" y="2680920"/>
              <a:chExt cx="96840" cy="76500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1114560" y="2680920"/>
                <a:ext cx="180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8480" y="26812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61" y="61"/>
                    </a:moveTo>
                    <a:lnTo>
                      <a:pt x="29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224840" y="2602080"/>
              <a:ext cx="761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95400" y="2500200"/>
              <a:ext cx="220680" cy="20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36800" y="2529000"/>
              <a:ext cx="16164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007640" y="2529000"/>
              <a:ext cx="15732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8320" y="3451320"/>
              <a:ext cx="648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6240" y="2602080"/>
              <a:ext cx="1800" cy="84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24600" y="1865160"/>
              <a:ext cx="766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19920" y="1860480"/>
              <a:ext cx="144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2920" y="2589120"/>
              <a:ext cx="60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7800" y="2589120"/>
              <a:ext cx="651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575080"/>
              <a:ext cx="651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3480" y="2575080"/>
              <a:ext cx="601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67640" y="1836720"/>
              <a:ext cx="648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2960" y="1827360"/>
              <a:ext cx="346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[V/rad]                     [V/V]                  [rad/V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4720" y="191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09880" y="182736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13080" y="1785960"/>
              <a:ext cx="66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Pulsacj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320" y="2754360"/>
              <a:ext cx="9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480" y="286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2840" y="27734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2039760" y="975960"/>
              <a:ext cx="185760" cy="137340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400"/>
                <a:gd name="textAreaBottom" fmla="*/ 1337760 h 137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62440" y="955800"/>
              <a:ext cx="185760" cy="13730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6205320" y="615960"/>
              <a:ext cx="185760" cy="205236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53280 h 2052360"/>
                <a:gd name="textAreaBottom" fmla="*/ 199908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3720" y="1192320"/>
              <a:ext cx="533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tektor fazy                               Filtr                                                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492080" y="3781440"/>
            <a:ext cx="27334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- transmitancja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995640"/>
            <a:ext cx="6793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8800" y="6272280"/>
            <a:ext cx="5572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7560" y="5121360"/>
            <a:ext cx="542880" cy="0"/>
          </a:xfrm>
          <a:prstGeom prst="line">
            <a:avLst/>
          </a:prstGeom>
          <a:ln w="381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0880" y="1600200"/>
                <a:ext cx="3505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80880" y="2362320"/>
                <a:ext cx="4267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6477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1517400" y="3049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stanie synchronizmu zachodzą związ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80880" y="4718160"/>
                <a:ext cx="33530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80880" y="5638680"/>
                <a:ext cx="2514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503320" y="1557360"/>
            <a:ext cx="28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571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rzy skoku jednostkowym fazy przebiegu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rzy skoku jednostkowym częstotliwości przebiegu we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1320" y="304920"/>
            <a:ext cx="77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fazy i częstotliwości na wejściu i wyjściu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7040" y="1074600"/>
            <a:ext cx="8114400" cy="4607640"/>
            <a:chOff x="347040" y="1074600"/>
            <a:chExt cx="8114400" cy="4607640"/>
          </a:xfrm>
        </p:grpSpPr>
        <p:sp>
          <p:nvSpPr>
            <p:cNvPr id="321" name=""/>
            <p:cNvSpPr/>
            <p:nvPr/>
          </p:nvSpPr>
          <p:spPr>
            <a:xfrm>
              <a:off x="347040" y="1074600"/>
              <a:ext cx="4408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                            b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8920" y="143820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153972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0508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7280" y="143820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87600" y="1454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8040" y="3227400"/>
              <a:ext cx="376560" cy="2602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6440" y="324972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5880" y="5468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31360" y="541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84920" y="2455920"/>
              <a:ext cx="268200" cy="3110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39640" y="2478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33600" y="2579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649840" y="3189240"/>
              <a:ext cx="282600" cy="293760"/>
              <a:chOff x="5649840" y="3189240"/>
              <a:chExt cx="282600" cy="293760"/>
            </a:xfrm>
          </p:grpSpPr>
          <p:sp>
            <p:nvSpPr>
              <p:cNvPr id="335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  <a:lnTo>
                      <a:pt x="0" y="1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49840" y="3189240"/>
                <a:ext cx="282600" cy="293760"/>
              </a:xfrm>
              <a:custGeom>
                <a:avLst/>
                <a:gdLst/>
                <a:ahLst/>
                <a:rect l="l" t="t" r="r" b="b"/>
                <a:pathLst>
                  <a:path w="178" h="185">
                    <a:moveTo>
                      <a:pt x="0" y="0"/>
                    </a:moveTo>
                    <a:lnTo>
                      <a:pt x="35" y="3"/>
                    </a:lnTo>
                    <a:lnTo>
                      <a:pt x="70" y="13"/>
                    </a:lnTo>
                    <a:lnTo>
                      <a:pt x="100" y="32"/>
                    </a:lnTo>
                    <a:lnTo>
                      <a:pt x="126" y="54"/>
                    </a:lnTo>
                    <a:lnTo>
                      <a:pt x="148" y="83"/>
                    </a:lnTo>
                    <a:lnTo>
                      <a:pt x="164" y="113"/>
                    </a:lnTo>
                    <a:lnTo>
                      <a:pt x="175" y="148"/>
                    </a:lnTo>
                    <a:lnTo>
                      <a:pt x="178" y="18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369040" y="2055960"/>
              <a:ext cx="1973160" cy="1439640"/>
            </a:xfrm>
            <a:custGeom>
              <a:avLst/>
              <a:gdLst/>
              <a:ahLst/>
              <a:rect l="l" t="t" r="r" b="b"/>
              <a:pathLst>
                <a:path w="1243" h="907">
                  <a:moveTo>
                    <a:pt x="11" y="907"/>
                  </a:moveTo>
                  <a:lnTo>
                    <a:pt x="51" y="907"/>
                  </a:lnTo>
                  <a:lnTo>
                    <a:pt x="51" y="899"/>
                  </a:lnTo>
                  <a:lnTo>
                    <a:pt x="59" y="899"/>
                  </a:lnTo>
                  <a:lnTo>
                    <a:pt x="67" y="894"/>
                  </a:lnTo>
                  <a:lnTo>
                    <a:pt x="75" y="894"/>
                  </a:lnTo>
                  <a:lnTo>
                    <a:pt x="83" y="889"/>
                  </a:lnTo>
                  <a:lnTo>
                    <a:pt x="102" y="889"/>
                  </a:lnTo>
                  <a:lnTo>
                    <a:pt x="102" y="883"/>
                  </a:lnTo>
                  <a:lnTo>
                    <a:pt x="126" y="883"/>
                  </a:lnTo>
                  <a:lnTo>
                    <a:pt x="126" y="875"/>
                  </a:lnTo>
                  <a:lnTo>
                    <a:pt x="134" y="875"/>
                  </a:lnTo>
                  <a:lnTo>
                    <a:pt x="134" y="870"/>
                  </a:lnTo>
                  <a:lnTo>
                    <a:pt x="142" y="870"/>
                  </a:lnTo>
                  <a:lnTo>
                    <a:pt x="142" y="864"/>
                  </a:lnTo>
                  <a:lnTo>
                    <a:pt x="158" y="864"/>
                  </a:lnTo>
                  <a:lnTo>
                    <a:pt x="158" y="859"/>
                  </a:lnTo>
                  <a:lnTo>
                    <a:pt x="177" y="859"/>
                  </a:lnTo>
                  <a:lnTo>
                    <a:pt x="177" y="851"/>
                  </a:lnTo>
                  <a:lnTo>
                    <a:pt x="185" y="851"/>
                  </a:lnTo>
                  <a:lnTo>
                    <a:pt x="193" y="846"/>
                  </a:lnTo>
                  <a:lnTo>
                    <a:pt x="201" y="846"/>
                  </a:lnTo>
                  <a:lnTo>
                    <a:pt x="210" y="840"/>
                  </a:lnTo>
                  <a:lnTo>
                    <a:pt x="226" y="840"/>
                  </a:lnTo>
                  <a:lnTo>
                    <a:pt x="226" y="835"/>
                  </a:lnTo>
                  <a:lnTo>
                    <a:pt x="252" y="835"/>
                  </a:lnTo>
                  <a:lnTo>
                    <a:pt x="252" y="827"/>
                  </a:lnTo>
                  <a:lnTo>
                    <a:pt x="261" y="827"/>
                  </a:lnTo>
                  <a:lnTo>
                    <a:pt x="261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93" y="816"/>
                  </a:lnTo>
                  <a:lnTo>
                    <a:pt x="293" y="811"/>
                  </a:lnTo>
                  <a:lnTo>
                    <a:pt x="309" y="811"/>
                  </a:lnTo>
                  <a:lnTo>
                    <a:pt x="309" y="803"/>
                  </a:lnTo>
                  <a:lnTo>
                    <a:pt x="325" y="803"/>
                  </a:lnTo>
                  <a:lnTo>
                    <a:pt x="325" y="797"/>
                  </a:lnTo>
                  <a:lnTo>
                    <a:pt x="344" y="797"/>
                  </a:lnTo>
                  <a:lnTo>
                    <a:pt x="344" y="792"/>
                  </a:lnTo>
                  <a:lnTo>
                    <a:pt x="360" y="792"/>
                  </a:lnTo>
                  <a:lnTo>
                    <a:pt x="360" y="787"/>
                  </a:lnTo>
                  <a:lnTo>
                    <a:pt x="376" y="787"/>
                  </a:lnTo>
                  <a:lnTo>
                    <a:pt x="376" y="779"/>
                  </a:lnTo>
                  <a:lnTo>
                    <a:pt x="384" y="779"/>
                  </a:lnTo>
                  <a:lnTo>
                    <a:pt x="384" y="773"/>
                  </a:lnTo>
                  <a:lnTo>
                    <a:pt x="392" y="773"/>
                  </a:lnTo>
                  <a:lnTo>
                    <a:pt x="392" y="768"/>
                  </a:lnTo>
                  <a:lnTo>
                    <a:pt x="400" y="768"/>
                  </a:lnTo>
                  <a:lnTo>
                    <a:pt x="400" y="762"/>
                  </a:lnTo>
                  <a:lnTo>
                    <a:pt x="419" y="762"/>
                  </a:lnTo>
                  <a:lnTo>
                    <a:pt x="419" y="754"/>
                  </a:lnTo>
                  <a:lnTo>
                    <a:pt x="427" y="754"/>
                  </a:lnTo>
                  <a:lnTo>
                    <a:pt x="435" y="749"/>
                  </a:lnTo>
                  <a:lnTo>
                    <a:pt x="435" y="744"/>
                  </a:lnTo>
                  <a:lnTo>
                    <a:pt x="451" y="744"/>
                  </a:lnTo>
                  <a:lnTo>
                    <a:pt x="451" y="738"/>
                  </a:lnTo>
                  <a:lnTo>
                    <a:pt x="467" y="738"/>
                  </a:lnTo>
                  <a:lnTo>
                    <a:pt x="467" y="730"/>
                  </a:lnTo>
                  <a:lnTo>
                    <a:pt x="475" y="730"/>
                  </a:lnTo>
                  <a:lnTo>
                    <a:pt x="475" y="725"/>
                  </a:lnTo>
                  <a:lnTo>
                    <a:pt x="483" y="725"/>
                  </a:lnTo>
                  <a:lnTo>
                    <a:pt x="483" y="719"/>
                  </a:lnTo>
                  <a:lnTo>
                    <a:pt x="494" y="719"/>
                  </a:lnTo>
                  <a:lnTo>
                    <a:pt x="494" y="714"/>
                  </a:lnTo>
                  <a:lnTo>
                    <a:pt x="502" y="714"/>
                  </a:lnTo>
                  <a:lnTo>
                    <a:pt x="502" y="706"/>
                  </a:lnTo>
                  <a:lnTo>
                    <a:pt x="510" y="706"/>
                  </a:lnTo>
                  <a:lnTo>
                    <a:pt x="510" y="695"/>
                  </a:lnTo>
                  <a:lnTo>
                    <a:pt x="518" y="695"/>
                  </a:lnTo>
                  <a:lnTo>
                    <a:pt x="518" y="690"/>
                  </a:lnTo>
                  <a:lnTo>
                    <a:pt x="526" y="690"/>
                  </a:lnTo>
                  <a:lnTo>
                    <a:pt x="526" y="676"/>
                  </a:lnTo>
                  <a:lnTo>
                    <a:pt x="534" y="676"/>
                  </a:lnTo>
                  <a:lnTo>
                    <a:pt x="534" y="666"/>
                  </a:lnTo>
                  <a:lnTo>
                    <a:pt x="543" y="666"/>
                  </a:lnTo>
                  <a:lnTo>
                    <a:pt x="543" y="652"/>
                  </a:lnTo>
                  <a:lnTo>
                    <a:pt x="551" y="652"/>
                  </a:lnTo>
                  <a:lnTo>
                    <a:pt x="551" y="647"/>
                  </a:lnTo>
                  <a:lnTo>
                    <a:pt x="559" y="647"/>
                  </a:lnTo>
                  <a:lnTo>
                    <a:pt x="559" y="642"/>
                  </a:lnTo>
                  <a:lnTo>
                    <a:pt x="567" y="642"/>
                  </a:lnTo>
                  <a:lnTo>
                    <a:pt x="567" y="634"/>
                  </a:lnTo>
                  <a:lnTo>
                    <a:pt x="577" y="634"/>
                  </a:lnTo>
                  <a:lnTo>
                    <a:pt x="577" y="628"/>
                  </a:lnTo>
                  <a:lnTo>
                    <a:pt x="585" y="623"/>
                  </a:lnTo>
                  <a:lnTo>
                    <a:pt x="594" y="623"/>
                  </a:lnTo>
                  <a:lnTo>
                    <a:pt x="594" y="617"/>
                  </a:lnTo>
                  <a:lnTo>
                    <a:pt x="602" y="617"/>
                  </a:lnTo>
                  <a:lnTo>
                    <a:pt x="602" y="599"/>
                  </a:lnTo>
                  <a:lnTo>
                    <a:pt x="610" y="599"/>
                  </a:lnTo>
                  <a:lnTo>
                    <a:pt x="610" y="585"/>
                  </a:lnTo>
                  <a:lnTo>
                    <a:pt x="626" y="574"/>
                  </a:lnTo>
                  <a:lnTo>
                    <a:pt x="626" y="569"/>
                  </a:lnTo>
                  <a:lnTo>
                    <a:pt x="634" y="556"/>
                  </a:lnTo>
                  <a:lnTo>
                    <a:pt x="634" y="550"/>
                  </a:lnTo>
                  <a:lnTo>
                    <a:pt x="642" y="550"/>
                  </a:lnTo>
                  <a:lnTo>
                    <a:pt x="642" y="537"/>
                  </a:lnTo>
                  <a:lnTo>
                    <a:pt x="653" y="531"/>
                  </a:lnTo>
                  <a:lnTo>
                    <a:pt x="653" y="521"/>
                  </a:lnTo>
                  <a:lnTo>
                    <a:pt x="661" y="521"/>
                  </a:lnTo>
                  <a:lnTo>
                    <a:pt x="661" y="502"/>
                  </a:lnTo>
                  <a:lnTo>
                    <a:pt x="669" y="502"/>
                  </a:lnTo>
                  <a:lnTo>
                    <a:pt x="669" y="489"/>
                  </a:lnTo>
                  <a:lnTo>
                    <a:pt x="677" y="483"/>
                  </a:lnTo>
                  <a:lnTo>
                    <a:pt x="677" y="472"/>
                  </a:lnTo>
                  <a:lnTo>
                    <a:pt x="685" y="472"/>
                  </a:lnTo>
                  <a:lnTo>
                    <a:pt x="685" y="459"/>
                  </a:lnTo>
                  <a:lnTo>
                    <a:pt x="693" y="459"/>
                  </a:lnTo>
                  <a:lnTo>
                    <a:pt x="693" y="448"/>
                  </a:lnTo>
                  <a:lnTo>
                    <a:pt x="701" y="440"/>
                  </a:lnTo>
                  <a:lnTo>
                    <a:pt x="701" y="424"/>
                  </a:lnTo>
                  <a:lnTo>
                    <a:pt x="709" y="424"/>
                  </a:lnTo>
                  <a:lnTo>
                    <a:pt x="709" y="411"/>
                  </a:lnTo>
                  <a:lnTo>
                    <a:pt x="717" y="411"/>
                  </a:lnTo>
                  <a:lnTo>
                    <a:pt x="717" y="400"/>
                  </a:lnTo>
                  <a:lnTo>
                    <a:pt x="725" y="400"/>
                  </a:lnTo>
                  <a:lnTo>
                    <a:pt x="725" y="381"/>
                  </a:lnTo>
                  <a:lnTo>
                    <a:pt x="736" y="381"/>
                  </a:lnTo>
                  <a:lnTo>
                    <a:pt x="736" y="368"/>
                  </a:lnTo>
                  <a:lnTo>
                    <a:pt x="744" y="362"/>
                  </a:lnTo>
                  <a:lnTo>
                    <a:pt x="744" y="352"/>
                  </a:lnTo>
                  <a:lnTo>
                    <a:pt x="752" y="338"/>
                  </a:lnTo>
                  <a:lnTo>
                    <a:pt x="752" y="333"/>
                  </a:lnTo>
                  <a:lnTo>
                    <a:pt x="760" y="327"/>
                  </a:lnTo>
                  <a:lnTo>
                    <a:pt x="760" y="309"/>
                  </a:lnTo>
                  <a:lnTo>
                    <a:pt x="768" y="309"/>
                  </a:lnTo>
                  <a:lnTo>
                    <a:pt x="768" y="290"/>
                  </a:lnTo>
                  <a:lnTo>
                    <a:pt x="776" y="290"/>
                  </a:lnTo>
                  <a:lnTo>
                    <a:pt x="776" y="271"/>
                  </a:lnTo>
                  <a:lnTo>
                    <a:pt x="784" y="266"/>
                  </a:lnTo>
                  <a:lnTo>
                    <a:pt x="784" y="260"/>
                  </a:lnTo>
                  <a:lnTo>
                    <a:pt x="792" y="252"/>
                  </a:lnTo>
                  <a:lnTo>
                    <a:pt x="792" y="242"/>
                  </a:lnTo>
                  <a:lnTo>
                    <a:pt x="803" y="242"/>
                  </a:lnTo>
                  <a:lnTo>
                    <a:pt x="803" y="231"/>
                  </a:lnTo>
                  <a:lnTo>
                    <a:pt x="811" y="231"/>
                  </a:lnTo>
                  <a:lnTo>
                    <a:pt x="811" y="223"/>
                  </a:lnTo>
                  <a:lnTo>
                    <a:pt x="819" y="217"/>
                  </a:lnTo>
                  <a:lnTo>
                    <a:pt x="819" y="212"/>
                  </a:lnTo>
                  <a:lnTo>
                    <a:pt x="827" y="212"/>
                  </a:lnTo>
                  <a:lnTo>
                    <a:pt x="827" y="207"/>
                  </a:lnTo>
                  <a:lnTo>
                    <a:pt x="835" y="207"/>
                  </a:lnTo>
                  <a:lnTo>
                    <a:pt x="835" y="193"/>
                  </a:lnTo>
                  <a:lnTo>
                    <a:pt x="843" y="193"/>
                  </a:lnTo>
                  <a:lnTo>
                    <a:pt x="843" y="188"/>
                  </a:lnTo>
                  <a:lnTo>
                    <a:pt x="851" y="188"/>
                  </a:lnTo>
                  <a:lnTo>
                    <a:pt x="851" y="182"/>
                  </a:lnTo>
                  <a:lnTo>
                    <a:pt x="859" y="182"/>
                  </a:lnTo>
                  <a:lnTo>
                    <a:pt x="859" y="169"/>
                  </a:lnTo>
                  <a:lnTo>
                    <a:pt x="867" y="169"/>
                  </a:lnTo>
                  <a:lnTo>
                    <a:pt x="867" y="164"/>
                  </a:lnTo>
                  <a:lnTo>
                    <a:pt x="876" y="164"/>
                  </a:lnTo>
                  <a:lnTo>
                    <a:pt x="876" y="158"/>
                  </a:lnTo>
                  <a:lnTo>
                    <a:pt x="884" y="158"/>
                  </a:lnTo>
                  <a:lnTo>
                    <a:pt x="884" y="145"/>
                  </a:lnTo>
                  <a:lnTo>
                    <a:pt x="894" y="145"/>
                  </a:lnTo>
                  <a:lnTo>
                    <a:pt x="894" y="140"/>
                  </a:lnTo>
                  <a:lnTo>
                    <a:pt x="902" y="140"/>
                  </a:lnTo>
                  <a:lnTo>
                    <a:pt x="902" y="131"/>
                  </a:lnTo>
                  <a:lnTo>
                    <a:pt x="918" y="131"/>
                  </a:lnTo>
                  <a:lnTo>
                    <a:pt x="918" y="126"/>
                  </a:lnTo>
                  <a:lnTo>
                    <a:pt x="927" y="126"/>
                  </a:lnTo>
                  <a:lnTo>
                    <a:pt x="927" y="121"/>
                  </a:lnTo>
                  <a:lnTo>
                    <a:pt x="935" y="121"/>
                  </a:lnTo>
                  <a:lnTo>
                    <a:pt x="935" y="115"/>
                  </a:lnTo>
                  <a:lnTo>
                    <a:pt x="943" y="115"/>
                  </a:lnTo>
                  <a:lnTo>
                    <a:pt x="943" y="110"/>
                  </a:lnTo>
                  <a:lnTo>
                    <a:pt x="959" y="110"/>
                  </a:lnTo>
                  <a:lnTo>
                    <a:pt x="959" y="102"/>
                  </a:lnTo>
                  <a:lnTo>
                    <a:pt x="967" y="102"/>
                  </a:lnTo>
                  <a:lnTo>
                    <a:pt x="967" y="97"/>
                  </a:lnTo>
                  <a:lnTo>
                    <a:pt x="978" y="97"/>
                  </a:lnTo>
                  <a:lnTo>
                    <a:pt x="986" y="91"/>
                  </a:lnTo>
                  <a:lnTo>
                    <a:pt x="994" y="91"/>
                  </a:lnTo>
                  <a:lnTo>
                    <a:pt x="994" y="86"/>
                  </a:lnTo>
                  <a:lnTo>
                    <a:pt x="1002" y="86"/>
                  </a:lnTo>
                  <a:lnTo>
                    <a:pt x="1002" y="78"/>
                  </a:lnTo>
                  <a:lnTo>
                    <a:pt x="1010" y="78"/>
                  </a:lnTo>
                  <a:lnTo>
                    <a:pt x="1010" y="72"/>
                  </a:lnTo>
                  <a:lnTo>
                    <a:pt x="1026" y="72"/>
                  </a:lnTo>
                  <a:lnTo>
                    <a:pt x="1026" y="67"/>
                  </a:lnTo>
                  <a:lnTo>
                    <a:pt x="1034" y="67"/>
                  </a:lnTo>
                  <a:lnTo>
                    <a:pt x="1034" y="62"/>
                  </a:lnTo>
                  <a:lnTo>
                    <a:pt x="1050" y="62"/>
                  </a:lnTo>
                  <a:lnTo>
                    <a:pt x="1050" y="54"/>
                  </a:lnTo>
                  <a:lnTo>
                    <a:pt x="1061" y="54"/>
                  </a:lnTo>
                  <a:lnTo>
                    <a:pt x="1061" y="48"/>
                  </a:lnTo>
                  <a:lnTo>
                    <a:pt x="1069" y="48"/>
                  </a:lnTo>
                  <a:lnTo>
                    <a:pt x="1069" y="43"/>
                  </a:lnTo>
                  <a:lnTo>
                    <a:pt x="1085" y="43"/>
                  </a:lnTo>
                  <a:lnTo>
                    <a:pt x="1093" y="37"/>
                  </a:lnTo>
                  <a:lnTo>
                    <a:pt x="1117" y="37"/>
                  </a:lnTo>
                  <a:lnTo>
                    <a:pt x="1128" y="29"/>
                  </a:lnTo>
                  <a:lnTo>
                    <a:pt x="1136" y="29"/>
                  </a:lnTo>
                  <a:lnTo>
                    <a:pt x="1136" y="24"/>
                  </a:lnTo>
                  <a:lnTo>
                    <a:pt x="1160" y="24"/>
                  </a:lnTo>
                  <a:lnTo>
                    <a:pt x="1160" y="19"/>
                  </a:lnTo>
                  <a:lnTo>
                    <a:pt x="1176" y="19"/>
                  </a:lnTo>
                  <a:lnTo>
                    <a:pt x="1176" y="11"/>
                  </a:lnTo>
                  <a:lnTo>
                    <a:pt x="1209" y="11"/>
                  </a:lnTo>
                  <a:lnTo>
                    <a:pt x="1209" y="5"/>
                  </a:lnTo>
                  <a:lnTo>
                    <a:pt x="1219" y="5"/>
                  </a:lnTo>
                  <a:lnTo>
                    <a:pt x="1219" y="0"/>
                  </a:lnTo>
                  <a:lnTo>
                    <a:pt x="1243" y="0"/>
                  </a:lnTo>
                  <a:lnTo>
                    <a:pt x="1243" y="5"/>
                  </a:lnTo>
                  <a:lnTo>
                    <a:pt x="1235" y="5"/>
                  </a:lnTo>
                  <a:lnTo>
                    <a:pt x="1235" y="11"/>
                  </a:lnTo>
                  <a:lnTo>
                    <a:pt x="1219" y="11"/>
                  </a:lnTo>
                  <a:lnTo>
                    <a:pt x="1219" y="19"/>
                  </a:lnTo>
                  <a:lnTo>
                    <a:pt x="1209" y="19"/>
                  </a:lnTo>
                  <a:lnTo>
                    <a:pt x="1209" y="29"/>
                  </a:lnTo>
                  <a:lnTo>
                    <a:pt x="1200" y="29"/>
                  </a:lnTo>
                  <a:lnTo>
                    <a:pt x="1200" y="37"/>
                  </a:lnTo>
                  <a:lnTo>
                    <a:pt x="1192" y="37"/>
                  </a:lnTo>
                  <a:lnTo>
                    <a:pt x="1192" y="43"/>
                  </a:lnTo>
                  <a:lnTo>
                    <a:pt x="1184" y="43"/>
                  </a:lnTo>
                  <a:lnTo>
                    <a:pt x="1184" y="54"/>
                  </a:lnTo>
                  <a:lnTo>
                    <a:pt x="1176" y="54"/>
                  </a:lnTo>
                  <a:lnTo>
                    <a:pt x="1176" y="62"/>
                  </a:lnTo>
                  <a:lnTo>
                    <a:pt x="1168" y="62"/>
                  </a:lnTo>
                  <a:lnTo>
                    <a:pt x="1168" y="72"/>
                  </a:lnTo>
                  <a:lnTo>
                    <a:pt x="1160" y="72"/>
                  </a:lnTo>
                  <a:lnTo>
                    <a:pt x="1160" y="78"/>
                  </a:lnTo>
                  <a:lnTo>
                    <a:pt x="1152" y="78"/>
                  </a:lnTo>
                  <a:lnTo>
                    <a:pt x="1152" y="86"/>
                  </a:lnTo>
                  <a:lnTo>
                    <a:pt x="1144" y="86"/>
                  </a:lnTo>
                  <a:lnTo>
                    <a:pt x="1144" y="97"/>
                  </a:lnTo>
                  <a:lnTo>
                    <a:pt x="1136" y="97"/>
                  </a:lnTo>
                  <a:lnTo>
                    <a:pt x="1136" y="102"/>
                  </a:lnTo>
                  <a:lnTo>
                    <a:pt x="1128" y="102"/>
                  </a:lnTo>
                  <a:lnTo>
                    <a:pt x="1128" y="110"/>
                  </a:lnTo>
                  <a:lnTo>
                    <a:pt x="1117" y="110"/>
                  </a:lnTo>
                  <a:lnTo>
                    <a:pt x="1117" y="115"/>
                  </a:lnTo>
                  <a:lnTo>
                    <a:pt x="1109" y="115"/>
                  </a:lnTo>
                  <a:lnTo>
                    <a:pt x="1109" y="121"/>
                  </a:lnTo>
                  <a:lnTo>
                    <a:pt x="1101" y="121"/>
                  </a:lnTo>
                  <a:lnTo>
                    <a:pt x="1093" y="126"/>
                  </a:lnTo>
                  <a:lnTo>
                    <a:pt x="1085" y="126"/>
                  </a:lnTo>
                  <a:lnTo>
                    <a:pt x="1085" y="131"/>
                  </a:lnTo>
                  <a:lnTo>
                    <a:pt x="1077" y="140"/>
                  </a:lnTo>
                  <a:lnTo>
                    <a:pt x="1069" y="140"/>
                  </a:lnTo>
                  <a:lnTo>
                    <a:pt x="1069" y="150"/>
                  </a:lnTo>
                  <a:lnTo>
                    <a:pt x="1061" y="150"/>
                  </a:lnTo>
                  <a:lnTo>
                    <a:pt x="1061" y="158"/>
                  </a:lnTo>
                  <a:lnTo>
                    <a:pt x="1050" y="158"/>
                  </a:lnTo>
                  <a:lnTo>
                    <a:pt x="1050" y="164"/>
                  </a:lnTo>
                  <a:lnTo>
                    <a:pt x="1045" y="164"/>
                  </a:lnTo>
                  <a:lnTo>
                    <a:pt x="1045" y="174"/>
                  </a:lnTo>
                  <a:lnTo>
                    <a:pt x="1034" y="174"/>
                  </a:lnTo>
                  <a:lnTo>
                    <a:pt x="1034" y="188"/>
                  </a:lnTo>
                  <a:lnTo>
                    <a:pt x="1026" y="188"/>
                  </a:lnTo>
                  <a:lnTo>
                    <a:pt x="1026" y="193"/>
                  </a:lnTo>
                  <a:lnTo>
                    <a:pt x="1018" y="193"/>
                  </a:lnTo>
                  <a:lnTo>
                    <a:pt x="1018" y="199"/>
                  </a:lnTo>
                  <a:lnTo>
                    <a:pt x="1010" y="199"/>
                  </a:lnTo>
                  <a:lnTo>
                    <a:pt x="1002" y="207"/>
                  </a:lnTo>
                  <a:lnTo>
                    <a:pt x="1002" y="212"/>
                  </a:lnTo>
                  <a:lnTo>
                    <a:pt x="994" y="212"/>
                  </a:lnTo>
                  <a:lnTo>
                    <a:pt x="994" y="217"/>
                  </a:lnTo>
                  <a:lnTo>
                    <a:pt x="986" y="217"/>
                  </a:lnTo>
                  <a:lnTo>
                    <a:pt x="986" y="223"/>
                  </a:lnTo>
                  <a:lnTo>
                    <a:pt x="978" y="223"/>
                  </a:lnTo>
                  <a:lnTo>
                    <a:pt x="978" y="231"/>
                  </a:lnTo>
                  <a:lnTo>
                    <a:pt x="967" y="231"/>
                  </a:lnTo>
                  <a:lnTo>
                    <a:pt x="967" y="242"/>
                  </a:lnTo>
                  <a:lnTo>
                    <a:pt x="959" y="247"/>
                  </a:lnTo>
                  <a:lnTo>
                    <a:pt x="951" y="247"/>
                  </a:lnTo>
                  <a:lnTo>
                    <a:pt x="951" y="252"/>
                  </a:lnTo>
                  <a:lnTo>
                    <a:pt x="943" y="252"/>
                  </a:lnTo>
                  <a:lnTo>
                    <a:pt x="943" y="266"/>
                  </a:lnTo>
                  <a:lnTo>
                    <a:pt x="935" y="266"/>
                  </a:lnTo>
                  <a:lnTo>
                    <a:pt x="935" y="271"/>
                  </a:lnTo>
                  <a:lnTo>
                    <a:pt x="927" y="271"/>
                  </a:lnTo>
                  <a:lnTo>
                    <a:pt x="927" y="279"/>
                  </a:lnTo>
                  <a:lnTo>
                    <a:pt x="918" y="279"/>
                  </a:lnTo>
                  <a:lnTo>
                    <a:pt x="918" y="284"/>
                  </a:lnTo>
                  <a:lnTo>
                    <a:pt x="910" y="284"/>
                  </a:lnTo>
                  <a:lnTo>
                    <a:pt x="910" y="290"/>
                  </a:lnTo>
                  <a:lnTo>
                    <a:pt x="902" y="290"/>
                  </a:lnTo>
                  <a:lnTo>
                    <a:pt x="902" y="295"/>
                  </a:lnTo>
                  <a:lnTo>
                    <a:pt x="884" y="295"/>
                  </a:lnTo>
                  <a:lnTo>
                    <a:pt x="884" y="303"/>
                  </a:lnTo>
                  <a:lnTo>
                    <a:pt x="876" y="303"/>
                  </a:lnTo>
                  <a:lnTo>
                    <a:pt x="876" y="309"/>
                  </a:lnTo>
                  <a:lnTo>
                    <a:pt x="867" y="309"/>
                  </a:lnTo>
                  <a:lnTo>
                    <a:pt x="867" y="319"/>
                  </a:lnTo>
                  <a:lnTo>
                    <a:pt x="851" y="319"/>
                  </a:lnTo>
                  <a:lnTo>
                    <a:pt x="851" y="327"/>
                  </a:lnTo>
                  <a:lnTo>
                    <a:pt x="843" y="327"/>
                  </a:lnTo>
                  <a:lnTo>
                    <a:pt x="843" y="333"/>
                  </a:lnTo>
                  <a:lnTo>
                    <a:pt x="835" y="333"/>
                  </a:lnTo>
                  <a:lnTo>
                    <a:pt x="835" y="338"/>
                  </a:lnTo>
                  <a:lnTo>
                    <a:pt x="827" y="344"/>
                  </a:lnTo>
                  <a:lnTo>
                    <a:pt x="819" y="344"/>
                  </a:lnTo>
                  <a:lnTo>
                    <a:pt x="811" y="352"/>
                  </a:lnTo>
                  <a:lnTo>
                    <a:pt x="811" y="357"/>
                  </a:lnTo>
                  <a:lnTo>
                    <a:pt x="803" y="357"/>
                  </a:lnTo>
                  <a:lnTo>
                    <a:pt x="776" y="373"/>
                  </a:lnTo>
                  <a:lnTo>
                    <a:pt x="776" y="381"/>
                  </a:lnTo>
                  <a:lnTo>
                    <a:pt x="768" y="381"/>
                  </a:lnTo>
                  <a:lnTo>
                    <a:pt x="768" y="392"/>
                  </a:lnTo>
                  <a:lnTo>
                    <a:pt x="752" y="392"/>
                  </a:lnTo>
                  <a:lnTo>
                    <a:pt x="752" y="400"/>
                  </a:lnTo>
                  <a:lnTo>
                    <a:pt x="744" y="400"/>
                  </a:lnTo>
                  <a:lnTo>
                    <a:pt x="744" y="405"/>
                  </a:lnTo>
                  <a:lnTo>
                    <a:pt x="736" y="405"/>
                  </a:lnTo>
                  <a:lnTo>
                    <a:pt x="736" y="411"/>
                  </a:lnTo>
                  <a:lnTo>
                    <a:pt x="725" y="411"/>
                  </a:lnTo>
                  <a:lnTo>
                    <a:pt x="717" y="416"/>
                  </a:lnTo>
                  <a:lnTo>
                    <a:pt x="701" y="416"/>
                  </a:lnTo>
                  <a:lnTo>
                    <a:pt x="701" y="424"/>
                  </a:lnTo>
                  <a:lnTo>
                    <a:pt x="693" y="424"/>
                  </a:lnTo>
                  <a:lnTo>
                    <a:pt x="685" y="429"/>
                  </a:lnTo>
                  <a:lnTo>
                    <a:pt x="677" y="429"/>
                  </a:lnTo>
                  <a:lnTo>
                    <a:pt x="677" y="435"/>
                  </a:lnTo>
                  <a:lnTo>
                    <a:pt x="669" y="435"/>
                  </a:lnTo>
                  <a:lnTo>
                    <a:pt x="669" y="440"/>
                  </a:lnTo>
                  <a:lnTo>
                    <a:pt x="653" y="440"/>
                  </a:lnTo>
                  <a:lnTo>
                    <a:pt x="653" y="448"/>
                  </a:lnTo>
                  <a:lnTo>
                    <a:pt x="642" y="448"/>
                  </a:lnTo>
                  <a:lnTo>
                    <a:pt x="642" y="454"/>
                  </a:lnTo>
                  <a:lnTo>
                    <a:pt x="634" y="454"/>
                  </a:lnTo>
                  <a:lnTo>
                    <a:pt x="634" y="464"/>
                  </a:lnTo>
                  <a:lnTo>
                    <a:pt x="618" y="464"/>
                  </a:lnTo>
                  <a:lnTo>
                    <a:pt x="618" y="472"/>
                  </a:lnTo>
                  <a:lnTo>
                    <a:pt x="610" y="472"/>
                  </a:lnTo>
                  <a:lnTo>
                    <a:pt x="610" y="478"/>
                  </a:lnTo>
                  <a:lnTo>
                    <a:pt x="602" y="478"/>
                  </a:lnTo>
                  <a:lnTo>
                    <a:pt x="602" y="483"/>
                  </a:lnTo>
                  <a:lnTo>
                    <a:pt x="594" y="489"/>
                  </a:lnTo>
                  <a:lnTo>
                    <a:pt x="585" y="489"/>
                  </a:lnTo>
                  <a:lnTo>
                    <a:pt x="585" y="497"/>
                  </a:lnTo>
                  <a:lnTo>
                    <a:pt x="577" y="497"/>
                  </a:lnTo>
                  <a:lnTo>
                    <a:pt x="577" y="502"/>
                  </a:lnTo>
                  <a:lnTo>
                    <a:pt x="567" y="502"/>
                  </a:lnTo>
                  <a:lnTo>
                    <a:pt x="567" y="507"/>
                  </a:lnTo>
                  <a:lnTo>
                    <a:pt x="559" y="507"/>
                  </a:lnTo>
                  <a:lnTo>
                    <a:pt x="559" y="513"/>
                  </a:lnTo>
                  <a:lnTo>
                    <a:pt x="543" y="513"/>
                  </a:lnTo>
                  <a:lnTo>
                    <a:pt x="543" y="521"/>
                  </a:lnTo>
                  <a:lnTo>
                    <a:pt x="534" y="521"/>
                  </a:lnTo>
                  <a:lnTo>
                    <a:pt x="534" y="531"/>
                  </a:lnTo>
                  <a:lnTo>
                    <a:pt x="526" y="531"/>
                  </a:lnTo>
                  <a:lnTo>
                    <a:pt x="526" y="537"/>
                  </a:lnTo>
                  <a:lnTo>
                    <a:pt x="518" y="537"/>
                  </a:lnTo>
                  <a:lnTo>
                    <a:pt x="510" y="545"/>
                  </a:lnTo>
                  <a:lnTo>
                    <a:pt x="510" y="550"/>
                  </a:lnTo>
                  <a:lnTo>
                    <a:pt x="502" y="550"/>
                  </a:lnTo>
                  <a:lnTo>
                    <a:pt x="502" y="561"/>
                  </a:lnTo>
                  <a:lnTo>
                    <a:pt x="494" y="561"/>
                  </a:lnTo>
                  <a:lnTo>
                    <a:pt x="483" y="569"/>
                  </a:lnTo>
                  <a:lnTo>
                    <a:pt x="483" y="574"/>
                  </a:lnTo>
                  <a:lnTo>
                    <a:pt x="475" y="574"/>
                  </a:lnTo>
                  <a:lnTo>
                    <a:pt x="475" y="580"/>
                  </a:lnTo>
                  <a:lnTo>
                    <a:pt x="467" y="580"/>
                  </a:lnTo>
                  <a:lnTo>
                    <a:pt x="467" y="585"/>
                  </a:lnTo>
                  <a:lnTo>
                    <a:pt x="459" y="585"/>
                  </a:lnTo>
                  <a:lnTo>
                    <a:pt x="451" y="593"/>
                  </a:lnTo>
                  <a:lnTo>
                    <a:pt x="443" y="593"/>
                  </a:lnTo>
                  <a:lnTo>
                    <a:pt x="443" y="599"/>
                  </a:lnTo>
                  <a:lnTo>
                    <a:pt x="435" y="599"/>
                  </a:lnTo>
                  <a:lnTo>
                    <a:pt x="435" y="604"/>
                  </a:lnTo>
                  <a:lnTo>
                    <a:pt x="427" y="604"/>
                  </a:lnTo>
                  <a:lnTo>
                    <a:pt x="427" y="609"/>
                  </a:lnTo>
                  <a:lnTo>
                    <a:pt x="411" y="609"/>
                  </a:lnTo>
                  <a:lnTo>
                    <a:pt x="411" y="617"/>
                  </a:lnTo>
                  <a:lnTo>
                    <a:pt x="400" y="617"/>
                  </a:lnTo>
                  <a:lnTo>
                    <a:pt x="400" y="628"/>
                  </a:lnTo>
                  <a:lnTo>
                    <a:pt x="392" y="628"/>
                  </a:lnTo>
                  <a:lnTo>
                    <a:pt x="392" y="634"/>
                  </a:lnTo>
                  <a:lnTo>
                    <a:pt x="376" y="634"/>
                  </a:lnTo>
                  <a:lnTo>
                    <a:pt x="376" y="647"/>
                  </a:lnTo>
                  <a:lnTo>
                    <a:pt x="368" y="647"/>
                  </a:lnTo>
                  <a:lnTo>
                    <a:pt x="352" y="658"/>
                  </a:lnTo>
                  <a:lnTo>
                    <a:pt x="344" y="658"/>
                  </a:lnTo>
                  <a:lnTo>
                    <a:pt x="344" y="666"/>
                  </a:lnTo>
                  <a:lnTo>
                    <a:pt x="336" y="666"/>
                  </a:lnTo>
                  <a:lnTo>
                    <a:pt x="336" y="671"/>
                  </a:lnTo>
                  <a:lnTo>
                    <a:pt x="325" y="671"/>
                  </a:lnTo>
                  <a:lnTo>
                    <a:pt x="317" y="676"/>
                  </a:lnTo>
                  <a:lnTo>
                    <a:pt x="309" y="676"/>
                  </a:lnTo>
                  <a:lnTo>
                    <a:pt x="309" y="682"/>
                  </a:lnTo>
                  <a:lnTo>
                    <a:pt x="301" y="682"/>
                  </a:lnTo>
                  <a:lnTo>
                    <a:pt x="301" y="690"/>
                  </a:lnTo>
                  <a:lnTo>
                    <a:pt x="285" y="690"/>
                  </a:lnTo>
                  <a:lnTo>
                    <a:pt x="285" y="695"/>
                  </a:lnTo>
                  <a:lnTo>
                    <a:pt x="277" y="695"/>
                  </a:lnTo>
                  <a:lnTo>
                    <a:pt x="277" y="701"/>
                  </a:lnTo>
                  <a:lnTo>
                    <a:pt x="269" y="706"/>
                  </a:lnTo>
                  <a:lnTo>
                    <a:pt x="261" y="706"/>
                  </a:lnTo>
                  <a:lnTo>
                    <a:pt x="261" y="714"/>
                  </a:lnTo>
                  <a:lnTo>
                    <a:pt x="252" y="714"/>
                  </a:lnTo>
                  <a:lnTo>
                    <a:pt x="252" y="719"/>
                  </a:lnTo>
                  <a:lnTo>
                    <a:pt x="242" y="719"/>
                  </a:lnTo>
                  <a:lnTo>
                    <a:pt x="242" y="730"/>
                  </a:lnTo>
                  <a:lnTo>
                    <a:pt x="226" y="730"/>
                  </a:lnTo>
                  <a:lnTo>
                    <a:pt x="226" y="738"/>
                  </a:lnTo>
                  <a:lnTo>
                    <a:pt x="218" y="738"/>
                  </a:lnTo>
                  <a:lnTo>
                    <a:pt x="218" y="744"/>
                  </a:lnTo>
                  <a:lnTo>
                    <a:pt x="210" y="744"/>
                  </a:lnTo>
                  <a:lnTo>
                    <a:pt x="210" y="749"/>
                  </a:lnTo>
                  <a:lnTo>
                    <a:pt x="201" y="749"/>
                  </a:lnTo>
                  <a:lnTo>
                    <a:pt x="201" y="754"/>
                  </a:lnTo>
                  <a:lnTo>
                    <a:pt x="185" y="754"/>
                  </a:lnTo>
                  <a:lnTo>
                    <a:pt x="185" y="762"/>
                  </a:lnTo>
                  <a:lnTo>
                    <a:pt x="177" y="762"/>
                  </a:lnTo>
                  <a:lnTo>
                    <a:pt x="177" y="768"/>
                  </a:lnTo>
                  <a:lnTo>
                    <a:pt x="167" y="768"/>
                  </a:lnTo>
                  <a:lnTo>
                    <a:pt x="167" y="773"/>
                  </a:lnTo>
                  <a:lnTo>
                    <a:pt x="158" y="779"/>
                  </a:lnTo>
                  <a:lnTo>
                    <a:pt x="150" y="779"/>
                  </a:lnTo>
                  <a:lnTo>
                    <a:pt x="150" y="787"/>
                  </a:lnTo>
                  <a:lnTo>
                    <a:pt x="142" y="787"/>
                  </a:lnTo>
                  <a:lnTo>
                    <a:pt x="142" y="797"/>
                  </a:lnTo>
                  <a:lnTo>
                    <a:pt x="134" y="797"/>
                  </a:lnTo>
                  <a:lnTo>
                    <a:pt x="134" y="811"/>
                  </a:lnTo>
                  <a:lnTo>
                    <a:pt x="126" y="811"/>
                  </a:lnTo>
                  <a:lnTo>
                    <a:pt x="126" y="816"/>
                  </a:lnTo>
                  <a:lnTo>
                    <a:pt x="118" y="816"/>
                  </a:lnTo>
                  <a:lnTo>
                    <a:pt x="118" y="821"/>
                  </a:lnTo>
                  <a:lnTo>
                    <a:pt x="110" y="821"/>
                  </a:lnTo>
                  <a:lnTo>
                    <a:pt x="110" y="827"/>
                  </a:lnTo>
                  <a:lnTo>
                    <a:pt x="102" y="827"/>
                  </a:lnTo>
                  <a:lnTo>
                    <a:pt x="102" y="835"/>
                  </a:lnTo>
                  <a:lnTo>
                    <a:pt x="83" y="835"/>
                  </a:lnTo>
                  <a:lnTo>
                    <a:pt x="83" y="840"/>
                  </a:lnTo>
                  <a:lnTo>
                    <a:pt x="75" y="840"/>
                  </a:lnTo>
                  <a:lnTo>
                    <a:pt x="75" y="846"/>
                  </a:lnTo>
                  <a:lnTo>
                    <a:pt x="67" y="846"/>
                  </a:lnTo>
                  <a:lnTo>
                    <a:pt x="67" y="851"/>
                  </a:lnTo>
                  <a:lnTo>
                    <a:pt x="59" y="851"/>
                  </a:lnTo>
                  <a:lnTo>
                    <a:pt x="59" y="859"/>
                  </a:lnTo>
                  <a:lnTo>
                    <a:pt x="51" y="859"/>
                  </a:lnTo>
                  <a:lnTo>
                    <a:pt x="51" y="864"/>
                  </a:lnTo>
                  <a:lnTo>
                    <a:pt x="43" y="864"/>
                  </a:lnTo>
                  <a:lnTo>
                    <a:pt x="43" y="875"/>
                  </a:lnTo>
                  <a:lnTo>
                    <a:pt x="35" y="875"/>
                  </a:lnTo>
                  <a:lnTo>
                    <a:pt x="35" y="883"/>
                  </a:lnTo>
                  <a:lnTo>
                    <a:pt x="27" y="883"/>
                  </a:lnTo>
                  <a:lnTo>
                    <a:pt x="27" y="889"/>
                  </a:lnTo>
                  <a:lnTo>
                    <a:pt x="19" y="889"/>
                  </a:lnTo>
                  <a:lnTo>
                    <a:pt x="19" y="894"/>
                  </a:lnTo>
                  <a:lnTo>
                    <a:pt x="11" y="894"/>
                  </a:lnTo>
                  <a:lnTo>
                    <a:pt x="11" y="899"/>
                  </a:lnTo>
                  <a:lnTo>
                    <a:pt x="0" y="899"/>
                  </a:lnTo>
                  <a:lnTo>
                    <a:pt x="0" y="907"/>
                  </a:lnTo>
                  <a:lnTo>
                    <a:pt x="51" y="907"/>
                  </a:lnTo>
                  <a:lnTo>
                    <a:pt x="11" y="90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648480" y="4549680"/>
              <a:ext cx="374760" cy="81000"/>
              <a:chOff x="6648480" y="4549680"/>
              <a:chExt cx="374760" cy="81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8480" y="454968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236" y="51"/>
                    </a:moveTo>
                    <a:lnTo>
                      <a:pt x="188" y="51"/>
                    </a:lnTo>
                    <a:lnTo>
                      <a:pt x="145" y="48"/>
                    </a:lnTo>
                    <a:lnTo>
                      <a:pt x="104" y="43"/>
                    </a:lnTo>
                    <a:lnTo>
                      <a:pt x="70" y="37"/>
                    </a:lnTo>
                    <a:lnTo>
                      <a:pt x="40" y="29"/>
                    </a:lnTo>
                    <a:lnTo>
                      <a:pt x="18" y="21"/>
                    </a:lnTo>
                    <a:lnTo>
                      <a:pt x="5" y="10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760840" y="5384880"/>
              <a:ext cx="374400" cy="93600"/>
              <a:chOff x="2760840" y="5384880"/>
              <a:chExt cx="374400" cy="93600"/>
            </a:xfrm>
          </p:grpSpPr>
          <p:sp>
            <p:nvSpPr>
              <p:cNvPr id="342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60840" y="5384880"/>
                <a:ext cx="374400" cy="93600"/>
              </a:xfrm>
              <a:custGeom>
                <a:avLst/>
                <a:gdLst/>
                <a:ahLst/>
                <a:rect l="l" t="t" r="r" b="b"/>
                <a:pathLst>
                  <a:path w="236" h="59">
                    <a:moveTo>
                      <a:pt x="0" y="59"/>
                    </a:moveTo>
                    <a:lnTo>
                      <a:pt x="48" y="59"/>
                    </a:lnTo>
                    <a:lnTo>
                      <a:pt x="91" y="53"/>
                    </a:lnTo>
                    <a:lnTo>
                      <a:pt x="131" y="48"/>
                    </a:lnTo>
                    <a:lnTo>
                      <a:pt x="166" y="43"/>
                    </a:lnTo>
                    <a:lnTo>
                      <a:pt x="196" y="35"/>
                    </a:lnTo>
                    <a:lnTo>
                      <a:pt x="217" y="24"/>
                    </a:lnTo>
                    <a:lnTo>
                      <a:pt x="230" y="13"/>
                    </a:lnTo>
                    <a:lnTo>
                      <a:pt x="23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401920" y="5384880"/>
              <a:ext cx="371520" cy="93600"/>
              <a:chOff x="2401920" y="5384880"/>
              <a:chExt cx="371520" cy="93600"/>
            </a:xfrm>
          </p:grpSpPr>
          <p:sp>
            <p:nvSpPr>
              <p:cNvPr id="345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234" y="0"/>
                    </a:lnTo>
                    <a:lnTo>
                      <a:pt x="234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401920" y="5384880"/>
                <a:ext cx="371520" cy="93600"/>
              </a:xfrm>
              <a:custGeom>
                <a:avLst/>
                <a:gdLst/>
                <a:ahLst/>
                <a:rect l="l" t="t" r="r" b="b"/>
                <a:pathLst>
                  <a:path w="234" h="59">
                    <a:moveTo>
                      <a:pt x="234" y="59"/>
                    </a:moveTo>
                    <a:lnTo>
                      <a:pt x="188" y="59"/>
                    </a:lnTo>
                    <a:lnTo>
                      <a:pt x="142" y="53"/>
                    </a:lnTo>
                    <a:lnTo>
                      <a:pt x="102" y="48"/>
                    </a:lnTo>
                    <a:lnTo>
                      <a:pt x="70" y="43"/>
                    </a:lnTo>
                    <a:lnTo>
                      <a:pt x="40" y="35"/>
                    </a:lnTo>
                    <a:lnTo>
                      <a:pt x="19" y="24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46280" y="2174760"/>
              <a:ext cx="733320" cy="243000"/>
              <a:chOff x="2546280" y="2174760"/>
              <a:chExt cx="733320" cy="24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  <a:lnTo>
                      <a:pt x="462" y="153"/>
                    </a:lnTo>
                    <a:lnTo>
                      <a:pt x="4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46280" y="2174760"/>
                <a:ext cx="733320" cy="243000"/>
              </a:xfrm>
              <a:custGeom>
                <a:avLst/>
                <a:gdLst/>
                <a:ahLst/>
                <a:rect l="l" t="t" r="r" b="b"/>
                <a:pathLst>
                  <a:path w="462" h="153">
                    <a:moveTo>
                      <a:pt x="462" y="0"/>
                    </a:moveTo>
                    <a:lnTo>
                      <a:pt x="368" y="3"/>
                    </a:lnTo>
                    <a:lnTo>
                      <a:pt x="282" y="11"/>
                    </a:lnTo>
                    <a:lnTo>
                      <a:pt x="204" y="27"/>
                    </a:lnTo>
                    <a:lnTo>
                      <a:pt x="169" y="35"/>
                    </a:lnTo>
                    <a:lnTo>
                      <a:pt x="135" y="46"/>
                    </a:lnTo>
                    <a:lnTo>
                      <a:pt x="105" y="56"/>
                    </a:lnTo>
                    <a:lnTo>
                      <a:pt x="78" y="67"/>
                    </a:lnTo>
                    <a:lnTo>
                      <a:pt x="57" y="81"/>
                    </a:lnTo>
                    <a:lnTo>
                      <a:pt x="38" y="94"/>
                    </a:lnTo>
                    <a:lnTo>
                      <a:pt x="22" y="107"/>
                    </a:lnTo>
                    <a:lnTo>
                      <a:pt x="11" y="121"/>
                    </a:lnTo>
                    <a:lnTo>
                      <a:pt x="3" y="137"/>
                    </a:lnTo>
                    <a:lnTo>
                      <a:pt x="0" y="15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011400" y="2187720"/>
              <a:ext cx="306360" cy="29880"/>
              <a:chOff x="3011400" y="2187720"/>
              <a:chExt cx="306360" cy="298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1400" y="2187720"/>
                <a:ext cx="306360" cy="29880"/>
              </a:xfrm>
              <a:custGeom>
                <a:avLst/>
                <a:gdLst/>
                <a:ahLst/>
                <a:rect l="l" t="t" r="r" b="b"/>
                <a:pathLst>
                  <a:path w="193" h="19">
                    <a:moveTo>
                      <a:pt x="0" y="19"/>
                    </a:moveTo>
                    <a:lnTo>
                      <a:pt x="40" y="19"/>
                    </a:lnTo>
                    <a:lnTo>
                      <a:pt x="75" y="19"/>
                    </a:lnTo>
                    <a:lnTo>
                      <a:pt x="107" y="16"/>
                    </a:lnTo>
                    <a:lnTo>
                      <a:pt x="137" y="14"/>
                    </a:lnTo>
                    <a:lnTo>
                      <a:pt x="161" y="11"/>
                    </a:lnTo>
                    <a:lnTo>
                      <a:pt x="177" y="8"/>
                    </a:lnTo>
                    <a:lnTo>
                      <a:pt x="191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76840" y="2124000"/>
              <a:ext cx="293400" cy="68400"/>
              <a:chOff x="3876840" y="2124000"/>
              <a:chExt cx="293400" cy="684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76840" y="2124000"/>
                <a:ext cx="293400" cy="68400"/>
              </a:xfrm>
              <a:custGeom>
                <a:avLst/>
                <a:gdLst/>
                <a:ahLst/>
                <a:rect l="l" t="t" r="r" b="b"/>
                <a:pathLst>
                  <a:path w="185" h="43">
                    <a:moveTo>
                      <a:pt x="185" y="43"/>
                    </a:moveTo>
                    <a:lnTo>
                      <a:pt x="148" y="43"/>
                    </a:lnTo>
                    <a:lnTo>
                      <a:pt x="113" y="40"/>
                    </a:lnTo>
                    <a:lnTo>
                      <a:pt x="83" y="35"/>
                    </a:lnTo>
                    <a:lnTo>
                      <a:pt x="54" y="29"/>
                    </a:lnTo>
                    <a:lnTo>
                      <a:pt x="32" y="24"/>
                    </a:lnTo>
                    <a:lnTo>
                      <a:pt x="14" y="16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664080" y="2017800"/>
              <a:ext cx="199800" cy="93600"/>
              <a:chOff x="3664080" y="2017800"/>
              <a:chExt cx="199800" cy="9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64080" y="2017800"/>
                <a:ext cx="199800" cy="93600"/>
              </a:xfrm>
              <a:custGeom>
                <a:avLst/>
                <a:gdLst/>
                <a:ahLst/>
                <a:rect l="l" t="t" r="r" b="b"/>
                <a:pathLst>
                  <a:path w="126" h="59">
                    <a:moveTo>
                      <a:pt x="0" y="0"/>
                    </a:moveTo>
                    <a:lnTo>
                      <a:pt x="48" y="5"/>
                    </a:lnTo>
                    <a:lnTo>
                      <a:pt x="70" y="10"/>
                    </a:lnTo>
                    <a:lnTo>
                      <a:pt x="88" y="19"/>
                    </a:lnTo>
                    <a:lnTo>
                      <a:pt x="105" y="27"/>
                    </a:lnTo>
                    <a:lnTo>
                      <a:pt x="115" y="37"/>
                    </a:lnTo>
                    <a:lnTo>
                      <a:pt x="123" y="48"/>
                    </a:lnTo>
                    <a:lnTo>
                      <a:pt x="126" y="5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317760" y="2017800"/>
              <a:ext cx="351000" cy="156960"/>
              <a:chOff x="3317760" y="2017800"/>
              <a:chExt cx="351000" cy="156960"/>
            </a:xfrm>
          </p:grpSpPr>
          <p:sp>
            <p:nvSpPr>
              <p:cNvPr id="360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  <a:lnTo>
                      <a:pt x="221" y="9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17760" y="2017800"/>
                <a:ext cx="351000" cy="156960"/>
              </a:xfrm>
              <a:custGeom>
                <a:avLst/>
                <a:gdLst/>
                <a:ahLst/>
                <a:rect l="l" t="t" r="r" b="b"/>
                <a:pathLst>
                  <a:path w="221" h="99">
                    <a:moveTo>
                      <a:pt x="221" y="0"/>
                    </a:moveTo>
                    <a:lnTo>
                      <a:pt x="178" y="2"/>
                    </a:lnTo>
                    <a:lnTo>
                      <a:pt x="135" y="8"/>
                    </a:lnTo>
                    <a:lnTo>
                      <a:pt x="97" y="16"/>
                    </a:lnTo>
                    <a:lnTo>
                      <a:pt x="65" y="29"/>
                    </a:lnTo>
                    <a:lnTo>
                      <a:pt x="38" y="45"/>
                    </a:lnTo>
                    <a:lnTo>
                      <a:pt x="19" y="61"/>
                    </a:lnTo>
                    <a:lnTo>
                      <a:pt x="6" y="80"/>
                    </a:lnTo>
                    <a:lnTo>
                      <a:pt x="0" y="99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468440" y="2055960"/>
              <a:ext cx="1440" cy="142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468440" y="2387160"/>
              <a:ext cx="109044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468440" y="2387160"/>
              <a:ext cx="344520" cy="1095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812960" y="1936800"/>
              <a:ext cx="576360" cy="450720"/>
              <a:chOff x="1812960" y="1936800"/>
              <a:chExt cx="576360" cy="45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  <a:lnTo>
                      <a:pt x="363" y="284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12960" y="1936800"/>
                <a:ext cx="576360" cy="450720"/>
              </a:xfrm>
              <a:custGeom>
                <a:avLst/>
                <a:gdLst/>
                <a:ahLst/>
                <a:rect l="l" t="t" r="r" b="b"/>
                <a:pathLst>
                  <a:path w="363" h="284">
                    <a:moveTo>
                      <a:pt x="363" y="0"/>
                    </a:moveTo>
                    <a:lnTo>
                      <a:pt x="325" y="2"/>
                    </a:lnTo>
                    <a:lnTo>
                      <a:pt x="290" y="5"/>
                    </a:lnTo>
                    <a:lnTo>
                      <a:pt x="255" y="13"/>
                    </a:lnTo>
                    <a:lnTo>
                      <a:pt x="221" y="21"/>
                    </a:lnTo>
                    <a:lnTo>
                      <a:pt x="159" y="48"/>
                    </a:lnTo>
                    <a:lnTo>
                      <a:pt x="105" y="83"/>
                    </a:lnTo>
                    <a:lnTo>
                      <a:pt x="84" y="104"/>
                    </a:lnTo>
                    <a:lnTo>
                      <a:pt x="62" y="126"/>
                    </a:lnTo>
                    <a:lnTo>
                      <a:pt x="43" y="150"/>
                    </a:lnTo>
                    <a:lnTo>
                      <a:pt x="30" y="174"/>
                    </a:lnTo>
                    <a:lnTo>
                      <a:pt x="16" y="201"/>
                    </a:lnTo>
                    <a:lnTo>
                      <a:pt x="8" y="228"/>
                    </a:lnTo>
                    <a:lnTo>
                      <a:pt x="3" y="255"/>
                    </a:lnTo>
                    <a:lnTo>
                      <a:pt x="0" y="28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384280" y="1936800"/>
              <a:ext cx="376560" cy="131760"/>
              <a:chOff x="2384280" y="1936800"/>
              <a:chExt cx="376560" cy="131760"/>
            </a:xfrm>
          </p:grpSpPr>
          <p:sp>
            <p:nvSpPr>
              <p:cNvPr id="369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84280" y="1936800"/>
                <a:ext cx="376560" cy="131760"/>
              </a:xfrm>
              <a:custGeom>
                <a:avLst/>
                <a:gdLst/>
                <a:ahLst/>
                <a:rect l="l" t="t" r="r" b="b"/>
                <a:pathLst>
                  <a:path w="237" h="83">
                    <a:moveTo>
                      <a:pt x="0" y="0"/>
                    </a:moveTo>
                    <a:lnTo>
                      <a:pt x="49" y="2"/>
                    </a:lnTo>
                    <a:lnTo>
                      <a:pt x="91" y="5"/>
                    </a:lnTo>
                    <a:lnTo>
                      <a:pt x="132" y="13"/>
                    </a:lnTo>
                    <a:lnTo>
                      <a:pt x="167" y="24"/>
                    </a:lnTo>
                    <a:lnTo>
                      <a:pt x="196" y="37"/>
                    </a:lnTo>
                    <a:lnTo>
                      <a:pt x="218" y="51"/>
                    </a:lnTo>
                    <a:lnTo>
                      <a:pt x="231" y="67"/>
                    </a:lnTo>
                    <a:lnTo>
                      <a:pt x="237" y="8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V="1">
              <a:off x="1459080" y="2068560"/>
              <a:ext cx="27795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2760840" y="2081160"/>
              <a:ext cx="374400" cy="136440"/>
              <a:chOff x="2760840" y="2081160"/>
              <a:chExt cx="374400" cy="136440"/>
            </a:xfrm>
          </p:grpSpPr>
          <p:sp>
            <p:nvSpPr>
              <p:cNvPr id="373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236" y="0"/>
                    </a:lnTo>
                    <a:lnTo>
                      <a:pt x="236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0840" y="2081160"/>
                <a:ext cx="374400" cy="136440"/>
              </a:xfrm>
              <a:custGeom>
                <a:avLst/>
                <a:gdLst/>
                <a:ahLst/>
                <a:rect l="l" t="t" r="r" b="b"/>
                <a:pathLst>
                  <a:path w="236" h="86">
                    <a:moveTo>
                      <a:pt x="236" y="86"/>
                    </a:moveTo>
                    <a:lnTo>
                      <a:pt x="187" y="83"/>
                    </a:lnTo>
                    <a:lnTo>
                      <a:pt x="145" y="81"/>
                    </a:lnTo>
                    <a:lnTo>
                      <a:pt x="104" y="72"/>
                    </a:lnTo>
                    <a:lnTo>
                      <a:pt x="69" y="62"/>
                    </a:lnTo>
                    <a:lnTo>
                      <a:pt x="40" y="48"/>
                    </a:lnTo>
                    <a:lnTo>
                      <a:pt x="18" y="35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305160" y="2174760"/>
              <a:ext cx="933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998800" y="2174400"/>
              <a:ext cx="149040" cy="1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112920" y="2212920"/>
              <a:ext cx="9720" cy="3162240"/>
              <a:chOff x="3112920" y="2212920"/>
              <a:chExt cx="9720" cy="3162240"/>
            </a:xfrm>
          </p:grpSpPr>
          <p:sp>
            <p:nvSpPr>
              <p:cNvPr id="378" name=""/>
              <p:cNvSpPr/>
              <p:nvPr/>
            </p:nvSpPr>
            <p:spPr>
              <a:xfrm>
                <a:off x="3112920" y="2212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12920" y="2230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12920" y="2247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12920" y="2263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12920" y="2281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112920" y="2298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12920" y="231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12920" y="2332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12920" y="234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12920" y="2367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12920" y="2384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12920" y="2400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12920" y="2417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12920" y="2435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12920" y="2452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12920" y="2468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12920" y="2486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12920" y="2503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12920" y="252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12920" y="2536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12920" y="2554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12920" y="257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12920" y="2589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12920" y="2604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2920" y="2622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12920" y="2639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2920" y="2655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12920" y="2673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12920" y="269064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12920" y="2708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12920" y="272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12920" y="2741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12920" y="2759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12920" y="277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12920" y="279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12920" y="2809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12920" y="2827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12920" y="284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112920" y="2860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112920" y="2878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12920" y="289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12920" y="2913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12920" y="2928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112920" y="2946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112920" y="2963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12920" y="298116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12920" y="299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12920" y="3014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12920" y="303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12920" y="3048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12920" y="306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12920" y="3083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12920" y="3100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129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2920" y="3151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12920" y="3168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12920" y="3184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2920" y="3201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12920" y="3219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12920" y="3236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129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12920" y="3270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12920" y="3287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12920" y="3305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12920" y="33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12920" y="333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2920" y="3355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12920" y="337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12920" y="3389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12920" y="3406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12920" y="342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2920" y="34401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112920" y="34574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12920" y="3475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12920" y="3492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12920" y="3508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12920" y="3525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12920" y="3543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12920" y="3560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12920" y="3576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12920" y="35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12920" y="3611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2920" y="362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12920" y="3645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12920" y="3662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12920" y="36799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112920" y="3697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12920" y="37130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2920" y="3730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12920" y="3747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12920" y="3765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3781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12920" y="3798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12920" y="3816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12920" y="3832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12920" y="3849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12920" y="3867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12920" y="388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12920" y="3900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12920" y="39178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12920" y="39355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12920" y="3952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12920" y="3968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12920" y="39862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12920" y="4003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12920" y="4021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12920" y="4037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112920" y="405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112920" y="4071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12920" y="4089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2920" y="4105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12920" y="4122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12920" y="4140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12920" y="4157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112920" y="41734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12920" y="4191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112920" y="4208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12920" y="42242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12920" y="4241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12920" y="4259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12920" y="4276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12920" y="4292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112920" y="43099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12920" y="4327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112920" y="4344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12920" y="4361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12920" y="4378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12920" y="4395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12920" y="4413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112920" y="4429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12920" y="4446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112920" y="4464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112920" y="448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12920" y="4497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12920" y="4514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12920" y="45324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112920" y="4549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12920" y="45655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112920" y="458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2920" y="4600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12920" y="4618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12920" y="4633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12920" y="46512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12920" y="4668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12920" y="4684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12920" y="4702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12920" y="4719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12920" y="473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12920" y="4753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12920" y="4770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112920" y="47880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112920" y="4805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112920" y="4821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12920" y="48387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2920" y="4856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12920" y="48736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12920" y="4889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12920" y="490680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2920" y="492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112920" y="4941720"/>
                <a:ext cx="972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12920" y="49579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12920" y="4975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12920" y="49928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112920" y="5010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112920" y="5025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12920" y="50436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12920" y="5060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112920" y="50767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12920" y="509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12920" y="511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12920" y="5129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12920" y="5145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2920" y="5162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2920" y="51800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112920" y="5197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12920" y="5213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12920" y="52308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12920" y="5248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12920" y="526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112920" y="5281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2920" y="529920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112920" y="5316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1292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112920" y="5349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12920" y="53672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68440" y="4361040"/>
              <a:ext cx="68400" cy="1011240"/>
              <a:chOff x="1468440" y="4361040"/>
              <a:chExt cx="68400" cy="1011240"/>
            </a:xfrm>
          </p:grpSpPr>
          <p:sp>
            <p:nvSpPr>
              <p:cNvPr id="565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  <a:lnTo>
                      <a:pt x="43" y="63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68440" y="4361040"/>
                <a:ext cx="68400" cy="1011240"/>
              </a:xfrm>
              <a:custGeom>
                <a:avLst/>
                <a:gdLst/>
                <a:ahLst/>
                <a:rect l="l" t="t" r="r" b="b"/>
                <a:pathLst>
                  <a:path w="43" h="637">
                    <a:moveTo>
                      <a:pt x="43" y="0"/>
                    </a:moveTo>
                    <a:lnTo>
                      <a:pt x="37" y="3"/>
                    </a:lnTo>
                    <a:lnTo>
                      <a:pt x="35" y="14"/>
                    </a:lnTo>
                    <a:lnTo>
                      <a:pt x="29" y="30"/>
                    </a:lnTo>
                    <a:lnTo>
                      <a:pt x="27" y="51"/>
                    </a:lnTo>
                    <a:lnTo>
                      <a:pt x="21" y="78"/>
                    </a:lnTo>
                    <a:lnTo>
                      <a:pt x="19" y="108"/>
                    </a:lnTo>
                    <a:lnTo>
                      <a:pt x="16" y="145"/>
                    </a:lnTo>
                    <a:lnTo>
                      <a:pt x="13" y="186"/>
                    </a:lnTo>
                    <a:lnTo>
                      <a:pt x="11" y="231"/>
                    </a:lnTo>
                    <a:lnTo>
                      <a:pt x="8" y="280"/>
                    </a:lnTo>
                    <a:lnTo>
                      <a:pt x="5" y="333"/>
                    </a:lnTo>
                    <a:lnTo>
                      <a:pt x="2" y="390"/>
                    </a:lnTo>
                    <a:lnTo>
                      <a:pt x="2" y="449"/>
                    </a:lnTo>
                    <a:lnTo>
                      <a:pt x="0" y="508"/>
                    </a:lnTo>
                    <a:lnTo>
                      <a:pt x="0" y="6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549440" y="4373640"/>
              <a:ext cx="76320" cy="68040"/>
              <a:chOff x="1549440" y="4373640"/>
              <a:chExt cx="76320" cy="680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49440" y="43736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48" h="43">
                    <a:moveTo>
                      <a:pt x="0" y="0"/>
                    </a:moveTo>
                    <a:lnTo>
                      <a:pt x="19" y="3"/>
                    </a:lnTo>
                    <a:lnTo>
                      <a:pt x="35" y="14"/>
                    </a:lnTo>
                    <a:lnTo>
                      <a:pt x="45" y="27"/>
                    </a:lnTo>
                    <a:lnTo>
                      <a:pt x="48" y="4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38360" y="4438800"/>
              <a:ext cx="763560" cy="9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130560" y="5334120"/>
              <a:ext cx="174600" cy="38160"/>
              <a:chOff x="3130560" y="5334120"/>
              <a:chExt cx="174600" cy="38160"/>
            </a:xfrm>
          </p:grpSpPr>
          <p:sp>
            <p:nvSpPr>
              <p:cNvPr id="572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110" y="2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13056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110" y="0"/>
                    </a:moveTo>
                    <a:lnTo>
                      <a:pt x="67" y="2"/>
                    </a:lnTo>
                    <a:lnTo>
                      <a:pt x="48" y="5"/>
                    </a:lnTo>
                    <a:lnTo>
                      <a:pt x="32" y="8"/>
                    </a:lnTo>
                    <a:lnTo>
                      <a:pt x="19" y="10"/>
                    </a:lnTo>
                    <a:lnTo>
                      <a:pt x="8" y="16"/>
                    </a:lnTo>
                    <a:lnTo>
                      <a:pt x="3" y="18"/>
                    </a:lnTo>
                    <a:lnTo>
                      <a:pt x="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330720" y="5334120"/>
              <a:ext cx="174600" cy="38160"/>
              <a:chOff x="3330720" y="5334120"/>
              <a:chExt cx="174600" cy="38160"/>
            </a:xfrm>
          </p:grpSpPr>
          <p:sp>
            <p:nvSpPr>
              <p:cNvPr id="575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30720" y="5334120"/>
                <a:ext cx="174600" cy="38160"/>
              </a:xfrm>
              <a:custGeom>
                <a:avLst/>
                <a:gdLst/>
                <a:ahLst/>
                <a:rect l="l" t="t" r="r" b="b"/>
                <a:pathLst>
                  <a:path w="110" h="24">
                    <a:moveTo>
                      <a:pt x="0" y="0"/>
                    </a:moveTo>
                    <a:lnTo>
                      <a:pt x="43" y="2"/>
                    </a:lnTo>
                    <a:lnTo>
                      <a:pt x="62" y="5"/>
                    </a:lnTo>
                    <a:lnTo>
                      <a:pt x="78" y="8"/>
                    </a:lnTo>
                    <a:lnTo>
                      <a:pt x="92" y="10"/>
                    </a:lnTo>
                    <a:lnTo>
                      <a:pt x="102" y="16"/>
                    </a:lnTo>
                    <a:lnTo>
                      <a:pt x="108" y="18"/>
                    </a:lnTo>
                    <a:lnTo>
                      <a:pt x="110" y="2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532320" y="5397480"/>
              <a:ext cx="174600" cy="42840"/>
              <a:chOff x="3532320" y="5397480"/>
              <a:chExt cx="174600" cy="42840"/>
            </a:xfrm>
          </p:grpSpPr>
          <p:sp>
            <p:nvSpPr>
              <p:cNvPr id="578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2320" y="5397480"/>
                <a:ext cx="174600" cy="42840"/>
              </a:xfrm>
              <a:custGeom>
                <a:avLst/>
                <a:gdLst/>
                <a:ahLst/>
                <a:rect l="l" t="t" r="r" b="b"/>
                <a:pathLst>
                  <a:path w="110" h="27">
                    <a:moveTo>
                      <a:pt x="110" y="27"/>
                    </a:moveTo>
                    <a:lnTo>
                      <a:pt x="67" y="24"/>
                    </a:lnTo>
                    <a:lnTo>
                      <a:pt x="48" y="21"/>
                    </a:lnTo>
                    <a:lnTo>
                      <a:pt x="32" y="19"/>
                    </a:lnTo>
                    <a:lnTo>
                      <a:pt x="18" y="16"/>
                    </a:lnTo>
                    <a:lnTo>
                      <a:pt x="8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494000" y="4575240"/>
              <a:ext cx="68040" cy="106200"/>
              <a:chOff x="1494000" y="4575240"/>
              <a:chExt cx="68040" cy="106200"/>
            </a:xfrm>
          </p:grpSpPr>
          <p:sp>
            <p:nvSpPr>
              <p:cNvPr id="581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43" y="6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94000" y="4575240"/>
                <a:ext cx="68040" cy="10620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0"/>
                    </a:moveTo>
                    <a:lnTo>
                      <a:pt x="35" y="2"/>
                    </a:lnTo>
                    <a:lnTo>
                      <a:pt x="27" y="5"/>
                    </a:lnTo>
                    <a:lnTo>
                      <a:pt x="13" y="18"/>
                    </a:lnTo>
                    <a:lnTo>
                      <a:pt x="3" y="40"/>
                    </a:lnTo>
                    <a:lnTo>
                      <a:pt x="0" y="6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574640" y="4575240"/>
              <a:ext cx="1730520" cy="797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7760" y="5359320"/>
              <a:ext cx="268560" cy="1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434280" y="4603680"/>
              <a:ext cx="738000" cy="149400"/>
              <a:chOff x="6434280" y="4603680"/>
              <a:chExt cx="738000" cy="149400"/>
            </a:xfrm>
          </p:grpSpPr>
          <p:sp>
            <p:nvSpPr>
              <p:cNvPr id="586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462" y="94"/>
                    </a:lnTo>
                    <a:lnTo>
                      <a:pt x="4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34280" y="4603680"/>
                <a:ext cx="738000" cy="149400"/>
              </a:xfrm>
              <a:custGeom>
                <a:avLst/>
                <a:gdLst/>
                <a:ahLst/>
                <a:rect l="l" t="t" r="r" b="b"/>
                <a:pathLst>
                  <a:path w="465" h="94">
                    <a:moveTo>
                      <a:pt x="465" y="0"/>
                    </a:moveTo>
                    <a:lnTo>
                      <a:pt x="371" y="3"/>
                    </a:lnTo>
                    <a:lnTo>
                      <a:pt x="285" y="9"/>
                    </a:lnTo>
                    <a:lnTo>
                      <a:pt x="205" y="17"/>
                    </a:lnTo>
                    <a:lnTo>
                      <a:pt x="170" y="22"/>
                    </a:lnTo>
                    <a:lnTo>
                      <a:pt x="137" y="27"/>
                    </a:lnTo>
                    <a:lnTo>
                      <a:pt x="105" y="35"/>
                    </a:lnTo>
                    <a:lnTo>
                      <a:pt x="78" y="43"/>
                    </a:lnTo>
                    <a:lnTo>
                      <a:pt x="57" y="49"/>
                    </a:lnTo>
                    <a:lnTo>
                      <a:pt x="38" y="60"/>
                    </a:lnTo>
                    <a:lnTo>
                      <a:pt x="22" y="68"/>
                    </a:lnTo>
                    <a:lnTo>
                      <a:pt x="11" y="76"/>
                    </a:lnTo>
                    <a:lnTo>
                      <a:pt x="3" y="86"/>
                    </a:lnTo>
                    <a:lnTo>
                      <a:pt x="0" y="9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6904080" y="4613400"/>
              <a:ext cx="306360" cy="17280"/>
              <a:chOff x="6904080" y="4613400"/>
              <a:chExt cx="306360" cy="17280"/>
            </a:xfrm>
          </p:grpSpPr>
          <p:sp>
            <p:nvSpPr>
              <p:cNvPr id="589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04080" y="4613400"/>
                <a:ext cx="306360" cy="17280"/>
              </a:xfrm>
              <a:custGeom>
                <a:avLst/>
                <a:gdLst/>
                <a:ahLst/>
                <a:rect l="l" t="t" r="r" b="b"/>
                <a:pathLst>
                  <a:path w="193" h="11">
                    <a:moveTo>
                      <a:pt x="0" y="11"/>
                    </a:moveTo>
                    <a:lnTo>
                      <a:pt x="40" y="11"/>
                    </a:lnTo>
                    <a:lnTo>
                      <a:pt x="75" y="11"/>
                    </a:lnTo>
                    <a:lnTo>
                      <a:pt x="107" y="8"/>
                    </a:lnTo>
                    <a:lnTo>
                      <a:pt x="137" y="8"/>
                    </a:lnTo>
                    <a:lnTo>
                      <a:pt x="161" y="5"/>
                    </a:lnTo>
                    <a:lnTo>
                      <a:pt x="177" y="5"/>
                    </a:lnTo>
                    <a:lnTo>
                      <a:pt x="190" y="3"/>
                    </a:lnTo>
                    <a:lnTo>
                      <a:pt x="19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7769160" y="4570560"/>
              <a:ext cx="293760" cy="42840"/>
              <a:chOff x="7769160" y="4570560"/>
              <a:chExt cx="293760" cy="42840"/>
            </a:xfrm>
          </p:grpSpPr>
          <p:sp>
            <p:nvSpPr>
              <p:cNvPr id="592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185" y="0"/>
                    </a:lnTo>
                    <a:lnTo>
                      <a:pt x="18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69160" y="4570560"/>
                <a:ext cx="293760" cy="42840"/>
              </a:xfrm>
              <a:custGeom>
                <a:avLst/>
                <a:gdLst/>
                <a:ahLst/>
                <a:rect l="l" t="t" r="r" b="b"/>
                <a:pathLst>
                  <a:path w="185" h="27">
                    <a:moveTo>
                      <a:pt x="185" y="27"/>
                    </a:moveTo>
                    <a:lnTo>
                      <a:pt x="148" y="27"/>
                    </a:lnTo>
                    <a:lnTo>
                      <a:pt x="113" y="24"/>
                    </a:lnTo>
                    <a:lnTo>
                      <a:pt x="83" y="21"/>
                    </a:lnTo>
                    <a:lnTo>
                      <a:pt x="54" y="19"/>
                    </a:lnTo>
                    <a:lnTo>
                      <a:pt x="32" y="16"/>
                    </a:lnTo>
                    <a:lnTo>
                      <a:pt x="13" y="11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0" y="4506840"/>
              <a:ext cx="200160" cy="58680"/>
              <a:chOff x="7556400" y="4506840"/>
              <a:chExt cx="200160" cy="58680"/>
            </a:xfrm>
          </p:grpSpPr>
          <p:sp>
            <p:nvSpPr>
              <p:cNvPr id="595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56400" y="4506840"/>
                <a:ext cx="200160" cy="58680"/>
              </a:xfrm>
              <a:custGeom>
                <a:avLst/>
                <a:gdLst/>
                <a:ahLst/>
                <a:rect l="l" t="t" r="r" b="b"/>
                <a:pathLst>
                  <a:path w="126" h="37">
                    <a:moveTo>
                      <a:pt x="0" y="0"/>
                    </a:moveTo>
                    <a:lnTo>
                      <a:pt x="48" y="2"/>
                    </a:lnTo>
                    <a:lnTo>
                      <a:pt x="70" y="5"/>
                    </a:lnTo>
                    <a:lnTo>
                      <a:pt x="88" y="10"/>
                    </a:lnTo>
                    <a:lnTo>
                      <a:pt x="104" y="16"/>
                    </a:lnTo>
                    <a:lnTo>
                      <a:pt x="115" y="21"/>
                    </a:lnTo>
                    <a:lnTo>
                      <a:pt x="123" y="29"/>
                    </a:lnTo>
                    <a:lnTo>
                      <a:pt x="126" y="3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7210440" y="4506840"/>
              <a:ext cx="345960" cy="101520"/>
              <a:chOff x="7210440" y="4506840"/>
              <a:chExt cx="345960" cy="101520"/>
            </a:xfrm>
          </p:grpSpPr>
          <p:sp>
            <p:nvSpPr>
              <p:cNvPr id="598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  <a:lnTo>
                      <a:pt x="218" y="6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10440" y="4506840"/>
                <a:ext cx="345960" cy="101520"/>
              </a:xfrm>
              <a:custGeom>
                <a:avLst/>
                <a:gdLst/>
                <a:ahLst/>
                <a:rect l="l" t="t" r="r" b="b"/>
                <a:pathLst>
                  <a:path w="218" h="64">
                    <a:moveTo>
                      <a:pt x="218" y="0"/>
                    </a:moveTo>
                    <a:lnTo>
                      <a:pt x="175" y="2"/>
                    </a:lnTo>
                    <a:lnTo>
                      <a:pt x="132" y="5"/>
                    </a:lnTo>
                    <a:lnTo>
                      <a:pt x="97" y="10"/>
                    </a:lnTo>
                    <a:lnTo>
                      <a:pt x="65" y="18"/>
                    </a:lnTo>
                    <a:lnTo>
                      <a:pt x="38" y="29"/>
                    </a:lnTo>
                    <a:lnTo>
                      <a:pt x="16" y="40"/>
                    </a:lnTo>
                    <a:lnTo>
                      <a:pt x="6" y="51"/>
                    </a:lnTo>
                    <a:lnTo>
                      <a:pt x="0" y="6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5356080" y="4532400"/>
              <a:ext cx="1800" cy="88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56080" y="4736880"/>
              <a:ext cx="109548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56080" y="4736880"/>
              <a:ext cx="349560" cy="677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5705640" y="4459320"/>
              <a:ext cx="571320" cy="277920"/>
              <a:chOff x="5705640" y="4459320"/>
              <a:chExt cx="571320" cy="277920"/>
            </a:xfrm>
          </p:grpSpPr>
          <p:sp>
            <p:nvSpPr>
              <p:cNvPr id="604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  <a:lnTo>
                      <a:pt x="360" y="175"/>
                    </a:lnTo>
                    <a:lnTo>
                      <a:pt x="3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05640" y="4459320"/>
                <a:ext cx="571320" cy="277920"/>
              </a:xfrm>
              <a:custGeom>
                <a:avLst/>
                <a:gdLst/>
                <a:ahLst/>
                <a:rect l="l" t="t" r="r" b="b"/>
                <a:pathLst>
                  <a:path w="360" h="175">
                    <a:moveTo>
                      <a:pt x="360" y="0"/>
                    </a:moveTo>
                    <a:lnTo>
                      <a:pt x="288" y="3"/>
                    </a:lnTo>
                    <a:lnTo>
                      <a:pt x="220" y="14"/>
                    </a:lnTo>
                    <a:lnTo>
                      <a:pt x="159" y="30"/>
                    </a:lnTo>
                    <a:lnTo>
                      <a:pt x="105" y="51"/>
                    </a:lnTo>
                    <a:lnTo>
                      <a:pt x="83" y="65"/>
                    </a:lnTo>
                    <a:lnTo>
                      <a:pt x="62" y="78"/>
                    </a:lnTo>
                    <a:lnTo>
                      <a:pt x="43" y="91"/>
                    </a:lnTo>
                    <a:lnTo>
                      <a:pt x="30" y="108"/>
                    </a:lnTo>
                    <a:lnTo>
                      <a:pt x="16" y="124"/>
                    </a:lnTo>
                    <a:lnTo>
                      <a:pt x="8" y="140"/>
                    </a:lnTo>
                    <a:lnTo>
                      <a:pt x="3" y="156"/>
                    </a:lnTo>
                    <a:lnTo>
                      <a:pt x="0" y="17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276960" y="4459320"/>
              <a:ext cx="374760" cy="81000"/>
              <a:chOff x="6276960" y="4459320"/>
              <a:chExt cx="374760" cy="8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6960" y="4459320"/>
                <a:ext cx="374760" cy="81000"/>
              </a:xfrm>
              <a:custGeom>
                <a:avLst/>
                <a:gdLst/>
                <a:ahLst/>
                <a:rect l="l" t="t" r="r" b="b"/>
                <a:pathLst>
                  <a:path w="236" h="51">
                    <a:moveTo>
                      <a:pt x="0" y="0"/>
                    </a:moveTo>
                    <a:lnTo>
                      <a:pt x="48" y="0"/>
                    </a:lnTo>
                    <a:lnTo>
                      <a:pt x="91" y="3"/>
                    </a:lnTo>
                    <a:lnTo>
                      <a:pt x="132" y="8"/>
                    </a:lnTo>
                    <a:lnTo>
                      <a:pt x="167" y="14"/>
                    </a:lnTo>
                    <a:lnTo>
                      <a:pt x="196" y="22"/>
                    </a:lnTo>
                    <a:lnTo>
                      <a:pt x="218" y="30"/>
                    </a:lnTo>
                    <a:lnTo>
                      <a:pt x="231" y="40"/>
                    </a:lnTo>
                    <a:lnTo>
                      <a:pt x="236" y="5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5351400" y="4539960"/>
              <a:ext cx="27766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97840" y="4603680"/>
              <a:ext cx="9302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891480" y="4595760"/>
              <a:ext cx="144360" cy="7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369040" y="1309680"/>
              <a:ext cx="2174760" cy="2185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342200" y="1668600"/>
              <a:ext cx="426960" cy="387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800" y="1390680"/>
              <a:ext cx="1800" cy="571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419960" y="1974960"/>
              <a:ext cx="88920" cy="280800"/>
              <a:chOff x="7419960" y="1974960"/>
              <a:chExt cx="88920" cy="28080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2800" y="1974960"/>
                <a:ext cx="1800" cy="28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9960" y="19749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27" y="0"/>
                    </a:lnTo>
                    <a:lnTo>
                      <a:pt x="0" y="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415280" y="1096560"/>
              <a:ext cx="88920" cy="281520"/>
              <a:chOff x="7415280" y="1096560"/>
              <a:chExt cx="88920" cy="281520"/>
            </a:xfrm>
          </p:grpSpPr>
          <p:sp>
            <p:nvSpPr>
              <p:cNvPr id="619" name=""/>
              <p:cNvSpPr/>
              <p:nvPr/>
            </p:nvSpPr>
            <p:spPr>
              <a:xfrm flipV="1">
                <a:off x="7462800" y="1096560"/>
                <a:ext cx="1800" cy="281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15280" y="128916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30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940360" y="2882880"/>
              <a:ext cx="587520" cy="485640"/>
              <a:chOff x="5940360" y="2882880"/>
              <a:chExt cx="587520" cy="48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5940360" y="3359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960" y="33465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65920" y="3338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78520" y="33256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91120" y="331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004080" y="3305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21360" y="3295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33960" y="32828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046920" y="3274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59520" y="3262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72120" y="32529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084720" y="3240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97680" y="322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10280" y="3219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2880" y="32068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35840" y="3197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48440" y="3184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628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78680" y="31640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91280" y="31561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0388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16480" y="31338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30880" y="3121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3480" y="3108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5644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9040" y="3087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81640" y="3078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94600" y="3065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72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19800" y="304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37440" y="3035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350040" y="30225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362640" y="3014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75240" y="30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388200" y="2989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400800" y="29811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413400" y="296712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426360" y="2959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438960" y="294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451560" y="2938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464160" y="2925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481800" y="29163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494400" y="2903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507000" y="2895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19960" y="2882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730840" y="3214800"/>
              <a:ext cx="133560" cy="106200"/>
              <a:chOff x="5730840" y="3214800"/>
              <a:chExt cx="133560" cy="106200"/>
            </a:xfrm>
          </p:grpSpPr>
          <p:sp>
            <p:nvSpPr>
              <p:cNvPr id="668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30840" y="3214800"/>
                <a:ext cx="133560" cy="10620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0" y="0"/>
                    </a:moveTo>
                    <a:lnTo>
                      <a:pt x="16" y="3"/>
                    </a:lnTo>
                    <a:lnTo>
                      <a:pt x="33" y="6"/>
                    </a:lnTo>
                    <a:lnTo>
                      <a:pt x="59" y="19"/>
                    </a:lnTo>
                    <a:lnTo>
                      <a:pt x="70" y="30"/>
                    </a:lnTo>
                    <a:lnTo>
                      <a:pt x="78" y="40"/>
                    </a:lnTo>
                    <a:lnTo>
                      <a:pt x="81" y="54"/>
                    </a:lnTo>
                    <a:lnTo>
                      <a:pt x="84" y="6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flipV="1">
              <a:off x="6434280" y="2801880"/>
              <a:ext cx="2826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664320" y="2614680"/>
              <a:ext cx="52560" cy="187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29480" y="2801880"/>
              <a:ext cx="280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681200" y="2614680"/>
              <a:ext cx="212760" cy="217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93960" y="2614680"/>
              <a:ext cx="174600" cy="268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3960" y="2614680"/>
              <a:ext cx="2952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141800" y="2187720"/>
              <a:ext cx="88920" cy="174600"/>
              <a:chOff x="4141800" y="2187720"/>
              <a:chExt cx="88920" cy="174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183200" y="218772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41800" y="218772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26" y="0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4137120" y="1881000"/>
              <a:ext cx="88920" cy="174960"/>
              <a:chOff x="4137120" y="1881000"/>
              <a:chExt cx="88920" cy="17496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4183200" y="1881000"/>
                <a:ext cx="1440" cy="174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37120" y="196704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0"/>
                    </a:moveTo>
                    <a:lnTo>
                      <a:pt x="29" y="56"/>
                    </a:lnTo>
                    <a:lnTo>
                      <a:pt x="56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10360" y="11174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4680" y="1220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2440" y="13399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96040" y="144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15640" y="1092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9600" y="1195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7720" y="13143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1320" y="1415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17080" y="227808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10680" y="2379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2640" y="1770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76600" y="1871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48720" y="17575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42680" y="18590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6370560" y="2093400"/>
              <a:ext cx="144720" cy="217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114960" y="2093760"/>
              <a:ext cx="2556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92080" y="3589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61600" y="3576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78200" y="3968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1680" y="4071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70280" y="419112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91960" y="429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85520" y="39560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09360" y="4059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7600" y="417816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1080" y="4280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54080" y="446400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7200" y="4565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03120" y="40766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26960" y="4178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680" y="536724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60360" y="5468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49240" y="5329080"/>
              <a:ext cx="122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2360" y="54309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53000" y="447660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31520" y="201312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27640" y="21146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7768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29880" y="2013120"/>
              <a:ext cx="13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60200" y="20304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00480" y="2090520"/>
              <a:ext cx="0" cy="3290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01600" y="3463920"/>
              <a:ext cx="30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101600" y="11124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076400" y="397152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465200" y="3963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02200" y="398736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010120" y="1125000"/>
              <a:ext cx="0" cy="23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35680" y="3476520"/>
              <a:ext cx="34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2720" y="5394240"/>
              <a:ext cx="32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022720" y="455292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259680" y="3141360"/>
              <a:ext cx="0" cy="129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6400" y="5407200"/>
              <a:ext cx="32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80880" y="1447920"/>
                <a:ext cx="1828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5029200" y="1371600"/>
                <a:ext cx="18669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6" name=""/>
          <p:cNvSpPr/>
          <p:nvPr/>
        </p:nvSpPr>
        <p:spPr>
          <a:xfrm>
            <a:off x="1746360" y="3049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bez filtru DP - pętla pierwsz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4280" y="121932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08120" y="2838600"/>
            <a:ext cx="5204160" cy="3381840"/>
            <a:chOff x="708120" y="2838600"/>
            <a:chExt cx="5204160" cy="3381840"/>
          </a:xfrm>
        </p:grpSpPr>
        <p:sp>
          <p:nvSpPr>
            <p:cNvPr id="740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  <a:lnTo>
                    <a:pt x="0" y="4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4080" y="3671640"/>
              <a:ext cx="2851200" cy="663120"/>
            </a:xfrm>
            <a:custGeom>
              <a:avLst/>
              <a:gdLst/>
              <a:ahLst/>
              <a:rect l="l" t="t" r="r" b="b"/>
              <a:pathLst>
                <a:path w="1796" h="418">
                  <a:moveTo>
                    <a:pt x="0" y="0"/>
                  </a:moveTo>
                  <a:lnTo>
                    <a:pt x="183" y="2"/>
                  </a:lnTo>
                  <a:lnTo>
                    <a:pt x="361" y="9"/>
                  </a:lnTo>
                  <a:lnTo>
                    <a:pt x="535" y="19"/>
                  </a:lnTo>
                  <a:lnTo>
                    <a:pt x="699" y="33"/>
                  </a:lnTo>
                  <a:lnTo>
                    <a:pt x="855" y="50"/>
                  </a:lnTo>
                  <a:lnTo>
                    <a:pt x="931" y="61"/>
                  </a:lnTo>
                  <a:lnTo>
                    <a:pt x="1002" y="71"/>
                  </a:lnTo>
                  <a:lnTo>
                    <a:pt x="1074" y="83"/>
                  </a:lnTo>
                  <a:lnTo>
                    <a:pt x="1143" y="95"/>
                  </a:lnTo>
                  <a:lnTo>
                    <a:pt x="1207" y="109"/>
                  </a:lnTo>
                  <a:lnTo>
                    <a:pt x="1268" y="123"/>
                  </a:lnTo>
                  <a:lnTo>
                    <a:pt x="1328" y="137"/>
                  </a:lnTo>
                  <a:lnTo>
                    <a:pt x="1385" y="152"/>
                  </a:lnTo>
                  <a:lnTo>
                    <a:pt x="1439" y="168"/>
                  </a:lnTo>
                  <a:lnTo>
                    <a:pt x="1489" y="185"/>
                  </a:lnTo>
                  <a:lnTo>
                    <a:pt x="1534" y="202"/>
                  </a:lnTo>
                  <a:lnTo>
                    <a:pt x="1579" y="218"/>
                  </a:lnTo>
                  <a:lnTo>
                    <a:pt x="1617" y="237"/>
                  </a:lnTo>
                  <a:lnTo>
                    <a:pt x="1655" y="256"/>
                  </a:lnTo>
                  <a:lnTo>
                    <a:pt x="1686" y="275"/>
                  </a:lnTo>
                  <a:lnTo>
                    <a:pt x="1715" y="294"/>
                  </a:lnTo>
                  <a:lnTo>
                    <a:pt x="1739" y="313"/>
                  </a:lnTo>
                  <a:lnTo>
                    <a:pt x="1760" y="335"/>
                  </a:lnTo>
                  <a:lnTo>
                    <a:pt x="1774" y="354"/>
                  </a:lnTo>
                  <a:lnTo>
                    <a:pt x="1786" y="375"/>
                  </a:lnTo>
                  <a:lnTo>
                    <a:pt x="1793" y="396"/>
                  </a:lnTo>
                  <a:lnTo>
                    <a:pt x="1796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8116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91168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89520" y="3019320"/>
              <a:ext cx="32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4360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72120" y="3030480"/>
              <a:ext cx="32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038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1177920" y="5690520"/>
              <a:ext cx="46400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0072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67080" y="3022560"/>
              <a:ext cx="180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36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73320" y="3030480"/>
              <a:ext cx="180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34040" y="3019320"/>
              <a:ext cx="180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04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65960" y="3019320"/>
              <a:ext cx="1440" cy="2676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9304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21560" y="3022560"/>
              <a:ext cx="468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23080" y="3022560"/>
              <a:ext cx="14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4760" y="3022560"/>
              <a:ext cx="5040" cy="2675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908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91360" y="3030480"/>
              <a:ext cx="1440" cy="267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177920" y="3016080"/>
              <a:ext cx="46400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1177920" y="3666960"/>
              <a:ext cx="464004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1180800" y="4666680"/>
              <a:ext cx="462924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02200" y="4203360"/>
              <a:ext cx="1708200" cy="1461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80240" y="4275000"/>
              <a:ext cx="98280" cy="1425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7320" y="5759280"/>
              <a:ext cx="20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70400" y="5759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47040" y="57592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36640" y="4576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06840" y="459072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47800" y="5529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17640" y="55450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96840" y="36306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9000" y="3303360"/>
              <a:ext cx="320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8120" y="3085920"/>
              <a:ext cx="180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5600" y="3085920"/>
              <a:ext cx="1440" cy="43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040" y="3078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200" y="330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8080" y="307800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9240" y="330984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61560" y="3178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69840" y="34081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54760" y="5981400"/>
              <a:ext cx="231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73120" y="5733720"/>
              <a:ext cx="13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86440" y="600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1080" y="283860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5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>
            <a:off x="4876560" y="2362320"/>
            <a:ext cx="685800" cy="6858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6640" y="619452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ystyki amplitudowo-częstotliwościowe pętli I rzę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99640" y="2575080"/>
            <a:ext cx="35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=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wzmocnienie w pętli [1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60920" y="5419800"/>
            <a:ext cx="20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pulsacja zmian fa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gnału wejściow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4368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800600" y="2666880"/>
                <a:ext cx="3848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04920" y="26668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2817360" y="3049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drugiego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432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1244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= filtr I rzę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9520" y="4648320"/>
            <a:ext cx="780696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z filtrem I rzędu przekształca się w pętlę drugiego rzę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drugiego rzędu może być niestabil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444320" y="304920"/>
            <a:ext cx="60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e filtry I rzędu stosowane w pętlach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57913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filtr dolnoprzepustowy RC; b) filtr proporcjonalno-calkujący; c) filtr aktywny proporcjonalno-całkują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0520" y="847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880" y="22161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520" y="4132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163520" y="1236600"/>
            <a:ext cx="4971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76320" y="1311120"/>
            <a:ext cx="2030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49520" y="1311120"/>
            <a:ext cx="16700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66560" y="8841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30240" y="1287360"/>
            <a:ext cx="71640" cy="572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763640" y="2795760"/>
            <a:ext cx="189000" cy="41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59040" y="2633760"/>
            <a:ext cx="144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59040" y="3200400"/>
            <a:ext cx="1440" cy="203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099880" y="2921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44240" y="3014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14320" y="157176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714320" y="1673280"/>
            <a:ext cx="331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1320840"/>
            <a:ext cx="180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79560" y="1687680"/>
            <a:ext cx="180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27320" y="15382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66760" y="4986360"/>
            <a:ext cx="1800" cy="5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77920" y="4976640"/>
            <a:ext cx="65088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71880" y="5116680"/>
            <a:ext cx="144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22560" y="515304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879560" y="5153040"/>
            <a:ext cx="193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79560" y="5389560"/>
            <a:ext cx="1936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62280" y="524520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28680" y="5389560"/>
            <a:ext cx="104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084400" y="5245200"/>
            <a:ext cx="650880" cy="27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814400" y="2592360"/>
            <a:ext cx="71640" cy="6048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4920" y="1287360"/>
            <a:ext cx="7632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98560" y="1287360"/>
            <a:ext cx="77760" cy="572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97440" y="4680000"/>
            <a:ext cx="759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03240" y="1955880"/>
            <a:ext cx="187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79360" y="254160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92160" y="261936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65360" y="2619360"/>
            <a:ext cx="1257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5680" y="21877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8600" y="2281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698480" y="363060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698480" y="3733920"/>
            <a:ext cx="330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63720" y="3376440"/>
            <a:ext cx="144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63720" y="3746520"/>
            <a:ext cx="1440" cy="260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7320" y="36133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85960" y="399744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0240" y="4680000"/>
            <a:ext cx="7164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6056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32040" y="2592360"/>
            <a:ext cx="77760" cy="6048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7920" y="4633920"/>
            <a:ext cx="49716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90720" y="4707000"/>
            <a:ext cx="204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63920" y="4707000"/>
            <a:ext cx="24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4424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8716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4633920"/>
            <a:ext cx="490680" cy="15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92160" y="4707000"/>
            <a:ext cx="209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70040" y="4707000"/>
            <a:ext cx="237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45680" y="42768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8600" y="4368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2576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137040" y="4573440"/>
            <a:ext cx="1440" cy="27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6120" y="4711680"/>
            <a:ext cx="762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695680" y="4711680"/>
            <a:ext cx="425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833560" y="4822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85960" y="5722920"/>
            <a:ext cx="187200" cy="4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68400" y="4694040"/>
            <a:ext cx="6480" cy="45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560760" y="4730760"/>
            <a:ext cx="648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868400" y="5413320"/>
            <a:ext cx="6480" cy="31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32040" y="4680000"/>
            <a:ext cx="77760" cy="601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680000"/>
            <a:ext cx="76320" cy="601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79760" y="125424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97400" y="2508120"/>
                <a:ext cx="1773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611600" y="4230720"/>
                <a:ext cx="1497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99880" y="776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yczny błąd fazy, szybkość narastania błędu fazy oraz pasmo szumowe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185760" y="1347840"/>
            <a:ext cx="8769240" cy="4281480"/>
            <a:chOff x="185760" y="1347840"/>
            <a:chExt cx="8769240" cy="4281480"/>
          </a:xfrm>
        </p:grpSpPr>
        <p:sp>
          <p:nvSpPr>
            <p:cNvPr id="873" name=""/>
            <p:cNvSpPr/>
            <p:nvPr/>
          </p:nvSpPr>
          <p:spPr>
            <a:xfrm>
              <a:off x="588240" y="13986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06400" y="13986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19520" y="1398600"/>
              <a:ext cx="73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łąd faz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79320" y="1398600"/>
              <a:ext cx="153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smo szumo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" y="137628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8600" y="137628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8600" y="137628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1620360" y="1666800"/>
              <a:ext cx="1105920" cy="271800"/>
              <a:chOff x="1620360" y="1666800"/>
              <a:chExt cx="1105920" cy="27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16203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09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82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9308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15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0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2504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614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4192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35800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219400" y="1666800"/>
                <a:ext cx="145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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44548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288960" y="1666800"/>
              <a:ext cx="1274400" cy="271800"/>
              <a:chOff x="3288960" y="1666800"/>
              <a:chExt cx="1274400" cy="271800"/>
            </a:xfrm>
          </p:grpSpPr>
          <p:sp>
            <p:nvSpPr>
              <p:cNvPr id="897" name=""/>
              <p:cNvSpPr/>
              <p:nvPr/>
            </p:nvSpPr>
            <p:spPr>
              <a:xfrm>
                <a:off x="3288960" y="16668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007880" y="166680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09560" y="1785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55212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3640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30160" y="16876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48408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2052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617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498560" y="16876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11960" y="166680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194720" y="1666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892320" y="166680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282200" y="16876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944600" y="1692360"/>
              <a:ext cx="1453680" cy="282600"/>
              <a:chOff x="4944600" y="1692360"/>
              <a:chExt cx="1453680" cy="282600"/>
            </a:xfrm>
          </p:grpSpPr>
          <p:sp>
            <p:nvSpPr>
              <p:cNvPr id="912" name=""/>
              <p:cNvSpPr/>
              <p:nvPr/>
            </p:nvSpPr>
            <p:spPr>
              <a:xfrm>
                <a:off x="4944600" y="1704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74812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63760" y="18223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20632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5540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65080" y="17272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382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27472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32560" y="1727280"/>
                <a:ext cx="4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9704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333480" y="172728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6160" y="170496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29640" y="170496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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54112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7144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117480" y="1727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40000" y="16923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228600" y="16556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8600" y="16556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1655640"/>
              <a:ext cx="144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2200" y="20098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1493640" y="1998720"/>
              <a:ext cx="488160" cy="271800"/>
              <a:chOff x="1493640" y="1998720"/>
              <a:chExt cx="488160" cy="271800"/>
            </a:xfrm>
          </p:grpSpPr>
          <p:sp>
            <p:nvSpPr>
              <p:cNvPr id="934" name=""/>
              <p:cNvSpPr/>
              <p:nvPr/>
            </p:nvSpPr>
            <p:spPr>
              <a:xfrm>
                <a:off x="14936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6178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092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9170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744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292480" y="2013120"/>
              <a:ext cx="664200" cy="467280"/>
              <a:chOff x="2292480" y="2013120"/>
              <a:chExt cx="664200" cy="467280"/>
            </a:xfrm>
          </p:grpSpPr>
          <p:sp>
            <p:nvSpPr>
              <p:cNvPr id="940" name=""/>
              <p:cNvSpPr/>
              <p:nvPr/>
            </p:nvSpPr>
            <p:spPr>
              <a:xfrm>
                <a:off x="2292480" y="2239920"/>
                <a:ext cx="176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2668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30400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1144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49372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982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9656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75976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241440" y="1998720"/>
              <a:ext cx="488160" cy="271800"/>
              <a:chOff x="3241440" y="1998720"/>
              <a:chExt cx="488160" cy="271800"/>
            </a:xfrm>
          </p:grpSpPr>
          <p:sp>
            <p:nvSpPr>
              <p:cNvPr id="949" name=""/>
              <p:cNvSpPr/>
              <p:nvPr/>
            </p:nvSpPr>
            <p:spPr>
              <a:xfrm>
                <a:off x="32414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656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4570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648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2368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041720" y="2013120"/>
              <a:ext cx="664200" cy="467280"/>
              <a:chOff x="4041720" y="2013120"/>
              <a:chExt cx="664200" cy="467280"/>
            </a:xfrm>
          </p:grpSpPr>
          <p:sp>
            <p:nvSpPr>
              <p:cNvPr id="955" name=""/>
              <p:cNvSpPr/>
              <p:nvPr/>
            </p:nvSpPr>
            <p:spPr>
              <a:xfrm>
                <a:off x="4041720" y="2239920"/>
                <a:ext cx="17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59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532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6248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2444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74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458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5108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989240" y="1998720"/>
              <a:ext cx="489960" cy="271800"/>
              <a:chOff x="4989240" y="1998720"/>
              <a:chExt cx="489960" cy="271800"/>
            </a:xfrm>
          </p:grpSpPr>
          <p:sp>
            <p:nvSpPr>
              <p:cNvPr id="964" name=""/>
              <p:cNvSpPr/>
              <p:nvPr/>
            </p:nvSpPr>
            <p:spPr>
              <a:xfrm>
                <a:off x="4989240" y="19987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113440" y="21178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20488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414400" y="2019240"/>
                <a:ext cx="64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271840" y="1998720"/>
                <a:ext cx="14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792760" y="2013120"/>
              <a:ext cx="662760" cy="467280"/>
              <a:chOff x="5792760" y="2013120"/>
              <a:chExt cx="662760" cy="467280"/>
            </a:xfrm>
          </p:grpSpPr>
          <p:sp>
            <p:nvSpPr>
              <p:cNvPr id="970" name=""/>
              <p:cNvSpPr/>
              <p:nvPr/>
            </p:nvSpPr>
            <p:spPr>
              <a:xfrm>
                <a:off x="5792760" y="2239920"/>
                <a:ext cx="1764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25520" y="20131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02840" y="2266920"/>
                <a:ext cx="14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l-PL" sz="14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111720" y="22208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994000" y="21081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19704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395400" y="2128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60400" y="2108160"/>
                <a:ext cx="13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7626240" y="20098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76720" y="2112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8600" y="198756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" y="1987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8600" y="198756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027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997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505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475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0120" y="248616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97160" y="248616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d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03920" y="24861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28600" y="24638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600" y="24638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28600" y="2463840"/>
              <a:ext cx="1440" cy="14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3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902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6356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343320" y="2747880"/>
              <a:ext cx="290520" cy="514440"/>
              <a:chOff x="3343320" y="2747880"/>
              <a:chExt cx="290520" cy="514440"/>
            </a:xfrm>
          </p:grpSpPr>
          <p:sp>
            <p:nvSpPr>
              <p:cNvPr id="997" name=""/>
              <p:cNvSpPr/>
              <p:nvPr/>
            </p:nvSpPr>
            <p:spPr>
              <a:xfrm>
                <a:off x="3343320" y="300672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2040" y="27478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475800" y="27478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2756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12800" y="2765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72480" y="27986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6013440" y="2747880"/>
              <a:ext cx="173160" cy="514440"/>
              <a:chOff x="6013440" y="2747880"/>
              <a:chExt cx="173160" cy="5144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013440" y="300672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036840" y="27478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39000" y="30337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16902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6356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3343320" y="3246480"/>
              <a:ext cx="290520" cy="515880"/>
              <a:chOff x="3343320" y="3246480"/>
              <a:chExt cx="290520" cy="515880"/>
            </a:xfrm>
          </p:grpSpPr>
          <p:sp>
            <p:nvSpPr>
              <p:cNvPr id="1010" name=""/>
              <p:cNvSpPr/>
              <p:nvPr/>
            </p:nvSpPr>
            <p:spPr>
              <a:xfrm>
                <a:off x="3343320" y="3506760"/>
                <a:ext cx="290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362040" y="3246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475800" y="3246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2756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12800" y="3263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72480" y="32986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6013440" y="3246480"/>
              <a:ext cx="173160" cy="515880"/>
              <a:chOff x="6013440" y="3246480"/>
              <a:chExt cx="173160" cy="515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6013440" y="3506760"/>
                <a:ext cx="17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36840" y="3246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9000" y="353376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"/>
            <p:cNvSpPr/>
            <p:nvPr/>
          </p:nvSpPr>
          <p:spPr>
            <a:xfrm>
              <a:off x="16902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6356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3343320" y="4011480"/>
              <a:ext cx="290520" cy="516240"/>
              <a:chOff x="3343320" y="4011480"/>
              <a:chExt cx="290520" cy="516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343320" y="4270320"/>
                <a:ext cx="290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62040" y="40114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75800" y="4011480"/>
                <a:ext cx="131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2756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4312800" y="4029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172480" y="406224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6013440" y="4011480"/>
              <a:ext cx="173160" cy="516240"/>
              <a:chOff x="6013440" y="4011480"/>
              <a:chExt cx="173160" cy="51624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13440" y="427032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36840" y="401148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39000" y="429912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16902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6356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380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128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5141880" y="4960800"/>
              <a:ext cx="173160" cy="514440"/>
              <a:chOff x="5141880" y="4960800"/>
              <a:chExt cx="173160" cy="514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5141880" y="5219640"/>
                <a:ext cx="173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163840" y="4960800"/>
                <a:ext cx="110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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165640" y="524664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6060600" y="4976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2760" y="1373040"/>
              <a:ext cx="0" cy="424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520" y="13604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3200" y="196848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11120" y="16588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62160" y="1360440"/>
              <a:ext cx="0" cy="42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62160" y="2449440"/>
              <a:ext cx="76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4200" y="2782800"/>
              <a:ext cx="87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196560" y="3228840"/>
              <a:ext cx="872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185760" y="3747960"/>
              <a:ext cx="873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198360" y="496080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9520" y="5603760"/>
              <a:ext cx="87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16080" y="196704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980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21120" y="1967040"/>
              <a:ext cx="0" cy="36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49920" y="1657440"/>
              <a:ext cx="0" cy="39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665680" y="1954080"/>
              <a:ext cx="0" cy="36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93040" y="1347840"/>
              <a:ext cx="0" cy="42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18640" y="1373040"/>
              <a:ext cx="0" cy="42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7613640" y="2849400"/>
                  <a:ext cx="15084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1" name=""/>
                <p:cNvSpPr txBox="1"/>
                <p:nvPr/>
              </p:nvSpPr>
              <p:spPr>
                <a:xfrm>
                  <a:off x="7629480" y="3287880"/>
                  <a:ext cx="1508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2" name=""/>
                <p:cNvSpPr txBox="1"/>
                <p:nvPr/>
              </p:nvSpPr>
              <p:spPr>
                <a:xfrm>
                  <a:off x="7229520" y="3887640"/>
                  <a:ext cx="109224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7237440" y="4943520"/>
                  <a:ext cx="81108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5" name=""/>
                <p:cNvSpPr txBox="1"/>
                <p:nvPr/>
              </p:nvSpPr>
              <p:spPr>
                <a:xfrm>
                  <a:off x="523800" y="3259080"/>
                  <a:ext cx="536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r>
                            <m:t xml:space="preserve">τ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6" name=""/>
                <p:cNvSpPr txBox="1"/>
                <p:nvPr/>
              </p:nvSpPr>
              <p:spPr>
                <a:xfrm>
                  <a:off x="433440" y="39844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7" name=""/>
                <p:cNvSpPr txBox="1"/>
                <p:nvPr/>
              </p:nvSpPr>
              <p:spPr>
                <a:xfrm>
                  <a:off x="363600" y="4954680"/>
                  <a:ext cx="7430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391480" y="3952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ływ filtru DP na właściwości pęt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41480" y="1231920"/>
            <a:ext cx="8872200" cy="3751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Filtr o dużej częstotliwości granicznej umożliwia szybkie synchronizowa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ię pętli  przy względnie dużym zakresie chwyta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Pętla z filtrem o dużej częstotliwości granicznej jest bardziej podana na zakłó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Pętla z filtrem o względnie małej częstotliwości grani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odporniejsza na zakłóc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Zbyt mała częstotliwość graniczna filtru uniemożliwia nadążanie pętli 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ybkimi zmianami fazy lub częstotliwości sygnału wejści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p. przy modulacji częstotliwości lub fa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28720" y="5265720"/>
            <a:ext cx="7336080" cy="971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nios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 DP ma decydujący wpływ na parametry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30240" y="29512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ktory fa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066680"/>
            <a:ext cx="8305920" cy="39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sprzężenia fazowego (ang. phase-locked loop - PLL)  - sposób synchronizacji pośrednie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ętla zawiera generator przestrajany napięciem V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ang. voltage    controlled oscilla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łąd fazy - potrzebny do wytworzenia w detektorze fazy sygnału do odpowiedniego odstrojenia generatora VCO w celu utrzymania równośc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135800" y="30492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y fazy mnożący z kluczem tranzystor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13040" y="2124000"/>
            <a:ext cx="1440" cy="34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83400" y="1590840"/>
            <a:ext cx="144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83400" y="1620720"/>
            <a:ext cx="92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6000" y="1940040"/>
            <a:ext cx="79560" cy="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775560" y="1503360"/>
            <a:ext cx="1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775560" y="1940040"/>
            <a:ext cx="1440" cy="67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646240" y="1881360"/>
            <a:ext cx="1011600" cy="87120"/>
            <a:chOff x="5646240" y="1881360"/>
            <a:chExt cx="1011600" cy="87120"/>
          </a:xfrm>
        </p:grpSpPr>
        <p:sp>
          <p:nvSpPr>
            <p:cNvPr id="1080" name=""/>
            <p:cNvSpPr/>
            <p:nvPr/>
          </p:nvSpPr>
          <p:spPr>
            <a:xfrm flipH="1">
              <a:off x="5646240" y="1922400"/>
              <a:ext cx="1011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570720" y="1881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172200" y="2073240"/>
            <a:ext cx="142920" cy="3780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238800" y="1932120"/>
            <a:ext cx="1800" cy="158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38800" y="244332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402240" y="2190600"/>
            <a:ext cx="10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24280" y="2274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722680" y="1906560"/>
            <a:ext cx="428400" cy="4269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57680" y="199872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870280" y="1960560"/>
            <a:ext cx="20952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870280" y="2154240"/>
            <a:ext cx="129960" cy="87480"/>
            <a:chOff x="2870280" y="2154240"/>
            <a:chExt cx="129960" cy="87480"/>
          </a:xfrm>
        </p:grpSpPr>
        <p:sp>
          <p:nvSpPr>
            <p:cNvPr id="1091" name=""/>
            <p:cNvSpPr/>
            <p:nvPr/>
          </p:nvSpPr>
          <p:spPr>
            <a:xfrm>
              <a:off x="2870280" y="2170080"/>
              <a:ext cx="12996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95480" y="2154240"/>
              <a:ext cx="104760" cy="8748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0" y="55"/>
                  </a:moveTo>
                  <a:lnTo>
                    <a:pt x="66" y="53"/>
                  </a:lnTo>
                  <a:lnTo>
                    <a:pt x="2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000240" y="2238480"/>
            <a:ext cx="79560" cy="36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2722320" y="2124000"/>
            <a:ext cx="13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79800" y="2274840"/>
            <a:ext cx="1440" cy="495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079800" y="1515600"/>
            <a:ext cx="1440" cy="43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81200" y="2124000"/>
            <a:ext cx="146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42080" y="1473120"/>
            <a:ext cx="58680" cy="5580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800" y="2090880"/>
            <a:ext cx="172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564160" y="2090880"/>
            <a:ext cx="8244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646600" y="2090520"/>
            <a:ext cx="93960" cy="9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567400" y="2195640"/>
            <a:ext cx="1731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23960" y="1457280"/>
            <a:ext cx="37296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77800" y="1523880"/>
            <a:ext cx="158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994040" y="1518840"/>
            <a:ext cx="1854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79480" y="1138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345280" y="142704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02360" y="1498680"/>
            <a:ext cx="1555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5715000" y="1495080"/>
            <a:ext cx="1790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24480" y="1074600"/>
            <a:ext cx="268200" cy="306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00800" y="1108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5960" y="2057400"/>
            <a:ext cx="377640" cy="1429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913040" y="2128680"/>
            <a:ext cx="155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5680" y="2128680"/>
            <a:ext cx="1843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8000" y="17384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287440" y="1822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54240" y="1503360"/>
            <a:ext cx="5580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13600" y="1901880"/>
            <a:ext cx="58680" cy="5076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34960" y="150336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4240" y="2448000"/>
            <a:ext cx="59040" cy="489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05200" y="1503360"/>
            <a:ext cx="5868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46460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18160" y="2379600"/>
            <a:ext cx="54000" cy="507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48360" y="213192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000240" y="2762280"/>
            <a:ext cx="158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3480" y="3048120"/>
            <a:ext cx="160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89240" y="2157480"/>
            <a:ext cx="155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84680" y="2825640"/>
            <a:ext cx="155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86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172200" y="2627280"/>
            <a:ext cx="158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46600" y="1922400"/>
            <a:ext cx="1800" cy="181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646600" y="220824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68880" y="1473120"/>
            <a:ext cx="58680" cy="558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5605560" y="2484360"/>
            <a:ext cx="87120" cy="290520"/>
            <a:chOff x="5605560" y="2484360"/>
            <a:chExt cx="87120" cy="290520"/>
          </a:xfrm>
        </p:grpSpPr>
        <p:sp>
          <p:nvSpPr>
            <p:cNvPr id="1135" name=""/>
            <p:cNvSpPr/>
            <p:nvPr/>
          </p:nvSpPr>
          <p:spPr>
            <a:xfrm>
              <a:off x="5646600" y="2484360"/>
              <a:ext cx="180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05560" y="2484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48034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92400" y="1838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092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52600" y="2627280"/>
            <a:ext cx="411120" cy="270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01560" y="2662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0480" y="27446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49520" y="2662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40280" y="17175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27760" y="18018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86800" y="1717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919680" y="1725480"/>
            <a:ext cx="411120" cy="265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968280" y="17557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57200" y="1838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6600" y="175572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214600" y="25272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303520" y="2611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62560" y="252720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3720" y="1779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1200" y="186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179720" y="1779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3449520" y="5961240"/>
            <a:ext cx="136440" cy="60120"/>
            <a:chOff x="3449520" y="5961240"/>
            <a:chExt cx="136440" cy="60120"/>
          </a:xfrm>
        </p:grpSpPr>
        <p:sp>
          <p:nvSpPr>
            <p:cNvPr id="1158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449520" y="5961240"/>
              <a:ext cx="136440" cy="60120"/>
            </a:xfrm>
            <a:custGeom>
              <a:avLst/>
              <a:gdLst/>
              <a:ahLst/>
              <a:rect l="l" t="t" r="r" b="b"/>
              <a:pathLst>
                <a:path w="86" h="38">
                  <a:moveTo>
                    <a:pt x="0" y="0"/>
                  </a:moveTo>
                  <a:lnTo>
                    <a:pt x="18" y="1"/>
                  </a:lnTo>
                  <a:lnTo>
                    <a:pt x="34" y="3"/>
                  </a:lnTo>
                  <a:lnTo>
                    <a:pt x="48" y="7"/>
                  </a:lnTo>
                  <a:lnTo>
                    <a:pt x="61" y="11"/>
                  </a:lnTo>
                  <a:lnTo>
                    <a:pt x="71" y="18"/>
                  </a:lnTo>
                  <a:lnTo>
                    <a:pt x="79" y="23"/>
                  </a:lnTo>
                  <a:lnTo>
                    <a:pt x="85" y="31"/>
                  </a:lnTo>
                  <a:lnTo>
                    <a:pt x="86" y="3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2533680" y="6226200"/>
            <a:ext cx="203040" cy="243000"/>
            <a:chOff x="2533680" y="6226200"/>
            <a:chExt cx="203040" cy="243000"/>
          </a:xfrm>
        </p:grpSpPr>
        <p:sp>
          <p:nvSpPr>
            <p:cNvPr id="1161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53368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5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8" y="140"/>
                  </a:lnTo>
                  <a:lnTo>
                    <a:pt x="56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9" y="60"/>
                  </a:lnTo>
                  <a:lnTo>
                    <a:pt x="3" y="3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187720" y="5961240"/>
            <a:ext cx="345960" cy="264960"/>
            <a:chOff x="2187720" y="5961240"/>
            <a:chExt cx="345960" cy="264960"/>
          </a:xfrm>
        </p:grpSpPr>
        <p:sp>
          <p:nvSpPr>
            <p:cNvPr id="1164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87720" y="596124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1" y="74"/>
                  </a:lnTo>
                  <a:lnTo>
                    <a:pt x="192" y="87"/>
                  </a:lnTo>
                  <a:lnTo>
                    <a:pt x="201" y="101"/>
                  </a:lnTo>
                  <a:lnTo>
                    <a:pt x="208" y="117"/>
                  </a:lnTo>
                  <a:lnTo>
                    <a:pt x="214" y="132"/>
                  </a:lnTo>
                  <a:lnTo>
                    <a:pt x="216" y="149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251000" y="6226200"/>
            <a:ext cx="203040" cy="243000"/>
            <a:chOff x="1251000" y="6226200"/>
            <a:chExt cx="203040" cy="243000"/>
          </a:xfrm>
        </p:grpSpPr>
        <p:sp>
          <p:nvSpPr>
            <p:cNvPr id="1167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251000" y="6226200"/>
              <a:ext cx="203040" cy="243000"/>
            </a:xfrm>
            <a:custGeom>
              <a:avLst/>
              <a:gdLst/>
              <a:ahLst/>
              <a:rect l="l" t="t" r="r" b="b"/>
              <a:pathLst>
                <a:path w="128" h="153">
                  <a:moveTo>
                    <a:pt x="128" y="153"/>
                  </a:moveTo>
                  <a:lnTo>
                    <a:pt x="116" y="151"/>
                  </a:lnTo>
                  <a:lnTo>
                    <a:pt x="102" y="150"/>
                  </a:lnTo>
                  <a:lnTo>
                    <a:pt x="90" y="146"/>
                  </a:lnTo>
                  <a:lnTo>
                    <a:pt x="79" y="140"/>
                  </a:lnTo>
                  <a:lnTo>
                    <a:pt x="57" y="127"/>
                  </a:lnTo>
                  <a:lnTo>
                    <a:pt x="38" y="108"/>
                  </a:lnTo>
                  <a:lnTo>
                    <a:pt x="22" y="86"/>
                  </a:lnTo>
                  <a:lnTo>
                    <a:pt x="11" y="60"/>
                  </a:lnTo>
                  <a:lnTo>
                    <a:pt x="3" y="3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905040" y="5961240"/>
            <a:ext cx="347400" cy="264960"/>
            <a:chOff x="905040" y="5961240"/>
            <a:chExt cx="347400" cy="264960"/>
          </a:xfrm>
        </p:grpSpPr>
        <p:sp>
          <p:nvSpPr>
            <p:cNvPr id="1170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05040" y="596124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1"/>
                  </a:lnTo>
                  <a:lnTo>
                    <a:pt x="44" y="3"/>
                  </a:lnTo>
                  <a:lnTo>
                    <a:pt x="65" y="7"/>
                  </a:lnTo>
                  <a:lnTo>
                    <a:pt x="85" y="13"/>
                  </a:lnTo>
                  <a:lnTo>
                    <a:pt x="104" y="20"/>
                  </a:lnTo>
                  <a:lnTo>
                    <a:pt x="122" y="28"/>
                  </a:lnTo>
                  <a:lnTo>
                    <a:pt x="140" y="38"/>
                  </a:lnTo>
                  <a:lnTo>
                    <a:pt x="155" y="49"/>
                  </a:lnTo>
                  <a:lnTo>
                    <a:pt x="169" y="60"/>
                  </a:lnTo>
                  <a:lnTo>
                    <a:pt x="182" y="74"/>
                  </a:lnTo>
                  <a:lnTo>
                    <a:pt x="193" y="87"/>
                  </a:lnTo>
                  <a:lnTo>
                    <a:pt x="201" y="101"/>
                  </a:lnTo>
                  <a:lnTo>
                    <a:pt x="210" y="117"/>
                  </a:lnTo>
                  <a:lnTo>
                    <a:pt x="215" y="132"/>
                  </a:lnTo>
                  <a:lnTo>
                    <a:pt x="218" y="149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184560" y="3959280"/>
            <a:ext cx="347400" cy="264960"/>
            <a:chOff x="3184560" y="3959280"/>
            <a:chExt cx="347400" cy="264960"/>
          </a:xfrm>
        </p:grpSpPr>
        <p:sp>
          <p:nvSpPr>
            <p:cNvPr id="1173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  <a:lnTo>
                    <a:pt x="219" y="16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184560" y="3959280"/>
              <a:ext cx="34740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0"/>
                  </a:moveTo>
                  <a:lnTo>
                    <a:pt x="197" y="2"/>
                  </a:lnTo>
                  <a:lnTo>
                    <a:pt x="175" y="4"/>
                  </a:lnTo>
                  <a:lnTo>
                    <a:pt x="154" y="9"/>
                  </a:lnTo>
                  <a:lnTo>
                    <a:pt x="134" y="14"/>
                  </a:lnTo>
                  <a:lnTo>
                    <a:pt x="115" y="21"/>
                  </a:lnTo>
                  <a:lnTo>
                    <a:pt x="97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51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1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2832120" y="4224240"/>
            <a:ext cx="345960" cy="265320"/>
            <a:chOff x="2832120" y="4224240"/>
            <a:chExt cx="345960" cy="265320"/>
          </a:xfrm>
        </p:grpSpPr>
        <p:sp>
          <p:nvSpPr>
            <p:cNvPr id="1176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83212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4" y="164"/>
                  </a:lnTo>
                  <a:lnTo>
                    <a:pt x="65" y="160"/>
                  </a:lnTo>
                  <a:lnTo>
                    <a:pt x="85" y="153"/>
                  </a:lnTo>
                  <a:lnTo>
                    <a:pt x="104" y="146"/>
                  </a:lnTo>
                  <a:lnTo>
                    <a:pt x="122" y="138"/>
                  </a:lnTo>
                  <a:lnTo>
                    <a:pt x="139" y="129"/>
                  </a:lnTo>
                  <a:lnTo>
                    <a:pt x="155" y="118"/>
                  </a:lnTo>
                  <a:lnTo>
                    <a:pt x="169" y="105"/>
                  </a:lnTo>
                  <a:lnTo>
                    <a:pt x="181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8" y="49"/>
                  </a:lnTo>
                  <a:lnTo>
                    <a:pt x="214" y="34"/>
                  </a:lnTo>
                  <a:lnTo>
                    <a:pt x="216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2552760" y="4224240"/>
            <a:ext cx="347760" cy="265320"/>
            <a:chOff x="2552760" y="4224240"/>
            <a:chExt cx="347760" cy="265320"/>
          </a:xfrm>
        </p:grpSpPr>
        <p:sp>
          <p:nvSpPr>
            <p:cNvPr id="1179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52760" y="4224240"/>
              <a:ext cx="347760" cy="26532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219" y="167"/>
                  </a:moveTo>
                  <a:lnTo>
                    <a:pt x="197" y="166"/>
                  </a:lnTo>
                  <a:lnTo>
                    <a:pt x="175" y="164"/>
                  </a:lnTo>
                  <a:lnTo>
                    <a:pt x="155" y="160"/>
                  </a:lnTo>
                  <a:lnTo>
                    <a:pt x="134" y="153"/>
                  </a:lnTo>
                  <a:lnTo>
                    <a:pt x="115" y="146"/>
                  </a:lnTo>
                  <a:lnTo>
                    <a:pt x="97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51" y="105"/>
                  </a:lnTo>
                  <a:lnTo>
                    <a:pt x="37" y="93"/>
                  </a:lnTo>
                  <a:lnTo>
                    <a:pt x="26" y="79"/>
                  </a:lnTo>
                  <a:lnTo>
                    <a:pt x="18" y="64"/>
                  </a:lnTo>
                  <a:lnTo>
                    <a:pt x="10" y="49"/>
                  </a:lnTo>
                  <a:lnTo>
                    <a:pt x="4" y="34"/>
                  </a:ln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201760" y="3959280"/>
            <a:ext cx="345960" cy="264960"/>
            <a:chOff x="2201760" y="3959280"/>
            <a:chExt cx="345960" cy="264960"/>
          </a:xfrm>
        </p:grpSpPr>
        <p:sp>
          <p:nvSpPr>
            <p:cNvPr id="1182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176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0"/>
                  </a:moveTo>
                  <a:lnTo>
                    <a:pt x="22" y="2"/>
                  </a:lnTo>
                  <a:lnTo>
                    <a:pt x="43" y="4"/>
                  </a:lnTo>
                  <a:lnTo>
                    <a:pt x="64" y="9"/>
                  </a:lnTo>
                  <a:lnTo>
                    <a:pt x="84" y="14"/>
                  </a:lnTo>
                  <a:lnTo>
                    <a:pt x="104" y="21"/>
                  </a:lnTo>
                  <a:lnTo>
                    <a:pt x="121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8" y="62"/>
                  </a:lnTo>
                  <a:lnTo>
                    <a:pt x="181" y="74"/>
                  </a:lnTo>
                  <a:lnTo>
                    <a:pt x="192" y="88"/>
                  </a:lnTo>
                  <a:lnTo>
                    <a:pt x="201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8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909800" y="3959280"/>
            <a:ext cx="345960" cy="264960"/>
            <a:chOff x="1909800" y="3959280"/>
            <a:chExt cx="345960" cy="264960"/>
          </a:xfrm>
        </p:grpSpPr>
        <p:sp>
          <p:nvSpPr>
            <p:cNvPr id="1185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980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4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80" y="39"/>
                  </a:lnTo>
                  <a:lnTo>
                    <a:pt x="65" y="50"/>
                  </a:lnTo>
                  <a:lnTo>
                    <a:pt x="50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5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563840" y="4224240"/>
            <a:ext cx="345960" cy="265320"/>
            <a:chOff x="1563840" y="4224240"/>
            <a:chExt cx="345960" cy="265320"/>
          </a:xfrm>
        </p:grpSpPr>
        <p:sp>
          <p:nvSpPr>
            <p:cNvPr id="1188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  <a:lnTo>
                    <a:pt x="0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63840" y="4224240"/>
              <a:ext cx="345960" cy="26532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0" y="167"/>
                  </a:moveTo>
                  <a:lnTo>
                    <a:pt x="22" y="166"/>
                  </a:lnTo>
                  <a:lnTo>
                    <a:pt x="43" y="164"/>
                  </a:lnTo>
                  <a:lnTo>
                    <a:pt x="64" y="160"/>
                  </a:lnTo>
                  <a:lnTo>
                    <a:pt x="84" y="153"/>
                  </a:lnTo>
                  <a:lnTo>
                    <a:pt x="104" y="146"/>
                  </a:lnTo>
                  <a:lnTo>
                    <a:pt x="121" y="138"/>
                  </a:lnTo>
                  <a:lnTo>
                    <a:pt x="139" y="129"/>
                  </a:lnTo>
                  <a:lnTo>
                    <a:pt x="154" y="118"/>
                  </a:lnTo>
                  <a:lnTo>
                    <a:pt x="168" y="105"/>
                  </a:lnTo>
                  <a:lnTo>
                    <a:pt x="182" y="93"/>
                  </a:lnTo>
                  <a:lnTo>
                    <a:pt x="192" y="79"/>
                  </a:lnTo>
                  <a:lnTo>
                    <a:pt x="201" y="64"/>
                  </a:lnTo>
                  <a:lnTo>
                    <a:pt x="209" y="49"/>
                  </a:lnTo>
                  <a:lnTo>
                    <a:pt x="214" y="34"/>
                  </a:lnTo>
                  <a:lnTo>
                    <a:pt x="217" y="17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273320" y="4224240"/>
            <a:ext cx="344520" cy="265320"/>
            <a:chOff x="1273320" y="4224240"/>
            <a:chExt cx="344520" cy="265320"/>
          </a:xfrm>
        </p:grpSpPr>
        <p:sp>
          <p:nvSpPr>
            <p:cNvPr id="1191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  <a:lnTo>
                    <a:pt x="217" y="0"/>
                  </a:lnTo>
                  <a:lnTo>
                    <a:pt x="217" y="1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73320" y="4224240"/>
              <a:ext cx="344520" cy="265320"/>
            </a:xfrm>
            <a:custGeom>
              <a:avLst/>
              <a:gdLst/>
              <a:ahLst/>
              <a:rect l="l" t="t" r="r" b="b"/>
              <a:pathLst>
                <a:path w="217" h="167">
                  <a:moveTo>
                    <a:pt x="217" y="167"/>
                  </a:moveTo>
                  <a:lnTo>
                    <a:pt x="195" y="166"/>
                  </a:lnTo>
                  <a:lnTo>
                    <a:pt x="173" y="164"/>
                  </a:lnTo>
                  <a:lnTo>
                    <a:pt x="153" y="160"/>
                  </a:lnTo>
                  <a:lnTo>
                    <a:pt x="132" y="153"/>
                  </a:lnTo>
                  <a:lnTo>
                    <a:pt x="113" y="146"/>
                  </a:lnTo>
                  <a:lnTo>
                    <a:pt x="95" y="138"/>
                  </a:lnTo>
                  <a:lnTo>
                    <a:pt x="79" y="129"/>
                  </a:lnTo>
                  <a:lnTo>
                    <a:pt x="64" y="118"/>
                  </a:lnTo>
                  <a:lnTo>
                    <a:pt x="49" y="105"/>
                  </a:lnTo>
                  <a:lnTo>
                    <a:pt x="36" y="93"/>
                  </a:lnTo>
                  <a:lnTo>
                    <a:pt x="26" y="79"/>
                  </a:lnTo>
                  <a:lnTo>
                    <a:pt x="17" y="64"/>
                  </a:lnTo>
                  <a:lnTo>
                    <a:pt x="9" y="49"/>
                  </a:lnTo>
                  <a:lnTo>
                    <a:pt x="4" y="34"/>
                  </a:lnTo>
                  <a:lnTo>
                    <a:pt x="1" y="1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25560" y="3959280"/>
            <a:ext cx="347760" cy="264960"/>
            <a:chOff x="925560" y="3959280"/>
            <a:chExt cx="347760" cy="264960"/>
          </a:xfrm>
        </p:grpSpPr>
        <p:sp>
          <p:nvSpPr>
            <p:cNvPr id="1194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  <a:lnTo>
                    <a:pt x="0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5560" y="3959280"/>
              <a:ext cx="347760" cy="264960"/>
            </a:xfrm>
            <a:custGeom>
              <a:avLst/>
              <a:gdLst/>
              <a:ahLst/>
              <a:rect l="l" t="t" r="r" b="b"/>
              <a:pathLst>
                <a:path w="219" h="167">
                  <a:moveTo>
                    <a:pt x="0" y="0"/>
                  </a:moveTo>
                  <a:lnTo>
                    <a:pt x="22" y="2"/>
                  </a:lnTo>
                  <a:lnTo>
                    <a:pt x="44" y="4"/>
                  </a:lnTo>
                  <a:lnTo>
                    <a:pt x="65" y="9"/>
                  </a:lnTo>
                  <a:lnTo>
                    <a:pt x="86" y="14"/>
                  </a:lnTo>
                  <a:lnTo>
                    <a:pt x="105" y="21"/>
                  </a:lnTo>
                  <a:lnTo>
                    <a:pt x="123" y="29"/>
                  </a:lnTo>
                  <a:lnTo>
                    <a:pt x="139" y="39"/>
                  </a:lnTo>
                  <a:lnTo>
                    <a:pt x="154" y="50"/>
                  </a:lnTo>
                  <a:lnTo>
                    <a:pt x="169" y="62"/>
                  </a:lnTo>
                  <a:lnTo>
                    <a:pt x="182" y="74"/>
                  </a:lnTo>
                  <a:lnTo>
                    <a:pt x="193" y="88"/>
                  </a:lnTo>
                  <a:lnTo>
                    <a:pt x="202" y="103"/>
                  </a:lnTo>
                  <a:lnTo>
                    <a:pt x="209" y="118"/>
                  </a:lnTo>
                  <a:lnTo>
                    <a:pt x="214" y="134"/>
                  </a:lnTo>
                  <a:lnTo>
                    <a:pt x="217" y="151"/>
                  </a:lnTo>
                  <a:lnTo>
                    <a:pt x="219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608040" y="3959280"/>
            <a:ext cx="345960" cy="264960"/>
            <a:chOff x="608040" y="3959280"/>
            <a:chExt cx="345960" cy="264960"/>
          </a:xfrm>
        </p:grpSpPr>
        <p:sp>
          <p:nvSpPr>
            <p:cNvPr id="1197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  <a:lnTo>
                    <a:pt x="218" y="16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08040" y="3959280"/>
              <a:ext cx="345960" cy="2649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218" y="0"/>
                  </a:moveTo>
                  <a:lnTo>
                    <a:pt x="196" y="2"/>
                  </a:lnTo>
                  <a:lnTo>
                    <a:pt x="174" y="4"/>
                  </a:lnTo>
                  <a:lnTo>
                    <a:pt x="153" y="9"/>
                  </a:lnTo>
                  <a:lnTo>
                    <a:pt x="133" y="14"/>
                  </a:lnTo>
                  <a:lnTo>
                    <a:pt x="114" y="21"/>
                  </a:lnTo>
                  <a:lnTo>
                    <a:pt x="96" y="29"/>
                  </a:lnTo>
                  <a:lnTo>
                    <a:pt x="79" y="39"/>
                  </a:lnTo>
                  <a:lnTo>
                    <a:pt x="64" y="50"/>
                  </a:lnTo>
                  <a:lnTo>
                    <a:pt x="49" y="62"/>
                  </a:lnTo>
                  <a:lnTo>
                    <a:pt x="37" y="74"/>
                  </a:lnTo>
                  <a:lnTo>
                    <a:pt x="26" y="88"/>
                  </a:lnTo>
                  <a:lnTo>
                    <a:pt x="18" y="103"/>
                  </a:lnTo>
                  <a:lnTo>
                    <a:pt x="10" y="118"/>
                  </a:lnTo>
                  <a:lnTo>
                    <a:pt x="4" y="134"/>
                  </a:lnTo>
                  <a:lnTo>
                    <a:pt x="2" y="151"/>
                  </a:lnTo>
                  <a:lnTo>
                    <a:pt x="0" y="1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4280" y="3957480"/>
            <a:ext cx="3232800" cy="5040"/>
            <a:chOff x="584280" y="3957480"/>
            <a:chExt cx="3232800" cy="5040"/>
          </a:xfrm>
        </p:grpSpPr>
        <p:grpSp>
          <p:nvGrpSpPr>
            <p:cNvPr id="1200" name=""/>
            <p:cNvGrpSpPr/>
            <p:nvPr/>
          </p:nvGrpSpPr>
          <p:grpSpPr>
            <a:xfrm>
              <a:off x="2085840" y="3957480"/>
              <a:ext cx="1731240" cy="5040"/>
              <a:chOff x="2085840" y="3957480"/>
              <a:chExt cx="1731240" cy="5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3812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0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795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787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779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769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620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752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744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735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270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717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09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00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9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682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674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5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65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493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639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31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622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14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604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96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87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57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69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61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552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4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534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526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19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09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501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92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484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4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466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457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449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4394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31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422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045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966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387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7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3714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3616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353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44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336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326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18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309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0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2918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283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274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26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2569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490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241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31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238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40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06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96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188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1791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1712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161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15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144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136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126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11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109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101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93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4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762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066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058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049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0412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031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023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014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0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96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988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979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7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35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953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9458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936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9286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918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910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901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89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883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876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866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5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849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8411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831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823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8155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8062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98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885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806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7712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63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536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45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363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2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187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108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01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9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856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758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679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58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50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409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330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3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1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0604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598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588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58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57112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56320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5552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545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53800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52828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203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11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503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933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854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76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6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584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450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41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43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4235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4156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076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398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3904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3806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372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363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5548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457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37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284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20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0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029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935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856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27772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2680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2600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2507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242800" y="39574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2330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2251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158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207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981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190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18088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172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1632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15532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14596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1380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2976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12040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1248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102760" y="3957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094840" y="3957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085840" y="39574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2077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682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60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0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4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033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253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016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0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0001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904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982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973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5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955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47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38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920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12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03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85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77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868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60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852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42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4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25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17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079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000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790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8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73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65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755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4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38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30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22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12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049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695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87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77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700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60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52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43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3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25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17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8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60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9228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82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74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65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573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7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539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530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24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2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04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95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48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77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698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60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5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44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349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270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173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4094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000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92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824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374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651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5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474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395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30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2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143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3046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967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7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279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697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618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52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4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348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26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217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20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998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919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82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7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667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570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1491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139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31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1221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142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104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9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872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79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69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6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522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443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64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27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191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094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01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2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42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745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6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7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4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396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1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2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046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967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888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79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7156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18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53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44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6640" y="3957480"/>
              <a:ext cx="252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69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9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96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1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920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40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47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668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585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91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412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152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2360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424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63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660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8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932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1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616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5376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440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648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856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884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092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560" y="3957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3640" y="39574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4280" y="3957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603360" y="5958000"/>
            <a:ext cx="3232800" cy="4680"/>
            <a:chOff x="603360" y="5958000"/>
            <a:chExt cx="3232800" cy="4680"/>
          </a:xfrm>
        </p:grpSpPr>
        <p:grpSp>
          <p:nvGrpSpPr>
            <p:cNvPr id="1575" name=""/>
            <p:cNvGrpSpPr/>
            <p:nvPr/>
          </p:nvGrpSpPr>
          <p:grpSpPr>
            <a:xfrm>
              <a:off x="2106360" y="5958000"/>
              <a:ext cx="1729800" cy="4680"/>
              <a:chOff x="2106360" y="5958000"/>
              <a:chExt cx="1729800" cy="4680"/>
            </a:xfrm>
          </p:grpSpPr>
          <p:sp>
            <p:nvSpPr>
              <p:cNvPr id="1576" name=""/>
              <p:cNvSpPr/>
              <p:nvPr/>
            </p:nvSpPr>
            <p:spPr>
              <a:xfrm>
                <a:off x="3833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23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1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06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98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89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8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771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763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5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746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38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28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20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11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029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693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685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676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668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658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650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1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331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23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615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07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5982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590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580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73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5632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555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546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5283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520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511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50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493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485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477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68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60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50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42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33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5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15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07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398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39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380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372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363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35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45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337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330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320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12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03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295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285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277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268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60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250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24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33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225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215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20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2000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190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182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173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1651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55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147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138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13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120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12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103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09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085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077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0697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060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524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042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34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025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171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7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99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90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9822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9728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964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955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9473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9379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0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221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124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9044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95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87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774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695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60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5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425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34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25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1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76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997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918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82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745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648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568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747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739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7298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721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712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949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870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77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6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6600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6521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6442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634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626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6172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6092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9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2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822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574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565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55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473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394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530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52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5142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5045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4966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487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47932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4696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461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452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44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4346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426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417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40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3997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3918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3839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374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366640" y="595800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3569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3490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3396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331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220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140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047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2964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870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279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698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15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2521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24424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23632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22660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21868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0932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20140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9168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837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7440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166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15676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148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3948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31560" y="59580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2184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13920" y="5958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06360" y="5958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2097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089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079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71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62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54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4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36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7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1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09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001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92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98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74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966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958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49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41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31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923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14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06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896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88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879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7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61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854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44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3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288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9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11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01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938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4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76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66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75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49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741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31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2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714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06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97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89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812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71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63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4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45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636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28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619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10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1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93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584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5760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66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58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508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411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23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15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062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983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88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13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63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4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64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284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20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11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032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935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856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6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368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3586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507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1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3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37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158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06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888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808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729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63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556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459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380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28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20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110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03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193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8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761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1682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58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5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32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253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116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0808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983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90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81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7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634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55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46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3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0285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206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011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0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95400" y="595800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856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9777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68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601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507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42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3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252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158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98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02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09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73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50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55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474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380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301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04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25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031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95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855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77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682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60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5060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4268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33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254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1748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077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9984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48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8256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284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64920" y="5958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556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7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92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000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2064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12720" y="5958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03360" y="5958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4280" y="4487760"/>
            <a:ext cx="3232800" cy="3240"/>
            <a:chOff x="584280" y="4487760"/>
            <a:chExt cx="3232800" cy="3240"/>
          </a:xfrm>
        </p:grpSpPr>
        <p:grpSp>
          <p:nvGrpSpPr>
            <p:cNvPr id="1950" name=""/>
            <p:cNvGrpSpPr/>
            <p:nvPr/>
          </p:nvGrpSpPr>
          <p:grpSpPr>
            <a:xfrm>
              <a:off x="2085840" y="4487760"/>
              <a:ext cx="1731240" cy="3240"/>
              <a:chOff x="2085840" y="4487760"/>
              <a:chExt cx="1731240" cy="3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3812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0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795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787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779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769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7620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52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744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735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270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17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709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700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69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682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674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665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65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493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39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31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622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14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04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596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587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57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569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561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52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54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534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526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519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509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501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492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484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474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66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457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449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4394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431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422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4045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66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387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7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3714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3616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353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344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336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326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318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309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30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2918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283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274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26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2569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2490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241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231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2238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2140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206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196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188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1791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1712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161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15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144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136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126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11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109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101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93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84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762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66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8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49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412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31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23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14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0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96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988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979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97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9635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953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9458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36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9286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18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10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901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9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83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76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66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49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411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31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23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55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062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98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885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806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712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63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536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745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63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2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7187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7108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701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9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856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6758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6679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58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50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09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330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23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1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0604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98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88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58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57112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56320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5552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545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53800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52828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5203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511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503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4933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4854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476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46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4584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450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441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43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4235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56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076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398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3904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3806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372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363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35548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3457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337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3284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320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310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3029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2935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2856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27772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2680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2600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2507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242800" y="4487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2330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251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2158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207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981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90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18088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72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632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5532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4596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1380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2976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2040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1248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102760" y="4487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094840" y="4487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085840" y="44877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2077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0682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60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050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04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33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0253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16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0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0001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904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82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73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65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5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7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8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93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20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12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903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9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885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77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68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60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52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42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34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25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17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079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000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90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8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3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55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4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38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30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22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12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7049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695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687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677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6700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60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52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3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3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25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7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08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60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9228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82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74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65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73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47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39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30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224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04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95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8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77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4698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60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45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444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4349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4270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4173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4094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4000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392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824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74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51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5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474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395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330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32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3143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3046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967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287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79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2697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2618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252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4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2348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26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7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0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998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1919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182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7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1667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1570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1491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139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131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1221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142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104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09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0872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79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69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522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0443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0364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027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0191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094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001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2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842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9745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966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957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4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9396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931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922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1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46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967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888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79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156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618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53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44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36640" y="448776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269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19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096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01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920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840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747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668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85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91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12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3152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2360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1424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63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9660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88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932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1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616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376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440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3648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856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884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92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01560" y="4487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3640" y="4487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84280" y="4487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814320" y="3944880"/>
            <a:ext cx="9360" cy="1089000"/>
            <a:chOff x="814320" y="3944880"/>
            <a:chExt cx="9360" cy="1089000"/>
          </a:xfrm>
        </p:grpSpPr>
        <p:sp>
          <p:nvSpPr>
            <p:cNvPr id="2325" name=""/>
            <p:cNvSpPr/>
            <p:nvPr/>
          </p:nvSpPr>
          <p:spPr>
            <a:xfrm>
              <a:off x="814320" y="502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14320" y="50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14320" y="501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814320" y="5003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14320" y="499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14320" y="49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14320" y="497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14320" y="496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4320" y="496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14320" y="49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14320" y="4943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4320" y="493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14320" y="492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14320" y="491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14320" y="490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14320" y="489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14320" y="4890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14320" y="488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14320" y="48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14320" y="486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14320" y="485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4320" y="484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14320" y="48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4320" y="4830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14320" y="482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14320" y="4813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4320" y="48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4320" y="479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4320" y="478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14320" y="477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14320" y="476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4320" y="47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15760" y="4751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760" y="4743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15760" y="473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15760" y="47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15760" y="4716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5760" y="470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15760" y="4700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15760" y="46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15760" y="468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15760" y="467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15760" y="4665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15760" y="465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15760" y="464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15760" y="463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15760" y="463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15760" y="462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15760" y="46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15760" y="460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15760" y="45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15760" y="458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15760" y="45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15760" y="456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15760" y="456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15760" y="4552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5760" y="45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15760" y="45356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760" y="452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15760" y="451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15760" y="450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15760" y="450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15760" y="449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15760" y="4483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5760" y="447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15760" y="44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5760" y="445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5760" y="444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5760" y="443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5760" y="443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5760" y="4422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5760" y="441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5760" y="4405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5760" y="4395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5760" y="438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5760" y="437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15760" y="437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5760" y="4361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15760" y="4352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15760" y="434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760" y="4335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15760" y="432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5760" y="4317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5760" y="430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15760" y="430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15760" y="429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15760" y="428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15760" y="4275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5760" y="426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5760" y="4257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5760" y="424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15760" y="424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15760" y="423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15760" y="422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5760" y="421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19000" y="4205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19000" y="419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000" y="4187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19000" y="417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19000" y="4170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19000" y="416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9000" y="4152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19000" y="4145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19000" y="4135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19000" y="4127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19000" y="41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19000" y="4110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9000" y="4100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19000" y="4092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19000" y="4083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19000" y="40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19000" y="4065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19000" y="4057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19000" y="4048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9000" y="40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19000" y="4030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9000" y="4022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9000" y="40147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9000" y="40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19000" y="39974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19000" y="3987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19000" y="3979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9000" y="3970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19000" y="396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19000" y="3952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19000" y="3944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457280" y="3951360"/>
            <a:ext cx="6120" cy="1089000"/>
            <a:chOff x="1457280" y="3951360"/>
            <a:chExt cx="6120" cy="1089000"/>
          </a:xfrm>
        </p:grpSpPr>
        <p:sp>
          <p:nvSpPr>
            <p:cNvPr id="2452" name=""/>
            <p:cNvSpPr/>
            <p:nvPr/>
          </p:nvSpPr>
          <p:spPr>
            <a:xfrm>
              <a:off x="1457280" y="503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57280" y="50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57280" y="501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457280" y="501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57280" y="5002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57280" y="49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457280" y="498492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57280" y="497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457280" y="496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57280" y="495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457280" y="49500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457280" y="494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57280" y="4932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457280" y="492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457280" y="49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457280" y="490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57280" y="489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457280" y="488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457280" y="487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457280" y="4871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457280" y="486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57280" y="4854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7280" y="484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457280" y="4836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457280" y="482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457280" y="481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457280" y="480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457280" y="480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457280" y="47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457280" y="47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57280" y="477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457280" y="4767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457280" y="475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457280" y="47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457280" y="474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457280" y="473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457280" y="4724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57280" y="47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457280" y="4707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457280" y="469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57280" y="468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457280" y="468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457280" y="467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57280" y="466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57280" y="4654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457280" y="464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457280" y="46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457280" y="462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457280" y="4619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57280" y="461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57280" y="46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7280" y="4594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57280" y="45846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57280" y="4576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57280" y="45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57280" y="455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57280" y="454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57280" y="454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57280" y="453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57280" y="45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57280" y="451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57280" y="4506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57280" y="449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58720" y="448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58720" y="447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58720" y="4471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58720" y="4462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58720" y="4454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58720" y="4446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58720" y="4437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58720" y="4429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58720" y="4419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58720" y="4411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58720" y="4402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58720" y="4394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458720" y="4384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458720" y="437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458720" y="436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458720" y="4359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458720" y="4349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8720" y="434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458720" y="433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458720" y="4324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458720" y="431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458720" y="4307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458720" y="42991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58720" y="4289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458720" y="4281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458720" y="4272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58720" y="42642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458720" y="425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458720" y="4246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458720" y="4237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458720" y="422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458720" y="4219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58720" y="421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458720" y="4202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458720" y="4194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458720" y="4186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458720" y="417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458720" y="4168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458720" y="4159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458720" y="4151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458720" y="414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458720" y="4133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458720" y="4124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458720" y="4116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458720" y="4106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458720" y="4098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458720" y="40892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458720" y="4081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458720" y="4071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58720" y="4064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458720" y="40543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58720" y="40464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458720" y="4038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458720" y="4029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458720" y="4021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58720" y="4011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58720" y="4003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58720" y="3994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5872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58720" y="3976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58720" y="3968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458720" y="3959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45872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2101680" y="3951360"/>
            <a:ext cx="6480" cy="1089000"/>
            <a:chOff x="2101680" y="3951360"/>
            <a:chExt cx="6480" cy="1089000"/>
          </a:xfrm>
        </p:grpSpPr>
        <p:sp>
          <p:nvSpPr>
            <p:cNvPr id="2579" name=""/>
            <p:cNvSpPr/>
            <p:nvPr/>
          </p:nvSpPr>
          <p:spPr>
            <a:xfrm>
              <a:off x="210168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0168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0168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0168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0168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0168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0168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0168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0168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0168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0168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0168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0168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0168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0168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0168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0168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0168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0168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0168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0168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0168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0168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0168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01680" y="475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01680" y="4749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01680" y="4740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01680" y="4732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01680" y="4724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01680" y="4714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01680" y="4707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01680" y="4697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01680" y="4689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101680" y="4680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101680" y="4672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4662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101680" y="4654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101680" y="464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101680" y="46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101680" y="4627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101680" y="4619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4610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101680" y="4602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101680" y="4594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101680" y="4584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101680" y="4576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101680" y="4567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101680" y="4559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1680" y="4549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1680" y="4541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4532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01680" y="4524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01680" y="451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101680" y="4506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101680" y="4497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03120" y="448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03120" y="44798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03120" y="44719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03120" y="4462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03120" y="4454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03120" y="44467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03120" y="4437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03120" y="4429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03120" y="4419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03120" y="44118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3120" y="4402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03120" y="4394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03120" y="4384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03120" y="437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03120" y="4367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03120" y="4359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03120" y="4349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03120" y="434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03120" y="4332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03120" y="43243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03120" y="43164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03120" y="4307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03120" y="429912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03120" y="4289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3120" y="4281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3120" y="4272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3120" y="4264200"/>
              <a:ext cx="504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3120" y="42544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3120" y="4246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120" y="4237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3120" y="422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3120" y="42195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3120" y="42116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3120" y="4202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03120" y="41940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03120" y="41860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120" y="41767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120" y="41688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03120" y="41590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03120" y="41511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03120" y="41418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03120" y="41338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03120" y="41241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03120" y="41162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03120" y="4106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03120" y="4098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03120" y="40892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03120" y="4081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03120" y="4071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3120" y="40640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3120" y="405432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03120" y="4046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03120" y="40384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03120" y="402912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03120" y="402120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03120" y="40114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03120" y="40035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03120" y="39942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03120" y="398628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03120" y="39765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03120" y="396864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03120" y="39592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31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2730600" y="3959280"/>
            <a:ext cx="9000" cy="1081080"/>
            <a:chOff x="2730600" y="3959280"/>
            <a:chExt cx="9000" cy="1081080"/>
          </a:xfrm>
        </p:grpSpPr>
        <p:sp>
          <p:nvSpPr>
            <p:cNvPr id="2706" name=""/>
            <p:cNvSpPr/>
            <p:nvPr/>
          </p:nvSpPr>
          <p:spPr>
            <a:xfrm>
              <a:off x="27306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7306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7306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7306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7306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7306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7306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7306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7306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7306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7306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306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7306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7306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7306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306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7306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7306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7306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306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306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7306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7306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7306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7306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7306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7306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7306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7306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7306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7306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7306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733480" y="4757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733480" y="474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733480" y="4740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733480" y="47322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733480" y="4724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733480" y="4714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733480" y="47070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733480" y="469728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733480" y="46893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733480" y="4680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733480" y="4672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733480" y="466236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733480" y="4654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733480" y="4645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733480" y="463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733480" y="462744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733480" y="46195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733480" y="4610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733480" y="460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733480" y="4594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33480" y="458460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733480" y="4576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733480" y="4567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733480" y="4559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733480" y="45496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33480" y="4541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733480" y="4532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733480" y="452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733480" y="45147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733480" y="4506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733480" y="4497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733480" y="4489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33480" y="44798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733480" y="44719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3480" y="4462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733480" y="4454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733480" y="44467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733480" y="44370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33480" y="44290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33480" y="44197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33480" y="44118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33480" y="44020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33480" y="43941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33480" y="43848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33480" y="4376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33480" y="43671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33480" y="4359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33480" y="4349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33480" y="43419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733480" y="43322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733480" y="43243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33480" y="431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733480" y="4307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733480" y="429912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33480" y="4289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733480" y="42814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733480" y="427212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3480" y="42642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3480" y="4254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733480" y="4246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33480" y="4237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733480" y="4229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7352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7352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7352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7352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7352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352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7352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352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7352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52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7352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7352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7352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7352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7352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7352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7352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7352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7352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27352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27352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27352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7352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7352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352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27352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7352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7352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352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7352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3362400" y="3959280"/>
            <a:ext cx="9000" cy="1081080"/>
            <a:chOff x="3362400" y="3959280"/>
            <a:chExt cx="9000" cy="1081080"/>
          </a:xfrm>
        </p:grpSpPr>
        <p:sp>
          <p:nvSpPr>
            <p:cNvPr id="2832" name=""/>
            <p:cNvSpPr/>
            <p:nvPr/>
          </p:nvSpPr>
          <p:spPr>
            <a:xfrm>
              <a:off x="3362400" y="5035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400" y="5027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2400" y="5018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2400" y="5010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2400" y="5002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362400" y="499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362400" y="49849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362400" y="4975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362400" y="49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362400" y="4957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362400" y="49500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362400" y="4940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362400" y="4932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362400" y="492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362400" y="4915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362400" y="4905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362400" y="4897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62400" y="488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362400" y="4879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62400" y="4871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362400" y="4862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362400" y="4854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362400" y="484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362400" y="4836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362400" y="4827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362400" y="4819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362400" y="4809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62400" y="4802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362400" y="4792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362400" y="478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362400" y="4775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362400" y="476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363840" y="4757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363840" y="474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363840" y="47401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363840" y="47322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363840" y="4724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363840" y="4714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63840" y="47070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3840" y="46972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363840" y="46893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363840" y="4680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363840" y="4672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363840" y="46623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363840" y="4654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363840" y="4645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363840" y="463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363840" y="46274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363840" y="46195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363840" y="4610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3840" y="460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363840" y="459432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363840" y="45846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363840" y="45766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363840" y="4567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363840" y="4559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363840" y="45496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363840" y="45417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363840" y="4532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63840" y="452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63840" y="45147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363840" y="4506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363840" y="4497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363840" y="448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3840" y="44798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363840" y="44719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63840" y="4462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363840" y="4454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63840" y="44467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363840" y="44370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3840" y="4429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363840" y="4419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363840" y="44118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363840" y="44020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363840" y="4394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363840" y="4384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3840" y="437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363840" y="43671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363840" y="4359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363840" y="4349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363840" y="434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363840" y="43322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363840" y="43243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363840" y="43164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63840" y="4307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63840" y="429912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63840" y="42894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3840" y="4281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63840" y="4272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63840" y="4264200"/>
              <a:ext cx="432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63840" y="42544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63840" y="4246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363840" y="4237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363840" y="422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367080" y="42195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67080" y="42116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67080" y="4202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67080" y="41940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367080" y="41860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367080" y="41767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67080" y="41688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67080" y="41590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367080" y="41511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67080" y="41418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67080" y="41338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367080" y="41241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67080" y="411624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367080" y="41068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367080" y="4098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367080" y="40892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367080" y="4081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67080" y="407196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67080" y="406404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67080" y="405432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67080" y="404640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67080" y="40384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67080" y="402912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367080" y="402120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367080" y="401148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367080" y="400356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367080" y="399420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367080" y="3986280"/>
              <a:ext cx="432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367080" y="397656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367080" y="3968640"/>
              <a:ext cx="43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367080" y="3959280"/>
              <a:ext cx="432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593640" y="503244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82080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5480" y="5364000"/>
            <a:ext cx="628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4605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106720" y="5370480"/>
            <a:ext cx="630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2736720" y="5038560"/>
            <a:ext cx="631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3367080" y="5370480"/>
            <a:ext cx="2192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1459080" y="503388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2103480" y="5040360"/>
            <a:ext cx="1440" cy="334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2733840" y="5040360"/>
            <a:ext cx="144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363840" y="5040360"/>
            <a:ext cx="1800" cy="330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00120" y="6226200"/>
            <a:ext cx="225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9" name=""/>
          <p:cNvGrpSpPr/>
          <p:nvPr/>
        </p:nvGrpSpPr>
        <p:grpSpPr>
          <a:xfrm>
            <a:off x="816120" y="5961240"/>
            <a:ext cx="137880" cy="47520"/>
            <a:chOff x="816120" y="5961240"/>
            <a:chExt cx="137880" cy="47520"/>
          </a:xfrm>
        </p:grpSpPr>
        <p:sp>
          <p:nvSpPr>
            <p:cNvPr id="2970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1612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70" y="0"/>
                  </a:lnTo>
                  <a:lnTo>
                    <a:pt x="54" y="3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2" name=""/>
          <p:cNvSpPr/>
          <p:nvPr/>
        </p:nvSpPr>
        <p:spPr>
          <a:xfrm>
            <a:off x="816120" y="6014880"/>
            <a:ext cx="288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454040" y="6225840"/>
            <a:ext cx="180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46052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2730600" y="6226200"/>
            <a:ext cx="63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6" name=""/>
          <p:cNvGrpSpPr/>
          <p:nvPr/>
        </p:nvGrpSpPr>
        <p:grpSpPr>
          <a:xfrm>
            <a:off x="2098800" y="5961240"/>
            <a:ext cx="137880" cy="47520"/>
            <a:chOff x="2098800" y="5961240"/>
            <a:chExt cx="137880" cy="47520"/>
          </a:xfrm>
        </p:grpSpPr>
        <p:sp>
          <p:nvSpPr>
            <p:cNvPr id="2977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98800" y="5961240"/>
              <a:ext cx="137880" cy="4752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87" y="0"/>
                  </a:moveTo>
                  <a:lnTo>
                    <a:pt x="69" y="0"/>
                  </a:lnTo>
                  <a:lnTo>
                    <a:pt x="52" y="3"/>
                  </a:lnTo>
                  <a:lnTo>
                    <a:pt x="39" y="5"/>
                  </a:lnTo>
                  <a:lnTo>
                    <a:pt x="25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9" name=""/>
          <p:cNvSpPr/>
          <p:nvPr/>
        </p:nvSpPr>
        <p:spPr>
          <a:xfrm>
            <a:off x="2098800" y="6014880"/>
            <a:ext cx="144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V="1">
            <a:off x="2730600" y="6225840"/>
            <a:ext cx="1440" cy="236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3360600" y="5961240"/>
            <a:ext cx="136440" cy="47520"/>
            <a:chOff x="3360600" y="5961240"/>
            <a:chExt cx="136440" cy="47520"/>
          </a:xfrm>
        </p:grpSpPr>
        <p:sp>
          <p:nvSpPr>
            <p:cNvPr id="2982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86" y="3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360600" y="5961240"/>
              <a:ext cx="136440" cy="47520"/>
            </a:xfrm>
            <a:custGeom>
              <a:avLst/>
              <a:gdLst/>
              <a:ahLst/>
              <a:rect l="l" t="t" r="r" b="b"/>
              <a:pathLst>
                <a:path w="86" h="30">
                  <a:moveTo>
                    <a:pt x="86" y="0"/>
                  </a:moveTo>
                  <a:lnTo>
                    <a:pt x="68" y="0"/>
                  </a:lnTo>
                  <a:lnTo>
                    <a:pt x="52" y="3"/>
                  </a:lnTo>
                  <a:lnTo>
                    <a:pt x="38" y="5"/>
                  </a:lnTo>
                  <a:lnTo>
                    <a:pt x="24" y="9"/>
                  </a:lnTo>
                  <a:lnTo>
                    <a:pt x="15" y="13"/>
                  </a:lnTo>
                  <a:lnTo>
                    <a:pt x="7" y="19"/>
                  </a:lnTo>
                  <a:lnTo>
                    <a:pt x="1" y="24"/>
                  </a:lnTo>
                  <a:lnTo>
                    <a:pt x="0" y="3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4" name=""/>
          <p:cNvSpPr/>
          <p:nvPr/>
        </p:nvSpPr>
        <p:spPr>
          <a:xfrm>
            <a:off x="3360600" y="6014880"/>
            <a:ext cx="1800" cy="21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909800" y="4224240"/>
            <a:ext cx="1440" cy="48888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755880" y="6264360"/>
            <a:ext cx="10980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793320" y="628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3755880" y="5241960"/>
            <a:ext cx="10980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793320" y="5254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727440" y="4265640"/>
            <a:ext cx="1094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3767760" y="42782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77720" y="416412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510480" y="4176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471600" y="5140440"/>
            <a:ext cx="11088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504000" y="515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477720" y="6164280"/>
            <a:ext cx="11124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10480" y="6176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255760" y="4495680"/>
            <a:ext cx="15264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290680" y="4506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345400" y="451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146320" y="5526000"/>
            <a:ext cx="11124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177640" y="554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23720" y="5762520"/>
            <a:ext cx="146160" cy="1396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456480" y="5778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00760" y="58212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3720" y="4754520"/>
            <a:ext cx="146160" cy="1364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56480" y="4767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00760" y="4809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71600" y="3809880"/>
            <a:ext cx="110880" cy="1382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92840" y="3825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537480" y="3868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814320" y="5370480"/>
            <a:ext cx="6120" cy="620640"/>
            <a:chOff x="814320" y="5370480"/>
            <a:chExt cx="6120" cy="620640"/>
          </a:xfrm>
        </p:grpSpPr>
        <p:sp>
          <p:nvSpPr>
            <p:cNvPr id="3013" name=""/>
            <p:cNvSpPr/>
            <p:nvPr/>
          </p:nvSpPr>
          <p:spPr>
            <a:xfrm>
              <a:off x="81432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1432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1432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1432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1432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1432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432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432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432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432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1432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1432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1432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1432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1432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1432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1432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1432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1432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432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432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432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432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1432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1432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1432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1432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1432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1432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1432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1432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1432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1432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1432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1432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1432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1576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1576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1576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1576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1576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1576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1576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1576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1576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1576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1576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1576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1576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1576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1576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1576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1576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1576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1576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1576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1576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1576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1576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1576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1576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1576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1576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1576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1576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1576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1576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1576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1576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1576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1576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1576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2101680" y="5370480"/>
            <a:ext cx="4680" cy="620640"/>
            <a:chOff x="2101680" y="5370480"/>
            <a:chExt cx="4680" cy="620640"/>
          </a:xfrm>
        </p:grpSpPr>
        <p:sp>
          <p:nvSpPr>
            <p:cNvPr id="3086" name=""/>
            <p:cNvSpPr/>
            <p:nvPr/>
          </p:nvSpPr>
          <p:spPr>
            <a:xfrm>
              <a:off x="210168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0168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0168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0168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0168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0168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0168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0168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0168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0168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0168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0168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0168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0168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10168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10168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10168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10168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10168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10168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0168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10168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10168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0168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10168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10168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10168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10168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10168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10168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10168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10168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10168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10168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10168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10168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10168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10168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10168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10168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10168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10168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10168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0168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10168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10168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10168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10168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0168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0168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10168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10168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0168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0168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10168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10168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10168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10168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10168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0168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0168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0168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0168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0168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0168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10168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10168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10168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0168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0168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10168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10168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1457280" y="5364000"/>
            <a:ext cx="3240" cy="863640"/>
            <a:chOff x="1457280" y="5364000"/>
            <a:chExt cx="3240" cy="863640"/>
          </a:xfrm>
        </p:grpSpPr>
        <p:sp>
          <p:nvSpPr>
            <p:cNvPr id="3159" name=""/>
            <p:cNvSpPr/>
            <p:nvPr/>
          </p:nvSpPr>
          <p:spPr>
            <a:xfrm>
              <a:off x="1457280" y="6222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457280" y="6215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457280" y="6205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457280" y="619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57280" y="6188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57280" y="6180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57280" y="6170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457280" y="616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457280" y="6153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57280" y="6145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457280" y="6137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1457280" y="6127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457280" y="6119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457280" y="611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457280" y="6102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457280" y="609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57280" y="60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1457280" y="607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1457280" y="6067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457280" y="6058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457280" y="6049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457280" y="6040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457280" y="6032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457280" y="60228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457280" y="601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457280" y="6005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457280" y="5997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457280" y="5989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7280" y="59799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457280" y="597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457280" y="596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457280" y="595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457280" y="59450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457280" y="59371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57280" y="5927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457280" y="591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457280" y="59101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457280" y="5902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57280" y="5892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57280" y="588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457280" y="58752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457280" y="58672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457280" y="5859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57280" y="5850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457280" y="58420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457280" y="58323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457280" y="5824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457280" y="5815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457280" y="5807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457280" y="57974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57280" y="57895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57280" y="5780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457280" y="577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457280" y="57625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457280" y="57546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457280" y="5745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457280" y="573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457280" y="5729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457280" y="5719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57280" y="5711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4572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457280" y="56944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457280" y="56847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457280" y="5676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457280" y="5667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457280" y="565956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457280" y="56498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457280" y="5641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457280" y="563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1457280" y="5624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457280" y="56149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457280" y="5607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457280" y="5597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457280" y="5589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457280" y="55818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457280" y="55720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457280" y="5564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457280" y="55548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457280" y="5546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145728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457280" y="55292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57280" y="55198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57280" y="5511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457280" y="5502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457280" y="549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457280" y="5484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457280" y="5477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457280" y="5467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457280" y="5459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457280" y="545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57280" y="54421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57280" y="54338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57280" y="5424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457280" y="541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457280" y="54072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57280" y="539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457280" y="5389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457280" y="538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457280" y="5372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457280" y="536400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9" name=""/>
          <p:cNvGrpSpPr/>
          <p:nvPr/>
        </p:nvGrpSpPr>
        <p:grpSpPr>
          <a:xfrm>
            <a:off x="2730600" y="5357880"/>
            <a:ext cx="4680" cy="863640"/>
            <a:chOff x="2730600" y="5357880"/>
            <a:chExt cx="4680" cy="863640"/>
          </a:xfrm>
        </p:grpSpPr>
        <p:sp>
          <p:nvSpPr>
            <p:cNvPr id="3260" name=""/>
            <p:cNvSpPr/>
            <p:nvPr/>
          </p:nvSpPr>
          <p:spPr>
            <a:xfrm>
              <a:off x="2730600" y="62164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30600" y="6208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30600" y="61992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730600" y="6191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0600" y="61815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730600" y="6173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730600" y="6164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730600" y="615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730600" y="61466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730600" y="6138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730600" y="6129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730600" y="612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730600" y="61117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730600" y="61038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30600" y="6095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30600" y="6086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730600" y="6078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730600" y="6068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730600" y="6060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730600" y="6051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730600" y="6043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730600" y="6033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730600" y="6026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730600" y="6016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730600" y="600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730600" y="5999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730600" y="5991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730600" y="5981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730600" y="597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730600" y="5965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30600" y="5956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30600" y="5948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30600" y="5938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30600" y="5931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30600" y="5921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30600" y="59133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30600" y="5904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30600" y="589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30600" y="58863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30600" y="5878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730600" y="5869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730600" y="586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730600" y="5851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730600" y="5843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730600" y="5834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730600" y="582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730600" y="58183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730600" y="5808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730600" y="580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730600" y="5791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730600" y="57834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730600" y="5773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730600" y="5765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730600" y="5756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7306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730600" y="5738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730600" y="5730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730600" y="5721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730600" y="571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730600" y="5703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730600" y="5695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730600" y="5688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730600" y="5678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30600" y="56707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730600" y="566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730600" y="5653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730600" y="5643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730600" y="563580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730600" y="5626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730600" y="5618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730600" y="5608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730600" y="5600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730600" y="5591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730600" y="5583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730600" y="5573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730600" y="5565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730600" y="5557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730600" y="5548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30600" y="5540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730600" y="5530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730600" y="552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730600" y="5513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730600" y="55054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730600" y="5495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730600" y="5487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730600" y="547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730600" y="5470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730600" y="5460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730600" y="5452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730600" y="5443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730600" y="5435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730600" y="54259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730600" y="54180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730600" y="5410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730600" y="5400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730600" y="5392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730600" y="53830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730600" y="5375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730600" y="5365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730600" y="53578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3362400" y="5370480"/>
            <a:ext cx="4680" cy="620640"/>
            <a:chOff x="3362400" y="5370480"/>
            <a:chExt cx="4680" cy="620640"/>
          </a:xfrm>
        </p:grpSpPr>
        <p:sp>
          <p:nvSpPr>
            <p:cNvPr id="3361" name=""/>
            <p:cNvSpPr/>
            <p:nvPr/>
          </p:nvSpPr>
          <p:spPr>
            <a:xfrm>
              <a:off x="3362400" y="59864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3362400" y="5978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3362400" y="5969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362400" y="596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3362400" y="59515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3362400" y="5943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362400" y="5934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362400" y="59259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62400" y="59166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362400" y="5908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62400" y="5900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362400" y="58910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62400" y="58831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362400" y="5873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362400" y="5865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33624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62400" y="58482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362400" y="5838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362400" y="5830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362400" y="58212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3362400" y="5813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3362400" y="5803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362400" y="579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362400" y="578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362400" y="5778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3362400" y="5769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362400" y="576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362400" y="57531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362400" y="574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362400" y="57355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362400" y="5726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362400" y="5718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362400" y="5708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362400" y="57006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362400" y="5691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362400" y="568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362400" y="567360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62400" y="5665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362400" y="5656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3362400" y="564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362400" y="56386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362400" y="56307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362400" y="562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362400" y="5613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362400" y="56055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362400" y="55958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362400" y="5587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62400" y="557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62400" y="55706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362400" y="55609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3362400" y="5553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362400" y="5543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3362400" y="5535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362400" y="5526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362400" y="5518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362400" y="5508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362400" y="5500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362400" y="54910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362400" y="5483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362400" y="5475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2400" y="54658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2400" y="5457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2400" y="5448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3362400" y="5440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362400" y="54309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3362400" y="542304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362400" y="5413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362400" y="5405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3362400" y="539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3362400" y="5388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362400" y="5378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362400" y="5370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6306480" y="5133960"/>
            <a:ext cx="201240" cy="407160"/>
            <a:chOff x="6306480" y="5133960"/>
            <a:chExt cx="201240" cy="407160"/>
          </a:xfrm>
        </p:grpSpPr>
        <p:sp>
          <p:nvSpPr>
            <p:cNvPr id="3434" name=""/>
            <p:cNvSpPr/>
            <p:nvPr/>
          </p:nvSpPr>
          <p:spPr>
            <a:xfrm>
              <a:off x="6402240" y="5308560"/>
              <a:ext cx="96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06480" y="52149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0584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41700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8" name=""/>
          <p:cNvGrpSpPr/>
          <p:nvPr/>
        </p:nvGrpSpPr>
        <p:grpSpPr>
          <a:xfrm>
            <a:off x="7243920" y="5133960"/>
            <a:ext cx="105840" cy="407160"/>
            <a:chOff x="7243920" y="5133960"/>
            <a:chExt cx="105840" cy="407160"/>
          </a:xfrm>
        </p:grpSpPr>
        <p:sp>
          <p:nvSpPr>
            <p:cNvPr id="3439" name=""/>
            <p:cNvSpPr/>
            <p:nvPr/>
          </p:nvSpPr>
          <p:spPr>
            <a:xfrm>
              <a:off x="7243920" y="53085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247880" y="5133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59040" y="5327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419880" y="4565520"/>
            <a:ext cx="420480" cy="314280"/>
            <a:chOff x="6419880" y="4565520"/>
            <a:chExt cx="420480" cy="314280"/>
          </a:xfrm>
        </p:grpSpPr>
        <p:sp>
          <p:nvSpPr>
            <p:cNvPr id="3443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  <a:lnTo>
                    <a:pt x="265" y="19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19880" y="4565520"/>
              <a:ext cx="42048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265" y="0"/>
                  </a:moveTo>
                  <a:lnTo>
                    <a:pt x="238" y="2"/>
                  </a:lnTo>
                  <a:lnTo>
                    <a:pt x="211" y="4"/>
                  </a:lnTo>
                  <a:lnTo>
                    <a:pt x="161" y="16"/>
                  </a:lnTo>
                  <a:lnTo>
                    <a:pt x="117" y="35"/>
                  </a:lnTo>
                  <a:lnTo>
                    <a:pt x="79" y="58"/>
                  </a:lnTo>
                  <a:lnTo>
                    <a:pt x="61" y="71"/>
                  </a:lnTo>
                  <a:lnTo>
                    <a:pt x="46" y="87"/>
                  </a:lnTo>
                  <a:lnTo>
                    <a:pt x="32" y="104"/>
                  </a:lnTo>
                  <a:lnTo>
                    <a:pt x="21" y="121"/>
                  </a:lnTo>
                  <a:lnTo>
                    <a:pt x="11" y="139"/>
                  </a:lnTo>
                  <a:lnTo>
                    <a:pt x="6" y="158"/>
                  </a:lnTo>
                  <a:lnTo>
                    <a:pt x="2" y="177"/>
                  </a:lnTo>
                  <a:lnTo>
                    <a:pt x="0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840360" y="4565520"/>
            <a:ext cx="420840" cy="314280"/>
            <a:chOff x="6840360" y="4565520"/>
            <a:chExt cx="420840" cy="314280"/>
          </a:xfrm>
        </p:grpSpPr>
        <p:sp>
          <p:nvSpPr>
            <p:cNvPr id="3446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40360" y="4565520"/>
              <a:ext cx="420840" cy="314280"/>
            </a:xfrm>
            <a:custGeom>
              <a:avLst/>
              <a:gdLst/>
              <a:ahLst/>
              <a:rect l="l" t="t" r="r" b="b"/>
              <a:pathLst>
                <a:path w="265" h="198">
                  <a:moveTo>
                    <a:pt x="0" y="0"/>
                  </a:moveTo>
                  <a:lnTo>
                    <a:pt x="27" y="2"/>
                  </a:lnTo>
                  <a:lnTo>
                    <a:pt x="54" y="4"/>
                  </a:lnTo>
                  <a:lnTo>
                    <a:pt x="104" y="16"/>
                  </a:lnTo>
                  <a:lnTo>
                    <a:pt x="148" y="35"/>
                  </a:lnTo>
                  <a:lnTo>
                    <a:pt x="188" y="58"/>
                  </a:lnTo>
                  <a:lnTo>
                    <a:pt x="203" y="71"/>
                  </a:lnTo>
                  <a:lnTo>
                    <a:pt x="219" y="87"/>
                  </a:lnTo>
                  <a:lnTo>
                    <a:pt x="232" y="104"/>
                  </a:lnTo>
                  <a:lnTo>
                    <a:pt x="244" y="121"/>
                  </a:lnTo>
                  <a:lnTo>
                    <a:pt x="253" y="139"/>
                  </a:lnTo>
                  <a:lnTo>
                    <a:pt x="259" y="158"/>
                  </a:lnTo>
                  <a:lnTo>
                    <a:pt x="263" y="177"/>
                  </a:lnTo>
                  <a:lnTo>
                    <a:pt x="265" y="19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 flipH="1">
            <a:off x="6240600" y="4849920"/>
            <a:ext cx="1728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248600" y="4849920"/>
            <a:ext cx="174600" cy="546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0" name=""/>
          <p:cNvGrpSpPr/>
          <p:nvPr/>
        </p:nvGrpSpPr>
        <p:grpSpPr>
          <a:xfrm>
            <a:off x="7423200" y="5383080"/>
            <a:ext cx="417600" cy="317520"/>
            <a:chOff x="7423200" y="5383080"/>
            <a:chExt cx="417600" cy="317520"/>
          </a:xfrm>
        </p:grpSpPr>
        <p:sp>
          <p:nvSpPr>
            <p:cNvPr id="3451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3" y="0"/>
                  </a:lnTo>
                  <a:lnTo>
                    <a:pt x="263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423200" y="5383080"/>
              <a:ext cx="417600" cy="317520"/>
            </a:xfrm>
            <a:custGeom>
              <a:avLst/>
              <a:gdLst/>
              <a:ahLst/>
              <a:rect l="l" t="t" r="r" b="b"/>
              <a:pathLst>
                <a:path w="263" h="200">
                  <a:moveTo>
                    <a:pt x="263" y="200"/>
                  </a:moveTo>
                  <a:lnTo>
                    <a:pt x="236" y="200"/>
                  </a:lnTo>
                  <a:lnTo>
                    <a:pt x="209" y="196"/>
                  </a:lnTo>
                  <a:lnTo>
                    <a:pt x="161" y="184"/>
                  </a:lnTo>
                  <a:lnTo>
                    <a:pt x="115" y="165"/>
                  </a:lnTo>
                  <a:lnTo>
                    <a:pt x="76" y="142"/>
                  </a:lnTo>
                  <a:lnTo>
                    <a:pt x="59" y="127"/>
                  </a:lnTo>
                  <a:lnTo>
                    <a:pt x="44" y="111"/>
                  </a:lnTo>
                  <a:lnTo>
                    <a:pt x="30" y="96"/>
                  </a:lnTo>
                  <a:lnTo>
                    <a:pt x="21" y="79"/>
                  </a:lnTo>
                  <a:lnTo>
                    <a:pt x="11" y="60"/>
                  </a:lnTo>
                  <a:lnTo>
                    <a:pt x="5" y="40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3" name=""/>
          <p:cNvGrpSpPr/>
          <p:nvPr/>
        </p:nvGrpSpPr>
        <p:grpSpPr>
          <a:xfrm>
            <a:off x="7840800" y="5383080"/>
            <a:ext cx="420480" cy="317520"/>
            <a:chOff x="7840800" y="5383080"/>
            <a:chExt cx="420480" cy="317520"/>
          </a:xfrm>
        </p:grpSpPr>
        <p:sp>
          <p:nvSpPr>
            <p:cNvPr id="3454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840800" y="538308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0" y="200"/>
                  </a:moveTo>
                  <a:lnTo>
                    <a:pt x="27" y="200"/>
                  </a:lnTo>
                  <a:lnTo>
                    <a:pt x="54" y="196"/>
                  </a:lnTo>
                  <a:lnTo>
                    <a:pt x="103" y="184"/>
                  </a:lnTo>
                  <a:lnTo>
                    <a:pt x="148" y="165"/>
                  </a:lnTo>
                  <a:lnTo>
                    <a:pt x="188" y="142"/>
                  </a:lnTo>
                  <a:lnTo>
                    <a:pt x="203" y="127"/>
                  </a:lnTo>
                  <a:lnTo>
                    <a:pt x="219" y="111"/>
                  </a:lnTo>
                  <a:lnTo>
                    <a:pt x="232" y="96"/>
                  </a:lnTo>
                  <a:lnTo>
                    <a:pt x="244" y="79"/>
                  </a:lnTo>
                  <a:lnTo>
                    <a:pt x="253" y="60"/>
                  </a:lnTo>
                  <a:lnTo>
                    <a:pt x="259" y="40"/>
                  </a:lnTo>
                  <a:lnTo>
                    <a:pt x="263" y="21"/>
                  </a:lnTo>
                  <a:lnTo>
                    <a:pt x="26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6" name=""/>
          <p:cNvGrpSpPr/>
          <p:nvPr/>
        </p:nvGrpSpPr>
        <p:grpSpPr>
          <a:xfrm>
            <a:off x="5400720" y="5373720"/>
            <a:ext cx="420480" cy="317520"/>
            <a:chOff x="5400720" y="5373720"/>
            <a:chExt cx="420480" cy="317520"/>
          </a:xfrm>
        </p:grpSpPr>
        <p:sp>
          <p:nvSpPr>
            <p:cNvPr id="3457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265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400720" y="5373720"/>
              <a:ext cx="420480" cy="317520"/>
            </a:xfrm>
            <a:custGeom>
              <a:avLst/>
              <a:gdLst/>
              <a:ahLst/>
              <a:rect l="l" t="t" r="r" b="b"/>
              <a:pathLst>
                <a:path w="265" h="200">
                  <a:moveTo>
                    <a:pt x="265" y="200"/>
                  </a:moveTo>
                  <a:lnTo>
                    <a:pt x="239" y="198"/>
                  </a:lnTo>
                  <a:lnTo>
                    <a:pt x="212" y="196"/>
                  </a:lnTo>
                  <a:lnTo>
                    <a:pt x="162" y="185"/>
                  </a:lnTo>
                  <a:lnTo>
                    <a:pt x="118" y="165"/>
                  </a:lnTo>
                  <a:lnTo>
                    <a:pt x="79" y="140"/>
                  </a:lnTo>
                  <a:lnTo>
                    <a:pt x="62" y="127"/>
                  </a:lnTo>
                  <a:lnTo>
                    <a:pt x="47" y="112"/>
                  </a:lnTo>
                  <a:lnTo>
                    <a:pt x="33" y="94"/>
                  </a:lnTo>
                  <a:lnTo>
                    <a:pt x="22" y="77"/>
                  </a:lnTo>
                  <a:lnTo>
                    <a:pt x="12" y="60"/>
                  </a:lnTo>
                  <a:lnTo>
                    <a:pt x="6" y="41"/>
                  </a:lnTo>
                  <a:lnTo>
                    <a:pt x="2" y="2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9" name=""/>
          <p:cNvGrpSpPr/>
          <p:nvPr/>
        </p:nvGrpSpPr>
        <p:grpSpPr>
          <a:xfrm>
            <a:off x="5821200" y="5373720"/>
            <a:ext cx="419040" cy="317520"/>
            <a:chOff x="5821200" y="5373720"/>
            <a:chExt cx="419040" cy="317520"/>
          </a:xfrm>
        </p:grpSpPr>
        <p:sp>
          <p:nvSpPr>
            <p:cNvPr id="3460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821200" y="5373720"/>
              <a:ext cx="419040" cy="317520"/>
            </a:xfrm>
            <a:custGeom>
              <a:avLst/>
              <a:gdLst/>
              <a:ahLst/>
              <a:rect l="l" t="t" r="r" b="b"/>
              <a:pathLst>
                <a:path w="264" h="200">
                  <a:moveTo>
                    <a:pt x="0" y="200"/>
                  </a:moveTo>
                  <a:lnTo>
                    <a:pt x="27" y="198"/>
                  </a:lnTo>
                  <a:lnTo>
                    <a:pt x="54" y="196"/>
                  </a:lnTo>
                  <a:lnTo>
                    <a:pt x="104" y="185"/>
                  </a:lnTo>
                  <a:lnTo>
                    <a:pt x="148" y="165"/>
                  </a:lnTo>
                  <a:lnTo>
                    <a:pt x="187" y="140"/>
                  </a:lnTo>
                  <a:lnTo>
                    <a:pt x="204" y="127"/>
                  </a:lnTo>
                  <a:lnTo>
                    <a:pt x="219" y="112"/>
                  </a:lnTo>
                  <a:lnTo>
                    <a:pt x="233" y="94"/>
                  </a:lnTo>
                  <a:lnTo>
                    <a:pt x="242" y="77"/>
                  </a:lnTo>
                  <a:lnTo>
                    <a:pt x="252" y="60"/>
                  </a:lnTo>
                  <a:lnTo>
                    <a:pt x="258" y="41"/>
                  </a:lnTo>
                  <a:lnTo>
                    <a:pt x="262" y="21"/>
                  </a:lnTo>
                  <a:lnTo>
                    <a:pt x="26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"/>
          <p:cNvSpPr/>
          <p:nvPr/>
        </p:nvSpPr>
        <p:spPr>
          <a:xfrm>
            <a:off x="5307120" y="5108400"/>
            <a:ext cx="85680" cy="26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6397560" y="4562640"/>
            <a:ext cx="433440" cy="6120"/>
            <a:chOff x="6397560" y="4562640"/>
            <a:chExt cx="433440" cy="6120"/>
          </a:xfrm>
        </p:grpSpPr>
        <p:sp>
          <p:nvSpPr>
            <p:cNvPr id="3464" name=""/>
            <p:cNvSpPr/>
            <p:nvPr/>
          </p:nvSpPr>
          <p:spPr>
            <a:xfrm>
              <a:off x="6397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4101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422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433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46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594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47064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832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95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50844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6519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5325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5451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556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689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581520" y="456264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592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6052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61824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62940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6420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65460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6657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67836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69132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021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71508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672768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7388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67514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76404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77700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7881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800760" y="45626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813360" y="4562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824520" y="45626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0" name=""/>
          <p:cNvSpPr/>
          <p:nvPr/>
        </p:nvSpPr>
        <p:spPr>
          <a:xfrm>
            <a:off x="6604920" y="41385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6668280" y="42004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6041160" y="44928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6104520" y="45543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6422400" y="57513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6492240" y="5764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6555600" y="582444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936480" y="5157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952760" y="5141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895000" y="515160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609480" y="42307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09480" y="522432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09480" y="6226200"/>
            <a:ext cx="336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1484280" y="565308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1967040" y="471312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V="1">
            <a:off x="606600" y="379728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 flipV="1">
            <a:off x="568440" y="47512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581040" y="571500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6827760" y="4057560"/>
            <a:ext cx="0" cy="17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195880" y="5097600"/>
            <a:ext cx="34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 flipV="1">
            <a:off x="7446960" y="164412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 flipV="1">
            <a:off x="5219640" y="158400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 flipV="1">
            <a:off x="1434960" y="1620360"/>
            <a:ext cx="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1892160" y="25732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 flipV="1">
            <a:off x="3711600" y="16570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"/>
          <p:cNvSpPr/>
          <p:nvPr/>
        </p:nvSpPr>
        <p:spPr>
          <a:xfrm>
            <a:off x="251208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2351160" y="617220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w stanie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1835280" y="995400"/>
            <a:ext cx="5833800" cy="5100480"/>
            <a:chOff x="1835280" y="995400"/>
            <a:chExt cx="5833800" cy="5100480"/>
          </a:xfrm>
        </p:grpSpPr>
        <p:sp>
          <p:nvSpPr>
            <p:cNvPr id="3528" name=""/>
            <p:cNvSpPr/>
            <p:nvPr/>
          </p:nvSpPr>
          <p:spPr>
            <a:xfrm>
              <a:off x="4010040" y="995400"/>
              <a:ext cx="1339920" cy="6588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468680" y="1022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721400" y="102240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ł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260960" y="122400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próbku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856040" y="12240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ąco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232520" y="14241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-pam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691160" y="14241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ętają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989440" y="1320840"/>
              <a:ext cx="522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646520" y="2058840"/>
              <a:ext cx="55800" cy="52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319800" y="1320840"/>
              <a:ext cx="5544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046320" y="1344600"/>
              <a:ext cx="96372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370480" y="1344600"/>
              <a:ext cx="9684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0" name=""/>
            <p:cNvGrpSpPr/>
            <p:nvPr/>
          </p:nvGrpSpPr>
          <p:grpSpPr>
            <a:xfrm>
              <a:off x="4641840" y="2192400"/>
              <a:ext cx="84240" cy="260280"/>
              <a:chOff x="4641840" y="2192400"/>
              <a:chExt cx="84240" cy="260280"/>
            </a:xfrm>
          </p:grpSpPr>
          <p:sp>
            <p:nvSpPr>
              <p:cNvPr id="3541" name=""/>
              <p:cNvSpPr/>
              <p:nvPr/>
            </p:nvSpPr>
            <p:spPr>
              <a:xfrm flipH="1">
                <a:off x="4677840" y="2192400"/>
                <a:ext cx="8280" cy="260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641840" y="21924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8" y="0"/>
                    </a:lnTo>
                    <a:lnTo>
                      <a:pt x="0" y="5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2968560" y="1946160"/>
              <a:ext cx="1256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26000" y="2502000"/>
              <a:ext cx="12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299280" y="1911240"/>
              <a:ext cx="123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81500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040360" y="1822320"/>
              <a:ext cx="468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879800" y="1822320"/>
              <a:ext cx="180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05520" y="1822320"/>
              <a:ext cx="1440" cy="12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879800" y="1935000"/>
              <a:ext cx="1652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815000" y="182232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056200" y="1822320"/>
              <a:ext cx="60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116680" y="1935000"/>
              <a:ext cx="64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767120" y="1935000"/>
              <a:ext cx="637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94200" y="1006560"/>
              <a:ext cx="333360" cy="280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201480" y="1038240"/>
              <a:ext cx="11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9524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79480" y="1646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71656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91160" y="1565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576120" y="1646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633000" y="15652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854240" y="2184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39560" y="2263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96080" y="2184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868400" y="25970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941480" y="2733840"/>
              <a:ext cx="1825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012400" y="2760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071080" y="28288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2131920" y="2964960"/>
              <a:ext cx="31932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1" name=""/>
            <p:cNvGrpSpPr/>
            <p:nvPr/>
          </p:nvGrpSpPr>
          <p:grpSpPr>
            <a:xfrm>
              <a:off x="2451240" y="2819520"/>
              <a:ext cx="309600" cy="149040"/>
              <a:chOff x="2451240" y="2819520"/>
              <a:chExt cx="309600" cy="149040"/>
            </a:xfrm>
          </p:grpSpPr>
          <p:sp>
            <p:nvSpPr>
              <p:cNvPr id="3572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24512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7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5" y="40"/>
                    </a:lnTo>
                    <a:lnTo>
                      <a:pt x="15" y="57"/>
                    </a:lnTo>
                    <a:lnTo>
                      <a:pt x="5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4" name=""/>
            <p:cNvSpPr/>
            <p:nvPr/>
          </p:nvSpPr>
          <p:spPr>
            <a:xfrm flipH="1" flipV="1">
              <a:off x="30873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2781360" y="2819520"/>
              <a:ext cx="309600" cy="149040"/>
              <a:chOff x="2781360" y="2819520"/>
              <a:chExt cx="309600" cy="149040"/>
            </a:xfrm>
          </p:grpSpPr>
          <p:sp>
            <p:nvSpPr>
              <p:cNvPr id="3576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278136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9" y="2"/>
                    </a:lnTo>
                    <a:lnTo>
                      <a:pt x="75" y="6"/>
                    </a:lnTo>
                    <a:lnTo>
                      <a:pt x="110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8" name=""/>
            <p:cNvSpPr/>
            <p:nvPr/>
          </p:nvSpPr>
          <p:spPr>
            <a:xfrm>
              <a:off x="3417840" y="339084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9" name=""/>
            <p:cNvGrpSpPr/>
            <p:nvPr/>
          </p:nvGrpSpPr>
          <p:grpSpPr>
            <a:xfrm>
              <a:off x="3738600" y="3795840"/>
              <a:ext cx="309600" cy="149040"/>
              <a:chOff x="3738600" y="3795840"/>
              <a:chExt cx="309600" cy="149040"/>
            </a:xfrm>
          </p:grpSpPr>
          <p:sp>
            <p:nvSpPr>
              <p:cNvPr id="3580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73860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94"/>
                    </a:moveTo>
                    <a:lnTo>
                      <a:pt x="156" y="92"/>
                    </a:lnTo>
                    <a:lnTo>
                      <a:pt x="120" y="88"/>
                    </a:lnTo>
                    <a:lnTo>
                      <a:pt x="85" y="77"/>
                    </a:lnTo>
                    <a:lnTo>
                      <a:pt x="57" y="66"/>
                    </a:lnTo>
                    <a:lnTo>
                      <a:pt x="34" y="53"/>
                    </a:lnTo>
                    <a:lnTo>
                      <a:pt x="15" y="36"/>
                    </a:lnTo>
                    <a:lnTo>
                      <a:pt x="4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 flipH="1">
              <a:off x="4378320" y="339084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3" name=""/>
            <p:cNvGrpSpPr/>
            <p:nvPr/>
          </p:nvGrpSpPr>
          <p:grpSpPr>
            <a:xfrm>
              <a:off x="4068720" y="3795840"/>
              <a:ext cx="309600" cy="149040"/>
              <a:chOff x="4068720" y="3795840"/>
              <a:chExt cx="309600" cy="149040"/>
            </a:xfrm>
          </p:grpSpPr>
          <p:sp>
            <p:nvSpPr>
              <p:cNvPr id="3584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68720" y="379584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94"/>
                    </a:moveTo>
                    <a:lnTo>
                      <a:pt x="38" y="92"/>
                    </a:lnTo>
                    <a:lnTo>
                      <a:pt x="75" y="88"/>
                    </a:lnTo>
                    <a:lnTo>
                      <a:pt x="109" y="77"/>
                    </a:lnTo>
                    <a:lnTo>
                      <a:pt x="137" y="66"/>
                    </a:lnTo>
                    <a:lnTo>
                      <a:pt x="160" y="53"/>
                    </a:lnTo>
                    <a:lnTo>
                      <a:pt x="180" y="36"/>
                    </a:lnTo>
                    <a:lnTo>
                      <a:pt x="190" y="19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6" name=""/>
            <p:cNvSpPr/>
            <p:nvPr/>
          </p:nvSpPr>
          <p:spPr>
            <a:xfrm flipV="1">
              <a:off x="4703760" y="2964960"/>
              <a:ext cx="3207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7" name=""/>
            <p:cNvGrpSpPr/>
            <p:nvPr/>
          </p:nvGrpSpPr>
          <p:grpSpPr>
            <a:xfrm>
              <a:off x="5024520" y="2819520"/>
              <a:ext cx="309600" cy="149040"/>
              <a:chOff x="5024520" y="2819520"/>
              <a:chExt cx="309600" cy="149040"/>
            </a:xfrm>
          </p:grpSpPr>
          <p:sp>
            <p:nvSpPr>
              <p:cNvPr id="3588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  <a:lnTo>
                      <a:pt x="195" y="94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02452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195" y="0"/>
                    </a:moveTo>
                    <a:lnTo>
                      <a:pt x="156" y="2"/>
                    </a:lnTo>
                    <a:lnTo>
                      <a:pt x="120" y="6"/>
                    </a:lnTo>
                    <a:lnTo>
                      <a:pt x="86" y="15"/>
                    </a:lnTo>
                    <a:lnTo>
                      <a:pt x="58" y="27"/>
                    </a:lnTo>
                    <a:lnTo>
                      <a:pt x="34" y="40"/>
                    </a:lnTo>
                    <a:lnTo>
                      <a:pt x="15" y="57"/>
                    </a:lnTo>
                    <a:lnTo>
                      <a:pt x="4" y="75"/>
                    </a:lnTo>
                    <a:lnTo>
                      <a:pt x="0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0" name=""/>
            <p:cNvSpPr/>
            <p:nvPr/>
          </p:nvSpPr>
          <p:spPr>
            <a:xfrm flipH="1" flipV="1">
              <a:off x="5664240" y="2964960"/>
              <a:ext cx="31896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5354640" y="2819520"/>
              <a:ext cx="309600" cy="149040"/>
              <a:chOff x="5354640" y="2819520"/>
              <a:chExt cx="309600" cy="149040"/>
            </a:xfrm>
          </p:grpSpPr>
          <p:sp>
            <p:nvSpPr>
              <p:cNvPr id="3592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  <a:lnTo>
                      <a:pt x="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354640" y="2819520"/>
                <a:ext cx="309600" cy="149040"/>
              </a:xfrm>
              <a:custGeom>
                <a:avLst/>
                <a:gdLst/>
                <a:ahLst/>
                <a:rect l="l" t="t" r="r" b="b"/>
                <a:pathLst>
                  <a:path w="195" h="94">
                    <a:moveTo>
                      <a:pt x="0" y="0"/>
                    </a:moveTo>
                    <a:lnTo>
                      <a:pt x="38" y="2"/>
                    </a:lnTo>
                    <a:lnTo>
                      <a:pt x="75" y="6"/>
                    </a:lnTo>
                    <a:lnTo>
                      <a:pt x="109" y="15"/>
                    </a:lnTo>
                    <a:lnTo>
                      <a:pt x="137" y="27"/>
                    </a:lnTo>
                    <a:lnTo>
                      <a:pt x="161" y="40"/>
                    </a:lnTo>
                    <a:lnTo>
                      <a:pt x="180" y="57"/>
                    </a:lnTo>
                    <a:lnTo>
                      <a:pt x="191" y="75"/>
                    </a:lnTo>
                    <a:lnTo>
                      <a:pt x="195" y="9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4" name=""/>
            <p:cNvSpPr/>
            <p:nvPr/>
          </p:nvSpPr>
          <p:spPr>
            <a:xfrm>
              <a:off x="5994360" y="3379680"/>
              <a:ext cx="316080" cy="405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6310440" y="3784680"/>
              <a:ext cx="309600" cy="150840"/>
              <a:chOff x="6310440" y="3784680"/>
              <a:chExt cx="309600" cy="150840"/>
            </a:xfrm>
          </p:grpSpPr>
          <p:sp>
            <p:nvSpPr>
              <p:cNvPr id="3596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95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31044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195" y="95"/>
                    </a:moveTo>
                    <a:lnTo>
                      <a:pt x="157" y="93"/>
                    </a:lnTo>
                    <a:lnTo>
                      <a:pt x="120" y="88"/>
                    </a:lnTo>
                    <a:lnTo>
                      <a:pt x="86" y="78"/>
                    </a:lnTo>
                    <a:lnTo>
                      <a:pt x="58" y="67"/>
                    </a:lnTo>
                    <a:lnTo>
                      <a:pt x="34" y="54"/>
                    </a:lnTo>
                    <a:lnTo>
                      <a:pt x="15" y="37"/>
                    </a:lnTo>
                    <a:lnTo>
                      <a:pt x="4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8" name=""/>
            <p:cNvGrpSpPr/>
            <p:nvPr/>
          </p:nvGrpSpPr>
          <p:grpSpPr>
            <a:xfrm>
              <a:off x="6640560" y="3784680"/>
              <a:ext cx="309600" cy="150840"/>
              <a:chOff x="6640560" y="3784680"/>
              <a:chExt cx="309600" cy="150840"/>
            </a:xfrm>
          </p:grpSpPr>
          <p:sp>
            <p:nvSpPr>
              <p:cNvPr id="3599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  <a:lnTo>
                      <a:pt x="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640560" y="3784680"/>
                <a:ext cx="309600" cy="150840"/>
              </a:xfrm>
              <a:custGeom>
                <a:avLst/>
                <a:gdLst/>
                <a:ahLst/>
                <a:rect l="l" t="t" r="r" b="b"/>
                <a:pathLst>
                  <a:path w="195" h="95">
                    <a:moveTo>
                      <a:pt x="0" y="95"/>
                    </a:moveTo>
                    <a:lnTo>
                      <a:pt x="39" y="93"/>
                    </a:lnTo>
                    <a:lnTo>
                      <a:pt x="75" y="88"/>
                    </a:lnTo>
                    <a:lnTo>
                      <a:pt x="109" y="78"/>
                    </a:lnTo>
                    <a:lnTo>
                      <a:pt x="137" y="67"/>
                    </a:lnTo>
                    <a:lnTo>
                      <a:pt x="161" y="54"/>
                    </a:lnTo>
                    <a:lnTo>
                      <a:pt x="180" y="37"/>
                    </a:lnTo>
                    <a:lnTo>
                      <a:pt x="191" y="20"/>
                    </a:lnTo>
                    <a:lnTo>
                      <a:pt x="195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2298600" y="3165480"/>
              <a:ext cx="6480" cy="1327320"/>
              <a:chOff x="2298600" y="3165480"/>
              <a:chExt cx="6480" cy="1327320"/>
            </a:xfrm>
          </p:grpSpPr>
          <p:sp>
            <p:nvSpPr>
              <p:cNvPr id="3602" name=""/>
              <p:cNvSpPr/>
              <p:nvPr/>
            </p:nvSpPr>
            <p:spPr>
              <a:xfrm>
                <a:off x="2298600" y="3165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298600" y="317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298600" y="3192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2298600" y="3206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2298600" y="322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298600" y="3233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2298600" y="324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2298600" y="3260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29860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298600" y="3287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298600" y="3301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298600" y="331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298600" y="3328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298600" y="3343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298600" y="33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298600" y="3370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298600" y="3382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298600" y="3397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298600" y="3411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298600" y="3424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298600" y="3438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2298600" y="34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2298600" y="3465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2298600" y="3478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2298600" y="3492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2298600" y="3506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298600" y="3519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2298600" y="35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2298600" y="3546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2298600" y="356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298600" y="357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22986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22986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298600" y="361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298600" y="3629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298600" y="364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298600" y="3656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298600" y="367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298600" y="3683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298600" y="369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298600" y="3710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298600" y="3724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298600" y="37368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298600" y="3751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298600" y="376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2298600" y="3778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298600" y="3792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298600" y="380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2298600" y="3819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2298600" y="383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2298600" y="3846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298600" y="3860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2298600" y="3873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298600" y="3887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298600" y="3900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2298600" y="3914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298600" y="392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298600" y="394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2298600" y="395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2986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2986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2986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298600" y="401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298600" y="402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298600" y="403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298600" y="405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298600" y="4064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298600" y="4078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298600" y="4091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298600" y="4105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298600" y="411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298600" y="4132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2298600" y="4146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2298600" y="415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298600" y="4173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298600" y="4186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2298600" y="4200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298600" y="4213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298600" y="4227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2298600" y="4241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2298600" y="425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298600" y="4268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2298600" y="4281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2298600" y="4295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2298600" y="430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8600" y="4322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298600" y="4336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298600" y="4349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2986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2986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298600" y="439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298600" y="4405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298600" y="441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298600" y="4432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298600" y="44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298600" y="4459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298600" y="447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2298600" y="4486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0" name=""/>
            <p:cNvGrpSpPr/>
            <p:nvPr/>
          </p:nvGrpSpPr>
          <p:grpSpPr>
            <a:xfrm>
              <a:off x="4851360" y="3186000"/>
              <a:ext cx="6480" cy="1327320"/>
              <a:chOff x="4851360" y="3186000"/>
              <a:chExt cx="6480" cy="1327320"/>
            </a:xfrm>
          </p:grpSpPr>
          <p:sp>
            <p:nvSpPr>
              <p:cNvPr id="3701" name=""/>
              <p:cNvSpPr/>
              <p:nvPr/>
            </p:nvSpPr>
            <p:spPr>
              <a:xfrm>
                <a:off x="4851360" y="318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4851360" y="320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851360" y="321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851360" y="3227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851360" y="324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851360" y="3254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851360" y="326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4851360" y="328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851360" y="329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851360" y="330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851360" y="332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851360" y="3335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4851360" y="3349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851360" y="3363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851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851360" y="339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851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1360" y="3417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851360" y="343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851360" y="344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4851360" y="3459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851360" y="3471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851360" y="3486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851360" y="3498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4851360" y="3513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4851360" y="3525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4851360" y="3540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851360" y="3554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851360" y="3567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851360" y="3581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4851360" y="3594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4851360" y="3608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4851360" y="3621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851360" y="3635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851360" y="3649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851360" y="3662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4851360" y="367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851360" y="368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4851360" y="37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851360" y="371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851360" y="3730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851360" y="374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851360" y="3757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4851360" y="3772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851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851360" y="3798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851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851360" y="382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851360" y="384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51360" y="385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4851360" y="386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851360" y="387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851360" y="3894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1360" y="390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4851360" y="3921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851360" y="393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4851360" y="394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851360" y="3962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851360" y="3975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851360" y="3989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851360" y="400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51360" y="4016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51360" y="403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851360" y="404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851360" y="4057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4851360" y="407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4851360" y="4084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4851360" y="409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851360" y="4111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851360" y="412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4851360" y="4138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4851360" y="415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4851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4851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851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851360" y="420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851360" y="422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4851360" y="423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851360" y="4248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4851360" y="4260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851360" y="4275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851360" y="42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851360" y="4302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851360" y="431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4851360" y="4329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4851360" y="4343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851360" y="435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4851360" y="4370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4851360" y="438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4851360" y="4397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851360" y="441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4851360" y="4424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4851360" y="4438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851360" y="445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4851360" y="4465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851360" y="447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851360" y="44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851360" y="450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9" name=""/>
            <p:cNvSpPr/>
            <p:nvPr/>
          </p:nvSpPr>
          <p:spPr>
            <a:xfrm>
              <a:off x="2301840" y="4486320"/>
              <a:ext cx="180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854600" y="4486320"/>
              <a:ext cx="1440" cy="35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1" name=""/>
            <p:cNvGrpSpPr/>
            <p:nvPr/>
          </p:nvGrpSpPr>
          <p:grpSpPr>
            <a:xfrm>
              <a:off x="2298600" y="4834080"/>
              <a:ext cx="6480" cy="849240"/>
              <a:chOff x="2298600" y="4834080"/>
              <a:chExt cx="6480" cy="849240"/>
            </a:xfrm>
          </p:grpSpPr>
          <p:sp>
            <p:nvSpPr>
              <p:cNvPr id="3802" name=""/>
              <p:cNvSpPr/>
              <p:nvPr/>
            </p:nvSpPr>
            <p:spPr>
              <a:xfrm>
                <a:off x="229860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229860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29860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29860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29860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229860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9860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229860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22986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2986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229860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229860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229860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29860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229860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229860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29860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29860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229860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29860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229860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229860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29860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29860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229860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29860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29860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29860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29860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229860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229860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229860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29860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29860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229860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29860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29860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2986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29860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29860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29860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29860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29860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29860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29860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29860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29860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29860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29860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29860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29860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29860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29860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29860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29860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29860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29860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298600" y="5608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98600" y="5622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298600" y="563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298600" y="5649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2298600" y="5664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298600" y="5676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851360" y="4834080"/>
              <a:ext cx="6480" cy="768240"/>
              <a:chOff x="4851360" y="4834080"/>
              <a:chExt cx="6480" cy="768240"/>
            </a:xfrm>
          </p:grpSpPr>
          <p:sp>
            <p:nvSpPr>
              <p:cNvPr id="3866" name=""/>
              <p:cNvSpPr/>
              <p:nvPr/>
            </p:nvSpPr>
            <p:spPr>
              <a:xfrm>
                <a:off x="4851360" y="4834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851360" y="4846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851360" y="4861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851360" y="4873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851360" y="4888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851360" y="490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851360" y="4915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851360" y="4929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851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851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851360" y="4968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851360" y="498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1360" y="499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51360" y="5010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51360" y="5024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51360" y="5037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51360" y="5051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1360" y="5064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51360" y="5078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51360" y="509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851360" y="5105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851360" y="511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851360" y="5132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851360" y="5146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851360" y="5159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851360" y="5173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4851360" y="5187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851360" y="520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851360" y="5214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4851360" y="5227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4851360" y="5241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1360" y="5254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851360" y="5268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851360" y="5283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4851360" y="5295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4851360" y="5310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51360" y="532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4851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51360" y="534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851360" y="536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51360" y="537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51360" y="53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51360" y="5405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1360" y="54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51360" y="5432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51360" y="544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851360" y="545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851360" y="5473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851360" y="5486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851360" y="5500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851360" y="5513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4851360" y="5527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4851360" y="554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4851360" y="5554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4851360" y="5568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4851360" y="5581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4851360" y="5595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 flipH="1">
              <a:off x="2131920" y="5602320"/>
              <a:ext cx="1699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301840" y="5602320"/>
              <a:ext cx="25527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854600" y="5571720"/>
              <a:ext cx="1440" cy="33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863960" y="5602320"/>
              <a:ext cx="169236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280280" y="588168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380720" y="590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326720" y="3471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7280280" y="4935600"/>
              <a:ext cx="18432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380720" y="496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09800" y="3274920"/>
              <a:ext cx="183960" cy="2174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99440" y="3301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835280" y="5286240"/>
              <a:ext cx="23796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24920" y="53132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85400" y="5381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855800" y="4349880"/>
              <a:ext cx="2174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934280" y="4376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95120" y="4444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116080" y="3352680"/>
              <a:ext cx="555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127240" y="4824360"/>
              <a:ext cx="55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127240" y="5802480"/>
              <a:ext cx="54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2116080" y="2585880"/>
              <a:ext cx="0" cy="13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127240" y="411948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V="1">
              <a:off x="2116080" y="512100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3006720" y="1360080"/>
              <a:ext cx="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4676760" y="165744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6346800" y="140940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"/>
          <p:cNvSpPr/>
          <p:nvPr/>
        </p:nvSpPr>
        <p:spPr>
          <a:xfrm>
            <a:off x="2435760" y="304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S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2043720" y="6019920"/>
            <a:ext cx="55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biegi w det. fazy S/H przy braku  synchroniz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520640" y="1217520"/>
            <a:ext cx="6643800" cy="4375080"/>
            <a:chOff x="1520640" y="1217520"/>
            <a:chExt cx="6643800" cy="4375080"/>
          </a:xfrm>
        </p:grpSpPr>
        <p:sp>
          <p:nvSpPr>
            <p:cNvPr id="3952" name=""/>
            <p:cNvSpPr/>
            <p:nvPr/>
          </p:nvSpPr>
          <p:spPr>
            <a:xfrm>
              <a:off x="1638000" y="1217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723680" y="1298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01312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41800" y="3316320"/>
              <a:ext cx="144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8032320" y="502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7968960" y="2117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8032320" y="38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09200" y="191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52064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606320" y="439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533240" y="319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17480" y="3279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18129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5" name=""/>
            <p:cNvGrpSpPr/>
            <p:nvPr/>
          </p:nvGrpSpPr>
          <p:grpSpPr>
            <a:xfrm>
              <a:off x="1974960" y="1338120"/>
              <a:ext cx="158760" cy="179640"/>
              <a:chOff x="1974960" y="1338120"/>
              <a:chExt cx="158760" cy="179640"/>
            </a:xfrm>
          </p:grpSpPr>
          <p:sp>
            <p:nvSpPr>
              <p:cNvPr id="3966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19749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31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8" name=""/>
            <p:cNvSpPr/>
            <p:nvPr/>
          </p:nvSpPr>
          <p:spPr>
            <a:xfrm flipH="1" flipV="1">
              <a:off x="230508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9" name=""/>
            <p:cNvGrpSpPr/>
            <p:nvPr/>
          </p:nvGrpSpPr>
          <p:grpSpPr>
            <a:xfrm>
              <a:off x="2146320" y="1338120"/>
              <a:ext cx="158760" cy="179640"/>
              <a:chOff x="2146320" y="1338120"/>
              <a:chExt cx="158760" cy="179640"/>
            </a:xfrm>
          </p:grpSpPr>
          <p:sp>
            <p:nvSpPr>
              <p:cNvPr id="3970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14632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2" name=""/>
            <p:cNvSpPr/>
            <p:nvPr/>
          </p:nvSpPr>
          <p:spPr>
            <a:xfrm>
              <a:off x="2471760" y="2021040"/>
              <a:ext cx="1652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3" name=""/>
            <p:cNvGrpSpPr/>
            <p:nvPr/>
          </p:nvGrpSpPr>
          <p:grpSpPr>
            <a:xfrm>
              <a:off x="2637000" y="2503440"/>
              <a:ext cx="158760" cy="179280"/>
              <a:chOff x="2637000" y="2503440"/>
              <a:chExt cx="158760" cy="179280"/>
            </a:xfrm>
          </p:grpSpPr>
          <p:sp>
            <p:nvSpPr>
              <p:cNvPr id="3974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63700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113"/>
                    </a:moveTo>
                    <a:lnTo>
                      <a:pt x="80" y="110"/>
                    </a:lnTo>
                    <a:lnTo>
                      <a:pt x="62" y="105"/>
                    </a:lnTo>
                    <a:lnTo>
                      <a:pt x="44" y="92"/>
                    </a:lnTo>
                    <a:lnTo>
                      <a:pt x="29" y="80"/>
                    </a:lnTo>
                    <a:lnTo>
                      <a:pt x="18" y="64"/>
                    </a:lnTo>
                    <a:lnTo>
                      <a:pt x="8" y="44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6" name=""/>
            <p:cNvSpPr/>
            <p:nvPr/>
          </p:nvSpPr>
          <p:spPr>
            <a:xfrm flipH="1">
              <a:off x="296712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7" name=""/>
            <p:cNvGrpSpPr/>
            <p:nvPr/>
          </p:nvGrpSpPr>
          <p:grpSpPr>
            <a:xfrm>
              <a:off x="2808360" y="2503440"/>
              <a:ext cx="158760" cy="179280"/>
              <a:chOff x="2808360" y="2503440"/>
              <a:chExt cx="158760" cy="179280"/>
            </a:xfrm>
          </p:grpSpPr>
          <p:sp>
            <p:nvSpPr>
              <p:cNvPr id="3978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80836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0" y="110"/>
                    </a:lnTo>
                    <a:lnTo>
                      <a:pt x="38" y="105"/>
                    </a:lnTo>
                    <a:lnTo>
                      <a:pt x="56" y="92"/>
                    </a:lnTo>
                    <a:lnTo>
                      <a:pt x="69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0" name=""/>
            <p:cNvSpPr/>
            <p:nvPr/>
          </p:nvSpPr>
          <p:spPr>
            <a:xfrm flipV="1">
              <a:off x="31370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1" name=""/>
            <p:cNvGrpSpPr/>
            <p:nvPr/>
          </p:nvGrpSpPr>
          <p:grpSpPr>
            <a:xfrm>
              <a:off x="3298680" y="1338120"/>
              <a:ext cx="158760" cy="179640"/>
              <a:chOff x="3298680" y="1338120"/>
              <a:chExt cx="158760" cy="179640"/>
            </a:xfrm>
          </p:grpSpPr>
          <p:sp>
            <p:nvSpPr>
              <p:cNvPr id="3982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986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4" name=""/>
            <p:cNvSpPr/>
            <p:nvPr/>
          </p:nvSpPr>
          <p:spPr>
            <a:xfrm flipH="1" flipV="1">
              <a:off x="3627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3470400" y="1338120"/>
              <a:ext cx="156960" cy="179640"/>
              <a:chOff x="3470400" y="1338120"/>
              <a:chExt cx="156960" cy="179640"/>
            </a:xfrm>
          </p:grpSpPr>
          <p:sp>
            <p:nvSpPr>
              <p:cNvPr id="3986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470400" y="1338120"/>
                <a:ext cx="156960" cy="17964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20" y="3"/>
                    </a:lnTo>
                    <a:lnTo>
                      <a:pt x="38" y="8"/>
                    </a:lnTo>
                    <a:lnTo>
                      <a:pt x="56" y="18"/>
                    </a:lnTo>
                    <a:lnTo>
                      <a:pt x="71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99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8" name=""/>
            <p:cNvSpPr/>
            <p:nvPr/>
          </p:nvSpPr>
          <p:spPr>
            <a:xfrm>
              <a:off x="3798720" y="200808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9" name=""/>
            <p:cNvGrpSpPr/>
            <p:nvPr/>
          </p:nvGrpSpPr>
          <p:grpSpPr>
            <a:xfrm>
              <a:off x="3960720" y="2492280"/>
              <a:ext cx="158760" cy="177840"/>
              <a:chOff x="3960720" y="2492280"/>
              <a:chExt cx="158760" cy="177840"/>
            </a:xfrm>
          </p:grpSpPr>
          <p:sp>
            <p:nvSpPr>
              <p:cNvPr id="3990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9607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2" y="104"/>
                    </a:lnTo>
                    <a:lnTo>
                      <a:pt x="44" y="92"/>
                    </a:lnTo>
                    <a:lnTo>
                      <a:pt x="31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2" name=""/>
            <p:cNvGrpSpPr/>
            <p:nvPr/>
          </p:nvGrpSpPr>
          <p:grpSpPr>
            <a:xfrm>
              <a:off x="4132440" y="2492280"/>
              <a:ext cx="156960" cy="177840"/>
              <a:chOff x="4132440" y="2492280"/>
              <a:chExt cx="156960" cy="177840"/>
            </a:xfrm>
          </p:grpSpPr>
          <p:sp>
            <p:nvSpPr>
              <p:cNvPr id="3993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132440" y="2492280"/>
                <a:ext cx="156960" cy="17784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1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5" name=""/>
            <p:cNvSpPr/>
            <p:nvPr/>
          </p:nvSpPr>
          <p:spPr>
            <a:xfrm flipH="1">
              <a:off x="4296960" y="2021040"/>
              <a:ext cx="16668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447660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7" name=""/>
            <p:cNvGrpSpPr/>
            <p:nvPr/>
          </p:nvGrpSpPr>
          <p:grpSpPr>
            <a:xfrm>
              <a:off x="4638600" y="1338120"/>
              <a:ext cx="158760" cy="179640"/>
              <a:chOff x="4638600" y="1338120"/>
              <a:chExt cx="158760" cy="179640"/>
            </a:xfrm>
          </p:grpSpPr>
          <p:sp>
            <p:nvSpPr>
              <p:cNvPr id="3998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63860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H="1" flipV="1">
              <a:off x="4959360" y="1512360"/>
              <a:ext cx="1634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1" name=""/>
            <p:cNvGrpSpPr/>
            <p:nvPr/>
          </p:nvGrpSpPr>
          <p:grpSpPr>
            <a:xfrm>
              <a:off x="4805280" y="1338120"/>
              <a:ext cx="158760" cy="179640"/>
              <a:chOff x="4805280" y="1338120"/>
              <a:chExt cx="158760" cy="179640"/>
            </a:xfrm>
          </p:grpSpPr>
          <p:sp>
            <p:nvSpPr>
              <p:cNvPr id="4002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80528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69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5126040" y="2021040"/>
              <a:ext cx="16344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5" name=""/>
            <p:cNvGrpSpPr/>
            <p:nvPr/>
          </p:nvGrpSpPr>
          <p:grpSpPr>
            <a:xfrm>
              <a:off x="5289480" y="2503440"/>
              <a:ext cx="157320" cy="179280"/>
              <a:chOff x="5289480" y="2503440"/>
              <a:chExt cx="157320" cy="179280"/>
            </a:xfrm>
          </p:grpSpPr>
          <p:sp>
            <p:nvSpPr>
              <p:cNvPr id="4006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89480" y="2503440"/>
                <a:ext cx="157320" cy="1792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99" y="113"/>
                    </a:moveTo>
                    <a:lnTo>
                      <a:pt x="79" y="110"/>
                    </a:lnTo>
                    <a:lnTo>
                      <a:pt x="61" y="105"/>
                    </a:lnTo>
                    <a:lnTo>
                      <a:pt x="43" y="92"/>
                    </a:lnTo>
                    <a:lnTo>
                      <a:pt x="30" y="80"/>
                    </a:lnTo>
                    <a:lnTo>
                      <a:pt x="17" y="64"/>
                    </a:lnTo>
                    <a:lnTo>
                      <a:pt x="7" y="44"/>
                    </a:lnTo>
                    <a:lnTo>
                      <a:pt x="2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8" name=""/>
            <p:cNvSpPr/>
            <p:nvPr/>
          </p:nvSpPr>
          <p:spPr>
            <a:xfrm flipH="1">
              <a:off x="56134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5454720" y="2503440"/>
              <a:ext cx="158760" cy="179280"/>
              <a:chOff x="5454720" y="2503440"/>
              <a:chExt cx="158760" cy="179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54720" y="2503440"/>
                <a:ext cx="158760" cy="17928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113"/>
                    </a:moveTo>
                    <a:lnTo>
                      <a:pt x="21" y="110"/>
                    </a:lnTo>
                    <a:lnTo>
                      <a:pt x="39" y="105"/>
                    </a:lnTo>
                    <a:lnTo>
                      <a:pt x="57" y="92"/>
                    </a:lnTo>
                    <a:lnTo>
                      <a:pt x="72" y="80"/>
                    </a:lnTo>
                    <a:lnTo>
                      <a:pt x="82" y="64"/>
                    </a:lnTo>
                    <a:lnTo>
                      <a:pt x="92" y="44"/>
                    </a:lnTo>
                    <a:lnTo>
                      <a:pt x="98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"/>
            <p:cNvSpPr/>
            <p:nvPr/>
          </p:nvSpPr>
          <p:spPr>
            <a:xfrm flipV="1">
              <a:off x="5780160" y="1512360"/>
              <a:ext cx="16200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3" name=""/>
            <p:cNvGrpSpPr/>
            <p:nvPr/>
          </p:nvGrpSpPr>
          <p:grpSpPr>
            <a:xfrm>
              <a:off x="5942160" y="1338120"/>
              <a:ext cx="158760" cy="179640"/>
              <a:chOff x="5942160" y="1338120"/>
              <a:chExt cx="158760" cy="179640"/>
            </a:xfrm>
          </p:grpSpPr>
          <p:sp>
            <p:nvSpPr>
              <p:cNvPr id="4014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  <a:lnTo>
                      <a:pt x="100" y="113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94216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100" y="0"/>
                    </a:moveTo>
                    <a:lnTo>
                      <a:pt x="80" y="3"/>
                    </a:lnTo>
                    <a:lnTo>
                      <a:pt x="62" y="8"/>
                    </a:lnTo>
                    <a:lnTo>
                      <a:pt x="44" y="18"/>
                    </a:lnTo>
                    <a:lnTo>
                      <a:pt x="28" y="34"/>
                    </a:lnTo>
                    <a:lnTo>
                      <a:pt x="18" y="49"/>
                    </a:lnTo>
                    <a:lnTo>
                      <a:pt x="8" y="69"/>
                    </a:lnTo>
                    <a:lnTo>
                      <a:pt x="3" y="90"/>
                    </a:lnTo>
                    <a:lnTo>
                      <a:pt x="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6" name=""/>
            <p:cNvSpPr/>
            <p:nvPr/>
          </p:nvSpPr>
          <p:spPr>
            <a:xfrm flipH="1" flipV="1">
              <a:off x="6267240" y="151236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7" name=""/>
            <p:cNvGrpSpPr/>
            <p:nvPr/>
          </p:nvGrpSpPr>
          <p:grpSpPr>
            <a:xfrm>
              <a:off x="6108840" y="1338120"/>
              <a:ext cx="158760" cy="179640"/>
              <a:chOff x="6108840" y="1338120"/>
              <a:chExt cx="158760" cy="179640"/>
            </a:xfrm>
          </p:grpSpPr>
          <p:sp>
            <p:nvSpPr>
              <p:cNvPr id="4018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08840" y="1338120"/>
                <a:ext cx="158760" cy="179640"/>
              </a:xfrm>
              <a:custGeom>
                <a:avLst/>
                <a:gdLst/>
                <a:ahLst/>
                <a:rect l="l" t="t" r="r" b="b"/>
                <a:pathLst>
                  <a:path w="100" h="113">
                    <a:moveTo>
                      <a:pt x="0" y="0"/>
                    </a:moveTo>
                    <a:lnTo>
                      <a:pt x="21" y="3"/>
                    </a:lnTo>
                    <a:lnTo>
                      <a:pt x="39" y="8"/>
                    </a:lnTo>
                    <a:lnTo>
                      <a:pt x="56" y="18"/>
                    </a:lnTo>
                    <a:lnTo>
                      <a:pt x="72" y="34"/>
                    </a:lnTo>
                    <a:lnTo>
                      <a:pt x="82" y="49"/>
                    </a:lnTo>
                    <a:lnTo>
                      <a:pt x="92" y="69"/>
                    </a:lnTo>
                    <a:lnTo>
                      <a:pt x="97" y="90"/>
                    </a:lnTo>
                    <a:lnTo>
                      <a:pt x="100" y="11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0" name=""/>
            <p:cNvSpPr/>
            <p:nvPr/>
          </p:nvSpPr>
          <p:spPr>
            <a:xfrm>
              <a:off x="6434280" y="2008080"/>
              <a:ext cx="161640" cy="48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1" name=""/>
            <p:cNvGrpSpPr/>
            <p:nvPr/>
          </p:nvGrpSpPr>
          <p:grpSpPr>
            <a:xfrm>
              <a:off x="6595920" y="2492280"/>
              <a:ext cx="158760" cy="177840"/>
              <a:chOff x="6595920" y="2492280"/>
              <a:chExt cx="158760" cy="177840"/>
            </a:xfrm>
          </p:grpSpPr>
          <p:sp>
            <p:nvSpPr>
              <p:cNvPr id="4022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  <a:lnTo>
                      <a:pt x="100" y="0"/>
                    </a:lnTo>
                    <a:lnTo>
                      <a:pt x="10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59592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100" y="112"/>
                    </a:moveTo>
                    <a:lnTo>
                      <a:pt x="79" y="110"/>
                    </a:lnTo>
                    <a:lnTo>
                      <a:pt x="61" y="104"/>
                    </a:lnTo>
                    <a:lnTo>
                      <a:pt x="44" y="92"/>
                    </a:lnTo>
                    <a:lnTo>
                      <a:pt x="28" y="79"/>
                    </a:lnTo>
                    <a:lnTo>
                      <a:pt x="18" y="64"/>
                    </a:lnTo>
                    <a:lnTo>
                      <a:pt x="8" y="43"/>
                    </a:lnTo>
                    <a:lnTo>
                      <a:pt x="3" y="23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762600" y="2492280"/>
              <a:ext cx="158760" cy="177840"/>
              <a:chOff x="6762600" y="2492280"/>
              <a:chExt cx="158760" cy="177840"/>
            </a:xfrm>
          </p:grpSpPr>
          <p:sp>
            <p:nvSpPr>
              <p:cNvPr id="4025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762600" y="2492280"/>
                <a:ext cx="158760" cy="177840"/>
              </a:xfrm>
              <a:custGeom>
                <a:avLst/>
                <a:gdLst/>
                <a:ahLst/>
                <a:rect l="l" t="t" r="r" b="b"/>
                <a:pathLst>
                  <a:path w="100" h="112">
                    <a:moveTo>
                      <a:pt x="0" y="112"/>
                    </a:moveTo>
                    <a:lnTo>
                      <a:pt x="20" y="110"/>
                    </a:lnTo>
                    <a:lnTo>
                      <a:pt x="38" y="104"/>
                    </a:lnTo>
                    <a:lnTo>
                      <a:pt x="56" y="92"/>
                    </a:lnTo>
                    <a:lnTo>
                      <a:pt x="69" y="79"/>
                    </a:lnTo>
                    <a:lnTo>
                      <a:pt x="82" y="64"/>
                    </a:lnTo>
                    <a:lnTo>
                      <a:pt x="92" y="43"/>
                    </a:lnTo>
                    <a:lnTo>
                      <a:pt x="97" y="23"/>
                    </a:lnTo>
                    <a:lnTo>
                      <a:pt x="10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"/>
            <p:cNvSpPr/>
            <p:nvPr/>
          </p:nvSpPr>
          <p:spPr>
            <a:xfrm flipH="1">
              <a:off x="6929280" y="2021040"/>
              <a:ext cx="162000" cy="48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48160" y="3327480"/>
              <a:ext cx="1440" cy="42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7164360" y="4635000"/>
              <a:ext cx="1440" cy="3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641920" y="3316320"/>
              <a:ext cx="1800" cy="417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1" name=""/>
            <p:cNvGrpSpPr/>
            <p:nvPr/>
          </p:nvGrpSpPr>
          <p:grpSpPr>
            <a:xfrm>
              <a:off x="1849320" y="1387440"/>
              <a:ext cx="4467240" cy="1149480"/>
              <a:chOff x="1849320" y="1387440"/>
              <a:chExt cx="4467240" cy="1149480"/>
            </a:xfrm>
          </p:grpSpPr>
          <p:sp>
            <p:nvSpPr>
              <p:cNvPr id="4032" name=""/>
              <p:cNvSpPr/>
              <p:nvPr/>
            </p:nvSpPr>
            <p:spPr>
              <a:xfrm>
                <a:off x="1849320" y="1387440"/>
                <a:ext cx="4467240" cy="1079640"/>
              </a:xfrm>
              <a:custGeom>
                <a:avLst/>
                <a:gdLst/>
                <a:ahLst/>
                <a:rect l="l" t="t" r="r" b="b"/>
                <a:pathLst>
                  <a:path w="2814" h="680">
                    <a:moveTo>
                      <a:pt x="0" y="8"/>
                    </a:moveTo>
                    <a:lnTo>
                      <a:pt x="103" y="0"/>
                    </a:lnTo>
                    <a:lnTo>
                      <a:pt x="870" y="0"/>
                    </a:lnTo>
                    <a:lnTo>
                      <a:pt x="877" y="233"/>
                    </a:lnTo>
                    <a:lnTo>
                      <a:pt x="1637" y="240"/>
                    </a:lnTo>
                    <a:lnTo>
                      <a:pt x="1637" y="448"/>
                    </a:lnTo>
                    <a:lnTo>
                      <a:pt x="2389" y="448"/>
                    </a:lnTo>
                    <a:lnTo>
                      <a:pt x="2389" y="680"/>
                    </a:lnTo>
                    <a:lnTo>
                      <a:pt x="2814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186600" y="2401920"/>
                <a:ext cx="129960" cy="13500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85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4" name=""/>
            <p:cNvGrpSpPr/>
            <p:nvPr/>
          </p:nvGrpSpPr>
          <p:grpSpPr>
            <a:xfrm>
              <a:off x="1911240" y="4254480"/>
              <a:ext cx="4465800" cy="1147680"/>
              <a:chOff x="1911240" y="4254480"/>
              <a:chExt cx="4465800" cy="1147680"/>
            </a:xfrm>
          </p:grpSpPr>
          <p:sp>
            <p:nvSpPr>
              <p:cNvPr id="4035" name=""/>
              <p:cNvSpPr/>
              <p:nvPr/>
            </p:nvSpPr>
            <p:spPr>
              <a:xfrm>
                <a:off x="1911240" y="4254480"/>
                <a:ext cx="4465800" cy="1079640"/>
              </a:xfrm>
              <a:custGeom>
                <a:avLst/>
                <a:gdLst/>
                <a:ahLst/>
                <a:rect l="l" t="t" r="r" b="b"/>
                <a:pathLst>
                  <a:path w="2813" h="680">
                    <a:moveTo>
                      <a:pt x="0" y="10"/>
                    </a:moveTo>
                    <a:lnTo>
                      <a:pt x="104" y="0"/>
                    </a:lnTo>
                    <a:lnTo>
                      <a:pt x="872" y="0"/>
                    </a:lnTo>
                    <a:lnTo>
                      <a:pt x="879" y="232"/>
                    </a:lnTo>
                    <a:lnTo>
                      <a:pt x="1639" y="240"/>
                    </a:lnTo>
                    <a:lnTo>
                      <a:pt x="1639" y="447"/>
                    </a:lnTo>
                    <a:lnTo>
                      <a:pt x="2391" y="447"/>
                    </a:lnTo>
                    <a:lnTo>
                      <a:pt x="2391" y="680"/>
                    </a:lnTo>
                    <a:lnTo>
                      <a:pt x="2813" y="68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246720" y="5268960"/>
                <a:ext cx="130320" cy="133200"/>
              </a:xfrm>
              <a:custGeom>
                <a:avLst/>
                <a:gdLst/>
                <a:ahLst/>
                <a:rect l="l" t="t" r="r" b="b"/>
                <a:pathLst>
                  <a:path w="82" h="84">
                    <a:moveTo>
                      <a:pt x="0" y="84"/>
                    </a:moveTo>
                    <a:lnTo>
                      <a:pt x="82" y="4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7" name=""/>
            <p:cNvSpPr/>
            <p:nvPr/>
          </p:nvSpPr>
          <p:spPr>
            <a:xfrm>
              <a:off x="1793880" y="2028960"/>
              <a:ext cx="637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806480" y="3736800"/>
              <a:ext cx="624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06480" y="5592600"/>
              <a:ext cx="61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1792440" y="13240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1768320" y="2931840"/>
              <a:ext cx="0" cy="80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1781280" y="3946680"/>
              <a:ext cx="0" cy="16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"/>
          <p:cNvSpPr/>
          <p:nvPr/>
        </p:nvSpPr>
        <p:spPr>
          <a:xfrm>
            <a:off x="752760" y="304920"/>
            <a:ext cx="77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2204280" y="58672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mnożnika transkonduktancyj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5" name=""/>
          <p:cNvGrpSpPr/>
          <p:nvPr/>
        </p:nvGrpSpPr>
        <p:grpSpPr>
          <a:xfrm>
            <a:off x="2157120" y="874800"/>
            <a:ext cx="4723920" cy="4897440"/>
            <a:chOff x="2157120" y="874800"/>
            <a:chExt cx="4723920" cy="4897440"/>
          </a:xfrm>
        </p:grpSpPr>
        <p:sp>
          <p:nvSpPr>
            <p:cNvPr id="4046" name=""/>
            <p:cNvSpPr/>
            <p:nvPr/>
          </p:nvSpPr>
          <p:spPr>
            <a:xfrm>
              <a:off x="3378240" y="1319040"/>
              <a:ext cx="154080" cy="4082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456000" y="1165320"/>
              <a:ext cx="14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456000" y="1719360"/>
              <a:ext cx="14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405240" y="214956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649680" y="1446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768120" y="1536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4508640" y="5281560"/>
              <a:ext cx="344520" cy="3175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508640" y="5113440"/>
              <a:ext cx="344520" cy="3189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  <a:lnTo>
                    <a:pt x="85" y="4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454500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5" y="0"/>
                  </a:moveTo>
                  <a:lnTo>
                    <a:pt x="51" y="3"/>
                  </a:lnTo>
                  <a:lnTo>
                    <a:pt x="25" y="12"/>
                  </a:lnTo>
                  <a:lnTo>
                    <a:pt x="14" y="17"/>
                  </a:lnTo>
                  <a:lnTo>
                    <a:pt x="5" y="23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4680000" y="5590800"/>
              <a:ext cx="1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30680" y="567684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1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4676760" y="4914720"/>
              <a:ext cx="3240" cy="1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4676760" y="527688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0"/>
                  </a:moveTo>
                  <a:lnTo>
                    <a:pt x="34" y="3"/>
                  </a:lnTo>
                  <a:lnTo>
                    <a:pt x="60" y="12"/>
                  </a:lnTo>
                  <a:lnTo>
                    <a:pt x="71" y="17"/>
                  </a:lnTo>
                  <a:lnTo>
                    <a:pt x="80" y="23"/>
                  </a:lnTo>
                  <a:lnTo>
                    <a:pt x="82" y="32"/>
                  </a:lnTo>
                  <a:lnTo>
                    <a:pt x="85" y="4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4676760" y="5181480"/>
              <a:ext cx="3240" cy="346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621320" y="542772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0" y="0"/>
                  </a:moveTo>
                  <a:lnTo>
                    <a:pt x="35" y="63"/>
                  </a:lnTo>
                  <a:lnTo>
                    <a:pt x="6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70080" y="2725560"/>
              <a:ext cx="4622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21480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322884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228840" y="3013200"/>
              <a:ext cx="13968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25584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8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36852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3070080" y="2962440"/>
              <a:ext cx="144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456000" y="3125880"/>
              <a:ext cx="144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3456000" y="2244240"/>
              <a:ext cx="144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405240" y="24764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425680" y="2962440"/>
              <a:ext cx="647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064040" y="2725560"/>
              <a:ext cx="45720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37688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H="1" flipV="1">
              <a:off x="4134960" y="2786040"/>
              <a:ext cx="22716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421776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18120" y="298944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4134960" y="3084480"/>
              <a:ext cx="874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376880" y="2962440"/>
              <a:ext cx="1411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135320" y="3125880"/>
              <a:ext cx="18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4132440" y="2617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08132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451332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456000" y="3367080"/>
              <a:ext cx="679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4830840" y="2725560"/>
              <a:ext cx="45864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4970520" y="2825640"/>
              <a:ext cx="144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498492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4984920" y="3013200"/>
              <a:ext cx="14436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016600" y="29941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1260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flipH="1">
              <a:off x="4830840" y="296244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11720" y="3125880"/>
              <a:ext cx="18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flipH="1" flipV="1">
              <a:off x="5211360" y="2459160"/>
              <a:ext cx="468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65640" y="26812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672080" y="296244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819760" y="2725560"/>
              <a:ext cx="463680" cy="463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6132600" y="2825640"/>
              <a:ext cx="4680" cy="25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 flipV="1">
              <a:off x="5892840" y="2786040"/>
              <a:ext cx="22680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flipH="1">
              <a:off x="5978520" y="3013200"/>
              <a:ext cx="141120" cy="71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978520" y="298944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40" y="0"/>
                  </a:moveTo>
                  <a:lnTo>
                    <a:pt x="0" y="60"/>
                  </a:lnTo>
                  <a:lnTo>
                    <a:pt x="72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5892840" y="3084480"/>
              <a:ext cx="85680" cy="41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32600" y="2962440"/>
              <a:ext cx="145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892840" y="3125880"/>
              <a:ext cx="144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V="1">
              <a:off x="5892840" y="2417400"/>
              <a:ext cx="14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842080" y="268128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6273360" y="2962440"/>
              <a:ext cx="158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211720" y="3367080"/>
              <a:ext cx="68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382920" y="4119480"/>
              <a:ext cx="461880" cy="459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522600" y="4219560"/>
              <a:ext cx="4680" cy="254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3537000" y="4174920"/>
              <a:ext cx="231840" cy="9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37000" y="4400640"/>
              <a:ext cx="14436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568680" y="4383000"/>
              <a:ext cx="112680" cy="954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60"/>
                  </a:moveTo>
                  <a:lnTo>
                    <a:pt x="71" y="57"/>
                  </a:lnTo>
                  <a:lnTo>
                    <a:pt x="2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681360" y="4473720"/>
              <a:ext cx="8748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3382560" y="4351320"/>
              <a:ext cx="144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63800" y="4514760"/>
              <a:ext cx="504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 flipV="1">
              <a:off x="2470320" y="4350960"/>
              <a:ext cx="9172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511960" y="4133880"/>
              <a:ext cx="457200" cy="458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24440" y="423396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 flipV="1">
              <a:off x="5578560" y="4187880"/>
              <a:ext cx="231840" cy="10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5665680" y="4414680"/>
              <a:ext cx="144720" cy="7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665680" y="4392720"/>
              <a:ext cx="112680" cy="950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40" y="0"/>
                  </a:moveTo>
                  <a:lnTo>
                    <a:pt x="0" y="60"/>
                  </a:lnTo>
                  <a:lnTo>
                    <a:pt x="71" y="6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flipH="1">
              <a:off x="5578560" y="4487760"/>
              <a:ext cx="8712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4440" y="4365720"/>
              <a:ext cx="1396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578560" y="452916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5961240" y="4365720"/>
              <a:ext cx="16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763800" y="4754520"/>
              <a:ext cx="1833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27920" y="4365720"/>
              <a:ext cx="144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489040" y="4915080"/>
              <a:ext cx="364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457360" y="4883040"/>
              <a:ext cx="5868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438280" y="432900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843280" y="2962440"/>
              <a:ext cx="32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855880" y="3594240"/>
              <a:ext cx="359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672080" y="2967120"/>
              <a:ext cx="4680" cy="8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460600" y="3807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425680" y="3780000"/>
              <a:ext cx="63360" cy="5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411280" y="29354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427800" y="2967120"/>
              <a:ext cx="468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35320" y="2630520"/>
              <a:ext cx="175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468600" y="2459160"/>
              <a:ext cx="176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819760" y="1338120"/>
              <a:ext cx="154080" cy="403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892840" y="1177920"/>
              <a:ext cx="144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892840" y="1731960"/>
              <a:ext cx="144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42080" y="2336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0"/>
                  </a:moveTo>
                  <a:lnTo>
                    <a:pt x="32" y="6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087960" y="1460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04960" y="1550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56000" y="1170000"/>
              <a:ext cx="318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608880" y="11383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6000" y="2031840"/>
              <a:ext cx="466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24480" y="2031840"/>
              <a:ext cx="4683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375160" y="200484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00600" y="200484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608000" y="1709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703400" y="18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415200" y="874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676200" y="96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166480" y="328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261880" y="3375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157120" y="4519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25216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016600" y="5145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079960" y="52372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0628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68764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36976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4511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85380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9366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99640" y="282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68100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201280" y="4251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306760" y="434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980520" y="422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086000" y="4314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63800" y="3933720"/>
              <a:ext cx="5040" cy="2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578560" y="3948120"/>
              <a:ext cx="46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36880" y="384804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89052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944880" y="3975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284440" y="3797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338800" y="38876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456000" y="25858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951520" y="210492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32160" y="213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087600" y="2227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324040" y="233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380200" y="24271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51520" y="2432160"/>
              <a:ext cx="2858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95800" y="246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51600" y="25542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863520" y="252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917880" y="2612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2760" y="209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236400" y="21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4156200" y="2041560"/>
              <a:ext cx="10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flipV="1">
              <a:off x="2475000" y="307980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2498760" y="44416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773520" y="33782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578560" y="339084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"/>
          <p:cNvSpPr/>
          <p:nvPr/>
        </p:nvSpPr>
        <p:spPr>
          <a:xfrm>
            <a:off x="752760" y="3049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1977480" y="5943600"/>
            <a:ext cx="4530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przy braku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2" name=""/>
          <p:cNvGrpSpPr/>
          <p:nvPr/>
        </p:nvGrpSpPr>
        <p:grpSpPr>
          <a:xfrm>
            <a:off x="1612800" y="1176480"/>
            <a:ext cx="5646960" cy="4411440"/>
            <a:chOff x="1612800" y="1176480"/>
            <a:chExt cx="5646960" cy="4411440"/>
          </a:xfrm>
        </p:grpSpPr>
        <p:sp>
          <p:nvSpPr>
            <p:cNvPr id="4203" name=""/>
            <p:cNvSpPr/>
            <p:nvPr/>
          </p:nvSpPr>
          <p:spPr>
            <a:xfrm>
              <a:off x="3083040" y="2208240"/>
              <a:ext cx="51264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589200" y="20606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26096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4260960" y="1652760"/>
              <a:ext cx="672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924440" y="165276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24440" y="2060640"/>
              <a:ext cx="355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135160" y="3246480"/>
              <a:ext cx="276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403360" y="32576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403360" y="3665520"/>
              <a:ext cx="676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79800" y="3270240"/>
              <a:ext cx="1440" cy="4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79800" y="3257640"/>
              <a:ext cx="671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740040" y="327024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740040" y="3678120"/>
              <a:ext cx="676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4416480" y="328284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416480" y="3270240"/>
              <a:ext cx="658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3270240"/>
              <a:ext cx="144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075280" y="3678120"/>
              <a:ext cx="293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151000" y="5397480"/>
              <a:ext cx="125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2766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289240" y="4721400"/>
              <a:ext cx="109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40336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403360" y="5397480"/>
              <a:ext cx="447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47960" y="4721400"/>
              <a:ext cx="32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6380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9782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978280" y="5397480"/>
              <a:ext cx="442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42108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43368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54816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548160" y="5397480"/>
              <a:ext cx="4395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995640" y="4721400"/>
              <a:ext cx="180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008600" y="472140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122720" y="4721400"/>
              <a:ext cx="1440" cy="68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122720" y="539748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578480" y="4721400"/>
              <a:ext cx="468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595760" y="4721400"/>
              <a:ext cx="112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08440" y="4721400"/>
              <a:ext cx="180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08440" y="5397480"/>
              <a:ext cx="444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153040" y="4721400"/>
              <a:ext cx="1440" cy="671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65640" y="4721400"/>
              <a:ext cx="114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280120" y="4721400"/>
              <a:ext cx="1440" cy="676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280120" y="5397480"/>
              <a:ext cx="21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613120" y="1941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649480" y="3571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703480" y="5137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949480" y="2658960"/>
              <a:ext cx="324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248000" y="2658960"/>
              <a:ext cx="1800" cy="142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3022200" y="2728800"/>
              <a:ext cx="1136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151160" y="268776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2930400" y="2513160"/>
              <a:ext cx="152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588480" y="2475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083040" y="16747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513480" y="4846680"/>
              <a:ext cx="74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"/>
          <p:cNvSpPr/>
          <p:nvPr/>
        </p:nvSpPr>
        <p:spPr>
          <a:xfrm>
            <a:off x="600120" y="317520"/>
            <a:ext cx="771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mnożący z mnożnikiem transkonduk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6" name=""/>
          <p:cNvGrpSpPr/>
          <p:nvPr/>
        </p:nvGrpSpPr>
        <p:grpSpPr>
          <a:xfrm>
            <a:off x="1612800" y="1176480"/>
            <a:ext cx="4141440" cy="4411440"/>
            <a:chOff x="1612800" y="1176480"/>
            <a:chExt cx="4141440" cy="4411440"/>
          </a:xfrm>
        </p:grpSpPr>
        <p:sp>
          <p:nvSpPr>
            <p:cNvPr id="4297" name=""/>
            <p:cNvSpPr/>
            <p:nvPr/>
          </p:nvSpPr>
          <p:spPr>
            <a:xfrm>
              <a:off x="3206880" y="2151000"/>
              <a:ext cx="858600" cy="355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=T/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135160" y="4468680"/>
              <a:ext cx="3240" cy="1119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093760" y="446868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122560" y="1270080"/>
              <a:ext cx="1440" cy="1123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081160" y="1270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122560" y="2874960"/>
              <a:ext cx="1440" cy="112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081160" y="28749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54"/>
                  </a:moveTo>
                  <a:lnTo>
                    <a:pt x="26" y="0"/>
                  </a:lnTo>
                  <a:lnTo>
                    <a:pt x="0" y="5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2134800" y="5038560"/>
              <a:ext cx="3616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665680" y="49975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2122560" y="1844640"/>
              <a:ext cx="356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600880" y="180324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2122200" y="3473280"/>
              <a:ext cx="359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29320" y="3433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5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122560" y="1639800"/>
              <a:ext cx="12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52520" y="1639800"/>
              <a:ext cx="1800" cy="40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52520" y="2048040"/>
              <a:ext cx="67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924280" y="16527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2924280" y="1647720"/>
              <a:ext cx="66492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58920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589200" y="206064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203720" y="1665360"/>
              <a:ext cx="144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4194000" y="1652760"/>
              <a:ext cx="67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4886280" y="1652760"/>
              <a:ext cx="1800" cy="40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4886280" y="2050920"/>
              <a:ext cx="355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1" name=""/>
            <p:cNvGrpSpPr/>
            <p:nvPr/>
          </p:nvGrpSpPr>
          <p:grpSpPr>
            <a:xfrm>
              <a:off x="2344680" y="3246480"/>
              <a:ext cx="3233880" cy="433440"/>
              <a:chOff x="2344680" y="3246480"/>
              <a:chExt cx="3233880" cy="433440"/>
            </a:xfrm>
          </p:grpSpPr>
          <p:sp>
            <p:nvSpPr>
              <p:cNvPr id="4322" name=""/>
              <p:cNvSpPr/>
              <p:nvPr/>
            </p:nvSpPr>
            <p:spPr>
              <a:xfrm>
                <a:off x="2612880" y="3257640"/>
                <a:ext cx="1800" cy="407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3" name=""/>
              <p:cNvGrpSpPr/>
              <p:nvPr/>
            </p:nvGrpSpPr>
            <p:grpSpPr>
              <a:xfrm>
                <a:off x="2344680" y="3246480"/>
                <a:ext cx="3233880" cy="433440"/>
                <a:chOff x="2344680" y="3246480"/>
                <a:chExt cx="3233880" cy="433440"/>
              </a:xfrm>
            </p:grpSpPr>
            <p:sp>
              <p:nvSpPr>
                <p:cNvPr id="4324" name=""/>
                <p:cNvSpPr/>
                <p:nvPr/>
              </p:nvSpPr>
              <p:spPr>
                <a:xfrm>
                  <a:off x="2344680" y="3246480"/>
                  <a:ext cx="276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2612880" y="3665520"/>
                  <a:ext cx="6764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3289320" y="3270240"/>
                  <a:ext cx="1440" cy="403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3289320" y="3257640"/>
                  <a:ext cx="6714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3949560" y="3270240"/>
                  <a:ext cx="180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3949560" y="3678120"/>
                  <a:ext cx="676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4626000" y="3282840"/>
                  <a:ext cx="1440" cy="39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4626000" y="3270240"/>
                  <a:ext cx="658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284800" y="3270240"/>
                  <a:ext cx="1440" cy="40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>
                  <a:off x="5284800" y="3678120"/>
                  <a:ext cx="293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4" name=""/>
            <p:cNvSpPr/>
            <p:nvPr/>
          </p:nvSpPr>
          <p:spPr>
            <a:xfrm>
              <a:off x="1698480" y="46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755720" y="4732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825560" y="46512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929600" y="47322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612400" y="1941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649120" y="35719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03120" y="513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93960" y="4937040"/>
              <a:ext cx="207720" cy="24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950840" y="4973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937880" y="339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81360" y="1741320"/>
              <a:ext cx="207720" cy="249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937880" y="177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869840" y="1176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955520" y="12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856880" y="281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942920" y="2898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9840" y="437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55520" y="4456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612800" y="5270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6400" y="5288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63640" y="5369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33480" y="5288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937520" y="5369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 flipV="1">
              <a:off x="2975040" y="2730600"/>
              <a:ext cx="110808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4103640" y="268776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0" y="54"/>
                  </a:moveTo>
                  <a:lnTo>
                    <a:pt x="54" y="26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944800" y="2682720"/>
              <a:ext cx="85680" cy="860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0"/>
                  </a:moveTo>
                  <a:lnTo>
                    <a:pt x="0" y="29"/>
                  </a:lnTo>
                  <a:lnTo>
                    <a:pt x="54" y="5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2930040" y="2513160"/>
              <a:ext cx="314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88840" y="2475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930400" y="2055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254400" y="1627200"/>
              <a:ext cx="0" cy="1685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4" name=""/>
            <p:cNvGrpSpPr/>
            <p:nvPr/>
          </p:nvGrpSpPr>
          <p:grpSpPr>
            <a:xfrm>
              <a:off x="2487600" y="4818240"/>
              <a:ext cx="1604880" cy="432720"/>
              <a:chOff x="2487600" y="4818240"/>
              <a:chExt cx="1604880" cy="432720"/>
            </a:xfrm>
          </p:grpSpPr>
          <p:sp>
            <p:nvSpPr>
              <p:cNvPr id="4365" name=""/>
              <p:cNvSpPr/>
              <p:nvPr/>
            </p:nvSpPr>
            <p:spPr>
              <a:xfrm flipV="1">
                <a:off x="2620440" y="48326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6" name=""/>
              <p:cNvGrpSpPr/>
              <p:nvPr/>
            </p:nvGrpSpPr>
            <p:grpSpPr>
              <a:xfrm>
                <a:off x="2487600" y="4818240"/>
                <a:ext cx="1604880" cy="432720"/>
                <a:chOff x="2487600" y="4818240"/>
                <a:chExt cx="1604880" cy="432720"/>
              </a:xfrm>
            </p:grpSpPr>
            <p:sp>
              <p:nvSpPr>
                <p:cNvPr id="4367" name=""/>
                <p:cNvSpPr/>
                <p:nvPr/>
              </p:nvSpPr>
              <p:spPr>
                <a:xfrm flipV="1">
                  <a:off x="2487600" y="524988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2620440" y="483120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2956320" y="482472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2956320" y="523908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3283920" y="48200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V="1">
                  <a:off x="3283920" y="481824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V="1">
                  <a:off x="3619800" y="48200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3619800" y="522648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3946680" y="48200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V="1">
                  <a:off x="3946680" y="481824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7" name=""/>
            <p:cNvGrpSpPr/>
            <p:nvPr/>
          </p:nvGrpSpPr>
          <p:grpSpPr>
            <a:xfrm>
              <a:off x="4087800" y="4818240"/>
              <a:ext cx="1604880" cy="432720"/>
              <a:chOff x="4087800" y="4818240"/>
              <a:chExt cx="1604880" cy="432720"/>
            </a:xfrm>
          </p:grpSpPr>
          <p:sp>
            <p:nvSpPr>
              <p:cNvPr id="4378" name=""/>
              <p:cNvSpPr/>
              <p:nvPr/>
            </p:nvSpPr>
            <p:spPr>
              <a:xfrm>
                <a:off x="4220640" y="4829040"/>
                <a:ext cx="720" cy="40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4087800" y="4818240"/>
                <a:ext cx="1604880" cy="432720"/>
                <a:chOff x="4087800" y="4818240"/>
                <a:chExt cx="1604880" cy="43272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4087800" y="4818240"/>
                  <a:ext cx="1368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220640" y="5236920"/>
                  <a:ext cx="33552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4556520" y="4841640"/>
                  <a:ext cx="360" cy="4028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4556520" y="4829040"/>
                  <a:ext cx="3330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884120" y="4841640"/>
                  <a:ext cx="72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884120" y="5249520"/>
                  <a:ext cx="3355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5220000" y="4854240"/>
                  <a:ext cx="360" cy="394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5220000" y="4841640"/>
                  <a:ext cx="32688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5546880" y="4841640"/>
                  <a:ext cx="360" cy="4075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>
                  <a:off x="5546880" y="5249520"/>
                  <a:ext cx="14580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90" name=""/>
            <p:cNvSpPr/>
            <p:nvPr/>
          </p:nvSpPr>
          <p:spPr>
            <a:xfrm>
              <a:off x="4210200" y="2019240"/>
              <a:ext cx="0" cy="3038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1" name=""/>
          <p:cNvSpPr/>
          <p:nvPr/>
        </p:nvSpPr>
        <p:spPr>
          <a:xfrm>
            <a:off x="2153880" y="5961240"/>
            <a:ext cx="42253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biegi w stanie synchroniz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5981400" y="2482920"/>
            <a:ext cx="207684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łąd fazy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513480" y="4846680"/>
            <a:ext cx="7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"/>
          <p:cNvSpPr/>
          <p:nvPr/>
        </p:nvSpPr>
        <p:spPr>
          <a:xfrm>
            <a:off x="903960" y="304920"/>
            <a:ext cx="73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i przejściowe  detektora fazy z mnożnik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-23400" y="5834160"/>
            <a:ext cx="89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ostokatnych sygnałach sterujacych  Przy sinusoidalnych sygnałach sterując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6" name=""/>
          <p:cNvGrpSpPr/>
          <p:nvPr/>
        </p:nvGrpSpPr>
        <p:grpSpPr>
          <a:xfrm>
            <a:off x="436680" y="1330200"/>
            <a:ext cx="8370720" cy="3800880"/>
            <a:chOff x="436680" y="1330200"/>
            <a:chExt cx="8370720" cy="3800880"/>
          </a:xfrm>
        </p:grpSpPr>
        <p:grpSp>
          <p:nvGrpSpPr>
            <p:cNvPr id="4397" name=""/>
            <p:cNvGrpSpPr/>
            <p:nvPr/>
          </p:nvGrpSpPr>
          <p:grpSpPr>
            <a:xfrm>
              <a:off x="6553080" y="3529080"/>
              <a:ext cx="125640" cy="422640"/>
              <a:chOff x="6553080" y="3529080"/>
              <a:chExt cx="125640" cy="422640"/>
            </a:xfrm>
          </p:grpSpPr>
          <p:sp>
            <p:nvSpPr>
              <p:cNvPr id="4398" name=""/>
              <p:cNvSpPr/>
              <p:nvPr/>
            </p:nvSpPr>
            <p:spPr>
              <a:xfrm>
                <a:off x="6553080" y="3745080"/>
                <a:ext cx="125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56280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5764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1" name=""/>
            <p:cNvGrpSpPr/>
            <p:nvPr/>
          </p:nvGrpSpPr>
          <p:grpSpPr>
            <a:xfrm>
              <a:off x="2506680" y="3529080"/>
              <a:ext cx="125280" cy="422640"/>
              <a:chOff x="2506680" y="3529080"/>
              <a:chExt cx="125280" cy="422640"/>
            </a:xfrm>
          </p:grpSpPr>
          <p:sp>
            <p:nvSpPr>
              <p:cNvPr id="4402" name=""/>
              <p:cNvSpPr/>
              <p:nvPr/>
            </p:nvSpPr>
            <p:spPr>
              <a:xfrm>
                <a:off x="2506680" y="37450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2516040" y="35290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2530080" y="3768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5" name=""/>
            <p:cNvGrpSpPr/>
            <p:nvPr/>
          </p:nvGrpSpPr>
          <p:grpSpPr>
            <a:xfrm>
              <a:off x="4585320" y="3543480"/>
              <a:ext cx="234360" cy="422280"/>
              <a:chOff x="4585320" y="3543480"/>
              <a:chExt cx="234360" cy="422280"/>
            </a:xfrm>
          </p:grpSpPr>
          <p:sp>
            <p:nvSpPr>
              <p:cNvPr id="4406" name=""/>
              <p:cNvSpPr/>
              <p:nvPr/>
            </p:nvSpPr>
            <p:spPr>
              <a:xfrm>
                <a:off x="469440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58532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70376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71780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0" name=""/>
            <p:cNvGrpSpPr/>
            <p:nvPr/>
          </p:nvGrpSpPr>
          <p:grpSpPr>
            <a:xfrm>
              <a:off x="1173600" y="3543480"/>
              <a:ext cx="232920" cy="422280"/>
              <a:chOff x="1173600" y="3543480"/>
              <a:chExt cx="232920" cy="422280"/>
            </a:xfrm>
          </p:grpSpPr>
          <p:sp>
            <p:nvSpPr>
              <p:cNvPr id="4411" name=""/>
              <p:cNvSpPr/>
              <p:nvPr/>
            </p:nvSpPr>
            <p:spPr>
              <a:xfrm>
                <a:off x="1281240" y="3757680"/>
                <a:ext cx="125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173600" y="3639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29060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1304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5" name=""/>
            <p:cNvGrpSpPr/>
            <p:nvPr/>
          </p:nvGrpSpPr>
          <p:grpSpPr>
            <a:xfrm>
              <a:off x="6656400" y="2868480"/>
              <a:ext cx="806400" cy="588960"/>
              <a:chOff x="6656400" y="2868480"/>
              <a:chExt cx="806400" cy="588960"/>
            </a:xfrm>
          </p:grpSpPr>
          <p:sp>
            <p:nvSpPr>
              <p:cNvPr id="4416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  <a:lnTo>
                      <a:pt x="508" y="371"/>
                    </a:lnTo>
                    <a:lnTo>
                      <a:pt x="5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656400" y="2868480"/>
                <a:ext cx="806400" cy="588960"/>
              </a:xfrm>
              <a:custGeom>
                <a:avLst/>
                <a:gdLst/>
                <a:ahLst/>
                <a:rect l="l" t="t" r="r" b="b"/>
                <a:pathLst>
                  <a:path w="508" h="371">
                    <a:moveTo>
                      <a:pt x="508" y="0"/>
                    </a:moveTo>
                    <a:lnTo>
                      <a:pt x="456" y="3"/>
                    </a:lnTo>
                    <a:lnTo>
                      <a:pt x="407" y="8"/>
                    </a:lnTo>
                    <a:lnTo>
                      <a:pt x="357" y="17"/>
                    </a:lnTo>
                    <a:lnTo>
                      <a:pt x="311" y="29"/>
                    </a:lnTo>
                    <a:lnTo>
                      <a:pt x="264" y="43"/>
                    </a:lnTo>
                    <a:lnTo>
                      <a:pt x="224" y="64"/>
                    </a:lnTo>
                    <a:lnTo>
                      <a:pt x="186" y="84"/>
                    </a:lnTo>
                    <a:lnTo>
                      <a:pt x="148" y="107"/>
                    </a:lnTo>
                    <a:lnTo>
                      <a:pt x="116" y="133"/>
                    </a:lnTo>
                    <a:lnTo>
                      <a:pt x="87" y="162"/>
                    </a:lnTo>
                    <a:lnTo>
                      <a:pt x="61" y="194"/>
                    </a:lnTo>
                    <a:lnTo>
                      <a:pt x="41" y="226"/>
                    </a:lnTo>
                    <a:lnTo>
                      <a:pt x="23" y="261"/>
                    </a:lnTo>
                    <a:lnTo>
                      <a:pt x="12" y="296"/>
                    </a:lnTo>
                    <a:lnTo>
                      <a:pt x="3" y="334"/>
                    </a:lnTo>
                    <a:lnTo>
                      <a:pt x="0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7491240" y="2868480"/>
              <a:ext cx="779760" cy="588960"/>
              <a:chOff x="7491240" y="2868480"/>
              <a:chExt cx="779760" cy="588960"/>
            </a:xfrm>
          </p:grpSpPr>
          <p:sp>
            <p:nvSpPr>
              <p:cNvPr id="4419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  <a:lnTo>
                      <a:pt x="0" y="3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491240" y="2868480"/>
                <a:ext cx="779760" cy="588960"/>
              </a:xfrm>
              <a:custGeom>
                <a:avLst/>
                <a:gdLst/>
                <a:ahLst/>
                <a:rect l="l" t="t" r="r" b="b"/>
                <a:pathLst>
                  <a:path w="491" h="371">
                    <a:moveTo>
                      <a:pt x="0" y="0"/>
                    </a:moveTo>
                    <a:lnTo>
                      <a:pt x="49" y="3"/>
                    </a:lnTo>
                    <a:lnTo>
                      <a:pt x="99" y="8"/>
                    </a:lnTo>
                    <a:lnTo>
                      <a:pt x="145" y="17"/>
                    </a:lnTo>
                    <a:lnTo>
                      <a:pt x="191" y="29"/>
                    </a:lnTo>
                    <a:lnTo>
                      <a:pt x="232" y="43"/>
                    </a:lnTo>
                    <a:lnTo>
                      <a:pt x="273" y="64"/>
                    </a:lnTo>
                    <a:lnTo>
                      <a:pt x="311" y="84"/>
                    </a:lnTo>
                    <a:lnTo>
                      <a:pt x="345" y="107"/>
                    </a:lnTo>
                    <a:lnTo>
                      <a:pt x="377" y="133"/>
                    </a:lnTo>
                    <a:lnTo>
                      <a:pt x="406" y="162"/>
                    </a:lnTo>
                    <a:lnTo>
                      <a:pt x="432" y="194"/>
                    </a:lnTo>
                    <a:lnTo>
                      <a:pt x="453" y="226"/>
                    </a:lnTo>
                    <a:lnTo>
                      <a:pt x="467" y="261"/>
                    </a:lnTo>
                    <a:lnTo>
                      <a:pt x="482" y="296"/>
                    </a:lnTo>
                    <a:lnTo>
                      <a:pt x="488" y="334"/>
                    </a:lnTo>
                    <a:lnTo>
                      <a:pt x="491" y="3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1" name=""/>
            <p:cNvGrpSpPr/>
            <p:nvPr/>
          </p:nvGrpSpPr>
          <p:grpSpPr>
            <a:xfrm>
              <a:off x="6615000" y="3125880"/>
              <a:ext cx="847800" cy="331560"/>
              <a:chOff x="6615000" y="3125880"/>
              <a:chExt cx="847800" cy="331560"/>
            </a:xfrm>
          </p:grpSpPr>
          <p:sp>
            <p:nvSpPr>
              <p:cNvPr id="4422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  <a:lnTo>
                      <a:pt x="534" y="209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615000" y="3125880"/>
                <a:ext cx="847800" cy="331560"/>
              </a:xfrm>
              <a:custGeom>
                <a:avLst/>
                <a:gdLst/>
                <a:ahLst/>
                <a:rect l="l" t="t" r="r" b="b"/>
                <a:pathLst>
                  <a:path w="534" h="209">
                    <a:moveTo>
                      <a:pt x="534" y="0"/>
                    </a:moveTo>
                    <a:lnTo>
                      <a:pt x="427" y="3"/>
                    </a:lnTo>
                    <a:lnTo>
                      <a:pt x="325" y="18"/>
                    </a:lnTo>
                    <a:lnTo>
                      <a:pt x="279" y="26"/>
                    </a:lnTo>
                    <a:lnTo>
                      <a:pt x="235" y="35"/>
                    </a:lnTo>
                    <a:lnTo>
                      <a:pt x="195" y="47"/>
                    </a:lnTo>
                    <a:lnTo>
                      <a:pt x="157" y="61"/>
                    </a:lnTo>
                    <a:lnTo>
                      <a:pt x="122" y="76"/>
                    </a:lnTo>
                    <a:lnTo>
                      <a:pt x="90" y="93"/>
                    </a:lnTo>
                    <a:lnTo>
                      <a:pt x="64" y="111"/>
                    </a:lnTo>
                    <a:lnTo>
                      <a:pt x="41" y="128"/>
                    </a:lnTo>
                    <a:lnTo>
                      <a:pt x="23" y="148"/>
                    </a:lnTo>
                    <a:lnTo>
                      <a:pt x="12" y="166"/>
                    </a:lnTo>
                    <a:lnTo>
                      <a:pt x="3" y="189"/>
                    </a:lnTo>
                    <a:lnTo>
                      <a:pt x="0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7491240" y="3125880"/>
              <a:ext cx="820800" cy="331560"/>
              <a:chOff x="7491240" y="3125880"/>
              <a:chExt cx="820800" cy="331560"/>
            </a:xfrm>
          </p:grpSpPr>
          <p:sp>
            <p:nvSpPr>
              <p:cNvPr id="4425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  <a:lnTo>
                      <a:pt x="0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491240" y="3125880"/>
                <a:ext cx="820800" cy="331560"/>
              </a:xfrm>
              <a:custGeom>
                <a:avLst/>
                <a:gdLst/>
                <a:ahLst/>
                <a:rect l="l" t="t" r="r" b="b"/>
                <a:pathLst>
                  <a:path w="517" h="209">
                    <a:moveTo>
                      <a:pt x="0" y="0"/>
                    </a:moveTo>
                    <a:lnTo>
                      <a:pt x="104" y="3"/>
                    </a:lnTo>
                    <a:lnTo>
                      <a:pt x="203" y="18"/>
                    </a:lnTo>
                    <a:lnTo>
                      <a:pt x="290" y="35"/>
                    </a:lnTo>
                    <a:lnTo>
                      <a:pt x="331" y="47"/>
                    </a:lnTo>
                    <a:lnTo>
                      <a:pt x="366" y="61"/>
                    </a:lnTo>
                    <a:lnTo>
                      <a:pt x="401" y="76"/>
                    </a:lnTo>
                    <a:lnTo>
                      <a:pt x="430" y="93"/>
                    </a:lnTo>
                    <a:lnTo>
                      <a:pt x="456" y="111"/>
                    </a:lnTo>
                    <a:lnTo>
                      <a:pt x="476" y="128"/>
                    </a:lnTo>
                    <a:lnTo>
                      <a:pt x="493" y="148"/>
                    </a:lnTo>
                    <a:lnTo>
                      <a:pt x="505" y="166"/>
                    </a:lnTo>
                    <a:lnTo>
                      <a:pt x="514" y="189"/>
                    </a:lnTo>
                    <a:lnTo>
                      <a:pt x="517" y="2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7" name=""/>
            <p:cNvSpPr/>
            <p:nvPr/>
          </p:nvSpPr>
          <p:spPr>
            <a:xfrm flipV="1">
              <a:off x="1944720" y="2623680"/>
              <a:ext cx="1125360" cy="175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H="1" flipV="1">
              <a:off x="811080" y="2604600"/>
              <a:ext cx="1123920" cy="176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V="1">
              <a:off x="465120" y="2623680"/>
              <a:ext cx="36036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H="1" flipV="1">
              <a:off x="3070080" y="2638080"/>
              <a:ext cx="363600" cy="5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1" name=""/>
            <p:cNvGrpSpPr/>
            <p:nvPr/>
          </p:nvGrpSpPr>
          <p:grpSpPr>
            <a:xfrm>
              <a:off x="1138320" y="4375080"/>
              <a:ext cx="801720" cy="9720"/>
              <a:chOff x="1138320" y="4375080"/>
              <a:chExt cx="801720" cy="9720"/>
            </a:xfrm>
          </p:grpSpPr>
          <p:sp>
            <p:nvSpPr>
              <p:cNvPr id="4432" name=""/>
              <p:cNvSpPr/>
              <p:nvPr/>
            </p:nvSpPr>
            <p:spPr>
              <a:xfrm>
                <a:off x="19321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19130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18939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763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2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18399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18208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18018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178452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17654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17463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17287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17096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16923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16732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16542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16365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1617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15987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158112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5620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54476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15256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5066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4889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14698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14526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14335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141444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139716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13780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13590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13413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13222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130500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12859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126684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124920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123048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212840" y="4375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19376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1174680" y="43750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115740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1138320" y="4375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01480" y="2619360"/>
              <a:ext cx="2941920" cy="9720"/>
              <a:chOff x="501480" y="2619360"/>
              <a:chExt cx="2941920" cy="9720"/>
            </a:xfrm>
          </p:grpSpPr>
          <p:sp>
            <p:nvSpPr>
              <p:cNvPr id="4477" name=""/>
              <p:cNvSpPr/>
              <p:nvPr/>
            </p:nvSpPr>
            <p:spPr>
              <a:xfrm>
                <a:off x="5014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20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39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57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76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3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12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31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49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68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87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04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23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41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60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79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7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816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833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852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8715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888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907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9270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944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963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981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1000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0191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036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1055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1073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1092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1111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1128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1147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11667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1184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203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220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1239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12589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276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295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1312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32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51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68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387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14065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24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42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1460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1479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4986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515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535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552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571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5908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608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1627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6462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663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82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1700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1719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7384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1755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1774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792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1811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1830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18478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1866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18860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903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1922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1940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959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19782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1995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014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0318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050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070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0876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106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1258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143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162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179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198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2176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235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254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271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290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3097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3274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346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365200" y="2619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382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4019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4192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382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4573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4750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4940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5113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304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5495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5671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5858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60496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26226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26416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26589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26780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26971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147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7338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7511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770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7892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065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8256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8447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8623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8814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8987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178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9368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2954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297324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299232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099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0290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0463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0654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0844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1021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1212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13848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15756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1766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1939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130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3208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497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26880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2860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0516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424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4152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6060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7824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97320" y="2619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416400" y="26193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433680" y="26193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7" name=""/>
            <p:cNvSpPr/>
            <p:nvPr/>
          </p:nvSpPr>
          <p:spPr>
            <a:xfrm flipV="1">
              <a:off x="5665680" y="1992240"/>
              <a:ext cx="1811520" cy="299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 flipV="1">
              <a:off x="4789080" y="3444840"/>
              <a:ext cx="862200" cy="152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H="1" flipV="1">
              <a:off x="7472160" y="2021040"/>
              <a:ext cx="866520" cy="14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0" name=""/>
            <p:cNvGrpSpPr/>
            <p:nvPr/>
          </p:nvGrpSpPr>
          <p:grpSpPr>
            <a:xfrm>
              <a:off x="6595920" y="3314880"/>
              <a:ext cx="881280" cy="142560"/>
              <a:chOff x="6595920" y="3314880"/>
              <a:chExt cx="881280" cy="142560"/>
            </a:xfrm>
          </p:grpSpPr>
          <p:sp>
            <p:nvSpPr>
              <p:cNvPr id="4641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  <a:lnTo>
                      <a:pt x="555" y="9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6595920" y="3314880"/>
                <a:ext cx="881280" cy="142560"/>
              </a:xfrm>
              <a:custGeom>
                <a:avLst/>
                <a:gdLst/>
                <a:ahLst/>
                <a:rect l="l" t="t" r="r" b="b"/>
                <a:pathLst>
                  <a:path w="555" h="90">
                    <a:moveTo>
                      <a:pt x="555" y="0"/>
                    </a:moveTo>
                    <a:lnTo>
                      <a:pt x="445" y="3"/>
                    </a:lnTo>
                    <a:lnTo>
                      <a:pt x="340" y="6"/>
                    </a:lnTo>
                    <a:lnTo>
                      <a:pt x="291" y="12"/>
                    </a:lnTo>
                    <a:lnTo>
                      <a:pt x="244" y="15"/>
                    </a:lnTo>
                    <a:lnTo>
                      <a:pt x="204" y="21"/>
                    </a:lnTo>
                    <a:lnTo>
                      <a:pt x="163" y="26"/>
                    </a:lnTo>
                    <a:lnTo>
                      <a:pt x="128" y="32"/>
                    </a:lnTo>
                    <a:lnTo>
                      <a:pt x="96" y="41"/>
                    </a:lnTo>
                    <a:lnTo>
                      <a:pt x="67" y="47"/>
                    </a:lnTo>
                    <a:lnTo>
                      <a:pt x="44" y="56"/>
                    </a:lnTo>
                    <a:lnTo>
                      <a:pt x="27" y="64"/>
                    </a:lnTo>
                    <a:lnTo>
                      <a:pt x="12" y="73"/>
                    </a:lnTo>
                    <a:lnTo>
                      <a:pt x="3" y="82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3" name=""/>
            <p:cNvGrpSpPr/>
            <p:nvPr/>
          </p:nvGrpSpPr>
          <p:grpSpPr>
            <a:xfrm>
              <a:off x="7505640" y="3314880"/>
              <a:ext cx="852480" cy="142560"/>
              <a:chOff x="7505640" y="3314880"/>
              <a:chExt cx="852480" cy="142560"/>
            </a:xfrm>
          </p:grpSpPr>
          <p:sp>
            <p:nvSpPr>
              <p:cNvPr id="4644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505640" y="3314880"/>
                <a:ext cx="852480" cy="142560"/>
              </a:xfrm>
              <a:custGeom>
                <a:avLst/>
                <a:gdLst/>
                <a:ahLst/>
                <a:rect l="l" t="t" r="r" b="b"/>
                <a:pathLst>
                  <a:path w="537" h="90">
                    <a:moveTo>
                      <a:pt x="0" y="0"/>
                    </a:moveTo>
                    <a:lnTo>
                      <a:pt x="107" y="3"/>
                    </a:lnTo>
                    <a:lnTo>
                      <a:pt x="209" y="6"/>
                    </a:lnTo>
                    <a:lnTo>
                      <a:pt x="255" y="12"/>
                    </a:lnTo>
                    <a:lnTo>
                      <a:pt x="299" y="15"/>
                    </a:lnTo>
                    <a:lnTo>
                      <a:pt x="342" y="21"/>
                    </a:lnTo>
                    <a:lnTo>
                      <a:pt x="380" y="26"/>
                    </a:lnTo>
                    <a:lnTo>
                      <a:pt x="415" y="32"/>
                    </a:lnTo>
                    <a:lnTo>
                      <a:pt x="444" y="41"/>
                    </a:lnTo>
                    <a:lnTo>
                      <a:pt x="473" y="47"/>
                    </a:lnTo>
                    <a:lnTo>
                      <a:pt x="493" y="56"/>
                    </a:lnTo>
                    <a:lnTo>
                      <a:pt x="514" y="64"/>
                    </a:lnTo>
                    <a:lnTo>
                      <a:pt x="525" y="73"/>
                    </a:lnTo>
                    <a:lnTo>
                      <a:pt x="534" y="82"/>
                    </a:lnTo>
                    <a:lnTo>
                      <a:pt x="537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6" name=""/>
            <p:cNvGrpSpPr/>
            <p:nvPr/>
          </p:nvGrpSpPr>
          <p:grpSpPr>
            <a:xfrm>
              <a:off x="4844880" y="3457440"/>
              <a:ext cx="1651320" cy="590760"/>
              <a:chOff x="4844880" y="3457440"/>
              <a:chExt cx="1651320" cy="59076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844880" y="3457440"/>
                <a:ext cx="825840" cy="590760"/>
                <a:chOff x="4844880" y="3457440"/>
                <a:chExt cx="825840" cy="590760"/>
              </a:xfrm>
            </p:grpSpPr>
            <p:sp>
              <p:nvSpPr>
                <p:cNvPr id="4648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  <a:lnTo>
                        <a:pt x="520" y="0"/>
                      </a:lnTo>
                      <a:lnTo>
                        <a:pt x="52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844880" y="3457440"/>
                  <a:ext cx="825840" cy="590760"/>
                </a:xfrm>
                <a:custGeom>
                  <a:avLst/>
                  <a:gdLst/>
                  <a:ahLst/>
                  <a:rect l="l" t="t" r="r" b="b"/>
                  <a:pathLst>
                    <a:path w="520" h="372">
                      <a:moveTo>
                        <a:pt x="520" y="372"/>
                      </a:moveTo>
                      <a:lnTo>
                        <a:pt x="467" y="369"/>
                      </a:lnTo>
                      <a:lnTo>
                        <a:pt x="415" y="363"/>
                      </a:lnTo>
                      <a:lnTo>
                        <a:pt x="366" y="355"/>
                      </a:lnTo>
                      <a:lnTo>
                        <a:pt x="316" y="343"/>
                      </a:lnTo>
                      <a:lnTo>
                        <a:pt x="273" y="328"/>
                      </a:lnTo>
                      <a:lnTo>
                        <a:pt x="229" y="308"/>
                      </a:lnTo>
                      <a:lnTo>
                        <a:pt x="189" y="288"/>
                      </a:lnTo>
                      <a:lnTo>
                        <a:pt x="151" y="265"/>
                      </a:lnTo>
                      <a:lnTo>
                        <a:pt x="119" y="238"/>
                      </a:lnTo>
                      <a:lnTo>
                        <a:pt x="90" y="209"/>
                      </a:lnTo>
                      <a:lnTo>
                        <a:pt x="64" y="177"/>
                      </a:lnTo>
                      <a:lnTo>
                        <a:pt x="41" y="146"/>
                      </a:lnTo>
                      <a:lnTo>
                        <a:pt x="23" y="111"/>
                      </a:lnTo>
                      <a:lnTo>
                        <a:pt x="12" y="76"/>
                      </a:lnTo>
                      <a:lnTo>
                        <a:pt x="3" y="3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0" name=""/>
              <p:cNvGrpSpPr/>
              <p:nvPr/>
            </p:nvGrpSpPr>
            <p:grpSpPr>
              <a:xfrm>
                <a:off x="5697360" y="3457440"/>
                <a:ext cx="798840" cy="590760"/>
                <a:chOff x="5697360" y="3457440"/>
                <a:chExt cx="798840" cy="590760"/>
              </a:xfrm>
            </p:grpSpPr>
            <p:sp>
              <p:nvSpPr>
                <p:cNvPr id="4651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  <a:lnTo>
                        <a:pt x="0" y="0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5697360" y="3457440"/>
                  <a:ext cx="798840" cy="590760"/>
                </a:xfrm>
                <a:custGeom>
                  <a:avLst/>
                  <a:gdLst/>
                  <a:ahLst/>
                  <a:rect l="l" t="t" r="r" b="b"/>
                  <a:pathLst>
                    <a:path w="503" h="372">
                      <a:moveTo>
                        <a:pt x="0" y="372"/>
                      </a:moveTo>
                      <a:lnTo>
                        <a:pt x="52" y="369"/>
                      </a:lnTo>
                      <a:lnTo>
                        <a:pt x="102" y="363"/>
                      </a:lnTo>
                      <a:lnTo>
                        <a:pt x="148" y="355"/>
                      </a:lnTo>
                      <a:lnTo>
                        <a:pt x="195" y="343"/>
                      </a:lnTo>
                      <a:lnTo>
                        <a:pt x="238" y="328"/>
                      </a:lnTo>
                      <a:lnTo>
                        <a:pt x="282" y="308"/>
                      </a:lnTo>
                      <a:lnTo>
                        <a:pt x="320" y="288"/>
                      </a:lnTo>
                      <a:lnTo>
                        <a:pt x="354" y="265"/>
                      </a:lnTo>
                      <a:lnTo>
                        <a:pt x="386" y="238"/>
                      </a:lnTo>
                      <a:lnTo>
                        <a:pt x="415" y="209"/>
                      </a:lnTo>
                      <a:lnTo>
                        <a:pt x="442" y="177"/>
                      </a:lnTo>
                      <a:lnTo>
                        <a:pt x="462" y="146"/>
                      </a:lnTo>
                      <a:lnTo>
                        <a:pt x="479" y="111"/>
                      </a:lnTo>
                      <a:lnTo>
                        <a:pt x="491" y="76"/>
                      </a:lnTo>
                      <a:lnTo>
                        <a:pt x="500" y="38"/>
                      </a:lnTo>
                      <a:lnTo>
                        <a:pt x="50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3" name=""/>
            <p:cNvGrpSpPr/>
            <p:nvPr/>
          </p:nvGrpSpPr>
          <p:grpSpPr>
            <a:xfrm>
              <a:off x="4799160" y="3457440"/>
              <a:ext cx="1742760" cy="331920"/>
              <a:chOff x="4799160" y="3457440"/>
              <a:chExt cx="1742760" cy="331920"/>
            </a:xfrm>
          </p:grpSpPr>
          <p:grpSp>
            <p:nvGrpSpPr>
              <p:cNvPr id="4654" name=""/>
              <p:cNvGrpSpPr/>
              <p:nvPr/>
            </p:nvGrpSpPr>
            <p:grpSpPr>
              <a:xfrm>
                <a:off x="4799160" y="3457440"/>
                <a:ext cx="871560" cy="331920"/>
                <a:chOff x="4799160" y="3457440"/>
                <a:chExt cx="871560" cy="331920"/>
              </a:xfrm>
            </p:grpSpPr>
            <p:sp>
              <p:nvSpPr>
                <p:cNvPr id="4655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  <a:lnTo>
                        <a:pt x="549" y="0"/>
                      </a:lnTo>
                      <a:lnTo>
                        <a:pt x="549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9160" y="3457440"/>
                  <a:ext cx="871560" cy="331920"/>
                </a:xfrm>
                <a:custGeom>
                  <a:avLst/>
                  <a:gdLst/>
                  <a:ahLst/>
                  <a:rect l="l" t="t" r="r" b="b"/>
                  <a:pathLst>
                    <a:path w="549" h="209">
                      <a:moveTo>
                        <a:pt x="549" y="209"/>
                      </a:moveTo>
                      <a:lnTo>
                        <a:pt x="438" y="206"/>
                      </a:lnTo>
                      <a:lnTo>
                        <a:pt x="334" y="192"/>
                      </a:lnTo>
                      <a:lnTo>
                        <a:pt x="287" y="183"/>
                      </a:lnTo>
                      <a:lnTo>
                        <a:pt x="241" y="175"/>
                      </a:lnTo>
                      <a:lnTo>
                        <a:pt x="200" y="163"/>
                      </a:lnTo>
                      <a:lnTo>
                        <a:pt x="160" y="148"/>
                      </a:lnTo>
                      <a:lnTo>
                        <a:pt x="125" y="134"/>
                      </a:lnTo>
                      <a:lnTo>
                        <a:pt x="93" y="116"/>
                      </a:lnTo>
                      <a:lnTo>
                        <a:pt x="67" y="99"/>
                      </a:lnTo>
                      <a:lnTo>
                        <a:pt x="43" y="82"/>
                      </a:lnTo>
                      <a:lnTo>
                        <a:pt x="23" y="64"/>
                      </a:lnTo>
                      <a:lnTo>
                        <a:pt x="11" y="44"/>
                      </a:lnTo>
                      <a:lnTo>
                        <a:pt x="3" y="2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7" name=""/>
              <p:cNvGrpSpPr/>
              <p:nvPr/>
            </p:nvGrpSpPr>
            <p:grpSpPr>
              <a:xfrm>
                <a:off x="5697360" y="3457440"/>
                <a:ext cx="844560" cy="331920"/>
                <a:chOff x="5697360" y="3457440"/>
                <a:chExt cx="844560" cy="331920"/>
              </a:xfrm>
            </p:grpSpPr>
            <p:sp>
              <p:nvSpPr>
                <p:cNvPr id="4658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  <a:lnTo>
                        <a:pt x="0" y="0"/>
                      </a:lnTo>
                      <a:lnTo>
                        <a:pt x="0" y="20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5697360" y="3457440"/>
                  <a:ext cx="844560" cy="331920"/>
                </a:xfrm>
                <a:custGeom>
                  <a:avLst/>
                  <a:gdLst/>
                  <a:ahLst/>
                  <a:rect l="l" t="t" r="r" b="b"/>
                  <a:pathLst>
                    <a:path w="532" h="209">
                      <a:moveTo>
                        <a:pt x="0" y="209"/>
                      </a:moveTo>
                      <a:lnTo>
                        <a:pt x="108" y="206"/>
                      </a:lnTo>
                      <a:lnTo>
                        <a:pt x="206" y="192"/>
                      </a:lnTo>
                      <a:lnTo>
                        <a:pt x="296" y="175"/>
                      </a:lnTo>
                      <a:lnTo>
                        <a:pt x="337" y="163"/>
                      </a:lnTo>
                      <a:lnTo>
                        <a:pt x="375" y="148"/>
                      </a:lnTo>
                      <a:lnTo>
                        <a:pt x="410" y="134"/>
                      </a:lnTo>
                      <a:lnTo>
                        <a:pt x="442" y="116"/>
                      </a:lnTo>
                      <a:lnTo>
                        <a:pt x="468" y="99"/>
                      </a:lnTo>
                      <a:lnTo>
                        <a:pt x="491" y="82"/>
                      </a:lnTo>
                      <a:lnTo>
                        <a:pt x="508" y="64"/>
                      </a:lnTo>
                      <a:lnTo>
                        <a:pt x="520" y="44"/>
                      </a:lnTo>
                      <a:lnTo>
                        <a:pt x="529" y="21"/>
                      </a:lnTo>
                      <a:lnTo>
                        <a:pt x="5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0" name=""/>
            <p:cNvGrpSpPr/>
            <p:nvPr/>
          </p:nvGrpSpPr>
          <p:grpSpPr>
            <a:xfrm>
              <a:off x="4784760" y="3457440"/>
              <a:ext cx="1798560" cy="142920"/>
              <a:chOff x="4784760" y="3457440"/>
              <a:chExt cx="1798560" cy="142920"/>
            </a:xfrm>
          </p:grpSpPr>
          <p:grpSp>
            <p:nvGrpSpPr>
              <p:cNvPr id="4661" name=""/>
              <p:cNvGrpSpPr/>
              <p:nvPr/>
            </p:nvGrpSpPr>
            <p:grpSpPr>
              <a:xfrm>
                <a:off x="4784760" y="3457440"/>
                <a:ext cx="898560" cy="142920"/>
                <a:chOff x="4784760" y="3457440"/>
                <a:chExt cx="898560" cy="142920"/>
              </a:xfrm>
            </p:grpSpPr>
            <p:sp>
              <p:nvSpPr>
                <p:cNvPr id="4662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566" y="0"/>
                      </a:lnTo>
                      <a:lnTo>
                        <a:pt x="566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4784760" y="3457440"/>
                  <a:ext cx="898560" cy="142920"/>
                </a:xfrm>
                <a:custGeom>
                  <a:avLst/>
                  <a:gdLst/>
                  <a:ahLst/>
                  <a:rect l="l" t="t" r="r" b="b"/>
                  <a:pathLst>
                    <a:path w="566" h="90">
                      <a:moveTo>
                        <a:pt x="566" y="90"/>
                      </a:moveTo>
                      <a:lnTo>
                        <a:pt x="453" y="87"/>
                      </a:lnTo>
                      <a:lnTo>
                        <a:pt x="346" y="85"/>
                      </a:lnTo>
                      <a:lnTo>
                        <a:pt x="296" y="79"/>
                      </a:lnTo>
                      <a:lnTo>
                        <a:pt x="250" y="76"/>
                      </a:lnTo>
                      <a:lnTo>
                        <a:pt x="206" y="70"/>
                      </a:lnTo>
                      <a:lnTo>
                        <a:pt x="166" y="64"/>
                      </a:lnTo>
                      <a:lnTo>
                        <a:pt x="128" y="58"/>
                      </a:lnTo>
                      <a:lnTo>
                        <a:pt x="96" y="50"/>
                      </a:lnTo>
                      <a:lnTo>
                        <a:pt x="70" y="44"/>
                      </a:lnTo>
                      <a:lnTo>
                        <a:pt x="44" y="35"/>
                      </a:lnTo>
                      <a:lnTo>
                        <a:pt x="26" y="26"/>
                      </a:lnTo>
                      <a:lnTo>
                        <a:pt x="12" y="18"/>
                      </a:lnTo>
                      <a:lnTo>
                        <a:pt x="3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5711760" y="3457440"/>
                <a:ext cx="871560" cy="142920"/>
                <a:chOff x="5711760" y="3457440"/>
                <a:chExt cx="871560" cy="142920"/>
              </a:xfrm>
            </p:grpSpPr>
            <p:sp>
              <p:nvSpPr>
                <p:cNvPr id="4665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711760" y="3457440"/>
                  <a:ext cx="871560" cy="142920"/>
                </a:xfrm>
                <a:custGeom>
                  <a:avLst/>
                  <a:gdLst/>
                  <a:ahLst/>
                  <a:rect l="l" t="t" r="r" b="b"/>
                  <a:pathLst>
                    <a:path w="549" h="90">
                      <a:moveTo>
                        <a:pt x="0" y="90"/>
                      </a:moveTo>
                      <a:lnTo>
                        <a:pt x="110" y="87"/>
                      </a:lnTo>
                      <a:lnTo>
                        <a:pt x="215" y="85"/>
                      </a:lnTo>
                      <a:lnTo>
                        <a:pt x="261" y="79"/>
                      </a:lnTo>
                      <a:lnTo>
                        <a:pt x="308" y="76"/>
                      </a:lnTo>
                      <a:lnTo>
                        <a:pt x="351" y="70"/>
                      </a:lnTo>
                      <a:lnTo>
                        <a:pt x="389" y="64"/>
                      </a:lnTo>
                      <a:lnTo>
                        <a:pt x="424" y="58"/>
                      </a:lnTo>
                      <a:lnTo>
                        <a:pt x="456" y="50"/>
                      </a:lnTo>
                      <a:lnTo>
                        <a:pt x="482" y="44"/>
                      </a:lnTo>
                      <a:lnTo>
                        <a:pt x="505" y="35"/>
                      </a:lnTo>
                      <a:lnTo>
                        <a:pt x="525" y="26"/>
                      </a:lnTo>
                      <a:lnTo>
                        <a:pt x="537" y="18"/>
                      </a:lnTo>
                      <a:lnTo>
                        <a:pt x="546" y="9"/>
                      </a:lnTo>
                      <a:lnTo>
                        <a:pt x="549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7" name=""/>
            <p:cNvGrpSpPr/>
            <p:nvPr/>
          </p:nvGrpSpPr>
          <p:grpSpPr>
            <a:xfrm>
              <a:off x="7104240" y="2679840"/>
              <a:ext cx="234720" cy="1109520"/>
              <a:chOff x="7104240" y="2679840"/>
              <a:chExt cx="234720" cy="1109520"/>
            </a:xfrm>
          </p:grpSpPr>
          <p:sp>
            <p:nvSpPr>
              <p:cNvPr id="4668" name=""/>
              <p:cNvSpPr/>
              <p:nvPr/>
            </p:nvSpPr>
            <p:spPr>
              <a:xfrm flipH="1">
                <a:off x="7104240" y="2679840"/>
                <a:ext cx="203040" cy="11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242120" y="2679840"/>
                <a:ext cx="96840" cy="104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66"/>
                    </a:moveTo>
                    <a:lnTo>
                      <a:pt x="41" y="0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0" name=""/>
            <p:cNvSpPr/>
            <p:nvPr/>
          </p:nvSpPr>
          <p:spPr>
            <a:xfrm>
              <a:off x="5581800" y="177012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19680" y="186228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5995800" y="17701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189480" y="18622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267600" y="17701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125800" y="2324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263680" y="241632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539800" y="232416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3480" y="24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811600" y="232416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830200" y="488628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60880" y="49784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039000" y="488628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081880" y="4324320"/>
              <a:ext cx="12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-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212560" y="4416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290680" y="432432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6237720" y="1330200"/>
              <a:ext cx="1515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1640880" y="1890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737720" y="1982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6850080" y="384984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987960" y="3941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029720" y="3849840"/>
              <a:ext cx="18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,U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217640" y="394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355760" y="3398760"/>
              <a:ext cx="32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5401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784760" y="3398760"/>
              <a:ext cx="144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58800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23280" y="3411360"/>
              <a:ext cx="14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358120" y="3398760"/>
              <a:ext cx="18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7684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10280" y="35082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3024000" y="352260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8569080" y="3554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85360" y="366552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4" name=""/>
            <p:cNvGrpSpPr/>
            <p:nvPr/>
          </p:nvGrpSpPr>
          <p:grpSpPr>
            <a:xfrm>
              <a:off x="3276360" y="3514680"/>
              <a:ext cx="887760" cy="523800"/>
              <a:chOff x="3276360" y="3514680"/>
              <a:chExt cx="887760" cy="523800"/>
            </a:xfrm>
          </p:grpSpPr>
          <p:sp>
            <p:nvSpPr>
              <p:cNvPr id="4705" name=""/>
              <p:cNvSpPr/>
              <p:nvPr/>
            </p:nvSpPr>
            <p:spPr>
              <a:xfrm>
                <a:off x="3951360" y="3781440"/>
                <a:ext cx="212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276360" y="36385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787560" y="3638520"/>
                <a:ext cx="10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401280" y="376092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083840" y="35370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997080" y="38098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518280" y="3638520"/>
                <a:ext cx="151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695040" y="3660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968280" y="3514680"/>
                <a:ext cx="116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4" name=""/>
            <p:cNvGrpSpPr/>
            <p:nvPr/>
          </p:nvGrpSpPr>
          <p:grpSpPr>
            <a:xfrm>
              <a:off x="8213760" y="3543480"/>
              <a:ext cx="190440" cy="422280"/>
              <a:chOff x="8213760" y="3543480"/>
              <a:chExt cx="190440" cy="422280"/>
            </a:xfrm>
          </p:grpSpPr>
          <p:sp>
            <p:nvSpPr>
              <p:cNvPr id="4715" name=""/>
              <p:cNvSpPr/>
              <p:nvPr/>
            </p:nvSpPr>
            <p:spPr>
              <a:xfrm>
                <a:off x="8213760" y="3757680"/>
                <a:ext cx="19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8229240" y="356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8270640" y="3782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8289720" y="354348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"/>
            <p:cNvSpPr/>
            <p:nvPr/>
          </p:nvSpPr>
          <p:spPr>
            <a:xfrm>
              <a:off x="436680" y="34671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flipV="1">
              <a:off x="1930320" y="1891800"/>
              <a:ext cx="0" cy="26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91000" y="3463920"/>
              <a:ext cx="43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flipV="1">
              <a:off x="6568920" y="1347480"/>
              <a:ext cx="0" cy="36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12000" y="2016000"/>
              <a:ext cx="243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4" name=""/>
          <p:cNvGrpSpPr/>
          <p:nvPr/>
        </p:nvGrpSpPr>
        <p:grpSpPr>
          <a:xfrm>
            <a:off x="1719360" y="6151680"/>
            <a:ext cx="5918040" cy="479160"/>
            <a:chOff x="1719360" y="6151680"/>
            <a:chExt cx="5918040" cy="479160"/>
          </a:xfrm>
        </p:grpSpPr>
        <p:grpSp>
          <p:nvGrpSpPr>
            <p:cNvPr id="4725" name=""/>
            <p:cNvGrpSpPr/>
            <p:nvPr/>
          </p:nvGrpSpPr>
          <p:grpSpPr>
            <a:xfrm>
              <a:off x="1719360" y="6154560"/>
              <a:ext cx="5914800" cy="476280"/>
              <a:chOff x="1719360" y="6154560"/>
              <a:chExt cx="5914800" cy="476280"/>
            </a:xfrm>
          </p:grpSpPr>
          <p:sp>
            <p:nvSpPr>
              <p:cNvPr id="4726" name=""/>
              <p:cNvSpPr/>
              <p:nvPr/>
            </p:nvSpPr>
            <p:spPr>
              <a:xfrm>
                <a:off x="1722600" y="6154560"/>
                <a:ext cx="59115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1719360" y="615456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1719360" y="61689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1719360" y="61833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1719360" y="6197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1719360" y="621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1719360" y="62262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1719360" y="6238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1719360" y="6253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1719360" y="62676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1719360" y="6281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1719360" y="6296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1719360" y="6310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1719360" y="632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1719360" y="6338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1719360" y="6351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1719360" y="6365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719360" y="6380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719360" y="6394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719360" y="6408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719360" y="6423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719360" y="6437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719360" y="6451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719360" y="6465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719360" y="6478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719360" y="6492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719360" y="650700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719360" y="6521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719360" y="6535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719360" y="6550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719360" y="6564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719360" y="65786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719360" y="6593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719360" y="6605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719360" y="66200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72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74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757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771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785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80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81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827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84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855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870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88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898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91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92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940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95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96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98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99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2011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2025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203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205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20667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08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2095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2109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2124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2138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2152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16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179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19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208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22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23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251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265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27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29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30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32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335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34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363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378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39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40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42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43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448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4620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476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90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505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51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53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4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60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75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8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603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617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3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4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6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7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701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1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30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4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59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7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8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00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1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2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43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857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871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886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0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13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27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941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295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2970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2984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2998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01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02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040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05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068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083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09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11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12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13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152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16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18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19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20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224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238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252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26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279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29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308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32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336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351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365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37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392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40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42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43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44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463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478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49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50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51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53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548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56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576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591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60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61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63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64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660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675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689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703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718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73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74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75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773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787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80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816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830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84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85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87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886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900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914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2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943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957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971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98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998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4013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402732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404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6" name=""/>
            <p:cNvGrpSpPr/>
            <p:nvPr/>
          </p:nvGrpSpPr>
          <p:grpSpPr>
            <a:xfrm>
              <a:off x="4056120" y="6624720"/>
              <a:ext cx="2813040" cy="6120"/>
              <a:chOff x="4056120" y="6624720"/>
              <a:chExt cx="2813040" cy="6120"/>
            </a:xfrm>
          </p:grpSpPr>
          <p:sp>
            <p:nvSpPr>
              <p:cNvPr id="4927" name=""/>
              <p:cNvSpPr/>
              <p:nvPr/>
            </p:nvSpPr>
            <p:spPr>
              <a:xfrm>
                <a:off x="4056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40705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4084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409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411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125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40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4154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416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4183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197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211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422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424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4253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4267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4281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4295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9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4324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433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5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4365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4379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4394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440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4422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4437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4451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46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447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4492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4506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521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453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4549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4564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4578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459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4605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619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633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464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466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4676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4691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470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471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4732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4746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4761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477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4789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4803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48182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483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46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4859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4873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4888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4902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4916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4930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94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495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4971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4986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00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1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9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43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57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7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8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99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113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127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14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156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170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184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19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211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226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240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25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268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283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97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31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32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338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353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367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38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396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410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424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43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45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465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479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494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508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522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537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55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56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578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59260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607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62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635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6498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664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7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69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705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719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734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574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5762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5776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57913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80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5818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5832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5846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586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5875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889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59040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591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593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5945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959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5973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98788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02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166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310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4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05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072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86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100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114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129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1437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5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7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848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213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22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2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564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704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8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9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311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326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340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35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69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3831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3975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411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424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438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453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467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481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4962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5102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524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5390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551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566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580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594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6088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6229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637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6517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665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678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692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707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7215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7356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7500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7644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7788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7914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80544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8198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8342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8486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8626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7" name=""/>
            <p:cNvGrpSpPr/>
            <p:nvPr/>
          </p:nvGrpSpPr>
          <p:grpSpPr>
            <a:xfrm>
              <a:off x="6051600" y="6151680"/>
              <a:ext cx="1585800" cy="479160"/>
              <a:chOff x="6051600" y="6151680"/>
              <a:chExt cx="1585800" cy="479160"/>
            </a:xfrm>
          </p:grpSpPr>
          <p:sp>
            <p:nvSpPr>
              <p:cNvPr id="5128" name=""/>
              <p:cNvSpPr/>
              <p:nvPr/>
            </p:nvSpPr>
            <p:spPr>
              <a:xfrm>
                <a:off x="68770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8914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05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918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9325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9469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9613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975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9897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0041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018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0311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0452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0596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07400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088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1024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11684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130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1452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1578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1722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1866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2010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2151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295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2439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2579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27236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2849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2993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3137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327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73422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735660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3706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38504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3976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120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42644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44048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5488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46928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833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49772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51212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5247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53912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553160" y="662472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567560" y="66247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5819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596360" y="6624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6104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624800" y="6624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631280" y="66168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631280" y="66024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631280" y="65880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631280" y="6573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631280" y="6561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631280" y="6546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631280" y="6532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631280" y="6518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631280" y="6504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631280" y="64897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631280" y="64753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631280" y="64612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631280" y="64468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631280" y="64342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631280" y="6419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631280" y="6405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631280" y="6391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631280" y="6377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31280" y="636264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631280" y="6348240"/>
                <a:ext cx="612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631280" y="633420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631280" y="632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631280" y="6307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631280" y="6292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631280" y="6278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631280" y="626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631280" y="62499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631280" y="623556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631280" y="62215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631280" y="620712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631280" y="6194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631280" y="61801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631280" y="6165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631280" y="6151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61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02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5880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75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561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547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53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51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50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489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475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46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448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434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41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40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39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37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362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348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33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321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30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292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27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26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250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23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22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209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19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180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165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15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137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122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108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09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081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67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053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03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02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010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996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981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969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954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940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92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91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897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883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869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685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842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6827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13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993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678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677052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6756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6742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672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715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700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86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67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657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643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629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61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60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588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573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55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54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531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516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502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8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75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461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446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43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41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404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6389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6375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6362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6348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6334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631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30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291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276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262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24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235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221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6207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619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17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164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149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135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12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108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094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080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06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051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8" name=""/>
            <p:cNvGrpSpPr/>
            <p:nvPr/>
          </p:nvGrpSpPr>
          <p:grpSpPr>
            <a:xfrm>
              <a:off x="3230640" y="6151680"/>
              <a:ext cx="2814480" cy="6120"/>
              <a:chOff x="3230640" y="6151680"/>
              <a:chExt cx="2814480" cy="6120"/>
            </a:xfrm>
          </p:grpSpPr>
          <p:sp>
            <p:nvSpPr>
              <p:cNvPr id="5329" name=""/>
              <p:cNvSpPr/>
              <p:nvPr/>
            </p:nvSpPr>
            <p:spPr>
              <a:xfrm>
                <a:off x="6037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02280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00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96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817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7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95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3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24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10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896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88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869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854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840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82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81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797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783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769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756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742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727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71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69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684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670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656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64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629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614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600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58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57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557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543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529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51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502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87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738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5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5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30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16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0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389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375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3611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34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33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18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303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289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27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262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2484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2340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21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205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191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176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62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149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135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1213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10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09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78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64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049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03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22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086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94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7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6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51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7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923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90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96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881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8672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85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838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824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0996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9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2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89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545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4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72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711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697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6832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66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4656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46418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4627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461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59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584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570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556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543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529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514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50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48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471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457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4434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42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416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4020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387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3736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3592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344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3308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316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302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4289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275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2609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246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232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4218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203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189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176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162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482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133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1194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05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0910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076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06224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0496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0356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0212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0068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9924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39783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39639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39495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3936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9225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9085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894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38797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38656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8512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8368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822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8098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37958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7814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76704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7530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7386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37242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7101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695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6831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6687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6543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6399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6259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6115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35971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3583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35701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35560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35416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352728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351324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34988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34844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34704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345600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344340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34290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41460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40056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38616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337176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33577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334332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333072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33163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3301920" y="6151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32878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3273480" y="6151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325908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3244680" y="6151680"/>
                <a:ext cx="82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3230640" y="6151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9" name=""/>
            <p:cNvSpPr/>
            <p:nvPr/>
          </p:nvSpPr>
          <p:spPr>
            <a:xfrm>
              <a:off x="321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3203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31892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3174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16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314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32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1179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103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76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062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0481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019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005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990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97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963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949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9354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92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90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892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8782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863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84940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8368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822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8083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7939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779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7655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751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736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724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709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6956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681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666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652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638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624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610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597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5830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5686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5542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5401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257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113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96960" y="6151680"/>
              <a:ext cx="8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2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4703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4559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4415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4271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4130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86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842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70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572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3432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288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3144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004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60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716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575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43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305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161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017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18772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173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1589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1448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130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1178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1034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0890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0750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06064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0462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0318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0178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00340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19908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19764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196200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194796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193356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191916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19051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18907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187632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18637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184932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183528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182088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180648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17924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17780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1763640" y="6151680"/>
              <a:ext cx="79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17510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1736640" y="6151680"/>
              <a:ext cx="64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1722600" y="6151680"/>
              <a:ext cx="612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1736280" y="6180120"/>
            <a:ext cx="517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) schemat;                        b) przebiegi;                c)charakterystyka prze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17400" y="618012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ścio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2429280" y="3049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fazy z układem EX-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9" name=""/>
          <p:cNvGrpSpPr/>
          <p:nvPr/>
        </p:nvGrpSpPr>
        <p:grpSpPr>
          <a:xfrm>
            <a:off x="1661040" y="779400"/>
            <a:ext cx="6492240" cy="5337360"/>
            <a:chOff x="1661040" y="779400"/>
            <a:chExt cx="6492240" cy="5337360"/>
          </a:xfrm>
        </p:grpSpPr>
        <p:sp>
          <p:nvSpPr>
            <p:cNvPr id="5640" name=""/>
            <p:cNvSpPr/>
            <p:nvPr/>
          </p:nvSpPr>
          <p:spPr>
            <a:xfrm>
              <a:off x="1661760" y="77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1808280" y="779400"/>
              <a:ext cx="310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1661040" y="26528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3" name=""/>
            <p:cNvGrpSpPr/>
            <p:nvPr/>
          </p:nvGrpSpPr>
          <p:grpSpPr>
            <a:xfrm>
              <a:off x="2892600" y="1336680"/>
              <a:ext cx="66600" cy="212760"/>
              <a:chOff x="2892600" y="1336680"/>
              <a:chExt cx="66600" cy="212760"/>
            </a:xfrm>
          </p:grpSpPr>
          <p:sp>
            <p:nvSpPr>
              <p:cNvPr id="5644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2892600" y="13366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6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6" y="76"/>
                    </a:lnTo>
                    <a:lnTo>
                      <a:pt x="38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6" name=""/>
            <p:cNvGrpSpPr/>
            <p:nvPr/>
          </p:nvGrpSpPr>
          <p:grpSpPr>
            <a:xfrm>
              <a:off x="2892600" y="1139760"/>
              <a:ext cx="66600" cy="211320"/>
              <a:chOff x="2892600" y="1139760"/>
              <a:chExt cx="66600" cy="211320"/>
            </a:xfrm>
          </p:grpSpPr>
          <p:sp>
            <p:nvSpPr>
              <p:cNvPr id="5647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2892600" y="1139760"/>
                <a:ext cx="6660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6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6" y="60"/>
                    </a:lnTo>
                    <a:lnTo>
                      <a:pt x="38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9" name=""/>
            <p:cNvGrpSpPr/>
            <p:nvPr/>
          </p:nvGrpSpPr>
          <p:grpSpPr>
            <a:xfrm>
              <a:off x="2981160" y="1336680"/>
              <a:ext cx="66960" cy="212760"/>
              <a:chOff x="2981160" y="1336680"/>
              <a:chExt cx="66960" cy="212760"/>
            </a:xfrm>
          </p:grpSpPr>
          <p:sp>
            <p:nvSpPr>
              <p:cNvPr id="5650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2981160" y="1336680"/>
                <a:ext cx="6696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0" y="134"/>
                    </a:moveTo>
                    <a:lnTo>
                      <a:pt x="9" y="132"/>
                    </a:lnTo>
                    <a:lnTo>
                      <a:pt x="15" y="123"/>
                    </a:lnTo>
                    <a:lnTo>
                      <a:pt x="22" y="112"/>
                    </a:lnTo>
                    <a:lnTo>
                      <a:pt x="29" y="94"/>
                    </a:lnTo>
                    <a:lnTo>
                      <a:pt x="35" y="76"/>
                    </a:lnTo>
                    <a:lnTo>
                      <a:pt x="37" y="52"/>
                    </a:lnTo>
                    <a:lnTo>
                      <a:pt x="42" y="27"/>
                    </a:lnTo>
                    <a:lnTo>
                      <a:pt x="4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2" name=""/>
            <p:cNvGrpSpPr/>
            <p:nvPr/>
          </p:nvGrpSpPr>
          <p:grpSpPr>
            <a:xfrm>
              <a:off x="2981160" y="1139760"/>
              <a:ext cx="66960" cy="211320"/>
              <a:chOff x="2981160" y="1139760"/>
              <a:chExt cx="66960" cy="211320"/>
            </a:xfrm>
          </p:grpSpPr>
          <p:sp>
            <p:nvSpPr>
              <p:cNvPr id="5653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81160" y="1139760"/>
                <a:ext cx="66960" cy="211320"/>
              </a:xfrm>
              <a:custGeom>
                <a:avLst/>
                <a:gdLst/>
                <a:ahLst/>
                <a:rect l="l" t="t" r="r" b="b"/>
                <a:pathLst>
                  <a:path w="42" h="133">
                    <a:moveTo>
                      <a:pt x="0" y="0"/>
                    </a:moveTo>
                    <a:lnTo>
                      <a:pt x="9" y="2"/>
                    </a:lnTo>
                    <a:lnTo>
                      <a:pt x="15" y="11"/>
                    </a:lnTo>
                    <a:lnTo>
                      <a:pt x="22" y="22"/>
                    </a:lnTo>
                    <a:lnTo>
                      <a:pt x="29" y="40"/>
                    </a:lnTo>
                    <a:lnTo>
                      <a:pt x="35" y="60"/>
                    </a:lnTo>
                    <a:lnTo>
                      <a:pt x="37" y="82"/>
                    </a:lnTo>
                    <a:lnTo>
                      <a:pt x="42" y="107"/>
                    </a:lnTo>
                    <a:lnTo>
                      <a:pt x="42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5" name=""/>
            <p:cNvSpPr/>
            <p:nvPr/>
          </p:nvSpPr>
          <p:spPr>
            <a:xfrm>
              <a:off x="2990880" y="1139760"/>
              <a:ext cx="253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002040" y="1549440"/>
              <a:ext cx="253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3209760" y="1139760"/>
              <a:ext cx="254160" cy="211320"/>
              <a:chOff x="3209760" y="1139760"/>
              <a:chExt cx="254160" cy="211320"/>
            </a:xfrm>
          </p:grpSpPr>
          <p:sp>
            <p:nvSpPr>
              <p:cNvPr id="5658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209760" y="1139760"/>
                <a:ext cx="254160" cy="211320"/>
              </a:xfrm>
              <a:custGeom>
                <a:avLst/>
                <a:gdLst/>
                <a:ahLst/>
                <a:rect l="l" t="t" r="r" b="b"/>
                <a:pathLst>
                  <a:path w="160" h="133">
                    <a:moveTo>
                      <a:pt x="0" y="0"/>
                    </a:moveTo>
                    <a:lnTo>
                      <a:pt x="33" y="2"/>
                    </a:lnTo>
                    <a:lnTo>
                      <a:pt x="62" y="11"/>
                    </a:lnTo>
                    <a:lnTo>
                      <a:pt x="89" y="22"/>
                    </a:lnTo>
                    <a:lnTo>
                      <a:pt x="113" y="40"/>
                    </a:lnTo>
                    <a:lnTo>
                      <a:pt x="133" y="60"/>
                    </a:lnTo>
                    <a:lnTo>
                      <a:pt x="147" y="82"/>
                    </a:lnTo>
                    <a:lnTo>
                      <a:pt x="158" y="107"/>
                    </a:lnTo>
                    <a:lnTo>
                      <a:pt x="160" y="13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0" name=""/>
            <p:cNvGrpSpPr/>
            <p:nvPr/>
          </p:nvGrpSpPr>
          <p:grpSpPr>
            <a:xfrm>
              <a:off x="3209760" y="1373040"/>
              <a:ext cx="254160" cy="176400"/>
              <a:chOff x="3209760" y="1373040"/>
              <a:chExt cx="254160" cy="176400"/>
            </a:xfrm>
          </p:grpSpPr>
          <p:sp>
            <p:nvSpPr>
              <p:cNvPr id="5661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209760" y="1373040"/>
                <a:ext cx="254160" cy="176400"/>
              </a:xfrm>
              <a:custGeom>
                <a:avLst/>
                <a:gdLst/>
                <a:ahLst/>
                <a:rect l="l" t="t" r="r" b="b"/>
                <a:pathLst>
                  <a:path w="160" h="111">
                    <a:moveTo>
                      <a:pt x="0" y="111"/>
                    </a:moveTo>
                    <a:lnTo>
                      <a:pt x="33" y="109"/>
                    </a:lnTo>
                    <a:lnTo>
                      <a:pt x="62" y="102"/>
                    </a:lnTo>
                    <a:lnTo>
                      <a:pt x="89" y="91"/>
                    </a:lnTo>
                    <a:lnTo>
                      <a:pt x="113" y="77"/>
                    </a:lnTo>
                    <a:lnTo>
                      <a:pt x="133" y="62"/>
                    </a:lnTo>
                    <a:lnTo>
                      <a:pt x="147" y="42"/>
                    </a:lnTo>
                    <a:lnTo>
                      <a:pt x="158" y="22"/>
                    </a:lnTo>
                    <a:lnTo>
                      <a:pt x="16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3" name=""/>
            <p:cNvSpPr/>
            <p:nvPr/>
          </p:nvSpPr>
          <p:spPr>
            <a:xfrm>
              <a:off x="3460680" y="1336680"/>
              <a:ext cx="4932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030560" y="1336680"/>
              <a:ext cx="50760" cy="428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49480" y="1197000"/>
              <a:ext cx="4932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46480" y="144612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510000" y="1359000"/>
              <a:ext cx="539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109960" y="1217520"/>
              <a:ext cx="825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406600" y="147168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0" name=""/>
            <p:cNvGrpSpPr/>
            <p:nvPr/>
          </p:nvGrpSpPr>
          <p:grpSpPr>
            <a:xfrm>
              <a:off x="2338560" y="1581120"/>
              <a:ext cx="74520" cy="450720"/>
              <a:chOff x="2338560" y="1581120"/>
              <a:chExt cx="74520" cy="450720"/>
            </a:xfrm>
          </p:grpSpPr>
          <p:sp>
            <p:nvSpPr>
              <p:cNvPr id="5671" name=""/>
              <p:cNvSpPr/>
              <p:nvPr/>
            </p:nvSpPr>
            <p:spPr>
              <a:xfrm>
                <a:off x="2374920" y="1581120"/>
                <a:ext cx="1440" cy="45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338560" y="158112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lnTo>
                      <a:pt x="23" y="0"/>
                    </a:lnTo>
                    <a:lnTo>
                      <a:pt x="0" y="4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3" name=""/>
            <p:cNvGrpSpPr/>
            <p:nvPr/>
          </p:nvGrpSpPr>
          <p:grpSpPr>
            <a:xfrm>
              <a:off x="2039760" y="1316160"/>
              <a:ext cx="73080" cy="704880"/>
              <a:chOff x="2039760" y="1316160"/>
              <a:chExt cx="73080" cy="704880"/>
            </a:xfrm>
          </p:grpSpPr>
          <p:sp>
            <p:nvSpPr>
              <p:cNvPr id="5674" name=""/>
              <p:cNvSpPr/>
              <p:nvPr/>
            </p:nvSpPr>
            <p:spPr>
              <a:xfrm>
                <a:off x="2075040" y="1316160"/>
                <a:ext cx="2880" cy="704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039760" y="131616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6" name=""/>
            <p:cNvGrpSpPr/>
            <p:nvPr/>
          </p:nvGrpSpPr>
          <p:grpSpPr>
            <a:xfrm>
              <a:off x="4035600" y="1471680"/>
              <a:ext cx="72720" cy="539640"/>
              <a:chOff x="4035600" y="1471680"/>
              <a:chExt cx="72720" cy="539640"/>
            </a:xfrm>
          </p:grpSpPr>
          <p:sp>
            <p:nvSpPr>
              <p:cNvPr id="5677" name=""/>
              <p:cNvSpPr/>
              <p:nvPr/>
            </p:nvSpPr>
            <p:spPr>
              <a:xfrm>
                <a:off x="4070520" y="1471680"/>
                <a:ext cx="1440" cy="53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035600" y="147168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22" y="0"/>
                    </a:lnTo>
                    <a:lnTo>
                      <a:pt x="0" y="4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9" name=""/>
            <p:cNvSpPr/>
            <p:nvPr/>
          </p:nvSpPr>
          <p:spPr>
            <a:xfrm>
              <a:off x="20113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06520" y="2052720"/>
              <a:ext cx="15552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3560" y="2043000"/>
              <a:ext cx="154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1668600" y="1612800"/>
              <a:ext cx="377640" cy="2253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1736280" y="164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1809360" y="171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1828800" y="16765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116240" y="1636560"/>
              <a:ext cx="376560" cy="2224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171680" y="1665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245840" y="1735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295880" y="16653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64920" y="1731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539440" y="1803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589480" y="1731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629080" y="10018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617920" y="1266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675240" y="1108080"/>
              <a:ext cx="210960" cy="2221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735360" y="11365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110760" y="17431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=AB+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421080" y="1711440"/>
              <a:ext cx="572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706920" y="1711440"/>
              <a:ext cx="56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365640" y="1690560"/>
              <a:ext cx="398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1" name=""/>
            <p:cNvGrpSpPr/>
            <p:nvPr/>
          </p:nvGrpSpPr>
          <p:grpSpPr>
            <a:xfrm>
              <a:off x="6129360" y="819000"/>
              <a:ext cx="74520" cy="1181160"/>
              <a:chOff x="6129360" y="819000"/>
              <a:chExt cx="74520" cy="1181160"/>
            </a:xfrm>
          </p:grpSpPr>
          <p:sp>
            <p:nvSpPr>
              <p:cNvPr id="5702" name=""/>
              <p:cNvSpPr/>
              <p:nvPr/>
            </p:nvSpPr>
            <p:spPr>
              <a:xfrm>
                <a:off x="6164280" y="885960"/>
                <a:ext cx="1440" cy="1114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6129360" y="819000"/>
                <a:ext cx="7452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22" y="0"/>
                    </a:lnTo>
                    <a:lnTo>
                      <a:pt x="0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4" name=""/>
            <p:cNvSpPr/>
            <p:nvPr/>
          </p:nvSpPr>
          <p:spPr>
            <a:xfrm>
              <a:off x="6164280" y="1093680"/>
              <a:ext cx="892080" cy="89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5262480" y="1108080"/>
              <a:ext cx="890640" cy="892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919760" y="1636560"/>
              <a:ext cx="352440" cy="352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7045200" y="1414440"/>
              <a:ext cx="58608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8" name=""/>
            <p:cNvGrpSpPr/>
            <p:nvPr/>
          </p:nvGrpSpPr>
          <p:grpSpPr>
            <a:xfrm>
              <a:off x="5742000" y="1555920"/>
              <a:ext cx="6480" cy="430200"/>
              <a:chOff x="5742000" y="1555920"/>
              <a:chExt cx="6480" cy="430200"/>
            </a:xfrm>
          </p:grpSpPr>
          <p:sp>
            <p:nvSpPr>
              <p:cNvPr id="5709" name=""/>
              <p:cNvSpPr/>
              <p:nvPr/>
            </p:nvSpPr>
            <p:spPr>
              <a:xfrm>
                <a:off x="5742000" y="1555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5742000" y="156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5742000" y="1584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5742000" y="1598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5742000" y="161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5742000" y="16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5742000" y="1641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742000" y="165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742000" y="1668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742000" y="168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742000" y="169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42000" y="171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742000" y="172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742000" y="173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742000" y="1754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742000" y="176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742000" y="1781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5742000" y="179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5742000" y="180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5742000" y="1824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5742000" y="183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5742000" y="1852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5742000" y="186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5742000" y="1881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5742000" y="1893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5742000" y="1908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5742000" y="192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5742000" y="1936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742000" y="1951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742000" y="1965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742000" y="1979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0" name=""/>
            <p:cNvGrpSpPr/>
            <p:nvPr/>
          </p:nvGrpSpPr>
          <p:grpSpPr>
            <a:xfrm>
              <a:off x="6566040" y="1555920"/>
              <a:ext cx="10800" cy="430200"/>
              <a:chOff x="6566040" y="1555920"/>
              <a:chExt cx="10800" cy="430200"/>
            </a:xfrm>
          </p:grpSpPr>
          <p:sp>
            <p:nvSpPr>
              <p:cNvPr id="5741" name=""/>
              <p:cNvSpPr/>
              <p:nvPr/>
            </p:nvSpPr>
            <p:spPr>
              <a:xfrm>
                <a:off x="6566040" y="1555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6566040" y="1569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566040" y="158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566040" y="15987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566040" y="1612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566040" y="16272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566040" y="16416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566040" y="16542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566040" y="1668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566040" y="168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566040" y="1697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566040" y="17114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566040" y="17254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566040" y="1739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66040" y="1754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66040" y="176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570720" y="17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6570720" y="1795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6570720" y="180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6570720" y="1824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70720" y="183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6570720" y="1852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570720" y="1866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6570720" y="1881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6570720" y="1893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6570720" y="190800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6570720" y="192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570720" y="193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570720" y="1951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570720" y="1965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570720" y="1979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2" name=""/>
            <p:cNvGrpSpPr/>
            <p:nvPr/>
          </p:nvGrpSpPr>
          <p:grpSpPr>
            <a:xfrm>
              <a:off x="5487840" y="1531800"/>
              <a:ext cx="1262160" cy="9720"/>
              <a:chOff x="5487840" y="1531800"/>
              <a:chExt cx="1262160" cy="9720"/>
            </a:xfrm>
          </p:grpSpPr>
          <p:sp>
            <p:nvSpPr>
              <p:cNvPr id="5773" name=""/>
              <p:cNvSpPr/>
              <p:nvPr/>
            </p:nvSpPr>
            <p:spPr>
              <a:xfrm>
                <a:off x="5487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55022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55148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5292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5436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5557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55720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55864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6008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56149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62932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56419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56563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56707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5684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56991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57135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7276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574200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57564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57690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57834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579744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58118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62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58402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585468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86908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8816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89608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59101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592452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593892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9529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596736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59817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599616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00876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022800" y="15318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0372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051600" y="1531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06600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0800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094440" y="1531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108840" y="15318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1214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135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1498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164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1786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1927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2071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22152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235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2485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2625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2769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29136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305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3198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33420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348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3626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3752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3896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4040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184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4324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468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46128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47532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4882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5023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5167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53112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5451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55956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57396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880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0240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150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94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4380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784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7224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86640" y="1535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7006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715080" y="1535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7276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742080" y="15350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3" name=""/>
            <p:cNvGrpSpPr/>
            <p:nvPr/>
          </p:nvGrpSpPr>
          <p:grpSpPr>
            <a:xfrm>
              <a:off x="6161040" y="1104840"/>
              <a:ext cx="147600" cy="6480"/>
              <a:chOff x="6161040" y="1104840"/>
              <a:chExt cx="147600" cy="6480"/>
            </a:xfrm>
          </p:grpSpPr>
          <p:sp>
            <p:nvSpPr>
              <p:cNvPr id="5864" name=""/>
              <p:cNvSpPr/>
              <p:nvPr/>
            </p:nvSpPr>
            <p:spPr>
              <a:xfrm>
                <a:off x="616104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1754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18984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20388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216480" y="11048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2308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2452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59680" y="110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2737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288120" y="1104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302520" y="1104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5" name=""/>
            <p:cNvSpPr/>
            <p:nvPr/>
          </p:nvSpPr>
          <p:spPr>
            <a:xfrm>
              <a:off x="5917680" y="801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990400" y="871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89280" y="1023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495840" y="10936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6824520" y="1360440"/>
              <a:ext cx="81000" cy="307440"/>
              <a:chOff x="6824520" y="1360440"/>
              <a:chExt cx="81000" cy="307440"/>
            </a:xfrm>
          </p:grpSpPr>
          <p:sp>
            <p:nvSpPr>
              <p:cNvPr id="5880" name=""/>
              <p:cNvSpPr/>
              <p:nvPr/>
            </p:nvSpPr>
            <p:spPr>
              <a:xfrm>
                <a:off x="6824520" y="1511280"/>
                <a:ext cx="81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836760" y="136044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833520" y="153036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3" name=""/>
            <p:cNvSpPr/>
            <p:nvPr/>
          </p:nvSpPr>
          <p:spPr>
            <a:xfrm>
              <a:off x="6957720" y="14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62480" y="1474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5840" y="202896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6135480" y="2035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207760" y="202896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8" name=""/>
            <p:cNvGrpSpPr/>
            <p:nvPr/>
          </p:nvGrpSpPr>
          <p:grpSpPr>
            <a:xfrm>
              <a:off x="5658840" y="2041560"/>
              <a:ext cx="180000" cy="320040"/>
              <a:chOff x="5658840" y="2041560"/>
              <a:chExt cx="180000" cy="320040"/>
            </a:xfrm>
          </p:grpSpPr>
          <p:sp>
            <p:nvSpPr>
              <p:cNvPr id="5889" name=""/>
              <p:cNvSpPr/>
              <p:nvPr/>
            </p:nvSpPr>
            <p:spPr>
              <a:xfrm>
                <a:off x="57434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5658840" y="211464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574992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576036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3" name=""/>
            <p:cNvGrpSpPr/>
            <p:nvPr/>
          </p:nvGrpSpPr>
          <p:grpSpPr>
            <a:xfrm>
              <a:off x="6524640" y="2041560"/>
              <a:ext cx="95400" cy="320040"/>
              <a:chOff x="6524640" y="2041560"/>
              <a:chExt cx="95400" cy="320040"/>
            </a:xfrm>
          </p:grpSpPr>
          <p:sp>
            <p:nvSpPr>
              <p:cNvPr id="5894" name=""/>
              <p:cNvSpPr/>
              <p:nvPr/>
            </p:nvSpPr>
            <p:spPr>
              <a:xfrm>
                <a:off x="6524640" y="2205000"/>
                <a:ext cx="954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6532560" y="204156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6541200" y="222408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7" name=""/>
            <p:cNvGrpSpPr/>
            <p:nvPr/>
          </p:nvGrpSpPr>
          <p:grpSpPr>
            <a:xfrm>
              <a:off x="7308360" y="2050920"/>
              <a:ext cx="532080" cy="320040"/>
              <a:chOff x="7308360" y="2050920"/>
              <a:chExt cx="532080" cy="320040"/>
            </a:xfrm>
          </p:grpSpPr>
          <p:sp>
            <p:nvSpPr>
              <p:cNvPr id="5898" name=""/>
              <p:cNvSpPr/>
              <p:nvPr/>
            </p:nvSpPr>
            <p:spPr>
              <a:xfrm>
                <a:off x="7566120" y="2216160"/>
                <a:ext cx="136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08360" y="2125800"/>
                <a:ext cx="6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777080" y="2125800"/>
                <a:ext cx="63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7382520" y="2181240"/>
                <a:ext cx="46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7649640" y="2063880"/>
                <a:ext cx="3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7595640" y="22334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454880" y="2125800"/>
                <a:ext cx="92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579800" y="2050920"/>
                <a:ext cx="7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719120" y="2138400"/>
                <a:ext cx="58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7" name=""/>
            <p:cNvSpPr/>
            <p:nvPr/>
          </p:nvSpPr>
          <p:spPr>
            <a:xfrm>
              <a:off x="2935440" y="3498840"/>
              <a:ext cx="225360" cy="2127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995200" y="352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065040" y="3530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9920" y="5900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257600" y="59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1700280" y="4875120"/>
              <a:ext cx="247680" cy="21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176004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1834560" y="497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1746360" y="5315040"/>
              <a:ext cx="268200" cy="2365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1788840" y="534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1895040" y="54180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8" name=""/>
            <p:cNvGrpSpPr/>
            <p:nvPr/>
          </p:nvGrpSpPr>
          <p:grpSpPr>
            <a:xfrm>
              <a:off x="2620800" y="3960720"/>
              <a:ext cx="1160640" cy="77760"/>
              <a:chOff x="2620800" y="3960720"/>
              <a:chExt cx="1160640" cy="77760"/>
            </a:xfrm>
          </p:grpSpPr>
          <p:sp>
            <p:nvSpPr>
              <p:cNvPr id="5919" name=""/>
              <p:cNvSpPr/>
              <p:nvPr/>
            </p:nvSpPr>
            <p:spPr>
              <a:xfrm flipH="1">
                <a:off x="2687400" y="4000680"/>
                <a:ext cx="10270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06920" y="39654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2620800" y="3960720"/>
                <a:ext cx="74880" cy="748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0" y="25"/>
                    </a:lnTo>
                    <a:lnTo>
                      <a:pt x="47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2" name=""/>
            <p:cNvGrpSpPr/>
            <p:nvPr/>
          </p:nvGrpSpPr>
          <p:grpSpPr>
            <a:xfrm>
              <a:off x="3117960" y="3749760"/>
              <a:ext cx="187200" cy="215640"/>
              <a:chOff x="3117960" y="3749760"/>
              <a:chExt cx="187200" cy="215640"/>
            </a:xfrm>
          </p:grpSpPr>
          <p:sp>
            <p:nvSpPr>
              <p:cNvPr id="5923" name=""/>
              <p:cNvSpPr/>
              <p:nvPr/>
            </p:nvSpPr>
            <p:spPr>
              <a:xfrm>
                <a:off x="3121200" y="3753000"/>
                <a:ext cx="1807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117960" y="37530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117960" y="376704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117960" y="378144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117960" y="379584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117960" y="38098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117960" y="382428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117960" y="383868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117960" y="38512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117960" y="38656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117960" y="38797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117960" y="3894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117960" y="390852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117960" y="39225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117960" y="3936960"/>
                <a:ext cx="7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117960" y="39513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12588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13992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15288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1669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1813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19572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2097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22416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2385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252960" y="3957480"/>
                <a:ext cx="61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267000" y="39574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279600" y="3957480"/>
                <a:ext cx="82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294000" y="395748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298680" y="394668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298680" y="39337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298680" y="39196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298680" y="3905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298680" y="38908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298680" y="3876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298680" y="38624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298680" y="384804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298680" y="3833640"/>
                <a:ext cx="6480" cy="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298680" y="3819600"/>
                <a:ext cx="64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298680" y="3807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298680" y="37926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298680" y="3778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298680" y="3763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298680" y="3749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28464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2702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25584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24180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2274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21300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1989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184560" y="3749760"/>
                <a:ext cx="7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17196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1575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143160" y="3749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129120" y="3749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9" name=""/>
            <p:cNvSpPr/>
            <p:nvPr/>
          </p:nvSpPr>
          <p:spPr>
            <a:xfrm>
              <a:off x="3170880" y="377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054160" y="3365640"/>
              <a:ext cx="584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3844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38440" y="3022560"/>
              <a:ext cx="56844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09760" y="3022560"/>
              <a:ext cx="324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09760" y="337644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95840" y="303372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95840" y="3022560"/>
              <a:ext cx="57780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365720" y="3022560"/>
              <a:ext cx="468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77240" y="3452760"/>
              <a:ext cx="18072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14816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1768320" y="27367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1834920" y="27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1907640" y="2836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4379760" y="3365640"/>
              <a:ext cx="582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962600" y="302256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4962600" y="3022560"/>
              <a:ext cx="57456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5371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537160" y="337644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118200" y="3033720"/>
              <a:ext cx="32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18200" y="3022560"/>
              <a:ext cx="582480" cy="4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692760" y="3022560"/>
              <a:ext cx="1800" cy="357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703920" y="3365640"/>
              <a:ext cx="309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054160" y="4522680"/>
              <a:ext cx="1764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305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30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805120" y="4179960"/>
              <a:ext cx="144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805120" y="453240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386160" y="4194000"/>
              <a:ext cx="32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386160" y="4179960"/>
              <a:ext cx="57456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96072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34120" y="4621320"/>
              <a:ext cx="179640" cy="21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200720" y="465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1768320" y="3894120"/>
              <a:ext cx="246240" cy="21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1823760" y="3925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1897920" y="399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971880" y="4522680"/>
              <a:ext cx="584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556160" y="4179960"/>
              <a:ext cx="1440" cy="345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556160" y="4179960"/>
              <a:ext cx="5684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1274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127480" y="4532400"/>
              <a:ext cx="586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7135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713560" y="4179960"/>
              <a:ext cx="566640" cy="6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284880" y="4179960"/>
              <a:ext cx="1800" cy="35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294600" y="4522680"/>
              <a:ext cx="5857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869160" y="4194000"/>
              <a:ext cx="1440" cy="341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869160" y="4194000"/>
              <a:ext cx="187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6" name=""/>
            <p:cNvGrpSpPr/>
            <p:nvPr/>
          </p:nvGrpSpPr>
          <p:grpSpPr>
            <a:xfrm>
              <a:off x="2635200" y="3362400"/>
              <a:ext cx="6480" cy="2093760"/>
              <a:chOff x="2635200" y="3362400"/>
              <a:chExt cx="6480" cy="2093760"/>
            </a:xfrm>
          </p:grpSpPr>
          <p:sp>
            <p:nvSpPr>
              <p:cNvPr id="6027" name=""/>
              <p:cNvSpPr/>
              <p:nvPr/>
            </p:nvSpPr>
            <p:spPr>
              <a:xfrm>
                <a:off x="263520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63520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263520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263520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263520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263520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263520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263520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263520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263520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263520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263520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263520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63520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263520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263520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63520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263520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263520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263520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263520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263520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263520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263520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263520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263520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263520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263520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263520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263520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263520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263520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263520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263520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63520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263520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263520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63520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263520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263520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263520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263520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63520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263520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263520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263520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3520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63520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263520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63520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63520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63520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63520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63520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63520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3520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263520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263520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263520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63520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263520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263520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263520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263520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263520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263520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263520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263520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63520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263520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263520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263520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263520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263520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263520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263520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263520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263520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263520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263520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263520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263520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263520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263520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263520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263520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3520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263520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263520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263520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263520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263520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63520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63520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63520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263520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263520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263520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263520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263520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3520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263520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263520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263520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263520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263520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263520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263520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263520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263520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263520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263520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263520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263520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263520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263520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263520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263520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263520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63520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263520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263520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263520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263520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263520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263520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263520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263520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263520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263520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263520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263520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263520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263520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263520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263520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263520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263520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263520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263520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263520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263520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263520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63520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63520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63520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263520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263520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3520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6" name=""/>
            <p:cNvSpPr/>
            <p:nvPr/>
          </p:nvSpPr>
          <p:spPr>
            <a:xfrm>
              <a:off x="263844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64960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68760" y="5438880"/>
              <a:ext cx="14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6876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2241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38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4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354480" y="5799240"/>
              <a:ext cx="447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4" name=""/>
            <p:cNvGrpSpPr/>
            <p:nvPr/>
          </p:nvGrpSpPr>
          <p:grpSpPr>
            <a:xfrm>
              <a:off x="4959360" y="3362400"/>
              <a:ext cx="6480" cy="2093760"/>
              <a:chOff x="4959360" y="3362400"/>
              <a:chExt cx="6480" cy="2093760"/>
            </a:xfrm>
          </p:grpSpPr>
          <p:sp>
            <p:nvSpPr>
              <p:cNvPr id="6185" name=""/>
              <p:cNvSpPr/>
              <p:nvPr/>
            </p:nvSpPr>
            <p:spPr>
              <a:xfrm>
                <a:off x="4959360" y="33624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959360" y="3376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959360" y="3389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959360" y="340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959360" y="341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959360" y="3432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959360" y="3446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959360" y="3460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959360" y="3475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959360" y="3489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959360" y="3502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959360" y="351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959360" y="3530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959360" y="3544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959360" y="355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959360" y="3573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959360" y="3587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959360" y="36021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959360" y="36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959360" y="3629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959360" y="36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959360" y="3657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959360" y="367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959360" y="3686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959360" y="3700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959360" y="3714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959360" y="372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959360" y="3743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959360" y="3755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959360" y="377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95936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959360" y="37987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959360" y="381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959360" y="3827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959360" y="3841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959360" y="3855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959360" y="3870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959360" y="388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959360" y="3897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959360" y="3911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59360" y="3925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959360" y="3940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959360" y="3954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959360" y="396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959360" y="398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959360" y="399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59360" y="4010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959360" y="4024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959360" y="4038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959360" y="4052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959360" y="4067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959360" y="4081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959360" y="4095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959360" y="4110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959360" y="4122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959360" y="4137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959360" y="4151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959360" y="4165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959360" y="4179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959360" y="4194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959360" y="4208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959360" y="4222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959360" y="4237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959360" y="4249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959360" y="4264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959360" y="427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959360" y="4292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959360" y="4307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959360" y="43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959360" y="433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959360" y="4349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959360" y="4363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959360" y="4376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959360" y="439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959360" y="4405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959360" y="441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959360" y="4433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959360" y="4448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959360" y="44625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959360" y="4476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959360" y="4491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959360" y="4503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59360" y="4518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959360" y="4532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95936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959360" y="456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959360" y="45752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959360" y="4589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959360" y="4603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959360" y="46162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959360" y="4630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959360" y="464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959360" y="465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959360" y="4673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959360" y="468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959360" y="4702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959360" y="471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959360" y="47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959360" y="4743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959360" y="47577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959360" y="4772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959360" y="478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959360" y="4800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959360" y="481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959360" y="482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959360" y="4843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959360" y="48578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959360" y="4870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959360" y="4884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959360" y="489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59360" y="4913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959360" y="49276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959360" y="4941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959360" y="4956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959360" y="49705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959360" y="49849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959360" y="499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959360" y="501156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59360" y="502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959360" y="5040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959360" y="505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959360" y="5068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959360" y="508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959360" y="509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959360" y="51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959360" y="512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59360" y="5138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959360" y="5153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959360" y="5167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959360" y="5181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959360" y="5195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959360" y="52102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959360" y="52243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959360" y="523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959360" y="52513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959360" y="5265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959360" y="5280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959360" y="5294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959360" y="5308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4959360" y="5322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4959360" y="5337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59360" y="53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4959360" y="536400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4959360" y="5378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959360" y="53928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959360" y="5407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959360" y="5421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4959360" y="543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4959360" y="5450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4" name=""/>
            <p:cNvSpPr/>
            <p:nvPr/>
          </p:nvSpPr>
          <p:spPr>
            <a:xfrm>
              <a:off x="3795840" y="5459400"/>
              <a:ext cx="144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79584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91464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914640" y="5799240"/>
              <a:ext cx="46512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043000" y="5427720"/>
              <a:ext cx="1555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198520" y="5427720"/>
              <a:ext cx="1800" cy="371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198520" y="5799240"/>
              <a:ext cx="447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37976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39092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506840" y="543888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4506840" y="5799240"/>
              <a:ext cx="4557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495936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971960" y="5438880"/>
              <a:ext cx="117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0896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089680" y="5799240"/>
              <a:ext cx="4442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26000" y="5459400"/>
              <a:ext cx="1800" cy="34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26000" y="545004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646600" y="5450040"/>
              <a:ext cx="180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646600" y="5799240"/>
              <a:ext cx="4748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11820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129360" y="5438880"/>
              <a:ext cx="11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248520" y="5438880"/>
              <a:ext cx="468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6248520" y="5799240"/>
              <a:ext cx="458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6703920" y="5438880"/>
              <a:ext cx="3240" cy="3664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6721560" y="5438880"/>
              <a:ext cx="1159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6837480" y="5438880"/>
              <a:ext cx="1440" cy="36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6837480" y="5799240"/>
              <a:ext cx="2538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1" name=""/>
            <p:cNvGrpSpPr/>
            <p:nvPr/>
          </p:nvGrpSpPr>
          <p:grpSpPr>
            <a:xfrm>
              <a:off x="2631960" y="3706920"/>
              <a:ext cx="750960" cy="77760"/>
              <a:chOff x="2631960" y="3706920"/>
              <a:chExt cx="750960" cy="77760"/>
            </a:xfrm>
          </p:grpSpPr>
          <p:sp>
            <p:nvSpPr>
              <p:cNvPr id="6362" name=""/>
              <p:cNvSpPr/>
              <p:nvPr/>
            </p:nvSpPr>
            <p:spPr>
              <a:xfrm flipH="1">
                <a:off x="2698560" y="3746520"/>
                <a:ext cx="617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3308400" y="3711600"/>
                <a:ext cx="7452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7" y="22"/>
                    </a:lnTo>
                    <a:lnTo>
                      <a:pt x="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631960" y="3706920"/>
                <a:ext cx="7308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0" y="25"/>
                    </a:lnTo>
                    <a:lnTo>
                      <a:pt x="46" y="4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5" name=""/>
            <p:cNvSpPr/>
            <p:nvPr/>
          </p:nvSpPr>
          <p:spPr>
            <a:xfrm>
              <a:off x="259092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80988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057400" y="34290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5740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981080" y="586728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205740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2057400" y="3733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1981080" y="49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4800600" y="198108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4" name=""/>
          <p:cNvGrpSpPr/>
          <p:nvPr/>
        </p:nvGrpSpPr>
        <p:grpSpPr>
          <a:xfrm>
            <a:off x="1146960" y="1873080"/>
            <a:ext cx="7040160" cy="2589480"/>
            <a:chOff x="1146960" y="1873080"/>
            <a:chExt cx="7040160" cy="2589480"/>
          </a:xfrm>
        </p:grpSpPr>
        <p:sp>
          <p:nvSpPr>
            <p:cNvPr id="6375" name=""/>
            <p:cNvSpPr/>
            <p:nvPr/>
          </p:nvSpPr>
          <p:spPr>
            <a:xfrm>
              <a:off x="2160720" y="1887480"/>
              <a:ext cx="892080" cy="93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280240" y="1927080"/>
              <a:ext cx="65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50600" y="2151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95640" y="237492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50600" y="259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74760" y="3529080"/>
              <a:ext cx="892440" cy="933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240280" y="3571920"/>
              <a:ext cx="76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D    R    Q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565000" y="3795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209680" y="4019400"/>
              <a:ext cx="17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1654200" y="199548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575080" y="3456000"/>
              <a:ext cx="680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575080" y="283212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  <a:lnTo>
                    <a:pt x="184" y="13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4352760" y="29354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0"/>
                  </a:moveTo>
                  <a:lnTo>
                    <a:pt x="147" y="3"/>
                  </a:lnTo>
                  <a:lnTo>
                    <a:pt x="114" y="12"/>
                  </a:lnTo>
                  <a:lnTo>
                    <a:pt x="83" y="24"/>
                  </a:lnTo>
                  <a:lnTo>
                    <a:pt x="55" y="39"/>
                  </a:lnTo>
                  <a:lnTo>
                    <a:pt x="31" y="61"/>
                  </a:lnTo>
                  <a:lnTo>
                    <a:pt x="15" y="82"/>
                  </a:lnTo>
                  <a:lnTo>
                    <a:pt x="3" y="107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  <a:lnTo>
                    <a:pt x="184" y="0"/>
                  </a:lnTo>
                  <a:lnTo>
                    <a:pt x="184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352760" y="3164040"/>
              <a:ext cx="292320" cy="214200"/>
            </a:xfrm>
            <a:custGeom>
              <a:avLst/>
              <a:gdLst/>
              <a:ahLst/>
              <a:rect l="l" t="t" r="r" b="b"/>
              <a:pathLst>
                <a:path w="184" h="135">
                  <a:moveTo>
                    <a:pt x="184" y="135"/>
                  </a:moveTo>
                  <a:lnTo>
                    <a:pt x="147" y="132"/>
                  </a:lnTo>
                  <a:lnTo>
                    <a:pt x="114" y="125"/>
                  </a:lnTo>
                  <a:lnTo>
                    <a:pt x="83" y="113"/>
                  </a:lnTo>
                  <a:lnTo>
                    <a:pt x="55" y="95"/>
                  </a:lnTo>
                  <a:lnTo>
                    <a:pt x="31" y="76"/>
                  </a:lnTo>
                  <a:lnTo>
                    <a:pt x="15" y="52"/>
                  </a:lnTo>
                  <a:lnTo>
                    <a:pt x="3" y="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659480" y="2935440"/>
              <a:ext cx="24444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616280" y="3362400"/>
              <a:ext cx="287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V="1">
              <a:off x="4903920" y="2935440"/>
              <a:ext cx="1440" cy="42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03520" y="2890800"/>
              <a:ext cx="144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694640" y="3392640"/>
              <a:ext cx="6840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575080" y="3149640"/>
              <a:ext cx="680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H="1">
              <a:off x="2619360" y="3178080"/>
              <a:ext cx="166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H="1">
              <a:off x="3047760" y="2038320"/>
              <a:ext cx="2235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3067200" y="3699000"/>
              <a:ext cx="221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flipH="1">
              <a:off x="4908240" y="3027240"/>
              <a:ext cx="374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H="1">
              <a:off x="4917600" y="3300480"/>
              <a:ext cx="3654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flipV="1">
              <a:off x="5283360" y="2033640"/>
              <a:ext cx="144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 flipV="1">
              <a:off x="5283360" y="3300120"/>
              <a:ext cx="936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flipH="1">
              <a:off x="1727280" y="2023920"/>
              <a:ext cx="31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028960" y="1976400"/>
              <a:ext cx="10296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H="1">
              <a:off x="1736640" y="3684600"/>
              <a:ext cx="317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043000" y="363528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H="1">
              <a:off x="1293840" y="2448000"/>
              <a:ext cx="7444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028960" y="23986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flipH="1">
              <a:off x="1308240" y="4092480"/>
              <a:ext cx="74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043000" y="40449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0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258920" y="4064040"/>
              <a:ext cx="6336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258920" y="2419200"/>
              <a:ext cx="633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1668600" y="3649680"/>
              <a:ext cx="6804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07680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254560" y="3484440"/>
              <a:ext cx="63720" cy="5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254560" y="2525760"/>
              <a:ext cx="6372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483160" y="3430440"/>
              <a:ext cx="43344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313240" y="351468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907240" y="351468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664240" y="3060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 flipV="1">
              <a:off x="6311880" y="3128760"/>
              <a:ext cx="144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6316560" y="3416400"/>
              <a:ext cx="5796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 flipV="1">
              <a:off x="6404040" y="3484440"/>
              <a:ext cx="14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354720" y="3519360"/>
              <a:ext cx="9360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 flipV="1">
              <a:off x="6093000" y="3503160"/>
              <a:ext cx="223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111720" y="3270240"/>
              <a:ext cx="2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919920" y="3421080"/>
              <a:ext cx="7999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014880" y="4336920"/>
              <a:ext cx="169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flipV="1">
              <a:off x="7086600" y="2549160"/>
              <a:ext cx="468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365880" y="3270240"/>
              <a:ext cx="92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 flipH="1" flipV="1">
              <a:off x="6321600" y="3133800"/>
              <a:ext cx="57456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483160" y="2471760"/>
              <a:ext cx="433440" cy="17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3240" y="25542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907240" y="2554200"/>
              <a:ext cx="21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66424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V="1">
              <a:off x="6107040" y="254952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008760" y="3693960"/>
              <a:ext cx="16668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093000" y="35290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093000" y="41227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345360" y="38257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86680" y="2471760"/>
              <a:ext cx="4395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121440" y="2549520"/>
              <a:ext cx="181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 flipV="1">
              <a:off x="6715080" y="2549160"/>
              <a:ext cx="3808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467400" y="21016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056360" y="339264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062760" y="3475080"/>
              <a:ext cx="6336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622680" y="286236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686040" y="4457880"/>
              <a:ext cx="169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670880" y="4384800"/>
              <a:ext cx="174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14840" y="2351160"/>
              <a:ext cx="144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665520" y="235116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59120" y="3917880"/>
              <a:ext cx="468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10160" y="3917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734240" y="3552840"/>
              <a:ext cx="1800" cy="7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684920" y="355284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4"/>
                  </a:moveTo>
                  <a:lnTo>
                    <a:pt x="31" y="0"/>
                  </a:lnTo>
                  <a:lnTo>
                    <a:pt x="0" y="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V="1">
              <a:off x="2589120" y="3581280"/>
              <a:ext cx="1224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 flipV="1">
              <a:off x="2556000" y="2570040"/>
              <a:ext cx="1411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884040" y="2462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987720" y="25588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942720" y="4024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046400" y="412272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Q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1152000" y="4210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1253880" y="430704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1146960" y="2549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1249200" y="264780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898760" y="3830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8002080" y="3927600"/>
              <a:ext cx="18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1293840" y="3498840"/>
              <a:ext cx="341280" cy="326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1404360" y="353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1293840" y="1873080"/>
              <a:ext cx="341280" cy="327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1404360" y="1913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280040" y="3149640"/>
              <a:ext cx="680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4" name=""/>
          <p:cNvSpPr/>
          <p:nvPr/>
        </p:nvSpPr>
        <p:spPr>
          <a:xfrm>
            <a:off x="2732040" y="3049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tektor fazy - cze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"/>
          <p:cNvSpPr/>
          <p:nvPr/>
        </p:nvSpPr>
        <p:spPr>
          <a:xfrm>
            <a:off x="513720" y="304920"/>
            <a:ext cx="79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oszerzające zakres chwytania synchronizacji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6" name=""/>
          <p:cNvGrpSpPr/>
          <p:nvPr/>
        </p:nvGrpSpPr>
        <p:grpSpPr>
          <a:xfrm>
            <a:off x="1181880" y="1109520"/>
            <a:ext cx="7443360" cy="5330880"/>
            <a:chOff x="1181880" y="1109520"/>
            <a:chExt cx="7443360" cy="5330880"/>
          </a:xfrm>
        </p:grpSpPr>
        <p:sp>
          <p:nvSpPr>
            <p:cNvPr id="6477" name=""/>
            <p:cNvSpPr/>
            <p:nvPr/>
          </p:nvSpPr>
          <p:spPr>
            <a:xfrm>
              <a:off x="2520720" y="5216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628360" y="5321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687040" y="5234040"/>
              <a:ext cx="59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=(t)+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283200" y="52005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908520" y="5595840"/>
              <a:ext cx="1041480" cy="301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978360" y="5630760"/>
              <a:ext cx="88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4700520" y="4257720"/>
              <a:ext cx="1046160" cy="1046160"/>
              <a:chOff x="4700520" y="4257720"/>
              <a:chExt cx="1046160" cy="1046160"/>
            </a:xfrm>
          </p:grpSpPr>
          <p:grpSp>
            <p:nvGrpSpPr>
              <p:cNvPr id="6484" name=""/>
              <p:cNvGrpSpPr/>
              <p:nvPr/>
            </p:nvGrpSpPr>
            <p:grpSpPr>
              <a:xfrm>
                <a:off x="4700520" y="4257720"/>
                <a:ext cx="1046160" cy="1046160"/>
                <a:chOff x="4700520" y="4257720"/>
                <a:chExt cx="1046160" cy="1046160"/>
              </a:xfrm>
            </p:grpSpPr>
            <p:sp>
              <p:nvSpPr>
                <p:cNvPr id="6485" name=""/>
                <p:cNvSpPr/>
                <p:nvPr/>
              </p:nvSpPr>
              <p:spPr>
                <a:xfrm>
                  <a:off x="4703760" y="4260960"/>
                  <a:ext cx="1038240" cy="1038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6" name=""/>
                <p:cNvSpPr/>
                <p:nvPr/>
              </p:nvSpPr>
              <p:spPr>
                <a:xfrm>
                  <a:off x="4700520" y="42609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7" name=""/>
                <p:cNvSpPr/>
                <p:nvPr/>
              </p:nvSpPr>
              <p:spPr>
                <a:xfrm>
                  <a:off x="4700520" y="42782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4700520" y="4295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9" name=""/>
                <p:cNvSpPr/>
                <p:nvPr/>
              </p:nvSpPr>
              <p:spPr>
                <a:xfrm>
                  <a:off x="4700520" y="43131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0" name=""/>
                <p:cNvSpPr/>
                <p:nvPr/>
              </p:nvSpPr>
              <p:spPr>
                <a:xfrm>
                  <a:off x="4700520" y="4330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1" name=""/>
                <p:cNvSpPr/>
                <p:nvPr/>
              </p:nvSpPr>
              <p:spPr>
                <a:xfrm>
                  <a:off x="4700520" y="4348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4700520" y="43639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4700520" y="43815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4" name=""/>
                <p:cNvSpPr/>
                <p:nvPr/>
              </p:nvSpPr>
              <p:spPr>
                <a:xfrm>
                  <a:off x="4700520" y="4398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5" name=""/>
                <p:cNvSpPr/>
                <p:nvPr/>
              </p:nvSpPr>
              <p:spPr>
                <a:xfrm>
                  <a:off x="4700520" y="4416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4700520" y="44337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4700520" y="4451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4700520" y="4468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4700520" y="44845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4700520" y="45021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4700520" y="451944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4700520" y="45370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4700520" y="4554360"/>
                  <a:ext cx="792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4700520" y="4572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4700520" y="45878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4700520" y="46054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7" name=""/>
                <p:cNvSpPr/>
                <p:nvPr/>
              </p:nvSpPr>
              <p:spPr>
                <a:xfrm>
                  <a:off x="4700520" y="46227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8" name=""/>
                <p:cNvSpPr/>
                <p:nvPr/>
              </p:nvSpPr>
              <p:spPr>
                <a:xfrm>
                  <a:off x="4700520" y="4640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4700520" y="46576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4700520" y="46753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4700520" y="4692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2" name=""/>
                <p:cNvSpPr/>
                <p:nvPr/>
              </p:nvSpPr>
              <p:spPr>
                <a:xfrm>
                  <a:off x="4700520" y="47084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3" name=""/>
                <p:cNvSpPr/>
                <p:nvPr/>
              </p:nvSpPr>
              <p:spPr>
                <a:xfrm>
                  <a:off x="4700520" y="47260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4" name=""/>
                <p:cNvSpPr/>
                <p:nvPr/>
              </p:nvSpPr>
              <p:spPr>
                <a:xfrm>
                  <a:off x="4700520" y="47433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5" name=""/>
                <p:cNvSpPr/>
                <p:nvPr/>
              </p:nvSpPr>
              <p:spPr>
                <a:xfrm>
                  <a:off x="4700520" y="47610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6" name=""/>
                <p:cNvSpPr/>
                <p:nvPr/>
              </p:nvSpPr>
              <p:spPr>
                <a:xfrm>
                  <a:off x="4700520" y="47782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7" name=""/>
                <p:cNvSpPr/>
                <p:nvPr/>
              </p:nvSpPr>
              <p:spPr>
                <a:xfrm>
                  <a:off x="4700520" y="4795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8" name=""/>
                <p:cNvSpPr/>
                <p:nvPr/>
              </p:nvSpPr>
              <p:spPr>
                <a:xfrm>
                  <a:off x="4700520" y="48117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9" name=""/>
                <p:cNvSpPr/>
                <p:nvPr/>
              </p:nvSpPr>
              <p:spPr>
                <a:xfrm>
                  <a:off x="4700520" y="482904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0" name=""/>
                <p:cNvSpPr/>
                <p:nvPr/>
              </p:nvSpPr>
              <p:spPr>
                <a:xfrm>
                  <a:off x="4700520" y="48466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1" name=""/>
                <p:cNvSpPr/>
                <p:nvPr/>
              </p:nvSpPr>
              <p:spPr>
                <a:xfrm>
                  <a:off x="4700520" y="486396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2" name=""/>
                <p:cNvSpPr/>
                <p:nvPr/>
              </p:nvSpPr>
              <p:spPr>
                <a:xfrm>
                  <a:off x="4700520" y="48816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3" name=""/>
                <p:cNvSpPr/>
                <p:nvPr/>
              </p:nvSpPr>
              <p:spPr>
                <a:xfrm>
                  <a:off x="4700520" y="4898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4" name=""/>
                <p:cNvSpPr/>
                <p:nvPr/>
              </p:nvSpPr>
              <p:spPr>
                <a:xfrm>
                  <a:off x="4700520" y="4916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5" name=""/>
                <p:cNvSpPr/>
                <p:nvPr/>
              </p:nvSpPr>
              <p:spPr>
                <a:xfrm>
                  <a:off x="4700520" y="493236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>
                  <a:off x="4700520" y="49500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700520" y="4967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4700520" y="49849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4700520" y="50022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0" name=""/>
                <p:cNvSpPr/>
                <p:nvPr/>
              </p:nvSpPr>
              <p:spPr>
                <a:xfrm>
                  <a:off x="4700520" y="50198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4700520" y="5037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2" name=""/>
                <p:cNvSpPr/>
                <p:nvPr/>
              </p:nvSpPr>
              <p:spPr>
                <a:xfrm>
                  <a:off x="4700520" y="50529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3" name=""/>
                <p:cNvSpPr/>
                <p:nvPr/>
              </p:nvSpPr>
              <p:spPr>
                <a:xfrm>
                  <a:off x="4700520" y="50706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4" name=""/>
                <p:cNvSpPr/>
                <p:nvPr/>
              </p:nvSpPr>
              <p:spPr>
                <a:xfrm>
                  <a:off x="4700520" y="50878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5" name=""/>
                <p:cNvSpPr/>
                <p:nvPr/>
              </p:nvSpPr>
              <p:spPr>
                <a:xfrm>
                  <a:off x="4700520" y="51055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4700520" y="51228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>
                  <a:off x="4700520" y="51404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4700520" y="5156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4700520" y="51735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4700520" y="519120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4700520" y="520848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2" name=""/>
                <p:cNvSpPr/>
                <p:nvPr/>
              </p:nvSpPr>
              <p:spPr>
                <a:xfrm>
                  <a:off x="4700520" y="52261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3" name=""/>
                <p:cNvSpPr/>
                <p:nvPr/>
              </p:nvSpPr>
              <p:spPr>
                <a:xfrm>
                  <a:off x="4700520" y="524340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4700520" y="526104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5" name=""/>
                <p:cNvSpPr/>
                <p:nvPr/>
              </p:nvSpPr>
              <p:spPr>
                <a:xfrm>
                  <a:off x="4700520" y="5276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6" name=""/>
                <p:cNvSpPr/>
                <p:nvPr/>
              </p:nvSpPr>
              <p:spPr>
                <a:xfrm>
                  <a:off x="4700520" y="52941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718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47340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47512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7689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1" name=""/>
                <p:cNvSpPr/>
                <p:nvPr/>
              </p:nvSpPr>
              <p:spPr>
                <a:xfrm>
                  <a:off x="478620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4803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821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483696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5" name=""/>
                <p:cNvSpPr/>
                <p:nvPr/>
              </p:nvSpPr>
              <p:spPr>
                <a:xfrm>
                  <a:off x="485460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871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7" name=""/>
                <p:cNvSpPr/>
                <p:nvPr/>
              </p:nvSpPr>
              <p:spPr>
                <a:xfrm>
                  <a:off x="4889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8" name=""/>
                <p:cNvSpPr/>
                <p:nvPr/>
              </p:nvSpPr>
              <p:spPr>
                <a:xfrm>
                  <a:off x="490680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924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>
                  <a:off x="4941720" y="529416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49579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9752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3" name=""/>
                <p:cNvSpPr/>
                <p:nvPr/>
              </p:nvSpPr>
              <p:spPr>
                <a:xfrm>
                  <a:off x="49928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50101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5" name=""/>
                <p:cNvSpPr/>
                <p:nvPr/>
              </p:nvSpPr>
              <p:spPr>
                <a:xfrm>
                  <a:off x="5027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6" name=""/>
                <p:cNvSpPr/>
                <p:nvPr/>
              </p:nvSpPr>
              <p:spPr>
                <a:xfrm>
                  <a:off x="5045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7" name=""/>
                <p:cNvSpPr/>
                <p:nvPr/>
              </p:nvSpPr>
              <p:spPr>
                <a:xfrm>
                  <a:off x="50608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50785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>
                  <a:off x="50958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>
                  <a:off x="5113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>
                  <a:off x="51307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>
                  <a:off x="51483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>
                  <a:off x="5165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>
                  <a:off x="51814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1991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>
                  <a:off x="5216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>
                  <a:off x="52340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>
                  <a:off x="52513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>
                  <a:off x="5268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86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>
                  <a:off x="530208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>
                  <a:off x="531972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337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3546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5" name=""/>
                <p:cNvSpPr/>
                <p:nvPr/>
              </p:nvSpPr>
              <p:spPr>
                <a:xfrm>
                  <a:off x="53722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6" name=""/>
                <p:cNvSpPr/>
                <p:nvPr/>
              </p:nvSpPr>
              <p:spPr>
                <a:xfrm>
                  <a:off x="5389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7" name=""/>
                <p:cNvSpPr/>
                <p:nvPr/>
              </p:nvSpPr>
              <p:spPr>
                <a:xfrm>
                  <a:off x="54054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4230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9" name=""/>
                <p:cNvSpPr/>
                <p:nvPr/>
              </p:nvSpPr>
              <p:spPr>
                <a:xfrm>
                  <a:off x="54403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0" name=""/>
                <p:cNvSpPr/>
                <p:nvPr/>
              </p:nvSpPr>
              <p:spPr>
                <a:xfrm>
                  <a:off x="54579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1" name=""/>
                <p:cNvSpPr/>
                <p:nvPr/>
              </p:nvSpPr>
              <p:spPr>
                <a:xfrm>
                  <a:off x="54752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4928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510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4" name=""/>
                <p:cNvSpPr/>
                <p:nvPr/>
              </p:nvSpPr>
              <p:spPr>
                <a:xfrm>
                  <a:off x="55260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5" name=""/>
                <p:cNvSpPr/>
                <p:nvPr/>
              </p:nvSpPr>
              <p:spPr>
                <a:xfrm>
                  <a:off x="55436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56092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5785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5958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9" name=""/>
                <p:cNvSpPr/>
                <p:nvPr/>
              </p:nvSpPr>
              <p:spPr>
                <a:xfrm>
                  <a:off x="56134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0" name=""/>
                <p:cNvSpPr/>
                <p:nvPr/>
              </p:nvSpPr>
              <p:spPr>
                <a:xfrm>
                  <a:off x="56307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1" name=""/>
                <p:cNvSpPr/>
                <p:nvPr/>
              </p:nvSpPr>
              <p:spPr>
                <a:xfrm>
                  <a:off x="5646600" y="5294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2" name=""/>
                <p:cNvSpPr/>
                <p:nvPr/>
              </p:nvSpPr>
              <p:spPr>
                <a:xfrm>
                  <a:off x="5664240" y="5294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3" name=""/>
                <p:cNvSpPr/>
                <p:nvPr/>
              </p:nvSpPr>
              <p:spPr>
                <a:xfrm>
                  <a:off x="568152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569916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5" name=""/>
                <p:cNvSpPr/>
                <p:nvPr/>
              </p:nvSpPr>
              <p:spPr>
                <a:xfrm>
                  <a:off x="571644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6" name=""/>
                <p:cNvSpPr/>
                <p:nvPr/>
              </p:nvSpPr>
              <p:spPr>
                <a:xfrm>
                  <a:off x="5734080" y="529416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7" name=""/>
                <p:cNvSpPr/>
                <p:nvPr/>
              </p:nvSpPr>
              <p:spPr>
                <a:xfrm>
                  <a:off x="5737320" y="5281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8" name=""/>
                <p:cNvSpPr/>
                <p:nvPr/>
              </p:nvSpPr>
              <p:spPr>
                <a:xfrm>
                  <a:off x="5737320" y="5264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9" name=""/>
                <p:cNvSpPr/>
                <p:nvPr/>
              </p:nvSpPr>
              <p:spPr>
                <a:xfrm>
                  <a:off x="5737320" y="5246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0" name=""/>
                <p:cNvSpPr/>
                <p:nvPr/>
              </p:nvSpPr>
              <p:spPr>
                <a:xfrm>
                  <a:off x="5737320" y="5230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1" name=""/>
                <p:cNvSpPr/>
                <p:nvPr/>
              </p:nvSpPr>
              <p:spPr>
                <a:xfrm>
                  <a:off x="5737320" y="521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2" name=""/>
                <p:cNvSpPr/>
                <p:nvPr/>
              </p:nvSpPr>
              <p:spPr>
                <a:xfrm>
                  <a:off x="5737320" y="5195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3" name=""/>
                <p:cNvSpPr/>
                <p:nvPr/>
              </p:nvSpPr>
              <p:spPr>
                <a:xfrm>
                  <a:off x="5737320" y="517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4" name=""/>
                <p:cNvSpPr/>
                <p:nvPr/>
              </p:nvSpPr>
              <p:spPr>
                <a:xfrm>
                  <a:off x="5737320" y="5160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5" name=""/>
                <p:cNvSpPr/>
                <p:nvPr/>
              </p:nvSpPr>
              <p:spPr>
                <a:xfrm>
                  <a:off x="5737320" y="5143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5737320" y="5126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7" name=""/>
                <p:cNvSpPr/>
                <p:nvPr/>
              </p:nvSpPr>
              <p:spPr>
                <a:xfrm>
                  <a:off x="5737320" y="5110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8" name=""/>
                <p:cNvSpPr/>
                <p:nvPr/>
              </p:nvSpPr>
              <p:spPr>
                <a:xfrm>
                  <a:off x="5737320" y="5092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9" name=""/>
                <p:cNvSpPr/>
                <p:nvPr/>
              </p:nvSpPr>
              <p:spPr>
                <a:xfrm>
                  <a:off x="5737320" y="5075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0" name=""/>
                <p:cNvSpPr/>
                <p:nvPr/>
              </p:nvSpPr>
              <p:spPr>
                <a:xfrm>
                  <a:off x="5737320" y="505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1" name=""/>
                <p:cNvSpPr/>
                <p:nvPr/>
              </p:nvSpPr>
              <p:spPr>
                <a:xfrm>
                  <a:off x="5737320" y="5040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2" name=""/>
                <p:cNvSpPr/>
                <p:nvPr/>
              </p:nvSpPr>
              <p:spPr>
                <a:xfrm>
                  <a:off x="5737320" y="5022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3" name=""/>
                <p:cNvSpPr/>
                <p:nvPr/>
              </p:nvSpPr>
              <p:spPr>
                <a:xfrm>
                  <a:off x="5737320" y="5006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5737320" y="4989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5" name=""/>
                <p:cNvSpPr/>
                <p:nvPr/>
              </p:nvSpPr>
              <p:spPr>
                <a:xfrm>
                  <a:off x="5737320" y="4971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6" name=""/>
                <p:cNvSpPr/>
                <p:nvPr/>
              </p:nvSpPr>
              <p:spPr>
                <a:xfrm>
                  <a:off x="5737320" y="4954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5737320" y="4937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5737320" y="4919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5737320" y="4902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0" name=""/>
                <p:cNvSpPr/>
                <p:nvPr/>
              </p:nvSpPr>
              <p:spPr>
                <a:xfrm>
                  <a:off x="5737320" y="4886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1" name=""/>
                <p:cNvSpPr/>
                <p:nvPr/>
              </p:nvSpPr>
              <p:spPr>
                <a:xfrm>
                  <a:off x="5737320" y="486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5737320" y="4851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5737320" y="483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5737320" y="4816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5737320" y="47991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6" name=""/>
                <p:cNvSpPr/>
                <p:nvPr/>
              </p:nvSpPr>
              <p:spPr>
                <a:xfrm>
                  <a:off x="5737320" y="4781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5737320" y="4765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8" name=""/>
                <p:cNvSpPr/>
                <p:nvPr/>
              </p:nvSpPr>
              <p:spPr>
                <a:xfrm>
                  <a:off x="5737320" y="47480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9" name=""/>
                <p:cNvSpPr/>
                <p:nvPr/>
              </p:nvSpPr>
              <p:spPr>
                <a:xfrm>
                  <a:off x="5737320" y="4730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0" name=""/>
                <p:cNvSpPr/>
                <p:nvPr/>
              </p:nvSpPr>
              <p:spPr>
                <a:xfrm>
                  <a:off x="5737320" y="4713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5737320" y="4695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5737320" y="4678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3" name=""/>
                <p:cNvSpPr/>
                <p:nvPr/>
              </p:nvSpPr>
              <p:spPr>
                <a:xfrm>
                  <a:off x="5737320" y="4662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4" name=""/>
                <p:cNvSpPr/>
                <p:nvPr/>
              </p:nvSpPr>
              <p:spPr>
                <a:xfrm>
                  <a:off x="5737320" y="4645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5737320" y="4627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5737320" y="461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5737320" y="45925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8" name=""/>
                <p:cNvSpPr/>
                <p:nvPr/>
              </p:nvSpPr>
              <p:spPr>
                <a:xfrm>
                  <a:off x="5737320" y="4575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9" name=""/>
                <p:cNvSpPr/>
                <p:nvPr/>
              </p:nvSpPr>
              <p:spPr>
                <a:xfrm>
                  <a:off x="5737320" y="4557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5737320" y="45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1" name=""/>
                <p:cNvSpPr/>
                <p:nvPr/>
              </p:nvSpPr>
              <p:spPr>
                <a:xfrm>
                  <a:off x="5737320" y="4524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2" name=""/>
                <p:cNvSpPr/>
                <p:nvPr/>
              </p:nvSpPr>
              <p:spPr>
                <a:xfrm>
                  <a:off x="5737320" y="4506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737320" y="4489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5737320" y="4471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5737320" y="4454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37320" y="443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7" name=""/>
                <p:cNvSpPr/>
                <p:nvPr/>
              </p:nvSpPr>
              <p:spPr>
                <a:xfrm>
                  <a:off x="5737320" y="44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8" name=""/>
                <p:cNvSpPr/>
                <p:nvPr/>
              </p:nvSpPr>
              <p:spPr>
                <a:xfrm>
                  <a:off x="5737320" y="4403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5737320" y="4386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5737320" y="4368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5737320" y="4351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2" name=""/>
                <p:cNvSpPr/>
                <p:nvPr/>
              </p:nvSpPr>
              <p:spPr>
                <a:xfrm>
                  <a:off x="5737320" y="43340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3" name=""/>
                <p:cNvSpPr/>
                <p:nvPr/>
              </p:nvSpPr>
              <p:spPr>
                <a:xfrm>
                  <a:off x="5737320" y="43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4" name=""/>
                <p:cNvSpPr/>
                <p:nvPr/>
              </p:nvSpPr>
              <p:spPr>
                <a:xfrm>
                  <a:off x="5737320" y="43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5" name=""/>
                <p:cNvSpPr/>
                <p:nvPr/>
              </p:nvSpPr>
              <p:spPr>
                <a:xfrm>
                  <a:off x="5737320" y="4282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6" name=""/>
                <p:cNvSpPr/>
                <p:nvPr/>
              </p:nvSpPr>
              <p:spPr>
                <a:xfrm>
                  <a:off x="5737320" y="426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5729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8" name=""/>
                <p:cNvSpPr/>
                <p:nvPr/>
              </p:nvSpPr>
              <p:spPr>
                <a:xfrm>
                  <a:off x="5711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9" name=""/>
                <p:cNvSpPr/>
                <p:nvPr/>
              </p:nvSpPr>
              <p:spPr>
                <a:xfrm>
                  <a:off x="56944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0" name=""/>
                <p:cNvSpPr/>
                <p:nvPr/>
              </p:nvSpPr>
              <p:spPr>
                <a:xfrm>
                  <a:off x="567684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1" name=""/>
                <p:cNvSpPr/>
                <p:nvPr/>
              </p:nvSpPr>
              <p:spPr>
                <a:xfrm>
                  <a:off x="56610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564372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3" name=""/>
                <p:cNvSpPr/>
                <p:nvPr/>
              </p:nvSpPr>
              <p:spPr>
                <a:xfrm>
                  <a:off x="56260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4" name=""/>
                <p:cNvSpPr/>
                <p:nvPr/>
              </p:nvSpPr>
              <p:spPr>
                <a:xfrm>
                  <a:off x="56088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559116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557388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7" name=""/>
                <p:cNvSpPr/>
                <p:nvPr/>
              </p:nvSpPr>
              <p:spPr>
                <a:xfrm>
                  <a:off x="55562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8" name=""/>
                <p:cNvSpPr/>
                <p:nvPr/>
              </p:nvSpPr>
              <p:spPr>
                <a:xfrm>
                  <a:off x="554040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9" name=""/>
                <p:cNvSpPr/>
                <p:nvPr/>
              </p:nvSpPr>
              <p:spPr>
                <a:xfrm>
                  <a:off x="552276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550548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1" name=""/>
                <p:cNvSpPr/>
                <p:nvPr/>
              </p:nvSpPr>
              <p:spPr>
                <a:xfrm>
                  <a:off x="5487840" y="4257720"/>
                  <a:ext cx="79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2" name=""/>
                <p:cNvSpPr/>
                <p:nvPr/>
              </p:nvSpPr>
              <p:spPr>
                <a:xfrm>
                  <a:off x="547056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5452920" y="425772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5435640" y="4257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5" name=""/>
              <p:cNvSpPr/>
              <p:nvPr/>
            </p:nvSpPr>
            <p:spPr>
              <a:xfrm>
                <a:off x="54198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5402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5384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53672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53499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53323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53164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52992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52815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5264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524664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522936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5211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51958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517860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5160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5143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1260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51084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509112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0752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50576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5040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0227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50054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9878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9719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9546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9370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919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9021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8848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8672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8513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83408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81644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7991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78152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764240" y="4257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746600" y="42577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730760" y="42577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713120" y="4257720"/>
                <a:ext cx="828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2908440" y="1380960"/>
              <a:ext cx="831600" cy="2333880"/>
              <a:chOff x="2908440" y="1380960"/>
              <a:chExt cx="831600" cy="2333880"/>
            </a:xfrm>
          </p:grpSpPr>
          <p:grpSp>
            <p:nvGrpSpPr>
              <p:cNvPr id="6728" name=""/>
              <p:cNvGrpSpPr/>
              <p:nvPr/>
            </p:nvGrpSpPr>
            <p:grpSpPr>
              <a:xfrm>
                <a:off x="2908440" y="1386000"/>
                <a:ext cx="831600" cy="2328840"/>
                <a:chOff x="2908440" y="1386000"/>
                <a:chExt cx="831600" cy="2328840"/>
              </a:xfrm>
            </p:grpSpPr>
            <p:sp>
              <p:nvSpPr>
                <p:cNvPr id="6729" name=""/>
                <p:cNvSpPr/>
                <p:nvPr/>
              </p:nvSpPr>
              <p:spPr>
                <a:xfrm>
                  <a:off x="2913120" y="1386000"/>
                  <a:ext cx="822240" cy="2324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0" name=""/>
                <p:cNvSpPr/>
                <p:nvPr/>
              </p:nvSpPr>
              <p:spPr>
                <a:xfrm>
                  <a:off x="2908440" y="1386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2908440" y="1403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2908440" y="1419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2908440" y="14367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4" name=""/>
                <p:cNvSpPr/>
                <p:nvPr/>
              </p:nvSpPr>
              <p:spPr>
                <a:xfrm>
                  <a:off x="2908440" y="1454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5" name=""/>
                <p:cNvSpPr/>
                <p:nvPr/>
              </p:nvSpPr>
              <p:spPr>
                <a:xfrm>
                  <a:off x="2908440" y="1471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6" name=""/>
                <p:cNvSpPr/>
                <p:nvPr/>
              </p:nvSpPr>
              <p:spPr>
                <a:xfrm>
                  <a:off x="2908440" y="1488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7" name=""/>
                <p:cNvSpPr/>
                <p:nvPr/>
              </p:nvSpPr>
              <p:spPr>
                <a:xfrm>
                  <a:off x="2908440" y="1506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8" name=""/>
                <p:cNvSpPr/>
                <p:nvPr/>
              </p:nvSpPr>
              <p:spPr>
                <a:xfrm>
                  <a:off x="2908440" y="15224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9" name=""/>
                <p:cNvSpPr/>
                <p:nvPr/>
              </p:nvSpPr>
              <p:spPr>
                <a:xfrm>
                  <a:off x="2908440" y="15397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0" name=""/>
                <p:cNvSpPr/>
                <p:nvPr/>
              </p:nvSpPr>
              <p:spPr>
                <a:xfrm>
                  <a:off x="2908440" y="1557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1" name=""/>
                <p:cNvSpPr/>
                <p:nvPr/>
              </p:nvSpPr>
              <p:spPr>
                <a:xfrm>
                  <a:off x="2908440" y="1574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2" name=""/>
                <p:cNvSpPr/>
                <p:nvPr/>
              </p:nvSpPr>
              <p:spPr>
                <a:xfrm>
                  <a:off x="2908440" y="1592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3" name=""/>
                <p:cNvSpPr/>
                <p:nvPr/>
              </p:nvSpPr>
              <p:spPr>
                <a:xfrm>
                  <a:off x="2908440" y="16095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4" name=""/>
                <p:cNvSpPr/>
                <p:nvPr/>
              </p:nvSpPr>
              <p:spPr>
                <a:xfrm>
                  <a:off x="2908440" y="162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5" name=""/>
                <p:cNvSpPr/>
                <p:nvPr/>
              </p:nvSpPr>
              <p:spPr>
                <a:xfrm>
                  <a:off x="2908440" y="16430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6" name=""/>
                <p:cNvSpPr/>
                <p:nvPr/>
              </p:nvSpPr>
              <p:spPr>
                <a:xfrm>
                  <a:off x="2908440" y="1660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7" name=""/>
                <p:cNvSpPr/>
                <p:nvPr/>
              </p:nvSpPr>
              <p:spPr>
                <a:xfrm>
                  <a:off x="2908440" y="1677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8" name=""/>
                <p:cNvSpPr/>
                <p:nvPr/>
              </p:nvSpPr>
              <p:spPr>
                <a:xfrm>
                  <a:off x="2908440" y="1695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9" name=""/>
                <p:cNvSpPr/>
                <p:nvPr/>
              </p:nvSpPr>
              <p:spPr>
                <a:xfrm>
                  <a:off x="2908440" y="1712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0" name=""/>
                <p:cNvSpPr/>
                <p:nvPr/>
              </p:nvSpPr>
              <p:spPr>
                <a:xfrm>
                  <a:off x="2908440" y="1730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1" name=""/>
                <p:cNvSpPr/>
                <p:nvPr/>
              </p:nvSpPr>
              <p:spPr>
                <a:xfrm>
                  <a:off x="2908440" y="1747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2" name=""/>
                <p:cNvSpPr/>
                <p:nvPr/>
              </p:nvSpPr>
              <p:spPr>
                <a:xfrm>
                  <a:off x="2908440" y="17636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2908440" y="17812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4" name=""/>
                <p:cNvSpPr/>
                <p:nvPr/>
              </p:nvSpPr>
              <p:spPr>
                <a:xfrm>
                  <a:off x="2908440" y="1798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5" name=""/>
                <p:cNvSpPr/>
                <p:nvPr/>
              </p:nvSpPr>
              <p:spPr>
                <a:xfrm>
                  <a:off x="2908440" y="1816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6" name=""/>
                <p:cNvSpPr/>
                <p:nvPr/>
              </p:nvSpPr>
              <p:spPr>
                <a:xfrm>
                  <a:off x="2908440" y="1833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7" name=""/>
                <p:cNvSpPr/>
                <p:nvPr/>
              </p:nvSpPr>
              <p:spPr>
                <a:xfrm>
                  <a:off x="2908440" y="1851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2908440" y="18669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9" name=""/>
                <p:cNvSpPr/>
                <p:nvPr/>
              </p:nvSpPr>
              <p:spPr>
                <a:xfrm>
                  <a:off x="2908440" y="18842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>
                  <a:off x="2908440" y="1901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2908440" y="191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2908440" y="1936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>
                  <a:off x="2908440" y="1954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4" name=""/>
                <p:cNvSpPr/>
                <p:nvPr/>
              </p:nvSpPr>
              <p:spPr>
                <a:xfrm>
                  <a:off x="2908440" y="1971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5" name=""/>
                <p:cNvSpPr/>
                <p:nvPr/>
              </p:nvSpPr>
              <p:spPr>
                <a:xfrm>
                  <a:off x="2908440" y="19875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2908440" y="20048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7" name=""/>
                <p:cNvSpPr/>
                <p:nvPr/>
              </p:nvSpPr>
              <p:spPr>
                <a:xfrm>
                  <a:off x="2908440" y="2022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8" name=""/>
                <p:cNvSpPr/>
                <p:nvPr/>
              </p:nvSpPr>
              <p:spPr>
                <a:xfrm>
                  <a:off x="2908440" y="203976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9" name=""/>
                <p:cNvSpPr/>
                <p:nvPr/>
              </p:nvSpPr>
              <p:spPr>
                <a:xfrm>
                  <a:off x="2908440" y="20574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2908440" y="2075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2908440" y="20908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2" name=""/>
                <p:cNvSpPr/>
                <p:nvPr/>
              </p:nvSpPr>
              <p:spPr>
                <a:xfrm>
                  <a:off x="2908440" y="21081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3" name=""/>
                <p:cNvSpPr/>
                <p:nvPr/>
              </p:nvSpPr>
              <p:spPr>
                <a:xfrm>
                  <a:off x="2908440" y="21258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2908440" y="2143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2908440" y="2160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2908440" y="2178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7" name=""/>
                <p:cNvSpPr/>
                <p:nvPr/>
              </p:nvSpPr>
              <p:spPr>
                <a:xfrm>
                  <a:off x="2908440" y="2195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8" name=""/>
                <p:cNvSpPr/>
                <p:nvPr/>
              </p:nvSpPr>
              <p:spPr>
                <a:xfrm>
                  <a:off x="2908440" y="22114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9" name=""/>
                <p:cNvSpPr/>
                <p:nvPr/>
              </p:nvSpPr>
              <p:spPr>
                <a:xfrm>
                  <a:off x="2908440" y="22287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0" name=""/>
                <p:cNvSpPr/>
                <p:nvPr/>
              </p:nvSpPr>
              <p:spPr>
                <a:xfrm>
                  <a:off x="2908440" y="2246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1" name=""/>
                <p:cNvSpPr/>
                <p:nvPr/>
              </p:nvSpPr>
              <p:spPr>
                <a:xfrm>
                  <a:off x="2908440" y="2263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2" name=""/>
                <p:cNvSpPr/>
                <p:nvPr/>
              </p:nvSpPr>
              <p:spPr>
                <a:xfrm>
                  <a:off x="2908440" y="2281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3" name=""/>
                <p:cNvSpPr/>
                <p:nvPr/>
              </p:nvSpPr>
              <p:spPr>
                <a:xfrm>
                  <a:off x="2908440" y="2298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4" name=""/>
                <p:cNvSpPr/>
                <p:nvPr/>
              </p:nvSpPr>
              <p:spPr>
                <a:xfrm>
                  <a:off x="2908440" y="231444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5" name=""/>
                <p:cNvSpPr/>
                <p:nvPr/>
              </p:nvSpPr>
              <p:spPr>
                <a:xfrm>
                  <a:off x="2908440" y="23320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6" name=""/>
                <p:cNvSpPr/>
                <p:nvPr/>
              </p:nvSpPr>
              <p:spPr>
                <a:xfrm>
                  <a:off x="2908440" y="2349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7" name=""/>
                <p:cNvSpPr/>
                <p:nvPr/>
              </p:nvSpPr>
              <p:spPr>
                <a:xfrm>
                  <a:off x="2908440" y="2367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8" name=""/>
                <p:cNvSpPr/>
                <p:nvPr/>
              </p:nvSpPr>
              <p:spPr>
                <a:xfrm>
                  <a:off x="2908440" y="23842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9" name=""/>
                <p:cNvSpPr/>
                <p:nvPr/>
              </p:nvSpPr>
              <p:spPr>
                <a:xfrm>
                  <a:off x="2908440" y="2401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0" name=""/>
                <p:cNvSpPr/>
                <p:nvPr/>
              </p:nvSpPr>
              <p:spPr>
                <a:xfrm>
                  <a:off x="2908440" y="2419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1" name=""/>
                <p:cNvSpPr/>
                <p:nvPr/>
              </p:nvSpPr>
              <p:spPr>
                <a:xfrm>
                  <a:off x="2908440" y="2435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2" name=""/>
                <p:cNvSpPr/>
                <p:nvPr/>
              </p:nvSpPr>
              <p:spPr>
                <a:xfrm>
                  <a:off x="2908440" y="245268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3" name=""/>
                <p:cNvSpPr/>
                <p:nvPr/>
              </p:nvSpPr>
              <p:spPr>
                <a:xfrm>
                  <a:off x="2908440" y="2470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4" name=""/>
                <p:cNvSpPr/>
                <p:nvPr/>
              </p:nvSpPr>
              <p:spPr>
                <a:xfrm>
                  <a:off x="2908440" y="24876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5" name=""/>
                <p:cNvSpPr/>
                <p:nvPr/>
              </p:nvSpPr>
              <p:spPr>
                <a:xfrm>
                  <a:off x="2908440" y="2505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2908440" y="2522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7" name=""/>
                <p:cNvSpPr/>
                <p:nvPr/>
              </p:nvSpPr>
              <p:spPr>
                <a:xfrm>
                  <a:off x="2908440" y="2540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8" name=""/>
                <p:cNvSpPr/>
                <p:nvPr/>
              </p:nvSpPr>
              <p:spPr>
                <a:xfrm>
                  <a:off x="2908440" y="25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9" name=""/>
                <p:cNvSpPr/>
                <p:nvPr/>
              </p:nvSpPr>
              <p:spPr>
                <a:xfrm>
                  <a:off x="2908440" y="2573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0" name=""/>
                <p:cNvSpPr/>
                <p:nvPr/>
              </p:nvSpPr>
              <p:spPr>
                <a:xfrm>
                  <a:off x="2908440" y="25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2908440" y="2608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2" name=""/>
                <p:cNvSpPr/>
                <p:nvPr/>
              </p:nvSpPr>
              <p:spPr>
                <a:xfrm>
                  <a:off x="2908440" y="26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3" name=""/>
                <p:cNvSpPr/>
                <p:nvPr/>
              </p:nvSpPr>
              <p:spPr>
                <a:xfrm>
                  <a:off x="2908440" y="2643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2908440" y="26589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2908440" y="26766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2908440" y="2693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>
                  <a:off x="2908440" y="27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8" name=""/>
                <p:cNvSpPr/>
                <p:nvPr/>
              </p:nvSpPr>
              <p:spPr>
                <a:xfrm>
                  <a:off x="2908440" y="27288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2908440" y="27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0" name=""/>
                <p:cNvSpPr/>
                <p:nvPr/>
              </p:nvSpPr>
              <p:spPr>
                <a:xfrm>
                  <a:off x="2908440" y="2763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1" name=""/>
                <p:cNvSpPr/>
                <p:nvPr/>
              </p:nvSpPr>
              <p:spPr>
                <a:xfrm>
                  <a:off x="2908440" y="27795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2" name=""/>
                <p:cNvSpPr/>
                <p:nvPr/>
              </p:nvSpPr>
              <p:spPr>
                <a:xfrm>
                  <a:off x="2908440" y="27972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2908440" y="2814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2908440" y="2832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5" name=""/>
                <p:cNvSpPr/>
                <p:nvPr/>
              </p:nvSpPr>
              <p:spPr>
                <a:xfrm>
                  <a:off x="2908440" y="28494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6" name=""/>
                <p:cNvSpPr/>
                <p:nvPr/>
              </p:nvSpPr>
              <p:spPr>
                <a:xfrm>
                  <a:off x="2908440" y="2867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2908440" y="28828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2908440" y="2900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2908440" y="29178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0" name=""/>
                <p:cNvSpPr/>
                <p:nvPr/>
              </p:nvSpPr>
              <p:spPr>
                <a:xfrm>
                  <a:off x="2908440" y="2935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1" name=""/>
                <p:cNvSpPr/>
                <p:nvPr/>
              </p:nvSpPr>
              <p:spPr>
                <a:xfrm>
                  <a:off x="2908440" y="29527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2" name=""/>
                <p:cNvSpPr/>
                <p:nvPr/>
              </p:nvSpPr>
              <p:spPr>
                <a:xfrm>
                  <a:off x="2908440" y="29703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3" name=""/>
                <p:cNvSpPr/>
                <p:nvPr/>
              </p:nvSpPr>
              <p:spPr>
                <a:xfrm>
                  <a:off x="2908440" y="2987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4" name=""/>
                <p:cNvSpPr/>
                <p:nvPr/>
              </p:nvSpPr>
              <p:spPr>
                <a:xfrm>
                  <a:off x="2908440" y="3003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5" name=""/>
                <p:cNvSpPr/>
                <p:nvPr/>
              </p:nvSpPr>
              <p:spPr>
                <a:xfrm>
                  <a:off x="2908440" y="30211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"/>
                <p:cNvSpPr/>
                <p:nvPr/>
              </p:nvSpPr>
              <p:spPr>
                <a:xfrm>
                  <a:off x="2908440" y="30384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"/>
                <p:cNvSpPr/>
                <p:nvPr/>
              </p:nvSpPr>
              <p:spPr>
                <a:xfrm>
                  <a:off x="2908440" y="3056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8" name=""/>
                <p:cNvSpPr/>
                <p:nvPr/>
              </p:nvSpPr>
              <p:spPr>
                <a:xfrm>
                  <a:off x="2908440" y="30733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9" name=""/>
                <p:cNvSpPr/>
                <p:nvPr/>
              </p:nvSpPr>
              <p:spPr>
                <a:xfrm>
                  <a:off x="2908440" y="30909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"/>
                <p:cNvSpPr/>
                <p:nvPr/>
              </p:nvSpPr>
              <p:spPr>
                <a:xfrm>
                  <a:off x="2908440" y="3108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"/>
                <p:cNvSpPr/>
                <p:nvPr/>
              </p:nvSpPr>
              <p:spPr>
                <a:xfrm>
                  <a:off x="2908440" y="31240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2" name=""/>
                <p:cNvSpPr/>
                <p:nvPr/>
              </p:nvSpPr>
              <p:spPr>
                <a:xfrm>
                  <a:off x="2908440" y="31417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3" name=""/>
                <p:cNvSpPr/>
                <p:nvPr/>
              </p:nvSpPr>
              <p:spPr>
                <a:xfrm>
                  <a:off x="2908440" y="31590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4" name=""/>
                <p:cNvSpPr/>
                <p:nvPr/>
              </p:nvSpPr>
              <p:spPr>
                <a:xfrm>
                  <a:off x="2908440" y="31766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5" name=""/>
                <p:cNvSpPr/>
                <p:nvPr/>
              </p:nvSpPr>
              <p:spPr>
                <a:xfrm>
                  <a:off x="2908440" y="3193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6" name=""/>
                <p:cNvSpPr/>
                <p:nvPr/>
              </p:nvSpPr>
              <p:spPr>
                <a:xfrm>
                  <a:off x="2908440" y="3211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7" name=""/>
                <p:cNvSpPr/>
                <p:nvPr/>
              </p:nvSpPr>
              <p:spPr>
                <a:xfrm>
                  <a:off x="2908440" y="3227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8" name=""/>
                <p:cNvSpPr/>
                <p:nvPr/>
              </p:nvSpPr>
              <p:spPr>
                <a:xfrm>
                  <a:off x="2908440" y="3244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9" name=""/>
                <p:cNvSpPr/>
                <p:nvPr/>
              </p:nvSpPr>
              <p:spPr>
                <a:xfrm>
                  <a:off x="2908440" y="3262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2908440" y="32796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1" name=""/>
                <p:cNvSpPr/>
                <p:nvPr/>
              </p:nvSpPr>
              <p:spPr>
                <a:xfrm>
                  <a:off x="2908440" y="3297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2" name=""/>
                <p:cNvSpPr/>
                <p:nvPr/>
              </p:nvSpPr>
              <p:spPr>
                <a:xfrm>
                  <a:off x="2908440" y="33148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3" name=""/>
                <p:cNvSpPr/>
                <p:nvPr/>
              </p:nvSpPr>
              <p:spPr>
                <a:xfrm>
                  <a:off x="2908440" y="3332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4" name=""/>
                <p:cNvSpPr/>
                <p:nvPr/>
              </p:nvSpPr>
              <p:spPr>
                <a:xfrm>
                  <a:off x="2908440" y="33480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2908440" y="33656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6" name=""/>
                <p:cNvSpPr/>
                <p:nvPr/>
              </p:nvSpPr>
              <p:spPr>
                <a:xfrm>
                  <a:off x="2908440" y="33829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7" name=""/>
                <p:cNvSpPr/>
                <p:nvPr/>
              </p:nvSpPr>
              <p:spPr>
                <a:xfrm>
                  <a:off x="2908440" y="34005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2908440" y="3417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2908440" y="34354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0" name=""/>
                <p:cNvSpPr/>
                <p:nvPr/>
              </p:nvSpPr>
              <p:spPr>
                <a:xfrm>
                  <a:off x="2908440" y="3451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1" name=""/>
                <p:cNvSpPr/>
                <p:nvPr/>
              </p:nvSpPr>
              <p:spPr>
                <a:xfrm>
                  <a:off x="2908440" y="3468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2" name=""/>
                <p:cNvSpPr/>
                <p:nvPr/>
              </p:nvSpPr>
              <p:spPr>
                <a:xfrm>
                  <a:off x="2908440" y="34862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2908440" y="3503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>
                  <a:off x="2908440" y="3521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>
                  <a:off x="2908440" y="3538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2908440" y="35560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2908440" y="3571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2908440" y="35892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>
                  <a:off x="2908440" y="360684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2908440" y="36241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2908440" y="36417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2908440" y="36590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2908440" y="367668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2908440" y="36925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29131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>
                  <a:off x="293040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>
                  <a:off x="29480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2965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9" name=""/>
                <p:cNvSpPr/>
                <p:nvPr/>
              </p:nvSpPr>
              <p:spPr>
                <a:xfrm>
                  <a:off x="298116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0" name=""/>
                <p:cNvSpPr/>
                <p:nvPr/>
              </p:nvSpPr>
              <p:spPr>
                <a:xfrm>
                  <a:off x="299880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1" name=""/>
                <p:cNvSpPr/>
                <p:nvPr/>
              </p:nvSpPr>
              <p:spPr>
                <a:xfrm>
                  <a:off x="3016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2" name=""/>
                <p:cNvSpPr/>
                <p:nvPr/>
              </p:nvSpPr>
              <p:spPr>
                <a:xfrm>
                  <a:off x="30337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3" name=""/>
                <p:cNvSpPr/>
                <p:nvPr/>
              </p:nvSpPr>
              <p:spPr>
                <a:xfrm>
                  <a:off x="3051000" y="3705120"/>
                  <a:ext cx="8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4" name=""/>
                <p:cNvSpPr/>
                <p:nvPr/>
              </p:nvSpPr>
              <p:spPr>
                <a:xfrm>
                  <a:off x="3068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5" name=""/>
                <p:cNvSpPr/>
                <p:nvPr/>
              </p:nvSpPr>
              <p:spPr>
                <a:xfrm>
                  <a:off x="30862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6" name=""/>
                <p:cNvSpPr/>
                <p:nvPr/>
              </p:nvSpPr>
              <p:spPr>
                <a:xfrm>
                  <a:off x="31021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7" name=""/>
                <p:cNvSpPr/>
                <p:nvPr/>
              </p:nvSpPr>
              <p:spPr>
                <a:xfrm>
                  <a:off x="31194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8" name=""/>
                <p:cNvSpPr/>
                <p:nvPr/>
              </p:nvSpPr>
              <p:spPr>
                <a:xfrm>
                  <a:off x="31370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9" name=""/>
                <p:cNvSpPr/>
                <p:nvPr/>
              </p:nvSpPr>
              <p:spPr>
                <a:xfrm>
                  <a:off x="31543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0" name=""/>
                <p:cNvSpPr/>
                <p:nvPr/>
              </p:nvSpPr>
              <p:spPr>
                <a:xfrm>
                  <a:off x="31719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1" name=""/>
                <p:cNvSpPr/>
                <p:nvPr/>
              </p:nvSpPr>
              <p:spPr>
                <a:xfrm>
                  <a:off x="3189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2" name=""/>
                <p:cNvSpPr/>
                <p:nvPr/>
              </p:nvSpPr>
              <p:spPr>
                <a:xfrm>
                  <a:off x="32050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3" name=""/>
                <p:cNvSpPr/>
                <p:nvPr/>
              </p:nvSpPr>
              <p:spPr>
                <a:xfrm>
                  <a:off x="32227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4" name=""/>
                <p:cNvSpPr/>
                <p:nvPr/>
              </p:nvSpPr>
              <p:spPr>
                <a:xfrm>
                  <a:off x="32400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5" name=""/>
                <p:cNvSpPr/>
                <p:nvPr/>
              </p:nvSpPr>
              <p:spPr>
                <a:xfrm>
                  <a:off x="32576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6" name=""/>
                <p:cNvSpPr/>
                <p:nvPr/>
              </p:nvSpPr>
              <p:spPr>
                <a:xfrm>
                  <a:off x="32749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7" name=""/>
                <p:cNvSpPr/>
                <p:nvPr/>
              </p:nvSpPr>
              <p:spPr>
                <a:xfrm>
                  <a:off x="3292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8" name=""/>
                <p:cNvSpPr/>
                <p:nvPr/>
              </p:nvSpPr>
              <p:spPr>
                <a:xfrm>
                  <a:off x="3309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9" name=""/>
                <p:cNvSpPr/>
                <p:nvPr/>
              </p:nvSpPr>
              <p:spPr>
                <a:xfrm>
                  <a:off x="332568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0" name=""/>
                <p:cNvSpPr/>
                <p:nvPr/>
              </p:nvSpPr>
              <p:spPr>
                <a:xfrm>
                  <a:off x="33433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1" name=""/>
                <p:cNvSpPr/>
                <p:nvPr/>
              </p:nvSpPr>
              <p:spPr>
                <a:xfrm>
                  <a:off x="3360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2" name=""/>
                <p:cNvSpPr/>
                <p:nvPr/>
              </p:nvSpPr>
              <p:spPr>
                <a:xfrm>
                  <a:off x="33782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3" name=""/>
                <p:cNvSpPr/>
                <p:nvPr/>
              </p:nvSpPr>
              <p:spPr>
                <a:xfrm>
                  <a:off x="339552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4" name=""/>
                <p:cNvSpPr/>
                <p:nvPr/>
              </p:nvSpPr>
              <p:spPr>
                <a:xfrm>
                  <a:off x="3413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5" name=""/>
                <p:cNvSpPr/>
                <p:nvPr/>
              </p:nvSpPr>
              <p:spPr>
                <a:xfrm>
                  <a:off x="3430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6" name=""/>
                <p:cNvSpPr/>
                <p:nvPr/>
              </p:nvSpPr>
              <p:spPr>
                <a:xfrm>
                  <a:off x="34466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7" name=""/>
                <p:cNvSpPr/>
                <p:nvPr/>
              </p:nvSpPr>
              <p:spPr>
                <a:xfrm>
                  <a:off x="346392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8" name=""/>
                <p:cNvSpPr/>
                <p:nvPr/>
              </p:nvSpPr>
              <p:spPr>
                <a:xfrm>
                  <a:off x="34815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9" name=""/>
                <p:cNvSpPr/>
                <p:nvPr/>
              </p:nvSpPr>
              <p:spPr>
                <a:xfrm>
                  <a:off x="34988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0" name=""/>
                <p:cNvSpPr/>
                <p:nvPr/>
              </p:nvSpPr>
              <p:spPr>
                <a:xfrm>
                  <a:off x="35164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1" name=""/>
                <p:cNvSpPr/>
                <p:nvPr/>
              </p:nvSpPr>
              <p:spPr>
                <a:xfrm>
                  <a:off x="3533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2" name=""/>
                <p:cNvSpPr/>
                <p:nvPr/>
              </p:nvSpPr>
              <p:spPr>
                <a:xfrm>
                  <a:off x="35496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3" name=""/>
                <p:cNvSpPr/>
                <p:nvPr/>
              </p:nvSpPr>
              <p:spPr>
                <a:xfrm>
                  <a:off x="35672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4" name=""/>
                <p:cNvSpPr/>
                <p:nvPr/>
              </p:nvSpPr>
              <p:spPr>
                <a:xfrm>
                  <a:off x="35845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5" name=""/>
                <p:cNvSpPr/>
                <p:nvPr/>
              </p:nvSpPr>
              <p:spPr>
                <a:xfrm>
                  <a:off x="36021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361944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7" name=""/>
                <p:cNvSpPr/>
                <p:nvPr/>
              </p:nvSpPr>
              <p:spPr>
                <a:xfrm>
                  <a:off x="363708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8" name=""/>
                <p:cNvSpPr/>
                <p:nvPr/>
              </p:nvSpPr>
              <p:spPr>
                <a:xfrm>
                  <a:off x="36543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9" name=""/>
                <p:cNvSpPr/>
                <p:nvPr/>
              </p:nvSpPr>
              <p:spPr>
                <a:xfrm>
                  <a:off x="367020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0" name=""/>
                <p:cNvSpPr/>
                <p:nvPr/>
              </p:nvSpPr>
              <p:spPr>
                <a:xfrm>
                  <a:off x="3687840" y="37051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3705120" y="3705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2" name=""/>
                <p:cNvSpPr/>
                <p:nvPr/>
              </p:nvSpPr>
              <p:spPr>
                <a:xfrm>
                  <a:off x="3722760" y="3705120"/>
                  <a:ext cx="79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3" name=""/>
                <p:cNvSpPr/>
                <p:nvPr/>
              </p:nvSpPr>
              <p:spPr>
                <a:xfrm>
                  <a:off x="3730680" y="369720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3730680" y="36799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3730680" y="36622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6" name=""/>
                <p:cNvSpPr/>
                <p:nvPr/>
              </p:nvSpPr>
              <p:spPr>
                <a:xfrm>
                  <a:off x="3730680" y="36464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7" name=""/>
                <p:cNvSpPr/>
                <p:nvPr/>
              </p:nvSpPr>
              <p:spPr>
                <a:xfrm>
                  <a:off x="3730680" y="362916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8" name=""/>
                <p:cNvSpPr/>
                <p:nvPr/>
              </p:nvSpPr>
              <p:spPr>
                <a:xfrm>
                  <a:off x="3730680" y="36115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3730680" y="35942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0" name=""/>
                <p:cNvSpPr/>
                <p:nvPr/>
              </p:nvSpPr>
              <p:spPr>
                <a:xfrm>
                  <a:off x="3730680" y="357660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1" name=""/>
                <p:cNvSpPr/>
                <p:nvPr/>
              </p:nvSpPr>
              <p:spPr>
                <a:xfrm>
                  <a:off x="3730680" y="355932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2" name=""/>
                <p:cNvSpPr/>
                <p:nvPr/>
              </p:nvSpPr>
              <p:spPr>
                <a:xfrm>
                  <a:off x="3730680" y="35416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3730680" y="3525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3730680" y="350820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5" name=""/>
                <p:cNvSpPr/>
                <p:nvPr/>
              </p:nvSpPr>
              <p:spPr>
                <a:xfrm>
                  <a:off x="3730680" y="349092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6" name=""/>
                <p:cNvSpPr/>
                <p:nvPr/>
              </p:nvSpPr>
              <p:spPr>
                <a:xfrm>
                  <a:off x="3730680" y="347328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3730680" y="34560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3730680" y="343836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9" name=""/>
              <p:cNvSpPr/>
              <p:nvPr/>
            </p:nvSpPr>
            <p:spPr>
              <a:xfrm>
                <a:off x="3730680" y="3421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730680" y="3405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730680" y="3387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730680" y="3370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730680" y="33526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730680" y="33354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730680" y="33177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730680" y="3301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730680" y="3284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730680" y="3267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730680" y="3249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730680" y="32320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730680" y="32148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730680" y="3197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30680" y="3181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730680" y="3164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730680" y="3146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730680" y="3129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3730680" y="311148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3730680" y="3094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3730680" y="307800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3730680" y="30607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30680" y="3043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3730680" y="3025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730680" y="3008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730680" y="29908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3730680" y="297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3730680" y="2957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730680" y="2940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730680" y="2922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730680" y="2905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730680" y="2887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30680" y="2870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30680" y="2854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30680" y="2836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730680" y="28195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730680" y="2801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30680" y="27846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30680" y="27669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30680" y="2749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30680" y="2733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30680" y="2716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730680" y="2698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730680" y="2681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730680" y="26640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730680" y="2646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730680" y="2629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730680" y="2612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730680" y="25956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30680" y="2577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30680" y="25606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30680" y="25430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730680" y="2525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730680" y="25099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730680" y="2492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730680" y="2475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730680" y="2457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30680" y="24400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30680" y="24224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30680" y="2405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730680" y="2389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730680" y="2371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730680" y="2354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730680" y="2336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730680" y="2319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730680" y="23018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730680" y="22860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730680" y="22683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730680" y="2251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730680" y="223344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3730680" y="2216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3730680" y="21985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3730680" y="2181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3730680" y="21654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3730680" y="2147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3730680" y="2130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30680" y="21128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30680" y="20955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30680" y="20779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730680" y="20606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730680" y="20448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30680" y="20271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730680" y="2009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730680" y="1992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730680" y="19749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730680" y="19573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30680" y="19414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30680" y="192420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30680" y="1906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730680" y="1889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730680" y="18716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730680" y="18543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30680" y="1836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30680" y="18208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30680" y="18032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730680" y="1785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730680" y="17683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730680" y="17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730680" y="17334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730680" y="17175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3730680" y="17002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3730680" y="16826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3730680" y="1665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3730680" y="16477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730680" y="1630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730680" y="16128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30680" y="15969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30680" y="15796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30680" y="15620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30680" y="15447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30680" y="1527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30680" y="15098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730680" y="149220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30680" y="147636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30680" y="145908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30680" y="144144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730680" y="1424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730680" y="14065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730680" y="1389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722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7051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6878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6702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6543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6370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619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602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58452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5672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549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5337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5164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498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481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4639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4466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4304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4131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3955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378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3606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3433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3256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3098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2925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2749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257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2400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32227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205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31892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317196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3154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313704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311940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310212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308628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30686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051000" y="1380960"/>
                <a:ext cx="828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30337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01608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998800" y="1380960"/>
                <a:ext cx="936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2981160" y="138096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9653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94804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93040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913120" y="1380960"/>
                <a:ext cx="792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6" name=""/>
            <p:cNvSpPr/>
            <p:nvPr/>
          </p:nvSpPr>
          <p:spPr>
            <a:xfrm flipH="1">
              <a:off x="3735360" y="3564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3506760" y="2862360"/>
              <a:ext cx="32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 flipH="1">
              <a:off x="3412800" y="3564000"/>
              <a:ext cx="158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9" name=""/>
            <p:cNvGrpSpPr/>
            <p:nvPr/>
          </p:nvGrpSpPr>
          <p:grpSpPr>
            <a:xfrm>
              <a:off x="3519360" y="1522440"/>
              <a:ext cx="565200" cy="90360"/>
              <a:chOff x="3519360" y="1522440"/>
              <a:chExt cx="565200" cy="90360"/>
            </a:xfrm>
          </p:grpSpPr>
          <p:sp>
            <p:nvSpPr>
              <p:cNvPr id="7100" name=""/>
              <p:cNvSpPr/>
              <p:nvPr/>
            </p:nvSpPr>
            <p:spPr>
              <a:xfrm>
                <a:off x="3519360" y="1566720"/>
                <a:ext cx="5652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994200" y="15224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2" name=""/>
            <p:cNvSpPr/>
            <p:nvPr/>
          </p:nvSpPr>
          <p:spPr>
            <a:xfrm>
              <a:off x="4002120" y="2957400"/>
              <a:ext cx="4680" cy="405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H="1">
              <a:off x="3830400" y="29829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 flipH="1">
              <a:off x="3830400" y="3322800"/>
              <a:ext cx="176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V="1">
              <a:off x="3830760" y="2862360"/>
              <a:ext cx="1440" cy="125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 flipV="1">
              <a:off x="3830760" y="3314880"/>
              <a:ext cx="1440" cy="24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7" name=""/>
            <p:cNvGrpSpPr/>
            <p:nvPr/>
          </p:nvGrpSpPr>
          <p:grpSpPr>
            <a:xfrm>
              <a:off x="4002120" y="3206880"/>
              <a:ext cx="955800" cy="90360"/>
              <a:chOff x="4002120" y="3206880"/>
              <a:chExt cx="955800" cy="90360"/>
            </a:xfrm>
          </p:grpSpPr>
          <p:sp>
            <p:nvSpPr>
              <p:cNvPr id="7108" name=""/>
              <p:cNvSpPr/>
              <p:nvPr/>
            </p:nvSpPr>
            <p:spPr>
              <a:xfrm>
                <a:off x="4002120" y="3254400"/>
                <a:ext cx="955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4002120" y="32068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0" name=""/>
            <p:cNvSpPr/>
            <p:nvPr/>
          </p:nvSpPr>
          <p:spPr>
            <a:xfrm>
              <a:off x="2978280" y="1501920"/>
              <a:ext cx="382320" cy="1458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H="1">
              <a:off x="3343320" y="1569960"/>
              <a:ext cx="16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 flipH="1">
              <a:off x="2792520" y="1569960"/>
              <a:ext cx="1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055680" y="1730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166200" y="181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373560" y="1824120"/>
              <a:ext cx="2584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373560" y="1914480"/>
              <a:ext cx="25848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503520" y="158760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503520" y="1932120"/>
              <a:ext cx="1800" cy="24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184560" y="2017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253040" y="5932440"/>
              <a:ext cx="1440" cy="50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260960" y="5923080"/>
              <a:ext cx="50796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334040" y="6053040"/>
              <a:ext cx="1440" cy="68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295880" y="6086520"/>
              <a:ext cx="81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3938760" y="6039000"/>
              <a:ext cx="317160" cy="90360"/>
              <a:chOff x="3938760" y="6039000"/>
              <a:chExt cx="317160" cy="90360"/>
            </a:xfrm>
          </p:grpSpPr>
          <p:sp>
            <p:nvSpPr>
              <p:cNvPr id="7125" name=""/>
              <p:cNvSpPr/>
              <p:nvPr/>
            </p:nvSpPr>
            <p:spPr>
              <a:xfrm>
                <a:off x="3938760" y="6086520"/>
                <a:ext cx="3171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3938760" y="60390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30"/>
                    </a:lnTo>
                    <a:lnTo>
                      <a:pt x="57" y="5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7" name=""/>
            <p:cNvSpPr/>
            <p:nvPr/>
          </p:nvSpPr>
          <p:spPr>
            <a:xfrm>
              <a:off x="4105440" y="6307200"/>
              <a:ext cx="1504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791240" y="6172200"/>
              <a:ext cx="153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6108840" y="6099120"/>
              <a:ext cx="2880" cy="150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299120" y="6307200"/>
              <a:ext cx="824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 flipH="1">
              <a:off x="4260960" y="6172200"/>
              <a:ext cx="512640" cy="25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780160" y="6083280"/>
              <a:ext cx="1440" cy="171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5794200" y="609588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H="1">
              <a:off x="5764320" y="6172200"/>
              <a:ext cx="110880" cy="112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888160" y="6095880"/>
              <a:ext cx="1440" cy="176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433680" y="2324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503520" y="21733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503520" y="2703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141360" y="2440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252240" y="25257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433680" y="30081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503520" y="286236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503520" y="3387600"/>
              <a:ext cx="180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141360" y="3124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252240" y="3211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3320" y="3400560"/>
              <a:ext cx="14616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313160" y="3249720"/>
              <a:ext cx="180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313160" y="3780000"/>
              <a:ext cx="1800" cy="18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437000" y="3481560"/>
              <a:ext cx="314280" cy="276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06480" y="351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617360" y="3602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876920" y="4635360"/>
              <a:ext cx="145800" cy="387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944960" y="4489560"/>
              <a:ext cx="1800" cy="158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944960" y="5014800"/>
              <a:ext cx="1800" cy="1157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5150880" y="47530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5263920" y="483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99120" y="4287600"/>
              <a:ext cx="144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5294160" y="4287600"/>
              <a:ext cx="1800" cy="253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962600" y="4411800"/>
              <a:ext cx="24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5307120" y="4411800"/>
              <a:ext cx="24120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5419800" y="4554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5540040" y="46404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1784520" y="1208160"/>
              <a:ext cx="1025280" cy="745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1973520" y="12430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144880" y="145908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2127960" y="167328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1798560" y="44640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192400" y="4722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383200" y="468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110120" y="1222200"/>
              <a:ext cx="1028520" cy="744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446720" y="147168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1811160" y="5527800"/>
              <a:ext cx="10288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1998720" y="556092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2171880" y="57769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154960" y="599292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>
              <a:off x="4217760" y="3951360"/>
              <a:ext cx="176040" cy="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1360" y="3672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63960" y="3684600"/>
              <a:ext cx="81000" cy="81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V="1">
              <a:off x="4944960" y="3659040"/>
              <a:ext cx="108000" cy="106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63960" y="3780000"/>
              <a:ext cx="176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944960" y="3254400"/>
              <a:ext cx="1800" cy="12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135400" y="1582560"/>
              <a:ext cx="7272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495760" y="1592280"/>
              <a:ext cx="1800" cy="252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2480" y="4114800"/>
              <a:ext cx="320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5" name=""/>
            <p:cNvGrpSpPr/>
            <p:nvPr/>
          </p:nvGrpSpPr>
          <p:grpSpPr>
            <a:xfrm>
              <a:off x="1233360" y="1539720"/>
              <a:ext cx="525600" cy="90720"/>
              <a:chOff x="1233360" y="1539720"/>
              <a:chExt cx="525600" cy="90720"/>
            </a:xfrm>
          </p:grpSpPr>
          <p:sp>
            <p:nvSpPr>
              <p:cNvPr id="7186" name=""/>
              <p:cNvSpPr/>
              <p:nvPr/>
            </p:nvSpPr>
            <p:spPr>
              <a:xfrm flipH="1">
                <a:off x="1233360" y="1582560"/>
                <a:ext cx="525600" cy="5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68600" y="15397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8" name=""/>
            <p:cNvSpPr/>
            <p:nvPr/>
          </p:nvSpPr>
          <p:spPr>
            <a:xfrm>
              <a:off x="1474920" y="1600200"/>
              <a:ext cx="1440" cy="4332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9" name=""/>
            <p:cNvGrpSpPr/>
            <p:nvPr/>
          </p:nvGrpSpPr>
          <p:grpSpPr>
            <a:xfrm>
              <a:off x="1474920" y="5875200"/>
              <a:ext cx="309600" cy="90720"/>
              <a:chOff x="1474920" y="5875200"/>
              <a:chExt cx="309600" cy="90720"/>
            </a:xfrm>
          </p:grpSpPr>
          <p:sp>
            <p:nvSpPr>
              <p:cNvPr id="7190" name=""/>
              <p:cNvSpPr/>
              <p:nvPr/>
            </p:nvSpPr>
            <p:spPr>
              <a:xfrm flipH="1">
                <a:off x="1474920" y="5918040"/>
                <a:ext cx="30960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16938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2" name=""/>
            <p:cNvGrpSpPr/>
            <p:nvPr/>
          </p:nvGrpSpPr>
          <p:grpSpPr>
            <a:xfrm>
              <a:off x="2306520" y="5200560"/>
              <a:ext cx="90720" cy="309600"/>
              <a:chOff x="2306520" y="5200560"/>
              <a:chExt cx="90720" cy="309600"/>
            </a:xfrm>
          </p:grpSpPr>
          <p:sp>
            <p:nvSpPr>
              <p:cNvPr id="7193" name=""/>
              <p:cNvSpPr/>
              <p:nvPr/>
            </p:nvSpPr>
            <p:spPr>
              <a:xfrm flipV="1">
                <a:off x="2352600" y="5200560"/>
                <a:ext cx="4680" cy="30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6520" y="54198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29" y="57"/>
                    </a:lnTo>
                    <a:lnTo>
                      <a:pt x="57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5" name=""/>
            <p:cNvSpPr/>
            <p:nvPr/>
          </p:nvSpPr>
          <p:spPr>
            <a:xfrm>
              <a:off x="3171960" y="5527800"/>
              <a:ext cx="757080" cy="74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3332880" y="57769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553000" y="4343400"/>
              <a:ext cx="1800" cy="163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8" name=""/>
            <p:cNvGrpSpPr/>
            <p:nvPr/>
          </p:nvGrpSpPr>
          <p:grpSpPr>
            <a:xfrm>
              <a:off x="2840040" y="5875200"/>
              <a:ext cx="301680" cy="90720"/>
              <a:chOff x="2840040" y="5875200"/>
              <a:chExt cx="301680" cy="90720"/>
            </a:xfrm>
          </p:grpSpPr>
          <p:sp>
            <p:nvSpPr>
              <p:cNvPr id="7199" name=""/>
              <p:cNvSpPr/>
              <p:nvPr/>
            </p:nvSpPr>
            <p:spPr>
              <a:xfrm flipH="1">
                <a:off x="2840040" y="5918040"/>
                <a:ext cx="3016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3051000" y="587520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57" y="27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1" name=""/>
            <p:cNvSpPr/>
            <p:nvPr/>
          </p:nvSpPr>
          <p:spPr>
            <a:xfrm>
              <a:off x="5091120" y="6099120"/>
              <a:ext cx="384120" cy="147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 flipH="1" flipV="1">
              <a:off x="5457960" y="6168600"/>
              <a:ext cx="6458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 flipH="1">
              <a:off x="4901760" y="6168960"/>
              <a:ext cx="1890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638320" y="583236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124880" y="47131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66920" y="4089240"/>
              <a:ext cx="60480" cy="511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919760" y="4381560"/>
              <a:ext cx="60120" cy="572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911840" y="6146640"/>
              <a:ext cx="6012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9" name=""/>
            <p:cNvGrpSpPr/>
            <p:nvPr/>
          </p:nvGrpSpPr>
          <p:grpSpPr>
            <a:xfrm>
              <a:off x="5070600" y="3581280"/>
              <a:ext cx="276120" cy="327240"/>
              <a:chOff x="5070600" y="3581280"/>
              <a:chExt cx="276120" cy="327240"/>
            </a:xfrm>
          </p:grpSpPr>
          <p:sp>
            <p:nvSpPr>
              <p:cNvPr id="7210" name=""/>
              <p:cNvSpPr/>
              <p:nvPr/>
            </p:nvSpPr>
            <p:spPr>
              <a:xfrm>
                <a:off x="5078520" y="3589200"/>
                <a:ext cx="258480" cy="31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070600" y="358920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070600" y="36241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070600" y="36590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070600" y="369252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70600" y="372744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070600" y="376236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070600" y="379584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070600" y="383076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070600" y="3865680"/>
                <a:ext cx="1728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0785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11344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14836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18148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21640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5251320" y="38908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286240" y="38908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5319720" y="38908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5329080" y="386568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5329080" y="383076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5329080" y="3795840"/>
                <a:ext cx="1764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5329080" y="376236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5329080" y="37274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5329080" y="36925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5329080" y="365904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5329080" y="362412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5329080" y="358920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30208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526896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523404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5199120" y="3581280"/>
                <a:ext cx="1728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5165640" y="3581280"/>
                <a:ext cx="158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513072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5095800" y="3581280"/>
                <a:ext cx="176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4" name=""/>
            <p:cNvSpPr/>
            <p:nvPr/>
          </p:nvSpPr>
          <p:spPr>
            <a:xfrm>
              <a:off x="5143680" y="362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3481560" y="2836800"/>
              <a:ext cx="55440" cy="507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4286160" y="3227400"/>
              <a:ext cx="6048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4122000" y="2952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382480" y="3765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490120" y="3870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549520" y="378288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3476520" y="1539720"/>
              <a:ext cx="6048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1212840" y="1557360"/>
              <a:ext cx="604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4079880" y="628020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470560" y="1557360"/>
              <a:ext cx="60120" cy="522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3129480" y="110952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ilt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766480" y="1192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857200" y="12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1181880" y="1243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1272960" y="1328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15080" y="1557360"/>
              <a:ext cx="5544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6933240" y="23623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6438240" y="50655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u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686640" y="5065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7199640" y="5065560"/>
              <a:ext cx="33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ek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7577280" y="5065560"/>
              <a:ext cx="77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synchroni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8354880" y="5065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ac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6630120" y="5065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946920" y="506556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686736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7534080" y="50655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248520" y="1523880"/>
              <a:ext cx="152280" cy="2133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6324480" y="4267080"/>
              <a:ext cx="76320" cy="20574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86000" y="1981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371600"/>
            <a:ext cx="8381880" cy="435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PLL są używane, n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synchronizacji gener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o przemiany częstotliwości, tj. w układach modulacji i demodulacji AM, FM, i P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syntezerach częstotliwości i powielacz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zielnika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dekoderach sygnału stereofoniczneg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modulatorach i demodulatorach AM, FM PWM, i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4" name=""/>
          <p:cNvSpPr/>
          <p:nvPr/>
        </p:nvSpPr>
        <p:spPr>
          <a:xfrm>
            <a:off x="1547280" y="295128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5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762840" y="1054080"/>
            <a:ext cx="75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y przemiany częstotliwości - powielacz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7" name=""/>
          <p:cNvGrpSpPr/>
          <p:nvPr/>
        </p:nvGrpSpPr>
        <p:grpSpPr>
          <a:xfrm>
            <a:off x="1560600" y="1623960"/>
            <a:ext cx="6378480" cy="4633920"/>
            <a:chOff x="1560600" y="1623960"/>
            <a:chExt cx="6378480" cy="4633920"/>
          </a:xfrm>
        </p:grpSpPr>
        <p:sp>
          <p:nvSpPr>
            <p:cNvPr id="7278" name=""/>
            <p:cNvSpPr/>
            <p:nvPr/>
          </p:nvSpPr>
          <p:spPr>
            <a:xfrm>
              <a:off x="5165640" y="2266920"/>
              <a:ext cx="29520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217840" y="23004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339880" y="2371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051520" y="2494080"/>
              <a:ext cx="223920" cy="193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092560" y="2527200"/>
              <a:ext cx="154080" cy="136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flipH="1">
              <a:off x="5079600" y="2516040"/>
              <a:ext cx="166680" cy="147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2913120" y="2368440"/>
              <a:ext cx="826920" cy="420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3023640" y="2400120"/>
              <a:ext cx="53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3184560" y="2581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4027320" y="2325600"/>
              <a:ext cx="82584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4282920" y="25336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421240" y="2325600"/>
              <a:ext cx="825480" cy="509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5663880" y="25336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1" name=""/>
            <p:cNvGrpSpPr/>
            <p:nvPr/>
          </p:nvGrpSpPr>
          <p:grpSpPr>
            <a:xfrm>
              <a:off x="3735360" y="2533680"/>
              <a:ext cx="279360" cy="82440"/>
              <a:chOff x="3735360" y="2533680"/>
              <a:chExt cx="279360" cy="82440"/>
            </a:xfrm>
          </p:grpSpPr>
          <p:sp>
            <p:nvSpPr>
              <p:cNvPr id="7292" name=""/>
              <p:cNvSpPr/>
              <p:nvPr/>
            </p:nvSpPr>
            <p:spPr>
              <a:xfrm>
                <a:off x="3735360" y="2573280"/>
                <a:ext cx="2793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925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4" name=""/>
            <p:cNvGrpSpPr/>
            <p:nvPr/>
          </p:nvGrpSpPr>
          <p:grpSpPr>
            <a:xfrm>
              <a:off x="5295960" y="2544840"/>
              <a:ext cx="112680" cy="82440"/>
              <a:chOff x="5295960" y="2544840"/>
              <a:chExt cx="112680" cy="82440"/>
            </a:xfrm>
          </p:grpSpPr>
          <p:sp>
            <p:nvSpPr>
              <p:cNvPr id="7295" name=""/>
              <p:cNvSpPr/>
              <p:nvPr/>
            </p:nvSpPr>
            <p:spPr>
              <a:xfrm>
                <a:off x="5295960" y="2584440"/>
                <a:ext cx="112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531972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7" name=""/>
            <p:cNvGrpSpPr/>
            <p:nvPr/>
          </p:nvGrpSpPr>
          <p:grpSpPr>
            <a:xfrm>
              <a:off x="4873680" y="2544840"/>
              <a:ext cx="166680" cy="82440"/>
              <a:chOff x="4873680" y="2544840"/>
              <a:chExt cx="166680" cy="82440"/>
            </a:xfrm>
          </p:grpSpPr>
          <p:sp>
            <p:nvSpPr>
              <p:cNvPr id="7298" name=""/>
              <p:cNvSpPr/>
              <p:nvPr/>
            </p:nvSpPr>
            <p:spPr>
              <a:xfrm>
                <a:off x="4873680" y="2584440"/>
                <a:ext cx="166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951440" y="254484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0" name=""/>
            <p:cNvGrpSpPr/>
            <p:nvPr/>
          </p:nvGrpSpPr>
          <p:grpSpPr>
            <a:xfrm>
              <a:off x="5121360" y="2246400"/>
              <a:ext cx="93600" cy="247680"/>
              <a:chOff x="5121360" y="2246400"/>
              <a:chExt cx="93600" cy="247680"/>
            </a:xfrm>
          </p:grpSpPr>
          <p:sp>
            <p:nvSpPr>
              <p:cNvPr id="7301" name=""/>
              <p:cNvSpPr/>
              <p:nvPr/>
            </p:nvSpPr>
            <p:spPr>
              <a:xfrm>
                <a:off x="5165640" y="2246400"/>
                <a:ext cx="324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5121360" y="224640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5121360" y="24145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0" y="0"/>
                    </a:moveTo>
                    <a:lnTo>
                      <a:pt x="30" y="50"/>
                    </a:lnTo>
                    <a:lnTo>
                      <a:pt x="5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4" name=""/>
            <p:cNvGrpSpPr/>
            <p:nvPr/>
          </p:nvGrpSpPr>
          <p:grpSpPr>
            <a:xfrm>
              <a:off x="2370240" y="2533680"/>
              <a:ext cx="555480" cy="82440"/>
              <a:chOff x="2370240" y="2533680"/>
              <a:chExt cx="555480" cy="82440"/>
            </a:xfrm>
          </p:grpSpPr>
          <p:sp>
            <p:nvSpPr>
              <p:cNvPr id="7305" name=""/>
              <p:cNvSpPr/>
              <p:nvPr/>
            </p:nvSpPr>
            <p:spPr>
              <a:xfrm>
                <a:off x="2370240" y="2573280"/>
                <a:ext cx="5554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36800" y="253368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0" y="52"/>
                    </a:moveTo>
                    <a:lnTo>
                      <a:pt x="56" y="25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7" name=""/>
            <p:cNvGrpSpPr/>
            <p:nvPr/>
          </p:nvGrpSpPr>
          <p:grpSpPr>
            <a:xfrm>
              <a:off x="3262320" y="2786040"/>
              <a:ext cx="92160" cy="247680"/>
              <a:chOff x="3262320" y="2786040"/>
              <a:chExt cx="92160" cy="247680"/>
            </a:xfrm>
          </p:grpSpPr>
          <p:sp>
            <p:nvSpPr>
              <p:cNvPr id="7308" name=""/>
              <p:cNvSpPr/>
              <p:nvPr/>
            </p:nvSpPr>
            <p:spPr>
              <a:xfrm flipV="1">
                <a:off x="3306600" y="2786040"/>
                <a:ext cx="1800" cy="247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3262320" y="278604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58" y="50"/>
                    </a:moveTo>
                    <a:lnTo>
                      <a:pt x="28" y="0"/>
                    </a:ln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0" name=""/>
            <p:cNvSpPr/>
            <p:nvPr/>
          </p:nvSpPr>
          <p:spPr>
            <a:xfrm>
              <a:off x="3317760" y="3033720"/>
              <a:ext cx="309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 flipH="1">
              <a:off x="6254280" y="2573280"/>
              <a:ext cx="7383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6408720" y="2584440"/>
              <a:ext cx="144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4983120" y="2112840"/>
              <a:ext cx="360360" cy="1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 flipH="1">
              <a:off x="5327640" y="2170080"/>
              <a:ext cx="154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5" name=""/>
            <p:cNvSpPr/>
            <p:nvPr/>
          </p:nvSpPr>
          <p:spPr>
            <a:xfrm flipH="1">
              <a:off x="4805280" y="2170080"/>
              <a:ext cx="177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6377040" y="2548080"/>
              <a:ext cx="57240" cy="47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4813200" y="1717560"/>
              <a:ext cx="1800" cy="44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2314440" y="2548080"/>
              <a:ext cx="5580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4781520" y="1684440"/>
              <a:ext cx="55440" cy="4284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6972480" y="2548080"/>
              <a:ext cx="56880" cy="475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196720" y="2658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317320" y="27320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354400" y="26589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4586040" y="1771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6523200" y="2616120"/>
              <a:ext cx="5587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6595560" y="2644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64308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6701040" y="2644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6947640" y="2717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5497560" y="2109600"/>
              <a:ext cx="1440" cy="125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2610000" y="2706840"/>
              <a:ext cx="288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2674800" y="2706840"/>
              <a:ext cx="180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2751120" y="2706840"/>
              <a:ext cx="14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811600" y="2720880"/>
              <a:ext cx="46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 flipH="1" flipV="1">
              <a:off x="2521080" y="2795040"/>
              <a:ext cx="7272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flipH="1">
              <a:off x="2604960" y="2706840"/>
              <a:ext cx="6984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flipH="1">
              <a:off x="2666880" y="2795400"/>
              <a:ext cx="842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2730600" y="2706840"/>
              <a:ext cx="8568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2795760" y="2795400"/>
              <a:ext cx="80640" cy="8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5006880" y="16239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miana krotnoś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5230800" y="18032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owielan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2" name=""/>
            <p:cNvGrpSpPr/>
            <p:nvPr/>
          </p:nvGrpSpPr>
          <p:grpSpPr>
            <a:xfrm>
              <a:off x="1719360" y="1781280"/>
              <a:ext cx="83880" cy="465120"/>
              <a:chOff x="1719360" y="1781280"/>
              <a:chExt cx="83880" cy="465120"/>
            </a:xfrm>
          </p:grpSpPr>
          <p:sp>
            <p:nvSpPr>
              <p:cNvPr id="7343" name=""/>
              <p:cNvSpPr/>
              <p:nvPr/>
            </p:nvSpPr>
            <p:spPr>
              <a:xfrm>
                <a:off x="1758960" y="1849320"/>
                <a:ext cx="4680" cy="39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1719360" y="178128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5" name=""/>
            <p:cNvGrpSpPr/>
            <p:nvPr/>
          </p:nvGrpSpPr>
          <p:grpSpPr>
            <a:xfrm>
              <a:off x="1743120" y="2209680"/>
              <a:ext cx="1008000" cy="76320"/>
              <a:chOff x="1743120" y="2209680"/>
              <a:chExt cx="1008000" cy="76320"/>
            </a:xfrm>
          </p:grpSpPr>
          <p:sp>
            <p:nvSpPr>
              <p:cNvPr id="7346" name=""/>
              <p:cNvSpPr/>
              <p:nvPr/>
            </p:nvSpPr>
            <p:spPr>
              <a:xfrm flipH="1">
                <a:off x="1743120" y="2246400"/>
                <a:ext cx="931680" cy="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666880" y="2209680"/>
                <a:ext cx="84240" cy="7632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0" y="48"/>
                    </a:moveTo>
                    <a:lnTo>
                      <a:pt x="53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"/>
            <p:cNvSpPr/>
            <p:nvPr/>
          </p:nvSpPr>
          <p:spPr>
            <a:xfrm>
              <a:off x="1868400" y="2008080"/>
              <a:ext cx="1800" cy="24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949400" y="2041560"/>
              <a:ext cx="1800" cy="21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030400" y="2070000"/>
              <a:ext cx="1440" cy="176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116080" y="2101680"/>
              <a:ext cx="1800" cy="15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197080" y="2124000"/>
              <a:ext cx="1440" cy="122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2278080" y="2141640"/>
              <a:ext cx="3240" cy="1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2362320" y="2173320"/>
              <a:ext cx="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443320" y="2195640"/>
              <a:ext cx="1440" cy="6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560600" y="1741320"/>
              <a:ext cx="158760" cy="20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589040" y="1771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505240" y="2278080"/>
              <a:ext cx="156960" cy="20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556360" y="2306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815120" y="22953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86048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2122920" y="2295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1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2244600" y="235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2176560" y="3335400"/>
              <a:ext cx="83880" cy="2666880"/>
              <a:chOff x="2176560" y="3335400"/>
              <a:chExt cx="83880" cy="2666880"/>
            </a:xfrm>
          </p:grpSpPr>
          <p:sp>
            <p:nvSpPr>
              <p:cNvPr id="7365" name=""/>
              <p:cNvSpPr/>
              <p:nvPr/>
            </p:nvSpPr>
            <p:spPr>
              <a:xfrm>
                <a:off x="2216160" y="3403440"/>
                <a:ext cx="1440" cy="2598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176560" y="333540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53" y="48"/>
                    </a:moveTo>
                    <a:lnTo>
                      <a:pt x="25" y="0"/>
                    </a:lnTo>
                    <a:lnTo>
                      <a:pt x="0" y="48"/>
                    </a:lnTo>
                    <a:lnTo>
                      <a:pt x="5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7" name=""/>
            <p:cNvGrpSpPr/>
            <p:nvPr/>
          </p:nvGrpSpPr>
          <p:grpSpPr>
            <a:xfrm>
              <a:off x="2200320" y="5954760"/>
              <a:ext cx="3727440" cy="75960"/>
              <a:chOff x="2200320" y="5954760"/>
              <a:chExt cx="3727440" cy="75960"/>
            </a:xfrm>
          </p:grpSpPr>
          <p:sp>
            <p:nvSpPr>
              <p:cNvPr id="7368" name=""/>
              <p:cNvSpPr/>
              <p:nvPr/>
            </p:nvSpPr>
            <p:spPr>
              <a:xfrm flipH="1">
                <a:off x="2200320" y="5991120"/>
                <a:ext cx="3649680" cy="3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5842080" y="5954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54" y="2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0" name=""/>
            <p:cNvGrpSpPr/>
            <p:nvPr/>
          </p:nvGrpSpPr>
          <p:grpSpPr>
            <a:xfrm>
              <a:off x="2171880" y="5491080"/>
              <a:ext cx="607680" cy="14400"/>
              <a:chOff x="2171880" y="5491080"/>
              <a:chExt cx="607680" cy="14400"/>
            </a:xfrm>
          </p:grpSpPr>
          <p:sp>
            <p:nvSpPr>
              <p:cNvPr id="7371" name=""/>
              <p:cNvSpPr/>
              <p:nvPr/>
            </p:nvSpPr>
            <p:spPr>
              <a:xfrm>
                <a:off x="27716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755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73996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722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706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690640" y="549108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67480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657520" y="54910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64168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625840" y="5491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610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593800" y="54943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576520" y="54943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2560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544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529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513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5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79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63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48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32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414520" y="54943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39868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38284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36700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35116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333520" y="549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317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301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86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270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225252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2366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22084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20500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18916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171880" y="5497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9" name=""/>
            <p:cNvGrpSpPr/>
            <p:nvPr/>
          </p:nvGrpSpPr>
          <p:grpSpPr>
            <a:xfrm>
              <a:off x="2179800" y="5659560"/>
              <a:ext cx="396720" cy="15840"/>
              <a:chOff x="2179800" y="5659560"/>
              <a:chExt cx="396720" cy="15840"/>
            </a:xfrm>
          </p:grpSpPr>
          <p:sp>
            <p:nvSpPr>
              <p:cNvPr id="7410" name=""/>
              <p:cNvSpPr/>
              <p:nvPr/>
            </p:nvSpPr>
            <p:spPr>
              <a:xfrm>
                <a:off x="2568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52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3692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52108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0524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48760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471760" y="5659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455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440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42424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406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390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2374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359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341440" y="56642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32560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30976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29392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278080" y="5664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260440" y="5667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24460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22876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221292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197080" y="566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179800" y="566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5" name=""/>
            <p:cNvSpPr/>
            <p:nvPr/>
          </p:nvSpPr>
          <p:spPr>
            <a:xfrm>
              <a:off x="4991040" y="3638520"/>
              <a:ext cx="46692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687920" y="3832200"/>
              <a:ext cx="465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356000" y="4022640"/>
              <a:ext cx="470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051440" y="42037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3711600" y="43830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3456000" y="4584600"/>
              <a:ext cx="469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168720" y="4797360"/>
              <a:ext cx="4651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913120" y="4987800"/>
              <a:ext cx="469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685960" y="5167440"/>
              <a:ext cx="4701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471760" y="532620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281320" y="5494320"/>
              <a:ext cx="469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41720" y="5664240"/>
              <a:ext cx="29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998960" y="3641760"/>
              <a:ext cx="6192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962600" y="364176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998960" y="373860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019840" y="37386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719600" y="382104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683240" y="382104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719600" y="391968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4745160" y="391968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4392720" y="4002120"/>
              <a:ext cx="601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356000" y="4002120"/>
              <a:ext cx="637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392720" y="4098960"/>
              <a:ext cx="601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411800" y="409896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516480" y="4599000"/>
              <a:ext cx="6480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479760" y="459900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516480" y="4692600"/>
              <a:ext cx="6480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541680" y="4692600"/>
              <a:ext cx="6048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2471760" y="54878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432160" y="5487840"/>
              <a:ext cx="680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47176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495520" y="5570640"/>
              <a:ext cx="69840" cy="85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641680" y="5329080"/>
              <a:ext cx="6516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610000" y="5329080"/>
              <a:ext cx="60120" cy="860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641680" y="5411880"/>
              <a:ext cx="6516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666880" y="5411880"/>
              <a:ext cx="63720" cy="90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3795840" y="43830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3760920" y="4383000"/>
              <a:ext cx="633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3795840" y="4479840"/>
              <a:ext cx="6192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3816360" y="4479840"/>
              <a:ext cx="65160" cy="96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326556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3228840" y="48006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3265560" y="4894200"/>
              <a:ext cx="6192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3286080" y="4894200"/>
              <a:ext cx="65160" cy="10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98800" y="4979880"/>
              <a:ext cx="6516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962440" y="4979880"/>
              <a:ext cx="6480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998800" y="5073480"/>
              <a:ext cx="6516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022560" y="5073480"/>
              <a:ext cx="60480" cy="101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100400" y="420372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064040" y="4203720"/>
              <a:ext cx="651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100400" y="4292640"/>
              <a:ext cx="6048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121280" y="4292640"/>
              <a:ext cx="63360" cy="93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80368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759040" y="5181480"/>
              <a:ext cx="77760" cy="79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803680" y="5257800"/>
              <a:ext cx="7776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832120" y="5257800"/>
              <a:ext cx="73080" cy="74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5594040" y="6062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5716080" y="6135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925640" y="37926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058120" y="386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1969920" y="3411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017080" y="3483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1925640" y="557064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58120" y="56419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192564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058120" y="5405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006280" y="580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053440" y="58802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3" name=""/>
                <p:cNvSpPr txBox="1"/>
                <p:nvPr/>
              </p:nvSpPr>
              <p:spPr>
                <a:xfrm>
                  <a:off x="6789600" y="4470480"/>
                  <a:ext cx="1149480" cy="73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4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5" name=""/>
          <p:cNvGrpSpPr/>
          <p:nvPr/>
        </p:nvGrpSpPr>
        <p:grpSpPr>
          <a:xfrm>
            <a:off x="288720" y="1803240"/>
            <a:ext cx="7902000" cy="3300480"/>
            <a:chOff x="288720" y="1803240"/>
            <a:chExt cx="7902000" cy="3300480"/>
          </a:xfrm>
        </p:grpSpPr>
        <p:sp>
          <p:nvSpPr>
            <p:cNvPr id="7506" name=""/>
            <p:cNvSpPr/>
            <p:nvPr/>
          </p:nvSpPr>
          <p:spPr>
            <a:xfrm>
              <a:off x="4385520" y="2332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488840" y="2430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558680" y="2332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616880" y="2273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674840" y="2371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743240" y="2273400"/>
              <a:ext cx="32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=N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8076960" y="237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53876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66080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7728480" y="2773440"/>
              <a:ext cx="27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8003880" y="27525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8125920" y="2870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8" name=""/>
            <p:cNvGrpSpPr/>
            <p:nvPr/>
          </p:nvGrpSpPr>
          <p:grpSpPr>
            <a:xfrm>
              <a:off x="4757760" y="1803240"/>
              <a:ext cx="2262240" cy="3300480"/>
              <a:chOff x="4757760" y="1803240"/>
              <a:chExt cx="2262240" cy="3300480"/>
            </a:xfrm>
          </p:grpSpPr>
          <p:grpSp>
            <p:nvGrpSpPr>
              <p:cNvPr id="7519" name=""/>
              <p:cNvGrpSpPr/>
              <p:nvPr/>
            </p:nvGrpSpPr>
            <p:grpSpPr>
              <a:xfrm>
                <a:off x="4757760" y="1808280"/>
                <a:ext cx="2262240" cy="3295440"/>
                <a:chOff x="4757760" y="1808280"/>
                <a:chExt cx="2262240" cy="329544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4762440" y="1808280"/>
                  <a:ext cx="2252880" cy="3290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4757760" y="1808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4757760" y="1847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3" name=""/>
                <p:cNvSpPr/>
                <p:nvPr/>
              </p:nvSpPr>
              <p:spPr>
                <a:xfrm>
                  <a:off x="4757760" y="1866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4" name=""/>
                <p:cNvSpPr/>
                <p:nvPr/>
              </p:nvSpPr>
              <p:spPr>
                <a:xfrm>
                  <a:off x="4757760" y="1906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5" name=""/>
                <p:cNvSpPr/>
                <p:nvPr/>
              </p:nvSpPr>
              <p:spPr>
                <a:xfrm>
                  <a:off x="4757760" y="1925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4757760" y="1965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7" name=""/>
                <p:cNvSpPr/>
                <p:nvPr/>
              </p:nvSpPr>
              <p:spPr>
                <a:xfrm>
                  <a:off x="4757760" y="1984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8" name=""/>
                <p:cNvSpPr/>
                <p:nvPr/>
              </p:nvSpPr>
              <p:spPr>
                <a:xfrm>
                  <a:off x="4757760" y="2023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9" name=""/>
                <p:cNvSpPr/>
                <p:nvPr/>
              </p:nvSpPr>
              <p:spPr>
                <a:xfrm>
                  <a:off x="4757760" y="2043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4757760" y="2082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4757760" y="21016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2" name=""/>
                <p:cNvSpPr/>
                <p:nvPr/>
              </p:nvSpPr>
              <p:spPr>
                <a:xfrm>
                  <a:off x="4757760" y="2141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3" name=""/>
                <p:cNvSpPr/>
                <p:nvPr/>
              </p:nvSpPr>
              <p:spPr>
                <a:xfrm>
                  <a:off x="4757760" y="2160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4757760" y="2200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4757760" y="2219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4757760" y="22590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7" name=""/>
                <p:cNvSpPr/>
                <p:nvPr/>
              </p:nvSpPr>
              <p:spPr>
                <a:xfrm>
                  <a:off x="4757760" y="2278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8" name=""/>
                <p:cNvSpPr/>
                <p:nvPr/>
              </p:nvSpPr>
              <p:spPr>
                <a:xfrm>
                  <a:off x="4757760" y="2317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9" name=""/>
                <p:cNvSpPr/>
                <p:nvPr/>
              </p:nvSpPr>
              <p:spPr>
                <a:xfrm>
                  <a:off x="4757760" y="2336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0" name=""/>
                <p:cNvSpPr/>
                <p:nvPr/>
              </p:nvSpPr>
              <p:spPr>
                <a:xfrm>
                  <a:off x="4757760" y="2376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1" name=""/>
                <p:cNvSpPr/>
                <p:nvPr/>
              </p:nvSpPr>
              <p:spPr>
                <a:xfrm>
                  <a:off x="4757760" y="2395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2" name=""/>
                <p:cNvSpPr/>
                <p:nvPr/>
              </p:nvSpPr>
              <p:spPr>
                <a:xfrm>
                  <a:off x="4757760" y="2435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4757760" y="2454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4757760" y="2494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4757760" y="2513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4757760" y="2552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4757760" y="2571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4757760" y="2611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4757760" y="2630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4757760" y="2670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4757760" y="2689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4757760" y="2728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4757760" y="2747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4757760" y="27874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4757760" y="2806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4757760" y="2846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4757760" y="2865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4757760" y="2905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9" name=""/>
                <p:cNvSpPr/>
                <p:nvPr/>
              </p:nvSpPr>
              <p:spPr>
                <a:xfrm>
                  <a:off x="4757760" y="292428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0" name=""/>
                <p:cNvSpPr/>
                <p:nvPr/>
              </p:nvSpPr>
              <p:spPr>
                <a:xfrm>
                  <a:off x="4757760" y="2963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4757760" y="2982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2" name=""/>
                <p:cNvSpPr/>
                <p:nvPr/>
              </p:nvSpPr>
              <p:spPr>
                <a:xfrm>
                  <a:off x="4757760" y="3022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3" name=""/>
                <p:cNvSpPr/>
                <p:nvPr/>
              </p:nvSpPr>
              <p:spPr>
                <a:xfrm>
                  <a:off x="4757760" y="3041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4757760" y="3081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4757760" y="3100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4757760" y="3139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4757760" y="3159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8" name=""/>
                <p:cNvSpPr/>
                <p:nvPr/>
              </p:nvSpPr>
              <p:spPr>
                <a:xfrm>
                  <a:off x="4757760" y="3198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4757760" y="3218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4757760" y="3257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4757760" y="3276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4757760" y="3316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4757760" y="3335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4757760" y="3375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757760" y="3394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757760" y="3433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4757760" y="3452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4757760" y="3492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4757760" y="3511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4757760" y="3551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757760" y="35701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7760" y="3610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4757760" y="362916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4757760" y="3668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4757760" y="36878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4757760" y="3727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7" name=""/>
                <p:cNvSpPr/>
                <p:nvPr/>
              </p:nvSpPr>
              <p:spPr>
                <a:xfrm>
                  <a:off x="4757760" y="37465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8" name=""/>
                <p:cNvSpPr/>
                <p:nvPr/>
              </p:nvSpPr>
              <p:spPr>
                <a:xfrm>
                  <a:off x="4757760" y="3786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4757760" y="38052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4757760" y="3844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4757760" y="38638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4757760" y="3903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4757760" y="39225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4757760" y="3962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4757760" y="398160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4757760" y="40212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4757760" y="40402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4757760" y="40798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4757760" y="40989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4757760" y="41385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1" name=""/>
                <p:cNvSpPr/>
                <p:nvPr/>
              </p:nvSpPr>
              <p:spPr>
                <a:xfrm>
                  <a:off x="4757760" y="41576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2" name=""/>
                <p:cNvSpPr/>
                <p:nvPr/>
              </p:nvSpPr>
              <p:spPr>
                <a:xfrm>
                  <a:off x="4757760" y="41972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3" name=""/>
                <p:cNvSpPr/>
                <p:nvPr/>
              </p:nvSpPr>
              <p:spPr>
                <a:xfrm>
                  <a:off x="4757760" y="421632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4757760" y="42559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5" name=""/>
                <p:cNvSpPr/>
                <p:nvPr/>
              </p:nvSpPr>
              <p:spPr>
                <a:xfrm>
                  <a:off x="4757760" y="42750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6" name=""/>
                <p:cNvSpPr/>
                <p:nvPr/>
              </p:nvSpPr>
              <p:spPr>
                <a:xfrm>
                  <a:off x="4757760" y="43149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4757760" y="433404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4757760" y="43736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9" name=""/>
                <p:cNvSpPr/>
                <p:nvPr/>
              </p:nvSpPr>
              <p:spPr>
                <a:xfrm>
                  <a:off x="4757760" y="4392720"/>
                  <a:ext cx="1116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4757760" y="44323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4757760" y="44514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4757760" y="44910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757760" y="45100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4757760" y="454968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757760" y="456876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757760" y="460836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4757760" y="462744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>
                  <a:off x="4757760" y="466740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>
                  <a:off x="4757760" y="46879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4757760" y="472608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4757760" y="47466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4757760" y="478476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>
                  <a:off x="4757760" y="480528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>
                  <a:off x="4757760" y="484344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>
                  <a:off x="4757760" y="4863960"/>
                  <a:ext cx="1116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>
                  <a:off x="4757760" y="49021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>
                  <a:off x="4757760" y="492300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>
                  <a:off x="4757760" y="49608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>
                  <a:off x="4757760" y="498168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4757760" y="50198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4757760" y="50403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>
                  <a:off x="4757760" y="507852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>
                  <a:off x="47624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>
                  <a:off x="4802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>
                  <a:off x="48211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>
                  <a:off x="4861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7" name=""/>
                <p:cNvSpPr/>
                <p:nvPr/>
              </p:nvSpPr>
              <p:spPr>
                <a:xfrm>
                  <a:off x="48798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8" name=""/>
                <p:cNvSpPr/>
                <p:nvPr/>
              </p:nvSpPr>
              <p:spPr>
                <a:xfrm>
                  <a:off x="4919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>
                  <a:off x="493884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>
                  <a:off x="4978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>
                  <a:off x="49975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5037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50562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>
                  <a:off x="5095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>
                  <a:off x="51148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>
                  <a:off x="5154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51735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>
                  <a:off x="5213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>
                  <a:off x="52322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5272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529128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>
                  <a:off x="5330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>
                  <a:off x="534996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>
                  <a:off x="53895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540864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>
                  <a:off x="5448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>
                  <a:off x="546732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>
                  <a:off x="5506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552600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55656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>
                  <a:off x="5584680" y="5092560"/>
                  <a:ext cx="302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>
                  <a:off x="5624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5643720" y="5092560"/>
                  <a:ext cx="298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5683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5703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>
                  <a:off x="5742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>
                  <a:off x="5762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>
                  <a:off x="5800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>
                  <a:off x="5821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5859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>
                  <a:off x="58802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>
                  <a:off x="59180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>
                  <a:off x="59389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>
                  <a:off x="59770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>
                  <a:off x="59976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>
                  <a:off x="60357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>
                  <a:off x="60562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>
                  <a:off x="60944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>
                  <a:off x="611496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>
                  <a:off x="61531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>
                  <a:off x="61736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>
                  <a:off x="621180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>
                  <a:off x="62326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>
                  <a:off x="62704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62913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>
                  <a:off x="63295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>
                  <a:off x="635004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>
                  <a:off x="63882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>
                  <a:off x="64087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644688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>
                  <a:off x="64674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65055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652608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656424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5" name=""/>
                <p:cNvSpPr/>
                <p:nvPr/>
              </p:nvSpPr>
              <p:spPr>
                <a:xfrm>
                  <a:off x="658512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>
                  <a:off x="662292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>
                  <a:off x="664380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668196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>
                  <a:off x="670248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>
                  <a:off x="674064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>
                  <a:off x="6761160" y="5092560"/>
                  <a:ext cx="2844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679932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681984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>
                  <a:off x="6858000" y="509256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>
                  <a:off x="687852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691668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6937200" y="5092560"/>
                  <a:ext cx="28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6975360" y="5092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>
                  <a:off x="6996240" y="508788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12" y="10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>
                  <a:off x="7010280" y="506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>
                  <a:off x="7010280" y="502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>
                  <a:off x="7010280" y="501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>
                  <a:off x="7010280" y="497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>
                  <a:off x="7010280" y="495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>
                  <a:off x="7010280" y="49118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>
                  <a:off x="7010280" y="4892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>
                  <a:off x="7010280" y="48531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>
                  <a:off x="7010280" y="4834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>
                  <a:off x="7010280" y="47941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0" name=""/>
              <p:cNvSpPr/>
              <p:nvPr/>
            </p:nvSpPr>
            <p:spPr>
              <a:xfrm>
                <a:off x="7010280" y="4775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7010280" y="4735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7010280" y="4716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7010280" y="4676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7010280" y="4657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010280" y="4618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7010280" y="4599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7010280" y="45594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010280" y="4540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7010280" y="4500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7010280" y="4481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7010280" y="4441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7010280" y="4422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7010280" y="4383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010280" y="4363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7010280" y="4324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7010280" y="4305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7010280" y="4265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7010280" y="4246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7010280" y="4206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10280" y="4187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7010280" y="4148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7010280" y="4129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7010280" y="4089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7010280" y="40705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7010280" y="4030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7010280" y="4011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7010280" y="3971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7010280" y="3952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7010280" y="3913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7010280" y="3894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7010280" y="3854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7010280" y="3835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7010280" y="3795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7010280" y="3776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7010280" y="3736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010280" y="3718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010280" y="3678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7010280" y="3659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010280" y="3619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7010280" y="3600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010280" y="3560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010280" y="3541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10280" y="3502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10280" y="3483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7010280" y="344340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10280" y="3424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7010280" y="338472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7010280" y="3365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010280" y="33256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010280" y="3306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010280" y="32670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7010280" y="3247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7010280" y="32083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010280" y="3189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010280" y="31496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010280" y="3130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010280" y="30909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010280" y="3071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7010280" y="303228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7010280" y="3013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7010280" y="29732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010280" y="2954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010280" y="29145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010280" y="28954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7010280" y="28558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7010280" y="28368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7010280" y="27972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010280" y="27781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010280" y="27385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7010280" y="27194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7010280" y="2679840"/>
                <a:ext cx="972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7010280" y="26607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7010280" y="262080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7010280" y="26020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010280" y="256212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7010280" y="25430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7010280" y="250344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7010280" y="24843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7010280" y="244476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7010280" y="242568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7010280" y="2386080"/>
                <a:ext cx="972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7010280" y="23670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010280" y="232740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010280" y="23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7010280" y="226836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7010280" y="224964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7010280" y="220968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7010280" y="21906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7010280" y="215100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010280" y="21319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010280" y="209232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010280" y="207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7010280" y="203364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7010280" y="201456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7010280" y="197496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7010280" y="19558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7010280" y="1916280"/>
                <a:ext cx="972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7010280" y="18972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7010280" y="1857240"/>
                <a:ext cx="972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7010280" y="1838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7005600" y="1803240"/>
                <a:ext cx="14400" cy="241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3" y="15"/>
                    </a:moveTo>
                    <a:lnTo>
                      <a:pt x="9" y="15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985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946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6926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6888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6867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829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808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6770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67500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6711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66913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66531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66326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594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5739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6535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51528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477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4562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4184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63975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359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388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300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62802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6242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62215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6183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616284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6124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610380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6066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04512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006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98644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5948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59277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889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58690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58309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5810400" y="1803240"/>
                <a:ext cx="10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57722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575136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57135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92680" y="18032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6545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56340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559584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55753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55371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55166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54784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54579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54198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53989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536112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534024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53020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528156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524340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522288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518472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516420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512604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510552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506736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50468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500868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98780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9500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929120" y="180324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89096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87044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832280" y="1803240"/>
                <a:ext cx="28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811760" y="180324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773600" y="1803240"/>
                <a:ext cx="28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8" name=""/>
            <p:cNvSpPr/>
            <p:nvPr/>
          </p:nvSpPr>
          <p:spPr>
            <a:xfrm>
              <a:off x="5008320" y="184320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1125360" y="2282760"/>
              <a:ext cx="131796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1419840" y="232236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1616040" y="25671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976480" y="2282760"/>
              <a:ext cx="132084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442680" y="256716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5086440" y="2282760"/>
              <a:ext cx="1322280" cy="75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5536800" y="25671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6" name=""/>
            <p:cNvGrpSpPr/>
            <p:nvPr/>
          </p:nvGrpSpPr>
          <p:grpSpPr>
            <a:xfrm>
              <a:off x="2438280" y="2635200"/>
              <a:ext cx="524160" cy="103320"/>
              <a:chOff x="2438280" y="2635200"/>
              <a:chExt cx="524160" cy="103320"/>
            </a:xfrm>
          </p:grpSpPr>
          <p:sp>
            <p:nvSpPr>
              <p:cNvPr id="7907" name=""/>
              <p:cNvSpPr/>
              <p:nvPr/>
            </p:nvSpPr>
            <p:spPr>
              <a:xfrm>
                <a:off x="2438280" y="2679840"/>
                <a:ext cx="5241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285912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9" name=""/>
            <p:cNvGrpSpPr/>
            <p:nvPr/>
          </p:nvGrpSpPr>
          <p:grpSpPr>
            <a:xfrm>
              <a:off x="4303800" y="2616120"/>
              <a:ext cx="782640" cy="103320"/>
              <a:chOff x="4303800" y="2616120"/>
              <a:chExt cx="782640" cy="103320"/>
            </a:xfrm>
          </p:grpSpPr>
          <p:sp>
            <p:nvSpPr>
              <p:cNvPr id="7910" name=""/>
              <p:cNvSpPr/>
              <p:nvPr/>
            </p:nvSpPr>
            <p:spPr>
              <a:xfrm>
                <a:off x="4303800" y="2665440"/>
                <a:ext cx="782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83120" y="26161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2" name=""/>
            <p:cNvGrpSpPr/>
            <p:nvPr/>
          </p:nvGrpSpPr>
          <p:grpSpPr>
            <a:xfrm>
              <a:off x="465120" y="2635200"/>
              <a:ext cx="646200" cy="103320"/>
              <a:chOff x="465120" y="2635200"/>
              <a:chExt cx="646200" cy="103320"/>
            </a:xfrm>
          </p:grpSpPr>
          <p:sp>
            <p:nvSpPr>
              <p:cNvPr id="7913" name=""/>
              <p:cNvSpPr/>
              <p:nvPr/>
            </p:nvSpPr>
            <p:spPr>
              <a:xfrm>
                <a:off x="465120" y="2679840"/>
                <a:ext cx="64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1008000" y="263520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5" name=""/>
            <p:cNvGrpSpPr/>
            <p:nvPr/>
          </p:nvGrpSpPr>
          <p:grpSpPr>
            <a:xfrm>
              <a:off x="1717560" y="3045960"/>
              <a:ext cx="103320" cy="1181160"/>
              <a:chOff x="1717560" y="3045960"/>
              <a:chExt cx="103320" cy="1181160"/>
            </a:xfrm>
          </p:grpSpPr>
          <p:sp>
            <p:nvSpPr>
              <p:cNvPr id="7916" name=""/>
              <p:cNvSpPr/>
              <p:nvPr/>
            </p:nvSpPr>
            <p:spPr>
              <a:xfrm flipV="1">
                <a:off x="1766880" y="3045960"/>
                <a:ext cx="1440" cy="11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1717560" y="304632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8" name=""/>
            <p:cNvSpPr/>
            <p:nvPr/>
          </p:nvSpPr>
          <p:spPr>
            <a:xfrm>
              <a:off x="1782720" y="4227480"/>
              <a:ext cx="331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V="1">
              <a:off x="6676920" y="2679480"/>
              <a:ext cx="1800" cy="15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6423120" y="2665440"/>
              <a:ext cx="150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6648480" y="264492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25520" y="2651040"/>
              <a:ext cx="6984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7900920" y="2630520"/>
              <a:ext cx="58680" cy="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38040" y="2317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96360" y="2416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25960" y="4334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28392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352320" y="43340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549240" y="4432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618000" y="4334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693600" y="43149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784680" y="433404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96640" y="443232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485880" y="457992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201840" y="4834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26016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328920" y="483408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577680" y="4932360"/>
              <a:ext cx="9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691080" y="483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766680" y="48150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57760" y="483408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969720" y="49323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5100480" y="3830760"/>
              <a:ext cx="1322640" cy="753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5654520" y="411480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5" name=""/>
            <p:cNvGrpSpPr/>
            <p:nvPr/>
          </p:nvGrpSpPr>
          <p:grpSpPr>
            <a:xfrm>
              <a:off x="6432480" y="4173480"/>
              <a:ext cx="258840" cy="101520"/>
              <a:chOff x="6432480" y="4173480"/>
              <a:chExt cx="258840" cy="101520"/>
            </a:xfrm>
          </p:grpSpPr>
          <p:sp>
            <p:nvSpPr>
              <p:cNvPr id="7946" name=""/>
              <p:cNvSpPr/>
              <p:nvPr/>
            </p:nvSpPr>
            <p:spPr>
              <a:xfrm>
                <a:off x="6432480" y="4227480"/>
                <a:ext cx="258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6432480" y="4173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0"/>
                    </a:moveTo>
                    <a:lnTo>
                      <a:pt x="0" y="34"/>
                    </a:lnTo>
                    <a:lnTo>
                      <a:pt x="65" y="6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8" name=""/>
            <p:cNvSpPr/>
            <p:nvPr/>
          </p:nvSpPr>
          <p:spPr>
            <a:xfrm>
              <a:off x="1851120" y="3619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909080" y="371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977840" y="36194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2172960" y="371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1850760" y="38545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1972800" y="3971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288720" y="27687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410760" y="2886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6" name=""/>
          <p:cNvSpPr/>
          <p:nvPr/>
        </p:nvSpPr>
        <p:spPr>
          <a:xfrm>
            <a:off x="849960" y="1108080"/>
            <a:ext cx="71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lacz częstotliwości z układem PLL i z dzielnik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7" name=""/>
          <p:cNvGrpSpPr/>
          <p:nvPr/>
        </p:nvGrpSpPr>
        <p:grpSpPr>
          <a:xfrm>
            <a:off x="318960" y="2022480"/>
            <a:ext cx="7907400" cy="3575160"/>
            <a:chOff x="318960" y="2022480"/>
            <a:chExt cx="7907400" cy="3575160"/>
          </a:xfrm>
        </p:grpSpPr>
        <p:grpSp>
          <p:nvGrpSpPr>
            <p:cNvPr id="7958" name=""/>
            <p:cNvGrpSpPr/>
            <p:nvPr/>
          </p:nvGrpSpPr>
          <p:grpSpPr>
            <a:xfrm>
              <a:off x="4856040" y="2022480"/>
              <a:ext cx="2276640" cy="3319560"/>
              <a:chOff x="4856040" y="2022480"/>
              <a:chExt cx="2276640" cy="3319560"/>
            </a:xfrm>
          </p:grpSpPr>
          <p:grpSp>
            <p:nvGrpSpPr>
              <p:cNvPr id="7959" name=""/>
              <p:cNvGrpSpPr/>
              <p:nvPr/>
            </p:nvGrpSpPr>
            <p:grpSpPr>
              <a:xfrm>
                <a:off x="4856040" y="2027160"/>
                <a:ext cx="2276640" cy="3314880"/>
                <a:chOff x="4856040" y="2027160"/>
                <a:chExt cx="2276640" cy="3314880"/>
              </a:xfrm>
            </p:grpSpPr>
            <p:sp>
              <p:nvSpPr>
                <p:cNvPr id="7960" name=""/>
                <p:cNvSpPr/>
                <p:nvPr/>
              </p:nvSpPr>
              <p:spPr>
                <a:xfrm>
                  <a:off x="4861080" y="2027160"/>
                  <a:ext cx="2266920" cy="3309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1" name=""/>
                <p:cNvSpPr/>
                <p:nvPr/>
              </p:nvSpPr>
              <p:spPr>
                <a:xfrm>
                  <a:off x="4856040" y="2027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>
                  <a:off x="4856040" y="2066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>
                  <a:off x="4856040" y="20858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>
                  <a:off x="4856040" y="21258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>
                  <a:off x="4856040" y="2146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>
                  <a:off x="4856040" y="21844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>
                  <a:off x="4856040" y="22050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>
                  <a:off x="4856040" y="2244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>
                  <a:off x="4856040" y="2263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>
                  <a:off x="4856040" y="2303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>
                  <a:off x="4856040" y="23223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>
                  <a:off x="4856040" y="23623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>
                  <a:off x="4856040" y="23814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>
                  <a:off x="4856040" y="24210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>
                  <a:off x="4856040" y="24415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>
                  <a:off x="4856040" y="2481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>
                  <a:off x="4856040" y="2500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>
                  <a:off x="4856040" y="25401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>
                  <a:off x="4856040" y="2558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>
                  <a:off x="4856040" y="25988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>
                  <a:off x="4856040" y="26179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56040" y="26575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>
                  <a:off x="4856040" y="26780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>
                  <a:off x="4856040" y="27162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>
                  <a:off x="4856040" y="27367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>
                  <a:off x="4856040" y="27766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>
                  <a:off x="4856040" y="279576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8" name=""/>
                <p:cNvSpPr/>
                <p:nvPr/>
              </p:nvSpPr>
              <p:spPr>
                <a:xfrm>
                  <a:off x="4856040" y="28353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9" name=""/>
                <p:cNvSpPr/>
                <p:nvPr/>
              </p:nvSpPr>
              <p:spPr>
                <a:xfrm>
                  <a:off x="4856040" y="285444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0" name=""/>
                <p:cNvSpPr/>
                <p:nvPr/>
              </p:nvSpPr>
              <p:spPr>
                <a:xfrm>
                  <a:off x="4856040" y="28940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1" name=""/>
                <p:cNvSpPr/>
                <p:nvPr/>
              </p:nvSpPr>
              <p:spPr>
                <a:xfrm>
                  <a:off x="4856040" y="29145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2" name=""/>
                <p:cNvSpPr/>
                <p:nvPr/>
              </p:nvSpPr>
              <p:spPr>
                <a:xfrm>
                  <a:off x="4856040" y="295272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4856040" y="29732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4" name=""/>
                <p:cNvSpPr/>
                <p:nvPr/>
              </p:nvSpPr>
              <p:spPr>
                <a:xfrm>
                  <a:off x="4856040" y="30132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5" name=""/>
                <p:cNvSpPr/>
                <p:nvPr/>
              </p:nvSpPr>
              <p:spPr>
                <a:xfrm>
                  <a:off x="4856040" y="30322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6" name=""/>
                <p:cNvSpPr/>
                <p:nvPr/>
              </p:nvSpPr>
              <p:spPr>
                <a:xfrm>
                  <a:off x="4856040" y="3071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4856040" y="3090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>
                  <a:off x="4856040" y="31305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>
                  <a:off x="4856040" y="31496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>
                  <a:off x="4856040" y="31892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>
                  <a:off x="4856040" y="320976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>
                  <a:off x="4856040" y="32497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>
                  <a:off x="4856040" y="32688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4856040" y="3308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>
                  <a:off x="4856040" y="3327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>
                  <a:off x="4856040" y="3367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>
                  <a:off x="4856040" y="33861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4856040" y="34257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4856040" y="34466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>
                  <a:off x="4856040" y="34844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>
                  <a:off x="4856040" y="35053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>
                  <a:off x="4856040" y="3544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3" name=""/>
                <p:cNvSpPr/>
                <p:nvPr/>
              </p:nvSpPr>
              <p:spPr>
                <a:xfrm>
                  <a:off x="4856040" y="35640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4" name=""/>
                <p:cNvSpPr/>
                <p:nvPr/>
              </p:nvSpPr>
              <p:spPr>
                <a:xfrm>
                  <a:off x="4856040" y="36036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5" name=""/>
                <p:cNvSpPr/>
                <p:nvPr/>
              </p:nvSpPr>
              <p:spPr>
                <a:xfrm>
                  <a:off x="4856040" y="36226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6" name=""/>
                <p:cNvSpPr/>
                <p:nvPr/>
              </p:nvSpPr>
              <p:spPr>
                <a:xfrm>
                  <a:off x="4856040" y="36622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7" name=""/>
                <p:cNvSpPr/>
                <p:nvPr/>
              </p:nvSpPr>
              <p:spPr>
                <a:xfrm>
                  <a:off x="4856040" y="36831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8" name=""/>
                <p:cNvSpPr/>
                <p:nvPr/>
              </p:nvSpPr>
              <p:spPr>
                <a:xfrm>
                  <a:off x="4856040" y="37209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9" name=""/>
                <p:cNvSpPr/>
                <p:nvPr/>
              </p:nvSpPr>
              <p:spPr>
                <a:xfrm>
                  <a:off x="4856040" y="374184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0" name=""/>
                <p:cNvSpPr/>
                <p:nvPr/>
              </p:nvSpPr>
              <p:spPr>
                <a:xfrm>
                  <a:off x="4856040" y="3781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1" name=""/>
                <p:cNvSpPr/>
                <p:nvPr/>
              </p:nvSpPr>
              <p:spPr>
                <a:xfrm>
                  <a:off x="4856040" y="38005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2" name=""/>
                <p:cNvSpPr/>
                <p:nvPr/>
              </p:nvSpPr>
              <p:spPr>
                <a:xfrm>
                  <a:off x="4856040" y="38401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3" name=""/>
                <p:cNvSpPr/>
                <p:nvPr/>
              </p:nvSpPr>
              <p:spPr>
                <a:xfrm>
                  <a:off x="4856040" y="38592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4" name=""/>
                <p:cNvSpPr/>
                <p:nvPr/>
              </p:nvSpPr>
              <p:spPr>
                <a:xfrm>
                  <a:off x="4856040" y="38988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5" name=""/>
                <p:cNvSpPr/>
                <p:nvPr/>
              </p:nvSpPr>
              <p:spPr>
                <a:xfrm>
                  <a:off x="4856040" y="39178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6" name=""/>
                <p:cNvSpPr/>
                <p:nvPr/>
              </p:nvSpPr>
              <p:spPr>
                <a:xfrm>
                  <a:off x="4856040" y="39574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7" name=""/>
                <p:cNvSpPr/>
                <p:nvPr/>
              </p:nvSpPr>
              <p:spPr>
                <a:xfrm>
                  <a:off x="4856040" y="39783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8" name=""/>
                <p:cNvSpPr/>
                <p:nvPr/>
              </p:nvSpPr>
              <p:spPr>
                <a:xfrm>
                  <a:off x="4856040" y="40179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4856040" y="40370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4856040" y="40766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>
                  <a:off x="4856040" y="40957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>
                  <a:off x="4856040" y="4135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>
                  <a:off x="4856040" y="415440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>
                  <a:off x="4856040" y="41940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>
                  <a:off x="4856040" y="42148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4856040" y="425304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>
                  <a:off x="4856040" y="427356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>
                  <a:off x="4856040" y="43131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>
                  <a:off x="4856040" y="43322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4856040" y="437184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>
                  <a:off x="4856040" y="439092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>
                  <a:off x="4856040" y="44308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>
                  <a:off x="4856040" y="44514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>
                  <a:off x="4856040" y="448956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>
                  <a:off x="4856040" y="451008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>
                  <a:off x="4856040" y="45496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>
                  <a:off x="4856040" y="45687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>
                  <a:off x="4856040" y="460836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>
                  <a:off x="4856040" y="462744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>
                  <a:off x="4856040" y="46674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>
                  <a:off x="4856040" y="468648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>
                  <a:off x="4856040" y="47260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>
                  <a:off x="4856040" y="474660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>
                  <a:off x="4856040" y="47862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>
                  <a:off x="4856040" y="48052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>
                  <a:off x="4856040" y="484488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>
                  <a:off x="4856040" y="486396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>
                  <a:off x="4856040" y="49039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>
                  <a:off x="4856040" y="492300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>
                  <a:off x="4856040" y="496260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>
                  <a:off x="4856040" y="4983120"/>
                  <a:ext cx="972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>
                  <a:off x="4856040" y="502128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>
                  <a:off x="4856040" y="504180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>
                  <a:off x="4856040" y="508176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>
                  <a:off x="4856040" y="5100480"/>
                  <a:ext cx="972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>
                  <a:off x="4856040" y="51404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>
                  <a:off x="4856040" y="5159520"/>
                  <a:ext cx="972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>
                  <a:off x="4856040" y="519912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>
                  <a:off x="4856040" y="521964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>
                  <a:off x="4856040" y="5257800"/>
                  <a:ext cx="972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>
                  <a:off x="4856040" y="5278320"/>
                  <a:ext cx="972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4856040" y="531828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486108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>
                  <a:off x="49006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>
                  <a:off x="4919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>
                  <a:off x="49593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>
                  <a:off x="497988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>
                  <a:off x="501804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>
                  <a:off x="503856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>
                  <a:off x="50785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>
                  <a:off x="509760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>
                  <a:off x="513720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>
                  <a:off x="5156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4" name=""/>
                <p:cNvSpPr/>
                <p:nvPr/>
              </p:nvSpPr>
              <p:spPr>
                <a:xfrm>
                  <a:off x="51958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5" name=""/>
                <p:cNvSpPr/>
                <p:nvPr/>
              </p:nvSpPr>
              <p:spPr>
                <a:xfrm>
                  <a:off x="5216400" y="5332320"/>
                  <a:ext cx="28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6" name=""/>
                <p:cNvSpPr/>
                <p:nvPr/>
              </p:nvSpPr>
              <p:spPr>
                <a:xfrm>
                  <a:off x="525456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7" name=""/>
                <p:cNvSpPr/>
                <p:nvPr/>
              </p:nvSpPr>
              <p:spPr>
                <a:xfrm>
                  <a:off x="52754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3150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334120" y="5332320"/>
                  <a:ext cx="298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0" name=""/>
                <p:cNvSpPr/>
                <p:nvPr/>
              </p:nvSpPr>
              <p:spPr>
                <a:xfrm>
                  <a:off x="537372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1" name=""/>
                <p:cNvSpPr/>
                <p:nvPr/>
              </p:nvSpPr>
              <p:spPr>
                <a:xfrm>
                  <a:off x="53928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2" name=""/>
                <p:cNvSpPr/>
                <p:nvPr/>
              </p:nvSpPr>
              <p:spPr>
                <a:xfrm>
                  <a:off x="54324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3" name=""/>
                <p:cNvSpPr/>
                <p:nvPr/>
              </p:nvSpPr>
              <p:spPr>
                <a:xfrm>
                  <a:off x="54514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4" name=""/>
                <p:cNvSpPr/>
                <p:nvPr/>
              </p:nvSpPr>
              <p:spPr>
                <a:xfrm>
                  <a:off x="549108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5" name=""/>
                <p:cNvSpPr/>
                <p:nvPr/>
              </p:nvSpPr>
              <p:spPr>
                <a:xfrm>
                  <a:off x="55119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6" name=""/>
                <p:cNvSpPr/>
                <p:nvPr/>
              </p:nvSpPr>
              <p:spPr>
                <a:xfrm>
                  <a:off x="5551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7" name=""/>
                <p:cNvSpPr/>
                <p:nvPr/>
              </p:nvSpPr>
              <p:spPr>
                <a:xfrm>
                  <a:off x="55706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8" name=""/>
                <p:cNvSpPr/>
                <p:nvPr/>
              </p:nvSpPr>
              <p:spPr>
                <a:xfrm>
                  <a:off x="5610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9" name=""/>
                <p:cNvSpPr/>
                <p:nvPr/>
              </p:nvSpPr>
              <p:spPr>
                <a:xfrm>
                  <a:off x="56293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0" name=""/>
                <p:cNvSpPr/>
                <p:nvPr/>
              </p:nvSpPr>
              <p:spPr>
                <a:xfrm>
                  <a:off x="56689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1" name=""/>
                <p:cNvSpPr/>
                <p:nvPr/>
              </p:nvSpPr>
              <p:spPr>
                <a:xfrm>
                  <a:off x="56880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2" name=""/>
                <p:cNvSpPr/>
                <p:nvPr/>
              </p:nvSpPr>
              <p:spPr>
                <a:xfrm>
                  <a:off x="57276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3" name=""/>
                <p:cNvSpPr/>
                <p:nvPr/>
              </p:nvSpPr>
              <p:spPr>
                <a:xfrm>
                  <a:off x="57484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4" name=""/>
                <p:cNvSpPr/>
                <p:nvPr/>
              </p:nvSpPr>
              <p:spPr>
                <a:xfrm>
                  <a:off x="578808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5" name=""/>
                <p:cNvSpPr/>
                <p:nvPr/>
              </p:nvSpPr>
              <p:spPr>
                <a:xfrm>
                  <a:off x="58071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6" name=""/>
                <p:cNvSpPr/>
                <p:nvPr/>
              </p:nvSpPr>
              <p:spPr>
                <a:xfrm>
                  <a:off x="58467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7" name=""/>
                <p:cNvSpPr/>
                <p:nvPr/>
              </p:nvSpPr>
              <p:spPr>
                <a:xfrm>
                  <a:off x="58658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8" name=""/>
                <p:cNvSpPr/>
                <p:nvPr/>
              </p:nvSpPr>
              <p:spPr>
                <a:xfrm>
                  <a:off x="59054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9" name=""/>
                <p:cNvSpPr/>
                <p:nvPr/>
              </p:nvSpPr>
              <p:spPr>
                <a:xfrm>
                  <a:off x="59245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0" name=""/>
                <p:cNvSpPr/>
                <p:nvPr/>
              </p:nvSpPr>
              <p:spPr>
                <a:xfrm>
                  <a:off x="59641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1" name=""/>
                <p:cNvSpPr/>
                <p:nvPr/>
              </p:nvSpPr>
              <p:spPr>
                <a:xfrm>
                  <a:off x="59850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2" name=""/>
                <p:cNvSpPr/>
                <p:nvPr/>
              </p:nvSpPr>
              <p:spPr>
                <a:xfrm>
                  <a:off x="602280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3" name=""/>
                <p:cNvSpPr/>
                <p:nvPr/>
              </p:nvSpPr>
              <p:spPr>
                <a:xfrm>
                  <a:off x="604368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4" name=""/>
                <p:cNvSpPr/>
                <p:nvPr/>
              </p:nvSpPr>
              <p:spPr>
                <a:xfrm>
                  <a:off x="60832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5" name=""/>
                <p:cNvSpPr/>
                <p:nvPr/>
              </p:nvSpPr>
              <p:spPr>
                <a:xfrm>
                  <a:off x="61023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6" name=""/>
                <p:cNvSpPr/>
                <p:nvPr/>
              </p:nvSpPr>
              <p:spPr>
                <a:xfrm>
                  <a:off x="61419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7" name=""/>
                <p:cNvSpPr/>
                <p:nvPr/>
              </p:nvSpPr>
              <p:spPr>
                <a:xfrm>
                  <a:off x="61610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8" name=""/>
                <p:cNvSpPr/>
                <p:nvPr/>
              </p:nvSpPr>
              <p:spPr>
                <a:xfrm>
                  <a:off x="62006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9" name=""/>
                <p:cNvSpPr/>
                <p:nvPr/>
              </p:nvSpPr>
              <p:spPr>
                <a:xfrm>
                  <a:off x="62215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0" name=""/>
                <p:cNvSpPr/>
                <p:nvPr/>
              </p:nvSpPr>
              <p:spPr>
                <a:xfrm>
                  <a:off x="625968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628020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2" name=""/>
                <p:cNvSpPr/>
                <p:nvPr/>
              </p:nvSpPr>
              <p:spPr>
                <a:xfrm>
                  <a:off x="63198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3" name=""/>
                <p:cNvSpPr/>
                <p:nvPr/>
              </p:nvSpPr>
              <p:spPr>
                <a:xfrm>
                  <a:off x="63388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4" name=""/>
                <p:cNvSpPr/>
                <p:nvPr/>
              </p:nvSpPr>
              <p:spPr>
                <a:xfrm>
                  <a:off x="63784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5" name=""/>
                <p:cNvSpPr/>
                <p:nvPr/>
              </p:nvSpPr>
              <p:spPr>
                <a:xfrm>
                  <a:off x="63975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6" name=""/>
                <p:cNvSpPr/>
                <p:nvPr/>
              </p:nvSpPr>
              <p:spPr>
                <a:xfrm>
                  <a:off x="643716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7" name=""/>
                <p:cNvSpPr/>
                <p:nvPr/>
              </p:nvSpPr>
              <p:spPr>
                <a:xfrm>
                  <a:off x="64580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8" name=""/>
                <p:cNvSpPr/>
                <p:nvPr/>
              </p:nvSpPr>
              <p:spPr>
                <a:xfrm>
                  <a:off x="6496200" y="5332320"/>
                  <a:ext cx="1080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9" name=""/>
                <p:cNvSpPr/>
                <p:nvPr/>
              </p:nvSpPr>
              <p:spPr>
                <a:xfrm>
                  <a:off x="651672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0" name=""/>
                <p:cNvSpPr/>
                <p:nvPr/>
              </p:nvSpPr>
              <p:spPr>
                <a:xfrm>
                  <a:off x="65563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5754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61500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3" name=""/>
                <p:cNvSpPr/>
                <p:nvPr/>
              </p:nvSpPr>
              <p:spPr>
                <a:xfrm>
                  <a:off x="66340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4" name=""/>
                <p:cNvSpPr/>
                <p:nvPr/>
              </p:nvSpPr>
              <p:spPr>
                <a:xfrm>
                  <a:off x="667368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5" name=""/>
                <p:cNvSpPr/>
                <p:nvPr/>
              </p:nvSpPr>
              <p:spPr>
                <a:xfrm>
                  <a:off x="669276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6" name=""/>
                <p:cNvSpPr/>
                <p:nvPr/>
              </p:nvSpPr>
              <p:spPr>
                <a:xfrm>
                  <a:off x="67327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7" name=""/>
                <p:cNvSpPr/>
                <p:nvPr/>
              </p:nvSpPr>
              <p:spPr>
                <a:xfrm>
                  <a:off x="675324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8" name=""/>
                <p:cNvSpPr/>
                <p:nvPr/>
              </p:nvSpPr>
              <p:spPr>
                <a:xfrm>
                  <a:off x="67928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9" name=""/>
                <p:cNvSpPr/>
                <p:nvPr/>
              </p:nvSpPr>
              <p:spPr>
                <a:xfrm>
                  <a:off x="681192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0" name=""/>
                <p:cNvSpPr/>
                <p:nvPr/>
              </p:nvSpPr>
              <p:spPr>
                <a:xfrm>
                  <a:off x="685152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>
                  <a:off x="687060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>
                  <a:off x="691056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>
                  <a:off x="692928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>
                  <a:off x="6969240" y="533232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>
                  <a:off x="6989760" y="5332320"/>
                  <a:ext cx="284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>
                  <a:off x="7027920" y="53323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048440" y="5332320"/>
                  <a:ext cx="302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>
                  <a:off x="7088040" y="533232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>
                  <a:off x="7107120" y="532764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9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9" y="0"/>
                      </a:lnTo>
                      <a:lnTo>
                        <a:pt x="9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>
                  <a:off x="7121520" y="5307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>
                  <a:off x="7121520" y="526896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>
                  <a:off x="7121520" y="5248440"/>
                  <a:ext cx="111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>
                  <a:off x="7121520" y="520848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>
                  <a:off x="7121520" y="518940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>
                  <a:off x="7121520" y="5149800"/>
                  <a:ext cx="11160" cy="3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6" name=""/>
                <p:cNvSpPr/>
                <p:nvPr/>
              </p:nvSpPr>
              <p:spPr>
                <a:xfrm>
                  <a:off x="7121520" y="5130720"/>
                  <a:ext cx="111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7" name=""/>
                <p:cNvSpPr/>
                <p:nvPr/>
              </p:nvSpPr>
              <p:spPr>
                <a:xfrm>
                  <a:off x="7121520" y="509112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8" name=""/>
                <p:cNvSpPr/>
                <p:nvPr/>
              </p:nvSpPr>
              <p:spPr>
                <a:xfrm>
                  <a:off x="7121520" y="507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9" name=""/>
                <p:cNvSpPr/>
                <p:nvPr/>
              </p:nvSpPr>
              <p:spPr>
                <a:xfrm>
                  <a:off x="7121520" y="5032440"/>
                  <a:ext cx="1116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0" name=""/>
              <p:cNvSpPr/>
              <p:nvPr/>
            </p:nvSpPr>
            <p:spPr>
              <a:xfrm>
                <a:off x="7121520" y="50115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121520" y="49719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121520" y="49528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121520" y="49132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121520" y="48942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121520" y="48546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121520" y="4835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121520" y="47959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121520" y="4775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121520" y="4735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121520" y="4716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121520" y="4676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121520" y="4657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121520" y="46180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121520" y="45990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121520" y="45594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121520" y="453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121520" y="45007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121520" y="44798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121520" y="4440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121520" y="4421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121520" y="43815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121520" y="436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121520" y="4322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121520" y="43020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121520" y="426420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121520" y="4243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121520" y="4203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121520" y="41846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121520" y="4145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121520" y="412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121520" y="40863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121520" y="4067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121520" y="40273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121520" y="4006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121520" y="3967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21520" y="39481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121520" y="3908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21520" y="38894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121520" y="384984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121520" y="38307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121520" y="37908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121520" y="37702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121520" y="373212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121520" y="37116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121520" y="367200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121520" y="36529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121520" y="361332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121520" y="3594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121520" y="35542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121520" y="3533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121520" y="349560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121520" y="34750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121520" y="343548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121520" y="3416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121520" y="33764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121520" y="33577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121520" y="33177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121520" y="32986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121520" y="3259080"/>
                <a:ext cx="11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121520" y="3238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121520" y="3198960"/>
                <a:ext cx="11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121520" y="31798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121520" y="31399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121520" y="3121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121520" y="30812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121520" y="3062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121520" y="30225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121520" y="300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121520" y="296388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121520" y="29433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21520" y="29034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121520" y="2884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121520" y="28447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121520" y="28256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121520" y="278604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121520" y="2765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121520" y="27273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121520" y="27068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121520" y="26668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121520" y="26478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121520" y="26082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121520" y="25891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121520" y="254952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121520" y="253044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121520" y="24908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121520" y="24703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121520" y="243216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121520" y="24112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121520" y="23716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121520" y="235260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121520" y="231300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121520" y="22939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121520" y="225432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121520" y="223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121520" y="2195640"/>
                <a:ext cx="1116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121520" y="21747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121520" y="213516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121520" y="211608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121520" y="2076480"/>
                <a:ext cx="11160" cy="3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121520" y="20574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116840" y="2022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3" y="16"/>
                    </a:moveTo>
                    <a:lnTo>
                      <a:pt x="10" y="1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0977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05816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0390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9991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97860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94044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9199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880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8612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82164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8025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7626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7438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70392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6834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64380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6247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58512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5660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5260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5070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46740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44688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407280" y="2022480"/>
                <a:ext cx="29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388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3482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3295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2895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2704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230880" y="2022480"/>
                <a:ext cx="28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21036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1722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15168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1117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30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530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339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59943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59738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593568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591516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58752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8561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58165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57974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57578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57373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569916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567864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56386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6196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55800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55609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52132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55022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4626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544212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54021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53830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53434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532440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28480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526572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2261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20524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516744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14656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510696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508788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504828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5029200" y="20224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498960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4968720" y="20224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4930920" y="2022480"/>
                <a:ext cx="28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4910040" y="20224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4870440" y="2022480"/>
                <a:ext cx="30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8" name=""/>
            <p:cNvSpPr/>
            <p:nvPr/>
          </p:nvSpPr>
          <p:spPr>
            <a:xfrm>
              <a:off x="5106600" y="2062080"/>
              <a:ext cx="174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modyfikowany 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1201680" y="2505240"/>
              <a:ext cx="13287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1497600" y="254484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693800" y="279072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3186000" y="2505240"/>
              <a:ext cx="133056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3655440" y="2790720"/>
              <a:ext cx="37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5186520" y="2505240"/>
              <a:ext cx="1330200" cy="75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638320" y="2790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6" name=""/>
            <p:cNvGrpSpPr/>
            <p:nvPr/>
          </p:nvGrpSpPr>
          <p:grpSpPr>
            <a:xfrm>
              <a:off x="2521080" y="2859120"/>
              <a:ext cx="650880" cy="104760"/>
              <a:chOff x="2521080" y="2859120"/>
              <a:chExt cx="650880" cy="104760"/>
            </a:xfrm>
          </p:grpSpPr>
          <p:sp>
            <p:nvSpPr>
              <p:cNvPr id="8347" name=""/>
              <p:cNvSpPr/>
              <p:nvPr/>
            </p:nvSpPr>
            <p:spPr>
              <a:xfrm>
                <a:off x="2521080" y="2903400"/>
                <a:ext cx="6508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306864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9" name=""/>
            <p:cNvGrpSpPr/>
            <p:nvPr/>
          </p:nvGrpSpPr>
          <p:grpSpPr>
            <a:xfrm>
              <a:off x="4540320" y="2840040"/>
              <a:ext cx="646200" cy="103320"/>
              <a:chOff x="4540320" y="2840040"/>
              <a:chExt cx="646200" cy="103320"/>
            </a:xfrm>
          </p:grpSpPr>
          <p:sp>
            <p:nvSpPr>
              <p:cNvPr id="8350" name=""/>
              <p:cNvSpPr/>
              <p:nvPr/>
            </p:nvSpPr>
            <p:spPr>
              <a:xfrm>
                <a:off x="4540320" y="2889360"/>
                <a:ext cx="646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508320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2" name=""/>
            <p:cNvGrpSpPr/>
            <p:nvPr/>
          </p:nvGrpSpPr>
          <p:grpSpPr>
            <a:xfrm>
              <a:off x="536400" y="2859120"/>
              <a:ext cx="649440" cy="104760"/>
              <a:chOff x="536400" y="2859120"/>
              <a:chExt cx="649440" cy="104760"/>
            </a:xfrm>
          </p:grpSpPr>
          <p:sp>
            <p:nvSpPr>
              <p:cNvPr id="8353" name=""/>
              <p:cNvSpPr/>
              <p:nvPr/>
            </p:nvSpPr>
            <p:spPr>
              <a:xfrm>
                <a:off x="536400" y="2903400"/>
                <a:ext cx="6494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1082520" y="285912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5" name=""/>
            <p:cNvGrpSpPr/>
            <p:nvPr/>
          </p:nvGrpSpPr>
          <p:grpSpPr>
            <a:xfrm>
              <a:off x="1797120" y="3273480"/>
              <a:ext cx="102960" cy="1187280"/>
              <a:chOff x="1797120" y="3273480"/>
              <a:chExt cx="102960" cy="1187280"/>
            </a:xfrm>
          </p:grpSpPr>
          <p:sp>
            <p:nvSpPr>
              <p:cNvPr id="8356" name=""/>
              <p:cNvSpPr/>
              <p:nvPr/>
            </p:nvSpPr>
            <p:spPr>
              <a:xfrm flipV="1">
                <a:off x="1846440" y="3273480"/>
                <a:ext cx="144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1797120" y="327348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8" name=""/>
            <p:cNvSpPr/>
            <p:nvPr/>
          </p:nvSpPr>
          <p:spPr>
            <a:xfrm>
              <a:off x="5915160" y="4829040"/>
              <a:ext cx="468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1860480" y="4460760"/>
              <a:ext cx="33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6786720" y="2903400"/>
              <a:ext cx="144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1" name=""/>
            <p:cNvGrpSpPr/>
            <p:nvPr/>
          </p:nvGrpSpPr>
          <p:grpSpPr>
            <a:xfrm>
              <a:off x="6531120" y="2840040"/>
              <a:ext cx="1512720" cy="103320"/>
              <a:chOff x="6531120" y="2840040"/>
              <a:chExt cx="1512720" cy="103320"/>
            </a:xfrm>
          </p:grpSpPr>
          <p:sp>
            <p:nvSpPr>
              <p:cNvPr id="8362" name=""/>
              <p:cNvSpPr/>
              <p:nvPr/>
            </p:nvSpPr>
            <p:spPr>
              <a:xfrm>
                <a:off x="6531120" y="2889360"/>
                <a:ext cx="1512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7940520" y="284004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4" name=""/>
            <p:cNvSpPr/>
            <p:nvPr/>
          </p:nvSpPr>
          <p:spPr>
            <a:xfrm>
              <a:off x="6757920" y="2870280"/>
              <a:ext cx="68400" cy="58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01480" y="2874960"/>
              <a:ext cx="637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96080" y="5529240"/>
              <a:ext cx="5868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318960" y="2505240"/>
              <a:ext cx="3445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07880" y="2540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65480" y="2638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3314880" y="4568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33732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3441240" y="45687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3639600" y="4667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3708360" y="45687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3783960" y="4549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3876840" y="45687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3988080" y="46674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3574800" y="48150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3289320" y="50706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334764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3417840" y="50706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3667680" y="51688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3782880" y="507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3858480" y="50515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3949560" y="50706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061880" y="5168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200560" y="4060800"/>
              <a:ext cx="1330560" cy="758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482440" y="4346640"/>
              <a:ext cx="74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ieszac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9" name=""/>
            <p:cNvGrpSpPr/>
            <p:nvPr/>
          </p:nvGrpSpPr>
          <p:grpSpPr>
            <a:xfrm>
              <a:off x="6540480" y="4406760"/>
              <a:ext cx="262080" cy="103320"/>
              <a:chOff x="6540480" y="4406760"/>
              <a:chExt cx="262080" cy="103320"/>
            </a:xfrm>
          </p:grpSpPr>
          <p:sp>
            <p:nvSpPr>
              <p:cNvPr id="8390" name=""/>
              <p:cNvSpPr/>
              <p:nvPr/>
            </p:nvSpPr>
            <p:spPr>
              <a:xfrm>
                <a:off x="6540480" y="4460760"/>
                <a:ext cx="262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540480" y="4406760"/>
                <a:ext cx="103320" cy="10332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5" y="0"/>
                    </a:moveTo>
                    <a:lnTo>
                      <a:pt x="0" y="34"/>
                    </a:lnTo>
                    <a:lnTo>
                      <a:pt x="65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2" name=""/>
            <p:cNvSpPr/>
            <p:nvPr/>
          </p:nvSpPr>
          <p:spPr>
            <a:xfrm>
              <a:off x="1998720" y="41101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057040" y="421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126880" y="411012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323080" y="42102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7373880" y="30765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7432200" y="3174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7500600" y="307656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769680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7812000" y="3076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7887600" y="30574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7978680" y="307656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8092080" y="31748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7654680" y="33228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l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7343640" y="3578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7402320" y="367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7472520" y="3578400"/>
              <a:ext cx="24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772200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7835760" y="3578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7913160" y="3559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8004240" y="3578400"/>
              <a:ext cx="10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8115840" y="367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3" name=""/>
          <p:cNvSpPr/>
          <p:nvPr/>
        </p:nvSpPr>
        <p:spPr>
          <a:xfrm>
            <a:off x="211248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4" name=""/>
          <p:cNvSpPr/>
          <p:nvPr/>
        </p:nvSpPr>
        <p:spPr>
          <a:xfrm>
            <a:off x="1613880" y="108900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ator częstotliwości z układem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5" name=""/>
          <p:cNvGrpSpPr/>
          <p:nvPr/>
        </p:nvGrpSpPr>
        <p:grpSpPr>
          <a:xfrm>
            <a:off x="777960" y="2490840"/>
            <a:ext cx="6643440" cy="1832040"/>
            <a:chOff x="777960" y="2490840"/>
            <a:chExt cx="6643440" cy="1832040"/>
          </a:xfrm>
        </p:grpSpPr>
        <p:sp>
          <p:nvSpPr>
            <p:cNvPr id="8416" name=""/>
            <p:cNvSpPr/>
            <p:nvPr/>
          </p:nvSpPr>
          <p:spPr>
            <a:xfrm>
              <a:off x="1604880" y="3165480"/>
              <a:ext cx="137160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8720" y="320508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2112840" y="34592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365112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133160" y="3459240"/>
              <a:ext cx="395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5711760" y="3165480"/>
              <a:ext cx="1370160" cy="779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6176880" y="3459240"/>
              <a:ext cx="435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3" name=""/>
            <p:cNvGrpSpPr/>
            <p:nvPr/>
          </p:nvGrpSpPr>
          <p:grpSpPr>
            <a:xfrm>
              <a:off x="2965320" y="3529080"/>
              <a:ext cx="669960" cy="108000"/>
              <a:chOff x="2965320" y="3529080"/>
              <a:chExt cx="669960" cy="108000"/>
            </a:xfrm>
          </p:grpSpPr>
          <p:sp>
            <p:nvSpPr>
              <p:cNvPr id="8424" name=""/>
              <p:cNvSpPr/>
              <p:nvPr/>
            </p:nvSpPr>
            <p:spPr>
              <a:xfrm>
                <a:off x="296532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3529080" y="3529080"/>
                <a:ext cx="10620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6" name=""/>
            <p:cNvGrpSpPr/>
            <p:nvPr/>
          </p:nvGrpSpPr>
          <p:grpSpPr>
            <a:xfrm>
              <a:off x="5046840" y="3510000"/>
              <a:ext cx="664920" cy="106200"/>
              <a:chOff x="5046840" y="3510000"/>
              <a:chExt cx="664920" cy="106200"/>
            </a:xfrm>
          </p:grpSpPr>
          <p:sp>
            <p:nvSpPr>
              <p:cNvPr id="8427" name=""/>
              <p:cNvSpPr/>
              <p:nvPr/>
            </p:nvSpPr>
            <p:spPr>
              <a:xfrm>
                <a:off x="5046840" y="3560760"/>
                <a:ext cx="66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5605560" y="351000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9" name=""/>
            <p:cNvGrpSpPr/>
            <p:nvPr/>
          </p:nvGrpSpPr>
          <p:grpSpPr>
            <a:xfrm>
              <a:off x="920880" y="3529080"/>
              <a:ext cx="669960" cy="108000"/>
              <a:chOff x="920880" y="3529080"/>
              <a:chExt cx="669960" cy="108000"/>
            </a:xfrm>
          </p:grpSpPr>
          <p:sp>
            <p:nvSpPr>
              <p:cNvPr id="8430" name=""/>
              <p:cNvSpPr/>
              <p:nvPr/>
            </p:nvSpPr>
            <p:spPr>
              <a:xfrm>
                <a:off x="920880" y="3575160"/>
                <a:ext cx="6699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1484280" y="3529080"/>
                <a:ext cx="10656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68"/>
                    </a:moveTo>
                    <a:lnTo>
                      <a:pt x="67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2" name=""/>
            <p:cNvGrpSpPr/>
            <p:nvPr/>
          </p:nvGrpSpPr>
          <p:grpSpPr>
            <a:xfrm>
              <a:off x="2219400" y="3956040"/>
              <a:ext cx="106200" cy="365040"/>
              <a:chOff x="2219400" y="3956040"/>
              <a:chExt cx="106200" cy="365040"/>
            </a:xfrm>
          </p:grpSpPr>
          <p:sp>
            <p:nvSpPr>
              <p:cNvPr id="8433" name=""/>
              <p:cNvSpPr/>
              <p:nvPr/>
            </p:nvSpPr>
            <p:spPr>
              <a:xfrm flipV="1">
                <a:off x="2270160" y="3956040"/>
                <a:ext cx="144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2219400" y="395604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5" name=""/>
            <p:cNvSpPr/>
            <p:nvPr/>
          </p:nvSpPr>
          <p:spPr>
            <a:xfrm flipV="1">
              <a:off x="5345280" y="283068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5361120" y="2851200"/>
              <a:ext cx="2030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286000" y="4321080"/>
              <a:ext cx="508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flipV="1">
              <a:off x="7361280" y="3575160"/>
              <a:ext cx="144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7091280" y="359100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5315040" y="3529080"/>
              <a:ext cx="712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884160" y="3544920"/>
              <a:ext cx="666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7354800" y="281448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777960" y="32004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838800" y="3301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884160" y="320040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837120" y="24908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6943320" y="2592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015320" y="2490840"/>
              <a:ext cx="203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9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0" name=""/>
          <p:cNvSpPr/>
          <p:nvPr/>
        </p:nvSpPr>
        <p:spPr>
          <a:xfrm>
            <a:off x="2428200" y="18651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tor częstotliwoś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1" name=""/>
          <p:cNvGrpSpPr/>
          <p:nvPr/>
        </p:nvGrpSpPr>
        <p:grpSpPr>
          <a:xfrm>
            <a:off x="1670760" y="1590840"/>
            <a:ext cx="5770800" cy="4736880"/>
            <a:chOff x="1670760" y="1590840"/>
            <a:chExt cx="5770800" cy="4736880"/>
          </a:xfrm>
        </p:grpSpPr>
        <p:sp>
          <p:nvSpPr>
            <p:cNvPr id="8452" name=""/>
            <p:cNvSpPr/>
            <p:nvPr/>
          </p:nvSpPr>
          <p:spPr>
            <a:xfrm>
              <a:off x="630864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219720" y="440388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flipH="1" flipV="1">
              <a:off x="6116400" y="4522320"/>
              <a:ext cx="9036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6140520" y="4079880"/>
              <a:ext cx="263520" cy="298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6215040" y="4113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 flipH="1">
              <a:off x="6300360" y="4525920"/>
              <a:ext cx="82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2943360" y="5362560"/>
              <a:ext cx="139680" cy="3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3008160" y="5219640"/>
              <a:ext cx="5040" cy="15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3008160" y="5722920"/>
              <a:ext cx="5040" cy="18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3193200" y="54738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476600" y="5904000"/>
              <a:ext cx="311400" cy="287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476600" y="5751360"/>
              <a:ext cx="311400" cy="2876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4" name=""/>
            <p:cNvGrpSpPr/>
            <p:nvPr/>
          </p:nvGrpSpPr>
          <p:grpSpPr>
            <a:xfrm>
              <a:off x="4510080" y="5899320"/>
              <a:ext cx="122400" cy="58680"/>
              <a:chOff x="4510080" y="5899320"/>
              <a:chExt cx="122400" cy="58680"/>
            </a:xfrm>
          </p:grpSpPr>
          <p:sp>
            <p:nvSpPr>
              <p:cNvPr id="8465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  <a:lnTo>
                      <a:pt x="77" y="37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510080" y="58993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0"/>
                    </a:moveTo>
                    <a:lnTo>
                      <a:pt x="46" y="3"/>
                    </a:lnTo>
                    <a:lnTo>
                      <a:pt x="23" y="11"/>
                    </a:lnTo>
                    <a:lnTo>
                      <a:pt x="13" y="16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7" name=""/>
            <p:cNvGrpSpPr/>
            <p:nvPr/>
          </p:nvGrpSpPr>
          <p:grpSpPr>
            <a:xfrm>
              <a:off x="4591080" y="6178680"/>
              <a:ext cx="85680" cy="134640"/>
              <a:chOff x="4591080" y="6178680"/>
              <a:chExt cx="85680" cy="134640"/>
            </a:xfrm>
          </p:grpSpPr>
          <p:sp>
            <p:nvSpPr>
              <p:cNvPr id="8468" name=""/>
              <p:cNvSpPr/>
              <p:nvPr/>
            </p:nvSpPr>
            <p:spPr>
              <a:xfrm flipH="1" flipV="1">
                <a:off x="4632480" y="6178680"/>
                <a:ext cx="7920" cy="134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4591080" y="622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"/>
                    </a:moveTo>
                    <a:lnTo>
                      <a:pt x="31" y="54"/>
                    </a:lnTo>
                    <a:lnTo>
                      <a:pt x="54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0" name=""/>
            <p:cNvSpPr/>
            <p:nvPr/>
          </p:nvSpPr>
          <p:spPr>
            <a:xfrm flipV="1">
              <a:off x="4632480" y="5572080"/>
              <a:ext cx="1440" cy="163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1" name=""/>
            <p:cNvGrpSpPr/>
            <p:nvPr/>
          </p:nvGrpSpPr>
          <p:grpSpPr>
            <a:xfrm>
              <a:off x="4632480" y="5899320"/>
              <a:ext cx="123840" cy="58680"/>
              <a:chOff x="4632480" y="5899320"/>
              <a:chExt cx="123840" cy="58680"/>
            </a:xfrm>
          </p:grpSpPr>
          <p:sp>
            <p:nvSpPr>
              <p:cNvPr id="8472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4632480" y="5899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28" y="3"/>
                    </a:lnTo>
                    <a:lnTo>
                      <a:pt x="54" y="11"/>
                    </a:lnTo>
                    <a:lnTo>
                      <a:pt x="65" y="16"/>
                    </a:lnTo>
                    <a:lnTo>
                      <a:pt x="72" y="21"/>
                    </a:lnTo>
                    <a:lnTo>
                      <a:pt x="75" y="29"/>
                    </a:lnTo>
                    <a:lnTo>
                      <a:pt x="78" y="3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4" name=""/>
            <p:cNvSpPr/>
            <p:nvPr/>
          </p:nvSpPr>
          <p:spPr>
            <a:xfrm flipV="1">
              <a:off x="5772240" y="5219280"/>
              <a:ext cx="1440" cy="290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3922560" y="346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2143080" y="298944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2057400" y="298944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 flipH="1">
              <a:off x="2139480" y="311148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 flipH="1">
              <a:off x="1810800" y="3108240"/>
              <a:ext cx="23364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1925280" y="2709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2049120" y="2916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 flipV="1">
              <a:off x="3710160" y="450180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flipV="1">
              <a:off x="3619440" y="4501800"/>
              <a:ext cx="180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flipH="1">
              <a:off x="3701520" y="462456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flipH="1">
              <a:off x="3373560" y="4624560"/>
              <a:ext cx="233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84200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932360" y="4494240"/>
              <a:ext cx="1440" cy="245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611600" y="4616280"/>
              <a:ext cx="2383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943520" y="4608360"/>
              <a:ext cx="3366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836960" y="4202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5927760" y="2136600"/>
              <a:ext cx="139680" cy="36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5997600" y="1992240"/>
              <a:ext cx="1440" cy="157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5997600" y="2494080"/>
              <a:ext cx="144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111720" y="2209680"/>
              <a:ext cx="300240" cy="266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139080" y="2247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6222960" y="2452680"/>
              <a:ext cx="7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5826240" y="1849320"/>
              <a:ext cx="36828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flipH="1">
              <a:off x="6178320" y="1914480"/>
              <a:ext cx="15084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flipH="1">
              <a:off x="3779640" y="1914480"/>
              <a:ext cx="204948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5882040" y="1590840"/>
              <a:ext cx="25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06880" y="5497560"/>
              <a:ext cx="36972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 flipH="1">
              <a:off x="4460400" y="5567400"/>
              <a:ext cx="150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 flipH="1">
              <a:off x="3930120" y="5567400"/>
              <a:ext cx="181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37120" y="5153040"/>
              <a:ext cx="261720" cy="299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8068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06880" y="4543560"/>
              <a:ext cx="369720" cy="139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 flipH="1">
              <a:off x="4460400" y="4608360"/>
              <a:ext cx="15084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 flipH="1">
              <a:off x="3930120" y="4608360"/>
              <a:ext cx="18108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81040" y="42307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287240" y="431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764240" y="5497560"/>
              <a:ext cx="365040" cy="14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 flipH="1">
              <a:off x="5111640" y="5567400"/>
              <a:ext cx="155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 flipH="1">
              <a:off x="4587840" y="5567400"/>
              <a:ext cx="179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833360" y="51912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5214960" y="5006880"/>
              <a:ext cx="41436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5497560" y="5095800"/>
              <a:ext cx="144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 flipH="1" flipV="1">
              <a:off x="527976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8" name=""/>
            <p:cNvGrpSpPr/>
            <p:nvPr/>
          </p:nvGrpSpPr>
          <p:grpSpPr>
            <a:xfrm>
              <a:off x="5354640" y="5243400"/>
              <a:ext cx="130320" cy="87480"/>
              <a:chOff x="5354640" y="5243400"/>
              <a:chExt cx="130320" cy="87480"/>
            </a:xfrm>
          </p:grpSpPr>
          <p:sp>
            <p:nvSpPr>
              <p:cNvPr id="8519" name=""/>
              <p:cNvSpPr/>
              <p:nvPr/>
            </p:nvSpPr>
            <p:spPr>
              <a:xfrm flipH="1">
                <a:off x="5354640" y="5264280"/>
                <a:ext cx="13032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5354640" y="52434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36" y="0"/>
                    </a:moveTo>
                    <a:lnTo>
                      <a:pt x="0" y="55"/>
                    </a:lnTo>
                    <a:lnTo>
                      <a:pt x="64" y="5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1" name=""/>
            <p:cNvSpPr/>
            <p:nvPr/>
          </p:nvSpPr>
          <p:spPr>
            <a:xfrm flipH="1">
              <a:off x="528012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5497560" y="5219640"/>
              <a:ext cx="127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5280120" y="5367240"/>
              <a:ext cx="1440" cy="204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 flipV="1">
              <a:off x="5276880" y="3111120"/>
              <a:ext cx="3240" cy="194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 flipH="1">
              <a:off x="5619240" y="5219640"/>
              <a:ext cx="1479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3598920" y="5006880"/>
              <a:ext cx="419040" cy="417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3726000" y="5095800"/>
              <a:ext cx="4680" cy="23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 flipV="1">
              <a:off x="3743280" y="5059080"/>
              <a:ext cx="20484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9" name=""/>
            <p:cNvGrpSpPr/>
            <p:nvPr/>
          </p:nvGrpSpPr>
          <p:grpSpPr>
            <a:xfrm>
              <a:off x="3743280" y="5248440"/>
              <a:ext cx="127080" cy="85680"/>
              <a:chOff x="3743280" y="5248440"/>
              <a:chExt cx="127080" cy="85680"/>
            </a:xfrm>
          </p:grpSpPr>
          <p:sp>
            <p:nvSpPr>
              <p:cNvPr id="8530" name=""/>
              <p:cNvSpPr/>
              <p:nvPr/>
            </p:nvSpPr>
            <p:spPr>
              <a:xfrm>
                <a:off x="3743280" y="5264280"/>
                <a:ext cx="127080" cy="66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3767040" y="5248440"/>
                <a:ext cx="103320" cy="85680"/>
              </a:xfrm>
              <a:custGeom>
                <a:avLst/>
                <a:gdLst/>
                <a:ahLst/>
                <a:rect l="l" t="t" r="r" b="b"/>
                <a:pathLst>
                  <a:path w="65" h="54">
                    <a:moveTo>
                      <a:pt x="0" y="54"/>
                    </a:moveTo>
                    <a:lnTo>
                      <a:pt x="65" y="52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2" name=""/>
            <p:cNvSpPr/>
            <p:nvPr/>
          </p:nvSpPr>
          <p:spPr>
            <a:xfrm>
              <a:off x="3870360" y="5326200"/>
              <a:ext cx="77760" cy="41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 flipH="1">
              <a:off x="3598920" y="5219640"/>
              <a:ext cx="1317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3948120" y="5367240"/>
              <a:ext cx="1440" cy="217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 flipV="1">
              <a:off x="3948120" y="3497040"/>
              <a:ext cx="1440" cy="1554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2000160" y="5219640"/>
              <a:ext cx="16034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V="1">
              <a:off x="5616720" y="4489560"/>
              <a:ext cx="144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 flipV="1">
              <a:off x="5526000" y="4489560"/>
              <a:ext cx="4680" cy="241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 flipH="1">
              <a:off x="5611680" y="4608360"/>
              <a:ext cx="230400" cy="5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 flipH="1">
              <a:off x="5284440" y="4613400"/>
              <a:ext cx="228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5256360" y="4584600"/>
              <a:ext cx="52200" cy="525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3914640" y="4595760"/>
              <a:ext cx="57240" cy="540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608360" y="5546880"/>
              <a:ext cx="5724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4" name=""/>
            <p:cNvGrpSpPr/>
            <p:nvPr/>
          </p:nvGrpSpPr>
          <p:grpSpPr>
            <a:xfrm>
              <a:off x="3813120" y="3456000"/>
              <a:ext cx="1630440" cy="87480"/>
              <a:chOff x="3813120" y="3456000"/>
              <a:chExt cx="1630440" cy="87480"/>
            </a:xfrm>
          </p:grpSpPr>
          <p:sp>
            <p:nvSpPr>
              <p:cNvPr id="8545" name=""/>
              <p:cNvSpPr/>
              <p:nvPr/>
            </p:nvSpPr>
            <p:spPr>
              <a:xfrm>
                <a:off x="3813120" y="3497400"/>
                <a:ext cx="1630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5357880" y="3456000"/>
                <a:ext cx="85680" cy="874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7" name=""/>
            <p:cNvSpPr/>
            <p:nvPr/>
          </p:nvSpPr>
          <p:spPr>
            <a:xfrm>
              <a:off x="2741760" y="2984400"/>
              <a:ext cx="105408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2962440" y="3017880"/>
              <a:ext cx="62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3125880" y="3222720"/>
              <a:ext cx="29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az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0" name=""/>
            <p:cNvGrpSpPr/>
            <p:nvPr/>
          </p:nvGrpSpPr>
          <p:grpSpPr>
            <a:xfrm>
              <a:off x="3824280" y="3071880"/>
              <a:ext cx="1636560" cy="85680"/>
              <a:chOff x="3824280" y="3071880"/>
              <a:chExt cx="1636560" cy="85680"/>
            </a:xfrm>
          </p:grpSpPr>
          <p:sp>
            <p:nvSpPr>
              <p:cNvPr id="8551" name=""/>
              <p:cNvSpPr/>
              <p:nvPr/>
            </p:nvSpPr>
            <p:spPr>
              <a:xfrm>
                <a:off x="3824280" y="3111480"/>
                <a:ext cx="1636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5375160" y="30718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54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3" name=""/>
            <p:cNvSpPr/>
            <p:nvPr/>
          </p:nvSpPr>
          <p:spPr>
            <a:xfrm>
              <a:off x="3746520" y="1895400"/>
              <a:ext cx="57240" cy="478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5246640" y="3087720"/>
              <a:ext cx="58680" cy="493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 flipV="1">
              <a:off x="6124680" y="3592440"/>
              <a:ext cx="1440" cy="93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 flipV="1">
              <a:off x="6378480" y="3582720"/>
              <a:ext cx="4680" cy="942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7" name=""/>
            <p:cNvGrpSpPr/>
            <p:nvPr/>
          </p:nvGrpSpPr>
          <p:grpSpPr>
            <a:xfrm>
              <a:off x="6526080" y="3160800"/>
              <a:ext cx="623880" cy="87120"/>
              <a:chOff x="6526080" y="3160800"/>
              <a:chExt cx="623880" cy="87120"/>
            </a:xfrm>
          </p:grpSpPr>
          <p:sp>
            <p:nvSpPr>
              <p:cNvPr id="8558" name=""/>
              <p:cNvSpPr/>
              <p:nvPr/>
            </p:nvSpPr>
            <p:spPr>
              <a:xfrm>
                <a:off x="6526080" y="3201840"/>
                <a:ext cx="62388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064280" y="316080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0" y="55"/>
                    </a:moveTo>
                    <a:lnTo>
                      <a:pt x="54" y="2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0" name=""/>
            <p:cNvGrpSpPr/>
            <p:nvPr/>
          </p:nvGrpSpPr>
          <p:grpSpPr>
            <a:xfrm>
              <a:off x="2381400" y="3071880"/>
              <a:ext cx="349200" cy="85680"/>
              <a:chOff x="2381400" y="3071880"/>
              <a:chExt cx="349200" cy="85680"/>
            </a:xfrm>
          </p:grpSpPr>
          <p:sp>
            <p:nvSpPr>
              <p:cNvPr id="8561" name=""/>
              <p:cNvSpPr/>
              <p:nvPr/>
            </p:nvSpPr>
            <p:spPr>
              <a:xfrm>
                <a:off x="2381400" y="3111480"/>
                <a:ext cx="3492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2643120" y="3071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3" name=""/>
            <p:cNvGrpSpPr/>
            <p:nvPr/>
          </p:nvGrpSpPr>
          <p:grpSpPr>
            <a:xfrm>
              <a:off x="2381400" y="3444840"/>
              <a:ext cx="349200" cy="85680"/>
              <a:chOff x="2381400" y="3444840"/>
              <a:chExt cx="349200" cy="85680"/>
            </a:xfrm>
          </p:grpSpPr>
          <p:sp>
            <p:nvSpPr>
              <p:cNvPr id="8564" name=""/>
              <p:cNvSpPr/>
              <p:nvPr/>
            </p:nvSpPr>
            <p:spPr>
              <a:xfrm>
                <a:off x="2381400" y="3481560"/>
                <a:ext cx="34920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2643120" y="344484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54"/>
                    </a:moveTo>
                    <a:lnTo>
                      <a:pt x="55" y="25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6" name=""/>
            <p:cNvSpPr/>
            <p:nvPr/>
          </p:nvSpPr>
          <p:spPr>
            <a:xfrm>
              <a:off x="2266920" y="3701880"/>
              <a:ext cx="24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2266920" y="3789360"/>
              <a:ext cx="2412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2389320" y="3476520"/>
              <a:ext cx="1440" cy="23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2386080" y="3805200"/>
              <a:ext cx="3240" cy="228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1780920" y="365292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0n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 flipV="1">
              <a:off x="6002280" y="2652480"/>
              <a:ext cx="180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 flipV="1">
              <a:off x="4471920" y="1918800"/>
              <a:ext cx="1800" cy="77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 flipV="1">
              <a:off x="3782880" y="2369880"/>
              <a:ext cx="5040" cy="30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440240" y="1895400"/>
              <a:ext cx="57240" cy="478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2979720" y="5186520"/>
              <a:ext cx="5400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2308320" y="4033800"/>
              <a:ext cx="16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5862600" y="45259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390840" y="4538520"/>
              <a:ext cx="1800" cy="168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5689440" y="5518080"/>
              <a:ext cx="1652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2935440" y="5904000"/>
              <a:ext cx="168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6100920" y="3895560"/>
              <a:ext cx="522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6354720" y="389556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1779480" y="308772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1979640" y="5186520"/>
              <a:ext cx="57240" cy="489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2529000" y="308772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5246640" y="389556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919680" y="3898800"/>
              <a:ext cx="568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5964120" y="2665440"/>
              <a:ext cx="5868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6645240" y="3178080"/>
              <a:ext cx="5400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2529000" y="3456000"/>
              <a:ext cx="56880" cy="540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75912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4443480" y="2665440"/>
              <a:ext cx="5724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701880" y="2382840"/>
              <a:ext cx="155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4751280" y="6326280"/>
              <a:ext cx="155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1901880" y="4952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2025360" y="5035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877280" y="58341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,5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963680" y="489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5058720" y="49816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4077720" y="4911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4172760" y="4994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252960" y="1854360"/>
              <a:ext cx="40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+18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6346800" y="1836720"/>
              <a:ext cx="3240" cy="16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6579360" y="2095560"/>
              <a:ext cx="82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egulacja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82880" y="2178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4448160" y="2395440"/>
              <a:ext cx="52560" cy="493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045920" y="291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095240" y="299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1670760" y="2800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1720440" y="288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030800" y="3292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132320" y="3390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2707920" y="3681360"/>
              <a:ext cx="54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E 5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5939640" y="3681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6206400" y="367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5751360" y="2701800"/>
              <a:ext cx="20988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5807880" y="2735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684600" y="2714760"/>
              <a:ext cx="209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742560" y="2747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6481800" y="2919240"/>
              <a:ext cx="21276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6543000" y="295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5456160" y="2973240"/>
              <a:ext cx="1059120" cy="619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5813280" y="32097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2241720" y="3201840"/>
              <a:ext cx="274320" cy="246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2286000" y="32353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2266920" y="2841480"/>
              <a:ext cx="274680" cy="250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2310120" y="2878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402768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4971960" y="3637080"/>
              <a:ext cx="271440" cy="25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5016600" y="3670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4400640" y="2768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2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>
            <a:off x="1366560" y="1036800"/>
            <a:ext cx="62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dulator fazy z układem NE561firmy Sig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4" name=""/>
          <p:cNvSpPr/>
          <p:nvPr/>
        </p:nvSpPr>
        <p:spPr>
          <a:xfrm>
            <a:off x="2592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255276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>
            <a:off x="25322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24922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24732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2433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41452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>
            <a:off x="23749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2354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23144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22953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2255760" y="3002040"/>
            <a:ext cx="28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223524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219564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217656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1366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21160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>
            <a:off x="2076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20574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2017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9872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95912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93824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189864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187956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1839960" y="3002040"/>
            <a:ext cx="28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1819440" y="3002040"/>
            <a:ext cx="108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7948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760400" y="3002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1720800" y="3002040"/>
            <a:ext cx="30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1700280" y="300204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/>
          <p:nvPr/>
        </p:nvSpPr>
        <p:spPr>
          <a:xfrm>
            <a:off x="1660680" y="3002040"/>
            <a:ext cx="298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/>
          <p:nvPr/>
        </p:nvSpPr>
        <p:spPr>
          <a:xfrm>
            <a:off x="1641600" y="3002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7" name=""/>
          <p:cNvGrpSpPr/>
          <p:nvPr/>
        </p:nvGrpSpPr>
        <p:grpSpPr>
          <a:xfrm>
            <a:off x="982080" y="1595520"/>
            <a:ext cx="6844320" cy="4217760"/>
            <a:chOff x="982080" y="1595520"/>
            <a:chExt cx="6844320" cy="4217760"/>
          </a:xfrm>
        </p:grpSpPr>
        <p:sp>
          <p:nvSpPr>
            <p:cNvPr id="8668" name=""/>
            <p:cNvSpPr/>
            <p:nvPr/>
          </p:nvSpPr>
          <p:spPr>
            <a:xfrm>
              <a:off x="1442880" y="2525760"/>
              <a:ext cx="6984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9" name=""/>
            <p:cNvGrpSpPr/>
            <p:nvPr/>
          </p:nvGrpSpPr>
          <p:grpSpPr>
            <a:xfrm>
              <a:off x="4473720" y="3362400"/>
              <a:ext cx="93600" cy="291960"/>
              <a:chOff x="4473720" y="3362400"/>
              <a:chExt cx="93600" cy="291960"/>
            </a:xfrm>
          </p:grpSpPr>
          <p:sp>
            <p:nvSpPr>
              <p:cNvPr id="8670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447372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4473720" y="3079800"/>
              <a:ext cx="93600" cy="298440"/>
              <a:chOff x="4473720" y="3079800"/>
              <a:chExt cx="93600" cy="298440"/>
            </a:xfrm>
          </p:grpSpPr>
          <p:sp>
            <p:nvSpPr>
              <p:cNvPr id="8673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447372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4597560" y="3362400"/>
              <a:ext cx="93600" cy="291960"/>
              <a:chOff x="4597560" y="3362400"/>
              <a:chExt cx="93600" cy="291960"/>
            </a:xfrm>
          </p:grpSpPr>
          <p:sp>
            <p:nvSpPr>
              <p:cNvPr id="8676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97560" y="3362400"/>
                <a:ext cx="93600" cy="291960"/>
              </a:xfrm>
              <a:custGeom>
                <a:avLst/>
                <a:gdLst/>
                <a:ahLst/>
                <a:rect l="l" t="t" r="r" b="b"/>
                <a:pathLst>
                  <a:path w="59" h="184">
                    <a:moveTo>
                      <a:pt x="0" y="184"/>
                    </a:moveTo>
                    <a:lnTo>
                      <a:pt x="13" y="181"/>
                    </a:lnTo>
                    <a:lnTo>
                      <a:pt x="22" y="169"/>
                    </a:lnTo>
                    <a:lnTo>
                      <a:pt x="31" y="153"/>
                    </a:lnTo>
                    <a:lnTo>
                      <a:pt x="41" y="131"/>
                    </a:lnTo>
                    <a:lnTo>
                      <a:pt x="50" y="103"/>
                    </a:lnTo>
                    <a:lnTo>
                      <a:pt x="53" y="72"/>
                    </a:lnTo>
                    <a:lnTo>
                      <a:pt x="5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8" name=""/>
            <p:cNvGrpSpPr/>
            <p:nvPr/>
          </p:nvGrpSpPr>
          <p:grpSpPr>
            <a:xfrm>
              <a:off x="4597560" y="3079800"/>
              <a:ext cx="93600" cy="298440"/>
              <a:chOff x="4597560" y="3079800"/>
              <a:chExt cx="93600" cy="298440"/>
            </a:xfrm>
          </p:grpSpPr>
          <p:sp>
            <p:nvSpPr>
              <p:cNvPr id="8679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4597560" y="3079800"/>
                <a:ext cx="93600" cy="298440"/>
              </a:xfrm>
              <a:custGeom>
                <a:avLst/>
                <a:gdLst/>
                <a:ahLst/>
                <a:rect l="l" t="t" r="r" b="b"/>
                <a:pathLst>
                  <a:path w="59" h="188">
                    <a:moveTo>
                      <a:pt x="0" y="0"/>
                    </a:moveTo>
                    <a:lnTo>
                      <a:pt x="13" y="4"/>
                    </a:lnTo>
                    <a:lnTo>
                      <a:pt x="22" y="16"/>
                    </a:lnTo>
                    <a:lnTo>
                      <a:pt x="31" y="32"/>
                    </a:lnTo>
                    <a:lnTo>
                      <a:pt x="41" y="57"/>
                    </a:lnTo>
                    <a:lnTo>
                      <a:pt x="50" y="85"/>
                    </a:lnTo>
                    <a:lnTo>
                      <a:pt x="53" y="116"/>
                    </a:lnTo>
                    <a:lnTo>
                      <a:pt x="59" y="150"/>
                    </a:lnTo>
                    <a:lnTo>
                      <a:pt x="59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1" name=""/>
            <p:cNvSpPr/>
            <p:nvPr/>
          </p:nvSpPr>
          <p:spPr>
            <a:xfrm>
              <a:off x="4613400" y="3086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4632480" y="3654360"/>
              <a:ext cx="3571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3" name=""/>
            <p:cNvGrpSpPr/>
            <p:nvPr/>
          </p:nvGrpSpPr>
          <p:grpSpPr>
            <a:xfrm>
              <a:off x="4924440" y="3086280"/>
              <a:ext cx="357120" cy="291960"/>
              <a:chOff x="4924440" y="3086280"/>
              <a:chExt cx="357120" cy="291960"/>
            </a:xfrm>
          </p:grpSpPr>
          <p:sp>
            <p:nvSpPr>
              <p:cNvPr id="8684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  <a:lnTo>
                      <a:pt x="0" y="1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4924440" y="3086280"/>
                <a:ext cx="357120" cy="291960"/>
              </a:xfrm>
              <a:custGeom>
                <a:avLst/>
                <a:gdLst/>
                <a:ahLst/>
                <a:rect l="l" t="t" r="r" b="b"/>
                <a:pathLst>
                  <a:path w="225" h="184">
                    <a:moveTo>
                      <a:pt x="0" y="0"/>
                    </a:moveTo>
                    <a:lnTo>
                      <a:pt x="47" y="3"/>
                    </a:lnTo>
                    <a:lnTo>
                      <a:pt x="87" y="15"/>
                    </a:lnTo>
                    <a:lnTo>
                      <a:pt x="125" y="31"/>
                    </a:lnTo>
                    <a:lnTo>
                      <a:pt x="159" y="53"/>
                    </a:lnTo>
                    <a:lnTo>
                      <a:pt x="187" y="81"/>
                    </a:lnTo>
                    <a:lnTo>
                      <a:pt x="206" y="112"/>
                    </a:lnTo>
                    <a:lnTo>
                      <a:pt x="221" y="146"/>
                    </a:lnTo>
                    <a:lnTo>
                      <a:pt x="225" y="1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6" name=""/>
            <p:cNvGrpSpPr/>
            <p:nvPr/>
          </p:nvGrpSpPr>
          <p:grpSpPr>
            <a:xfrm>
              <a:off x="4924440" y="3406680"/>
              <a:ext cx="357120" cy="252360"/>
              <a:chOff x="4924440" y="3406680"/>
              <a:chExt cx="357120" cy="252360"/>
            </a:xfrm>
          </p:grpSpPr>
          <p:sp>
            <p:nvSpPr>
              <p:cNvPr id="8687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  <a:lnTo>
                      <a:pt x="0" y="0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4924440" y="3406680"/>
                <a:ext cx="357120" cy="252360"/>
              </a:xfrm>
              <a:custGeom>
                <a:avLst/>
                <a:gdLst/>
                <a:ahLst/>
                <a:rect l="l" t="t" r="r" b="b"/>
                <a:pathLst>
                  <a:path w="225" h="159">
                    <a:moveTo>
                      <a:pt x="0" y="159"/>
                    </a:moveTo>
                    <a:lnTo>
                      <a:pt x="47" y="156"/>
                    </a:lnTo>
                    <a:lnTo>
                      <a:pt x="87" y="147"/>
                    </a:lnTo>
                    <a:lnTo>
                      <a:pt x="125" y="131"/>
                    </a:lnTo>
                    <a:lnTo>
                      <a:pt x="159" y="113"/>
                    </a:lnTo>
                    <a:lnTo>
                      <a:pt x="187" y="88"/>
                    </a:lnTo>
                    <a:lnTo>
                      <a:pt x="206" y="63"/>
                    </a:lnTo>
                    <a:lnTo>
                      <a:pt x="221" y="32"/>
                    </a:lnTo>
                    <a:lnTo>
                      <a:pt x="225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9" name=""/>
            <p:cNvSpPr/>
            <p:nvPr/>
          </p:nvSpPr>
          <p:spPr>
            <a:xfrm>
              <a:off x="5270400" y="3362400"/>
              <a:ext cx="6984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003320" y="2525760"/>
              <a:ext cx="68400" cy="6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5340240" y="3392640"/>
              <a:ext cx="530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2" name=""/>
            <p:cNvGrpSpPr/>
            <p:nvPr/>
          </p:nvGrpSpPr>
          <p:grpSpPr>
            <a:xfrm>
              <a:off x="2384280" y="3144960"/>
              <a:ext cx="2154240" cy="104760"/>
              <a:chOff x="2384280" y="3144960"/>
              <a:chExt cx="2154240" cy="104760"/>
            </a:xfrm>
          </p:grpSpPr>
          <p:sp>
            <p:nvSpPr>
              <p:cNvPr id="8693" name=""/>
              <p:cNvSpPr/>
              <p:nvPr/>
            </p:nvSpPr>
            <p:spPr>
              <a:xfrm>
                <a:off x="2384280" y="3193920"/>
                <a:ext cx="2154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433760" y="3144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5" name=""/>
            <p:cNvGrpSpPr/>
            <p:nvPr/>
          </p:nvGrpSpPr>
          <p:grpSpPr>
            <a:xfrm>
              <a:off x="4151160" y="3502080"/>
              <a:ext cx="401760" cy="102960"/>
              <a:chOff x="4151160" y="3502080"/>
              <a:chExt cx="401760" cy="102960"/>
            </a:xfrm>
          </p:grpSpPr>
          <p:sp>
            <p:nvSpPr>
              <p:cNvPr id="8696" name=""/>
              <p:cNvSpPr/>
              <p:nvPr/>
            </p:nvSpPr>
            <p:spPr>
              <a:xfrm>
                <a:off x="4151160" y="3546360"/>
                <a:ext cx="401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4449600" y="350208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0" y="65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8" name=""/>
            <p:cNvSpPr/>
            <p:nvPr/>
          </p:nvSpPr>
          <p:spPr>
            <a:xfrm>
              <a:off x="5557680" y="2317680"/>
              <a:ext cx="579600" cy="515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6702480" y="2293920"/>
              <a:ext cx="579240" cy="519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5776920" y="2481120"/>
              <a:ext cx="20160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 flipH="1">
              <a:off x="5761080" y="2481120"/>
              <a:ext cx="203040" cy="20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2" name=""/>
            <p:cNvGrpSpPr/>
            <p:nvPr/>
          </p:nvGrpSpPr>
          <p:grpSpPr>
            <a:xfrm>
              <a:off x="5821200" y="2822400"/>
              <a:ext cx="103320" cy="570240"/>
              <a:chOff x="5821200" y="2822400"/>
              <a:chExt cx="103320" cy="570240"/>
            </a:xfrm>
          </p:grpSpPr>
          <p:sp>
            <p:nvSpPr>
              <p:cNvPr id="8703" name=""/>
              <p:cNvSpPr/>
              <p:nvPr/>
            </p:nvSpPr>
            <p:spPr>
              <a:xfrm>
                <a:off x="5870520" y="2822400"/>
                <a:ext cx="1800" cy="5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5821200" y="2822400"/>
                <a:ext cx="103320" cy="10512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65" y="66"/>
                    </a:moveTo>
                    <a:lnTo>
                      <a:pt x="31" y="0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5" name=""/>
            <p:cNvGrpSpPr/>
            <p:nvPr/>
          </p:nvGrpSpPr>
          <p:grpSpPr>
            <a:xfrm>
              <a:off x="6122520" y="2516040"/>
              <a:ext cx="575280" cy="103320"/>
              <a:chOff x="6122520" y="2516040"/>
              <a:chExt cx="575280" cy="103320"/>
            </a:xfrm>
          </p:grpSpPr>
          <p:sp>
            <p:nvSpPr>
              <p:cNvPr id="8706" name=""/>
              <p:cNvSpPr/>
              <p:nvPr/>
            </p:nvSpPr>
            <p:spPr>
              <a:xfrm flipH="1">
                <a:off x="6122520" y="2565360"/>
                <a:ext cx="574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593040" y="2516040"/>
                <a:ext cx="104760" cy="1033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0" y="65"/>
                    </a:moveTo>
                    <a:lnTo>
                      <a:pt x="66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8" name=""/>
            <p:cNvSpPr/>
            <p:nvPr/>
          </p:nvSpPr>
          <p:spPr>
            <a:xfrm flipH="1">
              <a:off x="7265520" y="2579760"/>
              <a:ext cx="382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51160" y="3546360"/>
              <a:ext cx="180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 flipH="1">
              <a:off x="3835440" y="4268880"/>
              <a:ext cx="138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2354400" y="4238640"/>
              <a:ext cx="698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18040" y="4238640"/>
              <a:ext cx="6804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3146400" y="4075200"/>
              <a:ext cx="698400" cy="39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3387960" y="411480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29084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389480" y="48434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2013120" y="4803840"/>
              <a:ext cx="70308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21999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3127320" y="4803840"/>
              <a:ext cx="703440" cy="390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3274560" y="4843440"/>
              <a:ext cx="34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3601800" y="4951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2" name=""/>
            <p:cNvGrpSpPr/>
            <p:nvPr/>
          </p:nvGrpSpPr>
          <p:grpSpPr>
            <a:xfrm>
              <a:off x="3854520" y="4937040"/>
              <a:ext cx="406440" cy="104760"/>
              <a:chOff x="3854520" y="4937040"/>
              <a:chExt cx="406440" cy="104760"/>
            </a:xfrm>
          </p:grpSpPr>
          <p:sp>
            <p:nvSpPr>
              <p:cNvPr id="8723" name=""/>
              <p:cNvSpPr/>
              <p:nvPr/>
            </p:nvSpPr>
            <p:spPr>
              <a:xfrm>
                <a:off x="3854520" y="4986360"/>
                <a:ext cx="406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157640" y="4937040"/>
                <a:ext cx="10332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66"/>
                    </a:moveTo>
                    <a:lnTo>
                      <a:pt x="65" y="3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5" name=""/>
            <p:cNvSpPr/>
            <p:nvPr/>
          </p:nvSpPr>
          <p:spPr>
            <a:xfrm>
              <a:off x="2711520" y="50022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 flipH="1">
              <a:off x="4978080" y="4995720"/>
              <a:ext cx="243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7" name=""/>
            <p:cNvSpPr/>
            <p:nvPr/>
          </p:nvSpPr>
          <p:spPr>
            <a:xfrm>
              <a:off x="5216400" y="4268880"/>
              <a:ext cx="504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8" name=""/>
            <p:cNvSpPr/>
            <p:nvPr/>
          </p:nvSpPr>
          <p:spPr>
            <a:xfrm flipH="1">
              <a:off x="2394000" y="426888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9" name=""/>
            <p:cNvGrpSpPr/>
            <p:nvPr/>
          </p:nvGrpSpPr>
          <p:grpSpPr>
            <a:xfrm>
              <a:off x="2335320" y="3193920"/>
              <a:ext cx="102960" cy="1609920"/>
              <a:chOff x="2335320" y="3193920"/>
              <a:chExt cx="102960" cy="1609920"/>
            </a:xfrm>
          </p:grpSpPr>
          <p:sp>
            <p:nvSpPr>
              <p:cNvPr id="8730" name=""/>
              <p:cNvSpPr/>
              <p:nvPr/>
            </p:nvSpPr>
            <p:spPr>
              <a:xfrm>
                <a:off x="2384280" y="3193920"/>
                <a:ext cx="5040" cy="160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2335320" y="4699080"/>
                <a:ext cx="102960" cy="10476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0" y="0"/>
                    </a:moveTo>
                    <a:lnTo>
                      <a:pt x="34" y="66"/>
                    </a:lnTo>
                    <a:lnTo>
                      <a:pt x="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2" name=""/>
            <p:cNvGrpSpPr/>
            <p:nvPr/>
          </p:nvGrpSpPr>
          <p:grpSpPr>
            <a:xfrm>
              <a:off x="1487520" y="4951440"/>
              <a:ext cx="515880" cy="104760"/>
              <a:chOff x="1487520" y="4951440"/>
              <a:chExt cx="515880" cy="104760"/>
            </a:xfrm>
          </p:grpSpPr>
          <p:sp>
            <p:nvSpPr>
              <p:cNvPr id="8733" name=""/>
              <p:cNvSpPr/>
              <p:nvPr/>
            </p:nvSpPr>
            <p:spPr>
              <a:xfrm>
                <a:off x="1487520" y="5002200"/>
                <a:ext cx="515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1898640" y="4951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66" y="3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5" name=""/>
            <p:cNvSpPr/>
            <p:nvPr/>
          </p:nvSpPr>
          <p:spPr>
            <a:xfrm flipH="1">
              <a:off x="1057320" y="2556000"/>
              <a:ext cx="44863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 flipV="1">
              <a:off x="1473120" y="2555640"/>
              <a:ext cx="1800" cy="24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7" name=""/>
            <p:cNvGrpSpPr/>
            <p:nvPr/>
          </p:nvGrpSpPr>
          <p:grpSpPr>
            <a:xfrm>
              <a:off x="2735280" y="5477040"/>
              <a:ext cx="1574640" cy="336240"/>
              <a:chOff x="2735280" y="5477040"/>
              <a:chExt cx="1574640" cy="336240"/>
            </a:xfrm>
          </p:grpSpPr>
          <p:sp>
            <p:nvSpPr>
              <p:cNvPr id="8738" name=""/>
              <p:cNvSpPr/>
              <p:nvPr/>
            </p:nvSpPr>
            <p:spPr>
              <a:xfrm>
                <a:off x="2739960" y="5481720"/>
                <a:ext cx="1565280" cy="32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2735280" y="548172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2735280" y="55213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2735280" y="5541840"/>
                <a:ext cx="1116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2735280" y="558000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2735280" y="560088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2735280" y="564048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2735280" y="5659560"/>
                <a:ext cx="11160" cy="2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2735280" y="5699160"/>
                <a:ext cx="11160" cy="1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2735280" y="571968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2735280" y="5759280"/>
                <a:ext cx="111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2735280" y="5778360"/>
                <a:ext cx="111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27511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27702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280980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28306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28702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28893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2928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29480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9876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3008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30481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30672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31068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312732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669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3186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32259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3246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32860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33051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33447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336384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340344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34243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3463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4830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3522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35434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35830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360216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364176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3662280" y="580392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3701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3720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37609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3780000" y="580392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38196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3840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387972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3898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3938760" y="5803920"/>
                <a:ext cx="10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395928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399888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401796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057560" y="580392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4078440" y="580392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411804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41371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417672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419580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4235400" y="580392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4255920" y="580392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295880" y="5803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300560" y="576900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4300560" y="574992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300560" y="571032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4300560" y="568944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4300560" y="564984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4300560" y="5630760"/>
                <a:ext cx="936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4300560" y="5591160"/>
                <a:ext cx="9360" cy="2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300560" y="55706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4300560" y="5530680"/>
                <a:ext cx="936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4300560" y="551196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4295880" y="5477040"/>
                <a:ext cx="1404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3" y="16"/>
                    </a:moveTo>
                    <a:lnTo>
                      <a:pt x="9" y="16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42750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42354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42163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4176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415764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411804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40971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40575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40384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39988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39783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39387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919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797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592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819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8005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37609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374184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37018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36813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3641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36226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35830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35622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35226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35035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346392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344340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34034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3384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33447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332568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328608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326556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322596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3206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3166920" y="5477040"/>
                <a:ext cx="2880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3146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3106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308772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3048120" y="5477040"/>
                <a:ext cx="2988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3027240" y="5477040"/>
                <a:ext cx="111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298764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296856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292896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2909880" y="5477040"/>
                <a:ext cx="936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287028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284940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2809800" y="5477040"/>
                <a:ext cx="302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2790720" y="54770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2751120" y="5477040"/>
                <a:ext cx="2844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6" name=""/>
            <p:cNvSpPr/>
            <p:nvPr/>
          </p:nvSpPr>
          <p:spPr>
            <a:xfrm>
              <a:off x="2857320" y="5516640"/>
              <a:ext cx="130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iltr selektyw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5127120" y="51544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5230440" y="513540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5389560" y="52545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1601640" y="19018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1760400" y="2021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1871280" y="1901880"/>
              <a:ext cx="20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105280" y="200664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1611000" y="22287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1770120" y="23479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1858320" y="2249640"/>
              <a:ext cx="1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1998720" y="222876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140560" y="234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1641240" y="159552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1800360" y="17146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7548480" y="2674800"/>
              <a:ext cx="13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7691400" y="277812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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5776560" y="346716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5934240" y="358632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6022800" y="348624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6206040" y="34671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6277320" y="3486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1982520" y="3838680"/>
              <a:ext cx="156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141640" y="3956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1963080" y="41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185200" y="40957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982080" y="4417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1087200" y="4516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1156680" y="441792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6008040" y="3070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6113160" y="317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6182640" y="30700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7543800" y="22543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7642080" y="2550960"/>
              <a:ext cx="65160" cy="5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0" name=""/>
          <p:cNvSpPr/>
          <p:nvPr/>
        </p:nvSpPr>
        <p:spPr>
          <a:xfrm>
            <a:off x="2182320" y="30492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y zastosowań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2091240" y="10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ktor synchroniczny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2" name=""/>
          <p:cNvSpPr/>
          <p:nvPr/>
        </p:nvSpPr>
        <p:spPr>
          <a:xfrm>
            <a:off x="2896200" y="2286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łaściwości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244440" y="1430280"/>
            <a:ext cx="8651880" cy="44830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Synchronizuje się do częstotliwości podstawowych lub ich wielokrotn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zięki filtrowi DP „pamięta” wartość błędu fazy - praca przy zanikach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Synchronizuje się w obecności zakłóce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Synchronizuje się w obecności innych sygnałów, nawet o poziomach większ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ż poziom sygnału użytecznego (np. w obecności szum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. Jest mało wrażliwa na zmiany amplitud sygnału wejści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6. Spośród wielu sygnałów „wyławia” jeden. W tym sensie ma właściwoś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lektyw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3640" y="3049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ktura pętli faz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1360" y="2244600"/>
            <a:ext cx="8319240" cy="1897200"/>
            <a:chOff x="171360" y="2244600"/>
            <a:chExt cx="8319240" cy="1897200"/>
          </a:xfrm>
        </p:grpSpPr>
        <p:sp>
          <p:nvSpPr>
            <p:cNvPr id="47" name=""/>
            <p:cNvSpPr/>
            <p:nvPr/>
          </p:nvSpPr>
          <p:spPr>
            <a:xfrm>
              <a:off x="227520" y="2808360"/>
              <a:ext cx="23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00" y="2919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3640" y="2808360"/>
              <a:ext cx="235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8404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560" y="2808360"/>
              <a:ext cx="218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463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8640" y="2808360"/>
              <a:ext cx="2647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95760" y="2919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73520" y="28083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360" y="335124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680" y="3484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080" y="3373560"/>
              <a:ext cx="71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)                                        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7120" y="335124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29160" y="3484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06560" y="337356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(t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95360" y="276876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09096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29200" y="2801880"/>
              <a:ext cx="1289160" cy="927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312408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1120" y="2786040"/>
              <a:ext cx="1295640" cy="925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90320" y="310680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679840" y="3179880"/>
              <a:ext cx="955440" cy="115920"/>
              <a:chOff x="2679840" y="3179880"/>
              <a:chExt cx="955440" cy="115920"/>
            </a:xfrm>
          </p:grpSpPr>
          <p:sp>
            <p:nvSpPr>
              <p:cNvPr id="69" name=""/>
              <p:cNvSpPr/>
              <p:nvPr/>
            </p:nvSpPr>
            <p:spPr>
              <a:xfrm>
                <a:off x="2679840" y="3235320"/>
                <a:ext cx="9554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17920" y="317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4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39560" y="3162240"/>
              <a:ext cx="955800" cy="117360"/>
              <a:chOff x="439560" y="3162240"/>
              <a:chExt cx="955800" cy="117360"/>
            </a:xfrm>
          </p:grpSpPr>
          <p:sp>
            <p:nvSpPr>
              <p:cNvPr id="72" name=""/>
              <p:cNvSpPr/>
              <p:nvPr/>
            </p:nvSpPr>
            <p:spPr>
              <a:xfrm>
                <a:off x="439560" y="3218040"/>
                <a:ext cx="955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79440" y="316224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2035080" y="3695400"/>
              <a:ext cx="115920" cy="444600"/>
              <a:chOff x="2035080" y="3695400"/>
              <a:chExt cx="115920" cy="444600"/>
            </a:xfrm>
          </p:grpSpPr>
          <p:sp>
            <p:nvSpPr>
              <p:cNvPr id="75" name=""/>
              <p:cNvSpPr/>
              <p:nvPr/>
            </p:nvSpPr>
            <p:spPr>
              <a:xfrm flipV="1">
                <a:off x="2090880" y="3695400"/>
                <a:ext cx="1440" cy="444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5080" y="3695760"/>
                <a:ext cx="115920" cy="11592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5" y="0"/>
                    </a:lnTo>
                    <a:lnTo>
                      <a:pt x="0" y="7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973760" y="3195720"/>
              <a:ext cx="955440" cy="117360"/>
              <a:chOff x="4973760" y="3195720"/>
              <a:chExt cx="955440" cy="117360"/>
            </a:xfrm>
          </p:grpSpPr>
          <p:sp>
            <p:nvSpPr>
              <p:cNvPr id="78" name=""/>
              <p:cNvSpPr/>
              <p:nvPr/>
            </p:nvSpPr>
            <p:spPr>
              <a:xfrm>
                <a:off x="4973760" y="3251160"/>
                <a:ext cx="9554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13280" y="3195720"/>
                <a:ext cx="115920" cy="117360"/>
              </a:xfrm>
              <a:custGeom>
                <a:avLst/>
                <a:gdLst/>
                <a:ahLst/>
                <a:rect l="l" t="t" r="r" b="b"/>
                <a:pathLst>
                  <a:path w="73" h="74">
                    <a:moveTo>
                      <a:pt x="0" y="74"/>
                    </a:moveTo>
                    <a:lnTo>
                      <a:pt x="73" y="35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7229520" y="3268800"/>
              <a:ext cx="111132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36040" y="3284640"/>
              <a:ext cx="1440" cy="85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06720" y="4140360"/>
              <a:ext cx="5629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3235320"/>
              <a:ext cx="7776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" y="318456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80360" y="3235320"/>
              <a:ext cx="77760" cy="666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59680" y="2244600"/>
              <a:ext cx="75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[rad]          [V/rad]         []              [V/V]           [V]            [rad/Vs]       [rad]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40" y="5788080"/>
            <a:ext cx="88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kterystyka mnożącego detektora fazy       Charakterystyka przestrajania generatora 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3480" y="3300480"/>
            <a:ext cx="373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33242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1680" y="330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2480" y="3419640"/>
            <a:ext cx="7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276552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arctg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3520" y="28558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82840" y="2801880"/>
            <a:ext cx="399960" cy="439920"/>
            <a:chOff x="2382840" y="2801880"/>
            <a:chExt cx="399960" cy="439920"/>
          </a:xfrm>
        </p:grpSpPr>
        <p:sp>
          <p:nvSpPr>
            <p:cNvPr id="95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  <a:lnTo>
                    <a:pt x="0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82840" y="2801880"/>
              <a:ext cx="399960" cy="43992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0" y="0"/>
                  </a:moveTo>
                  <a:lnTo>
                    <a:pt x="26" y="2"/>
                  </a:lnTo>
                  <a:lnTo>
                    <a:pt x="52" y="5"/>
                  </a:lnTo>
                  <a:lnTo>
                    <a:pt x="97" y="23"/>
                  </a:lnTo>
                  <a:lnTo>
                    <a:pt x="140" y="48"/>
                  </a:lnTo>
                  <a:lnTo>
                    <a:pt x="178" y="83"/>
                  </a:lnTo>
                  <a:lnTo>
                    <a:pt x="209" y="123"/>
                  </a:lnTo>
                  <a:lnTo>
                    <a:pt x="232" y="171"/>
                  </a:lnTo>
                  <a:lnTo>
                    <a:pt x="246" y="223"/>
                  </a:lnTo>
                  <a:lnTo>
                    <a:pt x="252" y="2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23960" y="1623960"/>
            <a:ext cx="400320" cy="682560"/>
            <a:chOff x="2523960" y="1623960"/>
            <a:chExt cx="400320" cy="682560"/>
          </a:xfrm>
        </p:grpSpPr>
        <p:sp>
          <p:nvSpPr>
            <p:cNvPr id="98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  <a:lnTo>
                    <a:pt x="252" y="43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23960" y="1623960"/>
              <a:ext cx="400320" cy="682560"/>
            </a:xfrm>
            <a:custGeom>
              <a:avLst/>
              <a:gdLst/>
              <a:ahLst/>
              <a:rect l="l" t="t" r="r" b="b"/>
              <a:pathLst>
                <a:path w="252" h="430">
                  <a:moveTo>
                    <a:pt x="252" y="0"/>
                  </a:moveTo>
                  <a:lnTo>
                    <a:pt x="226" y="3"/>
                  </a:lnTo>
                  <a:lnTo>
                    <a:pt x="200" y="9"/>
                  </a:lnTo>
                  <a:lnTo>
                    <a:pt x="177" y="20"/>
                  </a:lnTo>
                  <a:lnTo>
                    <a:pt x="155" y="35"/>
                  </a:lnTo>
                  <a:lnTo>
                    <a:pt x="132" y="52"/>
                  </a:lnTo>
                  <a:lnTo>
                    <a:pt x="112" y="75"/>
                  </a:lnTo>
                  <a:lnTo>
                    <a:pt x="92" y="98"/>
                  </a:lnTo>
                  <a:lnTo>
                    <a:pt x="74" y="126"/>
                  </a:lnTo>
                  <a:lnTo>
                    <a:pt x="43" y="189"/>
                  </a:lnTo>
                  <a:lnTo>
                    <a:pt x="20" y="264"/>
                  </a:lnTo>
                  <a:lnTo>
                    <a:pt x="6" y="344"/>
                  </a:lnTo>
                  <a:lnTo>
                    <a:pt x="0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268360" y="223344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38320" y="1623960"/>
            <a:ext cx="395280" cy="682560"/>
            <a:chOff x="2938320" y="1623960"/>
            <a:chExt cx="395280" cy="682560"/>
          </a:xfrm>
        </p:grpSpPr>
        <p:sp>
          <p:nvSpPr>
            <p:cNvPr id="102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  <a:lnTo>
                    <a:pt x="0" y="4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38320" y="1623960"/>
              <a:ext cx="395280" cy="682560"/>
            </a:xfrm>
            <a:custGeom>
              <a:avLst/>
              <a:gdLst/>
              <a:ahLst/>
              <a:rect l="l" t="t" r="r" b="b"/>
              <a:pathLst>
                <a:path w="249" h="430">
                  <a:moveTo>
                    <a:pt x="0" y="0"/>
                  </a:moveTo>
                  <a:lnTo>
                    <a:pt x="25" y="3"/>
                  </a:lnTo>
                  <a:lnTo>
                    <a:pt x="51" y="9"/>
                  </a:lnTo>
                  <a:lnTo>
                    <a:pt x="74" y="20"/>
                  </a:lnTo>
                  <a:lnTo>
                    <a:pt x="97" y="35"/>
                  </a:lnTo>
                  <a:lnTo>
                    <a:pt x="117" y="52"/>
                  </a:lnTo>
                  <a:lnTo>
                    <a:pt x="140" y="75"/>
                  </a:lnTo>
                  <a:lnTo>
                    <a:pt x="157" y="98"/>
                  </a:lnTo>
                  <a:lnTo>
                    <a:pt x="177" y="126"/>
                  </a:lnTo>
                  <a:lnTo>
                    <a:pt x="206" y="189"/>
                  </a:lnTo>
                  <a:lnTo>
                    <a:pt x="229" y="264"/>
                  </a:lnTo>
                  <a:lnTo>
                    <a:pt x="243" y="344"/>
                  </a:lnTo>
                  <a:lnTo>
                    <a:pt x="249" y="4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19560" y="223344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4920" y="4224240"/>
            <a:ext cx="395280" cy="681120"/>
            <a:chOff x="1204920" y="4224240"/>
            <a:chExt cx="395280" cy="681120"/>
          </a:xfrm>
        </p:grpSpPr>
        <p:sp>
          <p:nvSpPr>
            <p:cNvPr id="106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49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920" y="4224240"/>
              <a:ext cx="395280" cy="681120"/>
            </a:xfrm>
            <a:custGeom>
              <a:avLst/>
              <a:gdLst/>
              <a:ahLst/>
              <a:rect l="l" t="t" r="r" b="b"/>
              <a:pathLst>
                <a:path w="249" h="429">
                  <a:moveTo>
                    <a:pt x="249" y="429"/>
                  </a:moveTo>
                  <a:lnTo>
                    <a:pt x="224" y="426"/>
                  </a:lnTo>
                  <a:lnTo>
                    <a:pt x="201" y="420"/>
                  </a:lnTo>
                  <a:lnTo>
                    <a:pt x="175" y="409"/>
                  </a:lnTo>
                  <a:lnTo>
                    <a:pt x="152" y="394"/>
                  </a:lnTo>
                  <a:lnTo>
                    <a:pt x="132" y="377"/>
                  </a:lnTo>
                  <a:lnTo>
                    <a:pt x="109" y="354"/>
                  </a:lnTo>
                  <a:lnTo>
                    <a:pt x="92" y="332"/>
                  </a:lnTo>
                  <a:lnTo>
                    <a:pt x="75" y="303"/>
                  </a:lnTo>
                  <a:lnTo>
                    <a:pt x="43" y="240"/>
                  </a:lnTo>
                  <a:lnTo>
                    <a:pt x="20" y="166"/>
                  </a:lnTo>
                  <a:lnTo>
                    <a:pt x="6" y="85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 flipV="1">
            <a:off x="945720" y="3255480"/>
            <a:ext cx="25884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0200" y="4224240"/>
            <a:ext cx="399960" cy="681120"/>
            <a:chOff x="1600200" y="4224240"/>
            <a:chExt cx="399960" cy="681120"/>
          </a:xfrm>
        </p:grpSpPr>
        <p:sp>
          <p:nvSpPr>
            <p:cNvPr id="110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4224240"/>
              <a:ext cx="399960" cy="681120"/>
            </a:xfrm>
            <a:custGeom>
              <a:avLst/>
              <a:gdLst/>
              <a:ahLst/>
              <a:rect l="l" t="t" r="r" b="b"/>
              <a:pathLst>
                <a:path w="252" h="429">
                  <a:moveTo>
                    <a:pt x="0" y="429"/>
                  </a:moveTo>
                  <a:lnTo>
                    <a:pt x="26" y="426"/>
                  </a:lnTo>
                  <a:lnTo>
                    <a:pt x="52" y="420"/>
                  </a:lnTo>
                  <a:lnTo>
                    <a:pt x="75" y="409"/>
                  </a:lnTo>
                  <a:lnTo>
                    <a:pt x="98" y="394"/>
                  </a:lnTo>
                  <a:lnTo>
                    <a:pt x="121" y="377"/>
                  </a:lnTo>
                  <a:lnTo>
                    <a:pt x="141" y="354"/>
                  </a:lnTo>
                  <a:lnTo>
                    <a:pt x="161" y="332"/>
                  </a:lnTo>
                  <a:lnTo>
                    <a:pt x="178" y="303"/>
                  </a:lnTo>
                  <a:lnTo>
                    <a:pt x="209" y="240"/>
                  </a:lnTo>
                  <a:lnTo>
                    <a:pt x="232" y="166"/>
                  </a:lnTo>
                  <a:lnTo>
                    <a:pt x="247" y="85"/>
                  </a:lnTo>
                  <a:lnTo>
                    <a:pt x="2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000160" y="3255480"/>
            <a:ext cx="255600" cy="1040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6080" y="3156120"/>
            <a:ext cx="180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232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2440" y="3173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4600" y="31734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41480" y="1160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7200" y="1252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4240" y="1590840"/>
            <a:ext cx="352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06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64880" y="3336840"/>
            <a:ext cx="9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892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31000" y="3336840"/>
            <a:ext cx="15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0160" y="3355920"/>
            <a:ext cx="1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6120" y="3228840"/>
            <a:ext cx="357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63680" y="1163520"/>
            <a:ext cx="0" cy="37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62560" y="1558440"/>
            <a:ext cx="3270960" cy="3639240"/>
            <a:chOff x="5362560" y="1558440"/>
            <a:chExt cx="3270960" cy="3639240"/>
          </a:xfrm>
        </p:grpSpPr>
        <p:sp>
          <p:nvSpPr>
            <p:cNvPr id="128" name=""/>
            <p:cNvSpPr/>
            <p:nvPr/>
          </p:nvSpPr>
          <p:spPr>
            <a:xfrm flipH="1">
              <a:off x="5840280" y="214164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489800" y="2382840"/>
              <a:ext cx="214200" cy="212760"/>
              <a:chOff x="7489800" y="2382840"/>
              <a:chExt cx="214200" cy="212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9800" y="238284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8422920" y="483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18320" y="492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8680" y="476892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8120" y="480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31000" y="230040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360" y="233208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6560" y="24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25243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2360" y="262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3368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62520" y="176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927840" y="155844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1640" y="467676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2400" y="264780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490840" y="4762440"/>
            <a:ext cx="4122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i="1" lang="pl-PL" sz="1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3886200"/>
            <a:ext cx="3733920" cy="13716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520" y="685800"/>
                <a:ext cx="3657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520" y="1295280"/>
                <a:ext cx="441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2000" y="2133720"/>
            <a:ext cx="571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ulsacja własna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114800"/>
                <a:ext cx="79246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563280" y="6095880"/>
            <a:ext cx="455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  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stała detektora fazy[1/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5680" y="65088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e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wyjśc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36880" y="34290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nał na wyjściu mnożącego detektora fa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7680" y="5153040"/>
            <a:ext cx="2693880" cy="3682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ładowa „wolnozmien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80880" y="762120"/>
                <a:ext cx="5670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880" y="4267080"/>
                <a:ext cx="31179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0880" y="3048120"/>
                <a:ext cx="3048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343040" y="2971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łąd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676520"/>
                <a:ext cx="213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91160" y="198108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ocnien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20520" y="4267080"/>
            <a:ext cx="549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maksymalne napięcie detektora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" y="5659560"/>
            <a:ext cx="825048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ładowa wolnozmienna jest wyodrębniana przez filtr dolnoprzepustowy (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0880" y="1600200"/>
                <a:ext cx="3200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80880" y="2895480"/>
                <a:ext cx="4496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77640" y="4343400"/>
            <a:ext cx="729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transmitancja (czułość przestrajania)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ażona w rad/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3120" y="68580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trajanie generatora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62560" y="915480"/>
            <a:ext cx="3270960" cy="3639240"/>
            <a:chOff x="5362560" y="915480"/>
            <a:chExt cx="3270960" cy="3639240"/>
          </a:xfrm>
        </p:grpSpPr>
        <p:sp>
          <p:nvSpPr>
            <p:cNvPr id="169" name=""/>
            <p:cNvSpPr/>
            <p:nvPr/>
          </p:nvSpPr>
          <p:spPr>
            <a:xfrm flipH="1">
              <a:off x="5840280" y="1498680"/>
              <a:ext cx="2146320" cy="995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489800" y="1739880"/>
              <a:ext cx="214200" cy="212760"/>
              <a:chOff x="7489800" y="1739880"/>
              <a:chExt cx="214200" cy="21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  <a:lnTo>
                      <a:pt x="0" y="1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89800" y="1739880"/>
                <a:ext cx="214200" cy="2127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0" y="0"/>
                    </a:moveTo>
                    <a:lnTo>
                      <a:pt x="29" y="3"/>
                    </a:lnTo>
                    <a:lnTo>
                      <a:pt x="52" y="11"/>
                    </a:lnTo>
                    <a:lnTo>
                      <a:pt x="75" y="23"/>
                    </a:lnTo>
                    <a:lnTo>
                      <a:pt x="95" y="40"/>
                    </a:lnTo>
                    <a:lnTo>
                      <a:pt x="112" y="60"/>
                    </a:lnTo>
                    <a:lnTo>
                      <a:pt x="124" y="83"/>
                    </a:lnTo>
                    <a:lnTo>
                      <a:pt x="132" y="109"/>
                    </a:lnTo>
                    <a:lnTo>
                      <a:pt x="135" y="134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422920" y="4189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518320" y="4280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8680" y="4125960"/>
              <a:ext cx="317520" cy="30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8120" y="4162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1000" y="1657440"/>
              <a:ext cx="8002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03360" y="1689120"/>
              <a:ext cx="69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arctg 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6560" y="178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560" y="188136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360" y="19810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990720"/>
              <a:ext cx="1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2520" y="1122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927840" y="915480"/>
              <a:ext cx="0" cy="31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81640" y="4033800"/>
              <a:ext cx="30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02400" y="2004840"/>
              <a:ext cx="284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304920"/>
            <a:ext cx="824544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sygnału wejściowego i częstotliwości własnej generatora VCO, przy której układ PLL może dojść do synchronizmu, jest nazyw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chwyt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05920" cy="160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ksymalna różnica częstotliwości między częstotliwością przebiegu wejściowego i częstotliwością własną generatora, przy której układ PLL może utrzymać synchronizm, jest nazywana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kresem trzymania synchronizacji f</a:t>
            </a:r>
            <a:r>
              <a:rPr b="1" i="1" lang="pl-P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80880" y="4071960"/>
                <a:ext cx="2286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124080" y="3886200"/>
            <a:ext cx="6019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rzy transmitancji filtru dla napięcia stałego równej jedności  (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d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880" y="5105520"/>
                <a:ext cx="2590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Ω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3579480" y="54100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smo szumowe pętli 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00:03Z</dcterms:created>
  <dc:creator>MK</dc:creator>
  <dc:description/>
  <dc:language>en-US</dc:language>
  <cp:lastModifiedBy>MK</cp:lastModifiedBy>
  <dcterms:modified xsi:type="dcterms:W3CDTF">2004-04-06T09:38:31Z</dcterms:modified>
  <cp:revision>40</cp:revision>
  <dc:subject/>
  <dc:title>Pętla PLL</dc:title>
</cp:coreProperties>
</file>