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39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088-C758-45F1-A7A7-5AF2E759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40A-CCC7-499B-BE74-73FC8D3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B17-08F9-4670-A2C5-65836299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ACC-8E87-472A-950F-2C7C38EA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660-6A68-4E84-98C8-FE416956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EAB6-9D81-46EE-B972-01030114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2A0-0464-442B-9AFB-EB0E85CB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353-3725-4A28-9553-A8F9F4A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B0A-A128-4C09-8688-6401618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AD5-F768-4644-B26E-3624466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EC1-5834-4E23-A317-279261A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852-1FC3-4D8D-8C99-C4AFBDC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982E-ED4F-47E6-BAC9-CC8188C7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ory 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scylatory L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5800" y="174240"/>
            <a:ext cx="834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75200" y="5549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k, zm, 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22840" y="2838600"/>
            <a:ext cx="49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wody rezonansowe - przypomni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3200" y="181080"/>
            <a:ext cx="8319240" cy="6363000"/>
            <a:chOff x="493200" y="181080"/>
            <a:chExt cx="8319240" cy="6363000"/>
          </a:xfrm>
        </p:grpSpPr>
        <p:sp>
          <p:nvSpPr>
            <p:cNvPr id="146" name=""/>
            <p:cNvSpPr/>
            <p:nvPr/>
          </p:nvSpPr>
          <p:spPr>
            <a:xfrm>
              <a:off x="673560" y="181080"/>
              <a:ext cx="81388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wnoległy obwód rezonansowy jest w rezonansie gdy Im(Y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4240" y="860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3200" y="2820960"/>
              <a:ext cx="7970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zeregowy obwód rezonansowy jest w rezonansie gdy Im(Z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5591160" y="957240"/>
                  <a:ext cx="26989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C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272280" y="3649680"/>
                  <a:ext cx="180504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L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1438200" y="839880"/>
              <a:ext cx="3838320" cy="1698480"/>
              <a:chOff x="1438200" y="839880"/>
              <a:chExt cx="3838320" cy="169848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1438200" y="839880"/>
                <a:ext cx="3838320" cy="1698480"/>
                <a:chOff x="1438200" y="839880"/>
                <a:chExt cx="3838320" cy="16984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1438200" y="839880"/>
                  <a:ext cx="3838320" cy="1666800"/>
                  <a:chOff x="1438200" y="839880"/>
                  <a:chExt cx="3838320" cy="1666800"/>
                </a:xfrm>
              </p:grpSpPr>
              <p:pic>
                <p:nvPicPr>
                  <p:cNvPr id="154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38200" y="839880"/>
                    <a:ext cx="38383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"/>
                  <p:cNvSpPr/>
                  <p:nvPr/>
                </p:nvSpPr>
                <p:spPr>
                  <a:xfrm>
                    <a:off x="1933200" y="1424160"/>
                    <a:ext cx="718920" cy="368280"/>
                  </a:xfrm>
                  <a:prstGeom prst="rect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(j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49040" y="1868400"/>
                    <a:ext cx="70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2389680" y="2170080"/>
                  <a:ext cx="17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prądó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308120" y="1263600"/>
                <a:ext cx="412920" cy="50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117880" y="3427560"/>
              <a:ext cx="3571560" cy="1469880"/>
              <a:chOff x="2117880" y="3427560"/>
              <a:chExt cx="3571560" cy="146988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117880" y="3427560"/>
                <a:ext cx="3571560" cy="1469880"/>
                <a:chOff x="2117880" y="3427560"/>
                <a:chExt cx="3571560" cy="146988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117880" y="3427560"/>
                  <a:ext cx="3571560" cy="1447560"/>
                  <a:chOff x="2117880" y="3427560"/>
                  <a:chExt cx="3571560" cy="144756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7880" y="3427560"/>
                    <a:ext cx="35715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"/>
                  <p:cNvSpPr/>
                  <p:nvPr/>
                </p:nvSpPr>
                <p:spPr>
                  <a:xfrm>
                    <a:off x="2479680" y="3800520"/>
                    <a:ext cx="752400" cy="398880"/>
                  </a:xfrm>
                  <a:prstGeom prst="rect">
                    <a:avLst/>
                  </a:prstGeom>
                  <a:solidFill>
                    <a:srgbClr val="cc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(j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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22240" y="4295880"/>
                    <a:ext cx="81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052440" y="4529160"/>
                  <a:ext cx="1651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zonans napięć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4952880" y="3718080"/>
                <a:ext cx="412200" cy="42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452840" y="297504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5591160" y="1836720"/>
                  <a:ext cx="165276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L</m:t>
                              </m:r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1006920" y="6033960"/>
              <a:ext cx="656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Q - dobroć obwodu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, 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- rezystancje dynamicz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4630680" y="5119560"/>
                  <a:ext cx="166860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969480" y="5227560"/>
              <a:ext cx="36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zęstotliwość rezonansow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23840" y="1141560"/>
            <a:ext cx="2086200" cy="21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871880" y="1170000"/>
            <a:ext cx="2610000" cy="2048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62200" y="2046240"/>
            <a:ext cx="1059120" cy="263520"/>
          </a:xfrm>
          <a:prstGeom prst="rightArrow">
            <a:avLst>
              <a:gd name="adj1" fmla="val 50000"/>
              <a:gd name="adj2" fmla="val 100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42960" y="3218040"/>
                <a:ext cx="986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83240" y="3135240"/>
                <a:ext cx="154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092240" y="4576680"/>
                <a:ext cx="3106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eżeli:   </m:t>
                    </m:r>
                    <m:r>
                      <m:t xml:space="preserve">ω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161000" y="5600880"/>
            <a:ext cx="3215880" cy="452160"/>
            <a:chOff x="1161000" y="5600880"/>
            <a:chExt cx="3215880" cy="452160"/>
          </a:xfrm>
        </p:grpSpPr>
        <p:sp>
          <p:nvSpPr>
            <p:cNvPr id="179" name=""/>
            <p:cNvSpPr/>
            <p:nvPr/>
          </p:nvSpPr>
          <p:spPr>
            <a:xfrm>
              <a:off x="1161000" y="56008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ówcza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2890800" y="5600880"/>
                  <a:ext cx="148608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274680" y="61596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 ogół straty cewki decydują o dobroci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3200" y="5796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ównoległy model obw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10520" y="4010040"/>
            <a:ext cx="6050520" cy="450720"/>
            <a:chOff x="1010520" y="4010040"/>
            <a:chExt cx="6050520" cy="45072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334120" y="4010040"/>
                  <a:ext cx="17269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≃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"/>
            <p:cNvSpPr/>
            <p:nvPr/>
          </p:nvSpPr>
          <p:spPr>
            <a:xfrm>
              <a:off x="1010520" y="4030560"/>
              <a:ext cx="402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roci obu obwodów są takie sam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22840" y="3348000"/>
                <a:ext cx="1463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463920" y="1552680"/>
                <a:ext cx="11476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4935600" y="4757760"/>
            <a:ext cx="3517920" cy="1557000"/>
            <a:chOff x="4935600" y="4757760"/>
            <a:chExt cx="3517920" cy="1557000"/>
          </a:xfrm>
        </p:grpSpPr>
        <p:sp>
          <p:nvSpPr>
            <p:cNvPr id="189" name=""/>
            <p:cNvSpPr/>
            <p:nvPr/>
          </p:nvSpPr>
          <p:spPr>
            <a:xfrm>
              <a:off x="4935600" y="4757760"/>
              <a:ext cx="3517920" cy="155700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leży dążyć 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żego stosunk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7289640" y="5318280"/>
                  <a:ext cx="3574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6744960" y="2049480"/>
            <a:ext cx="394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86440" y="1397160"/>
            <a:ext cx="313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25600" y="469800"/>
            <a:ext cx="7034040" cy="92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rezonansie (dl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bwód rezonan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zastąpić jego rezystancją dynamiczną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5400" y="1582560"/>
            <a:ext cx="6594480" cy="4386600"/>
            <a:chOff x="725400" y="1582560"/>
            <a:chExt cx="6594480" cy="4386600"/>
          </a:xfrm>
        </p:grpSpPr>
        <p:pic>
          <p:nvPicPr>
            <p:cNvPr id="195" name="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1025640" y="1582560"/>
              <a:ext cx="2085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25400" y="3921120"/>
              <a:ext cx="261000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634000" y="2374920"/>
              <a:ext cx="16858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856800">
              <a:off x="3511080" y="2662200"/>
              <a:ext cx="1640160" cy="300240"/>
            </a:xfrm>
            <a:prstGeom prst="rightArrow">
              <a:avLst>
                <a:gd name="adj1" fmla="val 50000"/>
                <a:gd name="adj2" fmla="val 136571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0743200">
              <a:off x="3574800" y="4066560"/>
              <a:ext cx="1639800" cy="299880"/>
            </a:xfrm>
            <a:prstGeom prst="rightArrow">
              <a:avLst>
                <a:gd name="adj1" fmla="val 50000"/>
                <a:gd name="adj2" fmla="val 1367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10160" y="32670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8480" y="4800600"/>
              <a:ext cx="394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03720" y="1803240"/>
              <a:ext cx="3132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74960" y="3182760"/>
            <a:ext cx="123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poprawki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728640"/>
            <a:ext cx="8474040" cy="1092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żeli w obwodzie straty są wnoszone niezależnie przez cewki i przez kondensatory (rys.), wówczas częstotliwość rezonansowa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 ulec zmianie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20880" y="1782720"/>
            <a:ext cx="6751080" cy="1996920"/>
            <a:chOff x="920880" y="1782720"/>
            <a:chExt cx="6751080" cy="1996920"/>
          </a:xfrm>
        </p:grpSpPr>
        <p:sp>
          <p:nvSpPr>
            <p:cNvPr id="208" name=""/>
            <p:cNvSpPr/>
            <p:nvPr/>
          </p:nvSpPr>
          <p:spPr>
            <a:xfrm>
              <a:off x="2107080" y="2988720"/>
              <a:ext cx="141840" cy="3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74040" y="27324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4040" y="3323160"/>
              <a:ext cx="1440" cy="169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4640" y="3060720"/>
              <a:ext cx="30132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276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39720" y="3166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3800" y="244116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53800" y="2524320"/>
              <a:ext cx="2440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4040" y="2232000"/>
              <a:ext cx="4680" cy="21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9080" y="2535840"/>
              <a:ext cx="1440" cy="211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8440" y="258120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7720" y="2615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99440" y="2356560"/>
              <a:ext cx="252720" cy="126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9440" y="2479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9440" y="2596320"/>
              <a:ext cx="252720" cy="120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8200" y="2333880"/>
              <a:ext cx="158040" cy="4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39480" y="2228040"/>
              <a:ext cx="5040" cy="132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39480" y="2724480"/>
              <a:ext cx="5040" cy="135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5000" y="3462480"/>
              <a:ext cx="58680" cy="489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2633760"/>
              <a:ext cx="141480" cy="339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7760" y="2232000"/>
              <a:ext cx="2880" cy="41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7760" y="2966040"/>
              <a:ext cx="2880" cy="52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68000" y="2705760"/>
              <a:ext cx="3013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64480" y="2735640"/>
              <a:ext cx="173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3760" y="2349000"/>
              <a:ext cx="141840" cy="338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70720" y="221688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70720" y="267912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0960" y="2418480"/>
              <a:ext cx="301320" cy="245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47120" y="245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55120" y="25282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4320" y="2984760"/>
              <a:ext cx="144720" cy="342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4520" y="2856960"/>
              <a:ext cx="1440" cy="13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4520" y="3319200"/>
              <a:ext cx="1440" cy="16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63680" y="3056760"/>
              <a:ext cx="302760" cy="243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46120" y="30906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2720" y="3166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23600" y="250200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23600" y="2585160"/>
              <a:ext cx="244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7800" y="2220480"/>
              <a:ext cx="1440" cy="288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2760" y="2596320"/>
              <a:ext cx="5040" cy="252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4960" y="2641680"/>
              <a:ext cx="30312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6040" y="2671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0" y="2422440"/>
              <a:ext cx="301320" cy="24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8240" y="2452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174040" y="2232000"/>
              <a:ext cx="17762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169360" y="3489120"/>
              <a:ext cx="1781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4520" y="199800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4520" y="3500280"/>
              <a:ext cx="1440" cy="267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0040" y="220932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0320" y="197532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0320" y="373428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4080" y="3364560"/>
              <a:ext cx="373320" cy="128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540840" y="3421080"/>
              <a:ext cx="691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355720" y="3421080"/>
              <a:ext cx="83268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1520" y="3075480"/>
              <a:ext cx="1227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pl-PL" sz="1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8040" y="2360520"/>
              <a:ext cx="141840" cy="337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88240" y="2228040"/>
              <a:ext cx="1440" cy="143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8240" y="2690280"/>
              <a:ext cx="1440" cy="166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0640" y="2430000"/>
              <a:ext cx="301320" cy="245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1840" y="24638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9480" y="2539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62480" y="2216880"/>
              <a:ext cx="268200" cy="627840"/>
              <a:chOff x="7062480" y="2216880"/>
              <a:chExt cx="268200" cy="627840"/>
            </a:xfrm>
          </p:grpSpPr>
          <p:sp>
            <p:nvSpPr>
              <p:cNvPr id="270" name=""/>
              <p:cNvSpPr/>
              <p:nvPr/>
            </p:nvSpPr>
            <p:spPr>
              <a:xfrm>
                <a:off x="7078680" y="2345040"/>
                <a:ext cx="252000" cy="126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8680" y="2463480"/>
                <a:ext cx="252000" cy="1242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78680" y="2584800"/>
                <a:ext cx="252000" cy="120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62480" y="2322360"/>
                <a:ext cx="152640" cy="40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23400" y="2216880"/>
                <a:ext cx="18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3400" y="2712600"/>
                <a:ext cx="1800" cy="132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369200" y="2411280"/>
              <a:ext cx="302760" cy="241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8560" y="244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879600" y="2224440"/>
              <a:ext cx="34020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888240" y="2853000"/>
              <a:ext cx="343440" cy="3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334120" y="221688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334120" y="2849040"/>
              <a:ext cx="335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350680" y="2848680"/>
              <a:ext cx="5040" cy="575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7228080" y="2834280"/>
              <a:ext cx="3240" cy="59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6080" y="1982880"/>
              <a:ext cx="144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960" y="2198160"/>
              <a:ext cx="5724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2960" y="1960200"/>
              <a:ext cx="5724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2040" y="1982880"/>
              <a:ext cx="1800" cy="27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99280" y="2198160"/>
              <a:ext cx="586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99280" y="1960200"/>
              <a:ext cx="58680" cy="453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2826360"/>
              <a:ext cx="53640" cy="453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9280" y="2830320"/>
              <a:ext cx="58680" cy="486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5884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20880" y="297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160" y="1782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5760" y="192024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9480" y="3840120"/>
            <a:ext cx="8660160" cy="5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oległy obwód rezonansowy jest w rezonansie gdy Im[Y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6160" y="4491000"/>
            <a:ext cx="8690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eregowy obwód rezonansowy jest w rezonansie gdy Im[Z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06480" y="5241960"/>
            <a:ext cx="6788160" cy="1191240"/>
            <a:chOff x="906480" y="5241960"/>
            <a:chExt cx="6788160" cy="1191240"/>
          </a:xfrm>
        </p:grpSpPr>
        <p:sp>
          <p:nvSpPr>
            <p:cNvPr id="299" name=""/>
            <p:cNvSpPr/>
            <p:nvPr/>
          </p:nvSpPr>
          <p:spPr>
            <a:xfrm>
              <a:off x="906480" y="5241960"/>
              <a:ext cx="6788160" cy="1191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obu przypadkach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4307040" y="5502240"/>
                  <a:ext cx="2590560" cy="7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ez</m:t>
                          </m:r>
                        </m:sub>
                      </m:sSub>
                      <m:r>
                        <m:t xml:space="preserve">≈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1" name=""/>
          <p:cNvSpPr/>
          <p:nvPr/>
        </p:nvSpPr>
        <p:spPr>
          <a:xfrm>
            <a:off x="4692960" y="5361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451080" y="268200"/>
            <a:ext cx="8073360" cy="5752440"/>
            <a:chOff x="451080" y="268200"/>
            <a:chExt cx="8073360" cy="5752440"/>
          </a:xfrm>
        </p:grpSpPr>
        <p:sp>
          <p:nvSpPr>
            <p:cNvPr id="303" name=""/>
            <p:cNvSpPr/>
            <p:nvPr/>
          </p:nvSpPr>
          <p:spPr>
            <a:xfrm>
              <a:off x="451080" y="268200"/>
              <a:ext cx="8073360" cy="57524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óżnice pomiędzy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zeczywistą częstotliwością rezonansow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e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teoretyczną częstotliwością:                                nazywa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iniowymi poprawkami częstotliwośc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nieważ można je dokładnie obliczyć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nając parametry obwodu rezonansoweg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iowe poprawki częstotliwości mogą być dodatnie lub ujem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4459320" y="1666800"/>
                  <a:ext cx="194292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  <m:r>
                                <m:t xml:space="preserve">⋅</m:t>
                              </m:r>
                              <m:r>
                                <m:t xml:space="preserve">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04880" y="890640"/>
            <a:ext cx="7694640" cy="376236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63840" y="2079720"/>
                <a:ext cx="6278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den>
                        </m:f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zy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przy czym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523160" y="1163520"/>
            <a:ext cx="63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równoległego [Im(Y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85720" y="1130400"/>
            <a:ext cx="7694640" cy="38383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98800" y="1995480"/>
                <a:ext cx="4760640" cy="23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przy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L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L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jeżeli: 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: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06600" y="5351400"/>
            <a:ext cx="7788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częstotliwości wynika z zasady równowagi mocy biernej harmonicznych, sformułowanej przez J. Groszkowsk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prawka nieliniowa jest zawsze uje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303200"/>
            <a:ext cx="630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 obwodu szeregowego [Im(Z (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) = 0 !] otrzymujem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lektywny wzmacniacz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Sp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43640" y="11397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ystor (lampa) jest obciążony obwodem rezonansow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54280" y="2252520"/>
            <a:ext cx="5381640" cy="3681720"/>
            <a:chOff x="1754280" y="2252520"/>
            <a:chExt cx="5381640" cy="36817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754280" y="2252520"/>
              <a:ext cx="538164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587680" y="4230720"/>
              <a:ext cx="6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523800" y="912960"/>
            <a:ext cx="7524720" cy="5661000"/>
            <a:chOff x="523800" y="912960"/>
            <a:chExt cx="7524720" cy="56610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523800" y="912960"/>
              <a:ext cx="7524720" cy="56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108520" y="1467000"/>
              <a:ext cx="154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=348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6800" y="2795760"/>
              <a:ext cx="16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U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348V/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81960" y="2011320"/>
              <a:ext cx="103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pl-PL" sz="2400" spc="-1" strike="noStrike" baseline="-25000">
                  <a:solidFill>
                    <a:srgbClr val="008000"/>
                  </a:solidFill>
                  <a:latin typeface="Times New Roman"/>
                </a:rPr>
                <a:t>g</a:t>
              </a:r>
              <a:r>
                <a:rPr b="0" lang="pl-PL" sz="2400" spc="-1" strike="noStrike">
                  <a:solidFill>
                    <a:srgbClr val="008000"/>
                  </a:solidFill>
                  <a:latin typeface="Times New Roman"/>
                </a:rPr>
                <a:t>=1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4880" y="1720800"/>
              <a:ext cx="89064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2984400"/>
            <a:ext cx="31752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sm" type="stealth" w="med"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3680" y="1784520"/>
            <a:ext cx="0" cy="1180800"/>
          </a:xfrm>
          <a:prstGeom prst="line">
            <a:avLst/>
          </a:prstGeom>
          <a:ln w="93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1840" y="17589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13200" y="2984400"/>
            <a:ext cx="52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99120" y="19843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8600" y="1771560"/>
            <a:ext cx="0" cy="4334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4960" y="5460840"/>
            <a:ext cx="170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1,02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6041880" y="3733920"/>
                <a:ext cx="128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121360" y="3292560"/>
                <a:ext cx="7300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flipH="1" flipV="1">
            <a:off x="4704840" y="3066840"/>
            <a:ext cx="3430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ęcia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50680" y="1523880"/>
            <a:ext cx="6688080" cy="4300560"/>
            <a:chOff x="850680" y="1523880"/>
            <a:chExt cx="6688080" cy="4300560"/>
          </a:xfrm>
        </p:grpSpPr>
        <p:sp>
          <p:nvSpPr>
            <p:cNvPr id="46" name=""/>
            <p:cNvSpPr/>
            <p:nvPr/>
          </p:nvSpPr>
          <p:spPr>
            <a:xfrm>
              <a:off x="3124080" y="3809880"/>
              <a:ext cx="2362320" cy="1143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86400" y="40384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24480" y="398304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86400" y="46479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459252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1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12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298600">
              <a:off x="4906800" y="5410080"/>
              <a:ext cx="108000" cy="108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440" y="4951440"/>
              <a:ext cx="0" cy="47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41148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05360" y="4178160"/>
              <a:ext cx="152640" cy="36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81680" y="4530600"/>
              <a:ext cx="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7680" y="464796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57680" y="403848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0384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52880" y="550836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5644800"/>
              <a:ext cx="53352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360" y="5645160"/>
              <a:ext cx="552600" cy="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400" y="5562360"/>
              <a:ext cx="0" cy="179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9360" y="546408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28800" y="1523880"/>
              <a:ext cx="5029200" cy="2014560"/>
              <a:chOff x="1828800" y="1523880"/>
              <a:chExt cx="5029200" cy="2014560"/>
            </a:xfrm>
          </p:grpSpPr>
          <p:sp>
            <p:nvSpPr>
              <p:cNvPr id="68" name=""/>
              <p:cNvSpPr/>
              <p:nvPr/>
            </p:nvSpPr>
            <p:spPr>
              <a:xfrm>
                <a:off x="3124440" y="1523880"/>
                <a:ext cx="2361960" cy="1143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864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840" y="169704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864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24840" y="23065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175248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97080" y="169992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361960"/>
                <a:ext cx="838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7080" y="2305080"/>
                <a:ext cx="108000" cy="10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51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51560" y="3124080"/>
                <a:ext cx="10764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298600">
                <a:off x="4907160" y="3124080"/>
                <a:ext cx="108000" cy="1080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440" y="2665440"/>
                <a:ext cx="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7200" y="1828800"/>
                <a:ext cx="1758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zmacnia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lektywn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28800" y="1892160"/>
                <a:ext cx="15264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705720" y="1892160"/>
                <a:ext cx="152280" cy="360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5804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5804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8204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5120" y="236196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05120" y="1752480"/>
                <a:ext cx="32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244600"/>
                <a:ext cx="0" cy="12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7524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810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3240" y="3222360"/>
                <a:ext cx="0" cy="17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3810240" y="3358800"/>
                <a:ext cx="53316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3359160"/>
                <a:ext cx="552600" cy="1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43400" y="3276360"/>
                <a:ext cx="0" cy="179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9720" y="3178080"/>
                <a:ext cx="0" cy="360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6945120" y="1828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70360" y="1828800"/>
              <a:ext cx="537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1080" y="411480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4080" y="2971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0400" y="52578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asila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190476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057400"/>
              <a:ext cx="255600" cy="255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504800" y="19047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501560" y="236196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523880" y="1752480"/>
              <a:ext cx="3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23880" y="1752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9560" y="233352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71640" y="1730160"/>
              <a:ext cx="54000" cy="54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0680" y="1828800"/>
              <a:ext cx="43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Charakterystyki wzmacniacza rezonans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3600" y="1052640"/>
            <a:ext cx="8143920" cy="5530680"/>
            <a:chOff x="363600" y="1052640"/>
            <a:chExt cx="8143920" cy="5530680"/>
          </a:xfrm>
        </p:grpSpPr>
        <p:grpSp>
          <p:nvGrpSpPr>
            <p:cNvPr id="337" name=""/>
            <p:cNvGrpSpPr/>
            <p:nvPr/>
          </p:nvGrpSpPr>
          <p:grpSpPr>
            <a:xfrm>
              <a:off x="363600" y="1052640"/>
              <a:ext cx="8143920" cy="5530680"/>
              <a:chOff x="363600" y="1052640"/>
              <a:chExt cx="8143920" cy="553068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600" y="1052640"/>
                <a:ext cx="8143920" cy="55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5187600" y="4410000"/>
                <a:ext cx="1046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faza 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76880" y="2727360"/>
                <a:ext cx="100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Re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08480" y="1253880"/>
                <a:ext cx="100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Im(k</a:t>
                </a:r>
                <a:r>
                  <a:rPr b="0" lang="pl-P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pl-PL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3320" y="2993760"/>
                <a:ext cx="107604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6308280" y="1509480"/>
                <a:ext cx="73188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 flipH="1">
              <a:off x="5071680" y="4813200"/>
              <a:ext cx="44460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51000" y="47070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-180</a:t>
              </a:r>
              <a:r>
                <a:rPr b="0" lang="en-US" sz="1800" spc="-1" strike="noStrike" baseline="30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2200" y="5413320"/>
              <a:ext cx="170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=1.02M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18120" y="5776920"/>
              <a:ext cx="593640" cy="309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7000" y="5032440"/>
              <a:ext cx="751068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5040" y="1995480"/>
              <a:ext cx="751032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80960" y="162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2400" y="2941560"/>
              <a:ext cx="853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347,6 )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860720" y="3092400"/>
              <a:ext cx="879480" cy="26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12600" y="301140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040" y="5470560"/>
            <a:ext cx="835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46160" y="152280"/>
            <a:ext cx="8543880" cy="6461280"/>
            <a:chOff x="146160" y="152280"/>
            <a:chExt cx="8543880" cy="6461280"/>
          </a:xfrm>
        </p:grpSpPr>
        <p:grpSp>
          <p:nvGrpSpPr>
            <p:cNvPr id="357" name=""/>
            <p:cNvGrpSpPr/>
            <p:nvPr/>
          </p:nvGrpSpPr>
          <p:grpSpPr>
            <a:xfrm>
              <a:off x="371520" y="152280"/>
              <a:ext cx="8318520" cy="6461280"/>
              <a:chOff x="371520" y="152280"/>
              <a:chExt cx="8318520" cy="646128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492200" y="15228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1492200" y="2163600"/>
                <a:ext cx="7197840" cy="21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492200" y="4454640"/>
                <a:ext cx="719784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5200920" y="493560"/>
                <a:ext cx="113940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36.9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8520" y="2328840"/>
                <a:ext cx="9410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.34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05240" y="4681440"/>
                <a:ext cx="813240" cy="398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96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2240" y="835200"/>
                <a:ext cx="1093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" y="2722680"/>
                <a:ext cx="1221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1520" y="4983120"/>
                <a:ext cx="1349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=100m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46160" y="284040"/>
              <a:ext cx="26827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Symulacja PSp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6160" y="644400"/>
            <a:ext cx="8775720" cy="6000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161320" y="152892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19,2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74000" y="24843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3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13560" y="4341960"/>
            <a:ext cx="18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38,9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7280" y="847800"/>
            <a:ext cx="3959280" cy="5300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5000" y="1343160"/>
            <a:ext cx="17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8000"/>
                </a:solidFill>
                <a:latin typeface="Times New Roman"/>
              </a:rPr>
              <a:t>AC</a:t>
            </a:r>
            <a:r>
              <a:rPr b="0" lang="pl-PL" sz="24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01560" y="5484960"/>
            <a:ext cx="134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=348V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68160" y="5776920"/>
            <a:ext cx="679680" cy="322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966680" y="4403520"/>
            <a:ext cx="952200" cy="16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3376080" y="2572920"/>
            <a:ext cx="879480" cy="11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63720" y="1112760"/>
            <a:ext cx="50796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28720" y="1062000"/>
            <a:ext cx="129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0V/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900400" y="964800"/>
            <a:ext cx="345960" cy="320760"/>
          </a:xfrm>
          <a:prstGeom prst="line">
            <a:avLst/>
          </a:prstGeom>
          <a:ln w="1908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22880" y="5353200"/>
            <a:ext cx="2549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ymulacja P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0800" y="9334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kład lini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17960" y="1274760"/>
            <a:ext cx="766800" cy="333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6480" y="86688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2238480" y="898560"/>
            <a:ext cx="5484960" cy="3379680"/>
            <a:chOff x="2238480" y="898560"/>
            <a:chExt cx="5484960" cy="3379680"/>
          </a:xfrm>
        </p:grpSpPr>
        <p:sp>
          <p:nvSpPr>
            <p:cNvPr id="387" name=""/>
            <p:cNvSpPr/>
            <p:nvPr/>
          </p:nvSpPr>
          <p:spPr>
            <a:xfrm flipV="1">
              <a:off x="2249640" y="920520"/>
              <a:ext cx="0" cy="331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8480" y="4245120"/>
              <a:ext cx="48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49640" y="1609560"/>
              <a:ext cx="4511520" cy="2668680"/>
            </a:xfrm>
            <a:custGeom>
              <a:avLst/>
              <a:gdLst/>
              <a:ahLst/>
              <a:rect l="l" t="t" r="r" b="b"/>
              <a:pathLst>
                <a:path w="3389" h="2265">
                  <a:moveTo>
                    <a:pt x="0" y="0"/>
                  </a:moveTo>
                  <a:cubicBezTo>
                    <a:pt x="447" y="3"/>
                    <a:pt x="895" y="7"/>
                    <a:pt x="1192" y="15"/>
                  </a:cubicBezTo>
                  <a:cubicBezTo>
                    <a:pt x="1489" y="23"/>
                    <a:pt x="1636" y="34"/>
                    <a:pt x="1784" y="46"/>
                  </a:cubicBezTo>
                  <a:cubicBezTo>
                    <a:pt x="1932" y="58"/>
                    <a:pt x="2008" y="55"/>
                    <a:pt x="2080" y="85"/>
                  </a:cubicBezTo>
                  <a:cubicBezTo>
                    <a:pt x="2152" y="115"/>
                    <a:pt x="2171" y="121"/>
                    <a:pt x="2213" y="226"/>
                  </a:cubicBezTo>
                  <a:cubicBezTo>
                    <a:pt x="2255" y="331"/>
                    <a:pt x="2292" y="522"/>
                    <a:pt x="2330" y="717"/>
                  </a:cubicBezTo>
                  <a:cubicBezTo>
                    <a:pt x="2368" y="912"/>
                    <a:pt x="2391" y="1160"/>
                    <a:pt x="2439" y="1395"/>
                  </a:cubicBezTo>
                  <a:cubicBezTo>
                    <a:pt x="2487" y="1630"/>
                    <a:pt x="2460" y="1989"/>
                    <a:pt x="2618" y="2127"/>
                  </a:cubicBezTo>
                  <a:cubicBezTo>
                    <a:pt x="2776" y="2265"/>
                    <a:pt x="3229" y="2202"/>
                    <a:pt x="3389" y="2221"/>
                  </a:cubicBezTo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4440" y="3718080"/>
              <a:ext cx="999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, 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4880" y="898560"/>
              <a:ext cx="1017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0" lang="pl-PL" sz="20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leżność wzmocnienia wzmacniacza od amplitudy sygna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6160" y="4805280"/>
            <a:ext cx="8777160" cy="124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aka jest typowa zależność wzmocnienia K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acniac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zmocnienie zawsze maleje przy wzroście poziomu sygnał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6160" y="1185840"/>
            <a:ext cx="877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stawanie drgań wynika z niestabilności wzmacniac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ętego sprzężeniem zwrot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477800" y="2424240"/>
            <a:ext cx="4036320" cy="2891520"/>
            <a:chOff x="1477800" y="2424240"/>
            <a:chExt cx="4036320" cy="2891520"/>
          </a:xfrm>
        </p:grpSpPr>
        <p:sp>
          <p:nvSpPr>
            <p:cNvPr id="397" name=""/>
            <p:cNvSpPr/>
            <p:nvPr/>
          </p:nvSpPr>
          <p:spPr>
            <a:xfrm>
              <a:off x="3333240" y="2424240"/>
              <a:ext cx="1320840" cy="1071720"/>
            </a:xfrm>
            <a:prstGeom prst="rect">
              <a:avLst/>
            </a:prstGeom>
            <a:solidFill>
              <a:srgbClr val="cc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12040" y="2784600"/>
              <a:ext cx="188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0880" y="4248000"/>
              <a:ext cx="1320840" cy="106776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2400" y="4593240"/>
              <a:ext cx="19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872440" y="2689200"/>
              <a:ext cx="108720" cy="583200"/>
              <a:chOff x="2872440" y="2689200"/>
              <a:chExt cx="108720" cy="58320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2924640" y="2689200"/>
                <a:ext cx="2160" cy="583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72440" y="2689200"/>
                <a:ext cx="108720" cy="110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50"/>
                    </a:moveTo>
                    <a:lnTo>
                      <a:pt x="24" y="0"/>
                    </a:ln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671840" y="2594160"/>
              <a:ext cx="166140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58600" y="3352680"/>
              <a:ext cx="674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2001600" y="5192280"/>
              <a:ext cx="1342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2920" y="3363840"/>
              <a:ext cx="2160" cy="1001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1667160" y="3500640"/>
              <a:ext cx="340560" cy="4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658240" y="4365360"/>
              <a:ext cx="7009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75760" y="2890440"/>
              <a:ext cx="329760" cy="34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2640" y="29325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720" y="3038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5600" y="2784600"/>
              <a:ext cx="335880" cy="344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7800" y="2826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4040" y="2932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8080" y="3511440"/>
              <a:ext cx="2160" cy="168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097360" y="3675600"/>
              <a:ext cx="486360" cy="112320"/>
              <a:chOff x="2097360" y="3675600"/>
              <a:chExt cx="486360" cy="112320"/>
            </a:xfrm>
          </p:grpSpPr>
          <p:sp>
            <p:nvSpPr>
              <p:cNvPr id="418" name=""/>
              <p:cNvSpPr/>
              <p:nvPr/>
            </p:nvSpPr>
            <p:spPr>
              <a:xfrm>
                <a:off x="2097360" y="3735000"/>
                <a:ext cx="4863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97360" y="3675600"/>
                <a:ext cx="108720" cy="1123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0"/>
                    </a:moveTo>
                    <a:lnTo>
                      <a:pt x="0" y="27"/>
                    </a:lnTo>
                    <a:lnTo>
                      <a:pt x="5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191680" y="3314880"/>
              <a:ext cx="329040" cy="360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32720" y="3357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90040" y="34628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63120" y="3352680"/>
              <a:ext cx="2160" cy="997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71720" y="2540880"/>
              <a:ext cx="8424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6400" y="4349880"/>
              <a:ext cx="4928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54440" y="3352680"/>
              <a:ext cx="51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71720" y="5161320"/>
              <a:ext cx="8380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06200" y="2549880"/>
              <a:ext cx="3960" cy="261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07520" y="2656080"/>
              <a:ext cx="108720" cy="563040"/>
              <a:chOff x="4907520" y="2656080"/>
              <a:chExt cx="108720" cy="56304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4959720" y="2656080"/>
                <a:ext cx="2160" cy="563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07520" y="2656080"/>
                <a:ext cx="108720" cy="11268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51"/>
                    </a:moveTo>
                    <a:lnTo>
                      <a:pt x="24" y="0"/>
                    </a:lnTo>
                    <a:lnTo>
                      <a:pt x="0" y="51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023440" y="2761920"/>
              <a:ext cx="349560" cy="35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75640" y="281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2960" y="2917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7800" y="2848320"/>
              <a:ext cx="399240" cy="4089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55920" y="3012120"/>
              <a:ext cx="10044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55920" y="3049920"/>
              <a:ext cx="100440" cy="94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67160" y="3012120"/>
              <a:ext cx="98280" cy="10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67160" y="2981160"/>
              <a:ext cx="98280" cy="990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671840" y="2594160"/>
              <a:ext cx="1800" cy="24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671840" y="3246120"/>
              <a:ext cx="1800" cy="24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949040" y="2833200"/>
              <a:ext cx="121680" cy="481320"/>
              <a:chOff x="1949040" y="2833200"/>
              <a:chExt cx="121680" cy="481320"/>
            </a:xfrm>
          </p:grpSpPr>
          <p:sp>
            <p:nvSpPr>
              <p:cNvPr id="443" name=""/>
              <p:cNvSpPr/>
              <p:nvPr/>
            </p:nvSpPr>
            <p:spPr>
              <a:xfrm>
                <a:off x="2007720" y="2833200"/>
                <a:ext cx="2160" cy="481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49040" y="2833200"/>
                <a:ext cx="121680" cy="11448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56" y="52"/>
                    </a:moveTo>
                    <a:lnTo>
                      <a:pt x="27" y="0"/>
                    </a:lnTo>
                    <a:lnTo>
                      <a:pt x="0" y="5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83240" y="2556360"/>
              <a:ext cx="72000" cy="684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8324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03040" y="4334400"/>
              <a:ext cx="69480" cy="615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18320" y="25077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33800" y="431640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8920" y="5130000"/>
              <a:ext cx="74160" cy="6192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18320" y="3319560"/>
              <a:ext cx="7200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20320" y="5161320"/>
              <a:ext cx="67680" cy="6408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931000" y="2717640"/>
                <a:ext cx="27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     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978520" y="4143240"/>
                <a:ext cx="2130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89280" y="969840"/>
            <a:ext cx="685116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kład staje się niestabilny przy spełnieniu warunku, nazy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runkiem generac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09560" y="2205000"/>
            <a:ext cx="7677000" cy="429840"/>
            <a:chOff x="709560" y="2205000"/>
            <a:chExt cx="7677000" cy="429840"/>
          </a:xfrm>
        </p:grpSpPr>
        <p:grpSp>
          <p:nvGrpSpPr>
            <p:cNvPr id="459" name=""/>
            <p:cNvGrpSpPr/>
            <p:nvPr/>
          </p:nvGrpSpPr>
          <p:grpSpPr>
            <a:xfrm>
              <a:off x="709560" y="2205000"/>
              <a:ext cx="7677000" cy="429840"/>
              <a:chOff x="709560" y="2205000"/>
              <a:chExt cx="7677000" cy="429840"/>
            </a:xfrm>
          </p:grpSpPr>
          <mc:AlternateContent>
            <mc:Choice xmlns:a14="http://schemas.microsoft.com/office/drawing/2010/main" Requires="a14">
              <p:sp>
                <p:nvSpPr>
                  <p:cNvPr id="460" name=""/>
                  <p:cNvSpPr txBox="1"/>
                  <p:nvPr/>
                </p:nvSpPr>
                <p:spPr>
                  <a:xfrm>
                    <a:off x="709560" y="2220120"/>
                    <a:ext cx="1099440" cy="4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2930400" y="2205000"/>
                    <a:ext cx="5456160" cy="42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j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2" name=""/>
            <p:cNvSpPr/>
            <p:nvPr/>
          </p:nvSpPr>
          <p:spPr>
            <a:xfrm>
              <a:off x="2017800" y="240192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6160" y="3273480"/>
            <a:ext cx="8638920" cy="2117160"/>
            <a:chOff x="146160" y="3273480"/>
            <a:chExt cx="8638920" cy="2117160"/>
          </a:xfrm>
        </p:grpSpPr>
        <p:sp>
          <p:nvSpPr>
            <p:cNvPr id="464" name=""/>
            <p:cNvSpPr/>
            <p:nvPr/>
          </p:nvSpPr>
          <p:spPr>
            <a:xfrm>
              <a:off x="146160" y="4190760"/>
              <a:ext cx="3736800" cy="1199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561960" y="4821120"/>
                  <a:ext cx="7920000" cy="44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                   </m:t>
                      </m:r>
                      <m:r>
                        <m:rPr>
                          <m:lit/>
                          <m:nor/>
                        </m:rPr>
                        <m:t xml:space="preserve">I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u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rPr>
                          <m:lit/>
                          <m:nor/>
                        </m:rPr>
                        <m:t xml:space="preserve">lub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185040" y="4317840"/>
              <a:ext cx="367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arunek amplitudy - wzmocnien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90280" y="3273480"/>
              <a:ext cx="3091680" cy="3988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ąd wynikają dwa warunki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157640" y="4190760"/>
              <a:ext cx="4627440" cy="1199880"/>
              <a:chOff x="4157640" y="4190760"/>
              <a:chExt cx="4627440" cy="1199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888440" y="4323960"/>
                <a:ext cx="30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runek fazy - częstotliwoś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57640" y="4190760"/>
                <a:ext cx="4627440" cy="119988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owe warunki generacji - liniowa teoria gene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6160" y="795240"/>
            <a:ext cx="868680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yby układ wzmacniacza był rzeczywiście liniowy, to ścisłe spełnienie warunku  byłoby trudne (a nawet niemożliwe), ze względu na rozrzuty i fluktuacje parametrów ukła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ek generacji jest zatem zastępowany warunkiem silniejszym, zapewniającym wzbudzenie drgań w początkowym punkci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722760" y="3465360"/>
                <a:ext cx="15285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1676520" y="4538520"/>
            <a:ext cx="508176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ie ulega tylko warunek ampli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6200" y="1531800"/>
            <a:ext cx="853992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iowe warunki generacji umożliwiają określ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zy generator się wzbud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 ich pomocy nie da się określić amplitudy generowanych drg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reślenie amplitudy drgań umożliwia (w przybliżeni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eliniowa teoria gen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46160" y="1177920"/>
            <a:ext cx="867384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934920" y="727200"/>
            <a:ext cx="2909880" cy="1163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4200" y="3773520"/>
            <a:ext cx="800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846000" y="3561840"/>
            <a:ext cx="0" cy="211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000" y="3562200"/>
            <a:ext cx="4267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6640" y="356400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29000" y="3551400"/>
            <a:ext cx="0" cy="2221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61080" y="3575160"/>
            <a:ext cx="0" cy="21096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68760" y="853920"/>
            <a:ext cx="3130560" cy="22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6720" y="928800"/>
            <a:ext cx="960120" cy="769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01720" y="1063800"/>
            <a:ext cx="188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9320" y="2238480"/>
            <a:ext cx="960480" cy="766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5840" y="2362320"/>
            <a:ext cx="197280" cy="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451560" y="1119240"/>
            <a:ext cx="79560" cy="419040"/>
            <a:chOff x="6451560" y="1119240"/>
            <a:chExt cx="79560" cy="419040"/>
          </a:xfrm>
        </p:grpSpPr>
        <p:sp>
          <p:nvSpPr>
            <p:cNvPr id="494" name=""/>
            <p:cNvSpPr/>
            <p:nvPr/>
          </p:nvSpPr>
          <p:spPr>
            <a:xfrm flipV="1">
              <a:off x="6489720" y="111924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51560" y="1119240"/>
              <a:ext cx="7956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50"/>
                  </a:moveTo>
                  <a:lnTo>
                    <a:pt x="24" y="0"/>
                  </a:lnTo>
                  <a:lnTo>
                    <a:pt x="0" y="50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5578560" y="1050840"/>
            <a:ext cx="12081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295680" y="1595520"/>
            <a:ext cx="490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818320" y="2916360"/>
            <a:ext cx="9763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1603440"/>
            <a:ext cx="1440" cy="718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5575320" y="1701720"/>
            <a:ext cx="2476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295680" y="2322360"/>
            <a:ext cx="5094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72320" y="1263600"/>
            <a:ext cx="239400" cy="2444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13360" y="1293840"/>
            <a:ext cx="1242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12720" y="137016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2040" y="1187280"/>
            <a:ext cx="244440" cy="24768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9840" y="121752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63600" y="129384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23000" y="1709640"/>
            <a:ext cx="1440" cy="1206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888160" y="1827360"/>
            <a:ext cx="353880" cy="80640"/>
            <a:chOff x="5888160" y="1827360"/>
            <a:chExt cx="353880" cy="80640"/>
          </a:xfrm>
        </p:grpSpPr>
        <p:sp>
          <p:nvSpPr>
            <p:cNvPr id="510" name=""/>
            <p:cNvSpPr/>
            <p:nvPr/>
          </p:nvSpPr>
          <p:spPr>
            <a:xfrm>
              <a:off x="5888160" y="1869840"/>
              <a:ext cx="353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88160" y="182736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0"/>
                  </a:moveTo>
                  <a:lnTo>
                    <a:pt x="0" y="27"/>
                  </a:lnTo>
                  <a:lnTo>
                    <a:pt x="5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956200" y="1568520"/>
            <a:ext cx="239760" cy="25884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6080" y="15987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00560" y="1674720"/>
            <a:ext cx="1134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16920" y="1595520"/>
            <a:ext cx="1440" cy="716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59800" y="1012680"/>
            <a:ext cx="6127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63040" y="2311560"/>
            <a:ext cx="358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46840" y="1595520"/>
            <a:ext cx="374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759440" y="2894040"/>
            <a:ext cx="609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66040" y="1019160"/>
            <a:ext cx="3240" cy="1874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7931160" y="1095480"/>
            <a:ext cx="79200" cy="404640"/>
            <a:chOff x="7931160" y="1095480"/>
            <a:chExt cx="79200" cy="404640"/>
          </a:xfrm>
        </p:grpSpPr>
        <p:sp>
          <p:nvSpPr>
            <p:cNvPr id="522" name=""/>
            <p:cNvSpPr/>
            <p:nvPr/>
          </p:nvSpPr>
          <p:spPr>
            <a:xfrm flipV="1">
              <a:off x="7968960" y="1095480"/>
              <a:ext cx="1440" cy="40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31160" y="1095480"/>
              <a:ext cx="7920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24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015400" y="1171440"/>
            <a:ext cx="253800" cy="25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53200" y="1206360"/>
            <a:ext cx="146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66960" y="1282680"/>
            <a:ext cx="102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080" y="1233360"/>
            <a:ext cx="290520" cy="293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94320" y="1351080"/>
            <a:ext cx="730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4320" y="1378080"/>
            <a:ext cx="73080" cy="68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75320" y="1351080"/>
            <a:ext cx="71280" cy="730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75320" y="1328760"/>
            <a:ext cx="71280" cy="712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78560" y="1050840"/>
            <a:ext cx="1440" cy="177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578560" y="1519200"/>
            <a:ext cx="1440" cy="179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80160" y="1222200"/>
            <a:ext cx="88920" cy="345960"/>
            <a:chOff x="5780160" y="1222200"/>
            <a:chExt cx="88920" cy="345960"/>
          </a:xfrm>
        </p:grpSpPr>
        <p:sp>
          <p:nvSpPr>
            <p:cNvPr id="535" name=""/>
            <p:cNvSpPr/>
            <p:nvPr/>
          </p:nvSpPr>
          <p:spPr>
            <a:xfrm>
              <a:off x="5823000" y="1222200"/>
              <a:ext cx="1800" cy="34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80160" y="122220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56" y="52"/>
                  </a:moveTo>
                  <a:lnTo>
                    <a:pt x="27" y="0"/>
                  </a:lnTo>
                  <a:lnTo>
                    <a:pt x="0" y="52"/>
                  </a:lnTo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459480" y="1023840"/>
            <a:ext cx="52560" cy="493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594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3880" y="2300400"/>
            <a:ext cx="50760" cy="442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39080" y="98892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50240" y="2287440"/>
            <a:ext cx="5220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61400" y="2871720"/>
            <a:ext cx="54000" cy="4464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939080" y="1571760"/>
            <a:ext cx="5256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6480" y="2894040"/>
            <a:ext cx="49320" cy="4608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326360" y="1463760"/>
            <a:ext cx="0" cy="210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26360" y="2751120"/>
            <a:ext cx="0" cy="209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19000" y="311148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87400" y="2449440"/>
            <a:ext cx="77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36760" y="2016000"/>
            <a:ext cx="89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8080" y="1359000"/>
            <a:ext cx="11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91400" y="132228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6960" y="14209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640" y="3121200"/>
            <a:ext cx="41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7360" y="373536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34200" y="370692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13720" y="25192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86280" y="1941480"/>
            <a:ext cx="0" cy="41958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338560" y="4986360"/>
            <a:ext cx="249840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328640" y="4429080"/>
            <a:ext cx="544680" cy="0"/>
          </a:xfrm>
          <a:prstGeom prst="line">
            <a:avLst/>
          </a:prstGeom>
          <a:ln w="1908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63680" y="379872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30800" y="3724200"/>
            <a:ext cx="0" cy="8082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952720" y="501804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403880" y="4476600"/>
                <a:ext cx="426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242040" y="3216240"/>
                <a:ext cx="2065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960840" y="5329080"/>
            <a:ext cx="3815640" cy="714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1" lang="pl-PL" sz="20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pl-PL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zmiana fazy  we wzmacniac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na np. zmianą tempera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61480" y="3868560"/>
            <a:ext cx="320760" cy="1546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87640" y="4468680"/>
            <a:ext cx="3024720" cy="105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ompensacja zmiany fa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a prz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wód rezonanso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4379400" y="3794040"/>
            <a:ext cx="1141560" cy="1054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822400" y="4127040"/>
            <a:ext cx="2874960" cy="863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4851000" y="3816000"/>
            <a:ext cx="723960" cy="963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800" y="3533760"/>
            <a:ext cx="341280" cy="122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2351160" y="3695400"/>
            <a:ext cx="241200" cy="214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900600" y="3753000"/>
            <a:ext cx="284040" cy="179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0720" y="4651200"/>
            <a:ext cx="2062800" cy="30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zestrojenie generat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896080" y="130320"/>
                <a:ext cx="241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275440" y="212760"/>
            <a:ext cx="439560" cy="87120"/>
          </a:xfrm>
          <a:prstGeom prst="rightArrow">
            <a:avLst>
              <a:gd name="adj1" fmla="val 50000"/>
              <a:gd name="adj2" fmla="val 1261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9760" y="75240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a generatora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" y="5060880"/>
            <a:ext cx="864720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rgania sinusoidalne (harmoniczne) są uważane za podstawowy rodzaj drgań fizycznych. Idealny generator drgań sinusoidalnych (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DS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 powinien wytwarzać napięcie/prad opisywane funkcj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00280" y="6203880"/>
                <a:ext cx="3821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6160" y="826920"/>
            <a:ext cx="8713800" cy="3564000"/>
            <a:chOff x="146160" y="826920"/>
            <a:chExt cx="8713800" cy="3564000"/>
          </a:xfrm>
        </p:grpSpPr>
        <p:sp>
          <p:nvSpPr>
            <p:cNvPr id="117" name=""/>
            <p:cNvSpPr/>
            <p:nvPr/>
          </p:nvSpPr>
          <p:spPr>
            <a:xfrm>
              <a:off x="2355840" y="826920"/>
              <a:ext cx="2658960" cy="137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ieliniow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 selektyw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L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granicza amplitudę drgań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3057480"/>
              <a:ext cx="253548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"/>
                </a:rPr>
                <a:t>Liniowa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, nieselektywna pętla sprzężenia zwrotn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1520" y="219708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48040" y="2150640"/>
              <a:ext cx="0" cy="86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680" y="1114560"/>
              <a:ext cx="1719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zmacniacz K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160" y="3375000"/>
              <a:ext cx="20746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złon sprzęgając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394240" y="1649520"/>
              <a:ext cx="3465720" cy="2457360"/>
            </a:xfrm>
            <a:prstGeom prst="rect">
              <a:avLst/>
            </a:prstGeom>
            <a:ln w="19080">
              <a:solidFill>
                <a:srgbClr val="ff00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łość generowanej częstotliwoś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9560" y="716040"/>
            <a:ext cx="8169120" cy="5397480"/>
            <a:chOff x="439560" y="716040"/>
            <a:chExt cx="8169120" cy="539748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439560" y="974880"/>
              <a:ext cx="816912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5334120" y="1455840"/>
              <a:ext cx="126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00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76600" y="30672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20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6520" y="38959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5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44880" y="461340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Rd=1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1228320" y="716040"/>
              <a:ext cx="2909880" cy="116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406440" y="2190600"/>
            <a:ext cx="8366040" cy="80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Im większa wypadkowa dobroć Q obwodu (większa R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), tym więk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nachylenie charakterystyki fazowej i tym większa stałość częstot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7280" y="735120"/>
            <a:ext cx="3682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wrócenie fazy w pętli sprzężenia zwrot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7680" y="971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wód typu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17720" y="14479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32560" y="1674720"/>
            <a:ext cx="38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41320" y="674640"/>
            <a:ext cx="4476960" cy="1505160"/>
            <a:chOff x="1741320" y="674640"/>
            <a:chExt cx="4476960" cy="1505160"/>
          </a:xfrm>
        </p:grpSpPr>
        <p:pic>
          <p:nvPicPr>
            <p:cNvPr id="595" name="" descr=""/>
            <p:cNvPicPr/>
            <p:nvPr/>
          </p:nvPicPr>
          <p:blipFill>
            <a:blip r:embed="rId1"/>
            <a:stretch/>
          </p:blipFill>
          <p:spPr>
            <a:xfrm>
              <a:off x="1741320" y="674640"/>
              <a:ext cx="44769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453400" y="787320"/>
              <a:ext cx="36828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195560" y="2193840"/>
            <a:ext cx="6800760" cy="44481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układy oscyla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320" y="838080"/>
            <a:ext cx="90676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teorii wynika, że dla powstania i utrzymania się drgań niegasnących muszą być spełnione odpowiednie warunki amplitudy i fazy. Podstawiając konkretne elementy indukcyjne i pojemnościowe do układu ogólnego,  otrzymuje się układy podstawowe: Colpittsa i Hartleya. Różnią się one sposobem podziału napięcia. Poza tymi układami jedno tranzystorowymi oscylacje można wzbudzać w układzie Meissnera, w którym odwrócenie fazy uzyskuje się przy pomocy transformatora. Na schematach, dla narzucenia warunków fazowych, kropką oznacza się początki uzwojeń, robiąc jednocześnie założenie, że wszystkie uzwojenia nawijane są w jednym kierunku. W oscylatorze Meissnera częstotliwość generacji narzucona jest przez obwód rezonansowy włączony w obwód kolektora lub bazy. Układ Meissnera był swego czasu często stosowany w radiach lampowych, ze względu na korzystne rozwiązania układowe. Przeważnie układy tego typu pracują do ok. 150 MHz, lecz ze względu na szereg wad własnych, w tym konieczności przebudowywania transformatora podczas strojenia, układu tego nie stosuje się w nadajnikach. Wszędzie tam gdzie zachodzi potrzeba generacji stabilnego przebiegu bardzo wielkiej częstotliwości, stosuje się układy Colpittsa i jego odmia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600" y="1109520"/>
            <a:ext cx="891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kazanych schematach pominięto obwody zasilania, polaryzacji, blokowania  i obciążenia, a także nie wyróżniono miejsca obwodu dołączonego do mas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wala to na elastyczną interpretację układu oscylatora i umowne, dowolne dołączenie masy, tworząc układy WE, WB lub W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podstawowych układach Colpittsa i Hartleya stopień sprzężenia z tranzystorem (warunek amplitudy) uzależniony jest od stosunku C2 do C1, względnie L2 do L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układzie Meissnera zależy od stosunku liczby zwojów i wielkości sprzężenia obu cew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28600" y="762120"/>
            <a:ext cx="874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enerator może być przestrajany przez zmianę pojemności lub indukcyjn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rzez zmianę indukcyjności jest mniej popularne, choć i ono ma wiele zalet. Przestrajać można wprowadzając do cewki rdzeń ferrytowy, co powoduje zmniejszenie częstotliwości, lub metalowy (aluminium, miedź), co powoduje zwiększenie częstotliwości. Przestrajać można także tarczą miedzianą o zmiennym promieniu, zbliżoną do końca zimnego cewki. Układy te zajmują mniej miejsca niż układy z kondensatorem obrotowym, lecz wymagają indywidualnego wykonania układu napędowego. Ich dalszą zaletą jest łatwość uzyskania skali o kącie 360*, co w układach z kondensatorem zmiennym wymaga stosowania przekład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przestrajaniu pojemnością korzystniejszy jest układ Hartleya,  gdy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czasie przestrajania podział napięcia praktycznie nie ulega zmi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43080" y="1461960"/>
            <a:ext cx="8397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 Hartleya umożliwia stosowanie dużych indukcyjności L i małych pojemności C, a przy dużym stosunku L/C uzyskuje się większą dobroć obwodu.  W oscylatorze Hartleya odczep na cewce wykonuje się na wysokości 1/5 do 1/3 liczby zwojów, licząc od zimnego końca cewki. Konieczność wykonywania odczepów utrudnia optymalizację sprzężenia, a w przypadku przełączania zakresów wymaga dodatkowej sekcji przełącznika. Małe pojemności układu rezonansowego umożliwiają stosowanie warikapów do przestrajania częstotliwości (VC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146160" y="473040"/>
            <a:ext cx="85500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strajanie pojemnościowe w oscylatorach Colpittsa wymaga stosowania agregatu złożonego z dwóch kondensatorów zmiennych, co pozwała na utrzymanie stałego stosunku pojemności C2 do C1. Przy małych zakresach przestrajania, jeden z kondensatorów można uczynić stałym, a przestrajać tylko drugi. Można także dołączyć równolegle do cewki kondensator zmienny C2, lecz wtedy należy odpowiednio zmniejszyć i tak już niekorzystnie małą indukcyjność cewki. Pojemności wejściowe i wyjściowe tranzystora dodają się do pojemności obwodu, a ponieważ są one niestałe, wpływają na częstotliwość generacji tym silniej im niniejsza pojemność występuje w dzielniku Colpittsa (C1 /C2). Ponadto rezystancje: wejściowa i wyjściowa i obciążenie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silnie tłumią obwód rezonansowy, obniżając znacznie dobroć obwodu a tym samym obniżając stałość częstotliwości. Z tych powodów w praktyce najczęściej stosowane są zmodyfikowane układy Colpitt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57200" y="1219320"/>
            <a:ext cx="82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yfikacje poszły w dwóch kierunk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stosunku L/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większenia pojemności dołączonych równoległe 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zysto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rwsze działanie zwiększa dobroć układu, a tym samym jego stabilność, a drugie zmniejsza wpływ zmian parametrów tranzystora na pojemność wypadkową obwodu,  a ponadto zmniejsza obciążenie wnoszone przez tranzystor do obwodu rezonans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685800"/>
            <a:ext cx="82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popularną zmodyfikowaną wersją układu Colpittsa jest układ Clap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o z cewką L włączona jest stosunkowo mała pojemność Cz, która może być przestraj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niejsza ona pojemność wypadkową obwodu powodując możliwość zwiększenia indukcyjności nawet 3-krotnie w stosunku do układu podstaw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 pojemność dodatkowa Cz jest trzecim ogniwem dzielnika napięcia, skutkiem czego zmniejsza się sprzężenie obwodu z tranzystor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z nie może być zbyt mała, gdyż następuje zerwanie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dą układu jest znaczna zależność napięcia wyjściowego generatora od pojemności C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parametry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562720" y="1066680"/>
                <a:ext cx="238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081520" y="1886040"/>
            <a:ext cx="49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dzie :    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częstotliwość na początku obserwacj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t) - częstotliwość w chwili t obserwa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562720" y="2589120"/>
                <a:ext cx="22478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62720" y="4060800"/>
                <a:ext cx="31795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6040" y="1144440"/>
            <a:ext cx="487188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ględna niestałość częstotliwoś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Średnia niestałość częstotliwości w okresie 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artość harmonicznych w sygnale (wsp.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łość amplitudy 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generowanego sygnał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440" y="326880"/>
            <a:ext cx="835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46160" y="468360"/>
            <a:ext cx="855000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ą układu Clappa jest układ Rakara, który różni się od poprzedniego miejscem połączenia układu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lappa zastosowano układ ze wspólnym kolektorem, zaś w generatorze Rakara układ ze wspólną baz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ą zmienność amplitudy przy przestrajaniu uzyskuje się w układzie Seilera w którym, wzorem układu Clappa zastosowano małą pojemność szeregową Cs, lecz jest ona stała, zaś oscylator jest przestrajany kondensatorem Cz dołączonym wprost do cewki.  Jest to najbardziej optymalne rozwiąza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mianę tego układu stanowi układ Vacka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żni się on od poprzedniego tym, że druga strona kondensatora zmiennego dołączona jest do emitera, który może być także połączony z mas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tym amplituda sygnału jest jeszcze mniej zmien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46160" y="85680"/>
            <a:ext cx="855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śród układów dwu tranzystorowych najczęściej spotyka się układ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ierwszy tranzystor T1 pracuje jako wzmacniacz w klasie A, drugi daje dodatkowe wzmocnienie i odwraca fazę. W wyniku dużego wzmocnienia (które gwarantuje solidny odstęp sygnału od szumu) można stosować bardzo małe pojemności sprzęgające Cs, rzędu pojedynczych p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silniejsze dodatnie sprzężenie zwrotne występuje na częstotliwości rezonansowej obwodu LC i na tej częstotliwości pracuje oscy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rdzo mała pojemność Cs skutecznie izoluje obwód LC od zmiennych parametrów tranzys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y układ LC bardzo ułatwia przełączenie zakres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lejnym układem dwu tranzystorowym jest układ Butlera. Sprzężenie między tranzystorami następuje przez obwód szeregowy LC włączony między emiterami. Układ ten jest często wykorzystywany w oscylatorach kwarcowy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46160" y="773280"/>
            <a:ext cx="8997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any przegląd układów VFO wskazuje na to, iż zasady pracy poszczególnych oscylatorów są podob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Żaden z nich nie jest doskonały, jednak na wyróżnienie zasługują układy Clappa i Seilera oraz Frank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em dobrej pracy tych oscylatorów jest przestrzeganie zasad podanych wyż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konkretnych schematach oscylatorów spotyka się często równoległe i szeregowe połączenia kilku kondensatorów zamiast jednego lub dwóch występujących na schematach ogól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nika to ze stosowania kondensatorów o różnych TWP oraz dla przestrajania w paśmie przez kondensator zmien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725400" y="228600"/>
            <a:ext cx="71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awiane podstawowe rodzaje generatorów 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12040" cy="287496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380960" y="487692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lpitts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artleya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iss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12400" y="580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ez obwodów zasilani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4720" y="15228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w generatorach “trójpunktowy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955800" y="1003320"/>
            <a:ext cx="3581280" cy="2376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80880" y="3429000"/>
            <a:ext cx="8169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gólny schemat generatorów “trójpunktowych” przedstawiono na rys. w celu ułatwienia analizy będziemy rozpatrywać układ z elementem wzmacniającym nie obciążającym obwodu rezonansowego. Takim elementem jest w przybliżeniu tranzystor polowy T typu JFET.  Obwód rezonansowy  jest reprezentowa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zem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reaktancjami , oraz konduktancją dynamiczną ( poprzednio: 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608280" y="4998960"/>
                <a:ext cx="12956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740040" y="5802480"/>
                <a:ext cx="99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2085840" y="59547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brocią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02160" y="1268280"/>
                <a:ext cx="2548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ω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7967520" y="693720"/>
            <a:ext cx="865440" cy="3747960"/>
          </a:xfrm>
          <a:custGeom>
            <a:avLst/>
            <a:gdLst/>
            <a:ahLst/>
            <a:rect l="l" t="t" r="r" b="b"/>
            <a:pathLst>
              <a:path w="545" h="2361">
                <a:moveTo>
                  <a:pt x="397" y="2361"/>
                </a:moveTo>
                <a:lnTo>
                  <a:pt x="545" y="2041"/>
                </a:lnTo>
                <a:lnTo>
                  <a:pt x="545" y="1675"/>
                </a:lnTo>
                <a:lnTo>
                  <a:pt x="420" y="1051"/>
                </a:lnTo>
                <a:lnTo>
                  <a:pt x="256" y="5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6845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60440" y="493560"/>
            <a:ext cx="8169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założymy, że dobroć Q obwodu jest duża i będziemy analizować układ tylko w bliskim otoczeniu częstotliwości rezonansowe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o układ rezonansowy przedstawia praktycznie tylko konduktancję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3013200" y="1868400"/>
                <a:ext cx="2590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7" name=""/>
          <p:cNvSpPr/>
          <p:nvPr/>
        </p:nvSpPr>
        <p:spPr>
          <a:xfrm>
            <a:off x="1357920" y="2514600"/>
            <a:ext cx="65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ówczas poprawne jest przekształcenie pokazane na rysunk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477120" y="3048120"/>
                <a:ext cx="1447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553080" y="4340160"/>
                <a:ext cx="1828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590920" y="2816280"/>
            <a:ext cx="3906720" cy="18082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529560" y="53352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ancja blok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4191120" y="457200"/>
                <a:ext cx="3352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531360" y="17524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ocnienie 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141800" y="1595520"/>
                <a:ext cx="2340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1204560" y="4495680"/>
            <a:ext cx="70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unek amplitudy w postaci granicznej można więc przedstawić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25400" y="4897440"/>
                <a:ext cx="33480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β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4800600" y="528804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268160" y="53341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to ma dwa rozwiązania, przy czym tylko jedno ma sens fizycz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136600" y="1611360"/>
                <a:ext cx="49690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187720" y="2755800"/>
                <a:ext cx="35049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002200"/>
                <a:ext cx="1503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597400" y="43448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bliżeniu, dla dużego g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2040" y="1641600"/>
            <a:ext cx="53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Colpitts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90920" y="160020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590920" y="2971800"/>
                <a:ext cx="990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>
            <a:off x="678240" y="4495680"/>
            <a:ext cx="52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un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generatora Hartleya przybiera postać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514600" y="4394160"/>
                <a:ext cx="1066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2514600" y="5791320"/>
                <a:ext cx="1066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705720" y="2971800"/>
                <a:ext cx="1689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629400" y="5867280"/>
                <a:ext cx="1625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6780960" y="83808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f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1600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2400" y="838080"/>
            <a:ext cx="2649600" cy="4597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unki amplitu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46160" y="674640"/>
            <a:ext cx="868680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generatorze Colpittsa  wartość indukcyjności podlega wyborowi, ponieważ brak jest trzeciego równania. Biorąc jednak pod uwagę, że 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winny być w miarę duże, ponieważ dodaje się do nich wszelkiego rodzaju pojemności pasożytnicze, to dla określonej pulsacji , powoduje zmniejszenie indukcyjności L. Jeżeli konduktancja dynamiczna obwodu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rośnie, może to wywołać zaburzenie koniecznych warunków gener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latego, przyjmując dostatecznie duży marg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438280" y="4267080"/>
                <a:ext cx="3048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2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2560320" y="576252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żemy określić wartość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2200" y="1244520"/>
            <a:ext cx="8621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częstotli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źródła drgań o dużej stałości częstotliwości (wzorce)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zbudnice nadajnik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sygnało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- często przestrajane (w tym wobulowane), do celów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rwisowych, pomiarow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mo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źródła energii o dużej mocy i dużej sprawności energetycz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ypowo praca w klasie C lub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 względem rozwiązań układowych GDS dzieli się 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e sprzężeniem zwrotn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LC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elementami o ujemnej rezysta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ze stabilizacją piezoelektryczną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np. kwarcow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generatory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stawowe rodzaje generatorów drgań sinusoidalnych (G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441360" y="752400"/>
            <a:ext cx="8702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obnie jest w przypadku dobierania pojemności C w generatorze Hartleya,  z tą różnicą jednaj, że tutaj pojemności bloku wzmacniacza przyczyniają się do utworzenia obwodów rezonansowych (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; 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, których zastępcza indukcyjność nie powinna się zbyt dużo różnic od wart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znacza to, że częstotliwości rezonansowe tych obwod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300320" y="3849840"/>
                <a:ext cx="5551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z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29960" y="5165640"/>
            <a:ext cx="70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inny kilkakrotnie przewyższać częstotliwość drgań genera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800" y="0"/>
            <a:ext cx="80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generacji dla generatorów Colpittsa i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unki  generacji dl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280" y="6095880"/>
            <a:ext cx="86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del generatora Meissera: a) układ z rozciętą pętlą sprzężenia zwrotnego w obwodzie bramki, b) model liniowy ukła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80880" y="990720"/>
            <a:ext cx="8534520" cy="4979880"/>
            <a:chOff x="380880" y="990720"/>
            <a:chExt cx="8534520" cy="4979880"/>
          </a:xfrm>
        </p:grpSpPr>
        <p:sp>
          <p:nvSpPr>
            <p:cNvPr id="667" name=""/>
            <p:cNvSpPr/>
            <p:nvPr/>
          </p:nvSpPr>
          <p:spPr>
            <a:xfrm>
              <a:off x="380880" y="990720"/>
              <a:ext cx="853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Schemat do określania warunków generacji w układach Meissera przedstawiono na rysunku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ętlę sprzężenia rozcięto na wejściu wzmacniacza w celu uwypuklenia podziału na bloki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Zakładamy, że tranzystor ma na tyle dużą częstotliwość graniczną, że nie wprowadza dodatkowego przesunięcia fazy oraz  że znajdujemy się blisko częstotliwości rezonansowe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3657600" y="2971800"/>
                  <a:ext cx="13716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69" name=""/>
            <p:cNvSpPr/>
            <p:nvPr/>
          </p:nvSpPr>
          <p:spPr>
            <a:xfrm>
              <a:off x="677520" y="3657600"/>
              <a:ext cx="66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zięki temu sam obwód LC został zastąpiony rezystancją dynamiczn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990720" y="3962520"/>
              <a:ext cx="7391160" cy="2008080"/>
              <a:chOff x="990720" y="3962520"/>
              <a:chExt cx="7391160" cy="2008080"/>
            </a:xfrm>
          </p:grpSpPr>
          <p:pic>
            <p:nvPicPr>
              <p:cNvPr id="6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3962520"/>
                <a:ext cx="7391160" cy="20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470320" y="4179960"/>
                <a:ext cx="1657080" cy="171288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05400" y="4259160"/>
                <a:ext cx="1020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Q, R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Times New Roman"/>
                  </a:rPr>
                  <a:t>, </a:t>
                </a:r>
                <a:r>
                  <a:rPr b="0" lang="en-US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8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7410600" y="3546360"/>
                  <a:ext cx="106668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46160" y="344520"/>
            <a:ext cx="87627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 zastąpieniu tranzystora jego najprostszym modelem w postaci sterowanego napięciem źródła prądowego o transkonduktancji  g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raz transformatora elementem idealnym o przekładn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uzyskujemy model zastępcz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duł wzmocnienia pętli rozciętej, zwany współczynnikiem regeneracji k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można przedstawić w post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11400" y="3206880"/>
                <a:ext cx="2739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kβ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46160" y="4502160"/>
            <a:ext cx="8705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 przyrównaniu równania do jedności uzyskujemy warunek amplitudy w postaci granicznej, z którego możemy wyznaczyć przekładnię n  transforma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6160" y="1365120"/>
            <a:ext cx="8464320" cy="3986280"/>
            <a:chOff x="146160" y="1365120"/>
            <a:chExt cx="8464320" cy="3986280"/>
          </a:xfrm>
        </p:grpSpPr>
        <mc:AlternateContent>
          <mc:Choice xmlns:a14="http://schemas.microsoft.com/office/drawing/2010/main" Requires="a14">
            <p:sp>
              <p:nvSpPr>
                <p:cNvPr id="680" name=""/>
                <p:cNvSpPr txBox="1"/>
                <p:nvPr/>
              </p:nvSpPr>
              <p:spPr>
                <a:xfrm>
                  <a:off x="7061040" y="2903400"/>
                  <a:ext cx="1549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L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81" name=""/>
            <p:cNvSpPr/>
            <p:nvPr/>
          </p:nvSpPr>
          <p:spPr>
            <a:xfrm>
              <a:off x="3757320" y="1365120"/>
              <a:ext cx="3596040" cy="70380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Generator Clap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</a:rPr>
                <a:t>jest odmianą generatora Colpitt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146160" y="2631960"/>
            <a:ext cx="2577960" cy="248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160" y="2631960"/>
                      <a:ext cx="2577960" cy="24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4" name=""/>
            <p:cNvGrpSpPr/>
            <p:nvPr/>
          </p:nvGrpSpPr>
          <p:grpSpPr>
            <a:xfrm>
              <a:off x="3097080" y="2351160"/>
              <a:ext cx="3859200" cy="3000240"/>
              <a:chOff x="3097080" y="2351160"/>
              <a:chExt cx="3859200" cy="3000240"/>
            </a:xfrm>
          </p:grpSpPr>
          <p:pic>
            <p:nvPicPr>
              <p:cNvPr id="6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98800" y="2351160"/>
                <a:ext cx="3057480" cy="3000240"/>
              </a:xfrm>
              <a:prstGeom prst="rect">
                <a:avLst/>
              </a:prstGeom>
              <a:ln w="19080">
                <a:solidFill>
                  <a:srgbClr val="008000"/>
                </a:solidFill>
                <a:miter/>
              </a:ln>
            </p:spPr>
          </p:pic>
          <p:sp>
            <p:nvSpPr>
              <p:cNvPr id="686" name=""/>
              <p:cNvSpPr/>
              <p:nvPr/>
            </p:nvSpPr>
            <p:spPr>
              <a:xfrm>
                <a:off x="4605480" y="2592360"/>
                <a:ext cx="1763640" cy="1285200"/>
              </a:xfrm>
              <a:prstGeom prst="ellipse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97080" y="3576600"/>
                <a:ext cx="743040" cy="185040"/>
              </a:xfrm>
              <a:prstGeom prst="rightArrow">
                <a:avLst>
                  <a:gd name="adj1" fmla="val 50000"/>
                  <a:gd name="adj2" fmla="val 10038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501840" y="5624640"/>
            <a:ext cx="8069040" cy="87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nacznie większa stałość częstotliwości niż generatora Colpitt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uże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i C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mała L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52280" y="1384200"/>
            <a:ext cx="89917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generacja jest możliwa tylko dla częstotliwości większej od częstotliwości rezonansu szeregowego obwodu L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wód ten pełni wówczas rolę indukcyjności L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o wartości silnie rosnącej ze wzrostem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jemność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dobiera się znacznie większe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po to, aby wypadkowa pojemność, wynikająca z szeregowego połączenia pojemności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była niewiele mniejsza od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układzie Clappa wartość elementów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, C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L są znacznie większe od swoich odpowiedników  w generatorze Colpittsa, dlatego wpływ pojemności tranzystora jest mniejszy, stąd wynika większa stałość generowanej częstotliw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3600" y="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 Cla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Hartle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0" y="1419120"/>
          <a:ext cx="9144000" cy="46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9144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2085840" y="1252440"/>
          <a:ext cx="448164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252440"/>
                    <a:ext cx="44816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Hartleya z zasilaniem przez opor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 tzw. „automatycznym minusem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773280" y="1633680"/>
            <a:ext cx="7718400" cy="4736520"/>
            <a:chOff x="773280" y="1633680"/>
            <a:chExt cx="7718400" cy="4736520"/>
          </a:xfrm>
        </p:grpSpPr>
        <p:grpSp>
          <p:nvGrpSpPr>
            <p:cNvPr id="699" name=""/>
            <p:cNvGrpSpPr/>
            <p:nvPr/>
          </p:nvGrpSpPr>
          <p:grpSpPr>
            <a:xfrm>
              <a:off x="773280" y="1633680"/>
              <a:ext cx="4948200" cy="4195800"/>
              <a:chOff x="773280" y="1633680"/>
              <a:chExt cx="4948200" cy="419580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773280" y="1633680"/>
                <a:ext cx="4948200" cy="4195800"/>
                <a:chOff x="773280" y="1633680"/>
                <a:chExt cx="4948200" cy="419580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773280" y="1633680"/>
                  <a:ext cx="4948200" cy="4195800"/>
                  <a:chOff x="773280" y="1633680"/>
                  <a:chExt cx="4948200" cy="41958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395720" y="3822840"/>
                    <a:ext cx="3290760" cy="196704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70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73280" y="1633680"/>
                    <a:ext cx="49482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04" name=""/>
                <p:cNvSpPr/>
                <p:nvPr/>
              </p:nvSpPr>
              <p:spPr>
                <a:xfrm>
                  <a:off x="2151000" y="2413080"/>
                  <a:ext cx="0" cy="9889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22520" y="2419560"/>
                  <a:ext cx="365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24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pl-PL" sz="2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 flipV="1">
                <a:off x="2532240" y="4256280"/>
                <a:ext cx="0" cy="1014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753160" y="3327480"/>
              <a:ext cx="2738520" cy="3042720"/>
              <a:chOff x="5753160" y="3327480"/>
              <a:chExt cx="2738520" cy="3042720"/>
            </a:xfrm>
          </p:grpSpPr>
          <p:sp>
            <p:nvSpPr>
              <p:cNvPr id="708" name=""/>
              <p:cNvSpPr/>
              <p:nvPr/>
            </p:nvSpPr>
            <p:spPr>
              <a:xfrm flipV="1">
                <a:off x="5765760" y="3649680"/>
                <a:ext cx="0" cy="11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53160" y="4849560"/>
                <a:ext cx="270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65760" y="3668760"/>
                <a:ext cx="1568520" cy="699840"/>
              </a:xfrm>
              <a:custGeom>
                <a:avLst/>
                <a:gdLst/>
                <a:ahLst/>
                <a:rect l="l" t="t" r="r" b="b"/>
                <a:pathLst>
                  <a:path w="988" h="441">
                    <a:moveTo>
                      <a:pt x="0" y="322"/>
                    </a:moveTo>
                    <a:cubicBezTo>
                      <a:pt x="31" y="219"/>
                      <a:pt x="62" y="116"/>
                      <a:pt x="88" y="74"/>
                    </a:cubicBezTo>
                    <a:cubicBezTo>
                      <a:pt x="114" y="32"/>
                      <a:pt x="135" y="29"/>
                      <a:pt x="156" y="70"/>
                    </a:cubicBezTo>
                    <a:cubicBezTo>
                      <a:pt x="177" y="111"/>
                      <a:pt x="198" y="266"/>
                      <a:pt x="212" y="322"/>
                    </a:cubicBezTo>
                    <a:cubicBezTo>
                      <a:pt x="226" y="378"/>
                      <a:pt x="228" y="396"/>
                      <a:pt x="241" y="409"/>
                    </a:cubicBezTo>
                    <a:cubicBezTo>
                      <a:pt x="254" y="422"/>
                      <a:pt x="280" y="414"/>
                      <a:pt x="292" y="400"/>
                    </a:cubicBezTo>
                    <a:cubicBezTo>
                      <a:pt x="304" y="386"/>
                      <a:pt x="298" y="384"/>
                      <a:pt x="316" y="326"/>
                    </a:cubicBezTo>
                    <a:cubicBezTo>
                      <a:pt x="334" y="268"/>
                      <a:pt x="372" y="63"/>
                      <a:pt x="400" y="50"/>
                    </a:cubicBezTo>
                    <a:cubicBezTo>
                      <a:pt x="428" y="37"/>
                      <a:pt x="462" y="195"/>
                      <a:pt x="481" y="250"/>
                    </a:cubicBezTo>
                    <a:cubicBezTo>
                      <a:pt x="500" y="305"/>
                      <a:pt x="497" y="356"/>
                      <a:pt x="514" y="379"/>
                    </a:cubicBezTo>
                    <a:cubicBezTo>
                      <a:pt x="531" y="402"/>
                      <a:pt x="562" y="441"/>
                      <a:pt x="586" y="388"/>
                    </a:cubicBezTo>
                    <a:cubicBezTo>
                      <a:pt x="610" y="335"/>
                      <a:pt x="637" y="101"/>
                      <a:pt x="660" y="62"/>
                    </a:cubicBezTo>
                    <a:cubicBezTo>
                      <a:pt x="683" y="23"/>
                      <a:pt x="706" y="99"/>
                      <a:pt x="724" y="151"/>
                    </a:cubicBezTo>
                    <a:cubicBezTo>
                      <a:pt x="742" y="203"/>
                      <a:pt x="747" y="338"/>
                      <a:pt x="769" y="376"/>
                    </a:cubicBezTo>
                    <a:cubicBezTo>
                      <a:pt x="791" y="414"/>
                      <a:pt x="827" y="433"/>
                      <a:pt x="856" y="379"/>
                    </a:cubicBezTo>
                    <a:cubicBezTo>
                      <a:pt x="885" y="325"/>
                      <a:pt x="922" y="108"/>
                      <a:pt x="944" y="54"/>
                    </a:cubicBezTo>
                    <a:cubicBezTo>
                      <a:pt x="966" y="0"/>
                      <a:pt x="979" y="52"/>
                      <a:pt x="988" y="52"/>
                    </a:cubicBezTo>
                  </a:path>
                </a:pathLst>
              </a:custGeom>
              <a:noFill/>
              <a:ln w="93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62520" y="416556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62520" y="3989160"/>
                <a:ext cx="1643040" cy="171720"/>
              </a:xfrm>
              <a:custGeom>
                <a:avLst/>
                <a:gdLst/>
                <a:ahLst/>
                <a:rect l="l" t="t" r="r" b="b"/>
                <a:pathLst>
                  <a:path w="1035" h="108">
                    <a:moveTo>
                      <a:pt x="0" y="108"/>
                    </a:moveTo>
                    <a:cubicBezTo>
                      <a:pt x="32" y="99"/>
                      <a:pt x="65" y="90"/>
                      <a:pt x="111" y="78"/>
                    </a:cubicBezTo>
                    <a:cubicBezTo>
                      <a:pt x="157" y="66"/>
                      <a:pt x="224" y="50"/>
                      <a:pt x="276" y="39"/>
                    </a:cubicBezTo>
                    <a:cubicBezTo>
                      <a:pt x="328" y="28"/>
                      <a:pt x="358" y="21"/>
                      <a:pt x="423" y="15"/>
                    </a:cubicBezTo>
                    <a:cubicBezTo>
                      <a:pt x="488" y="9"/>
                      <a:pt x="567" y="6"/>
                      <a:pt x="669" y="3"/>
                    </a:cubicBezTo>
                    <a:cubicBezTo>
                      <a:pt x="771" y="0"/>
                      <a:pt x="903" y="0"/>
                      <a:pt x="1035" y="0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5778360" y="4947840"/>
                <a:ext cx="0" cy="142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781600" y="6362640"/>
                <a:ext cx="27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781600" y="5446800"/>
                <a:ext cx="1981440" cy="385560"/>
              </a:xfrm>
              <a:custGeom>
                <a:avLst/>
                <a:gdLst/>
                <a:ahLst/>
                <a:rect l="l" t="t" r="r" b="b"/>
                <a:pathLst>
                  <a:path w="1248" h="243">
                    <a:moveTo>
                      <a:pt x="0" y="0"/>
                    </a:moveTo>
                    <a:cubicBezTo>
                      <a:pt x="55" y="35"/>
                      <a:pt x="111" y="71"/>
                      <a:pt x="174" y="102"/>
                    </a:cubicBezTo>
                    <a:cubicBezTo>
                      <a:pt x="237" y="133"/>
                      <a:pt x="264" y="164"/>
                      <a:pt x="378" y="186"/>
                    </a:cubicBezTo>
                    <a:cubicBezTo>
                      <a:pt x="492" y="208"/>
                      <a:pt x="713" y="225"/>
                      <a:pt x="858" y="234"/>
                    </a:cubicBezTo>
                    <a:cubicBezTo>
                      <a:pt x="1003" y="243"/>
                      <a:pt x="1125" y="241"/>
                      <a:pt x="1248" y="24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772240" y="5437080"/>
                <a:ext cx="20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0280" y="4925880"/>
                <a:ext cx="606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71880" y="3327480"/>
                <a:ext cx="35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4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0" lang="pl-PL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8680" y="371484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r>
                  <a:rPr b="0" lang="pl-PL" sz="2000" spc="-1" strike="noStrike" baseline="-25000">
                    <a:solidFill>
                      <a:srgbClr val="3333cc"/>
                    </a:solidFill>
                    <a:latin typeface="Times New Roman"/>
                  </a:rPr>
                  <a:t>bŚ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9520" y="1076400"/>
            <a:ext cx="6307200" cy="4900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46160" y="974880"/>
            <a:ext cx="8735760" cy="5864040"/>
            <a:chOff x="146160" y="974880"/>
            <a:chExt cx="8735760" cy="5864040"/>
          </a:xfrm>
        </p:grpSpPr>
        <p:pic>
          <p:nvPicPr>
            <p:cNvPr id="725" name="" descr=""/>
            <p:cNvPicPr/>
            <p:nvPr/>
          </p:nvPicPr>
          <p:blipFill>
            <a:blip r:embed="rId1"/>
            <a:stretch/>
          </p:blipFill>
          <p:spPr>
            <a:xfrm>
              <a:off x="146160" y="974880"/>
              <a:ext cx="8735760" cy="58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751560" y="1247760"/>
              <a:ext cx="42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owiększony fragment przebie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6827400" y="1693800"/>
              <a:ext cx="211320" cy="3159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17640" y="4886280"/>
              <a:ext cx="7850160" cy="130500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160" y="1119240"/>
            <a:ext cx="863892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F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LC przestrajany kondensatorem, rzadziej cewk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: Variable Frequency Oscill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generator RC (bez indukcyjności w obwodzie selektywny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generatorem stabilizowanym kwarcem (ang.: X-tal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X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generatorem kwarcowym przeciąganym - tzn. dostrajanym w bardz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wielkim zakresie (np. klikaset Hz na poziomie 1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ariable 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VC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 oscylatorem LC przestrajanym warikapem (d. pojemnosciow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ang.: Voltage Controlled Oscillator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P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generator synchronizowany pętlą fazową; tzw. generator P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g.: Phase LockedLoop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uper VFO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(premikser) - w którym częstotliwość wyjściową uzyskuj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ię w wyniku sumowania częstotliwości najczęściej XO i VF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520" y="0"/>
            <a:ext cx="898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 zależności od sposobu stabilizacji i przestraj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zróżnia się następujące rodzaje generatoró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53960" y="717480"/>
            <a:ext cx="47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rgania relaksacyjne - przeryw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0800" y="6145200"/>
            <a:ext cx="718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uża stała czasowa albo zbyt silne sprzężenie zwrot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76640" y="4762080"/>
            <a:ext cx="757080" cy="139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662120" y="1422360"/>
            <a:ext cx="6386400" cy="4643280"/>
            <a:chOff x="1662120" y="1422360"/>
            <a:chExt cx="6386400" cy="4643280"/>
          </a:xfrm>
        </p:grpSpPr>
        <p:grpSp>
          <p:nvGrpSpPr>
            <p:cNvPr id="735" name=""/>
            <p:cNvGrpSpPr/>
            <p:nvPr/>
          </p:nvGrpSpPr>
          <p:grpSpPr>
            <a:xfrm>
              <a:off x="1662120" y="1422360"/>
              <a:ext cx="6386400" cy="4643280"/>
              <a:chOff x="1662120" y="1422360"/>
              <a:chExt cx="6386400" cy="4643280"/>
            </a:xfrm>
          </p:grpSpPr>
          <p:pic>
            <p:nvPicPr>
              <p:cNvPr id="736" name="" descr=""/>
              <p:cNvPicPr/>
              <p:nvPr/>
            </p:nvPicPr>
            <p:blipFill>
              <a:blip r:embed="rId1">
                <a:biLevel thresh="50000"/>
              </a:blip>
              <a:stretch/>
            </p:blipFill>
            <p:spPr>
              <a:xfrm>
                <a:off x="1662120" y="1422360"/>
                <a:ext cx="6386400" cy="46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"/>
              <p:cNvSpPr/>
              <p:nvPr/>
            </p:nvSpPr>
            <p:spPr>
              <a:xfrm>
                <a:off x="1941480" y="3296880"/>
                <a:ext cx="2874960" cy="194004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5688000" y="492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ymulacja generatora Meiss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drgania relaksacyjne - przerywan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46160" y="968400"/>
            <a:ext cx="8710560" cy="5870520"/>
            <a:chOff x="146160" y="968400"/>
            <a:chExt cx="8710560" cy="5870520"/>
          </a:xfrm>
        </p:grpSpPr>
        <p:grpSp>
          <p:nvGrpSpPr>
            <p:cNvPr id="741" name=""/>
            <p:cNvGrpSpPr/>
            <p:nvPr/>
          </p:nvGrpSpPr>
          <p:grpSpPr>
            <a:xfrm>
              <a:off x="146160" y="968400"/>
              <a:ext cx="8710560" cy="5870520"/>
              <a:chOff x="146160" y="968400"/>
              <a:chExt cx="8710560" cy="5870520"/>
            </a:xfrm>
          </p:grpSpPr>
          <p:pic>
            <p:nvPicPr>
              <p:cNvPr id="7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968400"/>
                <a:ext cx="8710560" cy="587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"/>
              <p:cNvSpPr/>
              <p:nvPr/>
            </p:nvSpPr>
            <p:spPr>
              <a:xfrm>
                <a:off x="3751560" y="1247760"/>
                <a:ext cx="426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Powiększony fragment przebieg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827400" y="1693800"/>
                <a:ext cx="211320" cy="3159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17640" y="4886280"/>
                <a:ext cx="7850160" cy="1305000"/>
              </a:xfrm>
              <a:prstGeom prst="rect">
                <a:avLst/>
              </a:prstGeom>
              <a:noFill/>
              <a:ln w="1908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853400" y="4307040"/>
              <a:ext cx="7365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kłady generatorów Colpitt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46160" y="1405080"/>
          <a:ext cx="858492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1405080"/>
                    <a:ext cx="858492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2300400" y="1144440"/>
          <a:ext cx="4676760" cy="48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144440"/>
                    <a:ext cx="467676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Colpittsa zasilaniem przez opornik w obwodzie emit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847080" y="269712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4440" y="0"/>
            <a:ext cx="75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215360" y="903240"/>
            <a:ext cx="5733000" cy="4989600"/>
            <a:chOff x="1215360" y="903240"/>
            <a:chExt cx="5733000" cy="4989600"/>
          </a:xfrm>
        </p:grpSpPr>
        <p:grpSp>
          <p:nvGrpSpPr>
            <p:cNvPr id="756" name=""/>
            <p:cNvGrpSpPr/>
            <p:nvPr/>
          </p:nvGrpSpPr>
          <p:grpSpPr>
            <a:xfrm>
              <a:off x="1265400" y="903240"/>
              <a:ext cx="5648040" cy="2228760"/>
              <a:chOff x="1265400" y="903240"/>
              <a:chExt cx="5648040" cy="2228760"/>
            </a:xfrm>
          </p:grpSpPr>
          <p:sp>
            <p:nvSpPr>
              <p:cNvPr id="757" name=""/>
              <p:cNvSpPr/>
              <p:nvPr/>
            </p:nvSpPr>
            <p:spPr>
              <a:xfrm>
                <a:off x="4570560" y="988920"/>
                <a:ext cx="21744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85400" y="101916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56080" y="2063880"/>
                <a:ext cx="21780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434920" y="20908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495400" y="21589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15120" y="127152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15920" y="1339920"/>
                <a:ext cx="64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584320" y="1271520"/>
                <a:ext cx="1501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08600" y="2144880"/>
                <a:ext cx="217440" cy="2491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75200" y="2171880"/>
                <a:ext cx="860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954760" y="22399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713120" y="903240"/>
                <a:ext cx="71640" cy="2009880"/>
                <a:chOff x="4713120" y="903240"/>
                <a:chExt cx="71640" cy="2009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748040" y="968400"/>
                  <a:ext cx="180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713120" y="90324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2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4730400" y="2876400"/>
                <a:ext cx="2183040" cy="71640"/>
                <a:chOff x="4730400" y="2876400"/>
                <a:chExt cx="2183040" cy="71640"/>
              </a:xfrm>
            </p:grpSpPr>
            <p:sp>
              <p:nvSpPr>
                <p:cNvPr id="772" name=""/>
                <p:cNvSpPr/>
                <p:nvPr/>
              </p:nvSpPr>
              <p:spPr>
                <a:xfrm flipH="1" flipV="1">
                  <a:off x="4730400" y="2906280"/>
                  <a:ext cx="2119320" cy="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842160" y="2876400"/>
                  <a:ext cx="7128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757760" y="1658880"/>
                <a:ext cx="479520" cy="1224000"/>
                <a:chOff x="4757760" y="1658880"/>
                <a:chExt cx="479520" cy="1224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  <a:lnTo>
                        <a:pt x="300" y="771"/>
                      </a:lnTo>
                      <a:lnTo>
                        <a:pt x="30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757760" y="1658880"/>
                  <a:ext cx="479520" cy="1224000"/>
                </a:xfrm>
                <a:custGeom>
                  <a:avLst/>
                  <a:gdLst/>
                  <a:ahLst/>
                  <a:rect l="l" t="t" r="r" b="b"/>
                  <a:pathLst>
                    <a:path w="302" h="771">
                      <a:moveTo>
                        <a:pt x="302" y="0"/>
                      </a:moveTo>
                      <a:lnTo>
                        <a:pt x="272" y="4"/>
                      </a:lnTo>
                      <a:lnTo>
                        <a:pt x="242" y="15"/>
                      </a:lnTo>
                      <a:lnTo>
                        <a:pt x="212" y="34"/>
                      </a:lnTo>
                      <a:lnTo>
                        <a:pt x="184" y="60"/>
                      </a:lnTo>
                      <a:lnTo>
                        <a:pt x="159" y="92"/>
                      </a:lnTo>
                      <a:lnTo>
                        <a:pt x="133" y="131"/>
                      </a:lnTo>
                      <a:lnTo>
                        <a:pt x="109" y="176"/>
                      </a:lnTo>
                      <a:lnTo>
                        <a:pt x="88" y="225"/>
                      </a:lnTo>
                      <a:lnTo>
                        <a:pt x="69" y="281"/>
                      </a:lnTo>
                      <a:lnTo>
                        <a:pt x="51" y="341"/>
                      </a:lnTo>
                      <a:lnTo>
                        <a:pt x="36" y="403"/>
                      </a:lnTo>
                      <a:lnTo>
                        <a:pt x="24" y="471"/>
                      </a:lnTo>
                      <a:lnTo>
                        <a:pt x="13" y="542"/>
                      </a:lnTo>
                      <a:lnTo>
                        <a:pt x="6" y="615"/>
                      </a:lnTo>
                      <a:lnTo>
                        <a:pt x="2" y="692"/>
                      </a:lnTo>
                      <a:lnTo>
                        <a:pt x="0" y="77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234040" y="1658880"/>
                <a:ext cx="214200" cy="149400"/>
                <a:chOff x="5234040" y="1658880"/>
                <a:chExt cx="214200" cy="1494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234040" y="1658880"/>
                  <a:ext cx="214200" cy="149400"/>
                </a:xfrm>
                <a:custGeom>
                  <a:avLst/>
                  <a:gdLst/>
                  <a:ahLst/>
                  <a:rect l="l" t="t" r="r" b="b"/>
                  <a:pathLst>
                    <a:path w="135" h="94">
                      <a:moveTo>
                        <a:pt x="0" y="0"/>
                      </a:moveTo>
                      <a:lnTo>
                        <a:pt x="28" y="2"/>
                      </a:lnTo>
                      <a:lnTo>
                        <a:pt x="54" y="9"/>
                      </a:lnTo>
                      <a:lnTo>
                        <a:pt x="75" y="17"/>
                      </a:lnTo>
                      <a:lnTo>
                        <a:pt x="96" y="28"/>
                      </a:lnTo>
                      <a:lnTo>
                        <a:pt x="111" y="43"/>
                      </a:lnTo>
                      <a:lnTo>
                        <a:pt x="124" y="58"/>
                      </a:lnTo>
                      <a:lnTo>
                        <a:pt x="133" y="75"/>
                      </a:lnTo>
                      <a:lnTo>
                        <a:pt x="135" y="94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5418000" y="1739880"/>
                <a:ext cx="370080" cy="785880"/>
              </a:xfrm>
              <a:custGeom>
                <a:avLst/>
                <a:gdLst/>
                <a:ahLst/>
                <a:rect l="l" t="t" r="r" b="b"/>
                <a:pathLst>
                  <a:path w="233" h="495">
                    <a:moveTo>
                      <a:pt x="12" y="0"/>
                    </a:moveTo>
                    <a:lnTo>
                      <a:pt x="0" y="5"/>
                    </a:lnTo>
                    <a:lnTo>
                      <a:pt x="220" y="495"/>
                    </a:lnTo>
                    <a:lnTo>
                      <a:pt x="233" y="49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778360" y="2509920"/>
                <a:ext cx="139680" cy="108000"/>
                <a:chOff x="5778360" y="2509920"/>
                <a:chExt cx="139680" cy="108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  <a:lnTo>
                        <a:pt x="85" y="0"/>
                      </a:lnTo>
                      <a:lnTo>
                        <a:pt x="88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78360" y="2509920"/>
                  <a:ext cx="139680" cy="108000"/>
                </a:xfrm>
                <a:custGeom>
                  <a:avLst/>
                  <a:gdLst/>
                  <a:ahLst/>
                  <a:rect l="l" t="t" r="r" b="b"/>
                  <a:pathLst>
                    <a:path w="88" h="68">
                      <a:moveTo>
                        <a:pt x="88" y="68"/>
                      </a:moveTo>
                      <a:lnTo>
                        <a:pt x="70" y="66"/>
                      </a:lnTo>
                      <a:lnTo>
                        <a:pt x="53" y="64"/>
                      </a:lnTo>
                      <a:lnTo>
                        <a:pt x="38" y="57"/>
                      </a:lnTo>
                      <a:lnTo>
                        <a:pt x="25" y="49"/>
                      </a:lnTo>
                      <a:lnTo>
                        <a:pt x="15" y="38"/>
                      </a:lnTo>
                      <a:lnTo>
                        <a:pt x="6" y="27"/>
                      </a:lnTo>
                      <a:lnTo>
                        <a:pt x="2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913360" y="2509920"/>
                <a:ext cx="150840" cy="108000"/>
                <a:chOff x="5913360" y="2509920"/>
                <a:chExt cx="150840" cy="10800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913360" y="2509920"/>
                  <a:ext cx="150840" cy="108000"/>
                </a:xfrm>
                <a:custGeom>
                  <a:avLst/>
                  <a:gdLst/>
                  <a:ahLst/>
                  <a:rect l="l" t="t" r="r" b="b"/>
                  <a:pathLst>
                    <a:path w="95" h="68">
                      <a:moveTo>
                        <a:pt x="0" y="68"/>
                      </a:moveTo>
                      <a:lnTo>
                        <a:pt x="20" y="66"/>
                      </a:lnTo>
                      <a:lnTo>
                        <a:pt x="37" y="64"/>
                      </a:lnTo>
                      <a:lnTo>
                        <a:pt x="54" y="57"/>
                      </a:lnTo>
                      <a:lnTo>
                        <a:pt x="67" y="49"/>
                      </a:lnTo>
                      <a:lnTo>
                        <a:pt x="80" y="38"/>
                      </a:lnTo>
                      <a:lnTo>
                        <a:pt x="88" y="27"/>
                      </a:lnTo>
                      <a:lnTo>
                        <a:pt x="93" y="15"/>
                      </a:lnTo>
                      <a:lnTo>
                        <a:pt x="95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7" name=""/>
              <p:cNvSpPr/>
              <p:nvPr/>
            </p:nvSpPr>
            <p:spPr>
              <a:xfrm flipV="1">
                <a:off x="6053040" y="2060280"/>
                <a:ext cx="255600" cy="500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6118200" y="1703520"/>
                <a:ext cx="244440" cy="574560"/>
                <a:chOff x="6118200" y="1703520"/>
                <a:chExt cx="244440" cy="5745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118200" y="1703520"/>
                  <a:ext cx="244440" cy="574560"/>
                </a:xfrm>
                <a:custGeom>
                  <a:avLst/>
                  <a:gdLst/>
                  <a:ahLst/>
                  <a:rect l="l" t="t" r="r" b="b"/>
                  <a:pathLst>
                    <a:path w="154" h="362">
                      <a:moveTo>
                        <a:pt x="0" y="362"/>
                      </a:moveTo>
                      <a:lnTo>
                        <a:pt x="15" y="360"/>
                      </a:lnTo>
                      <a:lnTo>
                        <a:pt x="30" y="355"/>
                      </a:lnTo>
                      <a:lnTo>
                        <a:pt x="45" y="345"/>
                      </a:lnTo>
                      <a:lnTo>
                        <a:pt x="60" y="334"/>
                      </a:lnTo>
                      <a:lnTo>
                        <a:pt x="73" y="319"/>
                      </a:lnTo>
                      <a:lnTo>
                        <a:pt x="86" y="300"/>
                      </a:lnTo>
                      <a:lnTo>
                        <a:pt x="99" y="278"/>
                      </a:lnTo>
                      <a:lnTo>
                        <a:pt x="109" y="255"/>
                      </a:lnTo>
                      <a:lnTo>
                        <a:pt x="118" y="229"/>
                      </a:lnTo>
                      <a:lnTo>
                        <a:pt x="129" y="201"/>
                      </a:lnTo>
                      <a:lnTo>
                        <a:pt x="141" y="141"/>
                      </a:lnTo>
                      <a:lnTo>
                        <a:pt x="152" y="73"/>
                      </a:lnTo>
                      <a:lnTo>
                        <a:pt x="154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022800" y="2128680"/>
                <a:ext cx="184320" cy="1047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17960" y="1596960"/>
                <a:ext cx="1360440" cy="10954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570640" y="2117880"/>
                <a:ext cx="47520" cy="410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5640" y="1239840"/>
                <a:ext cx="271440" cy="520560"/>
              </a:xfrm>
              <a:custGeom>
                <a:avLst/>
                <a:gdLst/>
                <a:ahLst/>
                <a:rect l="l" t="t" r="r" b="b"/>
                <a:pathLst>
                  <a:path w="171" h="328">
                    <a:moveTo>
                      <a:pt x="161" y="328"/>
                    </a:moveTo>
                    <a:lnTo>
                      <a:pt x="171" y="324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61" y="3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27600" y="2430360"/>
                <a:ext cx="176400" cy="336600"/>
              </a:xfrm>
              <a:custGeom>
                <a:avLst/>
                <a:gdLst/>
                <a:ahLst/>
                <a:rect l="l" t="t" r="r" b="b"/>
                <a:pathLst>
                  <a:path w="111" h="212">
                    <a:moveTo>
                      <a:pt x="100" y="212"/>
                    </a:moveTo>
                    <a:lnTo>
                      <a:pt x="111" y="208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0" y="2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5594400" y="2155680"/>
                <a:ext cx="6480" cy="741600"/>
                <a:chOff x="5594400" y="2155680"/>
                <a:chExt cx="6480" cy="7416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594400" y="2155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594400" y="2168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94400" y="2182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594400" y="2195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594400" y="2209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594400" y="2224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594400" y="2236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94400" y="2251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94400" y="2263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594400" y="2278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594400" y="22906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94400" y="2305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94400" y="2319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594400" y="23320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94400" y="2346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594400" y="2359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594400" y="2373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94400" y="23860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594400" y="24004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594400" y="2414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400" y="24271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594400" y="2441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400" y="2454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594400" y="2468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594400" y="2481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594400" y="2495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594400" y="2509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594400" y="252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94400" y="2536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594400" y="2549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594400" y="2563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94400" y="2576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94400" y="2590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94400" y="2604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594400" y="2617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594400" y="2631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594400" y="2644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94400" y="2658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94400" y="26719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94400" y="2685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594400" y="2700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594400" y="27129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594400" y="2727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594400" y="2739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594400" y="27543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594400" y="27669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594400" y="2781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594400" y="27957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594400" y="28083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94400" y="2822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594400" y="2835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594400" y="2849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5594400" y="2862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594400" y="287640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594400" y="288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5495760" y="2924280"/>
                <a:ext cx="21456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642000" y="2924280"/>
                <a:ext cx="217440" cy="2077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30200" y="295128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05400" y="2849400"/>
                <a:ext cx="218880" cy="206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7640" y="287964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7960" y="2087640"/>
                <a:ext cx="104760" cy="183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1265400" y="1068480"/>
                <a:ext cx="2504880" cy="1253880"/>
                <a:chOff x="1265400" y="1068480"/>
                <a:chExt cx="2504880" cy="125388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360684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566720" y="1801800"/>
                  <a:ext cx="1274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l-PL" sz="15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pl-PL" sz="17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398600" y="1379520"/>
                  <a:ext cx="221148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148120" y="1709640"/>
                  <a:ext cx="247680" cy="2206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195640" y="1736640"/>
                  <a:ext cx="860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282760" y="1805040"/>
                  <a:ext cx="54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00" spc="-1" strike="noStrike">
                      <a:solidFill>
                        <a:srgbClr val="008000"/>
                      </a:solidFill>
                      <a:latin typeface="Times New Roman"/>
                    </a:rPr>
                    <a:t>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761920" y="1792440"/>
                  <a:ext cx="2048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2761920" y="1866600"/>
                  <a:ext cx="2048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865600" y="1393920"/>
                  <a:ext cx="1440" cy="407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865600" y="1876320"/>
                  <a:ext cx="1440" cy="422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49840" y="1920960"/>
                  <a:ext cx="204480" cy="21744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029040" y="1719360"/>
                  <a:ext cx="936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940040" y="1903320"/>
                  <a:ext cx="203040" cy="1126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40040" y="1798560"/>
                  <a:ext cx="203040" cy="1080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40040" y="1692360"/>
                  <a:ext cx="203040" cy="1094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035440" y="1668600"/>
                  <a:ext cx="125280" cy="36828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2024280" y="2009880"/>
                  <a:ext cx="1440" cy="288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024280" y="1382400"/>
                  <a:ext cx="1440" cy="299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449440" y="22748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704960" y="1730520"/>
                  <a:ext cx="208080" cy="21420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769760" y="1754280"/>
                  <a:ext cx="784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449440" y="136692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389240" y="2295360"/>
                  <a:ext cx="2230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1397160" y="1371600"/>
                  <a:ext cx="0" cy="9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265400" y="1778040"/>
                  <a:ext cx="261720" cy="363600"/>
                  <a:chOff x="1265400" y="1778040"/>
                  <a:chExt cx="261720" cy="36360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265400" y="1778040"/>
                    <a:ext cx="261720" cy="238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265400" y="1903680"/>
                    <a:ext cx="2617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1292400" y="1968840"/>
                    <a:ext cx="102960" cy="47520"/>
                    <a:chOff x="1292400" y="1968840"/>
                    <a:chExt cx="102960" cy="47520"/>
                  </a:xfrm>
                </p:grpSpPr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  <a:lnTo>
                            <a:pt x="65" y="0"/>
                          </a:lnTo>
                          <a:lnTo>
                            <a:pt x="6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1292400" y="1968840"/>
                      <a:ext cx="1029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30">
                          <a:moveTo>
                            <a:pt x="65" y="30"/>
                          </a:moveTo>
                          <a:lnTo>
                            <a:pt x="41" y="27"/>
                          </a:lnTo>
                          <a:lnTo>
                            <a:pt x="20" y="21"/>
                          </a:lnTo>
                          <a:lnTo>
                            <a:pt x="11" y="17"/>
                          </a:lnTo>
                          <a:lnTo>
                            <a:pt x="5" y="12"/>
                          </a:lnTo>
                          <a:lnTo>
                            <a:pt x="2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1395360" y="1968840"/>
                    <a:ext cx="101520" cy="47520"/>
                    <a:chOff x="1395360" y="1968840"/>
                    <a:chExt cx="101520" cy="47520"/>
                  </a:xfrm>
                </p:grpSpPr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  <a:lnTo>
                            <a:pt x="0" y="0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395360" y="1968840"/>
                      <a:ext cx="101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0">
                          <a:moveTo>
                            <a:pt x="0" y="30"/>
                          </a:moveTo>
                          <a:lnTo>
                            <a:pt x="23" y="27"/>
                          </a:lnTo>
                          <a:lnTo>
                            <a:pt x="45" y="21"/>
                          </a:lnTo>
                          <a:lnTo>
                            <a:pt x="53" y="17"/>
                          </a:lnTo>
                          <a:lnTo>
                            <a:pt x="60" y="12"/>
                          </a:lnTo>
                          <a:lnTo>
                            <a:pt x="62" y="6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1357200" y="1832040"/>
                    <a:ext cx="78120" cy="254160"/>
                    <a:chOff x="1357200" y="1832040"/>
                    <a:chExt cx="78120" cy="254160"/>
                  </a:xfrm>
                </p:grpSpPr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395360" y="1832040"/>
                      <a:ext cx="1800" cy="254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357200" y="1832040"/>
                      <a:ext cx="781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7">
                          <a:moveTo>
                            <a:pt x="49" y="47"/>
                          </a:moveTo>
                          <a:lnTo>
                            <a:pt x="24" y="0"/>
                          </a:lnTo>
                          <a:lnTo>
                            <a:pt x="0" y="4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95" name=""/>
                <p:cNvSpPr/>
                <p:nvPr/>
              </p:nvSpPr>
              <p:spPr>
                <a:xfrm>
                  <a:off x="2473560" y="138096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413080" y="1689120"/>
                  <a:ext cx="115920" cy="30312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840040" y="226548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830680" y="1360440"/>
                  <a:ext cx="4104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92240" y="2255760"/>
                  <a:ext cx="41400" cy="4788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2240" y="1360440"/>
                  <a:ext cx="41400" cy="475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" name=""/>
                <p:cNvGrpSpPr/>
                <p:nvPr/>
              </p:nvGrpSpPr>
              <p:grpSpPr>
                <a:xfrm>
                  <a:off x="3371760" y="1509840"/>
                  <a:ext cx="398520" cy="587160"/>
                  <a:chOff x="3371760" y="1509840"/>
                  <a:chExt cx="398520" cy="58716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>
                    <a:off x="3371760" y="1509840"/>
                    <a:ext cx="398520" cy="587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20800" y="1706400"/>
                    <a:ext cx="159120" cy="190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G</a:t>
                    </a:r>
                    <a:r>
                      <a:rPr b="0" lang="en-US" sz="1100" spc="-1" strike="noStrike" baseline="-25000">
                        <a:solidFill>
                          <a:srgbClr val="ff0066"/>
                        </a:solidFill>
                        <a:latin typeface="Times New Roman"/>
                      </a:rPr>
                      <a:t>N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" name=""/>
                <p:cNvSpPr/>
                <p:nvPr/>
              </p:nvSpPr>
              <p:spPr>
                <a:xfrm flipV="1">
                  <a:off x="3235320" y="15523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26240" y="1068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1215360" y="3668760"/>
              <a:ext cx="5733000" cy="2224080"/>
              <a:chOff x="1215360" y="3668760"/>
              <a:chExt cx="5733000" cy="2224080"/>
            </a:xfrm>
          </p:grpSpPr>
          <p:sp>
            <p:nvSpPr>
              <p:cNvPr id="907" name=""/>
              <p:cNvSpPr/>
              <p:nvPr/>
            </p:nvSpPr>
            <p:spPr>
              <a:xfrm>
                <a:off x="6362640" y="5011560"/>
                <a:ext cx="554040" cy="2019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0560" y="5381640"/>
                <a:ext cx="54792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pl-PL" sz="11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pl-PL" sz="1100" spc="-1" strike="noStrike">
                    <a:solidFill>
                      <a:srgbClr val="000000"/>
                    </a:solidFill>
                    <a:latin typeface="Times New Roman"/>
                  </a:rPr>
                  <a:t>&lt;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11600" y="3754440"/>
                <a:ext cx="217440" cy="206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8240" y="378144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4754520" y="3668760"/>
                <a:ext cx="71640" cy="2009880"/>
                <a:chOff x="4754520" y="3668760"/>
                <a:chExt cx="71640" cy="20098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4788000" y="3733920"/>
                  <a:ext cx="1440" cy="1944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754520" y="366876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45" y="45"/>
                      </a:moveTo>
                      <a:lnTo>
                        <a:pt x="21" y="0"/>
                      </a:lnTo>
                      <a:lnTo>
                        <a:pt x="0" y="45"/>
                      </a:lnTo>
                      <a:lnTo>
                        <a:pt x="4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"/>
              <p:cNvSpPr/>
              <p:nvPr/>
            </p:nvSpPr>
            <p:spPr>
              <a:xfrm>
                <a:off x="5549760" y="4900680"/>
                <a:ext cx="204840" cy="2174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25360" y="492768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85840" y="49957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5272200" y="4022640"/>
                <a:ext cx="1224000" cy="479520"/>
                <a:chOff x="5272200" y="4022640"/>
                <a:chExt cx="1224000" cy="47952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  <a:lnTo>
                        <a:pt x="771" y="302"/>
                      </a:lnTo>
                      <a:lnTo>
                        <a:pt x="77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272200" y="4022640"/>
                  <a:ext cx="1224000" cy="479520"/>
                </a:xfrm>
                <a:custGeom>
                  <a:avLst/>
                  <a:gdLst/>
                  <a:ahLst/>
                  <a:rect l="l" t="t" r="r" b="b"/>
                  <a:pathLst>
                    <a:path w="771" h="302">
                      <a:moveTo>
                        <a:pt x="771" y="0"/>
                      </a:moveTo>
                      <a:lnTo>
                        <a:pt x="692" y="2"/>
                      </a:lnTo>
                      <a:lnTo>
                        <a:pt x="614" y="6"/>
                      </a:lnTo>
                      <a:lnTo>
                        <a:pt x="542" y="13"/>
                      </a:lnTo>
                      <a:lnTo>
                        <a:pt x="471" y="23"/>
                      </a:lnTo>
                      <a:lnTo>
                        <a:pt x="402" y="36"/>
                      </a:lnTo>
                      <a:lnTo>
                        <a:pt x="340" y="51"/>
                      </a:lnTo>
                      <a:lnTo>
                        <a:pt x="280" y="71"/>
                      </a:lnTo>
                      <a:lnTo>
                        <a:pt x="224" y="90"/>
                      </a:lnTo>
                      <a:lnTo>
                        <a:pt x="175" y="111"/>
                      </a:lnTo>
                      <a:lnTo>
                        <a:pt x="130" y="135"/>
                      </a:lnTo>
                      <a:lnTo>
                        <a:pt x="92" y="158"/>
                      </a:lnTo>
                      <a:lnTo>
                        <a:pt x="60" y="186"/>
                      </a:lnTo>
                      <a:lnTo>
                        <a:pt x="34" y="212"/>
                      </a:lnTo>
                      <a:lnTo>
                        <a:pt x="15" y="242"/>
                      </a:lnTo>
                      <a:lnTo>
                        <a:pt x="4" y="272"/>
                      </a:lnTo>
                      <a:lnTo>
                        <a:pt x="0" y="302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272200" y="4502160"/>
                <a:ext cx="149040" cy="214200"/>
                <a:chOff x="5272200" y="4502160"/>
                <a:chExt cx="149040" cy="2142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  <a:lnTo>
                        <a:pt x="94" y="0"/>
                      </a:lnTo>
                      <a:lnTo>
                        <a:pt x="94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72200" y="4502160"/>
                  <a:ext cx="149040" cy="214200"/>
                </a:xfrm>
                <a:custGeom>
                  <a:avLst/>
                  <a:gdLst/>
                  <a:ahLst/>
                  <a:rect l="l" t="t" r="r" b="b"/>
                  <a:pathLst>
                    <a:path w="94" h="135">
                      <a:moveTo>
                        <a:pt x="94" y="135"/>
                      </a:moveTo>
                      <a:lnTo>
                        <a:pt x="75" y="133"/>
                      </a:lnTo>
                      <a:lnTo>
                        <a:pt x="57" y="124"/>
                      </a:lnTo>
                      <a:lnTo>
                        <a:pt x="42" y="111"/>
                      </a:lnTo>
                      <a:lnTo>
                        <a:pt x="27" y="96"/>
                      </a:lnTo>
                      <a:lnTo>
                        <a:pt x="17" y="75"/>
                      </a:lnTo>
                      <a:lnTo>
                        <a:pt x="8" y="54"/>
                      </a:lnTo>
                      <a:lnTo>
                        <a:pt x="2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5343480" y="4672080"/>
                <a:ext cx="784440" cy="374760"/>
              </a:xfrm>
              <a:custGeom>
                <a:avLst/>
                <a:gdLst/>
                <a:ahLst/>
                <a:rect l="l" t="t" r="r" b="b"/>
                <a:pathLst>
                  <a:path w="494" h="236">
                    <a:moveTo>
                      <a:pt x="4" y="0"/>
                    </a:moveTo>
                    <a:lnTo>
                      <a:pt x="0" y="13"/>
                    </a:lnTo>
                    <a:lnTo>
                      <a:pt x="490" y="236"/>
                    </a:lnTo>
                    <a:lnTo>
                      <a:pt x="494" y="22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6121440" y="5043600"/>
                <a:ext cx="109440" cy="137880"/>
                <a:chOff x="6121440" y="5043600"/>
                <a:chExt cx="109440" cy="137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  <a:lnTo>
                        <a:pt x="0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1440" y="5043600"/>
                  <a:ext cx="109440" cy="1378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0" y="0"/>
                      </a:moveTo>
                      <a:lnTo>
                        <a:pt x="15" y="2"/>
                      </a:lnTo>
                      <a:lnTo>
                        <a:pt x="28" y="6"/>
                      </a:lnTo>
                      <a:lnTo>
                        <a:pt x="39" y="15"/>
                      </a:lnTo>
                      <a:lnTo>
                        <a:pt x="49" y="25"/>
                      </a:lnTo>
                      <a:lnTo>
                        <a:pt x="58" y="38"/>
                      </a:lnTo>
                      <a:lnTo>
                        <a:pt x="64" y="53"/>
                      </a:lnTo>
                      <a:lnTo>
                        <a:pt x="67" y="70"/>
                      </a:lnTo>
                      <a:lnTo>
                        <a:pt x="69" y="87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121440" y="5181480"/>
                <a:ext cx="109440" cy="150840"/>
                <a:chOff x="6121440" y="5181480"/>
                <a:chExt cx="109440" cy="15084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1440" y="5181480"/>
                  <a:ext cx="109440" cy="150840"/>
                </a:xfrm>
                <a:custGeom>
                  <a:avLst/>
                  <a:gdLst/>
                  <a:ahLst/>
                  <a:rect l="l" t="t" r="r" b="b"/>
                  <a:pathLst>
                    <a:path w="69" h="95">
                      <a:moveTo>
                        <a:pt x="0" y="95"/>
                      </a:moveTo>
                      <a:lnTo>
                        <a:pt x="15" y="93"/>
                      </a:lnTo>
                      <a:lnTo>
                        <a:pt x="28" y="88"/>
                      </a:lnTo>
                      <a:lnTo>
                        <a:pt x="39" y="78"/>
                      </a:lnTo>
                      <a:lnTo>
                        <a:pt x="49" y="67"/>
                      </a:lnTo>
                      <a:lnTo>
                        <a:pt x="58" y="54"/>
                      </a:lnTo>
                      <a:lnTo>
                        <a:pt x="64" y="37"/>
                      </a:lnTo>
                      <a:lnTo>
                        <a:pt x="67" y="20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0" name=""/>
              <p:cNvSpPr/>
              <p:nvPr/>
            </p:nvSpPr>
            <p:spPr>
              <a:xfrm flipH="1">
                <a:off x="5665320" y="5321160"/>
                <a:ext cx="500040" cy="255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5315040" y="5383080"/>
                <a:ext cx="574560" cy="247680"/>
                <a:chOff x="5315040" y="5383080"/>
                <a:chExt cx="574560" cy="24768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  <a:lnTo>
                        <a:pt x="0" y="0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315040" y="5383080"/>
                  <a:ext cx="574560" cy="247680"/>
                </a:xfrm>
                <a:custGeom>
                  <a:avLst/>
                  <a:gdLst/>
                  <a:ahLst/>
                  <a:rect l="l" t="t" r="r" b="b"/>
                  <a:pathLst>
                    <a:path w="362" h="156">
                      <a:moveTo>
                        <a:pt x="0" y="156"/>
                      </a:moveTo>
                      <a:lnTo>
                        <a:pt x="73" y="154"/>
                      </a:lnTo>
                      <a:lnTo>
                        <a:pt x="142" y="143"/>
                      </a:lnTo>
                      <a:lnTo>
                        <a:pt x="202" y="128"/>
                      </a:lnTo>
                      <a:lnTo>
                        <a:pt x="230" y="120"/>
                      </a:lnTo>
                      <a:lnTo>
                        <a:pt x="255" y="111"/>
                      </a:lnTo>
                      <a:lnTo>
                        <a:pt x="279" y="98"/>
                      </a:lnTo>
                      <a:lnTo>
                        <a:pt x="300" y="88"/>
                      </a:lnTo>
                      <a:lnTo>
                        <a:pt x="320" y="75"/>
                      </a:lnTo>
                      <a:lnTo>
                        <a:pt x="335" y="60"/>
                      </a:lnTo>
                      <a:lnTo>
                        <a:pt x="345" y="47"/>
                      </a:lnTo>
                      <a:lnTo>
                        <a:pt x="356" y="32"/>
                      </a:lnTo>
                      <a:lnTo>
                        <a:pt x="360" y="15"/>
                      </a:lnTo>
                      <a:lnTo>
                        <a:pt x="36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4" name=""/>
              <p:cNvSpPr/>
              <p:nvPr/>
            </p:nvSpPr>
            <p:spPr>
              <a:xfrm>
                <a:off x="5751360" y="5273640"/>
                <a:ext cx="152640" cy="17316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10280" y="4183200"/>
                <a:ext cx="1095120" cy="1363680"/>
              </a:xfrm>
              <a:prstGeom prst="line">
                <a:avLst/>
              </a:prstGeom>
              <a:ln w="64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53160" y="4427640"/>
                <a:ext cx="520560" cy="277560"/>
              </a:xfrm>
              <a:custGeom>
                <a:avLst/>
                <a:gdLst/>
                <a:ahLst/>
                <a:rect l="l" t="t" r="r" b="b"/>
                <a:pathLst>
                  <a:path w="328" h="175">
                    <a:moveTo>
                      <a:pt x="324" y="175"/>
                    </a:moveTo>
                    <a:lnTo>
                      <a:pt x="328" y="163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24" y="17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043680" y="4991040"/>
                <a:ext cx="568080" cy="293760"/>
              </a:xfrm>
              <a:custGeom>
                <a:avLst/>
                <a:gdLst/>
                <a:ahLst/>
                <a:rect l="l" t="t" r="r" b="b"/>
                <a:pathLst>
                  <a:path w="358" h="185">
                    <a:moveTo>
                      <a:pt x="353" y="185"/>
                    </a:moveTo>
                    <a:lnTo>
                      <a:pt x="358" y="172"/>
                    </a:lnTo>
                    <a:lnTo>
                      <a:pt x="4" y="0"/>
                    </a:lnTo>
                    <a:lnTo>
                      <a:pt x="0" y="13"/>
                    </a:lnTo>
                    <a:lnTo>
                      <a:pt x="353" y="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8" name=""/>
              <p:cNvGrpSpPr/>
              <p:nvPr/>
            </p:nvGrpSpPr>
            <p:grpSpPr>
              <a:xfrm>
                <a:off x="4784760" y="4856040"/>
                <a:ext cx="958680" cy="12960"/>
                <a:chOff x="4784760" y="4856040"/>
                <a:chExt cx="958680" cy="12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478476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99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811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26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3876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5316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867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8798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894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906800" y="48560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921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9338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948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2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5200" y="48560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89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2200" y="4856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16600" y="4856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292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43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057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07060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84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97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111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12460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138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153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1656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180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192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0704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96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34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248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2610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27544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88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302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31504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29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343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3560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70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383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97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0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24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370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51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65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78480" y="48592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492880" y="48592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505480" y="48592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19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5324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546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560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57388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587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0088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14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27520" y="486252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41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56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68920" y="48625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83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95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710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722920" y="48625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737320" y="48625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5537160" y="5689440"/>
                <a:ext cx="21744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686640" y="5689440"/>
                <a:ext cx="214200" cy="2034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774840" y="5716440"/>
                <a:ext cx="101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49680" y="5613480"/>
                <a:ext cx="214560" cy="2048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52280" y="5641920"/>
                <a:ext cx="7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631840" y="4338720"/>
                <a:ext cx="2995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0" lang="pl-PL" sz="13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0" lang="pl-PL" sz="1300" spc="-1" strike="noStrike">
                    <a:solidFill>
                      <a:srgbClr val="ff0000"/>
                    </a:solidFill>
                    <a:latin typeface="Times New Roman"/>
                  </a:rPr>
                  <a:t>&lt;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730840" y="4838760"/>
                <a:ext cx="396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549680" y="4773600"/>
                <a:ext cx="214560" cy="2080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640760" y="4800600"/>
                <a:ext cx="47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679640" y="48690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771800" y="5637240"/>
                <a:ext cx="2176560" cy="71280"/>
                <a:chOff x="4771800" y="5637240"/>
                <a:chExt cx="2176560" cy="71280"/>
              </a:xfrm>
            </p:grpSpPr>
            <p:sp>
              <p:nvSpPr>
                <p:cNvPr id="1021" name=""/>
                <p:cNvSpPr/>
                <p:nvPr/>
              </p:nvSpPr>
              <p:spPr>
                <a:xfrm flipH="1">
                  <a:off x="4771800" y="5672160"/>
                  <a:ext cx="2111400" cy="1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877080" y="5637240"/>
                  <a:ext cx="71280" cy="7128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45"/>
                      </a:moveTo>
                      <a:lnTo>
                        <a:pt x="45" y="22"/>
                      </a:lnTo>
                      <a:lnTo>
                        <a:pt x="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1215360" y="3695760"/>
                <a:ext cx="2964240" cy="1523880"/>
                <a:chOff x="1215360" y="3695760"/>
                <a:chExt cx="2964240" cy="1523880"/>
              </a:xfrm>
            </p:grpSpPr>
            <p:grpSp>
              <p:nvGrpSpPr>
                <p:cNvPr id="1024" name=""/>
                <p:cNvGrpSpPr/>
                <p:nvPr/>
              </p:nvGrpSpPr>
              <p:grpSpPr>
                <a:xfrm>
                  <a:off x="1215360" y="3695760"/>
                  <a:ext cx="2352960" cy="1522440"/>
                  <a:chOff x="1215360" y="3695760"/>
                  <a:chExt cx="2352960" cy="152244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2568600" y="4026240"/>
                    <a:ext cx="81540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371760" y="4017960"/>
                    <a:ext cx="0" cy="1200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1531800" y="4029120"/>
                    <a:ext cx="1440" cy="4017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30360" y="4483440"/>
                    <a:ext cx="2880" cy="712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170160" y="4340520"/>
                    <a:ext cx="398160" cy="587160"/>
                    <a:chOff x="3170160" y="4340520"/>
                    <a:chExt cx="398160" cy="58716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3170160" y="4340520"/>
                      <a:ext cx="398160" cy="587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288960" y="4527720"/>
                      <a:ext cx="105840" cy="190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pl-PL" sz="1100" spc="-1" strike="noStrike" baseline="-25000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2" name=""/>
                  <p:cNvSpPr/>
                  <p:nvPr/>
                </p:nvSpPr>
                <p:spPr>
                  <a:xfrm>
                    <a:off x="1411200" y="4442040"/>
                    <a:ext cx="23472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466640" y="4486320"/>
                    <a:ext cx="12528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1215360" y="4384800"/>
                    <a:ext cx="17136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r>
                      <a:rPr b="0" i="1" lang="en-US" sz="15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g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677960" y="4561200"/>
                    <a:ext cx="1170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677960" y="4370400"/>
                    <a:ext cx="11376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1735200" y="4313520"/>
                    <a:ext cx="1080" cy="115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rot="16200000">
                    <a:off x="2894400" y="3872880"/>
                    <a:ext cx="115920" cy="301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228760" y="4662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773080" y="4127760"/>
                    <a:ext cx="99720" cy="19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pl-PL" sz="11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r</a:t>
                    </a:r>
                    <a:r>
                      <a:rPr b="1" i="1" lang="pl-PL" sz="1100" spc="-1" strike="noStrike" baseline="-25000">
                        <a:solidFill>
                          <a:srgbClr val="008000"/>
                        </a:solidFill>
                        <a:latin typeface="Times New Roman"/>
                      </a:rPr>
                      <a:t>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1811160" y="3930840"/>
                    <a:ext cx="75600" cy="201600"/>
                    <a:chOff x="1811160" y="3930840"/>
                    <a:chExt cx="75600" cy="20160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flipH="1" flipV="1">
                      <a:off x="1885680" y="3930840"/>
                      <a:ext cx="108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flipH="1" flipV="1">
                      <a:off x="1811160" y="3930840"/>
                      <a:ext cx="1440" cy="2016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2208240" y="4338720"/>
                    <a:ext cx="247320" cy="217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781280" y="4156200"/>
                    <a:ext cx="9360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238480" y="3940200"/>
                    <a:ext cx="1090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344680" y="3940200"/>
                    <a:ext cx="11088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49440" y="3940200"/>
                    <a:ext cx="112320" cy="204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217600" y="4035600"/>
                    <a:ext cx="364680" cy="12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306520" y="3695760"/>
                    <a:ext cx="217080" cy="20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14080" y="4065840"/>
                    <a:ext cx="784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531800" y="5193000"/>
                    <a:ext cx="1831680" cy="46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3600" y="4027680"/>
                    <a:ext cx="266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886040" y="4027680"/>
                    <a:ext cx="34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3870720" y="452448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3827520" y="4124520"/>
                  <a:ext cx="0" cy="109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047600" y="103500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padkowa admitancja obwodu równoleg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2662200" y="1741320"/>
                <a:ext cx="274320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w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1167120" y="2581200"/>
            <a:ext cx="50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adkowa impedancja obwodu szereg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647800" y="3127320"/>
                <a:ext cx="2514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w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w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1" name=""/>
          <p:cNvSpPr/>
          <p:nvPr/>
        </p:nvSpPr>
        <p:spPr>
          <a:xfrm>
            <a:off x="146160" y="388476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unki generacji otrzymuje się z założeniem, że powyższe równania staja się równe zer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zór Thomps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14680" y="4762440"/>
                <a:ext cx="2438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3" name=""/>
          <p:cNvSpPr/>
          <p:nvPr/>
        </p:nvSpPr>
        <p:spPr>
          <a:xfrm>
            <a:off x="1144080" y="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LC z elementami o ujemnej rezystan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69720" y="773280"/>
            <a:ext cx="8138880" cy="6070320"/>
            <a:chOff x="369720" y="773280"/>
            <a:chExt cx="8138880" cy="6070320"/>
          </a:xfrm>
        </p:grpSpPr>
        <p:sp>
          <p:nvSpPr>
            <p:cNvPr id="1066" name=""/>
            <p:cNvSpPr/>
            <p:nvPr/>
          </p:nvSpPr>
          <p:spPr>
            <a:xfrm>
              <a:off x="4189320" y="2209680"/>
              <a:ext cx="35712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37200" y="2241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54560" y="231768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502160" y="3870360"/>
              <a:ext cx="82080" cy="1149120"/>
              <a:chOff x="4502160" y="3870360"/>
              <a:chExt cx="82080" cy="1149120"/>
            </a:xfrm>
          </p:grpSpPr>
          <p:sp>
            <p:nvSpPr>
              <p:cNvPr id="1070" name=""/>
              <p:cNvSpPr/>
              <p:nvPr/>
            </p:nvSpPr>
            <p:spPr>
              <a:xfrm>
                <a:off x="4542120" y="3943080"/>
                <a:ext cx="2160" cy="107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02160" y="387036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4530600" y="4967280"/>
              <a:ext cx="3978000" cy="80640"/>
              <a:chOff x="4530600" y="4967280"/>
              <a:chExt cx="3978000" cy="80640"/>
            </a:xfrm>
          </p:grpSpPr>
          <p:sp>
            <p:nvSpPr>
              <p:cNvPr id="1073" name=""/>
              <p:cNvSpPr/>
              <p:nvPr/>
            </p:nvSpPr>
            <p:spPr>
              <a:xfrm flipH="1">
                <a:off x="4530600" y="5004720"/>
                <a:ext cx="3903840" cy="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26880" y="49672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0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4491000" y="998640"/>
              <a:ext cx="82080" cy="2477160"/>
              <a:chOff x="4491000" y="998640"/>
              <a:chExt cx="82080" cy="2477160"/>
            </a:xfrm>
          </p:grpSpPr>
          <p:sp>
            <p:nvSpPr>
              <p:cNvPr id="1076" name=""/>
              <p:cNvSpPr/>
              <p:nvPr/>
            </p:nvSpPr>
            <p:spPr>
              <a:xfrm>
                <a:off x="4530960" y="1071000"/>
                <a:ext cx="1440" cy="2404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91000" y="998640"/>
                <a:ext cx="82080" cy="817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3" y="44"/>
                    </a:moveTo>
                    <a:lnTo>
                      <a:pt x="21" y="0"/>
                    </a:lnTo>
                    <a:lnTo>
                      <a:pt x="0" y="4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519440" y="3427560"/>
              <a:ext cx="3978000" cy="78840"/>
              <a:chOff x="4519440" y="3427560"/>
              <a:chExt cx="3978000" cy="7884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4519440" y="346608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15360" y="3427560"/>
                <a:ext cx="82080" cy="788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502160" y="5415120"/>
              <a:ext cx="82080" cy="1148760"/>
              <a:chOff x="4502160" y="5415120"/>
              <a:chExt cx="82080" cy="1148760"/>
            </a:xfrm>
          </p:grpSpPr>
          <p:sp>
            <p:nvSpPr>
              <p:cNvPr id="1082" name=""/>
              <p:cNvSpPr/>
              <p:nvPr/>
            </p:nvSpPr>
            <p:spPr>
              <a:xfrm>
                <a:off x="4542120" y="5487840"/>
                <a:ext cx="2160" cy="1076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502160" y="5415120"/>
                <a:ext cx="8208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1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4530600" y="6513480"/>
              <a:ext cx="3978000" cy="80640"/>
              <a:chOff x="4530600" y="6513480"/>
              <a:chExt cx="3978000" cy="80640"/>
            </a:xfrm>
          </p:grpSpPr>
          <p:sp>
            <p:nvSpPr>
              <p:cNvPr id="1085" name=""/>
              <p:cNvSpPr/>
              <p:nvPr/>
            </p:nvSpPr>
            <p:spPr>
              <a:xfrm flipH="1">
                <a:off x="4530600" y="6552720"/>
                <a:ext cx="3903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26880" y="6513480"/>
                <a:ext cx="81720" cy="80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3" y="21"/>
                    </a:lnTo>
                    <a:lnTo>
                      <a:pt x="0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 flipH="1">
              <a:off x="4530240" y="2317680"/>
              <a:ext cx="397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97520" y="1320840"/>
              <a:ext cx="210960" cy="179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111" y="0"/>
                  </a:moveTo>
                  <a:lnTo>
                    <a:pt x="88" y="2"/>
                  </a:lnTo>
                  <a:lnTo>
                    <a:pt x="68" y="8"/>
                  </a:lnTo>
                  <a:lnTo>
                    <a:pt x="49" y="16"/>
                  </a:lnTo>
                  <a:lnTo>
                    <a:pt x="33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8004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4" y="8"/>
                  </a:lnTo>
                  <a:lnTo>
                    <a:pt x="62" y="16"/>
                  </a:lnTo>
                  <a:lnTo>
                    <a:pt x="78" y="29"/>
                  </a:lnTo>
                  <a:lnTo>
                    <a:pt x="91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478944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88120" y="1512720"/>
              <a:ext cx="21096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5000" y="1320840"/>
              <a:ext cx="204840" cy="179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108" y="0"/>
                  </a:moveTo>
                  <a:lnTo>
                    <a:pt x="86" y="2"/>
                  </a:lnTo>
                  <a:lnTo>
                    <a:pt x="67" y="8"/>
                  </a:lnTo>
                  <a:lnTo>
                    <a:pt x="49" y="16"/>
                  </a:lnTo>
                  <a:lnTo>
                    <a:pt x="32" y="29"/>
                  </a:lnTo>
                  <a:lnTo>
                    <a:pt x="18" y="43"/>
                  </a:lnTo>
                  <a:lnTo>
                    <a:pt x="8" y="59"/>
                  </a:lnTo>
                  <a:lnTo>
                    <a:pt x="2" y="78"/>
                  </a:lnTo>
                  <a:lnTo>
                    <a:pt x="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797520" y="132084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0"/>
                  </a:moveTo>
                  <a:lnTo>
                    <a:pt x="23" y="2"/>
                  </a:lnTo>
                  <a:lnTo>
                    <a:pt x="43" y="8"/>
                  </a:lnTo>
                  <a:lnTo>
                    <a:pt x="62" y="16"/>
                  </a:lnTo>
                  <a:lnTo>
                    <a:pt x="76" y="29"/>
                  </a:lnTo>
                  <a:lnTo>
                    <a:pt x="90" y="43"/>
                  </a:lnTo>
                  <a:lnTo>
                    <a:pt x="101" y="59"/>
                  </a:lnTo>
                  <a:lnTo>
                    <a:pt x="107" y="78"/>
                  </a:lnTo>
                  <a:lnTo>
                    <a:pt x="109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06920" y="1512720"/>
              <a:ext cx="20772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1512720"/>
              <a:ext cx="208080" cy="80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1184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109" y="96"/>
                  </a:moveTo>
                  <a:lnTo>
                    <a:pt x="86" y="94"/>
                  </a:lnTo>
                  <a:lnTo>
                    <a:pt x="68" y="88"/>
                  </a:lnTo>
                  <a:lnTo>
                    <a:pt x="49" y="80"/>
                  </a:lnTo>
                  <a:lnTo>
                    <a:pt x="33" y="68"/>
                  </a:lnTo>
                  <a:lnTo>
                    <a:pt x="18" y="53"/>
                  </a:lnTo>
                  <a:lnTo>
                    <a:pt x="8" y="37"/>
                  </a:lnTo>
                  <a:lnTo>
                    <a:pt x="2" y="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94360" y="3121200"/>
              <a:ext cx="208080" cy="179280"/>
            </a:xfrm>
            <a:custGeom>
              <a:avLst/>
              <a:gdLst/>
              <a:ahLst/>
              <a:rect l="l" t="t" r="r" b="b"/>
              <a:pathLst>
                <a:path w="109" h="96">
                  <a:moveTo>
                    <a:pt x="0" y="96"/>
                  </a:moveTo>
                  <a:lnTo>
                    <a:pt x="23" y="94"/>
                  </a:lnTo>
                  <a:lnTo>
                    <a:pt x="43" y="88"/>
                  </a:lnTo>
                  <a:lnTo>
                    <a:pt x="62" y="80"/>
                  </a:lnTo>
                  <a:lnTo>
                    <a:pt x="76" y="68"/>
                  </a:lnTo>
                  <a:lnTo>
                    <a:pt x="91" y="53"/>
                  </a:lnTo>
                  <a:lnTo>
                    <a:pt x="101" y="37"/>
                  </a:lnTo>
                  <a:lnTo>
                    <a:pt x="107" y="20"/>
                  </a:lnTo>
                  <a:lnTo>
                    <a:pt x="1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5603760" y="2309400"/>
              <a:ext cx="20808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6202440" y="2309400"/>
              <a:ext cx="207720" cy="8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4714920" y="2317680"/>
              <a:ext cx="619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10440" y="2317680"/>
              <a:ext cx="856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41520" y="1320840"/>
              <a:ext cx="165276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92680" y="2297160"/>
              <a:ext cx="1440" cy="388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7216920" y="2296800"/>
              <a:ext cx="2880" cy="398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10160" y="2320920"/>
              <a:ext cx="180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599080" y="2309760"/>
              <a:ext cx="4680" cy="389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32480" y="4327560"/>
              <a:ext cx="944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38520" y="5016600"/>
              <a:ext cx="19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73400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56040" y="4321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5400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62440" y="5016600"/>
              <a:ext cx="70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6346800" y="4327560"/>
              <a:ext cx="127080" cy="68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85040" y="4321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7181640" y="4321080"/>
              <a:ext cx="1220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23120" y="500868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38520" y="5859360"/>
              <a:ext cx="195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34000" y="5859360"/>
              <a:ext cx="12204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6040" y="6553080"/>
              <a:ext cx="695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5543640" y="5859360"/>
              <a:ext cx="118800" cy="6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62440" y="5859360"/>
              <a:ext cx="700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46800" y="5859360"/>
              <a:ext cx="127080" cy="69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85040" y="6553080"/>
              <a:ext cx="696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182000" y="5859360"/>
              <a:ext cx="1094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7720" y="5859360"/>
              <a:ext cx="94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4726080" y="5859360"/>
              <a:ext cx="944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37200" y="1084320"/>
              <a:ext cx="274320" cy="230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60960" y="1114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377600" y="119052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37200" y="3967200"/>
              <a:ext cx="274320" cy="237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96600" y="399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341240" y="40734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26040" y="5499000"/>
              <a:ext cx="272880" cy="236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82200" y="5529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30080" y="560700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00760" y="4062240"/>
              <a:ext cx="227160" cy="23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44680" y="4092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9040" y="41688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67280" y="5594400"/>
              <a:ext cx="2844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15880" y="5627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71320" y="5702400"/>
              <a:ext cx="20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11720" y="643428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66440" y="6462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22880" y="4878360"/>
              <a:ext cx="201600" cy="26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77600" y="4910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11720" y="3332160"/>
              <a:ext cx="19980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66440" y="336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26360" y="6575400"/>
              <a:ext cx="200160" cy="268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00160" y="6608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26360" y="5043600"/>
              <a:ext cx="200160" cy="266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300160" y="5076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04040" y="3500280"/>
              <a:ext cx="200160" cy="268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77840" y="3532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07000" y="1670040"/>
              <a:ext cx="36036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689440" y="1700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06800" y="1776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5945040" y="1320840"/>
              <a:ext cx="85680" cy="996480"/>
              <a:chOff x="5945040" y="1320840"/>
              <a:chExt cx="85680" cy="996480"/>
            </a:xfrm>
          </p:grpSpPr>
          <p:sp>
            <p:nvSpPr>
              <p:cNvPr id="1158" name=""/>
              <p:cNvSpPr/>
              <p:nvPr/>
            </p:nvSpPr>
            <p:spPr>
              <a:xfrm>
                <a:off x="5986800" y="1393560"/>
                <a:ext cx="1440" cy="85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8280" y="1320840"/>
                <a:ext cx="8244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3" y="43"/>
                    </a:moveTo>
                    <a:lnTo>
                      <a:pt x="20" y="0"/>
                    </a:lnTo>
                    <a:lnTo>
                      <a:pt x="0" y="43"/>
                    </a:lnTo>
                    <a:lnTo>
                      <a:pt x="4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45040" y="2237040"/>
                <a:ext cx="81720" cy="8028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0"/>
                    </a:moveTo>
                    <a:lnTo>
                      <a:pt x="22" y="4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182000" y="2293920"/>
              <a:ext cx="507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0560" y="229392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57760" y="2293920"/>
              <a:ext cx="5544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0560" y="4687920"/>
              <a:ext cx="5580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65600" y="2293920"/>
              <a:ext cx="525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205760" y="4648320"/>
              <a:ext cx="54000" cy="475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65600" y="4670280"/>
              <a:ext cx="52560" cy="511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57760" y="4687920"/>
              <a:ext cx="55440" cy="442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2800" y="6168960"/>
              <a:ext cx="558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88200" y="6168960"/>
              <a:ext cx="4896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767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70360" y="6168960"/>
              <a:ext cx="54000" cy="460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720" y="4087800"/>
              <a:ext cx="3559320" cy="194580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Generator LC  z ujemną rezystancją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układ z kluczem różnicowy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przebiegi czasowe prądów i napięcia na obwodzie rezonansowy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473040" y="773280"/>
              <a:ext cx="3160440" cy="3020040"/>
              <a:chOff x="473040" y="773280"/>
              <a:chExt cx="3160440" cy="302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289692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3292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02184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03160" y="2278080"/>
                <a:ext cx="22392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39160" y="2313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28080" y="23907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825560" y="1508040"/>
                <a:ext cx="285480" cy="246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911240" y="154008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515960" y="1833480"/>
                <a:ext cx="360360" cy="244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569600" y="18637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72560" y="19400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38200" y="1619280"/>
                <a:ext cx="13176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1501560" y="1481040"/>
                <a:ext cx="6480" cy="145800"/>
                <a:chOff x="1501560" y="1481040"/>
                <a:chExt cx="6480" cy="145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1501560" y="148104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501560" y="14958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501560" y="15105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501560" y="1527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501560" y="1542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501560" y="155772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01560" y="1572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501560" y="158760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1560" y="160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501560" y="161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501560" y="1947960"/>
                <a:ext cx="6480" cy="161640"/>
                <a:chOff x="1501560" y="1947960"/>
                <a:chExt cx="6480" cy="16164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501560" y="1947960"/>
                  <a:ext cx="6480" cy="90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501560" y="19645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01560" y="19792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1560" y="1994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01560" y="200952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01560" y="20257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01560" y="2040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01560" y="205560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501560" y="207036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501560" y="208584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501560" y="2102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0" name=""/>
              <p:cNvSpPr/>
              <p:nvPr/>
            </p:nvSpPr>
            <p:spPr>
              <a:xfrm flipH="1">
                <a:off x="1711080" y="173520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711080" y="1819440"/>
                <a:ext cx="23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825200" y="1478160"/>
                <a:ext cx="3240" cy="264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828800" y="1830600"/>
                <a:ext cx="1440" cy="27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16000" y="1604880"/>
                <a:ext cx="23940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16000" y="1722600"/>
                <a:ext cx="239400" cy="12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6000" y="1841400"/>
                <a:ext cx="23940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5440" y="1581120"/>
                <a:ext cx="14904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14280" y="1470240"/>
                <a:ext cx="144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14280" y="197640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709720" y="169236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709720" y="1548000"/>
                <a:ext cx="298440" cy="268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2736720" y="1684440"/>
                <a:ext cx="121680" cy="55080"/>
                <a:chOff x="2736720" y="1684440"/>
                <a:chExt cx="121680" cy="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  <a:lnTo>
                        <a:pt x="62" y="2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736720" y="1684440"/>
                  <a:ext cx="121680" cy="55080"/>
                </a:xfrm>
                <a:custGeom>
                  <a:avLst/>
                  <a:gdLst/>
                  <a:ahLst/>
                  <a:rect l="l" t="t" r="r" b="b"/>
                  <a:pathLst>
                    <a:path w="64" h="29">
                      <a:moveTo>
                        <a:pt x="64" y="0"/>
                      </a:moveTo>
                      <a:lnTo>
                        <a:pt x="39" y="2"/>
                      </a:lnTo>
                      <a:lnTo>
                        <a:pt x="19" y="8"/>
                      </a:lnTo>
                      <a:lnTo>
                        <a:pt x="10" y="14"/>
                      </a:lnTo>
                      <a:lnTo>
                        <a:pt x="4" y="18"/>
                      </a:lnTo>
                      <a:lnTo>
                        <a:pt x="2" y="22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5" name=""/>
              <p:cNvSpPr/>
              <p:nvPr/>
            </p:nvSpPr>
            <p:spPr>
              <a:xfrm flipV="1">
                <a:off x="2858760" y="1947600"/>
                <a:ext cx="1800" cy="158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2855880" y="1379520"/>
                <a:ext cx="1440" cy="15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2855880" y="1684440"/>
                <a:ext cx="115560" cy="55080"/>
                <a:chOff x="2855880" y="1684440"/>
                <a:chExt cx="115560" cy="550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55880" y="1684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43" y="8"/>
                      </a:lnTo>
                      <a:lnTo>
                        <a:pt x="51" y="14"/>
                      </a:lnTo>
                      <a:lnTo>
                        <a:pt x="57" y="18"/>
                      </a:lnTo>
                      <a:lnTo>
                        <a:pt x="59" y="22"/>
                      </a:lnTo>
                      <a:lnTo>
                        <a:pt x="61" y="2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808000" y="1607760"/>
                <a:ext cx="88560" cy="287280"/>
                <a:chOff x="2808000" y="1607760"/>
                <a:chExt cx="88560" cy="287280"/>
              </a:xfrm>
            </p:grpSpPr>
            <p:sp>
              <p:nvSpPr>
                <p:cNvPr id="1231" name=""/>
                <p:cNvSpPr/>
                <p:nvPr/>
              </p:nvSpPr>
              <p:spPr>
                <a:xfrm flipV="1">
                  <a:off x="2855160" y="1607760"/>
                  <a:ext cx="1440" cy="28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808000" y="1811160"/>
                  <a:ext cx="88560" cy="8388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0" y="0"/>
                      </a:moveTo>
                      <a:lnTo>
                        <a:pt x="25" y="45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1171440" y="2616120"/>
                <a:ext cx="398520" cy="385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6720" y="2700360"/>
                <a:ext cx="18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V="1">
                <a:off x="1307880" y="2660760"/>
                <a:ext cx="1969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1307880" y="2836800"/>
                <a:ext cx="122040" cy="80640"/>
                <a:chOff x="1307880" y="2836800"/>
                <a:chExt cx="122040" cy="8064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1307880" y="2851560"/>
                  <a:ext cx="12204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330560" y="2836800"/>
                  <a:ext cx="99000" cy="80640"/>
                </a:xfrm>
                <a:custGeom>
                  <a:avLst/>
                  <a:gdLst/>
                  <a:ahLst/>
                  <a:rect l="l" t="t" r="r" b="b"/>
                  <a:pathLst>
                    <a:path w="52" h="43">
                      <a:moveTo>
                        <a:pt x="0" y="43"/>
                      </a:moveTo>
                      <a:lnTo>
                        <a:pt x="52" y="41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9" name=""/>
              <p:cNvSpPr/>
              <p:nvPr/>
            </p:nvSpPr>
            <p:spPr>
              <a:xfrm>
                <a:off x="1430280" y="2914560"/>
                <a:ext cx="74520" cy="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1171440" y="2809800"/>
                <a:ext cx="125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36440" y="2806920"/>
                <a:ext cx="324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1504800" y="2518920"/>
                <a:ext cx="14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036440" y="2809800"/>
                <a:ext cx="138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471320" y="1455840"/>
                <a:ext cx="55800" cy="442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93840" y="2201760"/>
                <a:ext cx="395280" cy="389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3362040" y="2288880"/>
                <a:ext cx="324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157200" y="2452680"/>
                <a:ext cx="19368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3265200" y="2317680"/>
                <a:ext cx="856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3149280" y="2247840"/>
                <a:ext cx="126720" cy="80640"/>
                <a:chOff x="3149280" y="2247840"/>
                <a:chExt cx="126720" cy="80640"/>
              </a:xfrm>
            </p:grpSpPr>
            <p:sp>
              <p:nvSpPr>
                <p:cNvPr id="1250" name=""/>
                <p:cNvSpPr/>
                <p:nvPr/>
              </p:nvSpPr>
              <p:spPr>
                <a:xfrm flipH="1" flipV="1">
                  <a:off x="3149280" y="2255040"/>
                  <a:ext cx="126720" cy="7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179520" y="2247840"/>
                  <a:ext cx="96480" cy="8064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1"/>
                      </a:moveTo>
                      <a:lnTo>
                        <a:pt x="51" y="43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3362040" y="2390760"/>
                <a:ext cx="122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3" name=""/>
              <p:cNvGrpSpPr/>
              <p:nvPr/>
            </p:nvGrpSpPr>
            <p:grpSpPr>
              <a:xfrm>
                <a:off x="3112920" y="2518920"/>
                <a:ext cx="82080" cy="263520"/>
                <a:chOff x="3112920" y="2518920"/>
                <a:chExt cx="82080" cy="26352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3156840" y="2518920"/>
                  <a:ext cx="1440" cy="263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12920" y="2702520"/>
                  <a:ext cx="82080" cy="7992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3152520" y="2117880"/>
                <a:ext cx="180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3480840" y="2390760"/>
                <a:ext cx="141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234880" y="2193840"/>
                <a:ext cx="401760" cy="390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57280" y="2278080"/>
                <a:ext cx="324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373120" y="2244600"/>
                <a:ext cx="19512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2373120" y="2419560"/>
                <a:ext cx="122040" cy="80280"/>
                <a:chOff x="2373120" y="2419560"/>
                <a:chExt cx="122040" cy="80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2373120" y="2434320"/>
                  <a:ext cx="12204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397960" y="2419560"/>
                  <a:ext cx="97200" cy="80280"/>
                </a:xfrm>
                <a:custGeom>
                  <a:avLst/>
                  <a:gdLst/>
                  <a:ahLst/>
                  <a:rect l="l" t="t" r="r" b="b"/>
                  <a:pathLst>
                    <a:path w="51" h="43">
                      <a:moveTo>
                        <a:pt x="0" y="43"/>
                      </a:moveTo>
                      <a:lnTo>
                        <a:pt x="51" y="41"/>
                      </a:lnTo>
                      <a:lnTo>
                        <a:pt x="2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2495520" y="2492280"/>
                <a:ext cx="72720" cy="3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234520" y="2394000"/>
                <a:ext cx="125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568240" y="2532240"/>
                <a:ext cx="3240" cy="19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568240" y="2103480"/>
                <a:ext cx="3240" cy="13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508040" y="2394000"/>
                <a:ext cx="731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568240" y="2109960"/>
                <a:ext cx="600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1460160" y="2098440"/>
                <a:ext cx="82440" cy="420480"/>
                <a:chOff x="1460160" y="2098440"/>
                <a:chExt cx="82440" cy="420480"/>
              </a:xfrm>
            </p:grpSpPr>
            <p:sp>
              <p:nvSpPr>
                <p:cNvPr id="1271" name=""/>
                <p:cNvSpPr/>
                <p:nvPr/>
              </p:nvSpPr>
              <p:spPr>
                <a:xfrm flipV="1">
                  <a:off x="1504440" y="2098440"/>
                  <a:ext cx="1440" cy="420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460160" y="2438640"/>
                  <a:ext cx="82440" cy="8028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0" y="0"/>
                      </a:moveTo>
                      <a:lnTo>
                        <a:pt x="23" y="43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1430280" y="3089160"/>
                <a:ext cx="13176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492200" y="295596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492200" y="3422520"/>
                <a:ext cx="1440" cy="168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606320" y="3159000"/>
                <a:ext cx="285840" cy="24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672560" y="31939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773000" y="3270240"/>
                <a:ext cx="7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504800" y="3021120"/>
                <a:ext cx="1652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3157200" y="2757600"/>
                <a:ext cx="1800" cy="263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222200" y="2098800"/>
                <a:ext cx="6066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211040" y="1478160"/>
                <a:ext cx="622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69760" y="1677960"/>
                <a:ext cx="211320" cy="23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928080" y="17082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504800" y="892080"/>
                <a:ext cx="1440" cy="59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1504440" y="1106640"/>
                <a:ext cx="2128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630600" y="1095480"/>
                <a:ext cx="288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71320" y="207504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71320" y="1082880"/>
                <a:ext cx="55800" cy="457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71320" y="236232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60160" y="2998800"/>
                <a:ext cx="55800" cy="4608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2086200"/>
                <a:ext cx="55440" cy="5076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71320" y="881280"/>
                <a:ext cx="55800" cy="44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460160" y="3560760"/>
                <a:ext cx="55800" cy="46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3720" y="1393920"/>
                <a:ext cx="185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482560" y="2711520"/>
                <a:ext cx="184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950760" y="2998800"/>
                <a:ext cx="185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01640" y="2689200"/>
                <a:ext cx="22392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35840" y="2718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28000" y="2793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030480" y="1646280"/>
                <a:ext cx="22680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077280" y="167796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131640" y="175428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550880" y="2413080"/>
                <a:ext cx="27468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608840" y="244152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656360" y="251928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201840" y="2638440"/>
                <a:ext cx="276120" cy="236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261240" y="266868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309120" y="274644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73040" y="2314800"/>
                <a:ext cx="274680" cy="2332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518760" y="2187720"/>
                <a:ext cx="238320" cy="292680"/>
                <a:chOff x="518760" y="2187720"/>
                <a:chExt cx="238320" cy="292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760" y="2187720"/>
                  <a:ext cx="1288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37560" y="2266920"/>
                  <a:ext cx="119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1562040" y="773280"/>
                <a:ext cx="360360" cy="2286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12800" y="804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731960" y="881280"/>
                <a:ext cx="23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50880" y="3465720"/>
                <a:ext cx="457200" cy="2300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05600" y="3487680"/>
                <a:ext cx="6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95240" y="3503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814040" y="3579840"/>
                <a:ext cx="21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03240" y="23860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 flipV="1">
              <a:off x="2597040" y="33400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3480" y="5345280"/>
              <a:ext cx="15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6400" y="27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609640" y="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y kwarc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41280" y="8920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zastępczy rezonatora kwarcow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2800" y="180180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eżność modułu impedancj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jej części urojonej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pulsacji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7640" y="398520"/>
            <a:ext cx="3016440" cy="1517760"/>
            <a:chOff x="5057640" y="398520"/>
            <a:chExt cx="3016440" cy="151776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5057640" y="398520"/>
              <a:ext cx="301644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5640480" y="1273320"/>
              <a:ext cx="185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9560" y="92880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Z(j</a:t>
              </a:r>
              <a:r>
                <a:rPr b="0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439560" y="2746440"/>
            <a:ext cx="8288640" cy="3659040"/>
            <a:chOff x="439560" y="2746440"/>
            <a:chExt cx="8288640" cy="3659040"/>
          </a:xfrm>
        </p:grpSpPr>
        <p:grpSp>
          <p:nvGrpSpPr>
            <p:cNvPr id="1333" name=""/>
            <p:cNvGrpSpPr/>
            <p:nvPr/>
          </p:nvGrpSpPr>
          <p:grpSpPr>
            <a:xfrm>
              <a:off x="439560" y="2746440"/>
              <a:ext cx="8288640" cy="3659040"/>
              <a:chOff x="439560" y="2746440"/>
              <a:chExt cx="8288640" cy="3659040"/>
            </a:xfrm>
          </p:grpSpPr>
          <p:sp>
            <p:nvSpPr>
              <p:cNvPr id="1334" name=""/>
              <p:cNvSpPr/>
              <p:nvPr/>
            </p:nvSpPr>
            <p:spPr>
              <a:xfrm>
                <a:off x="4689360" y="5149800"/>
                <a:ext cx="42732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759920" y="5186520"/>
                <a:ext cx="157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133800" y="4309920"/>
                <a:ext cx="5950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450600" y="4361040"/>
                <a:ext cx="313920" cy="289800"/>
                <a:chOff x="3450600" y="4361040"/>
                <a:chExt cx="313920" cy="2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450600" y="436104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709080" y="448308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4245120" y="4294080"/>
                <a:ext cx="596880" cy="35712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1" name=""/>
              <p:cNvGrpSpPr/>
              <p:nvPr/>
            </p:nvGrpSpPr>
            <p:grpSpPr>
              <a:xfrm>
                <a:off x="4266720" y="4368960"/>
                <a:ext cx="312480" cy="289800"/>
                <a:chOff x="4266720" y="4368960"/>
                <a:chExt cx="312480" cy="28980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4266720" y="4368960"/>
                  <a:ext cx="148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523760" y="4491000"/>
                  <a:ext cx="55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1069920" y="2746440"/>
                <a:ext cx="187560" cy="3553920"/>
                <a:chOff x="1069920" y="2746440"/>
                <a:chExt cx="187560" cy="35539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158840" y="2842920"/>
                  <a:ext cx="1800" cy="345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69920" y="2746440"/>
                  <a:ext cx="187560" cy="107640"/>
                </a:xfrm>
                <a:custGeom>
                  <a:avLst/>
                  <a:gdLst/>
                  <a:ahLst/>
                  <a:rect l="l" t="t" r="r" b="b"/>
                  <a:pathLst>
                    <a:path w="118" h="68">
                      <a:moveTo>
                        <a:pt x="118" y="68"/>
                      </a:moveTo>
                      <a:lnTo>
                        <a:pt x="56" y="0"/>
                      </a:lnTo>
                      <a:lnTo>
                        <a:pt x="0" y="68"/>
                      </a:lnTo>
                      <a:lnTo>
                        <a:pt x="11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1185840" y="3479760"/>
                <a:ext cx="392040" cy="177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1568520" y="3652920"/>
                <a:ext cx="215640" cy="406080"/>
                <a:chOff x="1568520" y="3652920"/>
                <a:chExt cx="215640" cy="4060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1568520" y="365292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599840" y="371268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3" y="2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632600" y="3776400"/>
                  <a:ext cx="31320" cy="4536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11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29"/>
                      </a:lnTo>
                      <a:lnTo>
                        <a:pt x="11" y="32"/>
                      </a:lnTo>
                      <a:lnTo>
                        <a:pt x="17" y="32"/>
                      </a:lnTo>
                      <a:lnTo>
                        <a:pt x="22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663920" y="3834720"/>
                  <a:ext cx="32760" cy="453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12" y="4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17" y="32"/>
                      </a:lnTo>
                      <a:lnTo>
                        <a:pt x="23" y="29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688400" y="3898440"/>
                  <a:ext cx="39960" cy="4536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4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7" y="29"/>
                      </a:lnTo>
                      <a:lnTo>
                        <a:pt x="17" y="32"/>
                      </a:lnTo>
                      <a:lnTo>
                        <a:pt x="23" y="32"/>
                      </a:lnTo>
                      <a:lnTo>
                        <a:pt x="28" y="29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721520" y="395820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6" y="29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8" y="29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752840" y="4022280"/>
                  <a:ext cx="313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11" y="3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22" y="2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1827360" y="4070520"/>
                <a:ext cx="2027160" cy="253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185840" y="5532480"/>
                <a:ext cx="392040" cy="1778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1568520" y="5126040"/>
                <a:ext cx="253440" cy="415440"/>
                <a:chOff x="1568520" y="5126040"/>
                <a:chExt cx="253440" cy="4154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568520" y="54957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1605240" y="5435280"/>
                  <a:ext cx="3816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2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2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643760" y="537048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11" y="29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672200" y="5311080"/>
                  <a:ext cx="47160" cy="4572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8" y="3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709280" y="5246640"/>
                  <a:ext cx="38520" cy="4572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0" y="29"/>
                      </a:move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748160" y="5186160"/>
                  <a:ext cx="36720" cy="4572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29"/>
                      </a:move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9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1" y="3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785240" y="5126040"/>
                  <a:ext cx="367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0" y="26"/>
                      </a:move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1" y="26"/>
                      </a:lnTo>
                      <a:lnTo>
                        <a:pt x="22" y="4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1" y="4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V="1">
                <a:off x="1827360" y="4849560"/>
                <a:ext cx="1989000" cy="2696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800520" y="2970360"/>
                <a:ext cx="311040" cy="1339560"/>
              </a:xfrm>
              <a:custGeom>
                <a:avLst/>
                <a:gdLst/>
                <a:ahLst/>
                <a:rect l="l" t="t" r="r" b="b"/>
                <a:pathLst>
                  <a:path w="196" h="844">
                    <a:moveTo>
                      <a:pt x="196" y="0"/>
                    </a:moveTo>
                    <a:lnTo>
                      <a:pt x="174" y="4"/>
                    </a:lnTo>
                    <a:lnTo>
                      <a:pt x="157" y="16"/>
                    </a:lnTo>
                    <a:lnTo>
                      <a:pt x="135" y="39"/>
                    </a:lnTo>
                    <a:lnTo>
                      <a:pt x="118" y="68"/>
                    </a:lnTo>
                    <a:lnTo>
                      <a:pt x="101" y="103"/>
                    </a:lnTo>
                    <a:lnTo>
                      <a:pt x="84" y="145"/>
                    </a:lnTo>
                    <a:lnTo>
                      <a:pt x="67" y="193"/>
                    </a:lnTo>
                    <a:lnTo>
                      <a:pt x="56" y="247"/>
                    </a:lnTo>
                    <a:lnTo>
                      <a:pt x="45" y="308"/>
                    </a:lnTo>
                    <a:lnTo>
                      <a:pt x="34" y="372"/>
                    </a:lnTo>
                    <a:lnTo>
                      <a:pt x="23" y="443"/>
                    </a:lnTo>
                    <a:lnTo>
                      <a:pt x="17" y="517"/>
                    </a:lnTo>
                    <a:lnTo>
                      <a:pt x="11" y="594"/>
                    </a:lnTo>
                    <a:lnTo>
                      <a:pt x="6" y="674"/>
                    </a:lnTo>
                    <a:lnTo>
                      <a:pt x="0" y="844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103640" y="2955960"/>
                <a:ext cx="284040" cy="987480"/>
              </a:xfrm>
              <a:custGeom>
                <a:avLst/>
                <a:gdLst/>
                <a:ahLst/>
                <a:rect l="l" t="t" r="r" b="b"/>
                <a:pathLst>
                  <a:path w="179" h="622">
                    <a:moveTo>
                      <a:pt x="0" y="0"/>
                    </a:moveTo>
                    <a:lnTo>
                      <a:pt x="16" y="3"/>
                    </a:lnTo>
                    <a:lnTo>
                      <a:pt x="39" y="13"/>
                    </a:lnTo>
                    <a:lnTo>
                      <a:pt x="56" y="29"/>
                    </a:lnTo>
                    <a:lnTo>
                      <a:pt x="73" y="48"/>
                    </a:lnTo>
                    <a:lnTo>
                      <a:pt x="84" y="73"/>
                    </a:lnTo>
                    <a:lnTo>
                      <a:pt x="101" y="106"/>
                    </a:lnTo>
                    <a:lnTo>
                      <a:pt x="117" y="141"/>
                    </a:lnTo>
                    <a:lnTo>
                      <a:pt x="129" y="183"/>
                    </a:lnTo>
                    <a:lnTo>
                      <a:pt x="140" y="227"/>
                    </a:lnTo>
                    <a:lnTo>
                      <a:pt x="151" y="276"/>
                    </a:lnTo>
                    <a:lnTo>
                      <a:pt x="157" y="327"/>
                    </a:lnTo>
                    <a:lnTo>
                      <a:pt x="168" y="381"/>
                    </a:lnTo>
                    <a:lnTo>
                      <a:pt x="173" y="497"/>
                    </a:lnTo>
                    <a:lnTo>
                      <a:pt x="179" y="622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816360" y="3703680"/>
                <a:ext cx="179280" cy="1146240"/>
              </a:xfrm>
              <a:custGeom>
                <a:avLst/>
                <a:gdLst/>
                <a:ahLst/>
                <a:rect l="l" t="t" r="r" b="b"/>
                <a:pathLst>
                  <a:path w="89" h="722">
                    <a:moveTo>
                      <a:pt x="89" y="0"/>
                    </a:moveTo>
                    <a:lnTo>
                      <a:pt x="78" y="3"/>
                    </a:lnTo>
                    <a:lnTo>
                      <a:pt x="73" y="16"/>
                    </a:lnTo>
                    <a:lnTo>
                      <a:pt x="61" y="32"/>
                    </a:lnTo>
                    <a:lnTo>
                      <a:pt x="56" y="58"/>
                    </a:lnTo>
                    <a:lnTo>
                      <a:pt x="45" y="87"/>
                    </a:lnTo>
                    <a:lnTo>
                      <a:pt x="39" y="125"/>
                    </a:lnTo>
                    <a:lnTo>
                      <a:pt x="33" y="164"/>
                    </a:lnTo>
                    <a:lnTo>
                      <a:pt x="28" y="212"/>
                    </a:lnTo>
                    <a:lnTo>
                      <a:pt x="22" y="263"/>
                    </a:lnTo>
                    <a:lnTo>
                      <a:pt x="17" y="318"/>
                    </a:lnTo>
                    <a:lnTo>
                      <a:pt x="11" y="379"/>
                    </a:lnTo>
                    <a:lnTo>
                      <a:pt x="5" y="443"/>
                    </a:lnTo>
                    <a:lnTo>
                      <a:pt x="0" y="578"/>
                    </a:lnTo>
                    <a:lnTo>
                      <a:pt x="0" y="722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22640" y="3689280"/>
                <a:ext cx="142920" cy="1144800"/>
              </a:xfrm>
              <a:custGeom>
                <a:avLst/>
                <a:gdLst/>
                <a:ahLst/>
                <a:rect l="l" t="t" r="r" b="b"/>
                <a:pathLst>
                  <a:path w="90" h="721">
                    <a:moveTo>
                      <a:pt x="0" y="0"/>
                    </a:moveTo>
                    <a:lnTo>
                      <a:pt x="11" y="3"/>
                    </a:lnTo>
                    <a:lnTo>
                      <a:pt x="17" y="16"/>
                    </a:lnTo>
                    <a:lnTo>
                      <a:pt x="28" y="32"/>
                    </a:lnTo>
                    <a:lnTo>
                      <a:pt x="34" y="57"/>
                    </a:lnTo>
                    <a:lnTo>
                      <a:pt x="45" y="86"/>
                    </a:lnTo>
                    <a:lnTo>
                      <a:pt x="51" y="125"/>
                    </a:lnTo>
                    <a:lnTo>
                      <a:pt x="56" y="163"/>
                    </a:lnTo>
                    <a:lnTo>
                      <a:pt x="62" y="211"/>
                    </a:lnTo>
                    <a:lnTo>
                      <a:pt x="67" y="263"/>
                    </a:lnTo>
                    <a:lnTo>
                      <a:pt x="73" y="317"/>
                    </a:lnTo>
                    <a:lnTo>
                      <a:pt x="79" y="378"/>
                    </a:lnTo>
                    <a:lnTo>
                      <a:pt x="84" y="442"/>
                    </a:lnTo>
                    <a:lnTo>
                      <a:pt x="90" y="577"/>
                    </a:lnTo>
                    <a:lnTo>
                      <a:pt x="90" y="721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165560" y="4849920"/>
                <a:ext cx="106560" cy="779400"/>
              </a:xfrm>
              <a:custGeom>
                <a:avLst/>
                <a:gdLst/>
                <a:ahLst/>
                <a:rect l="l" t="t" r="r" b="b"/>
                <a:pathLst>
                  <a:path w="67" h="491">
                    <a:moveTo>
                      <a:pt x="67" y="491"/>
                    </a:moveTo>
                    <a:lnTo>
                      <a:pt x="62" y="487"/>
                    </a:lnTo>
                    <a:lnTo>
                      <a:pt x="56" y="481"/>
                    </a:lnTo>
                    <a:lnTo>
                      <a:pt x="45" y="468"/>
                    </a:lnTo>
                    <a:lnTo>
                      <a:pt x="39" y="452"/>
                    </a:lnTo>
                    <a:lnTo>
                      <a:pt x="34" y="433"/>
                    </a:lnTo>
                    <a:lnTo>
                      <a:pt x="28" y="407"/>
                    </a:lnTo>
                    <a:lnTo>
                      <a:pt x="22" y="378"/>
                    </a:lnTo>
                    <a:lnTo>
                      <a:pt x="17" y="346"/>
                    </a:lnTo>
                    <a:lnTo>
                      <a:pt x="11" y="276"/>
                    </a:lnTo>
                    <a:lnTo>
                      <a:pt x="5" y="192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99120" y="5500800"/>
                <a:ext cx="142560" cy="96840"/>
              </a:xfrm>
              <a:custGeom>
                <a:avLst/>
                <a:gdLst/>
                <a:ahLst/>
                <a:rect l="l" t="t" r="r" b="b"/>
                <a:pathLst>
                  <a:path w="90" h="61">
                    <a:moveTo>
                      <a:pt x="0" y="61"/>
                    </a:moveTo>
                    <a:lnTo>
                      <a:pt x="34" y="58"/>
                    </a:lnTo>
                    <a:lnTo>
                      <a:pt x="62" y="45"/>
                    </a:lnTo>
                    <a:lnTo>
                      <a:pt x="84" y="26"/>
                    </a:lnTo>
                    <a:lnTo>
                      <a:pt x="90" y="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7240" y="4834080"/>
                <a:ext cx="693720" cy="682560"/>
              </a:xfrm>
              <a:custGeom>
                <a:avLst/>
                <a:gdLst/>
                <a:ahLst/>
                <a:rect l="l" t="t" r="r" b="b"/>
                <a:pathLst>
                  <a:path w="437" h="430">
                    <a:moveTo>
                      <a:pt x="437" y="0"/>
                    </a:moveTo>
                    <a:lnTo>
                      <a:pt x="393" y="3"/>
                    </a:lnTo>
                    <a:lnTo>
                      <a:pt x="348" y="10"/>
                    </a:lnTo>
                    <a:lnTo>
                      <a:pt x="308" y="19"/>
                    </a:lnTo>
                    <a:lnTo>
                      <a:pt x="269" y="36"/>
                    </a:lnTo>
                    <a:lnTo>
                      <a:pt x="230" y="52"/>
                    </a:lnTo>
                    <a:lnTo>
                      <a:pt x="191" y="74"/>
                    </a:lnTo>
                    <a:lnTo>
                      <a:pt x="157" y="100"/>
                    </a:lnTo>
                    <a:lnTo>
                      <a:pt x="129" y="125"/>
                    </a:lnTo>
                    <a:lnTo>
                      <a:pt x="73" y="189"/>
                    </a:lnTo>
                    <a:lnTo>
                      <a:pt x="34" y="263"/>
                    </a:lnTo>
                    <a:lnTo>
                      <a:pt x="12" y="343"/>
                    </a:lnTo>
                    <a:lnTo>
                      <a:pt x="0" y="430"/>
                    </a:lnTo>
                  </a:path>
                </a:pathLst>
              </a:custGeom>
              <a:noFill/>
              <a:ln w="349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3844800" y="4813200"/>
                <a:ext cx="1513080" cy="41400"/>
                <a:chOff x="3844800" y="4813200"/>
                <a:chExt cx="1513080" cy="4140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844800" y="484488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6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88152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16440" y="484488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951360" y="484488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98772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02264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94280" y="48384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12920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65560" y="48384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200480" y="48384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23720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72120" y="483372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3084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3434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378320" y="483372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41468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449600" y="483372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48632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52124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556160" y="482904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59252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627440" y="482904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6416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4699080" y="482904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3400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77036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80528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484200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876920" y="482436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4911840" y="4824360"/>
                  <a:ext cx="19080" cy="93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948200" y="4824360"/>
                  <a:ext cx="1764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83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01984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054760" y="481932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0911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12604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160960" y="4819320"/>
                  <a:ext cx="1908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197320" y="4819320"/>
                  <a:ext cx="1764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1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32240" y="481320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6896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303880" y="4813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1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38800" y="481320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12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 flipV="1">
                <a:off x="5214960" y="4768560"/>
                <a:ext cx="2757600" cy="5076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414680" y="3892680"/>
                <a:ext cx="1217880" cy="606240"/>
              </a:xfrm>
              <a:custGeom>
                <a:avLst/>
                <a:gdLst/>
                <a:ahLst/>
                <a:rect l="l" t="t" r="r" b="b"/>
                <a:pathLst>
                  <a:path w="767" h="382">
                    <a:moveTo>
                      <a:pt x="767" y="382"/>
                    </a:moveTo>
                    <a:lnTo>
                      <a:pt x="689" y="378"/>
                    </a:lnTo>
                    <a:lnTo>
                      <a:pt x="610" y="375"/>
                    </a:lnTo>
                    <a:lnTo>
                      <a:pt x="538" y="366"/>
                    </a:lnTo>
                    <a:lnTo>
                      <a:pt x="470" y="353"/>
                    </a:lnTo>
                    <a:lnTo>
                      <a:pt x="403" y="337"/>
                    </a:lnTo>
                    <a:lnTo>
                      <a:pt x="336" y="317"/>
                    </a:lnTo>
                    <a:lnTo>
                      <a:pt x="224" y="269"/>
                    </a:lnTo>
                    <a:lnTo>
                      <a:pt x="173" y="244"/>
                    </a:lnTo>
                    <a:lnTo>
                      <a:pt x="129" y="215"/>
                    </a:lnTo>
                    <a:lnTo>
                      <a:pt x="89" y="183"/>
                    </a:lnTo>
                    <a:lnTo>
                      <a:pt x="61" y="147"/>
                    </a:lnTo>
                    <a:lnTo>
                      <a:pt x="33" y="115"/>
                    </a:lnTo>
                    <a:lnTo>
                      <a:pt x="17" y="77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2560" y="4498920"/>
                <a:ext cx="2197080" cy="65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00520" y="4309920"/>
                <a:ext cx="1440" cy="366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128840" y="2970360"/>
                <a:ext cx="36360" cy="1706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067280" y="2940120"/>
                <a:ext cx="115920" cy="61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2272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722760" y="4265640"/>
                <a:ext cx="10476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753000" y="463248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040" y="4529160"/>
                <a:ext cx="426960" cy="3096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0600" y="456876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131320" y="4722840"/>
                <a:ext cx="596880" cy="35568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300520" y="4748040"/>
                <a:ext cx="148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187800" y="3098880"/>
                <a:ext cx="58572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3319560" y="3165480"/>
                <a:ext cx="280800" cy="228600"/>
                <a:chOff x="3319560" y="3165480"/>
                <a:chExt cx="280800" cy="2286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31956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598920" y="3171600"/>
                  <a:ext cx="144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65280" y="316548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6" name=""/>
              <p:cNvSpPr/>
              <p:nvPr/>
            </p:nvSpPr>
            <p:spPr>
              <a:xfrm>
                <a:off x="439560" y="2813040"/>
                <a:ext cx="578160" cy="37620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566640" y="2881440"/>
                <a:ext cx="281160" cy="228600"/>
                <a:chOff x="566640" y="2881440"/>
                <a:chExt cx="281160" cy="2286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6664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46000" y="2886120"/>
                  <a:ext cx="180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10920" y="2881440"/>
                  <a:ext cx="1072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519120" y="3276720"/>
                <a:ext cx="426960" cy="304560"/>
              </a:xfrm>
              <a:prstGeom prst="rect">
                <a:avLst/>
              </a:prstGeom>
              <a:noFill/>
              <a:ln w="176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07320" y="3311640"/>
                <a:ext cx="13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99040" y="29638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701" h="0">
                    <a:moveTo>
                      <a:pt x="0" y="0"/>
                    </a:moveTo>
                    <a:lnTo>
                      <a:pt x="353" y="0"/>
                    </a:lnTo>
                    <a:lnTo>
                      <a:pt x="70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5626080" y="2847960"/>
                <a:ext cx="749160" cy="306000"/>
                <a:chOff x="5626080" y="2847960"/>
                <a:chExt cx="749160" cy="30600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62608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373800" y="2847960"/>
                  <a:ext cx="1440" cy="28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670720" y="2858760"/>
                  <a:ext cx="120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5867280" y="29556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3951360" y="3689280"/>
                <a:ext cx="125280" cy="745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05440" y="3735360"/>
                <a:ext cx="1503360" cy="1440"/>
              </a:xfrm>
              <a:custGeom>
                <a:avLst/>
                <a:gdLst/>
                <a:ahLst/>
                <a:rect l="l" t="t" r="r" b="b"/>
                <a:pathLst>
                  <a:path w="947" h="0">
                    <a:moveTo>
                      <a:pt x="0" y="0"/>
                    </a:moveTo>
                    <a:lnTo>
                      <a:pt x="470" y="0"/>
                    </a:lnTo>
                    <a:lnTo>
                      <a:pt x="9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"/>
              <p:cNvGrpSpPr/>
              <p:nvPr/>
            </p:nvGrpSpPr>
            <p:grpSpPr>
              <a:xfrm>
                <a:off x="5919840" y="3592440"/>
                <a:ext cx="849240" cy="570600"/>
                <a:chOff x="5919840" y="3592440"/>
                <a:chExt cx="849240" cy="5706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596736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711840" y="3592440"/>
                  <a:ext cx="1800" cy="26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5919840" y="3889080"/>
                  <a:ext cx="84924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011640" y="3603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6207120" y="3695400"/>
                  <a:ext cx="2840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max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6258960" y="391932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5686560" y="4834080"/>
                <a:ext cx="950760" cy="53964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0" y="0"/>
                    </a:moveTo>
                    <a:lnTo>
                      <a:pt x="302" y="340"/>
                    </a:lnTo>
                    <a:lnTo>
                      <a:pt x="599" y="34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6990480" y="5205240"/>
                <a:ext cx="867600" cy="538560"/>
                <a:chOff x="6990480" y="5205240"/>
                <a:chExt cx="867600" cy="53856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234200" y="5448240"/>
                  <a:ext cx="6238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990480" y="531180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466760" y="5205240"/>
                  <a:ext cx="968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678440" y="556092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243200" y="5454360"/>
                  <a:ext cx="1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470720" y="547668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2147760" y="5118120"/>
                <a:ext cx="621000" cy="882720"/>
              </a:xfrm>
              <a:custGeom>
                <a:avLst/>
                <a:gdLst/>
                <a:ahLst/>
                <a:rect l="l" t="t" r="r" b="b"/>
                <a:pathLst>
                  <a:path w="403" h="613">
                    <a:moveTo>
                      <a:pt x="0" y="0"/>
                    </a:moveTo>
                    <a:lnTo>
                      <a:pt x="202" y="613"/>
                    </a:lnTo>
                    <a:lnTo>
                      <a:pt x="403" y="61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3128400" y="5815080"/>
                <a:ext cx="1783440" cy="590400"/>
                <a:chOff x="3128400" y="5815080"/>
                <a:chExt cx="1783440" cy="59040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362664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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774320" y="6000480"/>
                  <a:ext cx="12420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</a:t>
                  </a:r>
                  <a:endParaRPr b="0" lang="en-US" sz="2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3368520" y="6080040"/>
                  <a:ext cx="15433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128400" y="5930640"/>
                  <a:ext cx="67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176000" y="6091200"/>
                  <a:ext cx="119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61880" y="5815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957480" y="620532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378240" y="6091200"/>
                  <a:ext cx="13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75048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431600" y="6114960"/>
                  <a:ext cx="13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647600" y="6207120"/>
                  <a:ext cx="648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800360" y="4600440"/>
                <a:ext cx="6696000" cy="168120"/>
                <a:chOff x="1800360" y="4600440"/>
                <a:chExt cx="6696000" cy="1681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800360" y="4681440"/>
                  <a:ext cx="6429240" cy="144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8212320" y="4600440"/>
                  <a:ext cx="284040" cy="168120"/>
                </a:xfrm>
                <a:custGeom>
                  <a:avLst/>
                  <a:gdLst/>
                  <a:ahLst/>
                  <a:rect l="l" t="t" r="r" b="b"/>
                  <a:pathLst>
                    <a:path w="179" h="106">
                      <a:moveTo>
                        <a:pt x="0" y="106"/>
                      </a:moveTo>
                      <a:lnTo>
                        <a:pt x="179" y="51"/>
                      </a:lnTo>
                      <a:lnTo>
                        <a:pt x="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123920" y="4676760"/>
                <a:ext cx="666720" cy="14040"/>
                <a:chOff x="1123920" y="4676760"/>
                <a:chExt cx="666720" cy="1404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6668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79600" y="4676760"/>
                  <a:ext cx="123840" cy="14040"/>
                </a:xfrm>
                <a:custGeom>
                  <a:avLst/>
                  <a:gdLst/>
                  <a:ahLst/>
                  <a:rect l="l" t="t" r="r" b="b"/>
                  <a:pathLst>
                    <a:path w="78" h="9">
                      <a:moveTo>
                        <a:pt x="78" y="9"/>
                      </a:move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7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1292400" y="4676760"/>
                  <a:ext cx="125280" cy="14040"/>
                </a:xfrm>
                <a:custGeom>
                  <a:avLst/>
                  <a:gdLst/>
                  <a:ahLst/>
                  <a:rect l="l" t="t" r="r" b="b"/>
                  <a:pathLst>
                    <a:path w="79" h="9">
                      <a:moveTo>
                        <a:pt x="79" y="9"/>
                      </a:move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73" y="0"/>
                      </a:lnTo>
                      <a:lnTo>
                        <a:pt x="73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2" y="9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123920" y="4676760"/>
                  <a:ext cx="106560" cy="1404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67" y="9"/>
                      </a:move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2" y="0"/>
                      </a:lnTo>
                      <a:lnTo>
                        <a:pt x="62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11" y="9"/>
                      </a:lnTo>
                      <a:lnTo>
                        <a:pt x="6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3135240" y="4319640"/>
                <a:ext cx="1800" cy="3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stealth" w="sm"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65600" y="4457880"/>
                <a:ext cx="245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575800" y="4307040"/>
                <a:ext cx="25668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~R</a:t>
                </a:r>
                <a:r>
                  <a:rPr b="0" i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33640" y="432432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1258920" y="380052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ęstotliwości graniczne i uboczne (pasożytnic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549440"/>
            <a:ext cx="86342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szystkie oscylatory zawierają elementy nieliniowe ograniczające amplitudę drga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te powodują generację sygnałów o częstotliwościach harmonicz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pewnych układach harmoniczne oscylatora wykorzystuje się do powielan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ęstotliwości lub do synchronizacji innych, mniej stabilnych oscylatoró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e wszystkich układach niepożądane harmoniczne dostając się na wyjście mog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wołać fałszywe sygnały, gwizdy interferencyjne, zniekształcenia intermodulacyjne, it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36440" y="932040"/>
            <a:ext cx="82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 schematu zastępczego widać, że rezonator ma dwa rezonan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zereg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038400" y="1438200"/>
                <a:ext cx="179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4" name=""/>
          <p:cNvSpPr/>
          <p:nvPr/>
        </p:nvSpPr>
        <p:spPr>
          <a:xfrm>
            <a:off x="146880" y="35053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ównoleg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27200" y="3195720"/>
                <a:ext cx="46069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3699000" y="5429160"/>
                <a:ext cx="118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7" name=""/>
          <p:cNvGraphicFramePr/>
          <p:nvPr/>
        </p:nvGraphicFramePr>
        <p:xfrm>
          <a:off x="0" y="1744560"/>
          <a:ext cx="8782200" cy="175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87822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0" y="55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ykładowe parametry rezonatorów kwarc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0" name=""/>
          <p:cNvGraphicFramePr/>
          <p:nvPr/>
        </p:nvGraphicFramePr>
        <p:xfrm>
          <a:off x="1154160" y="1127160"/>
          <a:ext cx="6840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127160"/>
                    <a:ext cx="6840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2" name=""/>
          <p:cNvSpPr/>
          <p:nvPr/>
        </p:nvSpPr>
        <p:spPr>
          <a:xfrm>
            <a:off x="146160" y="0"/>
            <a:ext cx="914400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miany temperaturowe nominalnych częstotliwości rezonatorów kwarcowych o różnych cięciach kryształu kwar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enerator kwarcowy Pi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146160" y="1646280"/>
            <a:ext cx="3330360" cy="324468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414360" y="927000"/>
            <a:ext cx="67356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ruktura generatora Piercea;  odpowiednik generatora Colpitt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152880" y="5132520"/>
            <a:ext cx="57643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arc pracuje jako </a:t>
            </a:r>
            <a:r>
              <a:rPr b="0" lang="en-US" sz="2000" spc="-1" strike="noStrike">
                <a:solidFill>
                  <a:srgbClr val="00cc66"/>
                </a:solidFill>
                <a:latin typeface="Times New Roman"/>
              </a:rPr>
              <a:t>indukcyjność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częstotliwości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66"/>
                </a:solidFill>
                <a:uFillTx/>
                <a:latin typeface="Times New Roman"/>
              </a:rPr>
              <a:t>pomiędz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rezonansem szeregowym a równoległ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3386160" y="1749600"/>
            <a:ext cx="5460840" cy="3487680"/>
            <a:chOff x="3386160" y="1749600"/>
            <a:chExt cx="5460840" cy="3487680"/>
          </a:xfrm>
        </p:grpSpPr>
        <p:grpSp>
          <p:nvGrpSpPr>
            <p:cNvPr id="1508" name=""/>
            <p:cNvGrpSpPr/>
            <p:nvPr/>
          </p:nvGrpSpPr>
          <p:grpSpPr>
            <a:xfrm>
              <a:off x="3386160" y="1749600"/>
              <a:ext cx="5460840" cy="3487680"/>
              <a:chOff x="3386160" y="1749600"/>
              <a:chExt cx="5460840" cy="3487680"/>
            </a:xfrm>
          </p:grpSpPr>
          <p:sp>
            <p:nvSpPr>
              <p:cNvPr id="1509" name=""/>
              <p:cNvSpPr/>
              <p:nvPr/>
            </p:nvSpPr>
            <p:spPr>
              <a:xfrm>
                <a:off x="8464680" y="3586320"/>
                <a:ext cx="382320" cy="223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386160" y="2297160"/>
                <a:ext cx="506520" cy="23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338880" y="2481120"/>
                <a:ext cx="119160" cy="15051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99200" y="3767040"/>
                <a:ext cx="3715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164360" y="37908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740560" y="3238560"/>
                <a:ext cx="52056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5914440" y="3195720"/>
                <a:ext cx="284760" cy="298440"/>
                <a:chOff x="5914440" y="3195720"/>
                <a:chExt cx="284760" cy="29844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5914440" y="319572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128280" y="328068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8" name=""/>
              <p:cNvSpPr/>
              <p:nvPr/>
            </p:nvSpPr>
            <p:spPr>
              <a:xfrm>
                <a:off x="6711840" y="3228840"/>
                <a:ext cx="520920" cy="223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798960" y="319896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019640" y="323532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"/>
              <p:cNvGrpSpPr/>
              <p:nvPr/>
            </p:nvGrpSpPr>
            <p:grpSpPr>
              <a:xfrm>
                <a:off x="3938760" y="2255760"/>
                <a:ext cx="161280" cy="2236320"/>
                <a:chOff x="3938760" y="2255760"/>
                <a:chExt cx="161280" cy="223632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015080" y="2314800"/>
                  <a:ext cx="2160" cy="217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3938760" y="2255760"/>
                  <a:ext cx="161280" cy="67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4040280" y="2716200"/>
                <a:ext cx="34128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4373640" y="2824200"/>
                <a:ext cx="227880" cy="277560"/>
                <a:chOff x="4373640" y="2824200"/>
                <a:chExt cx="227880" cy="27756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4373640" y="28242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406760" y="2864880"/>
                  <a:ext cx="33120" cy="30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440240" y="2908800"/>
                  <a:ext cx="33120" cy="309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4473720" y="2949480"/>
                  <a:ext cx="35640" cy="30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501440" y="299376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534920" y="303444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568400" y="3076920"/>
                  <a:ext cx="33120" cy="248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3" name=""/>
              <p:cNvSpPr/>
              <p:nvPr/>
            </p:nvSpPr>
            <p:spPr>
              <a:xfrm>
                <a:off x="4600440" y="3089160"/>
                <a:ext cx="1770120" cy="16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4040280" y="4008600"/>
                <a:ext cx="341280" cy="11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5" name=""/>
              <p:cNvGrpSpPr/>
              <p:nvPr/>
            </p:nvGrpSpPr>
            <p:grpSpPr>
              <a:xfrm>
                <a:off x="4373640" y="3743280"/>
                <a:ext cx="227880" cy="270720"/>
                <a:chOff x="4373640" y="3743280"/>
                <a:chExt cx="227880" cy="2707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4373640" y="398484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406760" y="39459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40240" y="3902760"/>
                  <a:ext cx="33120" cy="298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4465080" y="3863880"/>
                  <a:ext cx="44640" cy="291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501440" y="382104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4534920" y="3782160"/>
                  <a:ext cx="33120" cy="291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4568400" y="3743280"/>
                  <a:ext cx="33120" cy="277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3" name=""/>
              <p:cNvSpPr/>
              <p:nvPr/>
            </p:nvSpPr>
            <p:spPr>
              <a:xfrm flipV="1">
                <a:off x="4600440" y="3591000"/>
                <a:ext cx="1671840" cy="156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02520" y="2392200"/>
                <a:ext cx="344520" cy="84636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588000" y="2386080"/>
                <a:ext cx="249480" cy="6206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6040" y="2855880"/>
                <a:ext cx="200160" cy="72252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519960" y="2847960"/>
                <a:ext cx="122040" cy="72072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642000" y="3578400"/>
                <a:ext cx="93600" cy="49032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57920" y="3989520"/>
                <a:ext cx="125640" cy="601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907320" y="3568680"/>
                <a:ext cx="604800" cy="43020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6361200" y="3556080"/>
                <a:ext cx="1321560" cy="26640"/>
                <a:chOff x="6361200" y="3556080"/>
                <a:chExt cx="1321560" cy="2664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6361200" y="35744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39180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42276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453720" y="357444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48684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517800" y="357264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54876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57972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61068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64164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672600" y="357264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703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7338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764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795360" y="356832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82920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60160" y="356832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890400" y="356832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2136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5232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98328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424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45200" y="356616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761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106760" y="356616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137720" y="3562560"/>
                  <a:ext cx="18000" cy="57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171200" y="3562560"/>
                  <a:ext cx="1548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20180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23276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26372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29468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25640" y="3562560"/>
                  <a:ext cx="15120" cy="576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66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3875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41780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448760" y="3558240"/>
                  <a:ext cx="1548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479720" y="35582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51320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544160" y="3558240"/>
                  <a:ext cx="15120" cy="75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5747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0536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63632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667280" y="3556080"/>
                  <a:ext cx="1548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6861240" y="2975040"/>
                <a:ext cx="1065240" cy="38088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6489720" y="2916360"/>
                <a:ext cx="3240" cy="10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588000" y="235908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603840" y="3443400"/>
                <a:ext cx="84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37360" y="3201840"/>
                <a:ext cx="102960" cy="74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62560" y="3433680"/>
                <a:ext cx="874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559320" y="3376440"/>
                <a:ext cx="37116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58320" y="34020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470800" y="351468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86280" y="2476440"/>
                <a:ext cx="514440" cy="238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497400" y="2338560"/>
                <a:ext cx="245520" cy="213480"/>
                <a:chOff x="3497400" y="2338560"/>
                <a:chExt cx="245520" cy="21348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349740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740040" y="2342520"/>
                  <a:ext cx="2880" cy="13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538440" y="2338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456000" y="2589120"/>
                <a:ext cx="372960" cy="192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34840" y="261144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456240" y="2835360"/>
                <a:ext cx="7488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4576680" y="3421080"/>
                <a:ext cx="4030200" cy="105840"/>
                <a:chOff x="4576680" y="3421080"/>
                <a:chExt cx="4030200" cy="1058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4576680" y="3472920"/>
                  <a:ext cx="38714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436960" y="3421080"/>
                  <a:ext cx="169920" cy="1058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5" name=""/>
              <p:cNvGrpSpPr/>
              <p:nvPr/>
            </p:nvGrpSpPr>
            <p:grpSpPr>
              <a:xfrm>
                <a:off x="3986280" y="3468600"/>
                <a:ext cx="580680" cy="10800"/>
                <a:chOff x="3986280" y="3468600"/>
                <a:chExt cx="580680" cy="108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445680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295880" y="3468600"/>
                  <a:ext cx="107280" cy="1080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131720" y="3468600"/>
                  <a:ext cx="110160" cy="10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986280" y="3468600"/>
                  <a:ext cx="92160" cy="1080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V="1">
                <a:off x="5929200" y="4006800"/>
                <a:ext cx="451080" cy="1230480"/>
              </a:xfrm>
              <a:prstGeom prst="line">
                <a:avLst/>
              </a:prstGeom>
              <a:ln w="19080">
                <a:solidFill>
                  <a:srgbClr val="00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291360" y="3390840"/>
                <a:ext cx="0" cy="60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05160" y="1749600"/>
                <a:ext cx="326232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Indukcyjność zastępcza 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 kwarcu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0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Z</a:t>
                </a:r>
                <a:r>
                  <a:rPr b="1" lang="pl-PL" sz="1600" spc="-1" strike="noStrike">
                    <a:solidFill>
                      <a:srgbClr val="00cc66"/>
                    </a:solidFill>
                    <a:latin typeface="Times New Roman"/>
                  </a:rPr>
                  <a:t>&lt;L</a:t>
                </a:r>
                <a:r>
                  <a:rPr b="1" lang="pl-PL" sz="1600" spc="-1" strike="noStrike" baseline="-25000">
                    <a:solidFill>
                      <a:srgbClr val="00cc66"/>
                    </a:solidFill>
                    <a:latin typeface="Times New Roman"/>
                  </a:rPr>
                  <a:t>ma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06200" y="2678040"/>
                <a:ext cx="740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Times New Roman"/>
                  </a:rPr>
                  <a:t>=L</a:t>
                </a:r>
                <a:r>
                  <a:rPr b="0" lang="pl-P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6568920" y="2857320"/>
                <a:ext cx="7178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888440" y="3917880"/>
                <a:ext cx="54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5541840" y="3513240"/>
                <a:ext cx="71784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4079880" y="4295880"/>
              <a:ext cx="7365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M k 200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8" name=""/>
          <p:cNvGraphicFramePr/>
          <p:nvPr/>
        </p:nvGraphicFramePr>
        <p:xfrm>
          <a:off x="1247760" y="2079720"/>
          <a:ext cx="65548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079720"/>
                    <a:ext cx="6554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"/>
          <p:cNvSpPr/>
          <p:nvPr/>
        </p:nvSpPr>
        <p:spPr>
          <a:xfrm>
            <a:off x="0" y="0"/>
            <a:ext cx="9144000" cy="87876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stąpienie indukcyjności rezona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 Hart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0" y="0"/>
            <a:ext cx="9144000" cy="16102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aca rezonatorów kwarcowych jako rezystor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generator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) Colpittsa a),       Hartleya b)           i  z  ujemną rezystancją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958680" y="1569960"/>
            <a:ext cx="6478920" cy="5130720"/>
            <a:chOff x="958680" y="1569960"/>
            <a:chExt cx="6478920" cy="5130720"/>
          </a:xfrm>
        </p:grpSpPr>
        <p:graphicFrame>
          <p:nvGraphicFramePr>
            <p:cNvPr id="1633" name=""/>
            <p:cNvGraphicFramePr/>
            <p:nvPr/>
          </p:nvGraphicFramePr>
          <p:xfrm>
            <a:off x="1000080" y="1569960"/>
            <a:ext cx="6437520" cy="261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569960"/>
                      <a:ext cx="6437520" cy="261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5" name=""/>
            <p:cNvSpPr/>
            <p:nvPr/>
          </p:nvSpPr>
          <p:spPr>
            <a:xfrm>
              <a:off x="1672920" y="5913360"/>
              <a:ext cx="50774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Kwarc pracuje przy rezonansie szeregowym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ako rezystancja R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, sprzęgająca obw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958680" y="3481560"/>
              <a:ext cx="6180120" cy="2469240"/>
              <a:chOff x="958680" y="3481560"/>
              <a:chExt cx="6180120" cy="2469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4127400" y="5150160"/>
                <a:ext cx="31716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82840" y="5176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67480" y="4566240"/>
                <a:ext cx="444960" cy="249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0" name=""/>
              <p:cNvGrpSpPr/>
              <p:nvPr/>
            </p:nvGrpSpPr>
            <p:grpSpPr>
              <a:xfrm>
                <a:off x="2656080" y="5639400"/>
                <a:ext cx="254160" cy="307080"/>
                <a:chOff x="2656080" y="5639400"/>
                <a:chExt cx="254160" cy="307080"/>
              </a:xfrm>
            </p:grpSpPr>
            <p:sp>
              <p:nvSpPr>
                <p:cNvPr id="1641" name=""/>
                <p:cNvSpPr/>
                <p:nvPr/>
              </p:nvSpPr>
              <p:spPr>
                <a:xfrm>
                  <a:off x="2656080" y="5639400"/>
                  <a:ext cx="122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2839320" y="573300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>
                <a:off x="3796560" y="4555800"/>
                <a:ext cx="444960" cy="2469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41560" y="44683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4058280" y="4563000"/>
                <a:ext cx="70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1429560" y="3481560"/>
                <a:ext cx="137880" cy="2469240"/>
                <a:chOff x="1429560" y="3481560"/>
                <a:chExt cx="137880" cy="246924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1495080" y="3547080"/>
                  <a:ext cx="1800" cy="240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1429560" y="3481560"/>
                  <a:ext cx="137880" cy="7416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63" y="34"/>
                      </a:moveTo>
                      <a:lnTo>
                        <a:pt x="30" y="0"/>
                      </a:lnTo>
                      <a:lnTo>
                        <a:pt x="0" y="34"/>
                      </a:lnTo>
                      <a:lnTo>
                        <a:pt x="6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1516320" y="3989880"/>
                <a:ext cx="291600" cy="12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1800720" y="4109040"/>
                <a:ext cx="178200" cy="314640"/>
                <a:chOff x="1800720" y="4109040"/>
                <a:chExt cx="178200" cy="31464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1800720" y="410904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1826640" y="415512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2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15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1852920" y="4205160"/>
                  <a:ext cx="25920" cy="3492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6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1879200" y="4251240"/>
                  <a:ext cx="28080" cy="345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1900800" y="4301280"/>
                  <a:ext cx="32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1927080" y="4347360"/>
                  <a:ext cx="32400" cy="3456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53000" y="439560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1994400" y="4401720"/>
                <a:ext cx="1510200" cy="176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1516320" y="5416200"/>
                <a:ext cx="291600" cy="122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1800720" y="5103000"/>
                <a:ext cx="178200" cy="320040"/>
                <a:chOff x="1800720" y="5103000"/>
                <a:chExt cx="178200" cy="3200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1800720" y="53884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1826640" y="534240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4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1852920" y="5291640"/>
                  <a:ext cx="25920" cy="352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1872000" y="5245560"/>
                  <a:ext cx="34920" cy="34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1900800" y="5194800"/>
                  <a:ext cx="25920" cy="3708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927080" y="5149080"/>
                  <a:ext cx="25920" cy="345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5"/>
                      </a:move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6" y="15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953000" y="5103000"/>
                  <a:ext cx="25920" cy="3276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3"/>
                      </a:moveTo>
                      <a:lnTo>
                        <a:pt x="0" y="15"/>
                      </a:lnTo>
                      <a:lnTo>
                        <a:pt x="3" y="15"/>
                      </a:lnTo>
                      <a:lnTo>
                        <a:pt x="6" y="1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8" name=""/>
              <p:cNvSpPr/>
              <p:nvPr/>
            </p:nvSpPr>
            <p:spPr>
              <a:xfrm flipV="1">
                <a:off x="1978200" y="4941360"/>
                <a:ext cx="1465920" cy="17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66440" y="3637080"/>
                <a:ext cx="230400" cy="928800"/>
              </a:xfrm>
              <a:custGeom>
                <a:avLst/>
                <a:gdLst/>
                <a:ahLst/>
                <a:rect l="l" t="t" r="r" b="b"/>
                <a:pathLst>
                  <a:path w="106" h="425">
                    <a:moveTo>
                      <a:pt x="106" y="0"/>
                    </a:moveTo>
                    <a:lnTo>
                      <a:pt x="94" y="1"/>
                    </a:lnTo>
                    <a:lnTo>
                      <a:pt x="85" y="8"/>
                    </a:lnTo>
                    <a:lnTo>
                      <a:pt x="73" y="19"/>
                    </a:lnTo>
                    <a:lnTo>
                      <a:pt x="64" y="34"/>
                    </a:lnTo>
                    <a:lnTo>
                      <a:pt x="54" y="51"/>
                    </a:lnTo>
                    <a:lnTo>
                      <a:pt x="45" y="72"/>
                    </a:lnTo>
                    <a:lnTo>
                      <a:pt x="36" y="97"/>
                    </a:lnTo>
                    <a:lnTo>
                      <a:pt x="30" y="124"/>
                    </a:lnTo>
                    <a:lnTo>
                      <a:pt x="24" y="155"/>
                    </a:lnTo>
                    <a:lnTo>
                      <a:pt x="18" y="187"/>
                    </a:lnTo>
                    <a:lnTo>
                      <a:pt x="12" y="223"/>
                    </a:lnTo>
                    <a:lnTo>
                      <a:pt x="9" y="260"/>
                    </a:lnTo>
                    <a:lnTo>
                      <a:pt x="6" y="299"/>
                    </a:lnTo>
                    <a:lnTo>
                      <a:pt x="3" y="339"/>
                    </a:lnTo>
                    <a:lnTo>
                      <a:pt x="0" y="42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691440" y="3624840"/>
                <a:ext cx="212040" cy="685440"/>
              </a:xfrm>
              <a:custGeom>
                <a:avLst/>
                <a:gdLst/>
                <a:ahLst/>
                <a:rect l="l" t="t" r="r" b="b"/>
                <a:pathLst>
                  <a:path w="97" h="313">
                    <a:moveTo>
                      <a:pt x="0" y="0"/>
                    </a:moveTo>
                    <a:lnTo>
                      <a:pt x="9" y="1"/>
                    </a:lnTo>
                    <a:lnTo>
                      <a:pt x="21" y="6"/>
                    </a:lnTo>
                    <a:lnTo>
                      <a:pt x="30" y="14"/>
                    </a:lnTo>
                    <a:lnTo>
                      <a:pt x="39" y="24"/>
                    </a:lnTo>
                    <a:lnTo>
                      <a:pt x="45" y="37"/>
                    </a:lnTo>
                    <a:lnTo>
                      <a:pt x="54" y="53"/>
                    </a:lnTo>
                    <a:lnTo>
                      <a:pt x="63" y="71"/>
                    </a:lnTo>
                    <a:lnTo>
                      <a:pt x="69" y="92"/>
                    </a:lnTo>
                    <a:lnTo>
                      <a:pt x="75" y="115"/>
                    </a:lnTo>
                    <a:lnTo>
                      <a:pt x="81" y="139"/>
                    </a:lnTo>
                    <a:lnTo>
                      <a:pt x="84" y="165"/>
                    </a:lnTo>
                    <a:lnTo>
                      <a:pt x="91" y="192"/>
                    </a:lnTo>
                    <a:lnTo>
                      <a:pt x="94" y="250"/>
                    </a:lnTo>
                    <a:lnTo>
                      <a:pt x="97" y="31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466440" y="4143960"/>
                <a:ext cx="145440" cy="797400"/>
              </a:xfrm>
              <a:custGeom>
                <a:avLst/>
                <a:gdLst/>
                <a:ahLst/>
                <a:rect l="l" t="t" r="r" b="b"/>
                <a:pathLst>
                  <a:path w="49" h="364">
                    <a:moveTo>
                      <a:pt x="49" y="0"/>
                    </a:moveTo>
                    <a:lnTo>
                      <a:pt x="43" y="2"/>
                    </a:lnTo>
                    <a:lnTo>
                      <a:pt x="39" y="8"/>
                    </a:lnTo>
                    <a:lnTo>
                      <a:pt x="33" y="17"/>
                    </a:lnTo>
                    <a:lnTo>
                      <a:pt x="30" y="29"/>
                    </a:lnTo>
                    <a:lnTo>
                      <a:pt x="24" y="44"/>
                    </a:lnTo>
                    <a:lnTo>
                      <a:pt x="21" y="63"/>
                    </a:lnTo>
                    <a:lnTo>
                      <a:pt x="18" y="83"/>
                    </a:lnTo>
                    <a:lnTo>
                      <a:pt x="15" y="107"/>
                    </a:lnTo>
                    <a:lnTo>
                      <a:pt x="12" y="133"/>
                    </a:lnTo>
                    <a:lnTo>
                      <a:pt x="9" y="160"/>
                    </a:lnTo>
                    <a:lnTo>
                      <a:pt x="6" y="191"/>
                    </a:lnTo>
                    <a:lnTo>
                      <a:pt x="3" y="223"/>
                    </a:lnTo>
                    <a:lnTo>
                      <a:pt x="0" y="291"/>
                    </a:lnTo>
                    <a:lnTo>
                      <a:pt x="0" y="364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632400" y="4135320"/>
                <a:ext cx="104760" cy="795600"/>
              </a:xfrm>
              <a:custGeom>
                <a:avLst/>
                <a:gdLst/>
                <a:ahLst/>
                <a:rect l="l" t="t" r="r" b="b"/>
                <a:pathLst>
                  <a:path w="48" h="363">
                    <a:moveTo>
                      <a:pt x="0" y="0"/>
                    </a:moveTo>
                    <a:lnTo>
                      <a:pt x="6" y="1"/>
                    </a:lnTo>
                    <a:lnTo>
                      <a:pt x="9" y="8"/>
                    </a:lnTo>
                    <a:lnTo>
                      <a:pt x="15" y="16"/>
                    </a:lnTo>
                    <a:lnTo>
                      <a:pt x="18" y="29"/>
                    </a:lnTo>
                    <a:lnTo>
                      <a:pt x="24" y="43"/>
                    </a:lnTo>
                    <a:lnTo>
                      <a:pt x="27" y="63"/>
                    </a:lnTo>
                    <a:lnTo>
                      <a:pt x="30" y="82"/>
                    </a:lnTo>
                    <a:lnTo>
                      <a:pt x="33" y="106"/>
                    </a:lnTo>
                    <a:lnTo>
                      <a:pt x="36" y="132"/>
                    </a:lnTo>
                    <a:lnTo>
                      <a:pt x="39" y="160"/>
                    </a:lnTo>
                    <a:lnTo>
                      <a:pt x="42" y="190"/>
                    </a:lnTo>
                    <a:lnTo>
                      <a:pt x="45" y="223"/>
                    </a:lnTo>
                    <a:lnTo>
                      <a:pt x="48" y="290"/>
                    </a:lnTo>
                    <a:lnTo>
                      <a:pt x="48" y="363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37520" y="4941720"/>
                <a:ext cx="79200" cy="541800"/>
              </a:xfrm>
              <a:custGeom>
                <a:avLst/>
                <a:gdLst/>
                <a:ahLst/>
                <a:rect l="l" t="t" r="r" b="b"/>
                <a:pathLst>
                  <a:path w="36" h="247">
                    <a:moveTo>
                      <a:pt x="36" y="247"/>
                    </a:moveTo>
                    <a:lnTo>
                      <a:pt x="33" y="246"/>
                    </a:lnTo>
                    <a:lnTo>
                      <a:pt x="30" y="242"/>
                    </a:lnTo>
                    <a:lnTo>
                      <a:pt x="24" y="236"/>
                    </a:lnTo>
                    <a:lnTo>
                      <a:pt x="21" y="228"/>
                    </a:lnTo>
                    <a:lnTo>
                      <a:pt x="18" y="218"/>
                    </a:lnTo>
                    <a:lnTo>
                      <a:pt x="15" y="205"/>
                    </a:lnTo>
                    <a:lnTo>
                      <a:pt x="12" y="191"/>
                    </a:lnTo>
                    <a:lnTo>
                      <a:pt x="9" y="175"/>
                    </a:lnTo>
                    <a:lnTo>
                      <a:pt x="6" y="139"/>
                    </a:lnTo>
                    <a:lnTo>
                      <a:pt x="3" y="97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35440" y="5395680"/>
                <a:ext cx="106920" cy="666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31"/>
                    </a:moveTo>
                    <a:lnTo>
                      <a:pt x="18" y="29"/>
                    </a:lnTo>
                    <a:lnTo>
                      <a:pt x="34" y="22"/>
                    </a:lnTo>
                    <a:lnTo>
                      <a:pt x="46" y="13"/>
                    </a:lnTo>
                    <a:lnTo>
                      <a:pt x="49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962880" y="4931280"/>
                <a:ext cx="516960" cy="474840"/>
              </a:xfrm>
              <a:custGeom>
                <a:avLst/>
                <a:gdLst/>
                <a:ahLst/>
                <a:rect l="l" t="t" r="r" b="b"/>
                <a:pathLst>
                  <a:path w="236" h="217">
                    <a:moveTo>
                      <a:pt x="236" y="0"/>
                    </a:moveTo>
                    <a:lnTo>
                      <a:pt x="211" y="2"/>
                    </a:lnTo>
                    <a:lnTo>
                      <a:pt x="187" y="5"/>
                    </a:lnTo>
                    <a:lnTo>
                      <a:pt x="166" y="10"/>
                    </a:lnTo>
                    <a:lnTo>
                      <a:pt x="145" y="18"/>
                    </a:lnTo>
                    <a:lnTo>
                      <a:pt x="124" y="26"/>
                    </a:lnTo>
                    <a:lnTo>
                      <a:pt x="103" y="37"/>
                    </a:lnTo>
                    <a:lnTo>
                      <a:pt x="84" y="50"/>
                    </a:lnTo>
                    <a:lnTo>
                      <a:pt x="69" y="63"/>
                    </a:lnTo>
                    <a:lnTo>
                      <a:pt x="39" y="95"/>
                    </a:lnTo>
                    <a:lnTo>
                      <a:pt x="18" y="133"/>
                    </a:lnTo>
                    <a:lnTo>
                      <a:pt x="6" y="173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497760" y="4916880"/>
                <a:ext cx="1127520" cy="29160"/>
                <a:chOff x="3497760" y="4916880"/>
                <a:chExt cx="1127520" cy="291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497760" y="493704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52404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55032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3576600" y="49370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60504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631320" y="493488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6576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368424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371052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73680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763080" y="49348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78972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81528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84192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868200" y="493020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9700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3923280" y="493020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3949200" y="493020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39754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00212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02840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05468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080960" y="49276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410760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4133880" y="4927680"/>
                  <a:ext cx="1260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4160160" y="4923720"/>
                  <a:ext cx="15120" cy="64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4188600" y="4923720"/>
                  <a:ext cx="1332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42148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42411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26780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29408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320360" y="4923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3466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37328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39884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425480" y="4919400"/>
                  <a:ext cx="1332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451760" y="4919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48056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506840" y="49194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5327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55904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458568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611960" y="491688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0" name=""/>
              <p:cNvSpPr/>
              <p:nvPr/>
            </p:nvSpPr>
            <p:spPr>
              <a:xfrm flipV="1">
                <a:off x="4520520" y="4885200"/>
                <a:ext cx="2054880" cy="3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924000" y="4275360"/>
                <a:ext cx="908280" cy="420840"/>
              </a:xfrm>
              <a:custGeom>
                <a:avLst/>
                <a:gdLst/>
                <a:ahLst/>
                <a:rect l="l" t="t" r="r" b="b"/>
                <a:pathLst>
                  <a:path w="414" h="192">
                    <a:moveTo>
                      <a:pt x="414" y="192"/>
                    </a:moveTo>
                    <a:lnTo>
                      <a:pt x="371" y="191"/>
                    </a:lnTo>
                    <a:lnTo>
                      <a:pt x="329" y="189"/>
                    </a:lnTo>
                    <a:lnTo>
                      <a:pt x="290" y="184"/>
                    </a:lnTo>
                    <a:lnTo>
                      <a:pt x="254" y="178"/>
                    </a:lnTo>
                    <a:lnTo>
                      <a:pt x="217" y="170"/>
                    </a:lnTo>
                    <a:lnTo>
                      <a:pt x="181" y="160"/>
                    </a:lnTo>
                    <a:lnTo>
                      <a:pt x="121" y="136"/>
                    </a:lnTo>
                    <a:lnTo>
                      <a:pt x="93" y="123"/>
                    </a:lnTo>
                    <a:lnTo>
                      <a:pt x="69" y="108"/>
                    </a:lnTo>
                    <a:lnTo>
                      <a:pt x="48" y="92"/>
                    </a:lnTo>
                    <a:lnTo>
                      <a:pt x="33" y="75"/>
                    </a:lnTo>
                    <a:lnTo>
                      <a:pt x="18" y="58"/>
                    </a:lnTo>
                    <a:lnTo>
                      <a:pt x="9" y="39"/>
                    </a:lnTo>
                    <a:lnTo>
                      <a:pt x="3" y="2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832640" y="4696200"/>
                <a:ext cx="163764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466440" y="4566240"/>
                <a:ext cx="144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3711600" y="3636720"/>
                <a:ext cx="25920" cy="11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5080" y="3877200"/>
                <a:ext cx="1024920" cy="65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65520" y="3614400"/>
                <a:ext cx="84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95400" y="4787280"/>
                <a:ext cx="86400" cy="8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392280" y="4542120"/>
                <a:ext cx="92520" cy="4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423600" y="4782240"/>
                <a:ext cx="86760" cy="820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06280" y="4718880"/>
                <a:ext cx="317520" cy="215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91240" y="474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245680" y="4500000"/>
                <a:ext cx="563040" cy="215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1947960" y="3630600"/>
                <a:ext cx="395280" cy="288000"/>
                <a:chOff x="1947960" y="3630600"/>
                <a:chExt cx="395280" cy="28800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1947960" y="363060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~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272320" y="3705120"/>
                  <a:ext cx="709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6693840" y="4854240"/>
                <a:ext cx="444960" cy="2466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20920" y="4871520"/>
                <a:ext cx="122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06360" y="3724920"/>
                <a:ext cx="439200" cy="2624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8680" y="3526560"/>
                <a:ext cx="432000" cy="261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1052640" y="3572280"/>
                <a:ext cx="209880" cy="213480"/>
                <a:chOff x="1052640" y="3572280"/>
                <a:chExt cx="209880" cy="213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05264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260360" y="3576600"/>
                  <a:ext cx="21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086840" y="357228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018080" y="3849480"/>
                <a:ext cx="318960" cy="211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85040" y="38743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576960" y="4135320"/>
                <a:ext cx="9396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1974240" y="4768200"/>
                <a:ext cx="4990320" cy="116640"/>
                <a:chOff x="1974240" y="4768200"/>
                <a:chExt cx="4990320" cy="11664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1974240" y="4825080"/>
                  <a:ext cx="4793040" cy="21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6753960" y="4768200"/>
                  <a:ext cx="210600" cy="116640"/>
                </a:xfrm>
                <a:custGeom>
                  <a:avLst/>
                  <a:gdLst/>
                  <a:ahLst/>
                  <a:rect l="l" t="t" r="r" b="b"/>
                  <a:pathLst>
                    <a:path w="96" h="53">
                      <a:moveTo>
                        <a:pt x="0" y="53"/>
                      </a:moveTo>
                      <a:lnTo>
                        <a:pt x="96" y="26"/>
                      </a:lnTo>
                      <a:lnTo>
                        <a:pt x="0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470240" y="4820760"/>
                <a:ext cx="495720" cy="11880"/>
                <a:chOff x="1470240" y="4820760"/>
                <a:chExt cx="495720" cy="1188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187200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734840" y="4820760"/>
                  <a:ext cx="91440" cy="11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2" y="5"/>
                      </a:moveTo>
                      <a:lnTo>
                        <a:pt x="42" y="2"/>
                      </a:lnTo>
                      <a:lnTo>
                        <a:pt x="42" y="2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4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1594440" y="4820760"/>
                  <a:ext cx="93960" cy="118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5"/>
                      </a:move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7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470240" y="482076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36" h="5">
                      <a:moveTo>
                        <a:pt x="36" y="5"/>
                      </a:move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6" y="5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 flipV="1">
                <a:off x="2849400" y="4866480"/>
                <a:ext cx="564840" cy="839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/>
          <p:nvPr/>
        </p:nvSpPr>
        <p:spPr>
          <a:xfrm>
            <a:off x="-339840" y="0"/>
            <a:ext cx="94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trajanie kwar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5692680" y="1584000"/>
            <a:ext cx="419040" cy="2165400"/>
            <a:chOff x="5692680" y="1584000"/>
            <a:chExt cx="419040" cy="2165400"/>
          </a:xfrm>
        </p:grpSpPr>
        <p:grpSp>
          <p:nvGrpSpPr>
            <p:cNvPr id="1758" name=""/>
            <p:cNvGrpSpPr/>
            <p:nvPr/>
          </p:nvGrpSpPr>
          <p:grpSpPr>
            <a:xfrm>
              <a:off x="5692680" y="2643120"/>
              <a:ext cx="365040" cy="193680"/>
              <a:chOff x="5692680" y="2643120"/>
              <a:chExt cx="365040" cy="193680"/>
            </a:xfrm>
          </p:grpSpPr>
          <p:sp>
            <p:nvSpPr>
              <p:cNvPr id="1759" name=""/>
              <p:cNvSpPr/>
              <p:nvPr/>
            </p:nvSpPr>
            <p:spPr>
              <a:xfrm>
                <a:off x="5692680" y="270324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709960" y="264312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709960" y="283500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5703840" y="1873080"/>
              <a:ext cx="407880" cy="457200"/>
              <a:chOff x="5703840" y="1873080"/>
              <a:chExt cx="407880" cy="457200"/>
            </a:xfrm>
          </p:grpSpPr>
          <p:grpSp>
            <p:nvGrpSpPr>
              <p:cNvPr id="1763" name=""/>
              <p:cNvGrpSpPr/>
              <p:nvPr/>
            </p:nvGrpSpPr>
            <p:grpSpPr>
              <a:xfrm>
                <a:off x="5719680" y="2060280"/>
                <a:ext cx="358560" cy="131760"/>
                <a:chOff x="5719680" y="2060280"/>
                <a:chExt cx="358560" cy="1317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5719680" y="2185560"/>
                  <a:ext cx="35856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5719680" y="2060280"/>
                  <a:ext cx="35856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6" name=""/>
              <p:cNvSpPr/>
              <p:nvPr/>
            </p:nvSpPr>
            <p:spPr>
              <a:xfrm flipV="1">
                <a:off x="5703840" y="1922040"/>
                <a:ext cx="35856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000480" y="1873080"/>
                <a:ext cx="1112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5862600" y="2833560"/>
              <a:ext cx="0" cy="9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862600" y="2178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875200" y="1584000"/>
              <a:ext cx="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1843200" y="1507680"/>
            <a:ext cx="1304280" cy="2251440"/>
            <a:chOff x="1843200" y="1507680"/>
            <a:chExt cx="1304280" cy="2251440"/>
          </a:xfrm>
        </p:grpSpPr>
        <p:grpSp>
          <p:nvGrpSpPr>
            <p:cNvPr id="1772" name=""/>
            <p:cNvGrpSpPr/>
            <p:nvPr/>
          </p:nvGrpSpPr>
          <p:grpSpPr>
            <a:xfrm>
              <a:off x="2782440" y="2452680"/>
              <a:ext cx="365040" cy="193680"/>
              <a:chOff x="2782440" y="2452680"/>
              <a:chExt cx="365040" cy="193680"/>
            </a:xfrm>
          </p:grpSpPr>
          <p:sp>
            <p:nvSpPr>
              <p:cNvPr id="1773" name=""/>
              <p:cNvSpPr/>
              <p:nvPr/>
            </p:nvSpPr>
            <p:spPr>
              <a:xfrm>
                <a:off x="2782440" y="2512800"/>
                <a:ext cx="365040" cy="84240"/>
              </a:xfrm>
              <a:prstGeom prst="rect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799720" y="2452680"/>
                <a:ext cx="340920" cy="61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99720" y="2644560"/>
                <a:ext cx="340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 flipV="1">
              <a:off x="2968200" y="1507680"/>
              <a:ext cx="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57040" y="2631960"/>
              <a:ext cx="0" cy="11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2041200" y="2028600"/>
              <a:ext cx="92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028600" y="202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028600" y="263340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028600" y="320328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843200" y="2313000"/>
              <a:ext cx="407160" cy="457200"/>
              <a:chOff x="1843200" y="2313000"/>
              <a:chExt cx="407160" cy="457200"/>
            </a:xfrm>
          </p:grpSpPr>
          <p:grpSp>
            <p:nvGrpSpPr>
              <p:cNvPr id="1783" name=""/>
              <p:cNvGrpSpPr/>
              <p:nvPr/>
            </p:nvGrpSpPr>
            <p:grpSpPr>
              <a:xfrm>
                <a:off x="1858680" y="2500200"/>
                <a:ext cx="358200" cy="131760"/>
                <a:chOff x="1858680" y="2500200"/>
                <a:chExt cx="358200" cy="1317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1858680" y="2625480"/>
                  <a:ext cx="358200" cy="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858680" y="2500200"/>
                  <a:ext cx="35820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V="1">
                <a:off x="1843200" y="2361960"/>
                <a:ext cx="35820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139480" y="2313000"/>
                <a:ext cx="11088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2943000" y="1990440"/>
              <a:ext cx="741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922120" y="31701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146160" y="6448320"/>
            <a:ext cx="736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36440" y="4722840"/>
            <a:ext cx="83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kres przestrajania zależy od parametrów kwarcu, wykonania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la f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MHz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  może wynosić 100Hz - 2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9080"/>
            <a:ext cx="899316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ormować sygnały przy minimalnych poziomach, w liniowych zakresach  pracy elementó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ktywnych (poniżej 10  dBm ~ 10 mW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iminować zbędne sprzężenia elektrostatyczne i magnetyczne między obwod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rzewodam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szerokopasmowe filtrowanie i stabilizowanie zasilaczy, często stosować dodatko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ementy filtracji RC lub L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ermetycznie ekranować oscylatory i dzielniki TTL oraz zasilać je z odrębnego zasilacz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w torach generatorów i wzmacniaczy dopasowane impedancyjne, filtry środko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b dolnoprzepustow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ontować poszczególne układy jako oddzielne podzespoły i dobierać właściwe punkt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łączenia do mas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osować zasady montażu UKF, tj. z minimalnymi indukcyjnościami doprowad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zmniejszyć poziom sygnałów fałszywych należ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9240" y="2214720"/>
            <a:ext cx="8762760" cy="1932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dobrym nadajniku poziom sygnałów fałszywych nie powinien przekraczać szumów progowych, a sporadycznie najwyżej o 1 do 3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armoniczne i ich kombinacje, pojawiające się w torze nadawczym, stają się przyczyną zakłóceń radiowych  i telewizyj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60" y="174600"/>
            <a:ext cx="834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 k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9T11:28:36Z</dcterms:created>
  <dc:creator>MK</dc:creator>
  <dc:description/>
  <dc:language>en-US</dc:language>
  <cp:lastModifiedBy>MK</cp:lastModifiedBy>
  <dcterms:modified xsi:type="dcterms:W3CDTF">2004-05-30T08:30:36Z</dcterms:modified>
  <cp:revision>78</cp:revision>
  <dc:subject/>
  <dc:title>Generatory LC</dc:title>
</cp:coreProperties>
</file>