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FDA-86EB-4EF4-9ABB-B3D06ACF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D812-AD3B-4F7A-910A-1983A809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A76-966C-4D86-B6DF-F19853B8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12A-654F-4796-9B07-E0D0ABB7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6E0-4673-4AB0-82E2-1DBEAD55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B30-4BFF-4D27-92C8-27C0B351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8841-62B5-4BE5-87C6-DE8D3AD9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27C-811B-49AB-A52B-6ECDBFFC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AD25-AA2D-4623-8BE6-BE768F47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B09-7D51-43CF-B204-231D795E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AC34-AF28-45B5-B6E5-68F449CD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37B3-A8CA-4C2F-9364-A2DAA05F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B06C-1914-4FB2-BBCB-B9CB63508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dstawowe układy wzmacniaczy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łaściwości częstotliwościow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zmacniaczy tranzystorow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29040" y="812880"/>
            <a:ext cx="397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mocy czynnej k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782720" y="1979280"/>
            <a:ext cx="4952880" cy="1447920"/>
            <a:chOff x="1782720" y="1979280"/>
            <a:chExt cx="4952880" cy="1447920"/>
          </a:xfrm>
        </p:grpSpPr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2012760" y="2055600"/>
                  <a:ext cx="4113360" cy="11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sSup>
                            <m:e/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1782720" y="342720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2720" y="197964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782720" y="197928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735600" y="197928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33600" y="4505040"/>
            <a:ext cx="5333760" cy="1981440"/>
            <a:chOff x="1533600" y="4505040"/>
            <a:chExt cx="5333760" cy="19814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1685880" y="4734000"/>
                  <a:ext cx="4842000" cy="14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y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ge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b>
                                          <m:r>
                                            <m:t xml:space="preserve">G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sSup>
                                    <m:e/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4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k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sSup>
                            <m:e/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1533600" y="648648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33600" y="450540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533600" y="450504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867360" y="450504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205360" y="3805200"/>
            <a:ext cx="444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skuteczne mocy k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konfiguracje pracy elementów aktyw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7360" y="1216080"/>
            <a:ext cx="8397720" cy="491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JEDYNCZE TRANZY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wspólnego emitera (źródł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Układ wspólnego kolektora ( dren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Układ wspólnej bazy (bramk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Układ o podstawie pośredniej z rezystorem emite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źródł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Y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spólny emiter-wspólna baza: KAS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Wspólny kolektor-wspólna 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07120" y="5407200"/>
            <a:ext cx="311040" cy="642600"/>
          </a:xfrm>
          <a:custGeom>
            <a:avLst/>
            <a:gdLst>
              <a:gd name="textAreaLeft" fmla="*/ 0 w 311040"/>
              <a:gd name="textAreaRight" fmla="*/ 112320 w 311040"/>
              <a:gd name="textAreaTop" fmla="*/ 16560 h 642600"/>
              <a:gd name="textAreaBottom" fmla="*/ 62604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7"/>
                </a:lnTo>
                <a:cubicBezTo>
                  <a:pt x="10800" y="9927"/>
                  <a:pt x="16200" y="10827"/>
                  <a:pt x="21600" y="10827"/>
                </a:cubicBezTo>
                <a:cubicBezTo>
                  <a:pt x="16200" y="10827"/>
                  <a:pt x="10800" y="11727"/>
                  <a:pt x="10800" y="1262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02400" y="5327640"/>
            <a:ext cx="2079720" cy="70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e szerokopas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509760" y="1935000"/>
            <a:ext cx="6771960" cy="2714040"/>
            <a:chOff x="509760" y="1935000"/>
            <a:chExt cx="6771960" cy="2714040"/>
          </a:xfrm>
        </p:grpSpPr>
        <p:sp>
          <p:nvSpPr>
            <p:cNvPr id="285" name=""/>
            <p:cNvSpPr/>
            <p:nvPr/>
          </p:nvSpPr>
          <p:spPr>
            <a:xfrm>
              <a:off x="509760" y="2706840"/>
              <a:ext cx="1371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54360" y="2624040"/>
              <a:ext cx="11512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05640" y="25527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35520" y="3973680"/>
              <a:ext cx="168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16720" y="38703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27240" y="2989440"/>
              <a:ext cx="99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22480" y="2906640"/>
              <a:ext cx="12708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27240" y="3959280"/>
              <a:ext cx="99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2480" y="3868560"/>
              <a:ext cx="127080" cy="140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86160" y="3214800"/>
              <a:ext cx="182520" cy="57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59520" y="2925720"/>
              <a:ext cx="181080" cy="57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38720" y="3502080"/>
              <a:ext cx="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26160" y="3959280"/>
              <a:ext cx="39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08600" y="2629080"/>
              <a:ext cx="3780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48440" y="261612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75080" y="3959280"/>
              <a:ext cx="382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75080" y="2989440"/>
              <a:ext cx="382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75080" y="3773520"/>
              <a:ext cx="288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75080" y="2989440"/>
              <a:ext cx="28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42400" y="378144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80320" y="420840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43280" y="3233880"/>
              <a:ext cx="303120" cy="406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3280" y="3476520"/>
              <a:ext cx="303120" cy="405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2101320" y="3233520"/>
              <a:ext cx="1800" cy="72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098440" y="3959280"/>
              <a:ext cx="46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123640" y="2989440"/>
              <a:ext cx="468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124000" y="2989080"/>
              <a:ext cx="180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46280" y="3914640"/>
              <a:ext cx="6516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35120" y="2955960"/>
              <a:ext cx="65160" cy="98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954160" y="3158640"/>
              <a:ext cx="1800" cy="66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5705640" y="3024000"/>
              <a:ext cx="144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3320" y="2995560"/>
              <a:ext cx="484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997520" y="2625840"/>
              <a:ext cx="388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53600" y="32227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90400" y="3089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38720" y="242568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37080" y="1935000"/>
              <a:ext cx="430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81680" y="2629080"/>
              <a:ext cx="17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48440" y="2033640"/>
              <a:ext cx="411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502320" y="3024000"/>
              <a:ext cx="180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67640" y="2925720"/>
              <a:ext cx="51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9400" y="2735280"/>
              <a:ext cx="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89400" y="3092400"/>
              <a:ext cx="2649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22640" y="299412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54360" y="32907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289400" y="2596680"/>
              <a:ext cx="26496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02160" y="3916440"/>
              <a:ext cx="84240" cy="92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37080" y="3916440"/>
              <a:ext cx="0" cy="29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0640" y="4213080"/>
              <a:ext cx="29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65920" y="628560"/>
            <a:ext cx="75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go emitera ( OE) dla składowych zmien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1127160" y="2046240"/>
            <a:ext cx="6377040" cy="2559960"/>
            <a:chOff x="1127160" y="2046240"/>
            <a:chExt cx="6377040" cy="2559960"/>
          </a:xfrm>
        </p:grpSpPr>
        <p:sp>
          <p:nvSpPr>
            <p:cNvPr id="336" name=""/>
            <p:cNvSpPr/>
            <p:nvPr/>
          </p:nvSpPr>
          <p:spPr>
            <a:xfrm>
              <a:off x="4905360" y="4165560"/>
              <a:ext cx="42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5320" y="204624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92680" y="2465280"/>
              <a:ext cx="11444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37120" y="2395440"/>
              <a:ext cx="128880" cy="139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76720" y="3784680"/>
              <a:ext cx="16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48200" y="3683160"/>
              <a:ext cx="1288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74920" y="2822400"/>
              <a:ext cx="9907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70160" y="2741760"/>
              <a:ext cx="1270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74920" y="3770280"/>
              <a:ext cx="990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70160" y="3681360"/>
              <a:ext cx="127080" cy="13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30416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88120" y="27590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67320" y="332280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56200" y="3770280"/>
              <a:ext cx="395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39000" y="2470320"/>
              <a:ext cx="376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77040" y="245736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25640" y="3770280"/>
              <a:ext cx="37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25640" y="2822400"/>
              <a:ext cx="379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25640" y="3589200"/>
              <a:ext cx="32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2564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71000" y="359712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31240" y="401472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97080" y="3060720"/>
              <a:ext cx="301680" cy="39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97080" y="3298680"/>
              <a:ext cx="301680" cy="39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2355840" y="3060360"/>
              <a:ext cx="1440" cy="70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351160" y="3770280"/>
              <a:ext cx="46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376000" y="2822400"/>
              <a:ext cx="466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97200" y="3726000"/>
              <a:ext cx="63360" cy="95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86040" y="2790720"/>
              <a:ext cx="6336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27160" y="3854520"/>
              <a:ext cx="1584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201840" y="298728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937120" y="285552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89200" y="2828880"/>
              <a:ext cx="481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5232240" y="2467080"/>
              <a:ext cx="3873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99480" y="30495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26920" y="29192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83160" y="22716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13520" y="2470320"/>
              <a:ext cx="17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729480" y="2855520"/>
              <a:ext cx="144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93000" y="2759040"/>
              <a:ext cx="51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29160" y="2575080"/>
              <a:ext cx="0" cy="48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539960" y="2476800"/>
              <a:ext cx="29124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65640" y="282564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92680" y="3116160"/>
              <a:ext cx="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93160" y="2905560"/>
              <a:ext cx="31464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41920" y="3727440"/>
              <a:ext cx="82440" cy="90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76840" y="372744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40400" y="401796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43240" y="550800"/>
            <a:ext cx="77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go kolektora ( OC) dla składowych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178600" y="1976400"/>
            <a:ext cx="40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47640" y="2079720"/>
            <a:ext cx="7129440" cy="2261520"/>
            <a:chOff x="647640" y="2079720"/>
            <a:chExt cx="7129440" cy="2261520"/>
          </a:xfrm>
        </p:grpSpPr>
        <p:sp>
          <p:nvSpPr>
            <p:cNvPr id="388" name=""/>
            <p:cNvSpPr/>
            <p:nvPr/>
          </p:nvSpPr>
          <p:spPr>
            <a:xfrm>
              <a:off x="4832280" y="2733840"/>
              <a:ext cx="9302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62520" y="2644920"/>
              <a:ext cx="120600" cy="150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62520" y="3651120"/>
              <a:ext cx="120600" cy="149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55840" y="2765520"/>
              <a:ext cx="9302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59000" y="2679840"/>
              <a:ext cx="117720" cy="149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55840" y="3738600"/>
              <a:ext cx="25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59000" y="3679920"/>
              <a:ext cx="117720" cy="14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51120" y="2998800"/>
              <a:ext cx="169920" cy="59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86600" y="2967120"/>
              <a:ext cx="168120" cy="59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354960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11920" y="3743280"/>
              <a:ext cx="353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11920" y="2733840"/>
              <a:ext cx="353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70480" y="2733840"/>
              <a:ext cx="180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5200" y="3773520"/>
              <a:ext cx="825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35360" y="3581280"/>
              <a:ext cx="144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35360" y="2765520"/>
              <a:ext cx="144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32960" y="390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8560" y="212724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44600" y="301932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44600" y="327168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2391840" y="3018960"/>
              <a:ext cx="1800" cy="75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412720" y="2762280"/>
              <a:ext cx="77148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413080" y="276516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06560" y="372744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97200" y="273060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7640" y="2825640"/>
              <a:ext cx="14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187800" y="294156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848200" y="2909880"/>
              <a:ext cx="180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51400" y="2771640"/>
              <a:ext cx="452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211720" y="2739960"/>
              <a:ext cx="363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74280" y="3008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07840" y="29750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40320" y="21780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61240" y="271764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05520" y="2079720"/>
              <a:ext cx="38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620040" y="290520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6720" y="3008160"/>
              <a:ext cx="99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300560" y="3112560"/>
              <a:ext cx="412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540680" y="2737080"/>
              <a:ext cx="302400" cy="37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4229640" y="2816280"/>
              <a:ext cx="16056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57720" y="3122640"/>
              <a:ext cx="247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64000" y="3122640"/>
              <a:ext cx="0" cy="6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37000" y="3703680"/>
              <a:ext cx="7632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9840" y="3730680"/>
              <a:ext cx="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51320" y="4040280"/>
              <a:ext cx="2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4167000" y="2754000"/>
              <a:ext cx="82440" cy="103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756720" y="56664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j bazy ( OB) dla składowych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199160" y="411120"/>
            <a:ext cx="72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o podstawie pośredniej dla składowych zmien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37400" y="2908440"/>
            <a:ext cx="123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46080" y="1670040"/>
            <a:ext cx="5942160" cy="2513160"/>
            <a:chOff x="946080" y="1670040"/>
            <a:chExt cx="5942160" cy="2513160"/>
          </a:xfrm>
        </p:grpSpPr>
        <p:sp>
          <p:nvSpPr>
            <p:cNvPr id="438" name=""/>
            <p:cNvSpPr/>
            <p:nvPr/>
          </p:nvSpPr>
          <p:spPr>
            <a:xfrm>
              <a:off x="4780080" y="2176560"/>
              <a:ext cx="1017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97440" y="211464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80080" y="392760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19680" y="387828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63800" y="2484360"/>
              <a:ext cx="5479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1920" y="2419200"/>
              <a:ext cx="1126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63800" y="3927600"/>
              <a:ext cx="9576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51120" y="3878280"/>
              <a:ext cx="112680" cy="120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32000" y="3013200"/>
              <a:ext cx="162000" cy="490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10280" y="2759040"/>
              <a:ext cx="160200" cy="48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3247920"/>
              <a:ext cx="0" cy="67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15080" y="3925800"/>
              <a:ext cx="350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89600" y="2179800"/>
              <a:ext cx="333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89840" y="216864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30480" y="3925800"/>
              <a:ext cx="576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3030480" y="2484000"/>
              <a:ext cx="498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14800" y="3503520"/>
              <a:ext cx="0" cy="4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14800" y="248904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74440" y="34732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84600" y="1943280"/>
              <a:ext cx="79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71760" y="2965320"/>
              <a:ext cx="268200" cy="349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71760" y="3174840"/>
              <a:ext cx="268200" cy="346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589120" y="2964960"/>
              <a:ext cx="23760" cy="9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2607840" y="3925800"/>
              <a:ext cx="414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2631600" y="2489040"/>
              <a:ext cx="414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2614680" y="24886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97160" y="387828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97160" y="246060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46080" y="3078000"/>
              <a:ext cx="140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3679560" y="2805120"/>
              <a:ext cx="4680" cy="78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5797440" y="2519280"/>
              <a:ext cx="1800" cy="9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10160" y="2494080"/>
              <a:ext cx="4284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172120" y="2178000"/>
              <a:ext cx="342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25080" y="31338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55280" y="25750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94400" y="200664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54760" y="2179800"/>
              <a:ext cx="155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89840" y="1670040"/>
              <a:ext cx="698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6502320" y="260496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45000" y="2271600"/>
              <a:ext cx="0" cy="42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45000" y="2577960"/>
              <a:ext cx="23508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11720" y="2492280"/>
              <a:ext cx="23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80080" y="27478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545000" y="2152800"/>
              <a:ext cx="23508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13120" y="3906720"/>
              <a:ext cx="73080" cy="79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45160" y="391788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24560" y="4183200"/>
              <a:ext cx="25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02320" y="3078000"/>
              <a:ext cx="160200" cy="490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61000" y="3568680"/>
              <a:ext cx="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54920" y="168912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43880" y="336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w układzie wspólnego emitera -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55520" y="3830760"/>
            <a:ext cx="8256600" cy="2805120"/>
            <a:chOff x="155520" y="3830760"/>
            <a:chExt cx="8256600" cy="2805120"/>
          </a:xfrm>
        </p:grpSpPr>
        <p:grpSp>
          <p:nvGrpSpPr>
            <p:cNvPr id="491" name=""/>
            <p:cNvGrpSpPr/>
            <p:nvPr/>
          </p:nvGrpSpPr>
          <p:grpSpPr>
            <a:xfrm>
              <a:off x="155520" y="3830760"/>
              <a:ext cx="8256600" cy="2805120"/>
              <a:chOff x="155520" y="3830760"/>
              <a:chExt cx="8256600" cy="2805120"/>
            </a:xfrm>
          </p:grpSpPr>
          <mc:AlternateContent>
            <mc:Choice xmlns:a14="http://schemas.microsoft.com/office/drawing/2010/main" Requires="a14">
              <p:sp>
                <p:nvSpPr>
                  <p:cNvPr id="492" name=""/>
                  <p:cNvSpPr txBox="1"/>
                  <p:nvPr/>
                </p:nvSpPr>
                <p:spPr>
                  <a:xfrm>
                    <a:off x="4832280" y="6181920"/>
                    <a:ext cx="3003480" cy="45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3" name=""/>
              <p:cNvSpPr/>
              <p:nvPr/>
            </p:nvSpPr>
            <p:spPr>
              <a:xfrm>
                <a:off x="3206880" y="4964040"/>
                <a:ext cx="193680" cy="569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5665680" y="4857840"/>
                <a:ext cx="456480" cy="771120"/>
                <a:chOff x="5665680" y="4857840"/>
                <a:chExt cx="456480" cy="7711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5665680" y="4857840"/>
                  <a:ext cx="444600" cy="4928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677560" y="5135760"/>
                  <a:ext cx="444600" cy="493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917680" y="5046840"/>
                  <a:ext cx="0" cy="45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3978360" y="5122800"/>
                <a:ext cx="353520" cy="87120"/>
                <a:chOff x="3978360" y="5122800"/>
                <a:chExt cx="353520" cy="871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985200" y="5122800"/>
                  <a:ext cx="346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978360" y="5209920"/>
                  <a:ext cx="346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4645080" y="4569120"/>
                <a:ext cx="88560" cy="348840"/>
                <a:chOff x="4645080" y="4569120"/>
                <a:chExt cx="88560" cy="348840"/>
              </a:xfrm>
            </p:grpSpPr>
            <p:sp>
              <p:nvSpPr>
                <p:cNvPr id="502" name=""/>
                <p:cNvSpPr/>
                <p:nvPr/>
              </p:nvSpPr>
              <p:spPr>
                <a:xfrm flipV="1">
                  <a:off x="4645080" y="4569120"/>
                  <a:ext cx="0" cy="342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V="1">
                  <a:off x="4733640" y="4575960"/>
                  <a:ext cx="0" cy="342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1751040" y="4722840"/>
                <a:ext cx="36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597040" y="4741920"/>
                <a:ext cx="202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3308400" y="4741920"/>
                <a:ext cx="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4159080" y="4741920"/>
                <a:ext cx="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308400" y="5538960"/>
                <a:ext cx="0" cy="39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178160" y="5216400"/>
                <a:ext cx="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658880" y="5899320"/>
                <a:ext cx="519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738680" y="4761000"/>
                <a:ext cx="217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919840" y="47610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900760" y="563400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46400" y="419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019640" y="44719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827760" y="56674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481800" y="5070600"/>
                <a:ext cx="193680" cy="571320"/>
              </a:xfrm>
              <a:prstGeom prst="rect">
                <a:avLst/>
              </a:prstGeom>
              <a:noFill/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578640" y="4761000"/>
                <a:ext cx="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97720" y="563400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112840" y="4071960"/>
                <a:ext cx="519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b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444480" y="5048280"/>
                <a:ext cx="508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327560" y="5040360"/>
                <a:ext cx="770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8080" y="4052880"/>
                <a:ext cx="609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835680" y="4965840"/>
                <a:ext cx="59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>
                <a:off x="1789200" y="4874760"/>
                <a:ext cx="7920" cy="8254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94680" y="5064120"/>
                <a:ext cx="448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2936880" y="4890960"/>
                <a:ext cx="0" cy="873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792880" y="4221000"/>
                <a:ext cx="586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ff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0000ff"/>
                    </a:solidFill>
                    <a:latin typeface="Times New Roman"/>
                  </a:rPr>
                  <a:t>b’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133880" y="5859360"/>
                <a:ext cx="82440" cy="79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37400" y="5827680"/>
                <a:ext cx="8244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559560" y="5838840"/>
                <a:ext cx="81000" cy="79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259080" y="4680000"/>
                <a:ext cx="8244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80240" y="473076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548400" y="4710240"/>
                <a:ext cx="8244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6200000">
                <a:off x="4813200" y="3633480"/>
                <a:ext cx="188640" cy="582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4159080" y="3887280"/>
                <a:ext cx="0" cy="85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5919840" y="3904920"/>
                <a:ext cx="0" cy="85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108320" y="471168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9" name=""/>
                  <p:cNvSpPr txBox="1"/>
                  <p:nvPr/>
                </p:nvSpPr>
                <p:spPr>
                  <a:xfrm>
                    <a:off x="2602080" y="5886360"/>
                    <a:ext cx="123480" cy="230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540" name=""/>
              <p:cNvSpPr/>
              <p:nvPr/>
            </p:nvSpPr>
            <p:spPr>
              <a:xfrm>
                <a:off x="1770120" y="4722840"/>
                <a:ext cx="2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658520" y="412920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65040" y="4678200"/>
                <a:ext cx="86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65040" y="594684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20200" y="480852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365040" y="4665600"/>
                <a:ext cx="0" cy="128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 rot="16200000">
                <a:off x="672120" y="449100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55520" y="5045040"/>
                <a:ext cx="416160" cy="37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365040" y="510048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08320" y="5343480"/>
                <a:ext cx="50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0" name=""/>
                  <p:cNvSpPr txBox="1"/>
                  <p:nvPr/>
                </p:nvSpPr>
                <p:spPr>
                  <a:xfrm>
                    <a:off x="6207120" y="4052880"/>
                    <a:ext cx="2205000" cy="57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51" name=""/>
              <p:cNvSpPr/>
              <p:nvPr/>
            </p:nvSpPr>
            <p:spPr>
              <a:xfrm flipV="1">
                <a:off x="5059440" y="5417640"/>
                <a:ext cx="531720" cy="81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259080" y="5837400"/>
                <a:ext cx="82440" cy="79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6200000">
                <a:off x="2311200" y="4425480"/>
                <a:ext cx="190440" cy="581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7583400" y="4824000"/>
                <a:ext cx="0" cy="10890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657920" y="4967280"/>
                <a:ext cx="40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8000"/>
                    </a:solidFill>
                    <a:latin typeface="Times New Roman"/>
                  </a:rPr>
                  <a:t>u</a:t>
                </a:r>
                <a:r>
                  <a:rPr b="0" lang="pl-PL" sz="2000" spc="-1" strike="noStrike" baseline="-25000">
                    <a:solidFill>
                      <a:srgbClr val="008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4159080" y="390528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203800" y="390528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1384200" y="770040"/>
            <a:ext cx="5982840" cy="2617200"/>
            <a:chOff x="1384200" y="770040"/>
            <a:chExt cx="5982840" cy="2617200"/>
          </a:xfrm>
        </p:grpSpPr>
        <p:sp>
          <p:nvSpPr>
            <p:cNvPr id="559" name=""/>
            <p:cNvSpPr/>
            <p:nvPr/>
          </p:nvSpPr>
          <p:spPr>
            <a:xfrm>
              <a:off x="3821760" y="1662840"/>
              <a:ext cx="507960" cy="33372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82240" y="2661480"/>
              <a:ext cx="376200" cy="3369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69720" y="27050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04360" y="2809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50040" y="994680"/>
              <a:ext cx="176040" cy="47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38240" y="816480"/>
              <a:ext cx="1080" cy="19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38240" y="1454040"/>
              <a:ext cx="108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86920" y="1094400"/>
              <a:ext cx="379440" cy="333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9720" y="11358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04360" y="1240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66720" y="2577960"/>
              <a:ext cx="174600" cy="4719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354560" y="2401200"/>
              <a:ext cx="144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354560" y="3037320"/>
              <a:ext cx="144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14760" y="265500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96480" y="770040"/>
              <a:ext cx="7236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701240" y="2818800"/>
              <a:ext cx="306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4701240" y="2932920"/>
              <a:ext cx="306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4852080" y="2415960"/>
              <a:ext cx="576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52080" y="2949120"/>
              <a:ext cx="576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05080" y="2459160"/>
              <a:ext cx="377640" cy="333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85560" y="256500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13200" y="1752840"/>
              <a:ext cx="528120" cy="52632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73040" y="1861920"/>
              <a:ext cx="7560" cy="29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094280" y="1815120"/>
              <a:ext cx="259920" cy="11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4094280" y="2055960"/>
              <a:ext cx="160560" cy="108720"/>
              <a:chOff x="4094280" y="2055960"/>
              <a:chExt cx="160560" cy="108720"/>
            </a:xfrm>
          </p:grpSpPr>
          <p:sp>
            <p:nvSpPr>
              <p:cNvPr id="584" name=""/>
              <p:cNvSpPr/>
              <p:nvPr/>
            </p:nvSpPr>
            <p:spPr>
              <a:xfrm>
                <a:off x="4094280" y="2076840"/>
                <a:ext cx="160560" cy="83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125240" y="2055960"/>
                <a:ext cx="129600" cy="1087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4255560" y="2160720"/>
              <a:ext cx="9900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3912840" y="2019240"/>
              <a:ext cx="1674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54560" y="1620720"/>
              <a:ext cx="144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748600" y="2011320"/>
              <a:ext cx="117072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4354560" y="2208240"/>
              <a:ext cx="144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66720" y="980280"/>
              <a:ext cx="174600" cy="468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54560" y="795600"/>
              <a:ext cx="144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54560" y="1439640"/>
              <a:ext cx="144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97480" y="1078200"/>
              <a:ext cx="379080" cy="3351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69120" y="11199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703760" y="1224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50040" y="2563560"/>
              <a:ext cx="176040" cy="463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738240" y="1648080"/>
              <a:ext cx="108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738240" y="3016440"/>
              <a:ext cx="108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648160" y="3252240"/>
              <a:ext cx="4021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541680" y="802080"/>
              <a:ext cx="308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364280" y="2415960"/>
              <a:ext cx="493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01240" y="1932480"/>
              <a:ext cx="321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580440" y="1993320"/>
              <a:ext cx="1810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01240" y="1774800"/>
              <a:ext cx="32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580440" y="1840680"/>
              <a:ext cx="181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63960" y="1993320"/>
              <a:ext cx="0" cy="12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63960" y="802080"/>
              <a:ext cx="0" cy="9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311360" y="770040"/>
              <a:ext cx="6804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11360" y="2385360"/>
              <a:ext cx="68040" cy="6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96480" y="3216960"/>
              <a:ext cx="7236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11360" y="3216960"/>
              <a:ext cx="6804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20760" y="3216960"/>
              <a:ext cx="7272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61320" y="17366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94880" y="184068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29120" y="1370520"/>
              <a:ext cx="311400" cy="3196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06160" y="14137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15440" y="2055960"/>
              <a:ext cx="311040" cy="3196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23800" y="20865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97920" y="1959840"/>
              <a:ext cx="71280" cy="67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1384200" y="1921320"/>
              <a:ext cx="890280" cy="1311120"/>
              <a:chOff x="1384200" y="1921320"/>
              <a:chExt cx="890280" cy="1311120"/>
            </a:xfrm>
          </p:grpSpPr>
          <p:sp>
            <p:nvSpPr>
              <p:cNvPr id="622" name=""/>
              <p:cNvSpPr/>
              <p:nvPr/>
            </p:nvSpPr>
            <p:spPr>
              <a:xfrm>
                <a:off x="1557360" y="1978560"/>
                <a:ext cx="71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557360" y="3229560"/>
                <a:ext cx="54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682280" y="210384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1557360" y="1965960"/>
                <a:ext cx="0" cy="12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rot="16200000">
                <a:off x="1799640" y="1825200"/>
                <a:ext cx="124920" cy="317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84200" y="2340360"/>
                <a:ext cx="343800" cy="37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1557360" y="2395800"/>
                <a:ext cx="0" cy="2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673280" y="263088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4703040" y="1495800"/>
              <a:ext cx="0" cy="26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758840" y="1487520"/>
              <a:ext cx="0" cy="26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51680" y="1638720"/>
              <a:ext cx="35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65320" y="1620720"/>
              <a:ext cx="139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6163920" y="1620360"/>
              <a:ext cx="0" cy="163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087960" y="1943640"/>
              <a:ext cx="174600" cy="468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25040" y="3226680"/>
              <a:ext cx="72720" cy="67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14240" y="1590480"/>
              <a:ext cx="7272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077160" y="11728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00800" y="146700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2840" y="2523240"/>
              <a:ext cx="51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5331960" y="2468520"/>
              <a:ext cx="543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60800" y="1123200"/>
              <a:ext cx="41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53240" y="143964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3302640" y="2171520"/>
              <a:ext cx="7560" cy="834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63120" y="2590920"/>
              <a:ext cx="49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26600" y="189720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604600" y="3030840"/>
              <a:ext cx="5914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 flipH="1">
            <a:off x="6086160" y="4638600"/>
            <a:ext cx="322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234040" y="3807000"/>
            <a:ext cx="55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653160" y="3462480"/>
                <a:ext cx="1897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699000" y="1387440"/>
                <a:ext cx="3267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4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3933720" y="2465280"/>
                <a:ext cx="4200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4046400" y="3454560"/>
                <a:ext cx="4232520" cy="87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8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4168800" y="4640400"/>
                <a:ext cx="1312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648000" y="531036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5765760" y="5207040"/>
                <a:ext cx="24591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611280" y="61149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3565440" y="6153120"/>
                <a:ext cx="1587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wspólnego kolektora - OC: wtórnik emi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87720" y="13064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41800" y="14223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046480" y="3635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1608120" y="682560"/>
            <a:ext cx="5101560" cy="2777760"/>
            <a:chOff x="1608120" y="682560"/>
            <a:chExt cx="5101560" cy="2777760"/>
          </a:xfrm>
        </p:grpSpPr>
        <p:sp>
          <p:nvSpPr>
            <p:cNvPr id="669" name=""/>
            <p:cNvSpPr/>
            <p:nvPr/>
          </p:nvSpPr>
          <p:spPr>
            <a:xfrm>
              <a:off x="5385960" y="2084760"/>
              <a:ext cx="0" cy="72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997080" y="2081880"/>
              <a:ext cx="49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27960" y="228744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01880" y="873360"/>
              <a:ext cx="173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88640" y="722160"/>
              <a:ext cx="10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88640" y="1264680"/>
              <a:ext cx="108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524760" y="958320"/>
              <a:ext cx="374760" cy="2847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051720" y="95004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99520" y="2223000"/>
              <a:ext cx="17388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88080" y="2072160"/>
              <a:ext cx="144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29200" y="2307240"/>
              <a:ext cx="374760" cy="2847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01920" y="2342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46520" y="682560"/>
              <a:ext cx="7380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72280" y="1805760"/>
              <a:ext cx="598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551760" y="1519920"/>
              <a:ext cx="522000" cy="4485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709080" y="1612080"/>
              <a:ext cx="7200" cy="254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3731400" y="1572120"/>
              <a:ext cx="256320" cy="9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3731400" y="1777320"/>
              <a:ext cx="156960" cy="92520"/>
              <a:chOff x="3731400" y="1777320"/>
              <a:chExt cx="156960" cy="92520"/>
            </a:xfrm>
          </p:grpSpPr>
          <p:sp>
            <p:nvSpPr>
              <p:cNvPr id="687" name=""/>
              <p:cNvSpPr/>
              <p:nvPr/>
            </p:nvSpPr>
            <p:spPr>
              <a:xfrm>
                <a:off x="3731400" y="1794960"/>
                <a:ext cx="156960" cy="70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761640" y="1777320"/>
                <a:ext cx="126720" cy="925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3889080" y="1867320"/>
              <a:ext cx="986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3551760" y="1746000"/>
              <a:ext cx="164880" cy="1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988080" y="1406880"/>
              <a:ext cx="1440" cy="15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61200" y="1743120"/>
              <a:ext cx="79632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4002840" y="1906920"/>
              <a:ext cx="1440" cy="1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83760" y="682560"/>
              <a:ext cx="612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129200" y="944280"/>
              <a:ext cx="374760" cy="286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01880" y="2208960"/>
              <a:ext cx="173880" cy="39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88640" y="1429920"/>
              <a:ext cx="1080" cy="79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52640" y="709560"/>
              <a:ext cx="3106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16520" y="1672200"/>
              <a:ext cx="317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94280" y="1724760"/>
              <a:ext cx="178200" cy="2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16520" y="1538280"/>
              <a:ext cx="317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894280" y="1595160"/>
              <a:ext cx="1782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77080" y="1724760"/>
              <a:ext cx="0" cy="10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77080" y="709560"/>
              <a:ext cx="0" cy="82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44520" y="682560"/>
              <a:ext cx="6768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933520" y="682560"/>
              <a:ext cx="7344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944520" y="2058120"/>
              <a:ext cx="67680" cy="53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185160" y="1471320"/>
              <a:ext cx="500760" cy="28296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271560" y="15069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04040" y="159516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41160" y="1193760"/>
              <a:ext cx="307440" cy="271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117120" y="123084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26400" y="1777320"/>
              <a:ext cx="308520" cy="271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36920" y="18028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4503960" y="1982520"/>
              <a:ext cx="49320" cy="201960"/>
              <a:chOff x="4503960" y="1982520"/>
              <a:chExt cx="49320" cy="201960"/>
            </a:xfrm>
          </p:grpSpPr>
          <p:sp>
            <p:nvSpPr>
              <p:cNvPr id="716" name=""/>
              <p:cNvSpPr/>
              <p:nvPr/>
            </p:nvSpPr>
            <p:spPr>
              <a:xfrm>
                <a:off x="4503960" y="1982520"/>
                <a:ext cx="0" cy="20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553280" y="1982520"/>
                <a:ext cx="0" cy="20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4564080" y="2089440"/>
              <a:ext cx="81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48320" y="1698840"/>
              <a:ext cx="7344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13600" y="2217600"/>
              <a:ext cx="166320" cy="438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5654160" y="2117520"/>
              <a:ext cx="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21760" y="2287440"/>
              <a:ext cx="43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55000" y="1727640"/>
              <a:ext cx="71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79200" y="18342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1755000" y="171720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rot="16200000">
              <a:off x="2003400" y="1574640"/>
              <a:ext cx="108000" cy="313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608120" y="2025000"/>
              <a:ext cx="338760" cy="31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755000" y="2082240"/>
              <a:ext cx="0" cy="2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870200" y="228456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23880" y="127044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970520" y="1413000"/>
              <a:ext cx="0" cy="195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88080" y="2615040"/>
              <a:ext cx="144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332600" y="24300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88640" y="2596320"/>
              <a:ext cx="108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08200" y="2796840"/>
              <a:ext cx="3362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846520" y="2767320"/>
              <a:ext cx="73800" cy="56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944520" y="2767320"/>
              <a:ext cx="67680" cy="56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33520" y="2767320"/>
              <a:ext cx="73440" cy="56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345280" y="2751480"/>
              <a:ext cx="7200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755000" y="279144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29160" y="3022200"/>
              <a:ext cx="538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813760" y="3036240"/>
              <a:ext cx="71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063760" y="3054600"/>
              <a:ext cx="55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4751280" y="305460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4118040" y="5159520"/>
            <a:ext cx="185760" cy="52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3249360" y="4650840"/>
            <a:ext cx="174600" cy="55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094440" y="5316480"/>
            <a:ext cx="426960" cy="455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105600" y="5060880"/>
            <a:ext cx="428400" cy="455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337440" y="5180040"/>
            <a:ext cx="0" cy="41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476600" y="530532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470480" y="5386320"/>
            <a:ext cx="33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5110200" y="4794120"/>
            <a:ext cx="0" cy="31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195880" y="4798800"/>
            <a:ext cx="0" cy="31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06840" y="493704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618000" y="4954680"/>
            <a:ext cx="14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4214880" y="495468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4645080" y="49546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214880" y="5688000"/>
            <a:ext cx="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662360" y="5391000"/>
            <a:ext cx="0" cy="66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498680" y="6019920"/>
            <a:ext cx="573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202360" y="497196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338880" y="4971960"/>
            <a:ext cx="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319800" y="577692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578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364160" y="468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211520" y="5807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78520" y="5257800"/>
            <a:ext cx="187560" cy="525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6972480" y="497196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989760" y="577692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056040" y="4336920"/>
            <a:ext cx="51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300120" y="52466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07080" y="5229360"/>
            <a:ext cx="74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207040" y="4468680"/>
            <a:ext cx="60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179840" y="52578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619520" y="5983200"/>
            <a:ext cx="7956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259680" y="5972040"/>
            <a:ext cx="7920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953400" y="5981760"/>
            <a:ext cx="7776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67360" y="4897440"/>
            <a:ext cx="806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00720" y="4943520"/>
            <a:ext cx="7776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943680" y="4925880"/>
            <a:ext cx="7956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4645080" y="41670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6338880" y="418428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620960" y="418464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95760" y="4925880"/>
            <a:ext cx="7776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3524400" y="6008760"/>
                <a:ext cx="11880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497400" y="6367320"/>
                <a:ext cx="43639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7" name=""/>
          <p:cNvSpPr/>
          <p:nvPr/>
        </p:nvSpPr>
        <p:spPr>
          <a:xfrm>
            <a:off x="1498680" y="4937040"/>
            <a:ext cx="1466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617920" y="438948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586560" y="4970520"/>
            <a:ext cx="3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709680" y="444672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7789680" y="5013360"/>
            <a:ext cx="437760" cy="1039320"/>
            <a:chOff x="7789680" y="5013360"/>
            <a:chExt cx="437760" cy="1039320"/>
          </a:xfrm>
        </p:grpSpPr>
        <p:sp>
          <p:nvSpPr>
            <p:cNvPr id="792" name=""/>
            <p:cNvSpPr/>
            <p:nvPr/>
          </p:nvSpPr>
          <p:spPr>
            <a:xfrm flipH="1">
              <a:off x="8040960" y="5256000"/>
              <a:ext cx="186120" cy="524880"/>
            </a:xfrm>
            <a:prstGeom prst="rect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8147160" y="5013360"/>
              <a:ext cx="0" cy="24408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789680" y="5029560"/>
              <a:ext cx="33876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147160" y="5780880"/>
              <a:ext cx="0" cy="2718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7795800" y="6031080"/>
              <a:ext cx="33876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8259480" y="468936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172040" y="5994360"/>
            <a:ext cx="7920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155520" y="4809960"/>
            <a:ext cx="1036440" cy="1225080"/>
            <a:chOff x="155520" y="4809960"/>
            <a:chExt cx="1036440" cy="1225080"/>
          </a:xfrm>
        </p:grpSpPr>
        <p:sp>
          <p:nvSpPr>
            <p:cNvPr id="800" name=""/>
            <p:cNvSpPr/>
            <p:nvPr/>
          </p:nvSpPr>
          <p:spPr>
            <a:xfrm>
              <a:off x="356400" y="4864320"/>
              <a:ext cx="83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56400" y="6032880"/>
              <a:ext cx="63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6880" y="4983480"/>
              <a:ext cx="57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356400" y="4851720"/>
              <a:ext cx="0" cy="11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rot="16200000">
              <a:off x="655560" y="4683600"/>
              <a:ext cx="117000" cy="36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5520" y="5201280"/>
              <a:ext cx="399600" cy="34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56400" y="5253120"/>
              <a:ext cx="0" cy="23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95720" y="5476680"/>
              <a:ext cx="50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3669840" y="4438800"/>
            <a:ext cx="49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b’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3889440" y="509220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259160" y="4451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16200000">
            <a:off x="5253840" y="3940920"/>
            <a:ext cx="149040" cy="509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6602400" y="3905280"/>
                <a:ext cx="2205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6850080" y="3225960"/>
                <a:ext cx="1897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606840" y="1427040"/>
                <a:ext cx="32986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7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086360" y="2536920"/>
                <a:ext cx="35798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3708360" y="3635280"/>
                <a:ext cx="49100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3751200" y="4454640"/>
                <a:ext cx="49039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3" name=""/>
          <p:cNvSpPr/>
          <p:nvPr/>
        </p:nvSpPr>
        <p:spPr>
          <a:xfrm>
            <a:off x="66096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5759280" y="5316480"/>
                <a:ext cx="26290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5" name=""/>
          <p:cNvSpPr/>
          <p:nvPr/>
        </p:nvSpPr>
        <p:spPr>
          <a:xfrm>
            <a:off x="68112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3836880" y="6165720"/>
                <a:ext cx="1042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5120" y="30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21040" y="25236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jako czwórnik,  parametry roboc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70320" y="1860480"/>
            <a:ext cx="2197080" cy="10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7400" y="206856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46800" y="2019240"/>
            <a:ext cx="10152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67400" y="262584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46800" y="2575080"/>
            <a:ext cx="101520" cy="9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206856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8120" y="2021040"/>
            <a:ext cx="100080" cy="9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62584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8120" y="2573280"/>
            <a:ext cx="10008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070600" y="2901960"/>
            <a:ext cx="144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4600" y="3321000"/>
            <a:ext cx="9972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298600">
            <a:off x="5029920" y="3320280"/>
            <a:ext cx="98640" cy="100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006440" y="2901960"/>
            <a:ext cx="180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32320" y="1766880"/>
            <a:ext cx="192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eliniow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2197080"/>
            <a:ext cx="14292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2480" y="2197080"/>
            <a:ext cx="14112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72320" y="2519280"/>
            <a:ext cx="144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2080" y="2625840"/>
            <a:ext cx="29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2080" y="2068560"/>
            <a:ext cx="29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72320" y="20685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36680" y="2625840"/>
            <a:ext cx="29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36680" y="2068560"/>
            <a:ext cx="29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36680" y="2519280"/>
            <a:ext cx="180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36680" y="2068560"/>
            <a:ext cx="180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08600" y="3411360"/>
            <a:ext cx="1440" cy="16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72040" y="3411360"/>
            <a:ext cx="1440" cy="16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26040" y="213840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91120" y="213840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16840" y="363996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silanie stałoprądowe (D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41320" y="2208240"/>
            <a:ext cx="23688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41320" y="2347920"/>
            <a:ext cx="23688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864800" y="2208240"/>
            <a:ext cx="1800" cy="41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862280" y="2625840"/>
            <a:ext cx="366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882440" y="2068560"/>
            <a:ext cx="366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882800" y="20685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920" y="2600280"/>
            <a:ext cx="50760" cy="49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5000" y="2049480"/>
            <a:ext cx="50760" cy="49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57120" y="2138400"/>
            <a:ext cx="43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581280"/>
            <a:ext cx="3968640" cy="555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79560" y="4987800"/>
            <a:ext cx="51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ólny schemat blokowy wzmacniacz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C + 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wspólnej bazy -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55520" y="3870360"/>
            <a:ext cx="8737920" cy="2730600"/>
            <a:chOff x="155520" y="3870360"/>
            <a:chExt cx="8737920" cy="2730600"/>
          </a:xfrm>
        </p:grpSpPr>
        <p:grpSp>
          <p:nvGrpSpPr>
            <p:cNvPr id="829" name=""/>
            <p:cNvGrpSpPr/>
            <p:nvPr/>
          </p:nvGrpSpPr>
          <p:grpSpPr>
            <a:xfrm>
              <a:off x="5640480" y="4649760"/>
              <a:ext cx="456480" cy="771120"/>
              <a:chOff x="5640480" y="4649760"/>
              <a:chExt cx="456480" cy="771120"/>
            </a:xfrm>
          </p:grpSpPr>
          <p:sp>
            <p:nvSpPr>
              <p:cNvPr id="830" name=""/>
              <p:cNvSpPr/>
              <p:nvPr/>
            </p:nvSpPr>
            <p:spPr>
              <a:xfrm flipV="1">
                <a:off x="5640480" y="4927680"/>
                <a:ext cx="444600" cy="49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652360" y="4649760"/>
                <a:ext cx="444600" cy="49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5892480" y="477792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952800" y="4915080"/>
              <a:ext cx="353880" cy="86760"/>
              <a:chOff x="3952800" y="4915080"/>
              <a:chExt cx="353880" cy="86760"/>
            </a:xfrm>
          </p:grpSpPr>
          <p:sp>
            <p:nvSpPr>
              <p:cNvPr id="834" name=""/>
              <p:cNvSpPr/>
              <p:nvPr/>
            </p:nvSpPr>
            <p:spPr>
              <a:xfrm>
                <a:off x="3959640" y="491508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952800" y="500184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1979640" y="451476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24160" y="4533840"/>
              <a:ext cx="18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4133880" y="45338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52960" y="50086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46240" y="5691240"/>
              <a:ext cx="585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894280" y="4552920"/>
              <a:ext cx="19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894280" y="4552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875200" y="542592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652040" y="4281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768720" y="3979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7080" y="5772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91280" y="4862520"/>
              <a:ext cx="19368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88120" y="455292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07200" y="542592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736360" y="481320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302000" y="4832280"/>
              <a:ext cx="77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287840" y="48639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2208240" y="4667040"/>
              <a:ext cx="0" cy="87300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67360" y="3870360"/>
              <a:ext cx="58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08320" y="5651640"/>
              <a:ext cx="828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11840" y="563868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97720" y="564984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854680" y="45226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599160" y="4514760"/>
              <a:ext cx="828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16200000">
              <a:off x="4787640" y="3882600"/>
              <a:ext cx="189000" cy="582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4133880" y="416232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133880" y="415440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5894280" y="415404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5178240" y="4154400"/>
              <a:ext cx="69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083120" y="450360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6" name=""/>
                <p:cNvSpPr txBox="1"/>
                <p:nvPr/>
              </p:nvSpPr>
              <p:spPr>
                <a:xfrm>
                  <a:off x="2970360" y="5678640"/>
                  <a:ext cx="12384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7" name=""/>
                <p:cNvSpPr txBox="1"/>
                <p:nvPr/>
              </p:nvSpPr>
              <p:spPr>
                <a:xfrm>
                  <a:off x="3094200" y="6067440"/>
                  <a:ext cx="42321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b</m:t>
                          </m:r>
                          <m:r>
                            <m:t xml:space="preserve">'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8" name=""/>
            <p:cNvSpPr/>
            <p:nvPr/>
          </p:nvSpPr>
          <p:spPr>
            <a:xfrm>
              <a:off x="1998720" y="451476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887120" y="392112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719240" y="428004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7397280" y="455148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435440" y="404640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8283960" y="4564080"/>
              <a:ext cx="455400" cy="1128240"/>
              <a:chOff x="8283960" y="4564080"/>
              <a:chExt cx="455400" cy="1128240"/>
            </a:xfrm>
          </p:grpSpPr>
          <p:sp>
            <p:nvSpPr>
              <p:cNvPr id="874" name=""/>
              <p:cNvSpPr/>
              <p:nvPr/>
            </p:nvSpPr>
            <p:spPr>
              <a:xfrm flipH="1">
                <a:off x="8545680" y="4827240"/>
                <a:ext cx="193680" cy="569520"/>
              </a:xfrm>
              <a:prstGeom prst="rect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8655480" y="4564080"/>
                <a:ext cx="0" cy="26496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8283960" y="4581360"/>
                <a:ext cx="35244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655480" y="5397120"/>
                <a:ext cx="0" cy="2952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8290440" y="5668560"/>
                <a:ext cx="35208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8316360" y="401796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463840" y="4838760"/>
              <a:ext cx="19368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2560680" y="452916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579760" y="54021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541600" y="562608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530440" y="44784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74280" y="4835520"/>
              <a:ext cx="56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62240" y="4851360"/>
              <a:ext cx="193680" cy="571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3259080" y="454176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78160" y="541512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40000" y="563868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28840" y="4491000"/>
              <a:ext cx="828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6432840" y="5113440"/>
              <a:ext cx="348840" cy="88560"/>
              <a:chOff x="6432840" y="5113440"/>
              <a:chExt cx="348840" cy="88560"/>
            </a:xfrm>
          </p:grpSpPr>
          <p:sp>
            <p:nvSpPr>
              <p:cNvPr id="892" name=""/>
              <p:cNvSpPr/>
              <p:nvPr/>
            </p:nvSpPr>
            <p:spPr>
              <a:xfrm flipH="1">
                <a:off x="6432840" y="520200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6439680" y="511344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4" name=""/>
            <p:cNvSpPr/>
            <p:nvPr/>
          </p:nvSpPr>
          <p:spPr>
            <a:xfrm>
              <a:off x="6640560" y="5200560"/>
              <a:ext cx="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640560" y="455292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45280" y="448956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83440" y="564516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155520" y="4440240"/>
              <a:ext cx="1077840" cy="1329480"/>
              <a:chOff x="155520" y="4440240"/>
              <a:chExt cx="1077840" cy="1329480"/>
            </a:xfrm>
          </p:grpSpPr>
          <p:sp>
            <p:nvSpPr>
              <p:cNvPr id="899" name=""/>
              <p:cNvSpPr/>
              <p:nvPr/>
            </p:nvSpPr>
            <p:spPr>
              <a:xfrm>
                <a:off x="364680" y="4499280"/>
                <a:ext cx="86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64680" y="576756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19840" y="462852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364680" y="4485600"/>
                <a:ext cx="0" cy="12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rot="16200000">
                <a:off x="671760" y="431172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55520" y="4865040"/>
                <a:ext cx="415440" cy="378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364680" y="492120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7960" y="5163840"/>
                <a:ext cx="50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7" name=""/>
          <p:cNvGrpSpPr/>
          <p:nvPr/>
        </p:nvGrpSpPr>
        <p:grpSpPr>
          <a:xfrm>
            <a:off x="674640" y="717480"/>
            <a:ext cx="6967440" cy="2670120"/>
            <a:chOff x="674640" y="717480"/>
            <a:chExt cx="6967440" cy="2670120"/>
          </a:xfrm>
        </p:grpSpPr>
        <p:sp>
          <p:nvSpPr>
            <p:cNvPr id="908" name=""/>
            <p:cNvSpPr/>
            <p:nvPr/>
          </p:nvSpPr>
          <p:spPr>
            <a:xfrm flipH="1" flipV="1">
              <a:off x="2289240" y="1032840"/>
              <a:ext cx="93672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2004840" y="103716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rot="5400000">
              <a:off x="3358800" y="943560"/>
              <a:ext cx="498960" cy="5223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3463560" y="1296720"/>
              <a:ext cx="297000" cy="6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3692520" y="1036800"/>
              <a:ext cx="117360" cy="245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3462480" y="1131840"/>
              <a:ext cx="107280" cy="150480"/>
              <a:chOff x="3462480" y="1131840"/>
              <a:chExt cx="107280" cy="150480"/>
            </a:xfrm>
          </p:grpSpPr>
          <p:sp>
            <p:nvSpPr>
              <p:cNvPr id="914" name=""/>
              <p:cNvSpPr/>
              <p:nvPr/>
            </p:nvSpPr>
            <p:spPr>
              <a:xfrm flipH="1" flipV="1">
                <a:off x="3467160" y="1131840"/>
                <a:ext cx="82080" cy="150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 rot="5400000">
                <a:off x="3455280" y="1139040"/>
                <a:ext cx="121320" cy="10728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"/>
            <p:cNvSpPr/>
            <p:nvPr/>
          </p:nvSpPr>
          <p:spPr>
            <a:xfrm flipH="1" flipV="1">
              <a:off x="3417840" y="1037160"/>
              <a:ext cx="46080" cy="94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3603240" y="1297080"/>
              <a:ext cx="1800" cy="157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3818880" y="1017000"/>
              <a:ext cx="256068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29920" y="10371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rot="5400000">
              <a:off x="5668560" y="999000"/>
              <a:ext cx="6300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rot="5400000">
              <a:off x="2451960" y="1014840"/>
              <a:ext cx="630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532120" y="2261160"/>
              <a:ext cx="330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5595840" y="2317320"/>
              <a:ext cx="185760" cy="2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5532120" y="2117160"/>
              <a:ext cx="330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5595840" y="2179440"/>
              <a:ext cx="185760" cy="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016680" y="2031120"/>
              <a:ext cx="3175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5753520" y="185220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5777280" y="24022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3063960" y="2206080"/>
              <a:ext cx="234720" cy="46080"/>
              <a:chOff x="3063960" y="2206080"/>
              <a:chExt cx="234720" cy="46080"/>
            </a:xfrm>
          </p:grpSpPr>
          <p:sp>
            <p:nvSpPr>
              <p:cNvPr id="930" name=""/>
              <p:cNvSpPr/>
              <p:nvPr/>
            </p:nvSpPr>
            <p:spPr>
              <a:xfrm flipH="1">
                <a:off x="3063960" y="2252160"/>
                <a:ext cx="234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>
                <a:off x="3063960" y="2206080"/>
                <a:ext cx="234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2247480" y="944280"/>
              <a:ext cx="50760" cy="215640"/>
              <a:chOff x="2247480" y="944280"/>
              <a:chExt cx="50760" cy="215640"/>
            </a:xfrm>
          </p:grpSpPr>
          <p:sp>
            <p:nvSpPr>
              <p:cNvPr id="933" name=""/>
              <p:cNvSpPr/>
              <p:nvPr/>
            </p:nvSpPr>
            <p:spPr>
              <a:xfrm>
                <a:off x="2298240" y="944280"/>
                <a:ext cx="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247480" y="944280"/>
                <a:ext cx="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 flipV="1">
              <a:off x="2486160" y="1023120"/>
              <a:ext cx="0" cy="163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87760" y="1451880"/>
              <a:ext cx="0" cy="122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13000" y="1827000"/>
              <a:ext cx="244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5692680" y="1044000"/>
              <a:ext cx="0" cy="10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rot="5400000">
              <a:off x="3567240" y="1797840"/>
              <a:ext cx="630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rot="5400000">
              <a:off x="5653800" y="1797120"/>
              <a:ext cx="630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2410560" y="1274400"/>
              <a:ext cx="181080" cy="428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5601600" y="1277280"/>
              <a:ext cx="17316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 rot="5400000">
              <a:off x="4053960" y="1587240"/>
              <a:ext cx="165960" cy="466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3486960" y="2005920"/>
              <a:ext cx="181080" cy="42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13000" y="227520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213000" y="18270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692680" y="2317320"/>
              <a:ext cx="0" cy="34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984640" y="121356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944720" y="123480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02480" y="1902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6391080" y="924480"/>
              <a:ext cx="52200" cy="215640"/>
              <a:chOff x="6391080" y="924480"/>
              <a:chExt cx="52200" cy="215640"/>
            </a:xfrm>
          </p:grpSpPr>
          <p:sp>
            <p:nvSpPr>
              <p:cNvPr id="952" name=""/>
              <p:cNvSpPr/>
              <p:nvPr/>
            </p:nvSpPr>
            <p:spPr>
              <a:xfrm>
                <a:off x="6443280" y="924480"/>
                <a:ext cx="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391080" y="924480"/>
                <a:ext cx="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>
              <a:off x="6459480" y="1026000"/>
              <a:ext cx="4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7642080" y="1200600"/>
              <a:ext cx="0" cy="12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874200" y="105300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674640" y="937080"/>
              <a:ext cx="1311120" cy="1729080"/>
              <a:chOff x="674640" y="937080"/>
              <a:chExt cx="1311120" cy="1729080"/>
            </a:xfrm>
          </p:grpSpPr>
          <p:sp>
            <p:nvSpPr>
              <p:cNvPr id="958" name=""/>
              <p:cNvSpPr/>
              <p:nvPr/>
            </p:nvSpPr>
            <p:spPr>
              <a:xfrm>
                <a:off x="928800" y="1013760"/>
                <a:ext cx="105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928800" y="2662920"/>
                <a:ext cx="80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110600" y="11818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V="1">
                <a:off x="928800" y="996120"/>
                <a:ext cx="0" cy="167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 rot="16200000">
                <a:off x="1298520" y="785880"/>
                <a:ext cx="165240" cy="46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74640" y="1489320"/>
                <a:ext cx="505440" cy="492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V="1">
                <a:off x="928800" y="1562040"/>
                <a:ext cx="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094040" y="187812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6" name=""/>
            <p:cNvSpPr/>
            <p:nvPr/>
          </p:nvSpPr>
          <p:spPr>
            <a:xfrm flipV="1">
              <a:off x="6915240" y="1027440"/>
              <a:ext cx="0" cy="16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6842880" y="1502640"/>
              <a:ext cx="17316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126560" y="156024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 rot="5400000">
              <a:off x="5649480" y="2620080"/>
              <a:ext cx="630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284560" y="2661480"/>
              <a:ext cx="46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rot="5400000">
              <a:off x="3555360" y="2632680"/>
              <a:ext cx="648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rot="5400000">
              <a:off x="3168720" y="2643120"/>
              <a:ext cx="6336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502440" y="27165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094200" y="2851920"/>
              <a:ext cx="21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 rot="5400000">
              <a:off x="2453760" y="2613240"/>
              <a:ext cx="6300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5760" y="71748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24440" y="2906640"/>
              <a:ext cx="538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338560" y="290412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984920" y="816120"/>
              <a:ext cx="0" cy="24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098320" y="2954520"/>
              <a:ext cx="55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4749480" y="287856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6689880" y="3387600"/>
                <a:ext cx="1995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064040" y="1387440"/>
                <a:ext cx="25336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6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4159080" y="2465280"/>
                <a:ext cx="27576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8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4145040" y="3468600"/>
                <a:ext cx="38224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0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4230720" y="466740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2" name=""/>
          <p:cNvSpPr/>
          <p:nvPr/>
        </p:nvSpPr>
        <p:spPr>
          <a:xfrm>
            <a:off x="66096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5562720" y="5492880"/>
                <a:ext cx="1042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4" name=""/>
          <p:cNvSpPr/>
          <p:nvPr/>
        </p:nvSpPr>
        <p:spPr>
          <a:xfrm>
            <a:off x="68112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3801960" y="6165720"/>
                <a:ext cx="11145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K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podstawowych konfiguracj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y tranzys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222120" y="1830240"/>
          <a:ext cx="875376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1830240"/>
                    <a:ext cx="875376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>
            <a:off x="228600" y="1074600"/>
            <a:ext cx="853452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5940360" y="1600200"/>
            <a:ext cx="3203640" cy="5257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959200" y="1600200"/>
            <a:ext cx="2820960" cy="52578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1600200"/>
            <a:ext cx="2820960" cy="5257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łączenia dwutranzysto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617200" y="102060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pracować w do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3019320" y="2428560"/>
            <a:ext cx="2560320" cy="2735640"/>
            <a:chOff x="3019320" y="2428560"/>
            <a:chExt cx="2560320" cy="2735640"/>
          </a:xfrm>
        </p:grpSpPr>
        <p:grpSp>
          <p:nvGrpSpPr>
            <p:cNvPr id="1007" name=""/>
            <p:cNvGrpSpPr/>
            <p:nvPr/>
          </p:nvGrpSpPr>
          <p:grpSpPr>
            <a:xfrm>
              <a:off x="3703320" y="4298760"/>
              <a:ext cx="792000" cy="493920"/>
              <a:chOff x="3703320" y="4298760"/>
              <a:chExt cx="792000" cy="493920"/>
            </a:xfrm>
          </p:grpSpPr>
          <p:sp>
            <p:nvSpPr>
              <p:cNvPr id="1008" name=""/>
              <p:cNvSpPr/>
              <p:nvPr/>
            </p:nvSpPr>
            <p:spPr>
              <a:xfrm>
                <a:off x="4230360" y="429912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4230360" y="429876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230360" y="4540680"/>
                <a:ext cx="26496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3703320" y="454068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291200" y="459324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3701880" y="3320280"/>
              <a:ext cx="791640" cy="493920"/>
              <a:chOff x="3701880" y="3320280"/>
              <a:chExt cx="791640" cy="493920"/>
            </a:xfrm>
          </p:grpSpPr>
          <p:sp>
            <p:nvSpPr>
              <p:cNvPr id="1014" name=""/>
              <p:cNvSpPr/>
              <p:nvPr/>
            </p:nvSpPr>
            <p:spPr>
              <a:xfrm>
                <a:off x="4228920" y="332064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V="1">
                <a:off x="4228920" y="332028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228920" y="3562200"/>
                <a:ext cx="26460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3701880" y="356220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289400" y="361476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>
              <a:off x="4485600" y="38066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708360" y="3461040"/>
              <a:ext cx="0" cy="21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91200" y="5006160"/>
              <a:ext cx="218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85600" y="478512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453920" y="4965840"/>
              <a:ext cx="6768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4475520" y="3049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394520" y="2662200"/>
              <a:ext cx="180720" cy="38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4475520" y="24285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716360" y="26352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019320" y="4785120"/>
              <a:ext cx="597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3390840" y="4543200"/>
              <a:ext cx="41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21680" y="3249360"/>
              <a:ext cx="6660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419000" y="5164200"/>
              <a:ext cx="13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54880" y="1600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37560" y="16002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skoda: OE-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1060560" y="5818320"/>
                <a:ext cx="109836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3746520" y="5726160"/>
                <a:ext cx="12794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3780000" y="614520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7" name=""/>
          <p:cNvSpPr/>
          <p:nvPr/>
        </p:nvSpPr>
        <p:spPr>
          <a:xfrm>
            <a:off x="245772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279360" y="2943360"/>
            <a:ext cx="2155320" cy="2033280"/>
            <a:chOff x="279360" y="2943360"/>
            <a:chExt cx="2155320" cy="2033280"/>
          </a:xfrm>
        </p:grpSpPr>
        <p:sp>
          <p:nvSpPr>
            <p:cNvPr id="1039" name=""/>
            <p:cNvSpPr/>
            <p:nvPr/>
          </p:nvSpPr>
          <p:spPr>
            <a:xfrm>
              <a:off x="1793520" y="3515760"/>
              <a:ext cx="1440" cy="49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1793520" y="3515400"/>
              <a:ext cx="252000" cy="2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793520" y="3762360"/>
              <a:ext cx="25200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1286640" y="3762360"/>
              <a:ext cx="506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282680" y="3277080"/>
              <a:ext cx="74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030040" y="2943360"/>
              <a:ext cx="0" cy="58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2044080" y="3988800"/>
              <a:ext cx="0" cy="7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857600" y="3826080"/>
              <a:ext cx="151560" cy="15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525600" y="3270240"/>
              <a:ext cx="760680" cy="504360"/>
              <a:chOff x="525600" y="3270240"/>
              <a:chExt cx="760680" cy="504360"/>
            </a:xfrm>
          </p:grpSpPr>
          <p:sp>
            <p:nvSpPr>
              <p:cNvPr id="1048" name=""/>
              <p:cNvSpPr/>
              <p:nvPr/>
            </p:nvSpPr>
            <p:spPr>
              <a:xfrm>
                <a:off x="1031760" y="3270240"/>
                <a:ext cx="1440" cy="49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1031760" y="3270240"/>
                <a:ext cx="251640" cy="24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031760" y="3517200"/>
                <a:ext cx="25452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525600" y="3517200"/>
                <a:ext cx="5061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090080" y="3570840"/>
                <a:ext cx="18504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1991160" y="3243960"/>
              <a:ext cx="651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9360" y="3121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068200" y="45169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335600" y="4419000"/>
              <a:ext cx="70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1343880" y="3755160"/>
              <a:ext cx="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06440" y="3707280"/>
              <a:ext cx="651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016360" y="4385880"/>
              <a:ext cx="65160" cy="6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281600" y="3900600"/>
              <a:ext cx="129240" cy="363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4816440" y="196704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6138720" y="1996920"/>
            <a:ext cx="2553120" cy="3864960"/>
            <a:chOff x="6138720" y="1996920"/>
            <a:chExt cx="2553120" cy="3864960"/>
          </a:xfrm>
        </p:grpSpPr>
        <p:grpSp>
          <p:nvGrpSpPr>
            <p:cNvPr id="1063" name=""/>
            <p:cNvGrpSpPr/>
            <p:nvPr/>
          </p:nvGrpSpPr>
          <p:grpSpPr>
            <a:xfrm>
              <a:off x="6493320" y="4140000"/>
              <a:ext cx="786240" cy="510480"/>
              <a:chOff x="6493320" y="4140000"/>
              <a:chExt cx="786240" cy="510480"/>
            </a:xfrm>
          </p:grpSpPr>
          <p:sp>
            <p:nvSpPr>
              <p:cNvPr id="1064" name=""/>
              <p:cNvSpPr/>
              <p:nvPr/>
            </p:nvSpPr>
            <p:spPr>
              <a:xfrm>
                <a:off x="7016760" y="414000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V="1">
                <a:off x="7016760" y="414000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016760" y="438984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6493320" y="438984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076880" y="444420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7757640" y="4149720"/>
              <a:ext cx="786240" cy="510480"/>
              <a:chOff x="7757640" y="4149720"/>
              <a:chExt cx="786240" cy="510480"/>
            </a:xfrm>
          </p:grpSpPr>
          <p:sp>
            <p:nvSpPr>
              <p:cNvPr id="1070" name=""/>
              <p:cNvSpPr/>
              <p:nvPr/>
            </p:nvSpPr>
            <p:spPr>
              <a:xfrm flipH="1">
                <a:off x="8019000" y="414972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 flipV="1">
                <a:off x="7760520" y="414972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7757640" y="439956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020800" y="439956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7769160" y="445392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>
              <a:off x="6364080" y="5023800"/>
              <a:ext cx="21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515720" y="4641120"/>
              <a:ext cx="0" cy="11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732800" y="3164040"/>
              <a:ext cx="6732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7764480" y="3836880"/>
              <a:ext cx="0" cy="2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83840" y="3436560"/>
              <a:ext cx="17928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7764480" y="2268720"/>
              <a:ext cx="0" cy="11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981200" y="34070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138720" y="4642560"/>
              <a:ext cx="593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6183000" y="4392720"/>
              <a:ext cx="41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853400" y="3968280"/>
              <a:ext cx="6613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609960" y="51660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7265160" y="463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7265520" y="3208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265520" y="3208680"/>
              <a:ext cx="49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423560" y="5157720"/>
              <a:ext cx="168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478280" y="459396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918200" y="1996920"/>
              <a:ext cx="77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616880" y="5351760"/>
              <a:ext cx="68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532000" y="4416480"/>
              <a:ext cx="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683400" y="5026680"/>
              <a:ext cx="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660000" y="499608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7223040" y="16002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-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5958000" y="5495760"/>
                <a:ext cx="1485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008760" y="612612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1"/>
          <a:stretch/>
        </p:blipFill>
        <p:spPr>
          <a:xfrm>
            <a:off x="585720" y="1035000"/>
            <a:ext cx="7972560" cy="513396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>
            <a:off x="3625920" y="1187280"/>
            <a:ext cx="1644480" cy="47880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539640" y="1523880"/>
            <a:ext cx="8045640" cy="506124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3759120" y="3675240"/>
            <a:ext cx="965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usk=3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" descr=""/>
          <p:cNvPicPr/>
          <p:nvPr/>
        </p:nvPicPr>
        <p:blipFill>
          <a:blip r:embed="rId1"/>
          <a:stretch/>
        </p:blipFill>
        <p:spPr>
          <a:xfrm>
            <a:off x="539640" y="1538280"/>
            <a:ext cx="8170920" cy="5138640"/>
          </a:xfrm>
          <a:prstGeom prst="rect">
            <a:avLst/>
          </a:prstGeom>
          <a:ln w="0">
            <a:noFill/>
          </a:ln>
        </p:spPr>
      </p:pic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- wyłączony tranzystor OB (Q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"/>
          <p:cNvGrpSpPr/>
          <p:nvPr/>
        </p:nvGrpSpPr>
        <p:grpSpPr>
          <a:xfrm>
            <a:off x="155520" y="1822320"/>
            <a:ext cx="8331840" cy="4335840"/>
            <a:chOff x="155520" y="1822320"/>
            <a:chExt cx="8331840" cy="4335840"/>
          </a:xfrm>
        </p:grpSpPr>
        <p:sp>
          <p:nvSpPr>
            <p:cNvPr id="1108" name=""/>
            <p:cNvSpPr/>
            <p:nvPr/>
          </p:nvSpPr>
          <p:spPr>
            <a:xfrm flipV="1">
              <a:off x="1416240" y="2145960"/>
              <a:ext cx="0" cy="33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1416240" y="5459400"/>
              <a:ext cx="687708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0" name=""/>
                <p:cNvSpPr txBox="1"/>
                <p:nvPr/>
              </p:nvSpPr>
              <p:spPr>
                <a:xfrm>
                  <a:off x="155520" y="1822320"/>
                  <a:ext cx="1152720" cy="85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11" name=""/>
            <p:cNvSpPr/>
            <p:nvPr/>
          </p:nvSpPr>
          <p:spPr>
            <a:xfrm>
              <a:off x="8221320" y="550872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324240" y="3370320"/>
              <a:ext cx="248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3" name=""/>
            <p:cNvGrpSpPr/>
            <p:nvPr/>
          </p:nvGrpSpPr>
          <p:grpSpPr>
            <a:xfrm>
              <a:off x="4438080" y="3370320"/>
              <a:ext cx="2991600" cy="1828440"/>
              <a:chOff x="4438080" y="3370320"/>
              <a:chExt cx="2991600" cy="1828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4438080" y="3370320"/>
                <a:ext cx="27406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105680" y="3983040"/>
                <a:ext cx="324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1560600" y="3370320"/>
              <a:ext cx="3321720" cy="1828440"/>
              <a:chOff x="1560600" y="3370320"/>
              <a:chExt cx="3321720" cy="1828440"/>
            </a:xfrm>
          </p:grpSpPr>
          <p:sp>
            <p:nvSpPr>
              <p:cNvPr id="1117" name=""/>
              <p:cNvSpPr/>
              <p:nvPr/>
            </p:nvSpPr>
            <p:spPr>
              <a:xfrm flipH="1">
                <a:off x="1838880" y="3370320"/>
                <a:ext cx="3043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1560600" y="3983040"/>
                <a:ext cx="35964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2927520" y="279396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240600" y="283068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486440" y="5759280"/>
              <a:ext cx="148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akres m.cz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47520" y="5724360"/>
              <a:ext cx="141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akres d.cz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066480" y="5724360"/>
              <a:ext cx="330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akres częstotliwości średni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720080" y="23860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808800" y="235116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88240" y="247320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1158840" y="209520"/>
            <a:ext cx="671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y przebieg modułu wzmocnienia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 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ęstotliwości f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984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dmitancja wejściowa układu z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ym równoległym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rot="5368800">
            <a:off x="4201920" y="2946240"/>
            <a:ext cx="1600200" cy="18288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087800" y="207000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868480" y="2298600"/>
            <a:ext cx="121932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768" y="0"/>
                </a:moveTo>
                <a:lnTo>
                  <a:pt x="0" y="0"/>
                </a:lnTo>
                <a:lnTo>
                  <a:pt x="0" y="1056"/>
                </a:lnTo>
                <a:lnTo>
                  <a:pt x="768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764320" y="2222640"/>
            <a:ext cx="1066680" cy="167616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96" y="1056"/>
                </a:moveTo>
                <a:lnTo>
                  <a:pt x="672" y="1056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1877760" y="3975120"/>
            <a:ext cx="904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64640" y="4216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42240" y="5346720"/>
            <a:ext cx="25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=(1-Ku)Y+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729480" y="3894120"/>
            <a:ext cx="77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731960" y="44290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413080" y="3387600"/>
            <a:ext cx="0" cy="1870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2759040" y="3971880"/>
            <a:ext cx="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844720" y="3921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781680" y="386388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328400" y="368460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194640" y="33876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203640" y="3971880"/>
            <a:ext cx="42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870280" y="2696760"/>
            <a:ext cx="0" cy="5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121560" y="257184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737400" y="42656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870280" y="409716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199880" y="1355760"/>
            <a:ext cx="6186600" cy="1042920"/>
            <a:chOff x="1199880" y="1355760"/>
            <a:chExt cx="6186600" cy="1042920"/>
          </a:xfrm>
        </p:grpSpPr>
        <p:sp>
          <p:nvSpPr>
            <p:cNvPr id="85" name=""/>
            <p:cNvSpPr/>
            <p:nvPr/>
          </p:nvSpPr>
          <p:spPr>
            <a:xfrm>
              <a:off x="3313080" y="1355760"/>
              <a:ext cx="2197080" cy="104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10160" y="1563480"/>
              <a:ext cx="77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89560" y="1514520"/>
              <a:ext cx="10152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10160" y="2120760"/>
              <a:ext cx="77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89560" y="2070000"/>
              <a:ext cx="10152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33320" y="1563480"/>
              <a:ext cx="77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50880" y="1515960"/>
              <a:ext cx="10008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33320" y="2120760"/>
              <a:ext cx="77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50880" y="2068560"/>
              <a:ext cx="10008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5320" y="166032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8160" y="1692360"/>
              <a:ext cx="142920" cy="32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45240" y="1692360"/>
              <a:ext cx="141120" cy="32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15080" y="2014560"/>
              <a:ext cx="14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14840" y="212076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14840" y="156348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5080" y="156348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79440" y="2120760"/>
              <a:ext cx="298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79440" y="1563480"/>
              <a:ext cx="298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79440" y="2014560"/>
              <a:ext cx="180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79440" y="1563480"/>
              <a:ext cx="180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68800" y="16333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33880" y="163332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84080" y="1703160"/>
              <a:ext cx="236520" cy="23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84080" y="1842840"/>
              <a:ext cx="236520" cy="23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1807560" y="1703160"/>
              <a:ext cx="1800" cy="41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804320" y="2120760"/>
              <a:ext cx="366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825560" y="1563480"/>
              <a:ext cx="366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825560" y="156348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55680" y="2095560"/>
              <a:ext cx="50760" cy="48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47760" y="1544400"/>
              <a:ext cx="50760" cy="49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99880" y="163332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8120" y="784080"/>
            <a:ext cx="82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t blokowy wzmacniaczy dla składowych zmiennoprądowych (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701880"/>
            <a:ext cx="57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 jako czwórnik [y] ze źródłem prąd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87880" y="4487760"/>
            <a:ext cx="2414520" cy="13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02400" y="47656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9560" y="4700520"/>
            <a:ext cx="1112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02400" y="55119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9560" y="5443560"/>
            <a:ext cx="1112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0360" y="4765680"/>
            <a:ext cx="857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47023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0360" y="5511960"/>
            <a:ext cx="857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54421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63800" y="4938840"/>
            <a:ext cx="15696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50160" y="4938840"/>
            <a:ext cx="15552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27920" y="5369040"/>
            <a:ext cx="1440" cy="15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97800" y="5511960"/>
            <a:ext cx="32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97800" y="4765680"/>
            <a:ext cx="32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792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511960"/>
            <a:ext cx="328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41560" y="4765680"/>
            <a:ext cx="328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41560" y="5369040"/>
            <a:ext cx="1440" cy="15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4156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05520" y="557856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8120" y="565452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96880" y="4952880"/>
            <a:ext cx="26064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96880" y="5140440"/>
            <a:ext cx="26064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633680" y="4952520"/>
            <a:ext cx="1440" cy="55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630440" y="5511960"/>
            <a:ext cx="403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652760" y="4765680"/>
            <a:ext cx="403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65276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16000" y="5477040"/>
            <a:ext cx="55800" cy="745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06640" y="4740120"/>
            <a:ext cx="55440" cy="74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5520" y="5591160"/>
            <a:ext cx="202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9960" y="49658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367000" y="48956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638760" y="4895640"/>
            <a:ext cx="180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01800" y="4770360"/>
            <a:ext cx="4176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051600" y="4770360"/>
            <a:ext cx="3348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42320" y="4896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4480" y="4896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87480" y="42829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56280" y="4206960"/>
            <a:ext cx="370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42080" y="4754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94360" y="4282920"/>
            <a:ext cx="35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350120" y="489240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04200" y="4968720"/>
            <a:ext cx="442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130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fekt Mi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764640" y="1641600"/>
            <a:ext cx="6769800" cy="4202640"/>
            <a:chOff x="764640" y="1641600"/>
            <a:chExt cx="6769800" cy="4202640"/>
          </a:xfrm>
        </p:grpSpPr>
        <p:sp>
          <p:nvSpPr>
            <p:cNvPr id="1151" name=""/>
            <p:cNvSpPr/>
            <p:nvPr/>
          </p:nvSpPr>
          <p:spPr>
            <a:xfrm rot="5368800">
              <a:off x="4152600" y="2933640"/>
              <a:ext cx="1600200" cy="182880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Ku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819520" y="2286000"/>
              <a:ext cx="1218960" cy="1676520"/>
            </a:xfrm>
            <a:custGeom>
              <a:avLst/>
              <a:gdLst/>
              <a:ahLst/>
              <a:rect l="l" t="t" r="r" b="b"/>
              <a:pathLst>
                <a:path w="768" h="1056">
                  <a:moveTo>
                    <a:pt x="768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768" y="10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15000" y="2286000"/>
              <a:ext cx="1066680" cy="160020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96" y="1056"/>
                  </a:moveTo>
                  <a:lnTo>
                    <a:pt x="672" y="1056"/>
                  </a:lnTo>
                  <a:lnTo>
                    <a:pt x="672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1828800" y="3962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64640" y="373392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92920" y="5334120"/>
              <a:ext cx="252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we=(1-Ku)C+c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57200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72428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962520" y="2286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4724280" y="2286000"/>
              <a:ext cx="106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786920" y="164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654960" y="3884760"/>
              <a:ext cx="87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1373400" y="1390680"/>
            <a:ext cx="6750720" cy="4355280"/>
            <a:chOff x="1373400" y="1390680"/>
            <a:chExt cx="6750720" cy="4355280"/>
          </a:xfrm>
        </p:grpSpPr>
        <p:sp>
          <p:nvSpPr>
            <p:cNvPr id="1165" name=""/>
            <p:cNvSpPr/>
            <p:nvPr/>
          </p:nvSpPr>
          <p:spPr>
            <a:xfrm>
              <a:off x="3537720" y="2003760"/>
              <a:ext cx="1800" cy="296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6" name=""/>
            <p:cNvGrpSpPr/>
            <p:nvPr/>
          </p:nvGrpSpPr>
          <p:grpSpPr>
            <a:xfrm>
              <a:off x="3825720" y="3133080"/>
              <a:ext cx="865800" cy="567360"/>
              <a:chOff x="3825720" y="3133080"/>
              <a:chExt cx="865800" cy="567360"/>
            </a:xfrm>
          </p:grpSpPr>
          <p:sp>
            <p:nvSpPr>
              <p:cNvPr id="1167" name=""/>
              <p:cNvSpPr/>
              <p:nvPr/>
            </p:nvSpPr>
            <p:spPr>
              <a:xfrm>
                <a:off x="44024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4402440" y="3133080"/>
                <a:ext cx="287640" cy="28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402440" y="3416760"/>
                <a:ext cx="287640" cy="28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4690080" y="3558240"/>
                <a:ext cx="1440" cy="140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>
                <a:off x="4546800" y="3698640"/>
                <a:ext cx="14292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3825720" y="3416760"/>
                <a:ext cx="5767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3" name=""/>
            <p:cNvSpPr/>
            <p:nvPr/>
          </p:nvSpPr>
          <p:spPr>
            <a:xfrm>
              <a:off x="4690440" y="2003760"/>
              <a:ext cx="2880" cy="114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547520" y="22856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4690440" y="3699360"/>
              <a:ext cx="2880" cy="88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690440" y="451368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54752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35160" y="1390680"/>
              <a:ext cx="39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67160" y="165600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58080" y="2496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1444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65408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690440" y="2993400"/>
              <a:ext cx="576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663920" y="4549320"/>
              <a:ext cx="1440" cy="423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521000" y="4981320"/>
              <a:ext cx="28728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6996600" y="4406760"/>
              <a:ext cx="180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85188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93000" y="22856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393000" y="39830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541320" y="2003760"/>
              <a:ext cx="14378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94352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5267160" y="2709720"/>
              <a:ext cx="145800" cy="565560"/>
              <a:chOff x="5267160" y="2709720"/>
              <a:chExt cx="145800" cy="565560"/>
            </a:xfrm>
          </p:grpSpPr>
          <p:sp>
            <p:nvSpPr>
              <p:cNvPr id="1193" name=""/>
              <p:cNvSpPr/>
              <p:nvPr/>
            </p:nvSpPr>
            <p:spPr>
              <a:xfrm>
                <a:off x="5267160" y="2709720"/>
                <a:ext cx="144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411160" y="2709720"/>
                <a:ext cx="180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2960640" y="3133440"/>
              <a:ext cx="145800" cy="565200"/>
              <a:chOff x="2960640" y="3133440"/>
              <a:chExt cx="145800" cy="565200"/>
            </a:xfrm>
          </p:grpSpPr>
          <p:sp>
            <p:nvSpPr>
              <p:cNvPr id="1196" name=""/>
              <p:cNvSpPr/>
              <p:nvPr/>
            </p:nvSpPr>
            <p:spPr>
              <a:xfrm>
                <a:off x="29606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105000" y="3133440"/>
                <a:ext cx="144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8" name=""/>
            <p:cNvSpPr/>
            <p:nvPr/>
          </p:nvSpPr>
          <p:spPr>
            <a:xfrm>
              <a:off x="3105720" y="3417480"/>
              <a:ext cx="8643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851880" y="3841560"/>
              <a:ext cx="289080" cy="565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411880" y="2993400"/>
              <a:ext cx="15843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996600" y="2993400"/>
              <a:ext cx="1800" cy="84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547520" y="41234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39300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448280" y="4123440"/>
              <a:ext cx="432360" cy="4258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1663920" y="3417480"/>
              <a:ext cx="1440" cy="705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1663920" y="341748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953000" y="3275640"/>
              <a:ext cx="573480" cy="28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538280" y="4096440"/>
              <a:ext cx="230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673360" y="2567880"/>
              <a:ext cx="1440" cy="2970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708960" y="2285640"/>
              <a:ext cx="1440" cy="32529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849360" y="5283720"/>
              <a:ext cx="127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bciążeni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373400" y="5425560"/>
              <a:ext cx="1719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źródło sygnał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22440" y="43362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79520" y="415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3346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095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97008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25720" y="4011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10500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95992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562520" y="40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284240" y="38700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1050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959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67160" y="2354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22440" y="217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09592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51920" y="40118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654080" y="295812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01720" y="338184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690440" y="384156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5987160" y="384120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699520" y="4265280"/>
              <a:ext cx="57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699520" y="4407120"/>
              <a:ext cx="5767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424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5987160" y="4406760"/>
              <a:ext cx="144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76600" y="3910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31520" y="37299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641840" y="378900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5416560" y="1411200"/>
            <a:ext cx="2292480" cy="16225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230976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139760" y="4275000"/>
            <a:ext cx="1800" cy="270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219400" y="3914640"/>
            <a:ext cx="18252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050840" y="4527720"/>
            <a:ext cx="1796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004760" y="4003560"/>
            <a:ext cx="271440" cy="27144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39760" y="3553920"/>
            <a:ext cx="180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139760" y="3554280"/>
            <a:ext cx="2070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319040" y="3463920"/>
            <a:ext cx="360360" cy="1825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127520" y="398772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533240" y="3240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458720" y="31240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12160" y="4049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38360" y="39322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286000" y="3532320"/>
            <a:ext cx="540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20976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121200" y="4527720"/>
            <a:ext cx="179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220840" y="4527720"/>
            <a:ext cx="1796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119400" y="3914640"/>
            <a:ext cx="18108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 flipV="1">
            <a:off x="2039760" y="3465000"/>
            <a:ext cx="90720" cy="88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2039760" y="3554280"/>
            <a:ext cx="90720" cy="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082600" y="3213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163600" y="3330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534400" y="31240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577960" y="324000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b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489040" y="3463920"/>
            <a:ext cx="360360" cy="1825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06200" y="3932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849400" y="404964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'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3300120" y="3735360"/>
            <a:ext cx="179640" cy="719280"/>
            <a:chOff x="3300120" y="3735360"/>
            <a:chExt cx="179640" cy="719280"/>
          </a:xfrm>
        </p:grpSpPr>
        <p:sp>
          <p:nvSpPr>
            <p:cNvPr id="1270" name=""/>
            <p:cNvSpPr/>
            <p:nvPr/>
          </p:nvSpPr>
          <p:spPr>
            <a:xfrm>
              <a:off x="3390840" y="3735360"/>
              <a:ext cx="1800" cy="71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3300120" y="3735360"/>
              <a:ext cx="9036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390840" y="3735360"/>
              <a:ext cx="889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3527280" y="4022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209760" y="3554280"/>
            <a:ext cx="126072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840120" y="3554280"/>
            <a:ext cx="180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660840" y="4005360"/>
            <a:ext cx="3585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60840" y="4094280"/>
            <a:ext cx="3585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40120" y="4094280"/>
            <a:ext cx="1800" cy="45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749760" y="4545000"/>
            <a:ext cx="1807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186000" y="3532320"/>
            <a:ext cx="540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16360" y="3532320"/>
            <a:ext cx="522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470480" y="3554280"/>
            <a:ext cx="144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89400" y="4005360"/>
            <a:ext cx="3603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289400" y="4094280"/>
            <a:ext cx="3603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70480" y="4094280"/>
            <a:ext cx="1440" cy="45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379760" y="4545000"/>
            <a:ext cx="1810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75000" y="3184560"/>
            <a:ext cx="17067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b’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1+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’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5729400" y="3554280"/>
            <a:ext cx="144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594400" y="4094280"/>
            <a:ext cx="271440" cy="27144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359400" y="3327480"/>
            <a:ext cx="476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27048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180120" y="4527720"/>
            <a:ext cx="179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178680" y="3914640"/>
            <a:ext cx="18252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640480" y="4546440"/>
            <a:ext cx="17928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94400" y="3914640"/>
            <a:ext cx="271440" cy="27144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729400" y="4005360"/>
            <a:ext cx="1440" cy="269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 flipV="1">
            <a:off x="5640120" y="4184280"/>
            <a:ext cx="88920" cy="90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5729400" y="4184280"/>
            <a:ext cx="90360" cy="90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594400" y="4094280"/>
            <a:ext cx="271440" cy="27144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960440" y="4029120"/>
            <a:ext cx="37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052960" y="414648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729400" y="3554280"/>
            <a:ext cx="5410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6719760" y="3735360"/>
            <a:ext cx="179640" cy="719280"/>
            <a:chOff x="6719760" y="3735360"/>
            <a:chExt cx="179640" cy="719280"/>
          </a:xfrm>
        </p:grpSpPr>
        <p:sp>
          <p:nvSpPr>
            <p:cNvPr id="1304" name=""/>
            <p:cNvSpPr/>
            <p:nvPr/>
          </p:nvSpPr>
          <p:spPr>
            <a:xfrm>
              <a:off x="6810480" y="3735360"/>
              <a:ext cx="1440" cy="71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6719760" y="3735360"/>
              <a:ext cx="907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810480" y="3735360"/>
              <a:ext cx="889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7" name=""/>
          <p:cNvSpPr/>
          <p:nvPr/>
        </p:nvSpPr>
        <p:spPr>
          <a:xfrm flipV="1">
            <a:off x="51912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052960" y="22874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23400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144440" y="2470320"/>
            <a:ext cx="1800" cy="276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24640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052640" y="2728800"/>
            <a:ext cx="1825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006560" y="21956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1144440" y="1734840"/>
            <a:ext cx="180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4440" y="1735200"/>
            <a:ext cx="2114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327320" y="164304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124640" y="217656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543680" y="141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461240" y="1295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647080" y="223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66080" y="21207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1326600" y="2120760"/>
            <a:ext cx="230400" cy="371880"/>
            <a:chOff x="1326600" y="2120760"/>
            <a:chExt cx="230400" cy="371880"/>
          </a:xfrm>
        </p:grpSpPr>
        <p:sp>
          <p:nvSpPr>
            <p:cNvPr id="1323" name=""/>
            <p:cNvSpPr/>
            <p:nvPr/>
          </p:nvSpPr>
          <p:spPr>
            <a:xfrm>
              <a:off x="1470960" y="230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326600" y="21207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231624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259080" y="1735200"/>
            <a:ext cx="180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6692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2478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165480" y="2101680"/>
            <a:ext cx="18720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57420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64984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696360" y="19652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612840" y="18464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719680" y="1712880"/>
            <a:ext cx="5076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478560" y="173520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38640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6498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38496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966640" y="2120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017400" y="223992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45480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191200" y="1735200"/>
            <a:ext cx="2022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213680" y="173520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12152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0990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12152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364880" y="21207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7680240" y="1936800"/>
            <a:ext cx="184320" cy="735120"/>
            <a:chOff x="7680240" y="1936800"/>
            <a:chExt cx="184320" cy="735120"/>
          </a:xfrm>
        </p:grpSpPr>
        <p:sp>
          <p:nvSpPr>
            <p:cNvPr id="1349" name=""/>
            <p:cNvSpPr/>
            <p:nvPr/>
          </p:nvSpPr>
          <p:spPr>
            <a:xfrm>
              <a:off x="7772400" y="193680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7680240" y="193680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772400" y="193680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7711920" y="1500120"/>
            <a:ext cx="501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6699ff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16744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51520" y="2101680"/>
            <a:ext cx="277560" cy="27792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191200" y="2195640"/>
            <a:ext cx="144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 flipV="1">
            <a:off x="5099040" y="2378160"/>
            <a:ext cx="9216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5191200" y="2378160"/>
            <a:ext cx="9216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051520" y="2286000"/>
            <a:ext cx="277560" cy="27792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 flipV="1">
            <a:off x="2063520" y="1643040"/>
            <a:ext cx="9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2063520" y="1735200"/>
            <a:ext cx="9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105640" y="13874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188080" y="1504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565360" y="12952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612880" y="141444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b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522520" y="164304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839320" y="2120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889000" y="223992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'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8" name=""/>
          <p:cNvGrpSpPr/>
          <p:nvPr/>
        </p:nvGrpSpPr>
        <p:grpSpPr>
          <a:xfrm>
            <a:off x="3351240" y="1919160"/>
            <a:ext cx="183960" cy="735120"/>
            <a:chOff x="3351240" y="1919160"/>
            <a:chExt cx="183960" cy="735120"/>
          </a:xfrm>
        </p:grpSpPr>
        <p:sp>
          <p:nvSpPr>
            <p:cNvPr id="1369" name=""/>
            <p:cNvSpPr/>
            <p:nvPr/>
          </p:nvSpPr>
          <p:spPr>
            <a:xfrm>
              <a:off x="3443400" y="191916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3351240" y="191916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443400" y="1919160"/>
              <a:ext cx="9180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3577320" y="22129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534200" y="200988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627440" y="212868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259080" y="1735200"/>
            <a:ext cx="1563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203720" y="173520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019400" y="219564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019400" y="228600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203720" y="228600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111560" y="2746440"/>
            <a:ext cx="182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822920" y="1552680"/>
            <a:ext cx="1440" cy="3664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915080" y="1552680"/>
            <a:ext cx="1440" cy="3664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915080" y="1735200"/>
            <a:ext cx="276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236760" y="1712880"/>
            <a:ext cx="5112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179960" y="1712880"/>
            <a:ext cx="5076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3346560" y="5392800"/>
            <a:ext cx="1440" cy="100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209760" y="594360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143000" y="6126120"/>
            <a:ext cx="1440" cy="276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052640" y="6384960"/>
            <a:ext cx="182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006560" y="58514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1143000" y="5392800"/>
            <a:ext cx="144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143000" y="5392800"/>
            <a:ext cx="11016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325520" y="5300640"/>
            <a:ext cx="368280" cy="1843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123920" y="583416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419120" y="4952880"/>
            <a:ext cx="298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15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897360" y="5392800"/>
            <a:ext cx="1440" cy="100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805200" y="6384960"/>
            <a:ext cx="184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805200" y="5759280"/>
            <a:ext cx="185760" cy="36864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254400" y="6384960"/>
            <a:ext cx="1839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517760" y="55976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1693800" y="5576760"/>
            <a:ext cx="184320" cy="733680"/>
            <a:chOff x="1693800" y="5576760"/>
            <a:chExt cx="184320" cy="733680"/>
          </a:xfrm>
        </p:grpSpPr>
        <p:sp>
          <p:nvSpPr>
            <p:cNvPr id="1402" name=""/>
            <p:cNvSpPr/>
            <p:nvPr/>
          </p:nvSpPr>
          <p:spPr>
            <a:xfrm>
              <a:off x="1785960" y="5576760"/>
              <a:ext cx="1440" cy="73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169380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78596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5" name=""/>
          <p:cNvSpPr/>
          <p:nvPr/>
        </p:nvSpPr>
        <p:spPr>
          <a:xfrm>
            <a:off x="3208320" y="5759280"/>
            <a:ext cx="277920" cy="27648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346560" y="5851440"/>
            <a:ext cx="144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 flipV="1">
            <a:off x="3254400" y="6035400"/>
            <a:ext cx="92160" cy="9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3346560" y="6035400"/>
            <a:ext cx="91800" cy="9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208320" y="5942160"/>
            <a:ext cx="277920" cy="27756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928960" y="559440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013560" y="571356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244600" y="5392800"/>
            <a:ext cx="180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062080" y="5851440"/>
            <a:ext cx="36684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062080" y="594360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244600" y="5943600"/>
            <a:ext cx="180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52800" y="6402240"/>
            <a:ext cx="18396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346560" y="5392800"/>
            <a:ext cx="550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157480" y="5060880"/>
            <a:ext cx="326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9" name=""/>
          <p:cNvGrpSpPr/>
          <p:nvPr/>
        </p:nvGrpSpPr>
        <p:grpSpPr>
          <a:xfrm>
            <a:off x="4356000" y="5576760"/>
            <a:ext cx="184320" cy="733680"/>
            <a:chOff x="4356000" y="5576760"/>
            <a:chExt cx="184320" cy="733680"/>
          </a:xfrm>
        </p:grpSpPr>
        <p:sp>
          <p:nvSpPr>
            <p:cNvPr id="1420" name=""/>
            <p:cNvSpPr/>
            <p:nvPr/>
          </p:nvSpPr>
          <p:spPr>
            <a:xfrm>
              <a:off x="4448160" y="5576760"/>
              <a:ext cx="1440" cy="73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435600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4816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5317920" y="5403960"/>
            <a:ext cx="173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 sk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 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203440" y="4834080"/>
            <a:ext cx="313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(1+g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659040" y="229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b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514040" y="11620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b’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0532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954600" y="4689360"/>
            <a:ext cx="57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3276720" y="4952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1320120" y="4000680"/>
            <a:ext cx="230400" cy="371520"/>
            <a:chOff x="1320120" y="4000680"/>
            <a:chExt cx="230400" cy="371520"/>
          </a:xfrm>
        </p:grpSpPr>
        <p:sp>
          <p:nvSpPr>
            <p:cNvPr id="1431" name=""/>
            <p:cNvSpPr/>
            <p:nvPr/>
          </p:nvSpPr>
          <p:spPr>
            <a:xfrm>
              <a:off x="1464480" y="418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320120" y="400068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3" name=""/>
          <p:cNvGrpSpPr/>
          <p:nvPr/>
        </p:nvGrpSpPr>
        <p:grpSpPr>
          <a:xfrm>
            <a:off x="1356120" y="5783400"/>
            <a:ext cx="314640" cy="371520"/>
            <a:chOff x="1356120" y="5783400"/>
            <a:chExt cx="314640" cy="371520"/>
          </a:xfrm>
        </p:grpSpPr>
        <p:sp>
          <p:nvSpPr>
            <p:cNvPr id="1434" name=""/>
            <p:cNvSpPr/>
            <p:nvPr/>
          </p:nvSpPr>
          <p:spPr>
            <a:xfrm>
              <a:off x="1500840" y="5972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56120" y="5783400"/>
              <a:ext cx="31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 `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6" name=""/>
          <p:cNvSpPr/>
          <p:nvPr/>
        </p:nvSpPr>
        <p:spPr>
          <a:xfrm>
            <a:off x="3506400" y="3156120"/>
            <a:ext cx="50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971040" y="38433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690080" y="581184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81280" y="1060560"/>
            <a:ext cx="2892600" cy="527040"/>
          </a:xfrm>
          <a:custGeom>
            <a:avLst/>
            <a:gdLst/>
            <a:ahLst/>
            <a:rect l="l" t="t" r="r" b="b"/>
            <a:pathLst>
              <a:path w="1822" h="332">
                <a:moveTo>
                  <a:pt x="0" y="310"/>
                </a:moveTo>
                <a:cubicBezTo>
                  <a:pt x="55" y="255"/>
                  <a:pt x="111" y="200"/>
                  <a:pt x="200" y="154"/>
                </a:cubicBezTo>
                <a:cubicBezTo>
                  <a:pt x="289" y="108"/>
                  <a:pt x="418" y="56"/>
                  <a:pt x="533" y="32"/>
                </a:cubicBezTo>
                <a:cubicBezTo>
                  <a:pt x="648" y="8"/>
                  <a:pt x="774" y="6"/>
                  <a:pt x="889" y="10"/>
                </a:cubicBezTo>
                <a:cubicBezTo>
                  <a:pt x="1004" y="14"/>
                  <a:pt x="1067" y="0"/>
                  <a:pt x="1222" y="54"/>
                </a:cubicBezTo>
                <a:cubicBezTo>
                  <a:pt x="1377" y="108"/>
                  <a:pt x="1722" y="286"/>
                  <a:pt x="1822" y="3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44480" y="1017720"/>
            <a:ext cx="169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-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420520" y="5950080"/>
            <a:ext cx="115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U/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954600" y="5330880"/>
            <a:ext cx="476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4" name=""/>
          <p:cNvGraphicFramePr/>
          <p:nvPr/>
        </p:nvGraphicFramePr>
        <p:xfrm>
          <a:off x="990720" y="4267080"/>
          <a:ext cx="2361960" cy="13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267080"/>
                    <a:ext cx="236196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990720" y="5791320"/>
                <a:ext cx="2666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47" name=""/>
          <p:cNvGraphicFramePr/>
          <p:nvPr/>
        </p:nvGraphicFramePr>
        <p:xfrm>
          <a:off x="5025960" y="4454640"/>
          <a:ext cx="3557520" cy="24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5960" y="4454640"/>
                    <a:ext cx="355752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135840" y="1108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59520" y="25560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135840" y="16416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97600" y="1641600"/>
            <a:ext cx="106704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027920" y="1239840"/>
            <a:ext cx="98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737400" y="25210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8178480" y="1987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145200" y="1630440"/>
            <a:ext cx="2271600" cy="93024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063560" y="165096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92920" y="164628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616040" y="3716280"/>
            <a:ext cx="50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całkujący RC (pierwszego rzęd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159240" y="911160"/>
            <a:ext cx="8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 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588960" y="1049400"/>
            <a:ext cx="5340240" cy="2674800"/>
            <a:chOff x="588960" y="1049400"/>
            <a:chExt cx="5340240" cy="2674800"/>
          </a:xfrm>
        </p:grpSpPr>
        <mc:AlternateContent>
          <mc:Choice xmlns:a14="http://schemas.microsoft.com/office/drawing/2010/main" Requires="a14">
            <p:sp>
              <p:nvSpPr>
                <p:cNvPr id="1463" name=""/>
                <p:cNvSpPr txBox="1"/>
                <p:nvPr/>
              </p:nvSpPr>
              <p:spPr>
                <a:xfrm>
                  <a:off x="588960" y="1049400"/>
                  <a:ext cx="5340240" cy="24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usk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j</m:t>
                              </m:r>
                              <m:r>
                                <m:t xml:space="preserve">ω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ω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f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dzie: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=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Π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64" name=""/>
            <p:cNvSpPr/>
            <p:nvPr/>
          </p:nvSpPr>
          <p:spPr>
            <a:xfrm>
              <a:off x="4230720" y="2895480"/>
              <a:ext cx="198360" cy="828720"/>
            </a:xfrm>
            <a:prstGeom prst="downArrow">
              <a:avLst>
                <a:gd name="adj1" fmla="val 50000"/>
                <a:gd name="adj2" fmla="val 104446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/>
          <p:nvPr/>
        </p:nvSpPr>
        <p:spPr>
          <a:xfrm>
            <a:off x="2490840" y="1049400"/>
            <a:ext cx="0" cy="315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354400" y="3770280"/>
            <a:ext cx="465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490840" y="2052720"/>
            <a:ext cx="13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860640" y="2052720"/>
            <a:ext cx="1916280" cy="171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152720" y="1789200"/>
            <a:ext cx="114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565440" y="37051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160680" y="2703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08120" y="2031840"/>
            <a:ext cx="4081680" cy="174816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56920" y="207000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851280" y="206064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451240" y="4603680"/>
            <a:ext cx="453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486160" y="435600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487600" y="4603680"/>
            <a:ext cx="3510000" cy="1305000"/>
          </a:xfrm>
          <a:custGeom>
            <a:avLst/>
            <a:gdLst/>
            <a:ahLst/>
            <a:rect l="l" t="t" r="r" b="b"/>
            <a:pathLst>
              <a:path w="2211" h="644">
                <a:moveTo>
                  <a:pt x="0" y="0"/>
                </a:moveTo>
                <a:lnTo>
                  <a:pt x="867" y="0"/>
                </a:lnTo>
                <a:lnTo>
                  <a:pt x="867" y="633"/>
                </a:lnTo>
                <a:lnTo>
                  <a:pt x="2211" y="6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490840" y="4610160"/>
            <a:ext cx="3500280" cy="1270080"/>
          </a:xfrm>
          <a:custGeom>
            <a:avLst/>
            <a:gdLst/>
            <a:ahLst/>
            <a:rect l="l" t="t" r="r" b="b"/>
            <a:pathLst>
              <a:path w="2205" h="633">
                <a:moveTo>
                  <a:pt x="0" y="0"/>
                </a:moveTo>
                <a:cubicBezTo>
                  <a:pt x="122" y="7"/>
                  <a:pt x="274" y="30"/>
                  <a:pt x="390" y="66"/>
                </a:cubicBezTo>
                <a:cubicBezTo>
                  <a:pt x="506" y="102"/>
                  <a:pt x="617" y="175"/>
                  <a:pt x="696" y="216"/>
                </a:cubicBezTo>
                <a:cubicBezTo>
                  <a:pt x="775" y="257"/>
                  <a:pt x="809" y="281"/>
                  <a:pt x="867" y="315"/>
                </a:cubicBezTo>
                <a:cubicBezTo>
                  <a:pt x="925" y="349"/>
                  <a:pt x="951" y="383"/>
                  <a:pt x="1047" y="423"/>
                </a:cubicBezTo>
                <a:cubicBezTo>
                  <a:pt x="1143" y="463"/>
                  <a:pt x="1302" y="524"/>
                  <a:pt x="1440" y="555"/>
                </a:cubicBezTo>
                <a:cubicBezTo>
                  <a:pt x="1578" y="586"/>
                  <a:pt x="1751" y="596"/>
                  <a:pt x="1878" y="609"/>
                </a:cubicBezTo>
                <a:cubicBezTo>
                  <a:pt x="2005" y="622"/>
                  <a:pt x="2120" y="631"/>
                  <a:pt x="2205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48240" y="60800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92040" y="4246560"/>
            <a:ext cx="8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2415960" y="52563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733120" y="1071720"/>
            <a:ext cx="76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4751280" y="1157400"/>
                <a:ext cx="32832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+c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+as+b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c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905360" y="3443400"/>
                <a:ext cx="2511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87" name=""/>
          <p:cNvSpPr/>
          <p:nvPr/>
        </p:nvSpPr>
        <p:spPr>
          <a:xfrm flipV="1">
            <a:off x="241776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817560" y="2232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412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03440" y="2003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817560" y="1622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817560" y="162252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969840" y="1546200"/>
            <a:ext cx="30348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800640" y="1989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0789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0731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969120" y="1943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488040" y="1714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4084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3321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3321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9322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3414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23120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1274760" y="1774800"/>
            <a:ext cx="152280" cy="609480"/>
            <a:chOff x="1274760" y="1774800"/>
            <a:chExt cx="152280" cy="609480"/>
          </a:xfrm>
        </p:grpSpPr>
        <p:sp>
          <p:nvSpPr>
            <p:cNvPr id="1507" name=""/>
            <p:cNvSpPr/>
            <p:nvPr/>
          </p:nvSpPr>
          <p:spPr>
            <a:xfrm>
              <a:off x="13510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12747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3510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2303640" y="19270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417760" y="2003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H="1" flipV="1">
            <a:off x="234144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241776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1884240" y="162252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808280" y="24606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417760" y="1622520"/>
            <a:ext cx="99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86516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5361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3789360" y="1774800"/>
            <a:ext cx="152280" cy="609480"/>
            <a:chOff x="3789360" y="1774800"/>
            <a:chExt cx="152280" cy="609480"/>
          </a:xfrm>
        </p:grpSpPr>
        <p:sp>
          <p:nvSpPr>
            <p:cNvPr id="1521" name=""/>
            <p:cNvSpPr/>
            <p:nvPr/>
          </p:nvSpPr>
          <p:spPr>
            <a:xfrm>
              <a:off x="38656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37893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8656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4" name=""/>
          <p:cNvSpPr/>
          <p:nvPr/>
        </p:nvSpPr>
        <p:spPr>
          <a:xfrm>
            <a:off x="180828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1494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3017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06964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112840" y="204156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9512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8749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8749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3320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130560" y="1812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060000" y="1714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50336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57968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579680" y="1622520"/>
            <a:ext cx="304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6066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731960" y="1317600"/>
            <a:ext cx="1447920" cy="14479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246852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868320" y="396864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920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54200" y="37400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868320" y="3359160"/>
            <a:ext cx="18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868320" y="335916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020600" y="3282840"/>
            <a:ext cx="30348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851760" y="3726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12968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1239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019880" y="3679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538800" y="345132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459240" y="335916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382920" y="41832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38292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3922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28196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7" name=""/>
          <p:cNvGrpSpPr/>
          <p:nvPr/>
        </p:nvGrpSpPr>
        <p:grpSpPr>
          <a:xfrm>
            <a:off x="1325520" y="3511440"/>
            <a:ext cx="152280" cy="609840"/>
            <a:chOff x="1325520" y="3511440"/>
            <a:chExt cx="152280" cy="609840"/>
          </a:xfrm>
        </p:grpSpPr>
        <p:sp>
          <p:nvSpPr>
            <p:cNvPr id="1558" name=""/>
            <p:cNvSpPr/>
            <p:nvPr/>
          </p:nvSpPr>
          <p:spPr>
            <a:xfrm>
              <a:off x="14018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13255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4018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1" name=""/>
          <p:cNvSpPr/>
          <p:nvPr/>
        </p:nvSpPr>
        <p:spPr>
          <a:xfrm flipV="1">
            <a:off x="193500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859040" y="419724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468520" y="3359160"/>
            <a:ext cx="838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91628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33936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3840120" y="3511440"/>
            <a:ext cx="152280" cy="609840"/>
            <a:chOff x="3840120" y="3511440"/>
            <a:chExt cx="152280" cy="609840"/>
          </a:xfrm>
        </p:grpSpPr>
        <p:sp>
          <p:nvSpPr>
            <p:cNvPr id="1567" name=""/>
            <p:cNvSpPr/>
            <p:nvPr/>
          </p:nvSpPr>
          <p:spPr>
            <a:xfrm>
              <a:off x="39164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3840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9164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"/>
          <p:cNvSpPr/>
          <p:nvPr/>
        </p:nvSpPr>
        <p:spPr>
          <a:xfrm>
            <a:off x="185904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200240" y="3092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3525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12040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163600" y="377820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8276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876760" y="316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806200" y="3070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30660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38292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382920" y="3359160"/>
            <a:ext cx="76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382200" y="3092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782720" y="3054240"/>
            <a:ext cx="1447920" cy="12193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697120" y="328284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354400" y="36640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451960" y="36496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2620800" y="3511440"/>
            <a:ext cx="152640" cy="609840"/>
            <a:chOff x="2620800" y="3511440"/>
            <a:chExt cx="152640" cy="609840"/>
          </a:xfrm>
        </p:grpSpPr>
        <p:sp>
          <p:nvSpPr>
            <p:cNvPr id="1587" name=""/>
            <p:cNvSpPr/>
            <p:nvPr/>
          </p:nvSpPr>
          <p:spPr>
            <a:xfrm>
              <a:off x="2697120" y="351144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262080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697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0" name=""/>
          <p:cNvSpPr/>
          <p:nvPr/>
        </p:nvSpPr>
        <p:spPr>
          <a:xfrm flipV="1">
            <a:off x="2467080" y="491616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866880" y="5526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90560" y="57405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52400" y="5297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866880" y="4916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866880" y="491652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019160" y="484020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849960" y="528336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128240" y="4551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1224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01844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070880" y="5008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9909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9146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9146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51468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352600" y="522144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467080" y="5297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H="1" flipV="1">
            <a:off x="2390760" y="544968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2467080" y="544968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19335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467080" y="491652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4480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5" name=""/>
          <p:cNvGrpSpPr/>
          <p:nvPr/>
        </p:nvGrpSpPr>
        <p:grpSpPr>
          <a:xfrm>
            <a:off x="4371840" y="5068800"/>
            <a:ext cx="152640" cy="609840"/>
            <a:chOff x="4371840" y="5068800"/>
            <a:chExt cx="152640" cy="609840"/>
          </a:xfrm>
        </p:grpSpPr>
        <p:sp>
          <p:nvSpPr>
            <p:cNvPr id="1616" name=""/>
            <p:cNvSpPr/>
            <p:nvPr/>
          </p:nvSpPr>
          <p:spPr>
            <a:xfrm>
              <a:off x="4448160" y="506880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43718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44816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18572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198800" y="4649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655640" y="5335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5337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4574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380960" y="4897440"/>
            <a:ext cx="432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713760" y="5106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642840" y="5008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90520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92428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847960" y="5221440"/>
            <a:ext cx="1522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4574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933560" y="5754600"/>
            <a:ext cx="990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390760" y="590724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3907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924280" y="57546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771640" y="5983200"/>
            <a:ext cx="304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771640" y="605952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924280" y="6059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8479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58508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 flipV="1">
            <a:off x="1628640" y="4840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1628640" y="491652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661760" y="46274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265480" y="472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195280" y="462744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103560" y="5030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032640" y="4932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29052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280520" y="5237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1323720" y="5068800"/>
            <a:ext cx="152640" cy="609840"/>
            <a:chOff x="1323720" y="5068800"/>
            <a:chExt cx="152640" cy="609840"/>
          </a:xfrm>
        </p:grpSpPr>
        <p:sp>
          <p:nvSpPr>
            <p:cNvPr id="1652" name=""/>
            <p:cNvSpPr/>
            <p:nvPr/>
          </p:nvSpPr>
          <p:spPr>
            <a:xfrm>
              <a:off x="1400040" y="506880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1323720" y="5068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4000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13510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814040" y="59990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1857240" y="5830920"/>
            <a:ext cx="152640" cy="609480"/>
            <a:chOff x="1857240" y="5830920"/>
            <a:chExt cx="152640" cy="609480"/>
          </a:xfrm>
        </p:grpSpPr>
        <p:sp>
          <p:nvSpPr>
            <p:cNvPr id="1658" name=""/>
            <p:cNvSpPr/>
            <p:nvPr/>
          </p:nvSpPr>
          <p:spPr>
            <a:xfrm>
              <a:off x="1933560" y="583092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185724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3356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1884600" y="6097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1949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2658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1093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1802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949560" y="2746440"/>
            <a:ext cx="50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w. o stałych czasowych zwarciow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4078800" y="18669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131360" y="35956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731120" y="51832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1" name=""/>
              <p:cNvSpPr txBox="1"/>
              <p:nvPr/>
            </p:nvSpPr>
            <p:spPr>
              <a:xfrm>
                <a:off x="2700360" y="1752480"/>
                <a:ext cx="312588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2881440" y="3662280"/>
                <a:ext cx="2728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e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3618000" y="5000760"/>
                <a:ext cx="1825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/>
          <p:nvPr/>
        </p:nvSpPr>
        <p:spPr>
          <a:xfrm flipV="1">
            <a:off x="2886120" y="2622240"/>
            <a:ext cx="0" cy="20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890800" y="4705200"/>
            <a:ext cx="388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4762440" y="3371400"/>
            <a:ext cx="1692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762440" y="337356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24240" y="455292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3430440" y="4849920"/>
                <a:ext cx="8049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0" name=""/>
          <p:cNvSpPr/>
          <p:nvPr/>
        </p:nvSpPr>
        <p:spPr>
          <a:xfrm>
            <a:off x="3213720" y="286056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dB/dekad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97080" y="3094920"/>
            <a:ext cx="268920" cy="7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>
            <a:off x="2854440" y="3373560"/>
            <a:ext cx="1947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165400" y="3127320"/>
            <a:ext cx="8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rot="17163000">
            <a:off x="4188600" y="3426840"/>
            <a:ext cx="1902960" cy="179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135" y="908"/>
                </a:moveTo>
                <a:arcTo wR="10800" hR="10800" stAng="-3979969" swAng="3247301"/>
                <a:lnTo>
                  <a:pt x="10800" y="10800"/>
                </a:lnTo>
                <a:close/>
              </a:path>
              <a:path fill="none" w="21600" h="21600">
                <a:moveTo>
                  <a:pt x="15135" y="908"/>
                </a:moveTo>
                <a:arcTo wR="10800" hR="10800" stAng="-3979969" swAng="3247301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2854440" y="3481560"/>
            <a:ext cx="18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094120" y="34797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3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4151160" y="3373560"/>
            <a:ext cx="611280" cy="68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3033720" y="4057560"/>
            <a:ext cx="111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151160" y="405756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rot="6316200">
            <a:off x="2831760" y="2207160"/>
            <a:ext cx="1902960" cy="179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135" y="908"/>
                </a:moveTo>
                <a:arcTo wR="10800" hR="10800" stAng="-3979969" swAng="3247301"/>
                <a:lnTo>
                  <a:pt x="10800" y="10800"/>
                </a:lnTo>
                <a:close/>
              </a:path>
              <a:path fill="none" w="21600" h="21600">
                <a:moveTo>
                  <a:pt x="15135" y="908"/>
                </a:moveTo>
                <a:arcTo wR="10800" hR="10800" stAng="-3979969" swAng="3247301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2882880" y="40575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2" name=""/>
              <p:cNvSpPr txBox="1"/>
              <p:nvPr/>
            </p:nvSpPr>
            <p:spPr>
              <a:xfrm>
                <a:off x="4630680" y="4892760"/>
                <a:ext cx="17557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e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z rezystorem emiterowym lub źródł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016080" y="192708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170160" y="20430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1679400" y="5218200"/>
                <a:ext cx="53866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kolekto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emite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8" name=""/>
          <p:cNvSpPr/>
          <p:nvPr/>
        </p:nvSpPr>
        <p:spPr>
          <a:xfrm>
            <a:off x="1727280" y="4521240"/>
            <a:ext cx="5243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ocnienie w zakresie średnich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1568520" y="1477800"/>
            <a:ext cx="5478480" cy="2620800"/>
            <a:chOff x="1568520" y="1477800"/>
            <a:chExt cx="5478480" cy="2620800"/>
          </a:xfrm>
        </p:grpSpPr>
        <p:sp>
          <p:nvSpPr>
            <p:cNvPr id="1700" name=""/>
            <p:cNvSpPr/>
            <p:nvPr/>
          </p:nvSpPr>
          <p:spPr>
            <a:xfrm>
              <a:off x="5429160" y="2317680"/>
              <a:ext cx="0" cy="178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586320" y="1711080"/>
              <a:ext cx="199800" cy="487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686040" y="152712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686040" y="218592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274280" y="1857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428360" y="1965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257000" y="34718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411800" y="35794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638520" y="1477800"/>
              <a:ext cx="824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607000" y="2093760"/>
              <a:ext cx="6811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10200" y="2495520"/>
              <a:ext cx="596880" cy="545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390920" y="2608200"/>
              <a:ext cx="6480" cy="30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>
              <a:off x="4414680" y="2558520"/>
              <a:ext cx="293760" cy="122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3" name=""/>
            <p:cNvGrpSpPr/>
            <p:nvPr/>
          </p:nvGrpSpPr>
          <p:grpSpPr>
            <a:xfrm>
              <a:off x="4414680" y="2809800"/>
              <a:ext cx="179280" cy="112320"/>
              <a:chOff x="4414680" y="2809800"/>
              <a:chExt cx="179280" cy="112320"/>
            </a:xfrm>
          </p:grpSpPr>
          <p:sp>
            <p:nvSpPr>
              <p:cNvPr id="1714" name=""/>
              <p:cNvSpPr/>
              <p:nvPr/>
            </p:nvSpPr>
            <p:spPr>
              <a:xfrm>
                <a:off x="4414680" y="2831400"/>
                <a:ext cx="179280" cy="8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449240" y="2809800"/>
                <a:ext cx="144720" cy="1123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6" name=""/>
            <p:cNvSpPr/>
            <p:nvPr/>
          </p:nvSpPr>
          <p:spPr>
            <a:xfrm>
              <a:off x="4594320" y="2917800"/>
              <a:ext cx="11412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4210200" y="2769840"/>
              <a:ext cx="1872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>
              <a:off x="4708440" y="1477800"/>
              <a:ext cx="7920" cy="10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684600" y="2768400"/>
              <a:ext cx="5335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4716360" y="2966760"/>
              <a:ext cx="972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586320" y="3335040"/>
              <a:ext cx="199800" cy="48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686040" y="2388960"/>
              <a:ext cx="1800" cy="9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686040" y="380340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486240" y="4049640"/>
              <a:ext cx="29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400560" y="1509480"/>
              <a:ext cx="299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054840" y="2680920"/>
              <a:ext cx="3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143760" y="2744640"/>
              <a:ext cx="2044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054840" y="2517480"/>
              <a:ext cx="36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143760" y="2589120"/>
              <a:ext cx="204480" cy="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235560" y="2744640"/>
              <a:ext cx="180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235560" y="1509480"/>
              <a:ext cx="18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659120" y="1477800"/>
              <a:ext cx="781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188040" y="1477800"/>
              <a:ext cx="824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63852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659120" y="4011480"/>
              <a:ext cx="7812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18804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473880" y="2436480"/>
              <a:ext cx="573120" cy="34632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575400" y="24793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723720" y="25891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403680" y="21445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414480" y="2839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2" name=""/>
            <p:cNvGrpSpPr/>
            <p:nvPr/>
          </p:nvGrpSpPr>
          <p:grpSpPr>
            <a:xfrm>
              <a:off x="5078520" y="2192040"/>
              <a:ext cx="56880" cy="246240"/>
              <a:chOff x="5078520" y="2192040"/>
              <a:chExt cx="56880" cy="246240"/>
            </a:xfrm>
          </p:grpSpPr>
          <p:sp>
            <p:nvSpPr>
              <p:cNvPr id="1743" name=""/>
              <p:cNvSpPr/>
              <p:nvPr/>
            </p:nvSpPr>
            <p:spPr>
              <a:xfrm>
                <a:off x="5078520" y="2192040"/>
                <a:ext cx="0" cy="24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135400" y="2192040"/>
                <a:ext cx="0" cy="24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5" name=""/>
            <p:cNvSpPr/>
            <p:nvPr/>
          </p:nvSpPr>
          <p:spPr>
            <a:xfrm>
              <a:off x="5157720" y="2320560"/>
              <a:ext cx="2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639960" y="271296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348160" y="2512800"/>
              <a:ext cx="19044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383080" y="402876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V="1">
              <a:off x="5870520" y="2414520"/>
              <a:ext cx="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519880" y="309528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762200" y="274932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62200" y="4043160"/>
              <a:ext cx="13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029320" y="2881080"/>
              <a:ext cx="456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1762200" y="2734920"/>
              <a:ext cx="0" cy="13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rot="16200000">
              <a:off x="2190960" y="2572920"/>
              <a:ext cx="13032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568520" y="3122280"/>
              <a:ext cx="387360" cy="38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1762200" y="3177720"/>
              <a:ext cx="0" cy="2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888920" y="3487680"/>
              <a:ext cx="39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599000" y="1652400"/>
              <a:ext cx="190440" cy="530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4699080" y="23176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672080" y="226512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608360" y="3350880"/>
              <a:ext cx="198720" cy="486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723040" y="229356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3017880" y="2890440"/>
              <a:ext cx="0" cy="9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090960" y="177300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168720" y="331128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/>
          <p:nvPr/>
        </p:nvSpPr>
        <p:spPr>
          <a:xfrm>
            <a:off x="309600" y="38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órna częstotliwość graniczna wzmacniacza z rezystorem emiterowym (lub źródłowy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809640" y="944640"/>
            <a:ext cx="7278840" cy="5749920"/>
            <a:chOff x="809640" y="944640"/>
            <a:chExt cx="7278840" cy="5749920"/>
          </a:xfrm>
        </p:grpSpPr>
        <p:grpSp>
          <p:nvGrpSpPr>
            <p:cNvPr id="1769" name=""/>
            <p:cNvGrpSpPr/>
            <p:nvPr/>
          </p:nvGrpSpPr>
          <p:grpSpPr>
            <a:xfrm>
              <a:off x="915840" y="947880"/>
              <a:ext cx="7172640" cy="1748880"/>
              <a:chOff x="915840" y="947880"/>
              <a:chExt cx="7172640" cy="1748880"/>
            </a:xfrm>
          </p:grpSpPr>
          <p:sp>
            <p:nvSpPr>
              <p:cNvPr id="1770" name=""/>
              <p:cNvSpPr/>
              <p:nvPr/>
            </p:nvSpPr>
            <p:spPr>
              <a:xfrm>
                <a:off x="4302720" y="1395360"/>
                <a:ext cx="43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V="1">
                <a:off x="5986440" y="1341000"/>
                <a:ext cx="1440" cy="132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892840" y="1738080"/>
                <a:ext cx="18900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011240" y="1871640"/>
                <a:ext cx="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947880" y="2057400"/>
                <a:ext cx="1252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915840" y="1672920"/>
                <a:ext cx="189000" cy="198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V="1">
                <a:off x="1011240" y="1341360"/>
                <a:ext cx="0" cy="33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955080" y="1660320"/>
                <a:ext cx="135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~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136520" y="1012680"/>
                <a:ext cx="28116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pl-PL" sz="12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198080" y="1706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135800" y="1620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739640" y="1630080"/>
                <a:ext cx="15912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561440" y="1341360"/>
                <a:ext cx="2880" cy="13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497720" y="2666880"/>
                <a:ext cx="1270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497720" y="1873080"/>
                <a:ext cx="12708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915240" y="1325520"/>
                <a:ext cx="3636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892840" y="1606320"/>
                <a:ext cx="189000" cy="198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986440" y="1672920"/>
                <a:ext cx="144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H="1" flipV="1">
                <a:off x="5924520" y="1804320"/>
                <a:ext cx="619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V="1">
                <a:off x="5986440" y="1804320"/>
                <a:ext cx="633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892840" y="1738080"/>
                <a:ext cx="189000" cy="199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H="1" flipV="1">
                <a:off x="3186000" y="1350360"/>
                <a:ext cx="7920" cy="71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972040" y="205416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121200" y="1616040"/>
                <a:ext cx="12672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931080" y="1341360"/>
                <a:ext cx="3240" cy="13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869160" y="1873080"/>
                <a:ext cx="12528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708200" y="132552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98400" y="1639800"/>
                <a:ext cx="1746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956200" y="133344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869160" y="2666880"/>
                <a:ext cx="1252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924520" y="2203200"/>
                <a:ext cx="125280" cy="2649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924520" y="2673000"/>
                <a:ext cx="12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2" name=""/>
              <p:cNvGrpSpPr/>
              <p:nvPr/>
            </p:nvGrpSpPr>
            <p:grpSpPr>
              <a:xfrm>
                <a:off x="4710240" y="1217520"/>
                <a:ext cx="64080" cy="264600"/>
                <a:chOff x="4710240" y="1217520"/>
                <a:chExt cx="64080" cy="264600"/>
              </a:xfrm>
            </p:grpSpPr>
            <p:sp>
              <p:nvSpPr>
                <p:cNvPr id="1803" name=""/>
                <p:cNvSpPr/>
                <p:nvPr/>
              </p:nvSpPr>
              <p:spPr>
                <a:xfrm flipH="1">
                  <a:off x="4773240" y="1217520"/>
                  <a:ext cx="1080" cy="26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H="1">
                  <a:off x="4710240" y="1217520"/>
                  <a:ext cx="1440" cy="26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5611680" y="2214360"/>
                <a:ext cx="30168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686720" y="1831680"/>
                <a:ext cx="40176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719360" y="1338120"/>
                <a:ext cx="0" cy="13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660680" y="2670120"/>
                <a:ext cx="1267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644480" y="1938240"/>
                <a:ext cx="149400" cy="334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300680" y="1977840"/>
                <a:ext cx="368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 flipV="1">
                <a:off x="3774600" y="1775880"/>
                <a:ext cx="2523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H="1" flipV="1">
                <a:off x="3774600" y="1711080"/>
                <a:ext cx="252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168720" y="1342800"/>
                <a:ext cx="349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890880" y="1777680"/>
                <a:ext cx="0" cy="28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3890880" y="134604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879720" y="132552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876840" y="202716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020120" y="1557000"/>
                <a:ext cx="43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2730600" y="1579320"/>
                <a:ext cx="398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3190680" y="2060280"/>
                <a:ext cx="278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764240" y="1346040"/>
                <a:ext cx="27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009800" y="1346040"/>
                <a:ext cx="365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136520" y="1274760"/>
                <a:ext cx="250920" cy="132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8039160" y="1674360"/>
                <a:ext cx="0" cy="61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rot="5400000">
                <a:off x="2122920" y="1216080"/>
                <a:ext cx="126720" cy="265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2971800" y="94788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172920" y="1560240"/>
                <a:ext cx="67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3400560" y="1412280"/>
                <a:ext cx="0" cy="5806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3204360" y="1096920"/>
                <a:ext cx="4078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339933"/>
                    </a:solidFill>
                    <a:latin typeface="Times New Roman"/>
                  </a:rPr>
                  <a:t>U</a:t>
                </a:r>
                <a:r>
                  <a:rPr b="1" lang="pl-PL" sz="1200" spc="-1" strike="noStrike" baseline="-25000">
                    <a:solidFill>
                      <a:srgbClr val="339933"/>
                    </a:solidFill>
                    <a:latin typeface="Times New Roman"/>
                  </a:rPr>
                  <a:t>b’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3836160" y="32688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V="1">
              <a:off x="5937120" y="3700440"/>
              <a:ext cx="1800" cy="11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984240" y="423072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920880" y="4416480"/>
              <a:ext cx="125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88840" y="4032360"/>
              <a:ext cx="18900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V="1">
              <a:off x="984240" y="3700440"/>
              <a:ext cx="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928080" y="401940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171080" y="4065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108800" y="39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615800" y="3780000"/>
              <a:ext cx="159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629080" y="4896000"/>
              <a:ext cx="1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904080" y="368460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2" name=""/>
            <p:cNvGrpSpPr/>
            <p:nvPr/>
          </p:nvGrpSpPr>
          <p:grpSpPr>
            <a:xfrm>
              <a:off x="5843520" y="4213080"/>
              <a:ext cx="189000" cy="331560"/>
              <a:chOff x="5843520" y="4213080"/>
              <a:chExt cx="189000" cy="331560"/>
            </a:xfrm>
          </p:grpSpPr>
          <p:sp>
            <p:nvSpPr>
              <p:cNvPr id="1843" name=""/>
              <p:cNvSpPr/>
              <p:nvPr/>
            </p:nvSpPr>
            <p:spPr>
              <a:xfrm>
                <a:off x="5843520" y="4344840"/>
                <a:ext cx="18900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5843520" y="4213080"/>
                <a:ext cx="189000" cy="198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937120" y="4279680"/>
                <a:ext cx="144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 flipV="1">
                <a:off x="5875200" y="4411080"/>
                <a:ext cx="619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5937120" y="4411080"/>
                <a:ext cx="633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843520" y="4344840"/>
                <a:ext cx="189000" cy="199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9" name=""/>
            <p:cNvSpPr/>
            <p:nvPr/>
          </p:nvSpPr>
          <p:spPr>
            <a:xfrm flipV="1">
              <a:off x="2692440" y="3700440"/>
              <a:ext cx="3240" cy="11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630520" y="4251240"/>
              <a:ext cx="127080" cy="265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738440" y="368460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045200" y="38656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982920" y="3780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07240" y="369252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875200" y="4879800"/>
              <a:ext cx="125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6" name=""/>
            <p:cNvGrpSpPr/>
            <p:nvPr/>
          </p:nvGrpSpPr>
          <p:grpSpPr>
            <a:xfrm>
              <a:off x="4876560" y="3576600"/>
              <a:ext cx="64800" cy="265320"/>
              <a:chOff x="4876560" y="3576600"/>
              <a:chExt cx="64800" cy="265320"/>
            </a:xfrm>
          </p:grpSpPr>
          <p:sp>
            <p:nvSpPr>
              <p:cNvPr id="1857" name=""/>
              <p:cNvSpPr/>
              <p:nvPr/>
            </p:nvSpPr>
            <p:spPr>
              <a:xfrm flipH="1">
                <a:off x="4939920" y="3576600"/>
                <a:ext cx="144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H="1">
                <a:off x="4876560" y="3576600"/>
                <a:ext cx="108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9" name=""/>
            <p:cNvSpPr/>
            <p:nvPr/>
          </p:nvSpPr>
          <p:spPr>
            <a:xfrm>
              <a:off x="7841520" y="4267080"/>
              <a:ext cx="186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749600" y="3697200"/>
              <a:ext cx="0" cy="11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690560" y="4876920"/>
              <a:ext cx="12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674720" y="4297320"/>
              <a:ext cx="14940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330920" y="4336920"/>
              <a:ext cx="368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678040" y="369252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5" name=""/>
            <p:cNvGrpSpPr/>
            <p:nvPr/>
          </p:nvGrpSpPr>
          <p:grpSpPr>
            <a:xfrm>
              <a:off x="3784320" y="3684600"/>
              <a:ext cx="252360" cy="1212840"/>
              <a:chOff x="3784320" y="3684600"/>
              <a:chExt cx="252360" cy="1212840"/>
            </a:xfrm>
          </p:grpSpPr>
          <p:sp>
            <p:nvSpPr>
              <p:cNvPr id="1866" name=""/>
              <p:cNvSpPr/>
              <p:nvPr/>
            </p:nvSpPr>
            <p:spPr>
              <a:xfrm>
                <a:off x="3854520" y="4896000"/>
                <a:ext cx="12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7" name=""/>
              <p:cNvGrpSpPr/>
              <p:nvPr/>
            </p:nvGrpSpPr>
            <p:grpSpPr>
              <a:xfrm>
                <a:off x="3784320" y="4327560"/>
                <a:ext cx="252360" cy="66600"/>
                <a:chOff x="3784320" y="4327560"/>
                <a:chExt cx="252360" cy="66600"/>
              </a:xfrm>
            </p:grpSpPr>
            <p:sp>
              <p:nvSpPr>
                <p:cNvPr id="1868" name=""/>
                <p:cNvSpPr/>
                <p:nvPr/>
              </p:nvSpPr>
              <p:spPr>
                <a:xfrm flipH="1" flipV="1">
                  <a:off x="3784320" y="4392720"/>
                  <a:ext cx="252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flipH="1" flipV="1">
                  <a:off x="3784320" y="4327560"/>
                  <a:ext cx="252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0" name=""/>
              <p:cNvSpPr/>
              <p:nvPr/>
            </p:nvSpPr>
            <p:spPr>
              <a:xfrm>
                <a:off x="3909960" y="4384800"/>
                <a:ext cx="1440" cy="50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V="1">
                <a:off x="3909960" y="3705120"/>
                <a:ext cx="1440" cy="60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3898800" y="3684600"/>
                <a:ext cx="34920" cy="36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3" name=""/>
            <p:cNvSpPr/>
            <p:nvPr/>
          </p:nvSpPr>
          <p:spPr>
            <a:xfrm>
              <a:off x="3983040" y="4230720"/>
              <a:ext cx="487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858000" y="4896000"/>
              <a:ext cx="12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496280" y="4896000"/>
              <a:ext cx="1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196000" y="4221000"/>
              <a:ext cx="46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076400" y="3382920"/>
              <a:ext cx="280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2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958680" y="3705120"/>
              <a:ext cx="390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109520" y="3633840"/>
              <a:ext cx="250920" cy="133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941720" y="3705120"/>
              <a:ext cx="261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926400" y="3705120"/>
              <a:ext cx="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545240" y="3705120"/>
              <a:ext cx="9720" cy="12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858000" y="4203720"/>
              <a:ext cx="1252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486560" y="4203720"/>
              <a:ext cx="1270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7783560" y="4010040"/>
              <a:ext cx="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6" name=""/>
                <p:cNvSpPr txBox="1"/>
                <p:nvPr/>
              </p:nvSpPr>
              <p:spPr>
                <a:xfrm>
                  <a:off x="809640" y="5057640"/>
                  <a:ext cx="211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7" name=""/>
                <p:cNvSpPr txBox="1"/>
                <p:nvPr/>
              </p:nvSpPr>
              <p:spPr>
                <a:xfrm>
                  <a:off x="4064040" y="4484520"/>
                  <a:ext cx="148572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88" name=""/>
            <p:cNvSpPr/>
            <p:nvPr/>
          </p:nvSpPr>
          <p:spPr>
            <a:xfrm rot="5400000">
              <a:off x="2086560" y="3585240"/>
              <a:ext cx="1270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957320" y="3268800"/>
              <a:ext cx="487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026040" y="4224240"/>
              <a:ext cx="765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3382920" y="3809880"/>
              <a:ext cx="0" cy="1000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219840" y="3422520"/>
              <a:ext cx="394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’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3" name=""/>
                <p:cNvSpPr txBox="1"/>
                <p:nvPr/>
              </p:nvSpPr>
              <p:spPr>
                <a:xfrm>
                  <a:off x="5873760" y="4933800"/>
                  <a:ext cx="139212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4" name=""/>
            <p:cNvSpPr/>
            <p:nvPr/>
          </p:nvSpPr>
          <p:spPr>
            <a:xfrm>
              <a:off x="3710160" y="3087720"/>
              <a:ext cx="1941480" cy="409680"/>
            </a:xfrm>
            <a:custGeom>
              <a:avLst/>
              <a:gdLst/>
              <a:ahLst/>
              <a:rect l="l" t="t" r="r" b="b"/>
              <a:pathLst>
                <a:path w="1223" h="258">
                  <a:moveTo>
                    <a:pt x="0" y="258"/>
                  </a:moveTo>
                  <a:cubicBezTo>
                    <a:pt x="30" y="178"/>
                    <a:pt x="60" y="98"/>
                    <a:pt x="140" y="55"/>
                  </a:cubicBezTo>
                  <a:cubicBezTo>
                    <a:pt x="220" y="12"/>
                    <a:pt x="358" y="0"/>
                    <a:pt x="483" y="0"/>
                  </a:cubicBezTo>
                  <a:cubicBezTo>
                    <a:pt x="608" y="0"/>
                    <a:pt x="765" y="13"/>
                    <a:pt x="888" y="55"/>
                  </a:cubicBezTo>
                  <a:cubicBezTo>
                    <a:pt x="1011" y="97"/>
                    <a:pt x="1117" y="173"/>
                    <a:pt x="1223" y="25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381560" y="3112920"/>
              <a:ext cx="53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6" name=""/>
                <p:cNvSpPr txBox="1"/>
                <p:nvPr/>
              </p:nvSpPr>
              <p:spPr>
                <a:xfrm>
                  <a:off x="5864400" y="3268800"/>
                  <a:ext cx="207612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≈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7" name=""/>
                <p:cNvSpPr txBox="1"/>
                <p:nvPr/>
              </p:nvSpPr>
              <p:spPr>
                <a:xfrm>
                  <a:off x="1174680" y="6318360"/>
                  <a:ext cx="298944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8" name=""/>
                <p:cNvSpPr txBox="1"/>
                <p:nvPr/>
              </p:nvSpPr>
              <p:spPr>
                <a:xfrm>
                  <a:off x="5243400" y="5783400"/>
                  <a:ext cx="245772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99" name=""/>
            <p:cNvSpPr/>
            <p:nvPr/>
          </p:nvSpPr>
          <p:spPr>
            <a:xfrm>
              <a:off x="2992320" y="3497400"/>
              <a:ext cx="0" cy="2522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46200" y="5359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2696760" y="5562720"/>
              <a:ext cx="5446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757600" y="5921280"/>
              <a:ext cx="63324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088360" y="570240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1978200" y="4573440"/>
              <a:ext cx="55692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flipV="1">
              <a:off x="4501800" y="4449240"/>
              <a:ext cx="3589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V="1">
              <a:off x="6257880" y="46224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1508040" y="6032160"/>
              <a:ext cx="54288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467960" y="36972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32200" y="2214720"/>
              <a:ext cx="284040" cy="1150920"/>
            </a:xfrm>
            <a:prstGeom prst="downArrow">
              <a:avLst>
                <a:gd name="adj1" fmla="val 50000"/>
                <a:gd name="adj2" fmla="val 10129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447360" y="25160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przekształcamy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1" name=""/>
                <p:cNvSpPr txBox="1"/>
                <p:nvPr/>
              </p:nvSpPr>
              <p:spPr>
                <a:xfrm>
                  <a:off x="1147680" y="2836800"/>
                  <a:ext cx="104004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12" name=""/>
            <p:cNvSpPr/>
            <p:nvPr/>
          </p:nvSpPr>
          <p:spPr>
            <a:xfrm>
              <a:off x="2007000" y="944640"/>
              <a:ext cx="37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343160" y="457200"/>
                <a:ext cx="48592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8520" y="1851120"/>
            <a:ext cx="163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y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1080" y="2249640"/>
            <a:ext cx="382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G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36320" y="2249640"/>
            <a:ext cx="23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4360" y="2981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2400" y="2955960"/>
            <a:ext cx="347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0600" y="4243320"/>
            <a:ext cx="36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napięciow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09880" y="5181480"/>
            <a:ext cx="4038480" cy="1371600"/>
            <a:chOff x="2009880" y="5181480"/>
            <a:chExt cx="4038480" cy="137160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2452680" y="5334120"/>
                  <a:ext cx="300060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2009880" y="655308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09880" y="519444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009880" y="51814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048360" y="51814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/>
          <p:nvPr/>
        </p:nvSpPr>
        <p:spPr>
          <a:xfrm>
            <a:off x="3191040" y="1682640"/>
            <a:ext cx="866520" cy="399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538440" y="2003400"/>
            <a:ext cx="1800" cy="297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6" name=""/>
          <p:cNvGrpSpPr/>
          <p:nvPr/>
        </p:nvGrpSpPr>
        <p:grpSpPr>
          <a:xfrm>
            <a:off x="3825360" y="3133800"/>
            <a:ext cx="866880" cy="567720"/>
            <a:chOff x="3825360" y="3133800"/>
            <a:chExt cx="866880" cy="567720"/>
          </a:xfrm>
        </p:grpSpPr>
        <p:sp>
          <p:nvSpPr>
            <p:cNvPr id="1917" name=""/>
            <p:cNvSpPr/>
            <p:nvPr/>
          </p:nvSpPr>
          <p:spPr>
            <a:xfrm>
              <a:off x="4402800" y="3133800"/>
              <a:ext cx="1800" cy="56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V="1">
              <a:off x="4402800" y="3133800"/>
              <a:ext cx="288000" cy="28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402800" y="3417480"/>
              <a:ext cx="288000" cy="28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4690800" y="3558960"/>
              <a:ext cx="1440" cy="14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>
              <a:off x="4547520" y="3699720"/>
              <a:ext cx="142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>
              <a:off x="3825360" y="3417480"/>
              <a:ext cx="57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3" name=""/>
          <p:cNvSpPr/>
          <p:nvPr/>
        </p:nvSpPr>
        <p:spPr>
          <a:xfrm>
            <a:off x="4691160" y="2003400"/>
            <a:ext cx="3240" cy="1139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flipH="1">
            <a:off x="4690800" y="3699000"/>
            <a:ext cx="3240" cy="88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4691160" y="4513320"/>
            <a:ext cx="1440" cy="423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454824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835520" y="1390680"/>
            <a:ext cx="39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5267520" y="1655640"/>
            <a:ext cx="25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4257720" y="2496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411480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65444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691160" y="3835440"/>
            <a:ext cx="5760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663560" y="4549680"/>
            <a:ext cx="1800" cy="424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521000" y="498168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394080" y="2286000"/>
            <a:ext cx="2890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394080" y="3983040"/>
            <a:ext cx="289080" cy="56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541680" y="2003400"/>
            <a:ext cx="1438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94352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9" name=""/>
          <p:cNvGrpSpPr/>
          <p:nvPr/>
        </p:nvGrpSpPr>
        <p:grpSpPr>
          <a:xfrm>
            <a:off x="5267160" y="3538440"/>
            <a:ext cx="145800" cy="564840"/>
            <a:chOff x="5267160" y="3538440"/>
            <a:chExt cx="145800" cy="564840"/>
          </a:xfrm>
        </p:grpSpPr>
        <p:sp>
          <p:nvSpPr>
            <p:cNvPr id="1940" name=""/>
            <p:cNvSpPr/>
            <p:nvPr/>
          </p:nvSpPr>
          <p:spPr>
            <a:xfrm>
              <a:off x="5267160" y="353844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411160" y="353844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2" name=""/>
          <p:cNvGrpSpPr/>
          <p:nvPr/>
        </p:nvGrpSpPr>
        <p:grpSpPr>
          <a:xfrm>
            <a:off x="2960640" y="3133800"/>
            <a:ext cx="145800" cy="564840"/>
            <a:chOff x="2960640" y="3133800"/>
            <a:chExt cx="145800" cy="564840"/>
          </a:xfrm>
        </p:grpSpPr>
        <p:sp>
          <p:nvSpPr>
            <p:cNvPr id="1943" name=""/>
            <p:cNvSpPr/>
            <p:nvPr/>
          </p:nvSpPr>
          <p:spPr>
            <a:xfrm>
              <a:off x="2960640" y="313380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105000" y="313380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5" name=""/>
          <p:cNvSpPr/>
          <p:nvPr/>
        </p:nvSpPr>
        <p:spPr>
          <a:xfrm>
            <a:off x="3105000" y="3417840"/>
            <a:ext cx="865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411880" y="3822840"/>
            <a:ext cx="619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019920" y="3822840"/>
            <a:ext cx="4680" cy="1106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548240" y="4124160"/>
            <a:ext cx="2872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394080" y="4946760"/>
            <a:ext cx="2890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449360" y="4124160"/>
            <a:ext cx="432000" cy="42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1663560" y="3417840"/>
            <a:ext cx="1800" cy="70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1663200" y="3417840"/>
            <a:ext cx="12970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952640" y="3274920"/>
            <a:ext cx="57456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537920" y="4095720"/>
            <a:ext cx="230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2673360" y="2568600"/>
            <a:ext cx="1440" cy="2970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5707080" y="2249640"/>
            <a:ext cx="1440" cy="325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969880" y="5195880"/>
            <a:ext cx="1274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ciążeni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96000" y="5313240"/>
            <a:ext cx="171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źródło sygnał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122800" y="4336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979880" y="41544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335320" y="2921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097000" y="273996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052440" y="407340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105000" y="249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96064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229080" y="429084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966760" y="273996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178240" y="312732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096640" y="4194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952280" y="401148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502080" y="338148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84532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276600" y="3909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6132240" y="37306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641840" y="378936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861160" y="4138560"/>
            <a:ext cx="29052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889720" y="5610240"/>
            <a:ext cx="554040" cy="57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371520" y="819000"/>
            <a:ext cx="7988400" cy="5507280"/>
            <a:chOff x="371520" y="819000"/>
            <a:chExt cx="7988400" cy="5507280"/>
          </a:xfrm>
        </p:grpSpPr>
        <p:sp>
          <p:nvSpPr>
            <p:cNvPr id="1980" name=""/>
            <p:cNvSpPr/>
            <p:nvPr/>
          </p:nvSpPr>
          <p:spPr>
            <a:xfrm>
              <a:off x="3522600" y="1538280"/>
              <a:ext cx="0" cy="4741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1650960" y="376200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79320" y="4497480"/>
              <a:ext cx="180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557360" y="412920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87520" y="4756320"/>
              <a:ext cx="1825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41440" y="422280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79320" y="376200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66720" y="3762360"/>
              <a:ext cx="234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861840" y="3670200"/>
              <a:ext cx="36864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97960" y="42037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045440" y="344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954000" y="3322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925640" y="42670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835280" y="4148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953640" y="42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61840" y="414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627200" y="374004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843280" y="37623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75112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55880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749680" y="4129200"/>
              <a:ext cx="18720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083680" y="3322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174040" y="3441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055960" y="367020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382840" y="4148280"/>
              <a:ext cx="482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016080" y="3762360"/>
              <a:ext cx="925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944880" y="37623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760920" y="422280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760920" y="4313160"/>
              <a:ext cx="3664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944880" y="43131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852720" y="477360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820960" y="374004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157640" y="4229280"/>
              <a:ext cx="434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880440" y="5108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3185640" y="5378400"/>
              <a:ext cx="582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71520" y="3317760"/>
              <a:ext cx="3030480" cy="19321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6" name=""/>
                <p:cNvSpPr txBox="1"/>
                <p:nvPr/>
              </p:nvSpPr>
              <p:spPr>
                <a:xfrm>
                  <a:off x="5045040" y="5564160"/>
                  <a:ext cx="21128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7" name=""/>
                <p:cNvSpPr txBox="1"/>
                <p:nvPr/>
              </p:nvSpPr>
              <p:spPr>
                <a:xfrm>
                  <a:off x="5049720" y="4149720"/>
                  <a:ext cx="33102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o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8" name=""/>
                <p:cNvSpPr txBox="1"/>
                <p:nvPr/>
              </p:nvSpPr>
              <p:spPr>
                <a:xfrm>
                  <a:off x="5045040" y="4883040"/>
                  <a:ext cx="267660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19" name=""/>
            <p:cNvSpPr/>
            <p:nvPr/>
          </p:nvSpPr>
          <p:spPr>
            <a:xfrm>
              <a:off x="3166920" y="4403880"/>
              <a:ext cx="1779840" cy="6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554360" y="434340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514656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010120" y="2624040"/>
              <a:ext cx="270000" cy="263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169236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76440" y="2798640"/>
              <a:ext cx="1440" cy="26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598760" y="2446200"/>
              <a:ext cx="18396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85720" y="3048120"/>
              <a:ext cx="1792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39640" y="2536920"/>
              <a:ext cx="270000" cy="261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676440" y="209556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76440" y="2095560"/>
              <a:ext cx="207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55720" y="2006640"/>
              <a:ext cx="36180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94720" y="25178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036080" y="1787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946080" y="167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962000" y="2577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873080" y="2465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945720" y="25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855720" y="2465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6686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8908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800440" y="3048120"/>
              <a:ext cx="1807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600200" y="3048120"/>
              <a:ext cx="1825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798640" y="2446200"/>
              <a:ext cx="1843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>
              <a:off x="4147920" y="1569960"/>
              <a:ext cx="9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rot="16200000">
              <a:off x="4600440" y="1386000"/>
              <a:ext cx="177840" cy="3650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173640" y="2427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083280" y="2313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4134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32304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16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401800" y="2278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501160" y="2352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38964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146560" y="2095560"/>
              <a:ext cx="198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13592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045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056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0452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466040" y="2546280"/>
              <a:ext cx="2905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434360" y="2292480"/>
              <a:ext cx="1440" cy="70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H="1">
              <a:off x="7343640" y="2292480"/>
              <a:ext cx="907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434360" y="2292480"/>
              <a:ext cx="9036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774840" y="2322360"/>
              <a:ext cx="2124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1228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008680" y="2446200"/>
              <a:ext cx="272880" cy="2667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5146560" y="2536560"/>
              <a:ext cx="1800" cy="261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6" name=""/>
            <p:cNvGrpSpPr/>
            <p:nvPr/>
          </p:nvGrpSpPr>
          <p:grpSpPr>
            <a:xfrm>
              <a:off x="5055840" y="2536920"/>
              <a:ext cx="181440" cy="87120"/>
              <a:chOff x="5055840" y="2536920"/>
              <a:chExt cx="181440" cy="87120"/>
            </a:xfrm>
          </p:grpSpPr>
          <p:sp>
            <p:nvSpPr>
              <p:cNvPr id="2067" name=""/>
              <p:cNvSpPr/>
              <p:nvPr/>
            </p:nvSpPr>
            <p:spPr>
              <a:xfrm flipH="1">
                <a:off x="5055840" y="2536920"/>
                <a:ext cx="9036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146560" y="2536920"/>
                <a:ext cx="9072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9" name=""/>
            <p:cNvSpPr/>
            <p:nvPr/>
          </p:nvSpPr>
          <p:spPr>
            <a:xfrm>
              <a:off x="5008680" y="2622600"/>
              <a:ext cx="272880" cy="2667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032920" y="1673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121480" y="17874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031840" y="2006640"/>
              <a:ext cx="36216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067920" y="278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159720" y="287496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589640" y="1095480"/>
              <a:ext cx="2674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392000" y="2859120"/>
              <a:ext cx="640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U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62280" y="2095560"/>
              <a:ext cx="2008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879720" y="209556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699000" y="253692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699000" y="262260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879720" y="262260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789360" y="3063960"/>
              <a:ext cx="1792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78296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87512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875120" y="2095560"/>
              <a:ext cx="27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86848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855960" y="2073240"/>
              <a:ext cx="4932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089240" y="2541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178880" y="265572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387680" y="2257560"/>
              <a:ext cx="503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5141880" y="157428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3882960" y="1571760"/>
              <a:ext cx="0" cy="52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3882960" y="1571760"/>
              <a:ext cx="29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382640" y="1619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473000" y="173340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3754440" y="136512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666040" y="170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968560" y="819000"/>
              <a:ext cx="3506760" cy="116856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02"/>
                  </a:moveTo>
                  <a:cubicBezTo>
                    <a:pt x="5" y="518"/>
                    <a:pt x="11" y="335"/>
                    <a:pt x="89" y="224"/>
                  </a:cubicBezTo>
                  <a:cubicBezTo>
                    <a:pt x="167" y="113"/>
                    <a:pt x="304" y="70"/>
                    <a:pt x="467" y="35"/>
                  </a:cubicBezTo>
                  <a:cubicBezTo>
                    <a:pt x="630" y="0"/>
                    <a:pt x="860" y="9"/>
                    <a:pt x="1067" y="13"/>
                  </a:cubicBezTo>
                  <a:cubicBezTo>
                    <a:pt x="1274" y="17"/>
                    <a:pt x="1557" y="0"/>
                    <a:pt x="1711" y="57"/>
                  </a:cubicBezTo>
                  <a:cubicBezTo>
                    <a:pt x="1865" y="114"/>
                    <a:pt x="1900" y="239"/>
                    <a:pt x="1989" y="357"/>
                  </a:cubicBezTo>
                  <a:cubicBezTo>
                    <a:pt x="2078" y="475"/>
                    <a:pt x="2192" y="683"/>
                    <a:pt x="2245" y="768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816520" y="1076400"/>
              <a:ext cx="1044720" cy="61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Ku</a:t>
              </a:r>
              <a:r>
                <a:rPr b="1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OC</a:t>
              </a:r>
              <a:r>
                <a:rPr b="1" lang="pl-PL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</a:t>
              </a: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 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403640" y="1762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810400" y="209700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716440" y="246384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710320" y="3076560"/>
              <a:ext cx="1839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780160" y="20574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655000" y="17794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203640" y="5851440"/>
              <a:ext cx="704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466000" y="5611680"/>
              <a:ext cx="65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838960" y="2503440"/>
            <a:ext cx="2725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 OB</a:t>
            </a:r>
            <a:r>
              <a:rPr b="0" lang="pl-PL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n 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263400" y="45626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ENTA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51080" y="343080"/>
            <a:ext cx="64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napięciowe skutecz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5520" y="177948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1447920"/>
            <a:ext cx="2414880" cy="13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67560" y="17254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4720" y="1660680"/>
            <a:ext cx="11088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67560" y="24717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4720" y="2403360"/>
            <a:ext cx="11088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95520" y="17254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05160" y="16621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95520" y="24717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05160" y="24019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423800" y="1525320"/>
            <a:ext cx="157320" cy="43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5320" y="1898640"/>
            <a:ext cx="155520" cy="43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232884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62600" y="2471760"/>
            <a:ext cx="32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62600" y="1725480"/>
            <a:ext cx="32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93080" y="1725480"/>
            <a:ext cx="1440" cy="1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06720" y="2471760"/>
            <a:ext cx="328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6720" y="1725480"/>
            <a:ext cx="328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88920" y="175104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9040" y="137484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60520" y="1143000"/>
            <a:ext cx="52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936800"/>
            <a:ext cx="31284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988560" y="1905120"/>
            <a:ext cx="180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971640" y="2471760"/>
            <a:ext cx="110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717560" y="1725480"/>
            <a:ext cx="403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88920" y="17366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41440" y="1925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432160" y="18554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703920" y="1855440"/>
            <a:ext cx="180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66960" y="1730520"/>
            <a:ext cx="4176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116760" y="1730520"/>
            <a:ext cx="334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07480" y="1855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09280" y="1855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52640" y="12430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21440" y="1166760"/>
            <a:ext cx="369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07240" y="17146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59520" y="1243080"/>
            <a:ext cx="35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415280" y="1852560"/>
            <a:ext cx="1440" cy="509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69360" y="1928880"/>
            <a:ext cx="442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5560" y="3070080"/>
            <a:ext cx="71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jako czwórnik [y] ze źródłem napię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43000" y="3580920"/>
            <a:ext cx="5257800" cy="1676880"/>
            <a:chOff x="1143000" y="3580920"/>
            <a:chExt cx="5257800" cy="167688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359000" y="3809880"/>
                  <a:ext cx="4292640" cy="10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1143000" y="525780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3000" y="358128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143000" y="3580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00800" y="3580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6440" y="5508720"/>
            <a:ext cx="8822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spółczynnik napięciowego wykorzystania obwodu wejści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zmocnienie 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97480" y="4446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podstawie rys. m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838080" y="990720"/>
                <a:ext cx="44560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685800" y="32227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00" y="2308320"/>
            <a:ext cx="829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- impedancja (admitancja) wejściowa czwór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712880" y="4132440"/>
            <a:ext cx="5333760" cy="1676160"/>
            <a:chOff x="1712880" y="4132440"/>
            <a:chExt cx="5333760" cy="1676160"/>
          </a:xfrm>
        </p:grpSpPr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017440" y="4284720"/>
                  <a:ext cx="4419720" cy="11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9" name=""/>
            <p:cNvSpPr/>
            <p:nvPr/>
          </p:nvSpPr>
          <p:spPr>
            <a:xfrm>
              <a:off x="1712880" y="580860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2880" y="413244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712880" y="413244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046640" y="413244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479520"/>
            <a:ext cx="803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Admitancja (impedancja) wejściowa y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 (z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649600" y="1276200"/>
                <a:ext cx="23781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1593720" y="3041640"/>
            <a:ext cx="4648320" cy="1295280"/>
            <a:chOff x="1593720" y="3041640"/>
            <a:chExt cx="4648320" cy="129528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1946160" y="3117600"/>
                  <a:ext cx="3714840" cy="96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1593720" y="433692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93720" y="304164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593720" y="304164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242040" y="304164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037960" y="244440"/>
            <a:ext cx="362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dmitancja wyjściowa y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71560" y="1000080"/>
            <a:ext cx="4648320" cy="1295280"/>
            <a:chOff x="1771560" y="1000080"/>
            <a:chExt cx="4648320" cy="129528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081160" y="1076400"/>
                  <a:ext cx="3800520" cy="96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Y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1771560" y="229536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71560" y="100008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771560" y="1000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19880" y="1000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728360" y="4683240"/>
            <a:ext cx="50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ór ten można przedstawić w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28560" y="4979880"/>
                <a:ext cx="6343920" cy="168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2490480" y="27068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027240" y="3566880"/>
            <a:ext cx="2133720" cy="990720"/>
            <a:chOff x="3027240" y="3566880"/>
            <a:chExt cx="2133720" cy="99072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3408480" y="3643200"/>
                  <a:ext cx="10666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3027240" y="455760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27240" y="356724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027240" y="35668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160960" y="35668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61920" y="309600"/>
            <a:ext cx="62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 prądowe skutec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962000" y="1620720"/>
            <a:ext cx="5639040" cy="2438640"/>
            <a:chOff x="1962000" y="1620720"/>
            <a:chExt cx="5639040" cy="2438640"/>
          </a:xfrm>
        </p:grpSpPr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2560680" y="1773360"/>
                  <a:ext cx="2535120" cy="10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2419200" y="2755800"/>
                  <a:ext cx="3041640" cy="107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1" name=""/>
            <p:cNvSpPr/>
            <p:nvPr/>
          </p:nvSpPr>
          <p:spPr>
            <a:xfrm>
              <a:off x="1962000" y="4059360"/>
              <a:ext cx="56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62000" y="1620720"/>
              <a:ext cx="56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962000" y="162072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7601040" y="162072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20040" y="4295880"/>
            <a:ext cx="84135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spółczynnik prądowego wykorzystania obwodu wejści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zmocnienie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4:12:49Z</dcterms:created>
  <dc:creator>Agnieszka Kukawczynska</dc:creator>
  <dc:description/>
  <dc:language>en-US</dc:language>
  <cp:lastModifiedBy>MK</cp:lastModifiedBy>
  <dcterms:modified xsi:type="dcterms:W3CDTF">2004-10-19T15:19:59Z</dcterms:modified>
  <cp:revision>116</cp:revision>
  <dc:subject/>
  <dc:title>Właściwości częstotliwościowe wzmacniaczy tranzystorowych</dc:title>
</cp:coreProperties>
</file>