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219-88C9-4EBE-A037-9937DDD2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3DC-ACCE-45A5-B838-EB514E82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AD1-7FDE-420F-A854-13244D3E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96B-CCF7-4026-AD8D-7AB09AAA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DF2-1769-447C-9442-3F0CC81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55F-58C1-4899-BBAD-3F1F40F1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F79-2515-4A39-9C57-78D7CB24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894-862E-4F2E-BD64-CCDDAB2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D76-42AC-4B49-9687-ADF0D4E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ACF-6800-400B-BC8A-913CEC22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7AE-9AEE-4F71-8E30-2283FDA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1C2-2258-43C4-88D4-95AAC28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FD2-5C5E-4C11-98DF-39ED4C094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3/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660680" y="2133720"/>
            <a:ext cx="5995800" cy="222084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520" y="13651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83000" y="258444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772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1024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891040" y="338472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89284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4600" y="250200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00440" y="5462640"/>
                <a:ext cx="1843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0920" y="1808280"/>
            <a:ext cx="2820240" cy="2707560"/>
            <a:chOff x="250920" y="1808280"/>
            <a:chExt cx="2820240" cy="2707560"/>
          </a:xfrm>
        </p:grpSpPr>
        <p:sp>
          <p:nvSpPr>
            <p:cNvPr id="376" name=""/>
            <p:cNvSpPr/>
            <p:nvPr/>
          </p:nvSpPr>
          <p:spPr>
            <a:xfrm>
              <a:off x="1488960" y="23479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88960" y="250020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0720" y="2336760"/>
              <a:ext cx="1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4360" y="295740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92280" y="291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1120" y="19875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20720" y="204300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0720" y="430056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20720" y="2043000"/>
              <a:ext cx="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2040" y="423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960" y="2924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958680" y="2232000"/>
                  <a:ext cx="4129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"/>
            <p:cNvSpPr/>
            <p:nvPr/>
          </p:nvSpPr>
          <p:spPr>
            <a:xfrm>
              <a:off x="1631880" y="2957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920" y="3110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0840" y="18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9880" y="4056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31880" y="26766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947960" y="2043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0920" y="29574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1080" y="30337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6840" y="333540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606680" y="4074840"/>
              <a:ext cx="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623960" y="386352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3332160"/>
              <a:ext cx="49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048000" y="17733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49800" y="2241360"/>
            <a:ext cx="5252400" cy="2767320"/>
            <a:chOff x="3349800" y="2241360"/>
            <a:chExt cx="5252400" cy="2767320"/>
          </a:xfrm>
        </p:grpSpPr>
        <p:sp>
          <p:nvSpPr>
            <p:cNvPr id="402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405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409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18800" y="2836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82560" y="35942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83760" y="246528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5248440" y="4464000"/>
                  <a:ext cx="3054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4040" y="32274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5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466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587600" y="1639440"/>
            <a:ext cx="0" cy="27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83640" y="41338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2080" y="13651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23960" y="199188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7400" y="4921200"/>
            <a:ext cx="289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05040" y="17175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0920" y="511020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7640" y="2727360"/>
            <a:ext cx="2311200" cy="852480"/>
          </a:xfrm>
          <a:custGeom>
            <a:avLst/>
            <a:gdLst/>
            <a:ahLst/>
            <a:rect l="l" t="t" r="r" b="b"/>
            <a:pathLst>
              <a:path w="1456" h="537">
                <a:moveTo>
                  <a:pt x="0" y="537"/>
                </a:moveTo>
                <a:cubicBezTo>
                  <a:pt x="83" y="454"/>
                  <a:pt x="166" y="371"/>
                  <a:pt x="244" y="304"/>
                </a:cubicBezTo>
                <a:cubicBezTo>
                  <a:pt x="322" y="237"/>
                  <a:pt x="387" y="185"/>
                  <a:pt x="467" y="137"/>
                </a:cubicBezTo>
                <a:cubicBezTo>
                  <a:pt x="547" y="89"/>
                  <a:pt x="631" y="30"/>
                  <a:pt x="722" y="15"/>
                </a:cubicBezTo>
                <a:cubicBezTo>
                  <a:pt x="813" y="0"/>
                  <a:pt x="918" y="10"/>
                  <a:pt x="1011" y="49"/>
                </a:cubicBezTo>
                <a:cubicBezTo>
                  <a:pt x="1104" y="88"/>
                  <a:pt x="1204" y="202"/>
                  <a:pt x="1278" y="248"/>
                </a:cubicBezTo>
                <a:cubicBezTo>
                  <a:pt x="1352" y="294"/>
                  <a:pt x="1404" y="310"/>
                  <a:pt x="1456" y="32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773600" y="203796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67400" y="4967280"/>
            <a:ext cx="28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4680" y="176364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99920" y="515628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10120" y="2857680"/>
            <a:ext cx="2452680" cy="863280"/>
          </a:xfrm>
          <a:custGeom>
            <a:avLst/>
            <a:gdLst/>
            <a:ahLst/>
            <a:rect l="l" t="t" r="r" b="b"/>
            <a:pathLst>
              <a:path w="1545" h="544">
                <a:moveTo>
                  <a:pt x="0" y="544"/>
                </a:moveTo>
                <a:cubicBezTo>
                  <a:pt x="50" y="464"/>
                  <a:pt x="100" y="385"/>
                  <a:pt x="167" y="344"/>
                </a:cubicBezTo>
                <a:cubicBezTo>
                  <a:pt x="234" y="303"/>
                  <a:pt x="319" y="309"/>
                  <a:pt x="400" y="300"/>
                </a:cubicBezTo>
                <a:cubicBezTo>
                  <a:pt x="481" y="291"/>
                  <a:pt x="543" y="302"/>
                  <a:pt x="656" y="289"/>
                </a:cubicBezTo>
                <a:cubicBezTo>
                  <a:pt x="769" y="276"/>
                  <a:pt x="961" y="239"/>
                  <a:pt x="1078" y="222"/>
                </a:cubicBezTo>
                <a:cubicBezTo>
                  <a:pt x="1195" y="205"/>
                  <a:pt x="1278" y="226"/>
                  <a:pt x="1356" y="189"/>
                </a:cubicBezTo>
                <a:cubicBezTo>
                  <a:pt x="1434" y="152"/>
                  <a:pt x="1489" y="76"/>
                  <a:pt x="1545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517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520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523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537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541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545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025720" y="1954080"/>
            <a:ext cx="4356360" cy="2211120"/>
            <a:chOff x="2025720" y="1954080"/>
            <a:chExt cx="4356360" cy="2211120"/>
          </a:xfrm>
        </p:grpSpPr>
        <p:grpSp>
          <p:nvGrpSpPr>
            <p:cNvPr id="613" name=""/>
            <p:cNvGrpSpPr/>
            <p:nvPr/>
          </p:nvGrpSpPr>
          <p:grpSpPr>
            <a:xfrm>
              <a:off x="4649040" y="2816280"/>
              <a:ext cx="449640" cy="826920"/>
              <a:chOff x="4649040" y="2816280"/>
              <a:chExt cx="449640" cy="826920"/>
            </a:xfrm>
          </p:grpSpPr>
          <p:sp>
            <p:nvSpPr>
              <p:cNvPr id="614" name=""/>
              <p:cNvSpPr/>
              <p:nvPr/>
            </p:nvSpPr>
            <p:spPr>
              <a:xfrm>
                <a:off x="4649040" y="2816280"/>
                <a:ext cx="437760" cy="528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0920" y="3114000"/>
                <a:ext cx="437760" cy="529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7080" y="3018960"/>
                <a:ext cx="0" cy="48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990880" y="3099600"/>
              <a:ext cx="348840" cy="92880"/>
              <a:chOff x="2990880" y="3099600"/>
              <a:chExt cx="348840" cy="92880"/>
            </a:xfrm>
          </p:grpSpPr>
          <p:sp>
            <p:nvSpPr>
              <p:cNvPr id="618" name=""/>
              <p:cNvSpPr/>
              <p:nvPr/>
            </p:nvSpPr>
            <p:spPr>
              <a:xfrm>
                <a:off x="2997720" y="30996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0880" y="319248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3646440" y="2507400"/>
              <a:ext cx="86760" cy="372600"/>
              <a:chOff x="3646440" y="2507400"/>
              <a:chExt cx="86760" cy="37260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3646440" y="25074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733200" y="25146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2672640" y="2691720"/>
              <a:ext cx="95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169080" y="269172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87440" y="3200400"/>
              <a:ext cx="0" cy="7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30600" y="3933000"/>
              <a:ext cx="30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8600" y="2711880"/>
              <a:ext cx="21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9240" y="2711880"/>
              <a:ext cx="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80520" y="364716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00600" y="238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81760" y="240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1320" y="368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35040" y="3012120"/>
              <a:ext cx="75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1692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862720" y="2793960"/>
              <a:ext cx="0" cy="93528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840" y="2969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44960" y="38887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18600" y="385596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60000" y="26809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19400" y="266040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2025720" y="3918240"/>
                  <a:ext cx="121320" cy="24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381640" y="2087640"/>
                <a:ext cx="1905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6" name=""/>
          <p:cNvGrpSpPr/>
          <p:nvPr/>
        </p:nvGrpSpPr>
        <p:grpSpPr>
          <a:xfrm>
            <a:off x="255600" y="1453680"/>
            <a:ext cx="4695480" cy="3207240"/>
            <a:chOff x="255600" y="1453680"/>
            <a:chExt cx="4695480" cy="3207240"/>
          </a:xfrm>
        </p:grpSpPr>
        <p:sp>
          <p:nvSpPr>
            <p:cNvPr id="647" name=""/>
            <p:cNvSpPr/>
            <p:nvPr/>
          </p:nvSpPr>
          <p:spPr>
            <a:xfrm rot="10800000">
              <a:off x="1763280" y="1628640"/>
              <a:ext cx="276120" cy="781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1716120" y="3933720"/>
              <a:ext cx="394920" cy="399960"/>
              <a:chOff x="1716120" y="3933720"/>
              <a:chExt cx="394920" cy="399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920600" y="393372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16120" y="4296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506760" y="2884320"/>
              <a:ext cx="1129680" cy="941040"/>
              <a:chOff x="3506760" y="2884320"/>
              <a:chExt cx="1129680" cy="9410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3845520" y="3290040"/>
                <a:ext cx="790920" cy="134640"/>
                <a:chOff x="3845520" y="3290040"/>
                <a:chExt cx="790920" cy="1346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45520" y="3290040"/>
                  <a:ext cx="79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08680" y="3424680"/>
                  <a:ext cx="26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4241520" y="34254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6760" y="2884320"/>
                <a:ext cx="36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4349880" y="263844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3640" y="1724040"/>
              <a:ext cx="59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508120" y="282708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84520" y="2962440"/>
              <a:ext cx="101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71680" y="1996920"/>
              <a:ext cx="63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671400" y="2953800"/>
              <a:ext cx="1236240" cy="936720"/>
              <a:chOff x="671400" y="2953800"/>
              <a:chExt cx="1236240" cy="936720"/>
            </a:xfrm>
          </p:grpSpPr>
          <p:sp>
            <p:nvSpPr>
              <p:cNvPr id="663" name=""/>
              <p:cNvSpPr/>
              <p:nvPr/>
            </p:nvSpPr>
            <p:spPr>
              <a:xfrm>
                <a:off x="1512720" y="3141000"/>
                <a:ext cx="0" cy="66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12720" y="3621960"/>
                <a:ext cx="394920" cy="26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512720" y="2953800"/>
                <a:ext cx="394920" cy="40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671400" y="3486960"/>
                <a:ext cx="78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 flipV="1">
              <a:off x="1889280" y="2420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913040" y="145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3040" y="1454040"/>
              <a:ext cx="23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251240" y="1453680"/>
              <a:ext cx="0" cy="18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049640" y="3844800"/>
              <a:ext cx="393480" cy="399960"/>
              <a:chOff x="4049640" y="3844800"/>
              <a:chExt cx="393480" cy="399960"/>
            </a:xfrm>
          </p:grpSpPr>
          <p:sp>
            <p:nvSpPr>
              <p:cNvPr id="672" name=""/>
              <p:cNvSpPr/>
              <p:nvPr/>
            </p:nvSpPr>
            <p:spPr>
              <a:xfrm>
                <a:off x="4253400" y="38448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49640" y="4207680"/>
                <a:ext cx="39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255600" y="31878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1480" y="1736640"/>
              <a:ext cx="1738080" cy="292428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994040" y="211464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76400" y="253800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1870200" y="3279240"/>
            <a:ext cx="298116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852560" y="3649680"/>
            <a:ext cx="29466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10160" y="892080"/>
            <a:ext cx="1954080" cy="74556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1/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97880" y="202572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00160" y="193500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411960" y="4282920"/>
                <a:ext cx="1473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59120" y="345744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010120" y="187020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59680" y="9079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662440" y="3303720"/>
                <a:ext cx="24987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796000" y="2019240"/>
                <a:ext cx="155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 rot="10800000">
            <a:off x="1709640" y="2228760"/>
            <a:ext cx="27648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7680" y="3343320"/>
            <a:ext cx="1120320" cy="1530360"/>
            <a:chOff x="3757680" y="3343320"/>
            <a:chExt cx="1120320" cy="1530360"/>
          </a:xfrm>
        </p:grpSpPr>
        <p:grpSp>
          <p:nvGrpSpPr>
            <p:cNvPr id="726" name=""/>
            <p:cNvGrpSpPr/>
            <p:nvPr/>
          </p:nvGrpSpPr>
          <p:grpSpPr>
            <a:xfrm>
              <a:off x="3792600" y="3890880"/>
              <a:ext cx="790200" cy="134640"/>
              <a:chOff x="3792600" y="3890880"/>
              <a:chExt cx="790200" cy="134640"/>
            </a:xfrm>
          </p:grpSpPr>
          <p:sp>
            <p:nvSpPr>
              <p:cNvPr id="727" name=""/>
              <p:cNvSpPr/>
              <p:nvPr/>
            </p:nvSpPr>
            <p:spPr>
              <a:xfrm>
                <a:off x="3792600" y="3890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55760" y="4025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4187880" y="4025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57680" y="3579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6800" y="3343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92280" y="2360520"/>
            <a:ext cx="87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60440" y="3568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89040" y="3738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06600" y="23670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17400" y="3553920"/>
            <a:ext cx="1236600" cy="936720"/>
            <a:chOff x="617400" y="3553920"/>
            <a:chExt cx="1236600" cy="936720"/>
          </a:xfrm>
        </p:grpSpPr>
        <p:sp>
          <p:nvSpPr>
            <p:cNvPr id="737" name=""/>
            <p:cNvSpPr/>
            <p:nvPr/>
          </p:nvSpPr>
          <p:spPr>
            <a:xfrm>
              <a:off x="1458720" y="374112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58720" y="4222080"/>
              <a:ext cx="39528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458720" y="3553920"/>
              <a:ext cx="39528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17400" y="4087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1835280" y="302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859040" y="2053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59040" y="2054160"/>
            <a:ext cx="23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197240" y="2053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1600" y="3787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78000" y="3881520"/>
            <a:ext cx="276480" cy="7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627280" y="3132000"/>
            <a:ext cx="100080" cy="447480"/>
            <a:chOff x="2627280" y="3132000"/>
            <a:chExt cx="100080" cy="447480"/>
          </a:xfrm>
        </p:grpSpPr>
        <p:sp>
          <p:nvSpPr>
            <p:cNvPr id="748" name=""/>
            <p:cNvSpPr/>
            <p:nvPr/>
          </p:nvSpPr>
          <p:spPr>
            <a:xfrm>
              <a:off x="2627280" y="313812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27360" y="313200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 flipH="1">
            <a:off x="1798560" y="3333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51120" y="3351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27400" y="3351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000240" y="4651200"/>
            <a:ext cx="393840" cy="399960"/>
            <a:chOff x="3000240" y="4651200"/>
            <a:chExt cx="393840" cy="399960"/>
          </a:xfrm>
        </p:grpSpPr>
        <p:sp>
          <p:nvSpPr>
            <p:cNvPr id="754" name=""/>
            <p:cNvSpPr/>
            <p:nvPr/>
          </p:nvSpPr>
          <p:spPr>
            <a:xfrm>
              <a:off x="3205080" y="46512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0240" y="50241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162600" y="28368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6120" y="3559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84520" y="3292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981600" y="4680000"/>
            <a:ext cx="393480" cy="399960"/>
            <a:chOff x="3981600" y="4680000"/>
            <a:chExt cx="393480" cy="399960"/>
          </a:xfrm>
        </p:grpSpPr>
        <p:sp>
          <p:nvSpPr>
            <p:cNvPr id="760" name=""/>
            <p:cNvSpPr/>
            <p:nvPr/>
          </p:nvSpPr>
          <p:spPr>
            <a:xfrm>
              <a:off x="4186080" y="4680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81600" y="505296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619280" y="4632480"/>
            <a:ext cx="393840" cy="399960"/>
            <a:chOff x="1619280" y="4632480"/>
            <a:chExt cx="393840" cy="399960"/>
          </a:xfrm>
        </p:grpSpPr>
        <p:sp>
          <p:nvSpPr>
            <p:cNvPr id="763" name=""/>
            <p:cNvSpPr/>
            <p:nvPr/>
          </p:nvSpPr>
          <p:spPr>
            <a:xfrm>
              <a:off x="1824120" y="4632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19280" y="5005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V="1">
            <a:off x="1822320" y="44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8040" y="2154240"/>
            <a:ext cx="2019240" cy="3487680"/>
          </a:xfrm>
          <a:custGeom>
            <a:avLst/>
            <a:gdLst/>
            <a:ahLst/>
            <a:rect l="l" t="t" r="r" b="b"/>
            <a:pathLst>
              <a:path w="1272" h="2197">
                <a:moveTo>
                  <a:pt x="1265" y="521"/>
                </a:moveTo>
                <a:cubicBezTo>
                  <a:pt x="1268" y="336"/>
                  <a:pt x="1272" y="152"/>
                  <a:pt x="1165" y="76"/>
                </a:cubicBezTo>
                <a:cubicBezTo>
                  <a:pt x="1058" y="0"/>
                  <a:pt x="775" y="48"/>
                  <a:pt x="621" y="65"/>
                </a:cubicBezTo>
                <a:cubicBezTo>
                  <a:pt x="467" y="82"/>
                  <a:pt x="334" y="56"/>
                  <a:pt x="243" y="176"/>
                </a:cubicBezTo>
                <a:cubicBezTo>
                  <a:pt x="152" y="296"/>
                  <a:pt x="109" y="573"/>
                  <a:pt x="76" y="788"/>
                </a:cubicBezTo>
                <a:cubicBezTo>
                  <a:pt x="43" y="1003"/>
                  <a:pt x="34" y="1284"/>
                  <a:pt x="43" y="1465"/>
                </a:cubicBezTo>
                <a:cubicBezTo>
                  <a:pt x="52" y="1646"/>
                  <a:pt x="0" y="1765"/>
                  <a:pt x="132" y="1876"/>
                </a:cubicBezTo>
                <a:cubicBezTo>
                  <a:pt x="264" y="1987"/>
                  <a:pt x="656" y="2197"/>
                  <a:pt x="832" y="2132"/>
                </a:cubicBezTo>
                <a:cubicBezTo>
                  <a:pt x="1008" y="2067"/>
                  <a:pt x="1128" y="1592"/>
                  <a:pt x="1187" y="148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01760" y="1714680"/>
            <a:ext cx="2630520" cy="1989000"/>
          </a:xfrm>
          <a:custGeom>
            <a:avLst/>
            <a:gdLst/>
            <a:ahLst/>
            <a:rect l="l" t="t" r="r" b="b"/>
            <a:pathLst>
              <a:path w="1657" h="1253">
                <a:moveTo>
                  <a:pt x="1657" y="65"/>
                </a:moveTo>
                <a:cubicBezTo>
                  <a:pt x="1596" y="32"/>
                  <a:pt x="1536" y="0"/>
                  <a:pt x="1469" y="9"/>
                </a:cubicBezTo>
                <a:cubicBezTo>
                  <a:pt x="1402" y="18"/>
                  <a:pt x="1326" y="115"/>
                  <a:pt x="1257" y="120"/>
                </a:cubicBezTo>
                <a:cubicBezTo>
                  <a:pt x="1188" y="125"/>
                  <a:pt x="1129" y="38"/>
                  <a:pt x="1057" y="42"/>
                </a:cubicBezTo>
                <a:cubicBezTo>
                  <a:pt x="985" y="46"/>
                  <a:pt x="891" y="144"/>
                  <a:pt x="824" y="142"/>
                </a:cubicBezTo>
                <a:cubicBezTo>
                  <a:pt x="757" y="140"/>
                  <a:pt x="731" y="25"/>
                  <a:pt x="657" y="31"/>
                </a:cubicBezTo>
                <a:cubicBezTo>
                  <a:pt x="583" y="37"/>
                  <a:pt x="451" y="169"/>
                  <a:pt x="379" y="176"/>
                </a:cubicBezTo>
                <a:cubicBezTo>
                  <a:pt x="307" y="183"/>
                  <a:pt x="272" y="63"/>
                  <a:pt x="224" y="76"/>
                </a:cubicBezTo>
                <a:cubicBezTo>
                  <a:pt x="176" y="89"/>
                  <a:pt x="93" y="190"/>
                  <a:pt x="91" y="253"/>
                </a:cubicBezTo>
                <a:cubicBezTo>
                  <a:pt x="89" y="316"/>
                  <a:pt x="226" y="396"/>
                  <a:pt x="213" y="453"/>
                </a:cubicBezTo>
                <a:cubicBezTo>
                  <a:pt x="200" y="510"/>
                  <a:pt x="26" y="542"/>
                  <a:pt x="13" y="598"/>
                </a:cubicBezTo>
                <a:cubicBezTo>
                  <a:pt x="0" y="654"/>
                  <a:pt x="124" y="728"/>
                  <a:pt x="135" y="787"/>
                </a:cubicBezTo>
                <a:cubicBezTo>
                  <a:pt x="146" y="846"/>
                  <a:pt x="62" y="909"/>
                  <a:pt x="79" y="953"/>
                </a:cubicBezTo>
                <a:cubicBezTo>
                  <a:pt x="96" y="997"/>
                  <a:pt x="218" y="1003"/>
                  <a:pt x="235" y="1053"/>
                </a:cubicBezTo>
                <a:cubicBezTo>
                  <a:pt x="252" y="1103"/>
                  <a:pt x="215" y="1178"/>
                  <a:pt x="179" y="125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51120" y="3044880"/>
            <a:ext cx="1895400" cy="1647720"/>
          </a:xfrm>
          <a:custGeom>
            <a:avLst/>
            <a:gdLst/>
            <a:ahLst/>
            <a:rect l="l" t="t" r="r" b="b"/>
            <a:pathLst>
              <a:path w="1194" h="1038">
                <a:moveTo>
                  <a:pt x="1134" y="1038"/>
                </a:moveTo>
                <a:cubicBezTo>
                  <a:pt x="1099" y="1005"/>
                  <a:pt x="1065" y="973"/>
                  <a:pt x="1067" y="938"/>
                </a:cubicBezTo>
                <a:cubicBezTo>
                  <a:pt x="1069" y="903"/>
                  <a:pt x="1145" y="874"/>
                  <a:pt x="1145" y="826"/>
                </a:cubicBezTo>
                <a:cubicBezTo>
                  <a:pt x="1145" y="778"/>
                  <a:pt x="1060" y="699"/>
                  <a:pt x="1067" y="649"/>
                </a:cubicBezTo>
                <a:cubicBezTo>
                  <a:pt x="1074" y="599"/>
                  <a:pt x="1194" y="563"/>
                  <a:pt x="1189" y="526"/>
                </a:cubicBezTo>
                <a:cubicBezTo>
                  <a:pt x="1184" y="489"/>
                  <a:pt x="1045" y="465"/>
                  <a:pt x="1034" y="426"/>
                </a:cubicBezTo>
                <a:cubicBezTo>
                  <a:pt x="1023" y="387"/>
                  <a:pt x="1127" y="328"/>
                  <a:pt x="1123" y="293"/>
                </a:cubicBezTo>
                <a:cubicBezTo>
                  <a:pt x="1119" y="258"/>
                  <a:pt x="1039" y="246"/>
                  <a:pt x="1011" y="215"/>
                </a:cubicBezTo>
                <a:cubicBezTo>
                  <a:pt x="983" y="184"/>
                  <a:pt x="987" y="111"/>
                  <a:pt x="956" y="104"/>
                </a:cubicBezTo>
                <a:cubicBezTo>
                  <a:pt x="925" y="97"/>
                  <a:pt x="857" y="180"/>
                  <a:pt x="822" y="171"/>
                </a:cubicBezTo>
                <a:cubicBezTo>
                  <a:pt x="787" y="162"/>
                  <a:pt x="774" y="49"/>
                  <a:pt x="745" y="49"/>
                </a:cubicBezTo>
                <a:cubicBezTo>
                  <a:pt x="716" y="49"/>
                  <a:pt x="676" y="178"/>
                  <a:pt x="645" y="171"/>
                </a:cubicBezTo>
                <a:cubicBezTo>
                  <a:pt x="614" y="164"/>
                  <a:pt x="597" y="8"/>
                  <a:pt x="556" y="4"/>
                </a:cubicBezTo>
                <a:cubicBezTo>
                  <a:pt x="515" y="0"/>
                  <a:pt x="441" y="138"/>
                  <a:pt x="400" y="149"/>
                </a:cubicBezTo>
                <a:cubicBezTo>
                  <a:pt x="359" y="160"/>
                  <a:pt x="342" y="73"/>
                  <a:pt x="311" y="71"/>
                </a:cubicBezTo>
                <a:cubicBezTo>
                  <a:pt x="280" y="69"/>
                  <a:pt x="246" y="136"/>
                  <a:pt x="211" y="138"/>
                </a:cubicBezTo>
                <a:cubicBezTo>
                  <a:pt x="176" y="140"/>
                  <a:pt x="120" y="62"/>
                  <a:pt x="100" y="82"/>
                </a:cubicBezTo>
                <a:cubicBezTo>
                  <a:pt x="80" y="102"/>
                  <a:pt x="106" y="197"/>
                  <a:pt x="89" y="260"/>
                </a:cubicBezTo>
                <a:cubicBezTo>
                  <a:pt x="72" y="323"/>
                  <a:pt x="15" y="427"/>
                  <a:pt x="0" y="46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8440" y="151272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'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12600" y="3235320"/>
            <a:ext cx="4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5708520" y="4630680"/>
                <a:ext cx="1814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49240" y="1243080"/>
            <a:ext cx="7916040" cy="5406840"/>
            <a:chOff x="849240" y="1243080"/>
            <a:chExt cx="7916040" cy="5406840"/>
          </a:xfrm>
        </p:grpSpPr>
        <p:sp>
          <p:nvSpPr>
            <p:cNvPr id="774" name=""/>
            <p:cNvSpPr/>
            <p:nvPr/>
          </p:nvSpPr>
          <p:spPr>
            <a:xfrm flipV="1">
              <a:off x="1800360" y="1864800"/>
              <a:ext cx="0" cy="24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93800" y="42559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817640" y="2280960"/>
              <a:ext cx="193680" cy="19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028960" y="1881000"/>
              <a:ext cx="28400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994040" y="2379240"/>
              <a:ext cx="285732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1976400" y="2777760"/>
              <a:ext cx="2928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1941480" y="3125880"/>
              <a:ext cx="290988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1870200" y="3476520"/>
              <a:ext cx="29811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1852560" y="3823920"/>
              <a:ext cx="29466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03560" y="37702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46960" y="16714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17640" y="2379600"/>
              <a:ext cx="2840040" cy="1860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03520" y="414828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9240" y="286236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17640" y="329400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3920" y="3276720"/>
              <a:ext cx="0" cy="101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91400" y="282240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11560" y="1243080"/>
              <a:ext cx="1954080" cy="745560"/>
            </a:xfrm>
            <a:noFill/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achyl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1/(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||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93120" y="28749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09760" y="4390920"/>
              <a:ext cx="0" cy="22590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68760" y="327816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56120" y="1916280"/>
              <a:ext cx="0" cy="23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73760" y="2463840"/>
              <a:ext cx="1676520" cy="16621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9200" y="16956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2388240" y="4917240"/>
              <a:ext cx="157968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87480" y="465624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45600" y="468468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58600" y="307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42240" y="61754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297480" y="25300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16200" y="586908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00160" y="220968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20920" y="5634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122880" y="4324320"/>
                  <a:ext cx="2024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8" name=""/>
            <p:cNvSpPr/>
            <p:nvPr/>
          </p:nvSpPr>
          <p:spPr>
            <a:xfrm>
              <a:off x="2401920" y="2081160"/>
              <a:ext cx="1373040" cy="20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3228840"/>
              <a:ext cx="74880" cy="6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757680" y="41418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91040" y="2862360"/>
              <a:ext cx="1676520" cy="7509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5440" y="124308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ynamiczna prosta p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6161040" y="5410080"/>
                  <a:ext cx="15336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17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818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0160" y="1935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21040" y="55897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843520" y="4535640"/>
                <a:ext cx="2168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859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96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93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94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94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8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00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07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14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21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28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35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43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50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57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70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70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71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812160" y="49860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ąc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5800" y="1523880"/>
            <a:ext cx="7358760" cy="4406760"/>
            <a:chOff x="685800" y="1523880"/>
            <a:chExt cx="7358760" cy="4406760"/>
          </a:xfrm>
        </p:grpSpPr>
        <p:sp>
          <p:nvSpPr>
            <p:cNvPr id="1745" name=""/>
            <p:cNvSpPr/>
            <p:nvPr/>
          </p:nvSpPr>
          <p:spPr>
            <a:xfrm>
              <a:off x="203256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1420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rot="10800000">
              <a:off x="188856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6578640" y="4415400"/>
              <a:ext cx="727920" cy="135000"/>
              <a:chOff x="6578640" y="4415400"/>
              <a:chExt cx="727920" cy="135000"/>
            </a:xfrm>
          </p:grpSpPr>
          <p:sp>
            <p:nvSpPr>
              <p:cNvPr id="1749" name=""/>
              <p:cNvSpPr/>
              <p:nvPr/>
            </p:nvSpPr>
            <p:spPr>
              <a:xfrm>
                <a:off x="6578640" y="4415400"/>
                <a:ext cx="727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82092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1604520" y="4415400"/>
              <a:ext cx="728280" cy="135000"/>
              <a:chOff x="1604520" y="4415400"/>
              <a:chExt cx="728280" cy="135000"/>
            </a:xfrm>
          </p:grpSpPr>
          <p:sp>
            <p:nvSpPr>
              <p:cNvPr id="1752" name=""/>
              <p:cNvSpPr/>
              <p:nvPr/>
            </p:nvSpPr>
            <p:spPr>
              <a:xfrm>
                <a:off x="1604520" y="4415400"/>
                <a:ext cx="72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84680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4" name=""/>
            <p:cNvSpPr/>
            <p:nvPr/>
          </p:nvSpPr>
          <p:spPr>
            <a:xfrm>
              <a:off x="19692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9426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69200" y="5529960"/>
              <a:ext cx="497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9908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57360" y="348228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57360" y="5151960"/>
              <a:ext cx="0" cy="37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72120" y="55299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71600" y="5893920"/>
              <a:ext cx="36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07600" y="4016520"/>
              <a:ext cx="3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443360" y="4194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65160" y="4020480"/>
              <a:ext cx="35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85800" y="410580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43640" y="3037320"/>
              <a:ext cx="54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176840" y="29484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0800000">
              <a:off x="4134960" y="4391280"/>
              <a:ext cx="253800" cy="78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36000" y="4461480"/>
              <a:ext cx="53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0800000">
              <a:off x="3807360" y="2770200"/>
              <a:ext cx="203760" cy="2260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3780720" y="3037320"/>
              <a:ext cx="272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931840" y="2324880"/>
              <a:ext cx="100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60600" y="22510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97920" y="2314080"/>
              <a:ext cx="1462320" cy="1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894480" y="3482280"/>
              <a:ext cx="72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11040" y="3037320"/>
              <a:ext cx="0" cy="44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455720" y="27702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55720" y="29484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594680" y="2757240"/>
              <a:ext cx="1800" cy="53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15240" y="341568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586040" y="2304720"/>
              <a:ext cx="0" cy="46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06960" y="38386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802960" y="227124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4" name=""/>
                <p:cNvSpPr txBox="1"/>
                <p:nvPr/>
              </p:nvSpPr>
              <p:spPr>
                <a:xfrm>
                  <a:off x="5258160" y="3482280"/>
                  <a:ext cx="1325160" cy="42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5" name=""/>
            <p:cNvSpPr/>
            <p:nvPr/>
          </p:nvSpPr>
          <p:spPr>
            <a:xfrm>
              <a:off x="4937040" y="1702080"/>
              <a:ext cx="41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71280" y="2859120"/>
              <a:ext cx="72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452320" y="1523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41280" y="161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455720" y="366048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16080" y="2324880"/>
              <a:ext cx="0" cy="45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936680" y="230472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38840" y="2324880"/>
              <a:ext cx="40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56800" y="27126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32880" y="1702080"/>
              <a:ext cx="41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594680" y="3037320"/>
              <a:ext cx="0" cy="453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215240" y="546120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097960" y="250308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3573360" y="268092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53760" y="3957120"/>
              <a:ext cx="0" cy="41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7464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0800000">
              <a:off x="684864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5952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8552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4776480" y="3215520"/>
              <a:ext cx="400680" cy="44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45480" y="3482280"/>
              <a:ext cx="0" cy="3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42920" y="342468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610720" y="3877560"/>
              <a:ext cx="93240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93120" y="4550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08200" y="3927600"/>
              <a:ext cx="99288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99720" y="455076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2865600" y="2441520"/>
                <a:ext cx="316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882720" y="4708440"/>
                <a:ext cx="67453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876240" y="4303800"/>
                <a:ext cx="6964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1052640" y="48096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870120" y="1622520"/>
                <a:ext cx="7292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669960" y="4343400"/>
                <a:ext cx="7805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6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1800" y="839880"/>
            <a:ext cx="43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1600200" y="2424240"/>
                <a:ext cx="6370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d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1703520" y="4648320"/>
                <a:ext cx="61624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Δβ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142920" y="4403880"/>
                <a:ext cx="7392960" cy="20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1889280" y="2930400"/>
                <a:ext cx="4840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011400" y="4683240"/>
                <a:ext cx="2594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1965240" y="1406520"/>
                <a:ext cx="46846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57600" y="4179960"/>
                <a:ext cx="2421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285480" y="1365120"/>
            <a:ext cx="3891960" cy="3596760"/>
            <a:chOff x="285480" y="1365120"/>
            <a:chExt cx="3891960" cy="3596760"/>
          </a:xfrm>
        </p:grpSpPr>
        <p:sp>
          <p:nvSpPr>
            <p:cNvPr id="83" name=""/>
            <p:cNvSpPr/>
            <p:nvPr/>
          </p:nvSpPr>
          <p:spPr>
            <a:xfrm>
              <a:off x="1676520" y="23860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25714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4480" y="23724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520" y="35002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6856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824480" y="34686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508840" y="3592800"/>
              <a:ext cx="217440" cy="2358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480040" y="3871440"/>
              <a:ext cx="290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75000" y="2496240"/>
              <a:ext cx="290160" cy="261000"/>
              <a:chOff x="2475000" y="2496240"/>
              <a:chExt cx="290160" cy="261000"/>
            </a:xfrm>
          </p:grpSpPr>
          <p:sp>
            <p:nvSpPr>
              <p:cNvPr id="92" name=""/>
              <p:cNvSpPr/>
              <p:nvPr/>
            </p:nvSpPr>
            <p:spPr>
              <a:xfrm>
                <a:off x="2521440" y="2521440"/>
                <a:ext cx="21708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475000" y="2496240"/>
                <a:ext cx="29016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72200" y="3128760"/>
              <a:ext cx="1882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7720" y="2757600"/>
              <a:ext cx="0" cy="835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4520" y="3078720"/>
              <a:ext cx="7992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2080" y="307476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0120" y="196452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0120" y="425844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6920" y="19468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47520" y="2921400"/>
              <a:ext cx="0" cy="556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4480" y="201456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4480" y="433584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9360" y="2014560"/>
              <a:ext cx="0" cy="46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3871440"/>
              <a:ext cx="0" cy="46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4480" y="201456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4480" y="396432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06920" y="4258440"/>
              <a:ext cx="120960" cy="131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680" y="30880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82720" y="2200320"/>
                  <a:ext cx="84852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927720" y="3778560"/>
                  <a:ext cx="72504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V="1">
              <a:off x="2637720" y="2757240"/>
              <a:ext cx="0" cy="27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37720" y="3128760"/>
              <a:ext cx="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5880" y="266472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5880" y="303588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48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09080" y="210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4040" y="368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22560" y="20145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6880" y="4335840"/>
              <a:ext cx="42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4080" y="31287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1560" y="1365120"/>
              <a:ext cx="51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22560" y="4521240"/>
              <a:ext cx="599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200" y="3035880"/>
              <a:ext cx="37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65080" y="4667400"/>
                <a:ext cx="17719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0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6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jest odpowiednim dzielnikiem rezystancyj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1873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1879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9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0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1915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1917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7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0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304920" y="5029200"/>
                <a:ext cx="78944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ęciowe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mał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duż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5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u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197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0800000">
              <a:off x="858600" y="3300120"/>
              <a:ext cx="13788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1987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25560" y="42163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25560" y="4446720"/>
              <a:ext cx="17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5560" y="37530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5560" y="305748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4920" y="3206880"/>
              <a:ext cx="49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066680" y="1779480"/>
              <a:ext cx="462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509840" y="3049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525680" y="152388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525680" y="28195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1616040" y="3962520"/>
                <a:ext cx="3811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1555920" y="5257800"/>
                <a:ext cx="3960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677960" y="1112760"/>
            <a:ext cx="5894280" cy="4516560"/>
            <a:chOff x="1677960" y="1112760"/>
            <a:chExt cx="5894280" cy="4516560"/>
          </a:xfrm>
        </p:grpSpPr>
        <p:sp>
          <p:nvSpPr>
            <p:cNvPr id="2032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4552920" y="2948040"/>
              <a:ext cx="541080" cy="102600"/>
              <a:chOff x="4552920" y="2948040"/>
              <a:chExt cx="541080" cy="102600"/>
            </a:xfrm>
          </p:grpSpPr>
          <p:sp>
            <p:nvSpPr>
              <p:cNvPr id="2040" name=""/>
              <p:cNvSpPr/>
              <p:nvPr/>
            </p:nvSpPr>
            <p:spPr>
              <a:xfrm>
                <a:off x="4552920" y="294804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73292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2" name=""/>
            <p:cNvSpPr/>
            <p:nvPr/>
          </p:nvSpPr>
          <p:spPr>
            <a:xfrm>
              <a:off x="3673440" y="562932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02160" y="112716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753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9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050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>
              <a:off x="4998960" y="2581200"/>
              <a:ext cx="2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92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80708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7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932440" y="3270240"/>
              <a:ext cx="163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4511520" y="5305320"/>
              <a:ext cx="541080" cy="102960"/>
              <a:chOff x="4511520" y="5305320"/>
              <a:chExt cx="541080" cy="102960"/>
            </a:xfrm>
          </p:grpSpPr>
          <p:sp>
            <p:nvSpPr>
              <p:cNvPr id="2075" name=""/>
              <p:cNvSpPr/>
              <p:nvPr/>
            </p:nvSpPr>
            <p:spPr>
              <a:xfrm>
                <a:off x="451152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69152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7" name=""/>
            <p:cNvSpPr/>
            <p:nvPr/>
          </p:nvSpPr>
          <p:spPr>
            <a:xfrm>
              <a:off x="479916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9916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438280" y="4838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37200" y="5057640"/>
              <a:ext cx="61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57600" y="3629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276800" y="3828960"/>
              <a:ext cx="295200" cy="76320"/>
              <a:chOff x="4276800" y="3828960"/>
              <a:chExt cx="295200" cy="76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276800" y="382896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286160" y="390528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442908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2908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71840" y="477360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2616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93960" y="2857680"/>
              <a:ext cx="98424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677960" y="35798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64968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10800000">
            <a:off x="3546000" y="1452240"/>
            <a:ext cx="1890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01000" y="2948040"/>
            <a:ext cx="540720" cy="102600"/>
            <a:chOff x="7101000" y="2948040"/>
            <a:chExt cx="540720" cy="102600"/>
          </a:xfrm>
        </p:grpSpPr>
        <p:sp>
          <p:nvSpPr>
            <p:cNvPr id="2097" name=""/>
            <p:cNvSpPr/>
            <p:nvPr/>
          </p:nvSpPr>
          <p:spPr>
            <a:xfrm>
              <a:off x="7101000" y="2948040"/>
              <a:ext cx="54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81000" y="305064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3673440" y="56293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670200" y="455940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36302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649680" y="1127160"/>
            <a:ext cx="37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436840" y="3149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52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300800" y="47926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2300400" y="4856040"/>
            <a:ext cx="271440" cy="306360"/>
            <a:chOff x="2300400" y="4856040"/>
            <a:chExt cx="271440" cy="306360"/>
          </a:xfrm>
        </p:grpSpPr>
        <p:sp>
          <p:nvSpPr>
            <p:cNvPr id="2107" name=""/>
            <p:cNvSpPr/>
            <p:nvPr/>
          </p:nvSpPr>
          <p:spPr>
            <a:xfrm>
              <a:off x="244152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00400" y="513396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7547040" y="2581200"/>
            <a:ext cx="2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69464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3068640" y="3385800"/>
            <a:ext cx="357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6308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rot="10800000">
            <a:off x="2341080" y="3436560"/>
            <a:ext cx="18756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43684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243684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3548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44800" y="14954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3441600" y="3855960"/>
            <a:ext cx="457200" cy="685800"/>
            <a:chOff x="3441600" y="3855960"/>
            <a:chExt cx="457200" cy="685800"/>
          </a:xfrm>
        </p:grpSpPr>
        <p:sp>
          <p:nvSpPr>
            <p:cNvPr id="2119" name=""/>
            <p:cNvSpPr/>
            <p:nvPr/>
          </p:nvSpPr>
          <p:spPr>
            <a:xfrm>
              <a:off x="3441600" y="38559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41600" y="40845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70200" y="4008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2838600" y="4151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932440" y="3270240"/>
            <a:ext cx="163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765440" y="3173400"/>
            <a:ext cx="564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7059600" y="5305320"/>
            <a:ext cx="541080" cy="102960"/>
            <a:chOff x="7059600" y="5305320"/>
            <a:chExt cx="541080" cy="102960"/>
          </a:xfrm>
        </p:grpSpPr>
        <p:sp>
          <p:nvSpPr>
            <p:cNvPr id="2126" name=""/>
            <p:cNvSpPr/>
            <p:nvPr/>
          </p:nvSpPr>
          <p:spPr>
            <a:xfrm>
              <a:off x="7059600" y="5305320"/>
              <a:ext cx="54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39600" y="540828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73468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3468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38280" y="4838760"/>
            <a:ext cx="498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381400" y="4782960"/>
            <a:ext cx="8712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684920" y="50576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896080" y="479268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37824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378240" y="325116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08240" y="314964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3378240" y="273852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84600" y="315108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6352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39625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941640" y="2963880"/>
            <a:ext cx="91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817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35280" y="23130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57600" y="36291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00360" y="35830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357880" y="286380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5086440" y="324324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5357520" y="314172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 flipV="1">
            <a:off x="5086440" y="273060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5533920" y="31431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100480" y="230508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4773600" y="283176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5553720" y="2560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4628520" y="2305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5048280" y="108900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5067360" y="34290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095800" y="1133280"/>
            <a:ext cx="0" cy="16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52960" y="3143160"/>
            <a:ext cx="0" cy="16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75280" y="3662280"/>
            <a:ext cx="906480" cy="510120"/>
          </a:xfrm>
          <a:prstGeom prst="rect">
            <a:avLst/>
          </a:prstGeom>
          <a:solidFill>
            <a:srgbClr val="ff6699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1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165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285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291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5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428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463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510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522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525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531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534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538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542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4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546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8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553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579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619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2647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2688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9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2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2703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2706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2726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2735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7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0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2741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2744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2771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9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2780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2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1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2792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4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0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2801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4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2807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9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2810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2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2813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2816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8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2819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8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9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2860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2871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3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1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2882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4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2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2893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5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2904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4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2915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7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5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2926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6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2937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9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8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2949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1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2952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2955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7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2958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0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2964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6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2975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7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5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2986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6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2997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000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003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006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009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8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115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6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17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5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126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135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0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141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144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147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170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177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1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192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4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9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200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2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214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222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225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1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242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5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6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255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264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270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273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276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8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8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299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1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5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306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321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329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1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343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351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354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371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3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381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5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401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3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4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425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7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5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436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8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2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453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5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456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3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484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6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2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493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1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60000" y="5146560"/>
            <a:ext cx="358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42160" y="5181480"/>
            <a:ext cx="324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ższ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519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3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534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6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1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563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5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591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594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6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606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609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639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0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1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642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3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6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3663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3702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3718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3721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3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3729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3732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4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3742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4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5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3806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9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3810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2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68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7400" y="53352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49520" y="4343400"/>
                <a:ext cx="35114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52920" y="5421240"/>
                <a:ext cx="1308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3825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8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3829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1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4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3835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3838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3855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7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3868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0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3886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8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3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3904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6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0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3921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3936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8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9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2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3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3945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2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3958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0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3961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3976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3979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3982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4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3986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000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003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5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016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2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3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034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9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040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046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8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1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052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4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055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7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058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0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8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069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7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853320" y="2378160"/>
              <a:ext cx="1285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Dopuszcz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2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123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5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0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151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3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9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0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87280" y="1600200"/>
                <a:ext cx="60073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251160" y="2543040"/>
                <a:ext cx="1878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562720"/>
                <a:ext cx="5181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5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.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1905120"/>
            <a:ext cx="4613760" cy="2212200"/>
            <a:chOff x="1828800" y="1905120"/>
            <a:chExt cx="4613760" cy="2212200"/>
          </a:xfrm>
        </p:grpSpPr>
        <p:sp>
          <p:nvSpPr>
            <p:cNvPr id="214" name=""/>
            <p:cNvSpPr/>
            <p:nvPr/>
          </p:nvSpPr>
          <p:spPr>
            <a:xfrm rot="10800000">
              <a:off x="3498840" y="297144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473280" y="320040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7240" y="259056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9040" y="252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9800" y="2581200"/>
              <a:ext cx="1389240" cy="9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240" y="35812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7480" y="320040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97180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31240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6560" y="2960640"/>
              <a:ext cx="18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5800" y="3524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38640" y="257328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9040" y="351792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44840" y="254448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380120" y="2971800"/>
                  <a:ext cx="1258920" cy="36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4572000" y="20574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2895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184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6280" y="1981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96040" y="36576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259056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25732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63800" y="259056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79520" y="289548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9051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6560" y="320040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59240" y="35193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65800" y="3524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71500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86000" y="5470560"/>
                <a:ext cx="39625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model li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8720" y="1198440"/>
            <a:ext cx="1902960" cy="1087560"/>
            <a:chOff x="558720" y="1198440"/>
            <a:chExt cx="1902960" cy="1087560"/>
          </a:xfrm>
        </p:grpSpPr>
        <p:sp>
          <p:nvSpPr>
            <p:cNvPr id="249" name=""/>
            <p:cNvSpPr/>
            <p:nvPr/>
          </p:nvSpPr>
          <p:spPr>
            <a:xfrm>
              <a:off x="1565280" y="119844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8720" y="1203480"/>
              <a:ext cx="1902960" cy="1082520"/>
              <a:chOff x="558720" y="1203480"/>
              <a:chExt cx="1902960" cy="1082520"/>
            </a:xfrm>
          </p:grpSpPr>
          <p:sp>
            <p:nvSpPr>
              <p:cNvPr id="251" name=""/>
              <p:cNvSpPr/>
              <p:nvPr/>
            </p:nvSpPr>
            <p:spPr>
              <a:xfrm rot="10800000">
                <a:off x="2228040" y="163044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03200" y="185904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96800" y="124956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96800" y="223992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27040" y="185904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74400" y="1203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8720" y="155412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31720" y="124956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3360" y="124956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88800" y="2178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320480" y="140148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87720" y="1177920"/>
                <a:ext cx="3200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4040" y="2557440"/>
                <a:ext cx="6621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41440" y="4048200"/>
                <a:ext cx="29988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 flipV="1">
            <a:off x="2874960" y="5714640"/>
            <a:ext cx="2822400" cy="17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92800" y="3514680"/>
            <a:ext cx="3477960" cy="3061800"/>
            <a:chOff x="5392800" y="3514680"/>
            <a:chExt cx="3477960" cy="3061800"/>
          </a:xfrm>
        </p:grpSpPr>
        <p:sp>
          <p:nvSpPr>
            <p:cNvPr id="267" name=""/>
            <p:cNvSpPr/>
            <p:nvPr/>
          </p:nvSpPr>
          <p:spPr>
            <a:xfrm flipV="1">
              <a:off x="5955480" y="3714480"/>
              <a:ext cx="0" cy="22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55480" y="6001560"/>
              <a:ext cx="22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51880" y="3808800"/>
              <a:ext cx="1747080" cy="21888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459560" y="3514680"/>
              <a:ext cx="345600" cy="2540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1840" y="5090040"/>
              <a:ext cx="91440" cy="101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40720" y="5156280"/>
              <a:ext cx="1587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3960" y="5211360"/>
              <a:ext cx="0" cy="83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17320" y="467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2800" y="4836240"/>
              <a:ext cx="7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6160" y="617076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01880" y="5552280"/>
              <a:ext cx="66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41160" y="366912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5760" y="6161760"/>
              <a:ext cx="100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613280" y="6023160"/>
              <a:ext cx="142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85600" y="6063480"/>
              <a:ext cx="244800" cy="22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95960" y="2617920"/>
            <a:ext cx="1692360" cy="87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3" y="2968"/>
                </a:moveTo>
                <a:lnTo>
                  <a:pt x="25186" y="2968"/>
                </a:lnTo>
                <a:lnTo>
                  <a:pt x="25186" y="31040"/>
                </a:lnTo>
                <a:lnTo>
                  <a:pt x="8549" y="30377"/>
                </a:lnTo>
              </a:path>
            </a:pathLst>
          </a:custGeom>
          <a:solidFill>
            <a:srgbClr val="ff7c8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chylenie 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0520" y="3716280"/>
            <a:ext cx="1895400" cy="2703600"/>
            <a:chOff x="290520" y="3716280"/>
            <a:chExt cx="1895400" cy="2703600"/>
          </a:xfrm>
        </p:grpSpPr>
        <p:sp>
          <p:nvSpPr>
            <p:cNvPr id="284" name=""/>
            <p:cNvSpPr/>
            <p:nvPr/>
          </p:nvSpPr>
          <p:spPr>
            <a:xfrm>
              <a:off x="1782720" y="4427640"/>
              <a:ext cx="193680" cy="58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50880" y="5484960"/>
              <a:ext cx="635040" cy="56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870200" y="5538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870200" y="499248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887480" y="416196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0200" y="604980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9680" y="4541760"/>
              <a:ext cx="941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960" y="5533920"/>
              <a:ext cx="11318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6280" y="419724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17600" y="63961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400" y="4197240"/>
              <a:ext cx="81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7440" y="371628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4800" y="426888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20" y="459900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dcterms:modified xsi:type="dcterms:W3CDTF">2004-03-09T11:27:38Z</dcterms:modified>
  <cp:revision>189</cp:revision>
  <dc:subject/>
  <dc:title>UKŁADY ZASILANIA TRANZYSTORÓW</dc:title>
</cp:coreProperties>
</file>