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E825-E260-41EA-A969-49C4B7E17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156B-7B0F-4653-B501-040CBAB2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6179-A978-4D8C-9716-2A1EFEB8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E5C9-B7D6-42B3-8304-6B9E6212B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BDFC-BF13-43DB-AD58-A55F570E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A7EC-4424-48DB-8F76-5FC041AC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312E-EE04-4DAE-8B81-D4E67D36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0822-90E6-4430-9594-01D02B91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3E5E-44B8-4954-97C4-24034324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7A90-78F1-477B-AA46-4545A9ED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9399-7774-494B-910A-3556136E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A07A-7A83-4155-9D7B-C855037E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1491-DADF-4AFF-9193-9331E5C18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BILIZATORY NAPIĘĆ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DZIAŁANIU CIĄGŁY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3949560" y="601560"/>
            <a:ext cx="231840" cy="19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PARAMETRYCZ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TRANZYST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1415880" y="1862280"/>
            <a:ext cx="2859840" cy="2314440"/>
            <a:chOff x="1415880" y="1862280"/>
            <a:chExt cx="2859840" cy="2314440"/>
          </a:xfrm>
        </p:grpSpPr>
        <p:sp>
          <p:nvSpPr>
            <p:cNvPr id="666" name=""/>
            <p:cNvSpPr/>
            <p:nvPr/>
          </p:nvSpPr>
          <p:spPr>
            <a:xfrm>
              <a:off x="2509920" y="3036960"/>
              <a:ext cx="495360" cy="177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2982960" y="3122640"/>
              <a:ext cx="203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2274840" y="3122640"/>
              <a:ext cx="2412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549520" y="3271680"/>
              <a:ext cx="349200" cy="3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634840" y="331632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922480" y="2228760"/>
              <a:ext cx="555840" cy="53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043080" y="2592360"/>
              <a:ext cx="30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 flipV="1">
              <a:off x="2987280" y="2313000"/>
              <a:ext cx="12708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3240000" y="2406240"/>
              <a:ext cx="117360" cy="168120"/>
              <a:chOff x="3240000" y="2406240"/>
              <a:chExt cx="117360" cy="168120"/>
            </a:xfrm>
          </p:grpSpPr>
          <p:sp>
            <p:nvSpPr>
              <p:cNvPr id="675" name=""/>
              <p:cNvSpPr/>
              <p:nvPr/>
            </p:nvSpPr>
            <p:spPr>
              <a:xfrm flipV="1">
                <a:off x="3262680" y="2406240"/>
                <a:ext cx="88560" cy="16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240000" y="2406600"/>
                <a:ext cx="117360" cy="1303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41" y="48"/>
                    </a:moveTo>
                    <a:lnTo>
                      <a:pt x="39" y="0"/>
                    </a:lnTo>
                    <a:lnTo>
                      <a:pt x="0" y="2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 flipV="1">
              <a:off x="3351240" y="2312640"/>
              <a:ext cx="5544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203640" y="2592360"/>
              <a:ext cx="4680" cy="16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3400560" y="2255760"/>
              <a:ext cx="286920" cy="109080"/>
              <a:chOff x="3400560" y="2255760"/>
              <a:chExt cx="286920" cy="109080"/>
            </a:xfrm>
          </p:grpSpPr>
          <p:sp>
            <p:nvSpPr>
              <p:cNvPr id="680" name=""/>
              <p:cNvSpPr/>
              <p:nvPr/>
            </p:nvSpPr>
            <p:spPr>
              <a:xfrm flipV="1">
                <a:off x="3400560" y="2306880"/>
                <a:ext cx="2869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572280" y="2255760"/>
                <a:ext cx="11484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 flipH="1">
              <a:off x="2784240" y="2308320"/>
              <a:ext cx="1983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3203640" y="2747520"/>
              <a:ext cx="4680" cy="187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4" name=""/>
            <p:cNvGrpSpPr/>
            <p:nvPr/>
          </p:nvGrpSpPr>
          <p:grpSpPr>
            <a:xfrm>
              <a:off x="3143160" y="3124080"/>
              <a:ext cx="114120" cy="233280"/>
              <a:chOff x="3143160" y="3124080"/>
              <a:chExt cx="114120" cy="233280"/>
            </a:xfrm>
          </p:grpSpPr>
          <p:sp>
            <p:nvSpPr>
              <p:cNvPr id="685" name=""/>
              <p:cNvSpPr/>
              <p:nvPr/>
            </p:nvSpPr>
            <p:spPr>
              <a:xfrm>
                <a:off x="3203280" y="3124080"/>
                <a:ext cx="2520" cy="233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143160" y="3247200"/>
                <a:ext cx="114120" cy="10980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0"/>
                    </a:moveTo>
                    <a:lnTo>
                      <a:pt x="21" y="40"/>
                    </a:lnTo>
                    <a:lnTo>
                      <a:pt x="4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3147840" y="2895480"/>
              <a:ext cx="115560" cy="228240"/>
              <a:chOff x="3147840" y="2895480"/>
              <a:chExt cx="115560" cy="228240"/>
            </a:xfrm>
          </p:grpSpPr>
          <p:sp>
            <p:nvSpPr>
              <p:cNvPr id="688" name=""/>
              <p:cNvSpPr/>
              <p:nvPr/>
            </p:nvSpPr>
            <p:spPr>
              <a:xfrm flipV="1">
                <a:off x="3202920" y="2895480"/>
                <a:ext cx="2520" cy="228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147840" y="2895480"/>
                <a:ext cx="115560" cy="1087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3083040" y="3533760"/>
              <a:ext cx="255960" cy="146520"/>
              <a:chOff x="3083040" y="3533760"/>
              <a:chExt cx="255960" cy="146520"/>
            </a:xfrm>
          </p:grpSpPr>
          <p:grpSp>
            <p:nvGrpSpPr>
              <p:cNvPr id="691" name=""/>
              <p:cNvGrpSpPr/>
              <p:nvPr/>
            </p:nvGrpSpPr>
            <p:grpSpPr>
              <a:xfrm>
                <a:off x="3083040" y="3533760"/>
                <a:ext cx="255960" cy="146520"/>
                <a:chOff x="3083040" y="3533760"/>
                <a:chExt cx="255960" cy="1465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3083040" y="3664440"/>
                  <a:ext cx="22536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flipV="1">
                  <a:off x="3100320" y="3549960"/>
                  <a:ext cx="102600" cy="10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3202920" y="3550320"/>
                  <a:ext cx="136080" cy="12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3100320" y="3533760"/>
                  <a:ext cx="222120" cy="2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6" name=""/>
              <p:cNvSpPr/>
              <p:nvPr/>
            </p:nvSpPr>
            <p:spPr>
              <a:xfrm>
                <a:off x="3291120" y="3533760"/>
                <a:ext cx="31680" cy="51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7" name=""/>
            <p:cNvSpPr/>
            <p:nvPr/>
          </p:nvSpPr>
          <p:spPr>
            <a:xfrm>
              <a:off x="3203640" y="3373560"/>
              <a:ext cx="1440" cy="177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2036880" y="2255760"/>
              <a:ext cx="807480" cy="109080"/>
              <a:chOff x="2036880" y="2255760"/>
              <a:chExt cx="807480" cy="109080"/>
            </a:xfrm>
          </p:grpSpPr>
          <p:sp>
            <p:nvSpPr>
              <p:cNvPr id="699" name=""/>
              <p:cNvSpPr/>
              <p:nvPr/>
            </p:nvSpPr>
            <p:spPr>
              <a:xfrm>
                <a:off x="2036880" y="2307240"/>
                <a:ext cx="80748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729880" y="2255760"/>
                <a:ext cx="11412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1" name=""/>
            <p:cNvSpPr/>
            <p:nvPr/>
          </p:nvSpPr>
          <p:spPr>
            <a:xfrm>
              <a:off x="2289240" y="2308320"/>
              <a:ext cx="6120" cy="815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1828800" y="2255760"/>
              <a:ext cx="239400" cy="109080"/>
              <a:chOff x="1828800" y="2255760"/>
              <a:chExt cx="239400" cy="109080"/>
            </a:xfrm>
          </p:grpSpPr>
          <p:sp>
            <p:nvSpPr>
              <p:cNvPr id="703" name=""/>
              <p:cNvSpPr/>
              <p:nvPr/>
            </p:nvSpPr>
            <p:spPr>
              <a:xfrm>
                <a:off x="1828800" y="2307240"/>
                <a:ext cx="23940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954080" y="2255760"/>
                <a:ext cx="11376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3203640" y="3681360"/>
              <a:ext cx="1440" cy="479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1828800" y="4143240"/>
              <a:ext cx="20620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3674880" y="2313000"/>
              <a:ext cx="1918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3882960" y="2484360"/>
              <a:ext cx="114120" cy="1498320"/>
              <a:chOff x="3882960" y="2484360"/>
              <a:chExt cx="114120" cy="1498320"/>
            </a:xfrm>
          </p:grpSpPr>
          <p:sp>
            <p:nvSpPr>
              <p:cNvPr id="709" name=""/>
              <p:cNvSpPr/>
              <p:nvPr/>
            </p:nvSpPr>
            <p:spPr>
              <a:xfrm flipV="1">
                <a:off x="3936600" y="2484360"/>
                <a:ext cx="3240" cy="1498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882960" y="2484360"/>
                <a:ext cx="11412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1773360" y="2455560"/>
              <a:ext cx="115560" cy="1488600"/>
              <a:chOff x="1773360" y="2455560"/>
              <a:chExt cx="115560" cy="1488600"/>
            </a:xfrm>
          </p:grpSpPr>
          <p:sp>
            <p:nvSpPr>
              <p:cNvPr id="712" name=""/>
              <p:cNvSpPr/>
              <p:nvPr/>
            </p:nvSpPr>
            <p:spPr>
              <a:xfrm flipV="1">
                <a:off x="1828080" y="2455560"/>
                <a:ext cx="2520" cy="1488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773360" y="2455920"/>
                <a:ext cx="115560" cy="10944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4" name=""/>
            <p:cNvSpPr/>
            <p:nvPr/>
          </p:nvSpPr>
          <p:spPr>
            <a:xfrm>
              <a:off x="3160800" y="3094200"/>
              <a:ext cx="75960" cy="6336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160800" y="4108320"/>
              <a:ext cx="75960" cy="684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252520" y="2268360"/>
              <a:ext cx="71640" cy="702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785960" y="4108320"/>
              <a:ext cx="74520" cy="68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785960" y="2268360"/>
              <a:ext cx="74520" cy="702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848040" y="4108320"/>
              <a:ext cx="76320" cy="68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830760" y="2268360"/>
              <a:ext cx="75960" cy="702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60480" y="1862280"/>
              <a:ext cx="352440" cy="3664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953720" y="18972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002680" y="20019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498760" y="1862280"/>
              <a:ext cx="352440" cy="3664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580840" y="18972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611440" y="19922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411360" y="1862280"/>
              <a:ext cx="659160" cy="3664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500280" y="18972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578040" y="20019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670200" y="189720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06280" y="1992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322800" y="2747880"/>
              <a:ext cx="352440" cy="368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406320" y="27860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425400" y="28893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322800" y="3141720"/>
              <a:ext cx="352440" cy="368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400200" y="31798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440160" y="32637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415880" y="3009960"/>
              <a:ext cx="352440" cy="368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465200" y="30481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553760" y="3132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1" name=""/>
            <p:cNvGrpSpPr/>
            <p:nvPr/>
          </p:nvGrpSpPr>
          <p:grpSpPr>
            <a:xfrm>
              <a:off x="4111560" y="3106800"/>
              <a:ext cx="164160" cy="228600"/>
              <a:chOff x="4111560" y="3106800"/>
              <a:chExt cx="164160" cy="228600"/>
            </a:xfrm>
          </p:grpSpPr>
          <p:sp>
            <p:nvSpPr>
              <p:cNvPr id="742" name=""/>
              <p:cNvSpPr/>
              <p:nvPr/>
            </p:nvSpPr>
            <p:spPr>
              <a:xfrm>
                <a:off x="4111560" y="31068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210920" y="31827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4" name=""/>
            <p:cNvSpPr/>
            <p:nvPr/>
          </p:nvSpPr>
          <p:spPr>
            <a:xfrm>
              <a:off x="2687760" y="3699000"/>
              <a:ext cx="473040" cy="349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766960" y="373392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397320" y="3541680"/>
              <a:ext cx="40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99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3416400" y="3454560"/>
              <a:ext cx="0" cy="45720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3339720" y="2476440"/>
              <a:ext cx="343080" cy="336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513960" y="2562120"/>
              <a:ext cx="3650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0" lang="en-US" sz="1000" spc="-1" strike="noStrike" baseline="-25000">
                  <a:solidFill>
                    <a:srgbClr val="3333cc"/>
                  </a:solidFill>
                  <a:latin typeface="Times New Roman"/>
                </a:rPr>
                <a:t>B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4834080" y="1217520"/>
            <a:ext cx="3243240" cy="5100840"/>
            <a:chOff x="4834080" y="1217520"/>
            <a:chExt cx="3243240" cy="5100840"/>
          </a:xfrm>
        </p:grpSpPr>
        <p:grpSp>
          <p:nvGrpSpPr>
            <p:cNvPr id="751" name=""/>
            <p:cNvGrpSpPr/>
            <p:nvPr/>
          </p:nvGrpSpPr>
          <p:grpSpPr>
            <a:xfrm>
              <a:off x="6554880" y="3476520"/>
              <a:ext cx="457200" cy="417600"/>
              <a:chOff x="6554880" y="3476520"/>
              <a:chExt cx="457200" cy="417600"/>
            </a:xfrm>
          </p:grpSpPr>
          <p:sp>
            <p:nvSpPr>
              <p:cNvPr id="752" name=""/>
              <p:cNvSpPr/>
              <p:nvPr/>
            </p:nvSpPr>
            <p:spPr>
              <a:xfrm>
                <a:off x="6558120" y="3479760"/>
                <a:ext cx="450720" cy="41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6554880" y="3479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554880" y="3492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554880" y="35053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554880" y="3516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554880" y="35290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554880" y="3541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554880" y="3552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554880" y="35654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554880" y="35784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554880" y="35895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554880" y="36021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6554880" y="3614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554880" y="36259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6554880" y="3638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554880" y="3651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554880" y="366408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554880" y="3675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554880" y="3687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6554880" y="3700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554880" y="3711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554880" y="37242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554880" y="373716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554880" y="37483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554880" y="37609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554880" y="37735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554880" y="3784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554880" y="37972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554880" y="3810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554880" y="38210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554880" y="38340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554880" y="3846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554880" y="3857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554880" y="38703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554880" y="38829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56136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57396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58512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5977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6103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6214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6340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64704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65964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67080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6834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696000" y="3889440"/>
                <a:ext cx="504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7071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7197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73272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74388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7564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7690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78024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79284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80580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8166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82956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8421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8533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8659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8785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8896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90264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91524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92784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9390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9516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96456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9753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98832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00092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005600" y="38829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005600" y="38703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005600" y="3857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005600" y="3846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005600" y="38340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005600" y="38210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005600" y="3810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005600" y="37972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005600" y="3784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005600" y="37735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005600" y="37609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005600" y="37483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05600" y="373716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005600" y="37242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005600" y="3711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005600" y="3700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005600" y="3687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005600" y="3675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005600" y="366408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005600" y="3651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005600" y="3638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005600" y="36259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005600" y="3614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005600" y="36021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005600" y="35895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005600" y="35784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005600" y="35654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005600" y="3552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005600" y="3541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005600" y="35290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005600" y="3516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005600" y="35053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005600" y="3492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005600" y="3479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9976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9850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97248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96132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9483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9357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924600" y="347652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91200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89940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688824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87564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8626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851520" y="347652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68389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68263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681372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680256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678996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77700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676584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675324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674064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67294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71688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7039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69312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6801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6675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665640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664380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663120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662004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66070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65944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58332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65707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655812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"/>
            <p:cNvGrpSpPr/>
            <p:nvPr/>
          </p:nvGrpSpPr>
          <p:grpSpPr>
            <a:xfrm>
              <a:off x="6732720" y="3529080"/>
              <a:ext cx="426240" cy="404640"/>
              <a:chOff x="6732720" y="3529080"/>
              <a:chExt cx="426240" cy="404640"/>
            </a:xfrm>
          </p:grpSpPr>
          <p:sp>
            <p:nvSpPr>
              <p:cNvPr id="896" name=""/>
              <p:cNvSpPr/>
              <p:nvPr/>
            </p:nvSpPr>
            <p:spPr>
              <a:xfrm>
                <a:off x="6732720" y="3722400"/>
                <a:ext cx="358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748200" y="352908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6804720" y="3593880"/>
                <a:ext cx="128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835320" y="37810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004880" y="3716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906600" y="3593880"/>
                <a:ext cx="25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a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767280" y="3700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921000" y="370044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4" name=""/>
            <p:cNvSpPr/>
            <p:nvPr/>
          </p:nvSpPr>
          <p:spPr>
            <a:xfrm>
              <a:off x="6648480" y="5727600"/>
              <a:ext cx="325440" cy="19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665760" y="57513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741720" y="5813280"/>
              <a:ext cx="19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t0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870600" y="5813280"/>
              <a:ext cx="12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8" name=""/>
            <p:cNvGrpSpPr/>
            <p:nvPr/>
          </p:nvGrpSpPr>
          <p:grpSpPr>
            <a:xfrm>
              <a:off x="5618160" y="3610080"/>
              <a:ext cx="203400" cy="238320"/>
              <a:chOff x="5618160" y="3610080"/>
              <a:chExt cx="203400" cy="238320"/>
            </a:xfrm>
          </p:grpSpPr>
          <p:sp>
            <p:nvSpPr>
              <p:cNvPr id="909" name=""/>
              <p:cNvSpPr/>
              <p:nvPr/>
            </p:nvSpPr>
            <p:spPr>
              <a:xfrm>
                <a:off x="5618160" y="3610080"/>
                <a:ext cx="203400" cy="19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666040" y="3635280"/>
                <a:ext cx="4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99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708880" y="36957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9900"/>
                    </a:solidFill>
                    <a:latin typeface="Times New Roman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5657760" y="4017960"/>
              <a:ext cx="204840" cy="238320"/>
              <a:chOff x="5657760" y="4017960"/>
              <a:chExt cx="204840" cy="238320"/>
            </a:xfrm>
          </p:grpSpPr>
          <p:sp>
            <p:nvSpPr>
              <p:cNvPr id="913" name=""/>
              <p:cNvSpPr/>
              <p:nvPr/>
            </p:nvSpPr>
            <p:spPr>
              <a:xfrm>
                <a:off x="5657760" y="4017960"/>
                <a:ext cx="204840" cy="195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713200" y="4043160"/>
                <a:ext cx="4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756040" y="41036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5214960" y="1306440"/>
              <a:ext cx="63360" cy="1381320"/>
              <a:chOff x="5214960" y="1306440"/>
              <a:chExt cx="63360" cy="1381320"/>
            </a:xfrm>
          </p:grpSpPr>
          <p:sp>
            <p:nvSpPr>
              <p:cNvPr id="917" name=""/>
              <p:cNvSpPr/>
              <p:nvPr/>
            </p:nvSpPr>
            <p:spPr>
              <a:xfrm>
                <a:off x="5244840" y="1363680"/>
                <a:ext cx="3240" cy="1324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214960" y="1306440"/>
                <a:ext cx="63360" cy="637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  <a:lnTo>
                      <a:pt x="4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5237280" y="2870280"/>
              <a:ext cx="63360" cy="1380960"/>
              <a:chOff x="5237280" y="2870280"/>
              <a:chExt cx="63360" cy="1380960"/>
            </a:xfrm>
          </p:grpSpPr>
          <p:sp>
            <p:nvSpPr>
              <p:cNvPr id="920" name=""/>
              <p:cNvSpPr/>
              <p:nvPr/>
            </p:nvSpPr>
            <p:spPr>
              <a:xfrm>
                <a:off x="5267160" y="2928960"/>
                <a:ext cx="1080" cy="1322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237280" y="287028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  <a:lnTo>
                      <a:pt x="4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5260680" y="4214880"/>
              <a:ext cx="2816640" cy="63360"/>
              <a:chOff x="5260680" y="4214880"/>
              <a:chExt cx="2816640" cy="63360"/>
            </a:xfrm>
          </p:grpSpPr>
          <p:sp>
            <p:nvSpPr>
              <p:cNvPr id="923" name=""/>
              <p:cNvSpPr/>
              <p:nvPr/>
            </p:nvSpPr>
            <p:spPr>
              <a:xfrm flipH="1">
                <a:off x="5260680" y="4245120"/>
                <a:ext cx="27594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8013960" y="421488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5237280" y="4651200"/>
              <a:ext cx="63360" cy="1380960"/>
              <a:chOff x="5237280" y="4651200"/>
              <a:chExt cx="63360" cy="1380960"/>
            </a:xfrm>
          </p:grpSpPr>
          <p:sp>
            <p:nvSpPr>
              <p:cNvPr id="926" name=""/>
              <p:cNvSpPr/>
              <p:nvPr/>
            </p:nvSpPr>
            <p:spPr>
              <a:xfrm>
                <a:off x="5267160" y="4708080"/>
                <a:ext cx="1080" cy="1324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237280" y="465120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  <a:lnTo>
                      <a:pt x="4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5241600" y="2651040"/>
              <a:ext cx="2778480" cy="63720"/>
              <a:chOff x="5241600" y="2651040"/>
              <a:chExt cx="2778480" cy="63720"/>
            </a:xfrm>
          </p:grpSpPr>
          <p:sp>
            <p:nvSpPr>
              <p:cNvPr id="929" name=""/>
              <p:cNvSpPr/>
              <p:nvPr/>
            </p:nvSpPr>
            <p:spPr>
              <a:xfrm flipH="1">
                <a:off x="5241600" y="2681280"/>
                <a:ext cx="271908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956360" y="2651040"/>
                <a:ext cx="63720" cy="637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5261040" y="5992920"/>
              <a:ext cx="2795040" cy="63360"/>
              <a:chOff x="5261040" y="5992920"/>
              <a:chExt cx="2795040" cy="63360"/>
            </a:xfrm>
          </p:grpSpPr>
          <p:sp>
            <p:nvSpPr>
              <p:cNvPr id="932" name=""/>
              <p:cNvSpPr/>
              <p:nvPr/>
            </p:nvSpPr>
            <p:spPr>
              <a:xfrm flipH="1">
                <a:off x="5261040" y="6023160"/>
                <a:ext cx="273672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993080" y="5992920"/>
                <a:ext cx="6300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4" name=""/>
            <p:cNvSpPr/>
            <p:nvPr/>
          </p:nvSpPr>
          <p:spPr>
            <a:xfrm>
              <a:off x="5245200" y="1915920"/>
              <a:ext cx="1222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464520" y="1915920"/>
              <a:ext cx="10983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251680" y="3633840"/>
              <a:ext cx="1215720" cy="6080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5267520" y="3115800"/>
              <a:ext cx="2279520" cy="11257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5267520" y="5889600"/>
              <a:ext cx="119988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>
              <a:off x="6464520" y="5250960"/>
              <a:ext cx="109836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389560" y="1287360"/>
              <a:ext cx="547920" cy="18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416560" y="1312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506560" y="1373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550120" y="1312920"/>
              <a:ext cx="35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=con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443640" y="1906560"/>
              <a:ext cx="396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529400" y="2660760"/>
              <a:ext cx="432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241960" y="3627360"/>
              <a:ext cx="42840" cy="39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434280" y="3637080"/>
              <a:ext cx="39600" cy="39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443640" y="4221000"/>
              <a:ext cx="39600" cy="399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523280" y="3087720"/>
              <a:ext cx="42840" cy="39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529400" y="5241960"/>
              <a:ext cx="432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443640" y="5870520"/>
              <a:ext cx="396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5462640" y="1654200"/>
              <a:ext cx="291600" cy="241200"/>
              <a:chOff x="5462640" y="1654200"/>
              <a:chExt cx="291600" cy="241200"/>
            </a:xfrm>
          </p:grpSpPr>
          <p:sp>
            <p:nvSpPr>
              <p:cNvPr id="953" name=""/>
              <p:cNvSpPr/>
              <p:nvPr/>
            </p:nvSpPr>
            <p:spPr>
              <a:xfrm>
                <a:off x="5462640" y="1654200"/>
                <a:ext cx="291600" cy="177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513400" y="16826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608080" y="1742760"/>
                <a:ext cx="128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6" name=""/>
            <p:cNvSpPr/>
            <p:nvPr/>
          </p:nvSpPr>
          <p:spPr>
            <a:xfrm>
              <a:off x="5006880" y="12175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098680" y="1279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858080" y="2717640"/>
              <a:ext cx="201600" cy="19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913520" y="27417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956000" y="2803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496200" y="2708280"/>
              <a:ext cx="325440" cy="201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522840" y="27334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565680" y="2793960"/>
              <a:ext cx="340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0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419960" y="2708280"/>
              <a:ext cx="279360" cy="183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443360" y="27334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486560" y="2793960"/>
              <a:ext cx="27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7" name=""/>
            <p:cNvGrpSpPr/>
            <p:nvPr/>
          </p:nvGrpSpPr>
          <p:grpSpPr>
            <a:xfrm>
              <a:off x="5016600" y="2797200"/>
              <a:ext cx="204480" cy="238320"/>
              <a:chOff x="5016600" y="2797200"/>
              <a:chExt cx="204480" cy="238320"/>
            </a:xfrm>
          </p:grpSpPr>
          <p:sp>
            <p:nvSpPr>
              <p:cNvPr id="968" name=""/>
              <p:cNvSpPr/>
              <p:nvPr/>
            </p:nvSpPr>
            <p:spPr>
              <a:xfrm>
                <a:off x="5016600" y="2797200"/>
                <a:ext cx="204480" cy="19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065200" y="28224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108400" y="2882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1" name=""/>
            <p:cNvSpPr/>
            <p:nvPr/>
          </p:nvSpPr>
          <p:spPr>
            <a:xfrm>
              <a:off x="5016600" y="3031920"/>
              <a:ext cx="204840" cy="19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071680" y="30560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114520" y="31179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4" name=""/>
            <p:cNvGrpSpPr/>
            <p:nvPr/>
          </p:nvGrpSpPr>
          <p:grpSpPr>
            <a:xfrm>
              <a:off x="4834080" y="3419280"/>
              <a:ext cx="384120" cy="238320"/>
              <a:chOff x="4834080" y="3419280"/>
              <a:chExt cx="384120" cy="238320"/>
            </a:xfrm>
          </p:grpSpPr>
          <p:sp>
            <p:nvSpPr>
              <p:cNvPr id="975" name=""/>
              <p:cNvSpPr/>
              <p:nvPr/>
            </p:nvSpPr>
            <p:spPr>
              <a:xfrm>
                <a:off x="4834080" y="3419280"/>
                <a:ext cx="384120" cy="195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901760" y="34430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943520" y="3504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043240" y="3436560"/>
                <a:ext cx="150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(0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9" name=""/>
            <p:cNvSpPr/>
            <p:nvPr/>
          </p:nvSpPr>
          <p:spPr>
            <a:xfrm>
              <a:off x="7867800" y="6081840"/>
              <a:ext cx="203040" cy="193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921440" y="6105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963920" y="61657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867800" y="4297320"/>
              <a:ext cx="203040" cy="19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921440" y="432432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963920" y="4386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5" name=""/>
            <p:cNvGrpSpPr/>
            <p:nvPr/>
          </p:nvGrpSpPr>
          <p:grpSpPr>
            <a:xfrm>
              <a:off x="6500880" y="5886360"/>
              <a:ext cx="140760" cy="4680"/>
              <a:chOff x="6500880" y="5886360"/>
              <a:chExt cx="140760" cy="4680"/>
            </a:xfrm>
          </p:grpSpPr>
          <p:sp>
            <p:nvSpPr>
              <p:cNvPr id="986" name=""/>
              <p:cNvSpPr/>
              <p:nvPr/>
            </p:nvSpPr>
            <p:spPr>
              <a:xfrm>
                <a:off x="650088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513480" y="588636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52608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538680" y="58863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54984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56244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575400" y="58863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586560" y="588636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599160" y="588636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611760" y="58863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62292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63552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8" name=""/>
            <p:cNvSpPr/>
            <p:nvPr/>
          </p:nvSpPr>
          <p:spPr>
            <a:xfrm>
              <a:off x="5006880" y="4575240"/>
              <a:ext cx="204840" cy="19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059080" y="45990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135400" y="46609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599240" y="5157720"/>
              <a:ext cx="328680" cy="19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642080" y="51814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718400" y="5241960"/>
              <a:ext cx="24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t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4" name=""/>
            <p:cNvGrpSpPr/>
            <p:nvPr/>
          </p:nvGrpSpPr>
          <p:grpSpPr>
            <a:xfrm>
              <a:off x="5052960" y="2571840"/>
              <a:ext cx="168120" cy="207360"/>
              <a:chOff x="5052960" y="2571840"/>
              <a:chExt cx="168120" cy="207360"/>
            </a:xfrm>
          </p:grpSpPr>
          <p:sp>
            <p:nvSpPr>
              <p:cNvPr id="1005" name=""/>
              <p:cNvSpPr/>
              <p:nvPr/>
            </p:nvSpPr>
            <p:spPr>
              <a:xfrm>
                <a:off x="5056200" y="2574720"/>
                <a:ext cx="161640" cy="20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052960" y="257472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052960" y="2587320"/>
                <a:ext cx="61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052960" y="25984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052960" y="2611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052960" y="262368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052960" y="2634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052960" y="264780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052960" y="2660400"/>
                <a:ext cx="61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052960" y="267156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052960" y="26841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052960" y="2696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052960" y="27079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052960" y="2720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052960" y="273348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052960" y="274464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052960" y="27572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052960" y="2769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06232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07492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08608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099040" y="2773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11164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122800" y="2773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13540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14800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160960" y="277308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17176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184720" y="2773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197320" y="277308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20848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214960" y="27666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214960" y="27540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214960" y="274140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214960" y="27302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214960" y="271764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214960" y="2704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214960" y="2693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214960" y="26809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214960" y="26683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214960" y="26571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214960" y="264456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214960" y="26316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214960" y="262080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214960" y="2607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214960" y="25952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214960" y="2584080"/>
                <a:ext cx="61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214960" y="257184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20200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19084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17824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16564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15448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14188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12892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118120" y="257184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10516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09256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081400" y="257184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06880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05620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6" name=""/>
            <p:cNvSpPr/>
            <p:nvPr/>
          </p:nvSpPr>
          <p:spPr>
            <a:xfrm>
              <a:off x="5104800" y="2595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7" name=""/>
            <p:cNvGrpSpPr/>
            <p:nvPr/>
          </p:nvGrpSpPr>
          <p:grpSpPr>
            <a:xfrm>
              <a:off x="5072040" y="4141800"/>
              <a:ext cx="166680" cy="208080"/>
              <a:chOff x="5072040" y="4141800"/>
              <a:chExt cx="166680" cy="208080"/>
            </a:xfrm>
          </p:grpSpPr>
          <p:sp>
            <p:nvSpPr>
              <p:cNvPr id="1068" name=""/>
              <p:cNvSpPr/>
              <p:nvPr/>
            </p:nvSpPr>
            <p:spPr>
              <a:xfrm>
                <a:off x="5074920" y="4145040"/>
                <a:ext cx="162000" cy="20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072040" y="41450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072040" y="41576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072040" y="4168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072040" y="4181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072040" y="41943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072040" y="4205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072040" y="4218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072040" y="42307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072040" y="42418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072040" y="4254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072040" y="42674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072040" y="42782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072040" y="42912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072040" y="4303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072040" y="431640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072040" y="43275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072040" y="4340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081400" y="43434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09256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10516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118120" y="43434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12892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14188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15448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16564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17824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19084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20200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21496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22756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233680" y="433728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233680" y="432432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233680" y="4313160"/>
                <a:ext cx="5040" cy="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233680" y="430056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233680" y="428796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233680" y="4276800"/>
                <a:ext cx="504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233680" y="426420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233680" y="425124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233680" y="423864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233680" y="422748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233680" y="421488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233680" y="420228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233680" y="419112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233680" y="417852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233680" y="416556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233680" y="415440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233680" y="414180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4"/>
                    </a:moveTo>
                    <a:lnTo>
                      <a:pt x="3" y="4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22108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20848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197320" y="41418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184720" y="414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17176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160960" y="41418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14800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13540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122800" y="414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11164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099040" y="414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08608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07492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9" name=""/>
            <p:cNvSpPr/>
            <p:nvPr/>
          </p:nvSpPr>
          <p:spPr>
            <a:xfrm>
              <a:off x="5122440" y="4168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0" name=""/>
            <p:cNvGrpSpPr/>
            <p:nvPr/>
          </p:nvGrpSpPr>
          <p:grpSpPr>
            <a:xfrm>
              <a:off x="5062680" y="5925960"/>
              <a:ext cx="167760" cy="206280"/>
              <a:chOff x="5062680" y="5925960"/>
              <a:chExt cx="167760" cy="206280"/>
            </a:xfrm>
          </p:grpSpPr>
          <p:sp>
            <p:nvSpPr>
              <p:cNvPr id="1131" name=""/>
              <p:cNvSpPr/>
              <p:nvPr/>
            </p:nvSpPr>
            <p:spPr>
              <a:xfrm>
                <a:off x="5065560" y="5927400"/>
                <a:ext cx="161640" cy="20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062680" y="5927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5062680" y="59400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5062680" y="59529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062680" y="59655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062680" y="5976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5062680" y="59893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062680" y="6001920"/>
                <a:ext cx="6120" cy="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062680" y="60130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062680" y="60256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062680" y="60386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062680" y="60498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5062680" y="6062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062680" y="60750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062680" y="6086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062680" y="6098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062680" y="6111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062680" y="6122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07204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084640" y="6125760"/>
                <a:ext cx="43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09580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10840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121000" y="612576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13216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514512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157720" y="6125760"/>
                <a:ext cx="43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16888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18148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194080" y="6125760"/>
                <a:ext cx="43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20524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21784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224320" y="61196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224320" y="61084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224320" y="60958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224320" y="60829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224320" y="6071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224320" y="6059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224320" y="60465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224320" y="6035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224320" y="60228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224320" y="60098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224320" y="59990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224320" y="59860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224320" y="5973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224320" y="596232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224320" y="5949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224320" y="5937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224320" y="59259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21172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19876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18796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17500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16240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15124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13864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12604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11488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10192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08932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07816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06556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2" name=""/>
            <p:cNvSpPr/>
            <p:nvPr/>
          </p:nvSpPr>
          <p:spPr>
            <a:xfrm>
              <a:off x="5114520" y="5950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3" name=""/>
            <p:cNvGrpSpPr/>
            <p:nvPr/>
          </p:nvGrpSpPr>
          <p:grpSpPr>
            <a:xfrm>
              <a:off x="7575480" y="2944800"/>
              <a:ext cx="345240" cy="339840"/>
              <a:chOff x="7575480" y="2944800"/>
              <a:chExt cx="345240" cy="339840"/>
            </a:xfrm>
          </p:grpSpPr>
          <p:sp>
            <p:nvSpPr>
              <p:cNvPr id="1194" name=""/>
              <p:cNvSpPr/>
              <p:nvPr/>
            </p:nvSpPr>
            <p:spPr>
              <a:xfrm>
                <a:off x="7575480" y="3138480"/>
                <a:ext cx="312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586280" y="29448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639920" y="30099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794000" y="31320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7700400" y="3009960"/>
                <a:ext cx="220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a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606800" y="31161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710120" y="311616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1" name=""/>
            <p:cNvSpPr/>
            <p:nvPr/>
          </p:nvSpPr>
          <p:spPr>
            <a:xfrm>
              <a:off x="6497640" y="1525680"/>
              <a:ext cx="0" cy="3301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667200" y="1565280"/>
              <a:ext cx="813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0" lang="en-US" sz="1000" spc="-1" strike="noStrike" baseline="-25000">
                  <a:solidFill>
                    <a:srgbClr val="cc0000"/>
                  </a:solidFill>
                  <a:latin typeface="Times New Roman"/>
                </a:rPr>
                <a:t>CE</a:t>
              </a: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&gt;U</a:t>
              </a:r>
              <a:r>
                <a:rPr b="0" lang="en-US" sz="1000" spc="-1" strike="noStrike" baseline="-25000">
                  <a:solidFill>
                    <a:srgbClr val="cc0000"/>
                  </a:solidFill>
                  <a:latin typeface="Times New Roman"/>
                </a:rPr>
                <a:t>CE min </a:t>
              </a: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!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V="1">
              <a:off x="6456240" y="1963800"/>
              <a:ext cx="0" cy="4044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265720" y="3646440"/>
              <a:ext cx="1171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7534440" y="2684520"/>
              <a:ext cx="0" cy="3340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257800" y="1509840"/>
              <a:ext cx="2363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07" name=""/>
              <p:cNvSpPr txBox="1"/>
              <p:nvPr/>
            </p:nvSpPr>
            <p:spPr>
              <a:xfrm>
                <a:off x="1944720" y="1768320"/>
                <a:ext cx="21398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8" name=""/>
              <p:cNvSpPr txBox="1"/>
              <p:nvPr/>
            </p:nvSpPr>
            <p:spPr>
              <a:xfrm>
                <a:off x="1881360" y="2492280"/>
                <a:ext cx="33829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6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9" name=""/>
              <p:cNvSpPr txBox="1"/>
              <p:nvPr/>
            </p:nvSpPr>
            <p:spPr>
              <a:xfrm>
                <a:off x="1957320" y="3514680"/>
                <a:ext cx="328284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0" name=""/>
              <p:cNvSpPr txBox="1"/>
              <p:nvPr/>
            </p:nvSpPr>
            <p:spPr>
              <a:xfrm>
                <a:off x="2030400" y="4573440"/>
                <a:ext cx="44118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1" name=""/>
          <p:cNvSpPr/>
          <p:nvPr/>
        </p:nvSpPr>
        <p:spPr>
          <a:xfrm>
            <a:off x="0" y="247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PARAMETRYCZ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TRANZYST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Y KOMPENSACYJ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1424160" y="909720"/>
            <a:ext cx="6508440" cy="5724360"/>
            <a:chOff x="1424160" y="909720"/>
            <a:chExt cx="6508440" cy="5724360"/>
          </a:xfrm>
        </p:grpSpPr>
        <p:grpSp>
          <p:nvGrpSpPr>
            <p:cNvPr id="1214" name=""/>
            <p:cNvGrpSpPr/>
            <p:nvPr/>
          </p:nvGrpSpPr>
          <p:grpSpPr>
            <a:xfrm>
              <a:off x="1424160" y="909720"/>
              <a:ext cx="6508440" cy="5724360"/>
              <a:chOff x="1424160" y="909720"/>
              <a:chExt cx="6508440" cy="5724360"/>
            </a:xfrm>
          </p:grpSpPr>
          <p:graphicFrame>
            <p:nvGraphicFramePr>
              <p:cNvPr id="1215" name=""/>
              <p:cNvGraphicFramePr/>
              <p:nvPr/>
            </p:nvGraphicFramePr>
            <p:xfrm>
              <a:off x="1424160" y="909720"/>
              <a:ext cx="6508440" cy="57243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1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424160" y="909720"/>
                        <a:ext cx="6508440" cy="5724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17" name=""/>
              <p:cNvSpPr/>
              <p:nvPr/>
            </p:nvSpPr>
            <p:spPr>
              <a:xfrm>
                <a:off x="3558240" y="1193760"/>
                <a:ext cx="1471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tórnik (OC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8" name=""/>
            <p:cNvSpPr/>
            <p:nvPr/>
          </p:nvSpPr>
          <p:spPr>
            <a:xfrm flipH="1">
              <a:off x="3105000" y="1447920"/>
              <a:ext cx="49536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857880" y="905040"/>
            <a:ext cx="26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anie regulacj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0" name=""/>
              <p:cNvSpPr txBox="1"/>
              <p:nvPr/>
            </p:nvSpPr>
            <p:spPr>
              <a:xfrm>
                <a:off x="1357200" y="1357200"/>
                <a:ext cx="40910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21" name=""/>
          <p:cNvSpPr/>
          <p:nvPr/>
        </p:nvSpPr>
        <p:spPr>
          <a:xfrm>
            <a:off x="923040" y="245592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ilizowane napięc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1353960" y="3132000"/>
                <a:ext cx="600408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γ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2446200" y="4122720"/>
                <a:ext cx="22431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4" name=""/>
          <p:cNvSpPr/>
          <p:nvPr/>
        </p:nvSpPr>
        <p:spPr>
          <a:xfrm>
            <a:off x="1392120" y="40957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Y KOMPENSACYJ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993600" y="481824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7" name=""/>
              <p:cNvSpPr txBox="1"/>
              <p:nvPr/>
            </p:nvSpPr>
            <p:spPr>
              <a:xfrm>
                <a:off x="2428920" y="5338800"/>
                <a:ext cx="15127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OC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KOMPENSACYJNY ZE WZMACNIACZEM  JEDNOTRANZYSTOROW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160200" y="1200240"/>
            <a:ext cx="8664840" cy="5468760"/>
            <a:chOff x="160200" y="1200240"/>
            <a:chExt cx="8664840" cy="5468760"/>
          </a:xfrm>
        </p:grpSpPr>
        <p:sp>
          <p:nvSpPr>
            <p:cNvPr id="1230" name=""/>
            <p:cNvSpPr/>
            <p:nvPr/>
          </p:nvSpPr>
          <p:spPr>
            <a:xfrm>
              <a:off x="5326200" y="3548160"/>
              <a:ext cx="163440" cy="415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405400" y="3384720"/>
              <a:ext cx="1800" cy="17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405400" y="3954600"/>
              <a:ext cx="180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540400" y="3637080"/>
              <a:ext cx="341280" cy="298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659200" y="36752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63600" y="37688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875040" y="3156120"/>
              <a:ext cx="471600" cy="47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192560" y="3259080"/>
              <a:ext cx="3240" cy="262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H="1" flipV="1">
              <a:off x="3944880" y="3213000"/>
              <a:ext cx="238320" cy="10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9" name=""/>
            <p:cNvGrpSpPr/>
            <p:nvPr/>
          </p:nvGrpSpPr>
          <p:grpSpPr>
            <a:xfrm>
              <a:off x="4033440" y="3422520"/>
              <a:ext cx="149400" cy="98640"/>
              <a:chOff x="4033440" y="3422520"/>
              <a:chExt cx="149400" cy="98640"/>
            </a:xfrm>
          </p:grpSpPr>
          <p:sp>
            <p:nvSpPr>
              <p:cNvPr id="1240" name=""/>
              <p:cNvSpPr/>
              <p:nvPr/>
            </p:nvSpPr>
            <p:spPr>
              <a:xfrm flipH="1">
                <a:off x="4033440" y="3446640"/>
                <a:ext cx="149400" cy="74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033800" y="3422520"/>
                <a:ext cx="115920" cy="98640"/>
              </a:xfrm>
              <a:custGeom>
                <a:avLst/>
                <a:gdLst/>
                <a:ahLst/>
                <a:rect l="l" t="t" r="r" b="b"/>
                <a:pathLst>
                  <a:path w="73" h="62">
                    <a:moveTo>
                      <a:pt x="41" y="0"/>
                    </a:moveTo>
                    <a:lnTo>
                      <a:pt x="0" y="62"/>
                    </a:lnTo>
                    <a:lnTo>
                      <a:pt x="73" y="6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2" name=""/>
            <p:cNvSpPr/>
            <p:nvPr/>
          </p:nvSpPr>
          <p:spPr>
            <a:xfrm flipH="1">
              <a:off x="3944520" y="3521160"/>
              <a:ext cx="88920" cy="4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192560" y="3394080"/>
              <a:ext cx="14940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944880" y="3562200"/>
              <a:ext cx="468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V="1">
              <a:off x="3935520" y="3016080"/>
              <a:ext cx="468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 flipV="1">
              <a:off x="4336920" y="3393720"/>
              <a:ext cx="10540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326200" y="2801880"/>
              <a:ext cx="163440" cy="419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405400" y="1596960"/>
              <a:ext cx="1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405400" y="3213000"/>
              <a:ext cx="180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540400" y="2890800"/>
              <a:ext cx="341280" cy="298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659200" y="29275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763600" y="30211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052800" y="1765440"/>
              <a:ext cx="158760" cy="420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132000" y="1606680"/>
              <a:ext cx="180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132000" y="2176560"/>
              <a:ext cx="180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262320" y="1854360"/>
              <a:ext cx="341280" cy="298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369960" y="18954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475440" y="19890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941480" y="4454640"/>
              <a:ext cx="4888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711600" y="1522440"/>
              <a:ext cx="476280" cy="4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H="1">
              <a:off x="3812760" y="1844640"/>
              <a:ext cx="2667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4019400" y="1596960"/>
              <a:ext cx="10188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 flipV="1">
              <a:off x="3771720" y="1596960"/>
              <a:ext cx="11556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940200" y="1844640"/>
              <a:ext cx="14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1931760" y="1596960"/>
              <a:ext cx="18399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V="1">
              <a:off x="4130640" y="1591920"/>
              <a:ext cx="27511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V="1">
              <a:off x="3940200" y="1989000"/>
              <a:ext cx="1440" cy="105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127320" y="2367000"/>
              <a:ext cx="822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916440" y="4425840"/>
              <a:ext cx="6516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378400" y="4435560"/>
              <a:ext cx="60480" cy="55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378400" y="3375000"/>
              <a:ext cx="6048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369040" y="1563840"/>
              <a:ext cx="648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094200" y="1563840"/>
              <a:ext cx="6192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829560" y="1568520"/>
              <a:ext cx="64800" cy="6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911760" y="2340000"/>
              <a:ext cx="60120" cy="55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895400" y="4425840"/>
              <a:ext cx="6516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895400" y="1563840"/>
              <a:ext cx="65160" cy="6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8" name=""/>
            <p:cNvGrpSpPr/>
            <p:nvPr/>
          </p:nvGrpSpPr>
          <p:grpSpPr>
            <a:xfrm>
              <a:off x="5410080" y="3394080"/>
              <a:ext cx="793800" cy="9360"/>
              <a:chOff x="5410080" y="3394080"/>
              <a:chExt cx="793800" cy="9360"/>
            </a:xfrm>
          </p:grpSpPr>
          <p:sp>
            <p:nvSpPr>
              <p:cNvPr id="1279" name=""/>
              <p:cNvSpPr/>
              <p:nvPr/>
            </p:nvSpPr>
            <p:spPr>
              <a:xfrm>
                <a:off x="541008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42916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44824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46588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48496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50404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52276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54040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55948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57856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59764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616720" y="33940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63400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65308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67216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691240" y="33940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70852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72760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74668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76576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78340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80248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82120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84028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85792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87700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89608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91516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934240" y="33940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95152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97060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98968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6008760" y="33940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02604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604512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06420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083280" y="33940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10092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11964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13872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15780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17544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19452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2" name=""/>
            <p:cNvSpPr/>
            <p:nvPr/>
          </p:nvSpPr>
          <p:spPr>
            <a:xfrm>
              <a:off x="6829560" y="4425840"/>
              <a:ext cx="6012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3" name=""/>
            <p:cNvGrpSpPr/>
            <p:nvPr/>
          </p:nvGrpSpPr>
          <p:grpSpPr>
            <a:xfrm>
              <a:off x="6013440" y="3506760"/>
              <a:ext cx="96840" cy="844560"/>
              <a:chOff x="6013440" y="3506760"/>
              <a:chExt cx="96840" cy="844560"/>
            </a:xfrm>
          </p:grpSpPr>
          <p:sp>
            <p:nvSpPr>
              <p:cNvPr id="1324" name=""/>
              <p:cNvSpPr/>
              <p:nvPr/>
            </p:nvSpPr>
            <p:spPr>
              <a:xfrm>
                <a:off x="6059520" y="3506760"/>
                <a:ext cx="4680" cy="84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013440" y="3506760"/>
                <a:ext cx="96840" cy="9828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61" y="62"/>
                    </a:moveTo>
                    <a:lnTo>
                      <a:pt x="29" y="0"/>
                    </a:lnTo>
                    <a:lnTo>
                      <a:pt x="0" y="6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6" name=""/>
            <p:cNvGrpSpPr/>
            <p:nvPr/>
          </p:nvGrpSpPr>
          <p:grpSpPr>
            <a:xfrm>
              <a:off x="6802560" y="1755720"/>
              <a:ext cx="96840" cy="2511360"/>
              <a:chOff x="6802560" y="1755720"/>
              <a:chExt cx="96840" cy="2511360"/>
            </a:xfrm>
          </p:grpSpPr>
          <p:sp>
            <p:nvSpPr>
              <p:cNvPr id="1327" name=""/>
              <p:cNvSpPr/>
              <p:nvPr/>
            </p:nvSpPr>
            <p:spPr>
              <a:xfrm>
                <a:off x="6848640" y="1755720"/>
                <a:ext cx="1440" cy="251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802560" y="1755720"/>
                <a:ext cx="96840" cy="9864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61" y="62"/>
                    </a:moveTo>
                    <a:lnTo>
                      <a:pt x="29" y="0"/>
                    </a:lnTo>
                    <a:lnTo>
                      <a:pt x="0" y="6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9" name=""/>
            <p:cNvGrpSpPr/>
            <p:nvPr/>
          </p:nvGrpSpPr>
          <p:grpSpPr>
            <a:xfrm>
              <a:off x="1886040" y="1755720"/>
              <a:ext cx="98280" cy="2511360"/>
              <a:chOff x="1886040" y="1755720"/>
              <a:chExt cx="98280" cy="2511360"/>
            </a:xfrm>
          </p:grpSpPr>
          <p:sp>
            <p:nvSpPr>
              <p:cNvPr id="1330" name=""/>
              <p:cNvSpPr/>
              <p:nvPr/>
            </p:nvSpPr>
            <p:spPr>
              <a:xfrm>
                <a:off x="1932120" y="1755720"/>
                <a:ext cx="1440" cy="251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1886040" y="1755720"/>
                <a:ext cx="98280" cy="9864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62" y="62"/>
                    </a:moveTo>
                    <a:lnTo>
                      <a:pt x="29" y="0"/>
                    </a:lnTo>
                    <a:lnTo>
                      <a:pt x="0" y="6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2" name=""/>
            <p:cNvSpPr/>
            <p:nvPr/>
          </p:nvSpPr>
          <p:spPr>
            <a:xfrm>
              <a:off x="3841920" y="4221000"/>
              <a:ext cx="191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V="1">
              <a:off x="3860640" y="4117680"/>
              <a:ext cx="69840" cy="8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860640" y="4103640"/>
              <a:ext cx="1857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046400" y="4146480"/>
              <a:ext cx="180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046400" y="4108320"/>
              <a:ext cx="180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406680" y="4002120"/>
              <a:ext cx="341280" cy="29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492720" y="403380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119640" y="3726000"/>
              <a:ext cx="382680" cy="35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213960" y="3749760"/>
              <a:ext cx="1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297840" y="38052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395400" y="389880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944880" y="4221000"/>
              <a:ext cx="4680" cy="23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4" name=""/>
            <p:cNvGrpSpPr/>
            <p:nvPr/>
          </p:nvGrpSpPr>
          <p:grpSpPr>
            <a:xfrm>
              <a:off x="3940200" y="3894120"/>
              <a:ext cx="644400" cy="14400"/>
              <a:chOff x="3940200" y="3894120"/>
              <a:chExt cx="644400" cy="14400"/>
            </a:xfrm>
          </p:grpSpPr>
          <p:sp>
            <p:nvSpPr>
              <p:cNvPr id="1345" name=""/>
              <p:cNvSpPr/>
              <p:nvPr/>
            </p:nvSpPr>
            <p:spPr>
              <a:xfrm>
                <a:off x="394020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3959280" y="38941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3976560" y="389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3995640" y="389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4014720" y="389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4033800" y="38941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405144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407052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4089240" y="389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4108320" y="38941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412596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414504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416412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418320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200480" y="389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4219560" y="389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23864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425772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427500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429408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431316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433224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351320" y="38988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436896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438768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40676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4425840" y="38988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444348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46256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448164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450072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451800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453708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455616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457524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0" name=""/>
            <p:cNvGrpSpPr/>
            <p:nvPr/>
          </p:nvGrpSpPr>
          <p:grpSpPr>
            <a:xfrm>
              <a:off x="4187880" y="1765440"/>
              <a:ext cx="171360" cy="303120"/>
              <a:chOff x="4187880" y="1765440"/>
              <a:chExt cx="171360" cy="303120"/>
            </a:xfrm>
          </p:grpSpPr>
          <p:sp>
            <p:nvSpPr>
              <p:cNvPr id="1381" name=""/>
              <p:cNvSpPr/>
              <p:nvPr/>
            </p:nvSpPr>
            <p:spPr>
              <a:xfrm flipV="1">
                <a:off x="4187880" y="1765440"/>
                <a:ext cx="171360" cy="30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187880" y="1955880"/>
                <a:ext cx="87120" cy="112680"/>
              </a:xfrm>
              <a:custGeom>
                <a:avLst/>
                <a:gdLst/>
                <a:ahLst/>
                <a:rect l="l" t="t" r="r" b="b"/>
                <a:pathLst>
                  <a:path w="55" h="71">
                    <a:moveTo>
                      <a:pt x="3" y="0"/>
                    </a:moveTo>
                    <a:lnTo>
                      <a:pt x="0" y="71"/>
                    </a:lnTo>
                    <a:lnTo>
                      <a:pt x="55" y="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3" name=""/>
            <p:cNvGrpSpPr/>
            <p:nvPr/>
          </p:nvGrpSpPr>
          <p:grpSpPr>
            <a:xfrm>
              <a:off x="4452840" y="4014720"/>
              <a:ext cx="98640" cy="355680"/>
              <a:chOff x="4452840" y="4014720"/>
              <a:chExt cx="98640" cy="355680"/>
            </a:xfrm>
          </p:grpSpPr>
          <p:sp>
            <p:nvSpPr>
              <p:cNvPr id="1384" name=""/>
              <p:cNvSpPr/>
              <p:nvPr/>
            </p:nvSpPr>
            <p:spPr>
              <a:xfrm>
                <a:off x="4500720" y="4014720"/>
                <a:ext cx="1440" cy="35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452840" y="4014720"/>
                <a:ext cx="98640" cy="9864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62" y="62"/>
                    </a:moveTo>
                    <a:lnTo>
                      <a:pt x="30" y="0"/>
                    </a:lnTo>
                    <a:lnTo>
                      <a:pt x="0" y="6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6" name=""/>
            <p:cNvSpPr/>
            <p:nvPr/>
          </p:nvSpPr>
          <p:spPr>
            <a:xfrm>
              <a:off x="1554120" y="2936880"/>
              <a:ext cx="37800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648080" y="29703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773000" y="306216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383000" y="1863720"/>
              <a:ext cx="43020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455000" y="18954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579200" y="1989000"/>
              <a:ext cx="220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E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589640" y="4048200"/>
              <a:ext cx="339480" cy="27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688280" y="40813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810680" y="41734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923160" y="2922480"/>
              <a:ext cx="411120" cy="28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031520" y="29559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154640" y="304956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772080" y="1200240"/>
              <a:ext cx="34128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893040" y="12333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985560" y="13255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478320" y="3287880"/>
              <a:ext cx="33948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603960" y="33195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695040" y="34131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 flipV="1">
              <a:off x="3954240" y="4117680"/>
              <a:ext cx="74520" cy="8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5" name=""/>
            <p:cNvGrpSpPr/>
            <p:nvPr/>
          </p:nvGrpSpPr>
          <p:grpSpPr>
            <a:xfrm>
              <a:off x="3995640" y="1676160"/>
              <a:ext cx="98640" cy="144360"/>
              <a:chOff x="3995640" y="1676160"/>
              <a:chExt cx="98640" cy="144360"/>
            </a:xfrm>
          </p:grpSpPr>
          <p:sp>
            <p:nvSpPr>
              <p:cNvPr id="1406" name=""/>
              <p:cNvSpPr/>
              <p:nvPr/>
            </p:nvSpPr>
            <p:spPr>
              <a:xfrm flipV="1">
                <a:off x="4019400" y="1676160"/>
                <a:ext cx="6984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3995640" y="1676520"/>
                <a:ext cx="98640" cy="115920"/>
              </a:xfrm>
              <a:custGeom>
                <a:avLst/>
                <a:gdLst/>
                <a:ahLst/>
                <a:rect l="l" t="t" r="r" b="b"/>
                <a:pathLst>
                  <a:path w="62" h="73">
                    <a:moveTo>
                      <a:pt x="62" y="73"/>
                    </a:moveTo>
                    <a:lnTo>
                      <a:pt x="59" y="0"/>
                    </a:lnTo>
                    <a:lnTo>
                      <a:pt x="0" y="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08" name=""/>
                <p:cNvSpPr txBox="1"/>
                <p:nvPr/>
              </p:nvSpPr>
              <p:spPr>
                <a:xfrm>
                  <a:off x="190440" y="4600440"/>
                  <a:ext cx="4465800" cy="77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DC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sub>
                          </m:sSub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e>
                      </m:d>
                      <m:r>
                        <m:t xml:space="preserve">−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E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09" name=""/>
                <p:cNvSpPr txBox="1"/>
                <p:nvPr/>
              </p:nvSpPr>
              <p:spPr>
                <a:xfrm>
                  <a:off x="511200" y="5870520"/>
                  <a:ext cx="3164040" cy="79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sub>
                      </m:sSub>
                      <m:r>
                        <m:t xml:space="preserve">≈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E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1410" name=""/>
            <p:cNvGrpSpPr/>
            <p:nvPr/>
          </p:nvGrpSpPr>
          <p:grpSpPr>
            <a:xfrm>
              <a:off x="4440240" y="2687760"/>
              <a:ext cx="76320" cy="304560"/>
              <a:chOff x="4440240" y="2687760"/>
              <a:chExt cx="76320" cy="304560"/>
            </a:xfrm>
          </p:grpSpPr>
          <p:sp>
            <p:nvSpPr>
              <p:cNvPr id="1411" name=""/>
              <p:cNvSpPr/>
              <p:nvPr/>
            </p:nvSpPr>
            <p:spPr>
              <a:xfrm>
                <a:off x="4440240" y="2687760"/>
                <a:ext cx="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4516560" y="2687760"/>
                <a:ext cx="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3" name=""/>
            <p:cNvSpPr/>
            <p:nvPr/>
          </p:nvSpPr>
          <p:spPr>
            <a:xfrm>
              <a:off x="3933720" y="2822400"/>
              <a:ext cx="49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514760" y="282888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753080" y="2819520"/>
              <a:ext cx="0" cy="55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914640" y="2781360"/>
              <a:ext cx="6192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724280" y="3362400"/>
              <a:ext cx="6192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419000" y="2389320"/>
              <a:ext cx="3470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V="1">
              <a:off x="4083120" y="3451320"/>
              <a:ext cx="43344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431960" y="3530520"/>
              <a:ext cx="535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rot="27600">
              <a:off x="1160640" y="4500360"/>
              <a:ext cx="1974600" cy="976320"/>
            </a:xfrm>
            <a:prstGeom prst="ellipse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2" name=""/>
            <p:cNvGrpSpPr/>
            <p:nvPr/>
          </p:nvGrpSpPr>
          <p:grpSpPr>
            <a:xfrm>
              <a:off x="4849920" y="4654440"/>
              <a:ext cx="3975120" cy="1334880"/>
              <a:chOff x="4849920" y="4654440"/>
              <a:chExt cx="3975120" cy="1334880"/>
            </a:xfrm>
          </p:grpSpPr>
          <mc:AlternateContent>
            <mc:Choice xmlns:a14="http://schemas.microsoft.com/office/drawing/2010/main" Requires="a14">
              <p:sp>
                <p:nvSpPr>
                  <p:cNvPr id="1423" name=""/>
                  <p:cNvSpPr txBox="1"/>
                  <p:nvPr/>
                </p:nvSpPr>
                <p:spPr>
                  <a:xfrm>
                    <a:off x="4989960" y="4778280"/>
                    <a:ext cx="852480" cy="439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24" name=""/>
              <p:cNvSpPr/>
              <p:nvPr/>
            </p:nvSpPr>
            <p:spPr>
              <a:xfrm>
                <a:off x="5364360" y="4809960"/>
                <a:ext cx="3460680" cy="105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wzmocnienie T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jako wzmacniacz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prądu stałeg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4849920" y="4654440"/>
                <a:ext cx="3265560" cy="1334880"/>
              </a:xfrm>
              <a:prstGeom prst="rect">
                <a:avLst/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6" name=""/>
            <p:cNvSpPr/>
            <p:nvPr/>
          </p:nvSpPr>
          <p:spPr>
            <a:xfrm>
              <a:off x="4345200" y="6056280"/>
              <a:ext cx="231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la dużego 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2D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>
              <a:off x="3935520" y="631044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238480" y="3699000"/>
              <a:ext cx="1844640" cy="792000"/>
            </a:xfrm>
            <a:custGeom>
              <a:avLst/>
              <a:gdLst/>
              <a:ahLst/>
              <a:rect l="l" t="t" r="r" b="b"/>
              <a:pathLst>
                <a:path w="1123" h="398">
                  <a:moveTo>
                    <a:pt x="0" y="398"/>
                  </a:moveTo>
                  <a:cubicBezTo>
                    <a:pt x="156" y="275"/>
                    <a:pt x="312" y="152"/>
                    <a:pt x="499" y="86"/>
                  </a:cubicBezTo>
                  <a:cubicBezTo>
                    <a:pt x="686" y="20"/>
                    <a:pt x="904" y="10"/>
                    <a:pt x="1123" y="0"/>
                  </a:cubicBezTo>
                </a:path>
              </a:pathLst>
            </a:custGeom>
            <a:noFill/>
            <a:ln w="936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60200" y="4267080"/>
              <a:ext cx="3216240" cy="1535400"/>
            </a:xfrm>
            <a:prstGeom prst="ellipse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460520" y="2498760"/>
              <a:ext cx="2374920" cy="1770120"/>
            </a:xfrm>
            <a:custGeom>
              <a:avLst/>
              <a:gdLst/>
              <a:ahLst/>
              <a:rect l="l" t="t" r="r" b="b"/>
              <a:pathLst>
                <a:path w="1496" h="1115">
                  <a:moveTo>
                    <a:pt x="0" y="1115"/>
                  </a:moveTo>
                  <a:cubicBezTo>
                    <a:pt x="125" y="904"/>
                    <a:pt x="251" y="694"/>
                    <a:pt x="366" y="546"/>
                  </a:cubicBezTo>
                  <a:cubicBezTo>
                    <a:pt x="481" y="398"/>
                    <a:pt x="505" y="317"/>
                    <a:pt x="693" y="226"/>
                  </a:cubicBezTo>
                  <a:cubicBezTo>
                    <a:pt x="881" y="135"/>
                    <a:pt x="1188" y="67"/>
                    <a:pt x="1496" y="0"/>
                  </a:cubicBezTo>
                </a:path>
              </a:pathLst>
            </a:custGeom>
            <a:noFill/>
            <a:ln w="12600">
              <a:solidFill>
                <a:srgbClr val="0099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6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KOMPENSACYJNY ZE WZMACNIACZEM  OPERACYJ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6054840" y="4124160"/>
            <a:ext cx="183960" cy="47160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143760" y="3940200"/>
            <a:ext cx="1440" cy="200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6143760" y="4584600"/>
            <a:ext cx="1440" cy="565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297480" y="4226040"/>
            <a:ext cx="385920" cy="3380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381360" y="42670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519600" y="437364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 flipH="1" flipV="1">
            <a:off x="5179680" y="3987720"/>
            <a:ext cx="94788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054840" y="3279600"/>
            <a:ext cx="183960" cy="47484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143760" y="1914480"/>
            <a:ext cx="1440" cy="1381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6143760" y="3745080"/>
            <a:ext cx="1440" cy="231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6297480" y="3379680"/>
            <a:ext cx="38592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381360" y="34210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6519600" y="35272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573880" y="2846520"/>
            <a:ext cx="179280" cy="4762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259080" y="2224080"/>
            <a:ext cx="385920" cy="3380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763640" y="5167440"/>
            <a:ext cx="5533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767040" y="1847880"/>
            <a:ext cx="538200" cy="53352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H="1">
            <a:off x="3882960" y="2212920"/>
            <a:ext cx="30168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4114800" y="1932120"/>
            <a:ext cx="117360" cy="2649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H="1" flipV="1">
            <a:off x="3835440" y="1932120"/>
            <a:ext cx="131760" cy="2649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025880" y="2212920"/>
            <a:ext cx="1440" cy="163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H="1">
            <a:off x="1752480" y="1932120"/>
            <a:ext cx="20829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V="1">
            <a:off x="4241880" y="1927080"/>
            <a:ext cx="311472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V="1">
            <a:off x="4025880" y="2376000"/>
            <a:ext cx="1440" cy="1189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5603760" y="5135400"/>
            <a:ext cx="74880" cy="637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111720" y="5129280"/>
            <a:ext cx="69840" cy="6336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111720" y="3929040"/>
            <a:ext cx="69840" cy="6840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102360" y="1878120"/>
            <a:ext cx="73080" cy="680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640480" y="1905120"/>
            <a:ext cx="68040" cy="680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297560" y="1900080"/>
            <a:ext cx="7488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709640" y="5135400"/>
            <a:ext cx="74880" cy="637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709640" y="1895400"/>
            <a:ext cx="74880" cy="6840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4" name=""/>
          <p:cNvGrpSpPr/>
          <p:nvPr/>
        </p:nvGrpSpPr>
        <p:grpSpPr>
          <a:xfrm>
            <a:off x="6149880" y="3949560"/>
            <a:ext cx="898560" cy="11160"/>
            <a:chOff x="6149880" y="3949560"/>
            <a:chExt cx="898560" cy="11160"/>
          </a:xfrm>
        </p:grpSpPr>
        <p:sp>
          <p:nvSpPr>
            <p:cNvPr id="1465" name=""/>
            <p:cNvSpPr/>
            <p:nvPr/>
          </p:nvSpPr>
          <p:spPr>
            <a:xfrm>
              <a:off x="614988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1704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19128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1324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23412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2546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27696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2974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3180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34032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3608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3817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4022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42456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4450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4656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48792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5084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5293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55164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57216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5926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61500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6355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65640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67836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69924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71976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74208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7626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7831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80544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82596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8468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86880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88968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9102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9307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95304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97392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9944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01676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0372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8" name=""/>
          <p:cNvSpPr/>
          <p:nvPr/>
        </p:nvSpPr>
        <p:spPr>
          <a:xfrm>
            <a:off x="7297560" y="5135400"/>
            <a:ext cx="68400" cy="637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9" name=""/>
          <p:cNvGrpSpPr/>
          <p:nvPr/>
        </p:nvGrpSpPr>
        <p:grpSpPr>
          <a:xfrm>
            <a:off x="6831000" y="4076640"/>
            <a:ext cx="110880" cy="957240"/>
            <a:chOff x="6831000" y="4076640"/>
            <a:chExt cx="110880" cy="957240"/>
          </a:xfrm>
        </p:grpSpPr>
        <p:sp>
          <p:nvSpPr>
            <p:cNvPr id="1510" name=""/>
            <p:cNvSpPr/>
            <p:nvPr/>
          </p:nvSpPr>
          <p:spPr>
            <a:xfrm>
              <a:off x="6883200" y="4076640"/>
              <a:ext cx="6480" cy="9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831000" y="407664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2" name=""/>
          <p:cNvGrpSpPr/>
          <p:nvPr/>
        </p:nvGrpSpPr>
        <p:grpSpPr>
          <a:xfrm>
            <a:off x="7265880" y="2112840"/>
            <a:ext cx="111240" cy="2843280"/>
            <a:chOff x="7265880" y="2112840"/>
            <a:chExt cx="111240" cy="2843280"/>
          </a:xfrm>
        </p:grpSpPr>
        <p:sp>
          <p:nvSpPr>
            <p:cNvPr id="1513" name=""/>
            <p:cNvSpPr/>
            <p:nvPr/>
          </p:nvSpPr>
          <p:spPr>
            <a:xfrm>
              <a:off x="7318440" y="2112840"/>
              <a:ext cx="1440" cy="284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265880" y="211284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1700280" y="2112840"/>
            <a:ext cx="110880" cy="2843280"/>
            <a:chOff x="1700280" y="2112840"/>
            <a:chExt cx="110880" cy="2843280"/>
          </a:xfrm>
        </p:grpSpPr>
        <p:sp>
          <p:nvSpPr>
            <p:cNvPr id="1516" name=""/>
            <p:cNvSpPr/>
            <p:nvPr/>
          </p:nvSpPr>
          <p:spPr>
            <a:xfrm>
              <a:off x="1752480" y="2112840"/>
              <a:ext cx="1800" cy="284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700280" y="211284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8" name=""/>
          <p:cNvSpPr/>
          <p:nvPr/>
        </p:nvSpPr>
        <p:spPr>
          <a:xfrm>
            <a:off x="5519880" y="4903920"/>
            <a:ext cx="2156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V="1">
            <a:off x="5540400" y="4788000"/>
            <a:ext cx="79200" cy="1000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540400" y="4772160"/>
            <a:ext cx="2109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5751360" y="4819680"/>
            <a:ext cx="180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5751360" y="4776840"/>
            <a:ext cx="1800" cy="522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5027760" y="4654440"/>
            <a:ext cx="385560" cy="33984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5075280" y="469260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953400" y="4325760"/>
            <a:ext cx="433080" cy="4017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6973560" y="4352760"/>
            <a:ext cx="151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105680" y="4416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7264080" y="452124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5635800" y="4903920"/>
            <a:ext cx="4680" cy="26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0" name=""/>
          <p:cNvGrpSpPr/>
          <p:nvPr/>
        </p:nvGrpSpPr>
        <p:grpSpPr>
          <a:xfrm>
            <a:off x="4305240" y="2122200"/>
            <a:ext cx="195480" cy="344880"/>
            <a:chOff x="4305240" y="2122200"/>
            <a:chExt cx="195480" cy="344880"/>
          </a:xfrm>
        </p:grpSpPr>
        <p:sp>
          <p:nvSpPr>
            <p:cNvPr id="1531" name=""/>
            <p:cNvSpPr/>
            <p:nvPr/>
          </p:nvSpPr>
          <p:spPr>
            <a:xfrm flipV="1">
              <a:off x="4305240" y="2122200"/>
              <a:ext cx="195480" cy="344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305240" y="2340000"/>
              <a:ext cx="101520" cy="127080"/>
            </a:xfrm>
            <a:custGeom>
              <a:avLst/>
              <a:gdLst/>
              <a:ahLst/>
              <a:rect l="l" t="t" r="r" b="b"/>
              <a:pathLst>
                <a:path w="64" h="80">
                  <a:moveTo>
                    <a:pt x="4" y="0"/>
                  </a:moveTo>
                  <a:lnTo>
                    <a:pt x="0" y="80"/>
                  </a:lnTo>
                  <a:lnTo>
                    <a:pt x="64" y="33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5783400" y="4641840"/>
            <a:ext cx="110880" cy="401760"/>
            <a:chOff x="5783400" y="4641840"/>
            <a:chExt cx="110880" cy="401760"/>
          </a:xfrm>
        </p:grpSpPr>
        <p:sp>
          <p:nvSpPr>
            <p:cNvPr id="1534" name=""/>
            <p:cNvSpPr/>
            <p:nvPr/>
          </p:nvSpPr>
          <p:spPr>
            <a:xfrm>
              <a:off x="5835600" y="4641840"/>
              <a:ext cx="1080" cy="401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783400" y="464184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6" name=""/>
          <p:cNvSpPr/>
          <p:nvPr/>
        </p:nvSpPr>
        <p:spPr>
          <a:xfrm>
            <a:off x="1324080" y="3449520"/>
            <a:ext cx="428400" cy="3225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427040" y="3486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1582200" y="359244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527720" y="2233440"/>
            <a:ext cx="485640" cy="3225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4603680" y="2271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763880" y="2376360"/>
            <a:ext cx="241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365880" y="4708440"/>
            <a:ext cx="385920" cy="31752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5886360" y="4782960"/>
            <a:ext cx="5479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7402680" y="3433680"/>
            <a:ext cx="466560" cy="32220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521480" y="34704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7676640" y="357660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35440" y="1482840"/>
            <a:ext cx="385560" cy="32220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3970800" y="1521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082400" y="16257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H="1" flipV="1">
            <a:off x="5646600" y="4788000"/>
            <a:ext cx="84240" cy="1000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1" name=""/>
          <p:cNvGrpSpPr/>
          <p:nvPr/>
        </p:nvGrpSpPr>
        <p:grpSpPr>
          <a:xfrm>
            <a:off x="4089240" y="2022480"/>
            <a:ext cx="111240" cy="163440"/>
            <a:chOff x="4089240" y="2022480"/>
            <a:chExt cx="111240" cy="163440"/>
          </a:xfrm>
        </p:grpSpPr>
        <p:sp>
          <p:nvSpPr>
            <p:cNvPr id="1552" name=""/>
            <p:cNvSpPr/>
            <p:nvPr/>
          </p:nvSpPr>
          <p:spPr>
            <a:xfrm flipV="1">
              <a:off x="4114800" y="2022480"/>
              <a:ext cx="79200" cy="163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089240" y="2022480"/>
              <a:ext cx="111240" cy="131760"/>
            </a:xfrm>
            <a:custGeom>
              <a:avLst/>
              <a:gdLst/>
              <a:ahLst/>
              <a:rect l="l" t="t" r="r" b="b"/>
              <a:pathLst>
                <a:path w="70" h="83">
                  <a:moveTo>
                    <a:pt x="70" y="83"/>
                  </a:moveTo>
                  <a:lnTo>
                    <a:pt x="66" y="0"/>
                  </a:lnTo>
                  <a:lnTo>
                    <a:pt x="0" y="5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4" name=""/>
          <p:cNvSpPr/>
          <p:nvPr/>
        </p:nvSpPr>
        <p:spPr>
          <a:xfrm>
            <a:off x="4375080" y="3792600"/>
            <a:ext cx="811440" cy="722160"/>
          </a:xfrm>
          <a:custGeom>
            <a:avLst/>
            <a:gdLst/>
            <a:ahLst/>
            <a:rect l="l" t="t" r="r" b="b"/>
            <a:pathLst>
              <a:path w="400" h="455">
                <a:moveTo>
                  <a:pt x="400" y="0"/>
                </a:moveTo>
                <a:lnTo>
                  <a:pt x="400" y="455"/>
                </a:lnTo>
                <a:lnTo>
                  <a:pt x="0" y="255"/>
                </a:lnTo>
                <a:lnTo>
                  <a:pt x="40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5648400" y="3333240"/>
            <a:ext cx="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H="1">
            <a:off x="5181120" y="4381560"/>
            <a:ext cx="47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3930480" y="3575160"/>
            <a:ext cx="184320" cy="4744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4029120" y="404820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4038480" y="421020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957560" y="37814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929120" y="41767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V="1">
            <a:off x="5657760" y="1924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5611680" y="4343400"/>
            <a:ext cx="68400" cy="6840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344040" y="3595680"/>
            <a:ext cx="44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998960" y="2862360"/>
            <a:ext cx="54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762800" y="3976560"/>
            <a:ext cx="34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7" name=""/>
              <p:cNvSpPr txBox="1"/>
              <p:nvPr/>
            </p:nvSpPr>
            <p:spPr>
              <a:xfrm>
                <a:off x="2608200" y="5446800"/>
                <a:ext cx="316728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JAKO WZMACNIACZ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016080" y="2714760"/>
            <a:ext cx="1498680" cy="1287360"/>
          </a:xfrm>
          <a:custGeom>
            <a:avLst/>
            <a:gdLst/>
            <a:ahLst/>
            <a:rect l="l" t="t" r="r" b="b"/>
            <a:pathLst>
              <a:path w="944" h="811">
                <a:moveTo>
                  <a:pt x="0" y="0"/>
                </a:moveTo>
                <a:lnTo>
                  <a:pt x="0" y="811"/>
                </a:lnTo>
                <a:lnTo>
                  <a:pt x="944" y="411"/>
                </a:lnTo>
                <a:lnTo>
                  <a:pt x="0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121200" y="1779480"/>
            <a:ext cx="847440" cy="2113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562040" y="1790640"/>
            <a:ext cx="847800" cy="2113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3968640" y="190332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4903920" y="190332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H="1">
            <a:off x="4514400" y="3384720"/>
            <a:ext cx="111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2416320" y="1903320"/>
            <a:ext cx="72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H="1">
            <a:off x="2839680" y="3030480"/>
            <a:ext cx="17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V="1">
            <a:off x="2820960" y="1903320"/>
            <a:ext cx="0" cy="112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309760" y="4583160"/>
            <a:ext cx="600120" cy="56520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 flipV="1">
            <a:off x="2610000" y="470664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flipH="1">
            <a:off x="2644560" y="3666960"/>
            <a:ext cx="37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627280" y="3666960"/>
            <a:ext cx="0" cy="91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2610000" y="5148360"/>
            <a:ext cx="0" cy="33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2503440" y="5483160"/>
            <a:ext cx="282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 flipH="1">
            <a:off x="1287360" y="1920960"/>
            <a:ext cx="26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1270080" y="1779480"/>
            <a:ext cx="0" cy="317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2763720" y="1870200"/>
            <a:ext cx="748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869000" y="33465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445920" y="313200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3048120" y="27576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047400" y="3467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3076200" y="452592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6012000" y="2990880"/>
                <a:ext cx="22968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3" name=""/>
          <p:cNvSpPr/>
          <p:nvPr/>
        </p:nvSpPr>
        <p:spPr>
          <a:xfrm>
            <a:off x="1484640" y="11397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329280" y="12049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528920" y="5834160"/>
            <a:ext cx="61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jemne sprzężenie zwrotne jest bardzo siln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5469480" y="142236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yterium BOD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1911240" y="1168560"/>
            <a:ext cx="0" cy="2670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711440" y="3473280"/>
            <a:ext cx="494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6627600" y="3014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048040" y="987480"/>
            <a:ext cx="1069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3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04" name=""/>
          <p:cNvSpPr/>
          <p:nvPr/>
        </p:nvSpPr>
        <p:spPr>
          <a:xfrm>
            <a:off x="1727280" y="4156200"/>
            <a:ext cx="490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1917720" y="403056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888840" y="39164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1917720" y="4173480"/>
            <a:ext cx="4964040" cy="1193760"/>
          </a:xfrm>
          <a:custGeom>
            <a:avLst/>
            <a:gdLst/>
            <a:ahLst/>
            <a:rect l="l" t="t" r="r" b="b"/>
            <a:pathLst>
              <a:path w="2317" h="749">
                <a:moveTo>
                  <a:pt x="0" y="0"/>
                </a:moveTo>
                <a:cubicBezTo>
                  <a:pt x="169" y="6"/>
                  <a:pt x="328" y="15"/>
                  <a:pt x="478" y="44"/>
                </a:cubicBezTo>
                <a:cubicBezTo>
                  <a:pt x="628" y="73"/>
                  <a:pt x="793" y="130"/>
                  <a:pt x="901" y="173"/>
                </a:cubicBezTo>
                <a:cubicBezTo>
                  <a:pt x="1009" y="216"/>
                  <a:pt x="1051" y="258"/>
                  <a:pt x="1129" y="305"/>
                </a:cubicBezTo>
                <a:cubicBezTo>
                  <a:pt x="1207" y="352"/>
                  <a:pt x="1288" y="413"/>
                  <a:pt x="1369" y="455"/>
                </a:cubicBezTo>
                <a:cubicBezTo>
                  <a:pt x="1450" y="497"/>
                  <a:pt x="1521" y="522"/>
                  <a:pt x="1615" y="557"/>
                </a:cubicBezTo>
                <a:cubicBezTo>
                  <a:pt x="1709" y="592"/>
                  <a:pt x="1816" y="633"/>
                  <a:pt x="1933" y="665"/>
                </a:cubicBezTo>
                <a:cubicBezTo>
                  <a:pt x="2050" y="697"/>
                  <a:pt x="2237" y="732"/>
                  <a:pt x="2317" y="74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965240" y="1606680"/>
            <a:ext cx="4492800" cy="1828800"/>
          </a:xfrm>
          <a:custGeom>
            <a:avLst/>
            <a:gdLst/>
            <a:ahLst/>
            <a:rect l="l" t="t" r="r" b="b"/>
            <a:pathLst>
              <a:path w="2097" h="1148">
                <a:moveTo>
                  <a:pt x="0" y="0"/>
                </a:moveTo>
                <a:cubicBezTo>
                  <a:pt x="106" y="2"/>
                  <a:pt x="212" y="5"/>
                  <a:pt x="334" y="11"/>
                </a:cubicBezTo>
                <a:cubicBezTo>
                  <a:pt x="456" y="17"/>
                  <a:pt x="608" y="15"/>
                  <a:pt x="734" y="33"/>
                </a:cubicBezTo>
                <a:cubicBezTo>
                  <a:pt x="860" y="51"/>
                  <a:pt x="993" y="66"/>
                  <a:pt x="1089" y="122"/>
                </a:cubicBezTo>
                <a:cubicBezTo>
                  <a:pt x="1185" y="178"/>
                  <a:pt x="1243" y="256"/>
                  <a:pt x="1312" y="366"/>
                </a:cubicBezTo>
                <a:cubicBezTo>
                  <a:pt x="1381" y="476"/>
                  <a:pt x="1443" y="663"/>
                  <a:pt x="1503" y="782"/>
                </a:cubicBezTo>
                <a:cubicBezTo>
                  <a:pt x="1563" y="901"/>
                  <a:pt x="1601" y="1023"/>
                  <a:pt x="1671" y="1082"/>
                </a:cubicBezTo>
                <a:cubicBezTo>
                  <a:pt x="1741" y="1141"/>
                  <a:pt x="1852" y="1125"/>
                  <a:pt x="1923" y="1136"/>
                </a:cubicBezTo>
                <a:cubicBezTo>
                  <a:pt x="1994" y="1147"/>
                  <a:pt x="2061" y="1146"/>
                  <a:pt x="2097" y="11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893960" y="3040200"/>
            <a:ext cx="340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5288040" y="3040200"/>
            <a:ext cx="0" cy="1954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1928880" y="5025960"/>
            <a:ext cx="33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5116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900000" y="49975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6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909800" y="1582560"/>
            <a:ext cx="3930480" cy="1881360"/>
          </a:xfrm>
          <a:custGeom>
            <a:avLst/>
            <a:gdLst/>
            <a:ahLst/>
            <a:rect l="l" t="t" r="r" b="b"/>
            <a:pathLst>
              <a:path w="1835" h="1181">
                <a:moveTo>
                  <a:pt x="0" y="0"/>
                </a:moveTo>
                <a:cubicBezTo>
                  <a:pt x="93" y="2"/>
                  <a:pt x="186" y="8"/>
                  <a:pt x="294" y="11"/>
                </a:cubicBezTo>
                <a:cubicBezTo>
                  <a:pt x="402" y="14"/>
                  <a:pt x="525" y="13"/>
                  <a:pt x="647" y="17"/>
                </a:cubicBezTo>
                <a:cubicBezTo>
                  <a:pt x="769" y="21"/>
                  <a:pt x="919" y="15"/>
                  <a:pt x="1025" y="35"/>
                </a:cubicBezTo>
                <a:cubicBezTo>
                  <a:pt x="1131" y="55"/>
                  <a:pt x="1220" y="19"/>
                  <a:pt x="1283" y="137"/>
                </a:cubicBezTo>
                <a:cubicBezTo>
                  <a:pt x="1346" y="255"/>
                  <a:pt x="1368" y="593"/>
                  <a:pt x="1403" y="743"/>
                </a:cubicBezTo>
                <a:cubicBezTo>
                  <a:pt x="1438" y="893"/>
                  <a:pt x="1458" y="972"/>
                  <a:pt x="1493" y="1037"/>
                </a:cubicBezTo>
                <a:cubicBezTo>
                  <a:pt x="1528" y="1102"/>
                  <a:pt x="1585" y="1113"/>
                  <a:pt x="1613" y="1133"/>
                </a:cubicBezTo>
                <a:cubicBezTo>
                  <a:pt x="1641" y="1153"/>
                  <a:pt x="1624" y="1149"/>
                  <a:pt x="1661" y="1157"/>
                </a:cubicBezTo>
                <a:cubicBezTo>
                  <a:pt x="1698" y="1165"/>
                  <a:pt x="1799" y="1176"/>
                  <a:pt x="1835" y="1181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1943280" y="4173480"/>
            <a:ext cx="4282920" cy="1852560"/>
          </a:xfrm>
          <a:custGeom>
            <a:avLst/>
            <a:gdLst/>
            <a:ahLst/>
            <a:rect l="l" t="t" r="r" b="b"/>
            <a:pathLst>
              <a:path w="1999" h="1163">
                <a:moveTo>
                  <a:pt x="0" y="0"/>
                </a:moveTo>
                <a:cubicBezTo>
                  <a:pt x="85" y="5"/>
                  <a:pt x="358" y="13"/>
                  <a:pt x="511" y="29"/>
                </a:cubicBezTo>
                <a:cubicBezTo>
                  <a:pt x="664" y="45"/>
                  <a:pt x="807" y="53"/>
                  <a:pt x="919" y="95"/>
                </a:cubicBezTo>
                <a:cubicBezTo>
                  <a:pt x="1031" y="137"/>
                  <a:pt x="1110" y="200"/>
                  <a:pt x="1183" y="281"/>
                </a:cubicBezTo>
                <a:cubicBezTo>
                  <a:pt x="1256" y="362"/>
                  <a:pt x="1312" y="494"/>
                  <a:pt x="1357" y="581"/>
                </a:cubicBezTo>
                <a:cubicBezTo>
                  <a:pt x="1402" y="668"/>
                  <a:pt x="1420" y="743"/>
                  <a:pt x="1453" y="803"/>
                </a:cubicBezTo>
                <a:cubicBezTo>
                  <a:pt x="1486" y="863"/>
                  <a:pt x="1503" y="894"/>
                  <a:pt x="1555" y="941"/>
                </a:cubicBezTo>
                <a:cubicBezTo>
                  <a:pt x="1607" y="988"/>
                  <a:pt x="1691" y="1048"/>
                  <a:pt x="1765" y="1085"/>
                </a:cubicBezTo>
                <a:cubicBezTo>
                  <a:pt x="1839" y="1122"/>
                  <a:pt x="1950" y="1147"/>
                  <a:pt x="1999" y="1163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5018040" y="3059280"/>
            <a:ext cx="0" cy="2342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H="1">
            <a:off x="1747800" y="5254560"/>
            <a:ext cx="4610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446200" y="50324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621880" y="49640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fa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 flipV="1">
            <a:off x="6111720" y="3413160"/>
            <a:ext cx="0" cy="185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6523200" y="2387880"/>
            <a:ext cx="1336680" cy="459360"/>
          </a:xfrm>
          <a:prstGeom prst="wedgeRectCallout">
            <a:avLst>
              <a:gd name="adj1" fmla="val -78833"/>
              <a:gd name="adj2" fmla="val 134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ampli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6111720" y="30132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1725840" y="57452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5308560" y="303516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5" name=""/>
              <p:cNvSpPr txBox="1"/>
              <p:nvPr/>
            </p:nvSpPr>
            <p:spPr>
              <a:xfrm>
                <a:off x="2171880" y="1876320"/>
                <a:ext cx="13125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o małym napięciu wyjściowym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5326200" y="3319560"/>
            <a:ext cx="163440" cy="41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5405400" y="3156120"/>
            <a:ext cx="1800" cy="17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 flipH="1">
            <a:off x="5398920" y="3726000"/>
            <a:ext cx="6480" cy="11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5540400" y="340848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5659200" y="344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5763600" y="35402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875040" y="2927520"/>
            <a:ext cx="471600" cy="47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192560" y="3030480"/>
            <a:ext cx="3240" cy="262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 flipH="1" flipV="1">
            <a:off x="3944880" y="2984400"/>
            <a:ext cx="238320" cy="106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6" name=""/>
          <p:cNvGrpSpPr/>
          <p:nvPr/>
        </p:nvGrpSpPr>
        <p:grpSpPr>
          <a:xfrm>
            <a:off x="4033440" y="3193920"/>
            <a:ext cx="149400" cy="98640"/>
            <a:chOff x="4033440" y="3193920"/>
            <a:chExt cx="149400" cy="98640"/>
          </a:xfrm>
        </p:grpSpPr>
        <p:sp>
          <p:nvSpPr>
            <p:cNvPr id="1637" name=""/>
            <p:cNvSpPr/>
            <p:nvPr/>
          </p:nvSpPr>
          <p:spPr>
            <a:xfrm flipH="1">
              <a:off x="4033440" y="3218040"/>
              <a:ext cx="14940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033800" y="3193920"/>
              <a:ext cx="115920" cy="9864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41" y="0"/>
                  </a:moveTo>
                  <a:lnTo>
                    <a:pt x="0" y="62"/>
                  </a:lnTo>
                  <a:lnTo>
                    <a:pt x="73" y="6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9" name=""/>
          <p:cNvSpPr/>
          <p:nvPr/>
        </p:nvSpPr>
        <p:spPr>
          <a:xfrm flipH="1">
            <a:off x="3944520" y="3292560"/>
            <a:ext cx="8892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192560" y="3165480"/>
            <a:ext cx="1494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3944880" y="3333600"/>
            <a:ext cx="4680" cy="5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flipV="1">
            <a:off x="3935520" y="2787480"/>
            <a:ext cx="468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 flipH="1" flipV="1">
            <a:off x="4336920" y="3165120"/>
            <a:ext cx="10540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326200" y="2573280"/>
            <a:ext cx="16344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5405400" y="1368360"/>
            <a:ext cx="1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5405400" y="2984400"/>
            <a:ext cx="180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5540400" y="266220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5659200" y="2698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5763600" y="27925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3052800" y="1536840"/>
            <a:ext cx="158760" cy="42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32000" y="1378080"/>
            <a:ext cx="180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132000" y="1947960"/>
            <a:ext cx="180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262320" y="162576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3369960" y="1666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3475440" y="17604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1941480" y="4226040"/>
            <a:ext cx="4888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711600" y="1293840"/>
            <a:ext cx="476280" cy="471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 flipH="1">
            <a:off x="3812760" y="1616040"/>
            <a:ext cx="266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V="1">
            <a:off x="4019400" y="1368360"/>
            <a:ext cx="101880" cy="23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 flipH="1" flipV="1">
            <a:off x="3771720" y="1368360"/>
            <a:ext cx="115560" cy="23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3940200" y="1616040"/>
            <a:ext cx="144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H="1">
            <a:off x="1931760" y="1368360"/>
            <a:ext cx="18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 flipV="1">
            <a:off x="4130640" y="1363320"/>
            <a:ext cx="27511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 flipV="1">
            <a:off x="3940200" y="1760400"/>
            <a:ext cx="1440" cy="105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127320" y="2138400"/>
            <a:ext cx="822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5378400" y="314640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369040" y="1335240"/>
            <a:ext cx="648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3094200" y="13352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829560" y="1339920"/>
            <a:ext cx="6480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911760" y="2111400"/>
            <a:ext cx="60120" cy="55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895400" y="4197240"/>
            <a:ext cx="6516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895400" y="1335240"/>
            <a:ext cx="6516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3" name=""/>
          <p:cNvGrpSpPr/>
          <p:nvPr/>
        </p:nvGrpSpPr>
        <p:grpSpPr>
          <a:xfrm>
            <a:off x="5410080" y="3165480"/>
            <a:ext cx="793800" cy="9360"/>
            <a:chOff x="5410080" y="3165480"/>
            <a:chExt cx="793800" cy="9360"/>
          </a:xfrm>
        </p:grpSpPr>
        <p:sp>
          <p:nvSpPr>
            <p:cNvPr id="1674" name=""/>
            <p:cNvSpPr/>
            <p:nvPr/>
          </p:nvSpPr>
          <p:spPr>
            <a:xfrm>
              <a:off x="541008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42916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44824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4658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4849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50404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52276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5404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5594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5785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59764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61672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6340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6530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6721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69124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7085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7276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74668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76576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7834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8024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8212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84028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85792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8770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8960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9151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93424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9515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9706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9896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00876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02604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0451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60642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08328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10092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11964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1387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1578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17544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19452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7" name=""/>
          <p:cNvSpPr/>
          <p:nvPr/>
        </p:nvSpPr>
        <p:spPr>
          <a:xfrm>
            <a:off x="6829560" y="4197240"/>
            <a:ext cx="6012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8" name=""/>
          <p:cNvGrpSpPr/>
          <p:nvPr/>
        </p:nvGrpSpPr>
        <p:grpSpPr>
          <a:xfrm>
            <a:off x="6802560" y="1527120"/>
            <a:ext cx="96840" cy="2511360"/>
            <a:chOff x="6802560" y="1527120"/>
            <a:chExt cx="96840" cy="2511360"/>
          </a:xfrm>
        </p:grpSpPr>
        <p:sp>
          <p:nvSpPr>
            <p:cNvPr id="1719" name=""/>
            <p:cNvSpPr/>
            <p:nvPr/>
          </p:nvSpPr>
          <p:spPr>
            <a:xfrm>
              <a:off x="6848640" y="1527120"/>
              <a:ext cx="1440" cy="25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802560" y="1527120"/>
              <a:ext cx="96840" cy="9864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29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1886040" y="1527120"/>
            <a:ext cx="98280" cy="2511360"/>
            <a:chOff x="1886040" y="1527120"/>
            <a:chExt cx="98280" cy="2511360"/>
          </a:xfrm>
        </p:grpSpPr>
        <p:sp>
          <p:nvSpPr>
            <p:cNvPr id="1722" name=""/>
            <p:cNvSpPr/>
            <p:nvPr/>
          </p:nvSpPr>
          <p:spPr>
            <a:xfrm>
              <a:off x="1932120" y="1527120"/>
              <a:ext cx="1440" cy="25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886040" y="1527120"/>
              <a:ext cx="9828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29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4" name=""/>
          <p:cNvSpPr/>
          <p:nvPr/>
        </p:nvSpPr>
        <p:spPr>
          <a:xfrm>
            <a:off x="3841920" y="3992400"/>
            <a:ext cx="191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 flipV="1">
            <a:off x="3860640" y="3889080"/>
            <a:ext cx="69840" cy="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860640" y="3875040"/>
            <a:ext cx="185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4046400" y="3917880"/>
            <a:ext cx="18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4046400" y="3879720"/>
            <a:ext cx="1800" cy="4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3406680" y="3773520"/>
            <a:ext cx="3412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3492720" y="380520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6119640" y="3497400"/>
            <a:ext cx="38268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6213960" y="3521160"/>
            <a:ext cx="13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6254640" y="3576600"/>
            <a:ext cx="10335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i="1" lang="pl-PL" sz="18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 + U</a:t>
            </a:r>
            <a:r>
              <a:rPr b="0" i="1" lang="pl-P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4" name=""/>
          <p:cNvGrpSpPr/>
          <p:nvPr/>
        </p:nvGrpSpPr>
        <p:grpSpPr>
          <a:xfrm>
            <a:off x="3940200" y="3665520"/>
            <a:ext cx="644400" cy="14400"/>
            <a:chOff x="3940200" y="3665520"/>
            <a:chExt cx="644400" cy="14400"/>
          </a:xfrm>
        </p:grpSpPr>
        <p:sp>
          <p:nvSpPr>
            <p:cNvPr id="1735" name=""/>
            <p:cNvSpPr/>
            <p:nvPr/>
          </p:nvSpPr>
          <p:spPr>
            <a:xfrm>
              <a:off x="394020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959280" y="36655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97656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99564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01472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033800" y="36655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05144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07052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08924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108320" y="36655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12596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14504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16412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18320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20048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21956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23864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25772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27500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29408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31316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33224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351320" y="36702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36896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38768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40676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425840" y="36702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44348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46256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48164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50072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51800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53708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55616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457524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0" name=""/>
          <p:cNvGrpSpPr/>
          <p:nvPr/>
        </p:nvGrpSpPr>
        <p:grpSpPr>
          <a:xfrm>
            <a:off x="4187880" y="1536840"/>
            <a:ext cx="171360" cy="303120"/>
            <a:chOff x="4187880" y="1536840"/>
            <a:chExt cx="171360" cy="303120"/>
          </a:xfrm>
        </p:grpSpPr>
        <p:sp>
          <p:nvSpPr>
            <p:cNvPr id="1771" name=""/>
            <p:cNvSpPr/>
            <p:nvPr/>
          </p:nvSpPr>
          <p:spPr>
            <a:xfrm flipV="1">
              <a:off x="4187880" y="1536840"/>
              <a:ext cx="17136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4187880" y="1727280"/>
              <a:ext cx="87120" cy="1126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3" y="0"/>
                  </a:moveTo>
                  <a:lnTo>
                    <a:pt x="0" y="71"/>
                  </a:lnTo>
                  <a:lnTo>
                    <a:pt x="55" y="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3" name=""/>
          <p:cNvSpPr/>
          <p:nvPr/>
        </p:nvSpPr>
        <p:spPr>
          <a:xfrm>
            <a:off x="1554120" y="2708280"/>
            <a:ext cx="37800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648080" y="27417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1773000" y="283356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383000" y="1635120"/>
            <a:ext cx="43020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4455000" y="16668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4579200" y="1760400"/>
            <a:ext cx="22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4589640" y="3819600"/>
            <a:ext cx="33948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4318200" y="4348080"/>
            <a:ext cx="2185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6923160" y="2693880"/>
            <a:ext cx="4111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031520" y="27273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7154640" y="282096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3772080" y="971640"/>
            <a:ext cx="3412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893040" y="10047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985560" y="1096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3478320" y="3059280"/>
            <a:ext cx="3394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3603960" y="3090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3695040" y="31845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 flipH="1" flipV="1">
            <a:off x="3954240" y="3889080"/>
            <a:ext cx="74520" cy="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3995640" y="1447560"/>
            <a:ext cx="98640" cy="144360"/>
            <a:chOff x="3995640" y="1447560"/>
            <a:chExt cx="98640" cy="144360"/>
          </a:xfrm>
        </p:grpSpPr>
        <p:sp>
          <p:nvSpPr>
            <p:cNvPr id="1792" name=""/>
            <p:cNvSpPr/>
            <p:nvPr/>
          </p:nvSpPr>
          <p:spPr>
            <a:xfrm flipV="1">
              <a:off x="4019400" y="1447560"/>
              <a:ext cx="698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995640" y="1447920"/>
              <a:ext cx="98640" cy="115920"/>
            </a:xfrm>
            <a:custGeom>
              <a:avLst/>
              <a:gdLst/>
              <a:ahLst/>
              <a:rect l="l" t="t" r="r" b="b"/>
              <a:pathLst>
                <a:path w="62" h="73">
                  <a:moveTo>
                    <a:pt x="62" y="73"/>
                  </a:moveTo>
                  <a:lnTo>
                    <a:pt x="59" y="0"/>
                  </a:lnTo>
                  <a:lnTo>
                    <a:pt x="0" y="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4" name=""/>
          <p:cNvSpPr/>
          <p:nvPr/>
        </p:nvSpPr>
        <p:spPr>
          <a:xfrm>
            <a:off x="3943440" y="3990960"/>
            <a:ext cx="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2790720" y="4362480"/>
            <a:ext cx="371520" cy="35244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 flipV="1">
            <a:off x="2981160" y="444816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2971800" y="42195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2971800" y="4714920"/>
            <a:ext cx="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2971800" y="4848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2951280" y="42116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3913200" y="48020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2297520" y="4376880"/>
            <a:ext cx="46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cc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 flipV="1">
            <a:off x="5962680" y="3285720"/>
            <a:ext cx="0" cy="146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 flipV="1">
            <a:off x="4257720" y="3703680"/>
            <a:ext cx="0" cy="103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3063960" y="5110200"/>
            <a:ext cx="273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e wyjś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6" name=""/>
              <p:cNvSpPr txBox="1"/>
              <p:nvPr/>
            </p:nvSpPr>
            <p:spPr>
              <a:xfrm>
                <a:off x="2200320" y="5656320"/>
                <a:ext cx="467676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o małym napięciu wyjściowym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8" name=""/>
              <p:cNvSpPr txBox="1"/>
              <p:nvPr/>
            </p:nvSpPr>
            <p:spPr>
              <a:xfrm>
                <a:off x="3135240" y="5472000"/>
                <a:ext cx="257184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09" name=""/>
          <p:cNvGrpSpPr/>
          <p:nvPr/>
        </p:nvGrpSpPr>
        <p:grpSpPr>
          <a:xfrm>
            <a:off x="567360" y="1180800"/>
            <a:ext cx="7044480" cy="4264200"/>
            <a:chOff x="567360" y="1180800"/>
            <a:chExt cx="7044480" cy="4264200"/>
          </a:xfrm>
        </p:grpSpPr>
        <p:sp>
          <p:nvSpPr>
            <p:cNvPr id="1810" name=""/>
            <p:cNvSpPr/>
            <p:nvPr/>
          </p:nvSpPr>
          <p:spPr>
            <a:xfrm flipH="1">
              <a:off x="1285560" y="1973160"/>
              <a:ext cx="111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1" name=""/>
            <p:cNvGrpSpPr/>
            <p:nvPr/>
          </p:nvGrpSpPr>
          <p:grpSpPr>
            <a:xfrm>
              <a:off x="5648400" y="2147760"/>
              <a:ext cx="547560" cy="495360"/>
              <a:chOff x="5648400" y="2147760"/>
              <a:chExt cx="547560" cy="495360"/>
            </a:xfrm>
          </p:grpSpPr>
          <p:sp>
            <p:nvSpPr>
              <p:cNvPr id="1812" name=""/>
              <p:cNvSpPr/>
              <p:nvPr/>
            </p:nvSpPr>
            <p:spPr>
              <a:xfrm flipV="1">
                <a:off x="5648400" y="2147760"/>
                <a:ext cx="547560" cy="4953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922360" y="2287080"/>
                <a:ext cx="0" cy="24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4" name=""/>
            <p:cNvSpPr/>
            <p:nvPr/>
          </p:nvSpPr>
          <p:spPr>
            <a:xfrm flipH="1">
              <a:off x="2627280" y="3559320"/>
              <a:ext cx="38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4781520" y="19162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6" name=""/>
            <p:cNvGrpSpPr/>
            <p:nvPr/>
          </p:nvGrpSpPr>
          <p:grpSpPr>
            <a:xfrm>
              <a:off x="3015720" y="2909880"/>
              <a:ext cx="1498680" cy="1287360"/>
              <a:chOff x="3015720" y="2909880"/>
              <a:chExt cx="1498680" cy="1287360"/>
            </a:xfrm>
          </p:grpSpPr>
          <p:sp>
            <p:nvSpPr>
              <p:cNvPr id="1817" name=""/>
              <p:cNvSpPr/>
              <p:nvPr/>
            </p:nvSpPr>
            <p:spPr>
              <a:xfrm flipH="1">
                <a:off x="3015360" y="2909880"/>
                <a:ext cx="1498680" cy="1287360"/>
              </a:xfrm>
              <a:custGeom>
                <a:avLst/>
                <a:gdLst/>
                <a:ahLst/>
                <a:rect l="l" t="t" r="r" b="b"/>
                <a:pathLst>
                  <a:path w="944" h="811">
                    <a:moveTo>
                      <a:pt x="0" y="0"/>
                    </a:moveTo>
                    <a:lnTo>
                      <a:pt x="0" y="811"/>
                    </a:lnTo>
                    <a:lnTo>
                      <a:pt x="944" y="41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 flipH="1">
                <a:off x="3494520" y="3376440"/>
                <a:ext cx="415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 flipH="1">
                <a:off x="3079800" y="305244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H="1">
                <a:off x="3074400" y="371160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1" name=""/>
            <p:cNvSpPr/>
            <p:nvPr/>
          </p:nvSpPr>
          <p:spPr>
            <a:xfrm>
              <a:off x="6283800" y="215748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V="1">
              <a:off x="5964120" y="3574800"/>
              <a:ext cx="0" cy="9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981760" y="516420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840280" y="5445000"/>
              <a:ext cx="31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rot="16200000">
              <a:off x="5931000" y="38746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190840" y="481500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256000" y="297036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8" name=""/>
            <p:cNvGrpSpPr/>
            <p:nvPr/>
          </p:nvGrpSpPr>
          <p:grpSpPr>
            <a:xfrm>
              <a:off x="2368440" y="1552680"/>
              <a:ext cx="476280" cy="793800"/>
              <a:chOff x="2368440" y="1552680"/>
              <a:chExt cx="476280" cy="793800"/>
            </a:xfrm>
          </p:grpSpPr>
          <p:sp>
            <p:nvSpPr>
              <p:cNvPr id="1829" name=""/>
              <p:cNvSpPr/>
              <p:nvPr/>
            </p:nvSpPr>
            <p:spPr>
              <a:xfrm>
                <a:off x="2368440" y="1874880"/>
                <a:ext cx="476280" cy="4716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flipH="1">
                <a:off x="2469600" y="2197080"/>
                <a:ext cx="266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flipV="1">
                <a:off x="2676600" y="1949400"/>
                <a:ext cx="1015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flipH="1" flipV="1">
                <a:off x="2428920" y="1949400"/>
                <a:ext cx="1159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2597040" y="2197080"/>
                <a:ext cx="180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2428920" y="1552680"/>
                <a:ext cx="341280" cy="284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2507760" y="15858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2615400" y="167796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7" name=""/>
              <p:cNvGrpSpPr/>
              <p:nvPr/>
            </p:nvGrpSpPr>
            <p:grpSpPr>
              <a:xfrm>
                <a:off x="2652480" y="2028600"/>
                <a:ext cx="98640" cy="144360"/>
                <a:chOff x="2652480" y="2028600"/>
                <a:chExt cx="98640" cy="144360"/>
              </a:xfrm>
            </p:grpSpPr>
            <p:sp>
              <p:nvSpPr>
                <p:cNvPr id="1838" name=""/>
                <p:cNvSpPr/>
                <p:nvPr/>
              </p:nvSpPr>
              <p:spPr>
                <a:xfrm flipV="1">
                  <a:off x="2676240" y="2028600"/>
                  <a:ext cx="69840" cy="14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2652480" y="2028960"/>
                  <a:ext cx="98640" cy="115920"/>
                </a:xfrm>
                <a:custGeom>
                  <a:avLst/>
                  <a:gdLst/>
                  <a:ahLst/>
                  <a:rect l="l" t="t" r="r" b="b"/>
                  <a:pathLst>
                    <a:path w="62" h="73">
                      <a:moveTo>
                        <a:pt x="62" y="73"/>
                      </a:moveTo>
                      <a:lnTo>
                        <a:pt x="59" y="0"/>
                      </a:lnTo>
                      <a:lnTo>
                        <a:pt x="0" y="44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40" name=""/>
            <p:cNvSpPr/>
            <p:nvPr/>
          </p:nvSpPr>
          <p:spPr>
            <a:xfrm>
              <a:off x="2787480" y="1955880"/>
              <a:ext cx="42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H="1">
              <a:off x="4533480" y="3913200"/>
              <a:ext cx="14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799160" y="1955880"/>
              <a:ext cx="0" cy="13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H="1">
              <a:off x="4498920" y="3260880"/>
              <a:ext cx="30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5927760" y="195588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V="1">
              <a:off x="5945040" y="262548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 rot="16200000">
              <a:off x="2324520" y="2985120"/>
              <a:ext cx="60192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 flipV="1">
              <a:off x="2629080" y="3401640"/>
              <a:ext cx="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V="1">
              <a:off x="2593800" y="2342880"/>
              <a:ext cx="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rot="16200000">
              <a:off x="5669280" y="4725000"/>
              <a:ext cx="60192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rot="16200000">
              <a:off x="5645880" y="316584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6986520" y="2112840"/>
              <a:ext cx="0" cy="329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7097400" y="3041640"/>
              <a:ext cx="51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67360" y="178920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896080" y="19065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5" name=""/>
            <p:cNvGrpSpPr/>
            <p:nvPr/>
          </p:nvGrpSpPr>
          <p:grpSpPr>
            <a:xfrm>
              <a:off x="3790800" y="1371600"/>
              <a:ext cx="371520" cy="343080"/>
              <a:chOff x="3790800" y="1371600"/>
              <a:chExt cx="371520" cy="343080"/>
            </a:xfrm>
          </p:grpSpPr>
          <p:sp>
            <p:nvSpPr>
              <p:cNvPr id="1856" name=""/>
              <p:cNvSpPr/>
              <p:nvPr/>
            </p:nvSpPr>
            <p:spPr>
              <a:xfrm>
                <a:off x="3790800" y="1371600"/>
                <a:ext cx="371520" cy="34308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flipV="1">
                <a:off x="3981600" y="1428840"/>
                <a:ext cx="0" cy="21888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8" name=""/>
            <p:cNvGrpSpPr/>
            <p:nvPr/>
          </p:nvGrpSpPr>
          <p:grpSpPr>
            <a:xfrm>
              <a:off x="3790800" y="2143080"/>
              <a:ext cx="371520" cy="343080"/>
              <a:chOff x="3790800" y="2143080"/>
              <a:chExt cx="371520" cy="343080"/>
            </a:xfrm>
          </p:grpSpPr>
          <p:sp>
            <p:nvSpPr>
              <p:cNvPr id="1859" name=""/>
              <p:cNvSpPr/>
              <p:nvPr/>
            </p:nvSpPr>
            <p:spPr>
              <a:xfrm>
                <a:off x="3790800" y="2143080"/>
                <a:ext cx="371520" cy="34308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 flipV="1">
                <a:off x="3981600" y="2200320"/>
                <a:ext cx="0" cy="21888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1" name=""/>
            <p:cNvSpPr/>
            <p:nvPr/>
          </p:nvSpPr>
          <p:spPr>
            <a:xfrm>
              <a:off x="3971880" y="1714680"/>
              <a:ext cx="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943440" y="19162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981600" y="2495520"/>
              <a:ext cx="0" cy="6382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971880" y="3971880"/>
              <a:ext cx="0" cy="5526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1857240" y="4524480"/>
              <a:ext cx="211464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V="1">
              <a:off x="1847880" y="1180800"/>
              <a:ext cx="0" cy="3352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847880" y="1181160"/>
              <a:ext cx="214308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990960" y="1181160"/>
              <a:ext cx="0" cy="1904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4222080" y="131904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Times New Roman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4279320" y="210996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Times New Roman"/>
                </a:rPr>
                <a:t>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380880" y="1371600"/>
          <a:ext cx="838224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83822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217520" y="1746360"/>
            <a:ext cx="139392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93640" y="1158840"/>
            <a:ext cx="89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-U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46880" y="3484440"/>
            <a:ext cx="179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P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str</a:t>
            </a: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=U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-U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napięcia: oznaczenie napięć i prądó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wyjści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1320" y="4702320"/>
            <a:ext cx="4249800" cy="11912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c strat tranzystorów mo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i uwzględniać 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widywaną temperaturę p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544680" y="233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BEZPIECZENIA STABILIZATO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GRANICZANIE PRĄDU WYJŚC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3" name=""/>
          <p:cNvGraphicFramePr/>
          <p:nvPr/>
        </p:nvGraphicFramePr>
        <p:xfrm>
          <a:off x="1347840" y="905040"/>
          <a:ext cx="7229520" cy="62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7840" y="905040"/>
                    <a:ext cx="7229520" cy="62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75" name=""/>
              <p:cNvSpPr txBox="1"/>
              <p:nvPr/>
            </p:nvSpPr>
            <p:spPr>
              <a:xfrm>
                <a:off x="5245200" y="2913120"/>
                <a:ext cx="267012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r>
                      <m:t xml:space="preserve">»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6" name=""/>
          <p:cNvSpPr/>
          <p:nvPr/>
        </p:nvSpPr>
        <p:spPr>
          <a:xfrm>
            <a:off x="2099520" y="385128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c str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7" name=""/>
          <p:cNvGraphicFramePr/>
          <p:nvPr/>
        </p:nvGraphicFramePr>
        <p:xfrm>
          <a:off x="1019160" y="905040"/>
          <a:ext cx="7327800" cy="55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9160" y="905040"/>
                    <a:ext cx="7327800" cy="55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BEZPIECZENIE TYPU Fold-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BEZPIECZENIE WYŁĄCZAJ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 flipH="1">
            <a:off x="703440" y="1920960"/>
            <a:ext cx="206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2" name=""/>
          <p:cNvGrpSpPr/>
          <p:nvPr/>
        </p:nvGrpSpPr>
        <p:grpSpPr>
          <a:xfrm>
            <a:off x="4951440" y="4552920"/>
            <a:ext cx="547560" cy="495360"/>
            <a:chOff x="4951440" y="4552920"/>
            <a:chExt cx="547560" cy="495360"/>
          </a:xfrm>
        </p:grpSpPr>
        <p:sp>
          <p:nvSpPr>
            <p:cNvPr id="1883" name=""/>
            <p:cNvSpPr/>
            <p:nvPr/>
          </p:nvSpPr>
          <p:spPr>
            <a:xfrm>
              <a:off x="4951440" y="4552920"/>
              <a:ext cx="547560" cy="4953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V="1">
              <a:off x="5225400" y="466128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5" name=""/>
          <p:cNvSpPr/>
          <p:nvPr/>
        </p:nvSpPr>
        <p:spPr>
          <a:xfrm flipH="1">
            <a:off x="2997360" y="350676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 flipH="1">
            <a:off x="3394800" y="2876400"/>
            <a:ext cx="1498680" cy="1287720"/>
          </a:xfrm>
          <a:custGeom>
            <a:avLst/>
            <a:gdLst/>
            <a:ahLst/>
            <a:rect l="l" t="t" r="r" b="b"/>
            <a:pathLst>
              <a:path w="944" h="811">
                <a:moveTo>
                  <a:pt x="0" y="0"/>
                </a:moveTo>
                <a:lnTo>
                  <a:pt x="0" y="811"/>
                </a:lnTo>
                <a:lnTo>
                  <a:pt x="944" y="411"/>
                </a:lnTo>
                <a:lnTo>
                  <a:pt x="0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 flipH="1">
            <a:off x="4002480" y="329400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 flipH="1">
            <a:off x="4619880" y="35672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 flipH="1">
            <a:off x="4593240" y="2971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4419360" y="461808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 flipV="1">
            <a:off x="6334200" y="3522240"/>
            <a:ext cx="0" cy="93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6351480" y="5111640"/>
            <a:ext cx="0" cy="54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6208560" y="5656320"/>
            <a:ext cx="317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 rot="16200000">
            <a:off x="6300720" y="382248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5686920" y="46083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5628240" y="2868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7" name=""/>
          <p:cNvGrpSpPr/>
          <p:nvPr/>
        </p:nvGrpSpPr>
        <p:grpSpPr>
          <a:xfrm>
            <a:off x="2738520" y="1500120"/>
            <a:ext cx="476280" cy="793800"/>
            <a:chOff x="2738520" y="1500120"/>
            <a:chExt cx="476280" cy="793800"/>
          </a:xfrm>
        </p:grpSpPr>
        <p:sp>
          <p:nvSpPr>
            <p:cNvPr id="1898" name=""/>
            <p:cNvSpPr/>
            <p:nvPr/>
          </p:nvSpPr>
          <p:spPr>
            <a:xfrm>
              <a:off x="2738520" y="1822320"/>
              <a:ext cx="476280" cy="4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H="1">
              <a:off x="2839680" y="2144520"/>
              <a:ext cx="266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>
              <a:off x="3046680" y="1896840"/>
              <a:ext cx="10152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 flipV="1">
              <a:off x="2799000" y="1896840"/>
              <a:ext cx="11592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967120" y="2144520"/>
              <a:ext cx="18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799000" y="1500120"/>
              <a:ext cx="34128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877840" y="1533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985480" y="16254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6" name=""/>
            <p:cNvGrpSpPr/>
            <p:nvPr/>
          </p:nvGrpSpPr>
          <p:grpSpPr>
            <a:xfrm>
              <a:off x="3022560" y="1976040"/>
              <a:ext cx="98640" cy="144360"/>
              <a:chOff x="3022560" y="1976040"/>
              <a:chExt cx="98640" cy="144360"/>
            </a:xfrm>
          </p:grpSpPr>
          <p:sp>
            <p:nvSpPr>
              <p:cNvPr id="1907" name=""/>
              <p:cNvSpPr/>
              <p:nvPr/>
            </p:nvSpPr>
            <p:spPr>
              <a:xfrm flipV="1">
                <a:off x="3046320" y="1976040"/>
                <a:ext cx="6984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3022560" y="1976400"/>
                <a:ext cx="98640" cy="115920"/>
              </a:xfrm>
              <a:custGeom>
                <a:avLst/>
                <a:gdLst/>
                <a:ahLst/>
                <a:rect l="l" t="t" r="r" b="b"/>
                <a:pathLst>
                  <a:path w="62" h="73">
                    <a:moveTo>
                      <a:pt x="62" y="73"/>
                    </a:moveTo>
                    <a:lnTo>
                      <a:pt x="59" y="0"/>
                    </a:lnTo>
                    <a:lnTo>
                      <a:pt x="0" y="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9" name=""/>
          <p:cNvSpPr/>
          <p:nvPr/>
        </p:nvSpPr>
        <p:spPr>
          <a:xfrm>
            <a:off x="3157560" y="1903320"/>
            <a:ext cx="421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 flipH="1">
            <a:off x="4903560" y="3860640"/>
            <a:ext cx="14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 flipH="1">
            <a:off x="4868640" y="3208320"/>
            <a:ext cx="34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 flipV="1">
            <a:off x="6315120" y="1896840"/>
            <a:ext cx="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 rot="16200000">
            <a:off x="2694960" y="293256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 flipV="1">
            <a:off x="2998800" y="3349800"/>
            <a:ext cx="0" cy="15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 flipV="1">
            <a:off x="2963880" y="229032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rot="16200000">
            <a:off x="6039720" y="467244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rot="16200000">
            <a:off x="6015960" y="311364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 flipV="1">
            <a:off x="7356600" y="2060280"/>
            <a:ext cx="0" cy="329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7473600" y="294012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222840" y="274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265800" y="18543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 rot="10800000">
            <a:off x="1722240" y="525420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3" name=""/>
          <p:cNvGrpSpPr/>
          <p:nvPr/>
        </p:nvGrpSpPr>
        <p:grpSpPr>
          <a:xfrm>
            <a:off x="1390680" y="4349880"/>
            <a:ext cx="471600" cy="476280"/>
            <a:chOff x="1390680" y="4349880"/>
            <a:chExt cx="471600" cy="476280"/>
          </a:xfrm>
        </p:grpSpPr>
        <p:sp>
          <p:nvSpPr>
            <p:cNvPr id="1924" name=""/>
            <p:cNvSpPr/>
            <p:nvPr/>
          </p:nvSpPr>
          <p:spPr>
            <a:xfrm flipH="1" rot="16200000">
              <a:off x="1388160" y="4352040"/>
              <a:ext cx="476280" cy="4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 flipV="1">
              <a:off x="1712880" y="4451040"/>
              <a:ext cx="1800" cy="26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H="1">
              <a:off x="1464840" y="4657680"/>
              <a:ext cx="23364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H="1" flipV="1">
              <a:off x="1464840" y="4410000"/>
              <a:ext cx="233640" cy="11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712880" y="4578480"/>
              <a:ext cx="144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9" name=""/>
            <p:cNvGrpSpPr/>
            <p:nvPr/>
          </p:nvGrpSpPr>
          <p:grpSpPr>
            <a:xfrm>
              <a:off x="1544400" y="4633920"/>
              <a:ext cx="144360" cy="98280"/>
              <a:chOff x="1544400" y="4633920"/>
              <a:chExt cx="144360" cy="98280"/>
            </a:xfrm>
          </p:grpSpPr>
          <p:sp>
            <p:nvSpPr>
              <p:cNvPr id="1930" name=""/>
              <p:cNvSpPr/>
              <p:nvPr/>
            </p:nvSpPr>
            <p:spPr>
              <a:xfrm flipH="1">
                <a:off x="1544400" y="4657320"/>
                <a:ext cx="144360" cy="6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 flipH="1" rot="16200000">
                <a:off x="1553400" y="4624920"/>
                <a:ext cx="98280" cy="115920"/>
              </a:xfrm>
              <a:custGeom>
                <a:avLst/>
                <a:gdLst/>
                <a:ahLst/>
                <a:rect l="l" t="t" r="r" b="b"/>
                <a:pathLst>
                  <a:path w="62" h="73">
                    <a:moveTo>
                      <a:pt x="62" y="73"/>
                    </a:moveTo>
                    <a:lnTo>
                      <a:pt x="59" y="0"/>
                    </a:lnTo>
                    <a:lnTo>
                      <a:pt x="0" y="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2" name=""/>
          <p:cNvSpPr/>
          <p:nvPr/>
        </p:nvSpPr>
        <p:spPr>
          <a:xfrm rot="5400000">
            <a:off x="1626120" y="3393000"/>
            <a:ext cx="476280" cy="471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 flipH="1" flipV="1">
            <a:off x="1774800" y="3490560"/>
            <a:ext cx="1440" cy="26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1790640" y="3697200"/>
            <a:ext cx="233280" cy="10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 flipV="1">
            <a:off x="1790640" y="3451320"/>
            <a:ext cx="23328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 flipH="1">
            <a:off x="1631520" y="3618000"/>
            <a:ext cx="144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7" name=""/>
          <p:cNvGrpSpPr/>
          <p:nvPr/>
        </p:nvGrpSpPr>
        <p:grpSpPr>
          <a:xfrm>
            <a:off x="1819080" y="3454560"/>
            <a:ext cx="144360" cy="98280"/>
            <a:chOff x="1819080" y="3454560"/>
            <a:chExt cx="144360" cy="98280"/>
          </a:xfrm>
        </p:grpSpPr>
        <p:sp>
          <p:nvSpPr>
            <p:cNvPr id="1938" name=""/>
            <p:cNvSpPr/>
            <p:nvPr/>
          </p:nvSpPr>
          <p:spPr>
            <a:xfrm flipH="1">
              <a:off x="1819080" y="3477960"/>
              <a:ext cx="144360" cy="6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 flipV="1" rot="5400000">
              <a:off x="1828080" y="3445200"/>
              <a:ext cx="98280" cy="115920"/>
            </a:xfrm>
            <a:custGeom>
              <a:avLst/>
              <a:gdLst/>
              <a:ahLst/>
              <a:rect l="l" t="t" r="r" b="b"/>
              <a:pathLst>
                <a:path w="62" h="73">
                  <a:moveTo>
                    <a:pt x="62" y="73"/>
                  </a:moveTo>
                  <a:lnTo>
                    <a:pt x="59" y="0"/>
                  </a:lnTo>
                  <a:lnTo>
                    <a:pt x="0" y="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0" name=""/>
          <p:cNvSpPr/>
          <p:nvPr/>
        </p:nvSpPr>
        <p:spPr>
          <a:xfrm flipV="1">
            <a:off x="1471680" y="3376440"/>
            <a:ext cx="1440" cy="10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1471680" y="3605040"/>
            <a:ext cx="162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1461960" y="4767120"/>
            <a:ext cx="1800" cy="6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701640" y="5362560"/>
            <a:ext cx="100800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1862280" y="4567320"/>
            <a:ext cx="666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 flipH="1">
            <a:off x="2309400" y="5357880"/>
            <a:ext cx="219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023920" y="3795840"/>
            <a:ext cx="1800" cy="7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 rot="16200000">
            <a:off x="2215080" y="4848840"/>
            <a:ext cx="60192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 rot="16200000">
            <a:off x="1167480" y="297216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2519280" y="4567320"/>
            <a:ext cx="180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2509920" y="5262480"/>
            <a:ext cx="144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 flipV="1">
            <a:off x="2033640" y="2604600"/>
            <a:ext cx="1440" cy="84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 flipH="1">
            <a:off x="1461960" y="2602080"/>
            <a:ext cx="15163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1461960" y="2614680"/>
            <a:ext cx="180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 rot="16200000">
            <a:off x="2000160" y="451260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 rot="16200000">
            <a:off x="2457360" y="5313240"/>
            <a:ext cx="7488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 rot="16200000">
            <a:off x="2009880" y="257940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2489040" y="5362560"/>
            <a:ext cx="483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 rot="16200000">
            <a:off x="6313320" y="531576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 rot="16200000">
            <a:off x="1442880" y="531432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 rot="16200000">
            <a:off x="2927520" y="257148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 flipV="1">
            <a:off x="5238720" y="3209400"/>
            <a:ext cx="0" cy="13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5219640" y="504828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 rot="16200000">
            <a:off x="5180040" y="532584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 rot="16200000">
            <a:off x="1436400" y="3554280"/>
            <a:ext cx="748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1677960" y="5394240"/>
            <a:ext cx="59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181160" y="2425680"/>
            <a:ext cx="1562040" cy="3543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7" name=""/>
          <p:cNvGrpSpPr/>
          <p:nvPr/>
        </p:nvGrpSpPr>
        <p:grpSpPr>
          <a:xfrm>
            <a:off x="430200" y="3206880"/>
            <a:ext cx="547560" cy="558720"/>
            <a:chOff x="430200" y="3206880"/>
            <a:chExt cx="547560" cy="558720"/>
          </a:xfrm>
        </p:grpSpPr>
        <p:sp>
          <p:nvSpPr>
            <p:cNvPr id="1968" name=""/>
            <p:cNvSpPr/>
            <p:nvPr/>
          </p:nvSpPr>
          <p:spPr>
            <a:xfrm>
              <a:off x="430200" y="3206880"/>
              <a:ext cx="547560" cy="5587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V="1">
              <a:off x="704160" y="332928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0" name=""/>
          <p:cNvSpPr/>
          <p:nvPr/>
        </p:nvSpPr>
        <p:spPr>
          <a:xfrm flipV="1">
            <a:off x="711360" y="1904760"/>
            <a:ext cx="0" cy="132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685800" y="3759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 flipH="1">
            <a:off x="901440" y="5359320"/>
            <a:ext cx="5994360" cy="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3344760" y="532440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347840" y="6359400"/>
            <a:ext cx="134928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5" name=""/>
          <p:cNvGrpSpPr/>
          <p:nvPr/>
        </p:nvGrpSpPr>
        <p:grpSpPr>
          <a:xfrm>
            <a:off x="2912760" y="6031080"/>
            <a:ext cx="3144240" cy="523800"/>
            <a:chOff x="2912760" y="6031080"/>
            <a:chExt cx="3144240" cy="523800"/>
          </a:xfrm>
        </p:grpSpPr>
        <p:sp>
          <p:nvSpPr>
            <p:cNvPr id="1976" name=""/>
            <p:cNvSpPr/>
            <p:nvPr/>
          </p:nvSpPr>
          <p:spPr>
            <a:xfrm>
              <a:off x="2912760" y="603108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248640" y="627840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0000"/>
                  </a:solidFill>
                  <a:latin typeface="Times New Roman"/>
                </a:rPr>
                <a:t>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466800" y="6049800"/>
              <a:ext cx="25902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= R</a:t>
              </a:r>
              <a:r>
                <a:rPr b="0" lang="en-US" sz="2200" spc="-1" strike="noStrike" baseline="-25000">
                  <a:solidFill>
                    <a:srgbClr val="cc0000"/>
                  </a:solidFill>
                  <a:latin typeface="Times New Roman"/>
                </a:rPr>
                <a:t>CS</a:t>
              </a: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0" lang="en-US" sz="2200" spc="-1" strike="noStrike" baseline="-25000">
                  <a:solidFill>
                    <a:srgbClr val="cc0000"/>
                  </a:solidFill>
                  <a:latin typeface="Times New Roman"/>
                </a:rPr>
                <a:t>2 </a:t>
              </a:r>
              <a:r>
                <a:rPr b="0" lang="en-US" sz="22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</a:t>
              </a: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 U</a:t>
              </a:r>
              <a:r>
                <a:rPr b="0" lang="en-US" sz="2200" spc="-1" strike="noStrike" baseline="-25000">
                  <a:solidFill>
                    <a:srgbClr val="cc0000"/>
                  </a:solidFill>
                  <a:latin typeface="Times New Roman"/>
                </a:rPr>
                <a:t>BE </a:t>
              </a:r>
              <a:r>
                <a:rPr b="0" lang="en-US" sz="22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</a:t>
              </a: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 0,7V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BEZPIECZENIE WYŁĄCZAJ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0" name=""/>
          <p:cNvGrpSpPr/>
          <p:nvPr/>
        </p:nvGrpSpPr>
        <p:grpSpPr>
          <a:xfrm>
            <a:off x="222840" y="1500120"/>
            <a:ext cx="7827840" cy="4469040"/>
            <a:chOff x="222840" y="1500120"/>
            <a:chExt cx="7827840" cy="4469040"/>
          </a:xfrm>
        </p:grpSpPr>
        <p:sp>
          <p:nvSpPr>
            <p:cNvPr id="1981" name=""/>
            <p:cNvSpPr/>
            <p:nvPr/>
          </p:nvSpPr>
          <p:spPr>
            <a:xfrm flipH="1">
              <a:off x="703440" y="1920960"/>
              <a:ext cx="20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2" name=""/>
            <p:cNvGrpSpPr/>
            <p:nvPr/>
          </p:nvGrpSpPr>
          <p:grpSpPr>
            <a:xfrm>
              <a:off x="4951440" y="4552920"/>
              <a:ext cx="547560" cy="495360"/>
              <a:chOff x="4951440" y="4552920"/>
              <a:chExt cx="547560" cy="495360"/>
            </a:xfrm>
          </p:grpSpPr>
          <p:sp>
            <p:nvSpPr>
              <p:cNvPr id="1983" name=""/>
              <p:cNvSpPr/>
              <p:nvPr/>
            </p:nvSpPr>
            <p:spPr>
              <a:xfrm>
                <a:off x="4951440" y="4552920"/>
                <a:ext cx="547560" cy="4953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flipV="1">
                <a:off x="5225400" y="4661280"/>
                <a:ext cx="0" cy="24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5" name=""/>
            <p:cNvSpPr/>
            <p:nvPr/>
          </p:nvSpPr>
          <p:spPr>
            <a:xfrm flipH="1">
              <a:off x="2997360" y="3506760"/>
              <a:ext cx="38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H="1">
              <a:off x="3394800" y="2876400"/>
              <a:ext cx="1498680" cy="1287720"/>
            </a:xfrm>
            <a:custGeom>
              <a:avLst/>
              <a:gdLst/>
              <a:ahLst/>
              <a:rect l="l" t="t" r="r" b="b"/>
              <a:pathLst>
                <a:path w="944" h="811">
                  <a:moveTo>
                    <a:pt x="0" y="0"/>
                  </a:moveTo>
                  <a:lnTo>
                    <a:pt x="0" y="811"/>
                  </a:lnTo>
                  <a:lnTo>
                    <a:pt x="944" y="41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H="1">
              <a:off x="4002480" y="3294000"/>
              <a:ext cx="46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H="1">
              <a:off x="4619880" y="356724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H="1">
              <a:off x="4593240" y="2971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4419360" y="461808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V="1">
              <a:off x="6334200" y="3522240"/>
              <a:ext cx="0" cy="9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6351480" y="5111640"/>
              <a:ext cx="0" cy="54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6208560" y="5656320"/>
              <a:ext cx="31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rot="16200000">
              <a:off x="6300720" y="38224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686920" y="46083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5628240" y="28684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7" name=""/>
            <p:cNvGrpSpPr/>
            <p:nvPr/>
          </p:nvGrpSpPr>
          <p:grpSpPr>
            <a:xfrm>
              <a:off x="2738520" y="1500120"/>
              <a:ext cx="476280" cy="793800"/>
              <a:chOff x="2738520" y="1500120"/>
              <a:chExt cx="476280" cy="793800"/>
            </a:xfrm>
          </p:grpSpPr>
          <p:sp>
            <p:nvSpPr>
              <p:cNvPr id="1998" name=""/>
              <p:cNvSpPr/>
              <p:nvPr/>
            </p:nvSpPr>
            <p:spPr>
              <a:xfrm>
                <a:off x="2738520" y="1822320"/>
                <a:ext cx="476280" cy="4716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 flipH="1">
                <a:off x="2839680" y="2144520"/>
                <a:ext cx="266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 flipV="1">
                <a:off x="3046680" y="1896840"/>
                <a:ext cx="1015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flipH="1" flipV="1">
                <a:off x="2799000" y="1896840"/>
                <a:ext cx="1159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967120" y="2144520"/>
                <a:ext cx="180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799000" y="1500120"/>
                <a:ext cx="341280" cy="284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2877840" y="153324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2985480" y="16254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6" name=""/>
              <p:cNvGrpSpPr/>
              <p:nvPr/>
            </p:nvGrpSpPr>
            <p:grpSpPr>
              <a:xfrm>
                <a:off x="3022560" y="1976040"/>
                <a:ext cx="98640" cy="144360"/>
                <a:chOff x="3022560" y="1976040"/>
                <a:chExt cx="98640" cy="144360"/>
              </a:xfrm>
            </p:grpSpPr>
            <p:sp>
              <p:nvSpPr>
                <p:cNvPr id="2007" name=""/>
                <p:cNvSpPr/>
                <p:nvPr/>
              </p:nvSpPr>
              <p:spPr>
                <a:xfrm flipV="1">
                  <a:off x="3046320" y="1976040"/>
                  <a:ext cx="69840" cy="14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3022560" y="1976400"/>
                  <a:ext cx="98640" cy="115920"/>
                </a:xfrm>
                <a:custGeom>
                  <a:avLst/>
                  <a:gdLst/>
                  <a:ahLst/>
                  <a:rect l="l" t="t" r="r" b="b"/>
                  <a:pathLst>
                    <a:path w="62" h="73">
                      <a:moveTo>
                        <a:pt x="62" y="73"/>
                      </a:moveTo>
                      <a:lnTo>
                        <a:pt x="59" y="0"/>
                      </a:lnTo>
                      <a:lnTo>
                        <a:pt x="0" y="44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09" name=""/>
            <p:cNvSpPr/>
            <p:nvPr/>
          </p:nvSpPr>
          <p:spPr>
            <a:xfrm>
              <a:off x="3157560" y="1903320"/>
              <a:ext cx="42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 flipH="1">
              <a:off x="4903560" y="3860640"/>
              <a:ext cx="14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 flipH="1">
              <a:off x="4868640" y="3208320"/>
              <a:ext cx="34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 flipV="1">
              <a:off x="6315120" y="1896840"/>
              <a:ext cx="0" cy="9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 rot="16200000">
              <a:off x="2694960" y="293256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 flipV="1">
              <a:off x="2998800" y="3349800"/>
              <a:ext cx="0" cy="1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V="1">
              <a:off x="2963880" y="2290320"/>
              <a:ext cx="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 rot="16200000">
              <a:off x="6039720" y="467244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 rot="16200000">
              <a:off x="6015960" y="311364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 flipV="1">
              <a:off x="7356600" y="2060280"/>
              <a:ext cx="0" cy="32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7473600" y="2940120"/>
              <a:ext cx="57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222840" y="27417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6265800" y="18543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rot="10800000">
              <a:off x="1722240" y="525420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1455840" y="2620800"/>
              <a:ext cx="7920" cy="274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701640" y="5362560"/>
              <a:ext cx="100800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H="1">
              <a:off x="2309400" y="5357880"/>
              <a:ext cx="21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509920" y="5262480"/>
              <a:ext cx="144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>
              <a:off x="1461960" y="2602080"/>
              <a:ext cx="15163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rot="16200000">
              <a:off x="2457360" y="5313240"/>
              <a:ext cx="7488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2489040" y="5362560"/>
              <a:ext cx="483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rot="16200000">
              <a:off x="6313320" y="531576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 rot="16200000">
              <a:off x="1442880" y="531432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 rot="16200000">
              <a:off x="2927520" y="25714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 flipV="1">
              <a:off x="5238720" y="3209400"/>
              <a:ext cx="0" cy="13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219640" y="5048280"/>
              <a:ext cx="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rot="16200000">
              <a:off x="5180040" y="532584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1677960" y="5394240"/>
              <a:ext cx="599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1181160" y="2425680"/>
              <a:ext cx="1562040" cy="3543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8" name=""/>
            <p:cNvGrpSpPr/>
            <p:nvPr/>
          </p:nvGrpSpPr>
          <p:grpSpPr>
            <a:xfrm>
              <a:off x="430200" y="3206880"/>
              <a:ext cx="547560" cy="558720"/>
              <a:chOff x="430200" y="3206880"/>
              <a:chExt cx="547560" cy="558720"/>
            </a:xfrm>
          </p:grpSpPr>
          <p:sp>
            <p:nvSpPr>
              <p:cNvPr id="2039" name=""/>
              <p:cNvSpPr/>
              <p:nvPr/>
            </p:nvSpPr>
            <p:spPr>
              <a:xfrm>
                <a:off x="430200" y="3206880"/>
                <a:ext cx="547560" cy="55872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 flipV="1">
                <a:off x="704160" y="3329280"/>
                <a:ext cx="0" cy="27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1" name=""/>
            <p:cNvSpPr/>
            <p:nvPr/>
          </p:nvSpPr>
          <p:spPr>
            <a:xfrm flipV="1">
              <a:off x="711360" y="1904760"/>
              <a:ext cx="0" cy="13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685800" y="375912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H="1">
              <a:off x="901440" y="5359320"/>
              <a:ext cx="5994360" cy="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3344760" y="532440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STABILIZATORÓW NAPIĘ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4320" y="690480"/>
            <a:ext cx="82843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   nominalne (znamionowe) napięcie stabilizacj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20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największy prąd wyjściowy w zakresie stabilizacj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2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 największy prąd wyjściowy zwarciow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1min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1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zakres dopuszczalnych zmian napięcia wejścioweg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st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   moc strat w stabilizatorze - </a:t>
            </a:r>
            <a:r>
              <a:rPr b="0" i="1" lang="pl-PL" sz="2400" spc="-1" strike="noStrike">
                <a:solidFill>
                  <a:srgbClr val="ff3300"/>
                </a:solidFill>
                <a:latin typeface="Times New Roman"/>
              </a:rPr>
              <a:t>tranzystory mo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60440" y="2959200"/>
          <a:ext cx="6251400" cy="349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2959200"/>
                    <a:ext cx="625140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DZAJE STABILIZATO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1960" y="1108080"/>
            <a:ext cx="5588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arametrycz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korzystują wprost właściwości element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liniowych - dioda Zenera, wary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mpensacyj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zeregowe - małe i średnie moce (do n•10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regulow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ównoległe  - większe mo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o stałym napięciu wyjści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540480" y="1434960"/>
            <a:ext cx="584280" cy="19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7200360" y="193032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89640" y="182880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0"/>
                </a:moveTo>
                <a:lnTo>
                  <a:pt x="0" y="104"/>
                </a:lnTo>
                <a:lnTo>
                  <a:pt x="280" y="224"/>
                </a:lnTo>
                <a:lnTo>
                  <a:pt x="264" y="3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24760" y="153684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480440" y="15494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493040" y="2311560"/>
            <a:ext cx="0" cy="16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058080" y="247644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994360" y="153684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006960" y="1650600"/>
            <a:ext cx="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10280" y="344160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7670520" y="393696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99200" y="3263760"/>
            <a:ext cx="444600" cy="52092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0"/>
                </a:moveTo>
                <a:lnTo>
                  <a:pt x="0" y="104"/>
                </a:lnTo>
                <a:lnTo>
                  <a:pt x="280" y="224"/>
                </a:lnTo>
                <a:lnTo>
                  <a:pt x="264" y="3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94560" y="35434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950240" y="355608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962840" y="431784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527520" y="4483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463800" y="354348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77120" y="3657600"/>
            <a:ext cx="0" cy="66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8394840" y="364464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90600" y="292104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7886160" y="190512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166240" y="1523880"/>
            <a:ext cx="0" cy="1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178840" y="22860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8610480" y="1612800"/>
            <a:ext cx="0" cy="78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61120" y="507996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6921000" y="557532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10280" y="547380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0"/>
                </a:moveTo>
                <a:lnTo>
                  <a:pt x="0" y="104"/>
                </a:lnTo>
                <a:lnTo>
                  <a:pt x="280" y="224"/>
                </a:lnTo>
                <a:lnTo>
                  <a:pt x="264" y="3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45400" y="518148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01080" y="51944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13680" y="59562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778000" y="612144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715000" y="518148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626080" y="5308200"/>
            <a:ext cx="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7606800" y="5549760"/>
            <a:ext cx="58392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86880" y="516888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99480" y="5931000"/>
            <a:ext cx="0" cy="16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8331120" y="525744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77640" y="619776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7302600" y="363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43880" y="385920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rowa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56480" y="570240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553572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rowa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34400" y="187812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el. nieliniow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144640" y="10936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144640" y="31258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144640" y="480204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96800" y="10810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60160" y="37609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01440" y="47386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1680" y="2730600"/>
            <a:ext cx="77724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477440" y="3038400"/>
            <a:ext cx="52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ILIZATOR   PARAMETRYCZ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0960" y="522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DIODY ZE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259000" y="111744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160" y="1828800"/>
            <a:ext cx="293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66880" y="1828800"/>
            <a:ext cx="1392120" cy="2625840"/>
          </a:xfrm>
          <a:custGeom>
            <a:avLst/>
            <a:gdLst/>
            <a:ahLst/>
            <a:rect l="l" t="t" r="r" b="b"/>
            <a:pathLst>
              <a:path w="608" h="1240">
                <a:moveTo>
                  <a:pt x="608" y="0"/>
                </a:moveTo>
                <a:lnTo>
                  <a:pt x="268" y="12"/>
                </a:lnTo>
                <a:lnTo>
                  <a:pt x="140" y="16"/>
                </a:lnTo>
                <a:lnTo>
                  <a:pt x="112" y="28"/>
                </a:lnTo>
                <a:lnTo>
                  <a:pt x="100" y="52"/>
                </a:lnTo>
                <a:lnTo>
                  <a:pt x="68" y="236"/>
                </a:lnTo>
                <a:lnTo>
                  <a:pt x="28" y="664"/>
                </a:lnTo>
                <a:lnTo>
                  <a:pt x="0" y="1240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68360" y="1143000"/>
            <a:ext cx="466920" cy="685800"/>
          </a:xfrm>
          <a:custGeom>
            <a:avLst/>
            <a:gdLst/>
            <a:ahLst/>
            <a:rect l="l" t="t" r="r" b="b"/>
            <a:pathLst>
              <a:path w="204" h="324">
                <a:moveTo>
                  <a:pt x="0" y="324"/>
                </a:moveTo>
                <a:lnTo>
                  <a:pt x="136" y="320"/>
                </a:lnTo>
                <a:lnTo>
                  <a:pt x="160" y="304"/>
                </a:lnTo>
                <a:lnTo>
                  <a:pt x="168" y="280"/>
                </a:lnTo>
                <a:lnTo>
                  <a:pt x="188" y="188"/>
                </a:lnTo>
                <a:lnTo>
                  <a:pt x="204" y="0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840" y="1279440"/>
            <a:ext cx="66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27400" y="2530440"/>
            <a:ext cx="860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76320" y="1828800"/>
            <a:ext cx="0" cy="939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68400" y="276876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91160" y="2703600"/>
            <a:ext cx="519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D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34080" y="3448080"/>
            <a:ext cx="303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884840" y="1165320"/>
            <a:ext cx="0" cy="366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94880" y="308304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0720" y="1411200"/>
            <a:ext cx="2735280" cy="2000160"/>
          </a:xfrm>
          <a:custGeom>
            <a:avLst/>
            <a:gdLst/>
            <a:ahLst/>
            <a:rect l="l" t="t" r="r" b="b"/>
            <a:pathLst>
              <a:path w="1723" h="1260">
                <a:moveTo>
                  <a:pt x="0" y="600"/>
                </a:moveTo>
                <a:cubicBezTo>
                  <a:pt x="86" y="692"/>
                  <a:pt x="173" y="785"/>
                  <a:pt x="312" y="878"/>
                </a:cubicBezTo>
                <a:cubicBezTo>
                  <a:pt x="451" y="971"/>
                  <a:pt x="690" y="1125"/>
                  <a:pt x="834" y="1156"/>
                </a:cubicBezTo>
                <a:cubicBezTo>
                  <a:pt x="978" y="1187"/>
                  <a:pt x="1030" y="1260"/>
                  <a:pt x="1178" y="1067"/>
                </a:cubicBezTo>
                <a:cubicBezTo>
                  <a:pt x="1326" y="874"/>
                  <a:pt x="1524" y="437"/>
                  <a:pt x="1723" y="0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54680" y="1817640"/>
            <a:ext cx="1393920" cy="2944800"/>
          </a:xfrm>
          <a:custGeom>
            <a:avLst/>
            <a:gdLst/>
            <a:ahLst/>
            <a:rect l="l" t="t" r="r" b="b"/>
            <a:pathLst>
              <a:path w="878" h="1855">
                <a:moveTo>
                  <a:pt x="878" y="0"/>
                </a:moveTo>
                <a:cubicBezTo>
                  <a:pt x="812" y="293"/>
                  <a:pt x="746" y="587"/>
                  <a:pt x="678" y="789"/>
                </a:cubicBezTo>
                <a:cubicBezTo>
                  <a:pt x="610" y="991"/>
                  <a:pt x="580" y="1033"/>
                  <a:pt x="467" y="1211"/>
                </a:cubicBezTo>
                <a:cubicBezTo>
                  <a:pt x="354" y="1389"/>
                  <a:pt x="76" y="1748"/>
                  <a:pt x="0" y="1855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8800" y="843120"/>
            <a:ext cx="183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pl-PL" sz="2400" spc="-1" strike="noStrike" baseline="-25000">
                <a:solidFill>
                  <a:srgbClr val="cc0000"/>
                </a:solidFill>
                <a:latin typeface="Times New Roman"/>
              </a:rPr>
              <a:t>DZ</a:t>
            </a:r>
            <a:r>
              <a:rPr b="1" lang="pl-PL" sz="2400" spc="-1" strike="noStrike">
                <a:solidFill>
                  <a:srgbClr val="cc0000"/>
                </a:solidFill>
                <a:latin typeface="Times New Roman"/>
              </a:rPr>
              <a:t>, </a:t>
            </a:r>
            <a:r>
              <a:rPr b="1" lang="pl-PL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pl-PL" sz="2400" spc="-1" strike="noStrike" baseline="-25000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pl-PL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82920" y="3956040"/>
            <a:ext cx="1031760" cy="27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 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 n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 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112760" y="4387680"/>
            <a:ext cx="1340640" cy="2170080"/>
            <a:chOff x="1112760" y="4387680"/>
            <a:chExt cx="1340640" cy="2170080"/>
          </a:xfrm>
        </p:grpSpPr>
        <p:sp>
          <p:nvSpPr>
            <p:cNvPr id="124" name=""/>
            <p:cNvSpPr/>
            <p:nvPr/>
          </p:nvSpPr>
          <p:spPr>
            <a:xfrm>
              <a:off x="1359000" y="4653000"/>
              <a:ext cx="195120" cy="60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12760" y="5568840"/>
              <a:ext cx="723960" cy="758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1465200" y="5728680"/>
              <a:ext cx="0" cy="4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47920" y="4387680"/>
              <a:ext cx="0" cy="26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65200" y="5253120"/>
              <a:ext cx="0" cy="33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65200" y="6327720"/>
              <a:ext cx="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69040" y="4843440"/>
              <a:ext cx="51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56520" y="57006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Z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 flipV="1">
            <a:off x="831960" y="1821960"/>
            <a:ext cx="218880" cy="24894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55800" y="1514520"/>
            <a:ext cx="463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en-US" sz="1400" spc="-1" strike="noStrike" baseline="-25000">
                <a:solidFill>
                  <a:srgbClr val="cc0000"/>
                </a:solidFill>
                <a:latin typeface="Times New Roman"/>
              </a:rPr>
              <a:t>Z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13920" y="37879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- 7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60640" y="228456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&lt;10om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10360" y="2681280"/>
            <a:ext cx="547560" cy="5367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50040" y="3346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PARAMETRYCZNY - UKŁ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31480" y="2371680"/>
            <a:ext cx="2551320" cy="1421640"/>
            <a:chOff x="231480" y="2371680"/>
            <a:chExt cx="2551320" cy="1421640"/>
          </a:xfrm>
        </p:grpSpPr>
        <p:sp>
          <p:nvSpPr>
            <p:cNvPr id="140" name=""/>
            <p:cNvSpPr/>
            <p:nvPr/>
          </p:nvSpPr>
          <p:spPr>
            <a:xfrm>
              <a:off x="231480" y="3579840"/>
              <a:ext cx="2321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)                                              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61960" y="3062160"/>
              <a:ext cx="23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9800" y="2598840"/>
              <a:ext cx="409680" cy="154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130040" y="2676600"/>
              <a:ext cx="168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544320" y="2676600"/>
              <a:ext cx="199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98480" y="2789280"/>
              <a:ext cx="290520" cy="2905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80920" y="2830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1212480" y="3075120"/>
              <a:ext cx="259200" cy="128520"/>
              <a:chOff x="1212480" y="3075120"/>
              <a:chExt cx="259200" cy="128520"/>
            </a:xfrm>
          </p:grpSpPr>
          <p:sp>
            <p:nvSpPr>
              <p:cNvPr id="148" name=""/>
              <p:cNvSpPr/>
              <p:nvPr/>
            </p:nvSpPr>
            <p:spPr>
              <a:xfrm>
                <a:off x="1239840" y="3201840"/>
                <a:ext cx="18576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320840" y="3089160"/>
                <a:ext cx="114120" cy="1126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235160" y="307512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1212480" y="3089160"/>
                <a:ext cx="112680" cy="1126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416240" y="3075120"/>
                <a:ext cx="55440" cy="507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317520" y="2630520"/>
              <a:ext cx="227160" cy="95400"/>
              <a:chOff x="317520" y="2630520"/>
              <a:chExt cx="227160" cy="95400"/>
            </a:xfrm>
          </p:grpSpPr>
          <p:sp>
            <p:nvSpPr>
              <p:cNvPr id="154" name=""/>
              <p:cNvSpPr/>
              <p:nvPr/>
            </p:nvSpPr>
            <p:spPr>
              <a:xfrm>
                <a:off x="317520" y="2676600"/>
                <a:ext cx="227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49280" y="263052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1276200" y="2676600"/>
              <a:ext cx="95400" cy="226800"/>
              <a:chOff x="1276200" y="2676600"/>
              <a:chExt cx="95400" cy="226800"/>
            </a:xfrm>
          </p:grpSpPr>
          <p:sp>
            <p:nvSpPr>
              <p:cNvPr id="157" name=""/>
              <p:cNvSpPr/>
              <p:nvPr/>
            </p:nvSpPr>
            <p:spPr>
              <a:xfrm>
                <a:off x="1325520" y="2676600"/>
                <a:ext cx="1800" cy="22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276200" y="2806560"/>
                <a:ext cx="95400" cy="96840"/>
              </a:xfrm>
              <a:custGeom>
                <a:avLst/>
                <a:gdLst/>
                <a:ahLst/>
                <a:rect l="l" t="t" r="r" b="b"/>
                <a:pathLst>
                  <a:path w="60" h="61">
                    <a:moveTo>
                      <a:pt x="0" y="0"/>
                    </a:moveTo>
                    <a:lnTo>
                      <a:pt x="31" y="61"/>
                    </a:lnTo>
                    <a:lnTo>
                      <a:pt x="6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1312920" y="2630520"/>
              <a:ext cx="227160" cy="95400"/>
              <a:chOff x="1312920" y="2630520"/>
              <a:chExt cx="227160" cy="95400"/>
            </a:xfrm>
          </p:grpSpPr>
          <p:sp>
            <p:nvSpPr>
              <p:cNvPr id="160" name=""/>
              <p:cNvSpPr/>
              <p:nvPr/>
            </p:nvSpPr>
            <p:spPr>
              <a:xfrm>
                <a:off x="1312920" y="2676600"/>
                <a:ext cx="227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444680" y="263052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 flipV="1">
              <a:off x="1325520" y="2903040"/>
              <a:ext cx="18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1325520" y="3197160"/>
              <a:ext cx="1800" cy="33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0520" y="3543480"/>
              <a:ext cx="1407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89120" y="3516480"/>
              <a:ext cx="6336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1200" y="351648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1200" y="2648160"/>
              <a:ext cx="6372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540080" y="2676600"/>
              <a:ext cx="171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89120" y="2648160"/>
              <a:ext cx="6336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1840" y="2762280"/>
              <a:ext cx="95040" cy="681120"/>
              <a:chOff x="231840" y="2762280"/>
              <a:chExt cx="95040" cy="681120"/>
            </a:xfrm>
          </p:grpSpPr>
          <p:sp>
            <p:nvSpPr>
              <p:cNvPr id="171" name=""/>
              <p:cNvSpPr/>
              <p:nvPr/>
            </p:nvSpPr>
            <p:spPr>
              <a:xfrm flipV="1">
                <a:off x="276120" y="2762280"/>
                <a:ext cx="1800" cy="68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31840" y="276228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8" y="0"/>
                    </a:lnTo>
                    <a:lnTo>
                      <a:pt x="0" y="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1679760" y="2762280"/>
              <a:ext cx="95040" cy="681120"/>
              <a:chOff x="1679760" y="2762280"/>
              <a:chExt cx="95040" cy="681120"/>
            </a:xfrm>
          </p:grpSpPr>
          <p:sp>
            <p:nvSpPr>
              <p:cNvPr id="174" name=""/>
              <p:cNvSpPr/>
              <p:nvPr/>
            </p:nvSpPr>
            <p:spPr>
              <a:xfrm flipV="1">
                <a:off x="1725480" y="2762280"/>
                <a:ext cx="1800" cy="68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679760" y="276228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9" y="0"/>
                    </a:lnTo>
                    <a:lnTo>
                      <a:pt x="0" y="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2487600" y="2967120"/>
              <a:ext cx="295200" cy="293760"/>
              <a:chOff x="2487600" y="2967120"/>
              <a:chExt cx="295200" cy="293760"/>
            </a:xfrm>
          </p:grpSpPr>
          <p:sp>
            <p:nvSpPr>
              <p:cNvPr id="177" name=""/>
              <p:cNvSpPr/>
              <p:nvPr/>
            </p:nvSpPr>
            <p:spPr>
              <a:xfrm>
                <a:off x="2492280" y="2970360"/>
                <a:ext cx="285840" cy="28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487600" y="297036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487600" y="29894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487600" y="300672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487600" y="302580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487600" y="30434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487600" y="30621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487600" y="307980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487600" y="309888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487600" y="311616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487600" y="313380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487600" y="31528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487600" y="317016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487600" y="31892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487600" y="32068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487600" y="3225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487600" y="324324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49732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51460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53368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55132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57004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58768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60676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62404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64312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66076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67804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69712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71476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73384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75112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77020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774880" y="323856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774880" y="32209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774880" y="320184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74880" y="318456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774880" y="316548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774880" y="314820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774880" y="31305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774880" y="311148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774880" y="309420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774880" y="30751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774880" y="305748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774880" y="303840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774880" y="30211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774880" y="300204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774880" y="298440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774880" y="29671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5"/>
                    </a:move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75580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73852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71944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70180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68308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66544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64636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62908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61144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59236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57508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55600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53836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51928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50200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2538360" y="3002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55360" y="30942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06800" y="3274920"/>
              <a:ext cx="144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06800" y="3456000"/>
              <a:ext cx="199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2206800" y="2862360"/>
              <a:ext cx="353880" cy="426960"/>
              <a:chOff x="2206800" y="2862360"/>
              <a:chExt cx="353880" cy="426960"/>
            </a:xfrm>
          </p:grpSpPr>
          <p:sp>
            <p:nvSpPr>
              <p:cNvPr id="246" name=""/>
              <p:cNvSpPr/>
              <p:nvPr/>
            </p:nvSpPr>
            <p:spPr>
              <a:xfrm flipV="1">
                <a:off x="2206800" y="2862360"/>
                <a:ext cx="353880" cy="42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465280" y="286236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46" y="66"/>
                    </a:moveTo>
                    <a:lnTo>
                      <a:pt x="60" y="0"/>
                    </a:lnTo>
                    <a:lnTo>
                      <a:pt x="0" y="2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355840" y="3429000"/>
              <a:ext cx="63360" cy="55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20200" y="2752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484280" y="2843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6240" y="2371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9960" y="24624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02560" y="2371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66280" y="24624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3880" y="2994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9960" y="3084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16200" y="3006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51920" y="3098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731960" y="2676600"/>
              <a:ext cx="65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41680" y="3552840"/>
              <a:ext cx="65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79600" y="2676600"/>
              <a:ext cx="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01840" y="2911680"/>
              <a:ext cx="154080" cy="4093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3583080" y="1909800"/>
            <a:ext cx="5006880" cy="4012200"/>
            <a:chOff x="3583080" y="1909800"/>
            <a:chExt cx="5006880" cy="4012200"/>
          </a:xfrm>
        </p:grpSpPr>
        <p:sp>
          <p:nvSpPr>
            <p:cNvPr id="264" name=""/>
            <p:cNvSpPr/>
            <p:nvPr/>
          </p:nvSpPr>
          <p:spPr>
            <a:xfrm>
              <a:off x="5452920" y="4110120"/>
              <a:ext cx="2905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29440" y="2998800"/>
              <a:ext cx="14760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Nachylenie - 1/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26040" y="3089160"/>
              <a:ext cx="21744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48360" y="31212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6075360" y="2276640"/>
              <a:ext cx="300240" cy="9360"/>
              <a:chOff x="6075360" y="2276640"/>
              <a:chExt cx="300240" cy="9360"/>
            </a:xfrm>
          </p:grpSpPr>
          <p:sp>
            <p:nvSpPr>
              <p:cNvPr id="269" name=""/>
              <p:cNvSpPr/>
              <p:nvPr/>
            </p:nvSpPr>
            <p:spPr>
              <a:xfrm>
                <a:off x="607536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09300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11208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12936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14844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16572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18336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20244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21972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23880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25644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27552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29280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31188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32952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34680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36588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5435640" y="5113440"/>
              <a:ext cx="298440" cy="9360"/>
              <a:chOff x="5435640" y="5113440"/>
              <a:chExt cx="298440" cy="9360"/>
            </a:xfrm>
          </p:grpSpPr>
          <p:sp>
            <p:nvSpPr>
              <p:cNvPr id="287" name=""/>
              <p:cNvSpPr/>
              <p:nvPr/>
            </p:nvSpPr>
            <p:spPr>
              <a:xfrm>
                <a:off x="543564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45292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47056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48964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50692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52600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54364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56272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58000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59764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61672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400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5308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67072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68980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70708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72616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5367240" y="5332320"/>
              <a:ext cx="217440" cy="217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5366880" y="5396040"/>
              <a:ext cx="3223080" cy="104760"/>
              <a:chOff x="5366880" y="5396040"/>
              <a:chExt cx="3223080" cy="104760"/>
            </a:xfrm>
          </p:grpSpPr>
          <p:sp>
            <p:nvSpPr>
              <p:cNvPr id="306" name=""/>
              <p:cNvSpPr/>
              <p:nvPr/>
            </p:nvSpPr>
            <p:spPr>
              <a:xfrm flipH="1">
                <a:off x="5366880" y="5445000"/>
                <a:ext cx="313236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489880" y="5396040"/>
                <a:ext cx="100080" cy="104760"/>
              </a:xfrm>
              <a:custGeom>
                <a:avLst/>
                <a:gdLst/>
                <a:ahLst/>
                <a:rect l="l" t="t" r="r" b="b"/>
                <a:pathLst>
                  <a:path w="63" h="66">
                    <a:moveTo>
                      <a:pt x="0" y="66"/>
                    </a:moveTo>
                    <a:lnTo>
                      <a:pt x="63" y="31"/>
                    </a:lnTo>
                    <a:lnTo>
                      <a:pt x="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3632400" y="2081160"/>
              <a:ext cx="95040" cy="3378240"/>
              <a:chOff x="3632400" y="2081160"/>
              <a:chExt cx="95040" cy="3378240"/>
            </a:xfrm>
          </p:grpSpPr>
          <p:sp>
            <p:nvSpPr>
              <p:cNvPr id="309" name=""/>
              <p:cNvSpPr/>
              <p:nvPr/>
            </p:nvSpPr>
            <p:spPr>
              <a:xfrm>
                <a:off x="3678120" y="2166840"/>
                <a:ext cx="5040" cy="329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632400" y="208116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9" y="0"/>
                    </a:lnTo>
                    <a:lnTo>
                      <a:pt x="0" y="60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3678120" y="5445000"/>
              <a:ext cx="17211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5380200" y="5400720"/>
              <a:ext cx="131760" cy="44280"/>
              <a:chOff x="5380200" y="5400720"/>
              <a:chExt cx="131760" cy="44280"/>
            </a:xfrm>
          </p:grpSpPr>
          <p:sp>
            <p:nvSpPr>
              <p:cNvPr id="313" name=""/>
              <p:cNvSpPr/>
              <p:nvPr/>
            </p:nvSpPr>
            <p:spPr>
              <a:xfrm>
                <a:off x="5380200" y="5400720"/>
                <a:ext cx="131760" cy="44280"/>
              </a:xfrm>
              <a:custGeom>
                <a:avLst/>
                <a:gdLst/>
                <a:ahLst/>
                <a:rect l="l" t="t" r="r" b="b"/>
                <a:pathLst>
                  <a:path w="83" h="28">
                    <a:moveTo>
                      <a:pt x="0" y="28"/>
                    </a:moveTo>
                    <a:lnTo>
                      <a:pt x="32" y="25"/>
                    </a:lnTo>
                    <a:lnTo>
                      <a:pt x="60" y="20"/>
                    </a:lnTo>
                    <a:lnTo>
                      <a:pt x="77" y="11"/>
                    </a:lnTo>
                    <a:lnTo>
                      <a:pt x="80" y="5"/>
                    </a:lnTo>
                    <a:lnTo>
                      <a:pt x="83" y="0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380200" y="5400720"/>
                <a:ext cx="131760" cy="44280"/>
              </a:xfrm>
              <a:custGeom>
                <a:avLst/>
                <a:gdLst/>
                <a:ahLst/>
                <a:rect l="l" t="t" r="r" b="b"/>
                <a:pathLst>
                  <a:path w="83" h="28">
                    <a:moveTo>
                      <a:pt x="0" y="28"/>
                    </a:moveTo>
                    <a:lnTo>
                      <a:pt x="32" y="25"/>
                    </a:lnTo>
                    <a:lnTo>
                      <a:pt x="60" y="20"/>
                    </a:lnTo>
                    <a:lnTo>
                      <a:pt x="77" y="11"/>
                    </a:lnTo>
                    <a:lnTo>
                      <a:pt x="80" y="5"/>
                    </a:lnTo>
                    <a:lnTo>
                      <a:pt x="8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 flipV="1">
              <a:off x="5511960" y="2139480"/>
              <a:ext cx="722160" cy="3264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170760" y="2254320"/>
              <a:ext cx="6336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48320" y="5091120"/>
              <a:ext cx="5868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559400" y="2835360"/>
              <a:ext cx="2809800" cy="26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013360" y="2820960"/>
              <a:ext cx="2836800" cy="26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789520" y="3983040"/>
              <a:ext cx="6372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875200" y="3616200"/>
              <a:ext cx="5904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69200" y="4890960"/>
              <a:ext cx="1440" cy="56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850160" y="4890960"/>
              <a:ext cx="1800" cy="56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5807160" y="2747880"/>
              <a:ext cx="1440" cy="12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5892840" y="2747880"/>
              <a:ext cx="1440" cy="86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34240" y="3643200"/>
              <a:ext cx="853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865840" y="4010040"/>
              <a:ext cx="157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7369200" y="4896000"/>
              <a:ext cx="480960" cy="104760"/>
              <a:chOff x="7369200" y="4896000"/>
              <a:chExt cx="480960" cy="104760"/>
            </a:xfrm>
          </p:grpSpPr>
          <p:sp>
            <p:nvSpPr>
              <p:cNvPr id="329" name=""/>
              <p:cNvSpPr/>
              <p:nvPr/>
            </p:nvSpPr>
            <p:spPr>
              <a:xfrm>
                <a:off x="7454880" y="4946760"/>
                <a:ext cx="30960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369200" y="489600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0"/>
                    </a:moveTo>
                    <a:lnTo>
                      <a:pt x="0" y="32"/>
                    </a:lnTo>
                    <a:lnTo>
                      <a:pt x="60" y="6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755120" y="490536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8"/>
                    </a:lnTo>
                    <a:lnTo>
                      <a:pt x="0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6651720" y="3643200"/>
              <a:ext cx="100080" cy="366840"/>
              <a:chOff x="6651720" y="3643200"/>
              <a:chExt cx="100080" cy="366840"/>
            </a:xfrm>
          </p:grpSpPr>
          <p:sp>
            <p:nvSpPr>
              <p:cNvPr id="333" name=""/>
              <p:cNvSpPr/>
              <p:nvPr/>
            </p:nvSpPr>
            <p:spPr>
              <a:xfrm>
                <a:off x="6701040" y="3729240"/>
                <a:ext cx="1440" cy="19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656400" y="364320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8" y="0"/>
                    </a:lnTo>
                    <a:lnTo>
                      <a:pt x="0" y="60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651720" y="391464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0"/>
                    </a:moveTo>
                    <a:lnTo>
                      <a:pt x="31" y="60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5807160" y="2862360"/>
              <a:ext cx="85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5892840" y="2811600"/>
              <a:ext cx="441360" cy="95040"/>
              <a:chOff x="5892840" y="2811600"/>
              <a:chExt cx="441360" cy="95040"/>
            </a:xfrm>
          </p:grpSpPr>
          <p:sp>
            <p:nvSpPr>
              <p:cNvPr id="338" name=""/>
              <p:cNvSpPr/>
              <p:nvPr/>
            </p:nvSpPr>
            <p:spPr>
              <a:xfrm>
                <a:off x="5980320" y="2862360"/>
                <a:ext cx="353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892840" y="281160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0"/>
                    </a:moveTo>
                    <a:lnTo>
                      <a:pt x="0" y="32"/>
                    </a:lnTo>
                    <a:lnTo>
                      <a:pt x="60" y="6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5252760" y="2816280"/>
              <a:ext cx="554400" cy="95400"/>
              <a:chOff x="5252760" y="2816280"/>
              <a:chExt cx="554400" cy="95400"/>
            </a:xfrm>
          </p:grpSpPr>
          <p:sp>
            <p:nvSpPr>
              <p:cNvPr id="341" name=""/>
              <p:cNvSpPr/>
              <p:nvPr/>
            </p:nvSpPr>
            <p:spPr>
              <a:xfrm flipH="1">
                <a:off x="5252760" y="2862360"/>
                <a:ext cx="468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711760" y="281628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9"/>
                    </a:lnTo>
                    <a:lnTo>
                      <a:pt x="0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306760" y="253044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26280" y="2548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62000" y="2639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10120" y="369252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927120" y="37116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993000" y="3801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437240" y="463248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554960" y="46515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90680" y="4741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792760" y="4950000"/>
              <a:ext cx="459000" cy="29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15800" y="4981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78800" y="5073840"/>
              <a:ext cx="40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Dm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402240" y="2112840"/>
              <a:ext cx="462240" cy="33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428880" y="21448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492240" y="223524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Dma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81880" y="3855960"/>
              <a:ext cx="290520" cy="33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04920" y="38876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569360" y="3978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583080" y="5518080"/>
              <a:ext cx="203040" cy="27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04680" y="5549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338800" y="5586480"/>
              <a:ext cx="3049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62560" y="5618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98640" y="57085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228080" y="5486400"/>
              <a:ext cx="30456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251840" y="5518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85760" y="5608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263080" y="5500800"/>
              <a:ext cx="30456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286840" y="5535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49840" y="3670200"/>
              <a:ext cx="1171440" cy="117180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4408560" y="4329000"/>
              <a:ext cx="114120" cy="131760"/>
              <a:chOff x="4408560" y="4329000"/>
              <a:chExt cx="114120" cy="131760"/>
            </a:xfrm>
          </p:grpSpPr>
          <p:sp>
            <p:nvSpPr>
              <p:cNvPr id="373" name=""/>
              <p:cNvSpPr/>
              <p:nvPr/>
            </p:nvSpPr>
            <p:spPr>
              <a:xfrm>
                <a:off x="4408560" y="4329000"/>
                <a:ext cx="114120" cy="131760"/>
              </a:xfrm>
              <a:custGeom>
                <a:avLst/>
                <a:gdLst/>
                <a:ahLst/>
                <a:rect l="l" t="t" r="r" b="b"/>
                <a:pathLst>
                  <a:path w="72" h="83">
                    <a:moveTo>
                      <a:pt x="0" y="0"/>
                    </a:moveTo>
                    <a:lnTo>
                      <a:pt x="14" y="2"/>
                    </a:lnTo>
                    <a:lnTo>
                      <a:pt x="26" y="5"/>
                    </a:lnTo>
                    <a:lnTo>
                      <a:pt x="49" y="25"/>
                    </a:lnTo>
                    <a:lnTo>
                      <a:pt x="66" y="51"/>
                    </a:lnTo>
                    <a:lnTo>
                      <a:pt x="69" y="65"/>
                    </a:lnTo>
                    <a:lnTo>
                      <a:pt x="72" y="83"/>
                    </a:lnTo>
                    <a:lnTo>
                      <a:pt x="0" y="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408560" y="4329000"/>
                <a:ext cx="114120" cy="131760"/>
              </a:xfrm>
              <a:custGeom>
                <a:avLst/>
                <a:gdLst/>
                <a:ahLst/>
                <a:rect l="l" t="t" r="r" b="b"/>
                <a:pathLst>
                  <a:path w="72" h="83">
                    <a:moveTo>
                      <a:pt x="0" y="0"/>
                    </a:moveTo>
                    <a:lnTo>
                      <a:pt x="14" y="2"/>
                    </a:lnTo>
                    <a:lnTo>
                      <a:pt x="26" y="5"/>
                    </a:lnTo>
                    <a:lnTo>
                      <a:pt x="49" y="25"/>
                    </a:lnTo>
                    <a:lnTo>
                      <a:pt x="66" y="51"/>
                    </a:lnTo>
                    <a:lnTo>
                      <a:pt x="69" y="65"/>
                    </a:lnTo>
                    <a:lnTo>
                      <a:pt x="72" y="83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4264200" y="4246560"/>
              <a:ext cx="153720" cy="82440"/>
              <a:chOff x="4264200" y="4246560"/>
              <a:chExt cx="153720" cy="82440"/>
            </a:xfrm>
          </p:grpSpPr>
          <p:sp>
            <p:nvSpPr>
              <p:cNvPr id="376" name=""/>
              <p:cNvSpPr/>
              <p:nvPr/>
            </p:nvSpPr>
            <p:spPr>
              <a:xfrm>
                <a:off x="4264200" y="4246560"/>
                <a:ext cx="153720" cy="82440"/>
              </a:xfrm>
              <a:custGeom>
                <a:avLst/>
                <a:gdLst/>
                <a:ahLst/>
                <a:rect l="l" t="t" r="r" b="b"/>
                <a:pathLst>
                  <a:path w="97" h="52">
                    <a:moveTo>
                      <a:pt x="97" y="52"/>
                    </a:moveTo>
                    <a:lnTo>
                      <a:pt x="60" y="49"/>
                    </a:lnTo>
                    <a:lnTo>
                      <a:pt x="28" y="37"/>
                    </a:lnTo>
                    <a:lnTo>
                      <a:pt x="17" y="29"/>
                    </a:lnTo>
                    <a:lnTo>
                      <a:pt x="8" y="20"/>
                    </a:lnTo>
                    <a:lnTo>
                      <a:pt x="2" y="12"/>
                    </a:lnTo>
                    <a:lnTo>
                      <a:pt x="0" y="0"/>
                    </a:lnTo>
                    <a:lnTo>
                      <a:pt x="97" y="0"/>
                    </a:lnTo>
                    <a:lnTo>
                      <a:pt x="97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264200" y="4246560"/>
                <a:ext cx="153720" cy="82440"/>
              </a:xfrm>
              <a:custGeom>
                <a:avLst/>
                <a:gdLst/>
                <a:ahLst/>
                <a:rect l="l" t="t" r="r" b="b"/>
                <a:pathLst>
                  <a:path w="97" h="52">
                    <a:moveTo>
                      <a:pt x="97" y="52"/>
                    </a:moveTo>
                    <a:lnTo>
                      <a:pt x="60" y="49"/>
                    </a:lnTo>
                    <a:lnTo>
                      <a:pt x="28" y="37"/>
                    </a:lnTo>
                    <a:lnTo>
                      <a:pt x="17" y="29"/>
                    </a:lnTo>
                    <a:lnTo>
                      <a:pt x="8" y="20"/>
                    </a:lnTo>
                    <a:lnTo>
                      <a:pt x="2" y="12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4264200" y="4133880"/>
              <a:ext cx="102960" cy="100080"/>
              <a:chOff x="4264200" y="4133880"/>
              <a:chExt cx="102960" cy="100080"/>
            </a:xfrm>
          </p:grpSpPr>
          <p:sp>
            <p:nvSpPr>
              <p:cNvPr id="379" name=""/>
              <p:cNvSpPr/>
              <p:nvPr/>
            </p:nvSpPr>
            <p:spPr>
              <a:xfrm>
                <a:off x="4264200" y="4133880"/>
                <a:ext cx="102960" cy="100080"/>
              </a:xfrm>
              <a:custGeom>
                <a:avLst/>
                <a:gdLst/>
                <a:ahLst/>
                <a:rect l="l" t="t" r="r" b="b"/>
                <a:pathLst>
                  <a:path w="65" h="63">
                    <a:moveTo>
                      <a:pt x="65" y="0"/>
                    </a:moveTo>
                    <a:lnTo>
                      <a:pt x="40" y="5"/>
                    </a:lnTo>
                    <a:lnTo>
                      <a:pt x="20" y="20"/>
                    </a:lnTo>
                    <a:lnTo>
                      <a:pt x="5" y="40"/>
                    </a:lnTo>
                    <a:lnTo>
                      <a:pt x="0" y="63"/>
                    </a:lnTo>
                    <a:lnTo>
                      <a:pt x="65" y="63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264200" y="4133880"/>
                <a:ext cx="102960" cy="100080"/>
              </a:xfrm>
              <a:custGeom>
                <a:avLst/>
                <a:gdLst/>
                <a:ahLst/>
                <a:rect l="l" t="t" r="r" b="b"/>
                <a:pathLst>
                  <a:path w="65" h="63">
                    <a:moveTo>
                      <a:pt x="65" y="0"/>
                    </a:moveTo>
                    <a:lnTo>
                      <a:pt x="40" y="5"/>
                    </a:lnTo>
                    <a:lnTo>
                      <a:pt x="20" y="20"/>
                    </a:lnTo>
                    <a:lnTo>
                      <a:pt x="5" y="40"/>
                    </a:lnTo>
                    <a:lnTo>
                      <a:pt x="0" y="63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4518000" y="3679920"/>
              <a:ext cx="4680" cy="925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4363920" y="3987720"/>
              <a:ext cx="103320" cy="136800"/>
              <a:chOff x="4363920" y="3987720"/>
              <a:chExt cx="103320" cy="136800"/>
            </a:xfrm>
          </p:grpSpPr>
          <p:sp>
            <p:nvSpPr>
              <p:cNvPr id="383" name=""/>
              <p:cNvSpPr/>
              <p:nvPr/>
            </p:nvSpPr>
            <p:spPr>
              <a:xfrm>
                <a:off x="4363920" y="3987720"/>
                <a:ext cx="103320" cy="136800"/>
              </a:xfrm>
              <a:custGeom>
                <a:avLst/>
                <a:gdLst/>
                <a:ahLst/>
                <a:rect l="l" t="t" r="r" b="b"/>
                <a:pathLst>
                  <a:path w="65" h="86">
                    <a:moveTo>
                      <a:pt x="0" y="86"/>
                    </a:moveTo>
                    <a:lnTo>
                      <a:pt x="14" y="83"/>
                    </a:lnTo>
                    <a:lnTo>
                      <a:pt x="25" y="80"/>
                    </a:lnTo>
                    <a:lnTo>
                      <a:pt x="37" y="72"/>
                    </a:lnTo>
                    <a:lnTo>
                      <a:pt x="45" y="60"/>
                    </a:lnTo>
                    <a:lnTo>
                      <a:pt x="60" y="32"/>
                    </a:lnTo>
                    <a:lnTo>
                      <a:pt x="65" y="0"/>
                    </a:lnTo>
                    <a:lnTo>
                      <a:pt x="0" y="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363920" y="3987720"/>
                <a:ext cx="103320" cy="136800"/>
              </a:xfrm>
              <a:custGeom>
                <a:avLst/>
                <a:gdLst/>
                <a:ahLst/>
                <a:rect l="l" t="t" r="r" b="b"/>
                <a:pathLst>
                  <a:path w="65" h="86">
                    <a:moveTo>
                      <a:pt x="0" y="86"/>
                    </a:moveTo>
                    <a:lnTo>
                      <a:pt x="14" y="83"/>
                    </a:lnTo>
                    <a:lnTo>
                      <a:pt x="25" y="80"/>
                    </a:lnTo>
                    <a:lnTo>
                      <a:pt x="37" y="72"/>
                    </a:lnTo>
                    <a:lnTo>
                      <a:pt x="45" y="60"/>
                    </a:lnTo>
                    <a:lnTo>
                      <a:pt x="60" y="32"/>
                    </a:lnTo>
                    <a:lnTo>
                      <a:pt x="65" y="0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3873600" y="4419720"/>
              <a:ext cx="1108080" cy="1440"/>
            </a:xfrm>
            <a:prstGeom prst="line">
              <a:avLst/>
            </a:prstGeom>
            <a:ln w="176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4467240" y="3824280"/>
              <a:ext cx="23760" cy="163440"/>
              <a:chOff x="4467240" y="3824280"/>
              <a:chExt cx="23760" cy="163440"/>
            </a:xfrm>
          </p:grpSpPr>
          <p:sp>
            <p:nvSpPr>
              <p:cNvPr id="387" name=""/>
              <p:cNvSpPr/>
              <p:nvPr/>
            </p:nvSpPr>
            <p:spPr>
              <a:xfrm>
                <a:off x="4467240" y="3824280"/>
                <a:ext cx="23760" cy="163440"/>
              </a:xfrm>
              <a:custGeom>
                <a:avLst/>
                <a:gdLst/>
                <a:ahLst/>
                <a:rect l="l" t="t" r="r" b="b"/>
                <a:pathLst>
                  <a:path w="15" h="103">
                    <a:moveTo>
                      <a:pt x="0" y="103"/>
                    </a:moveTo>
                    <a:lnTo>
                      <a:pt x="3" y="100"/>
                    </a:lnTo>
                    <a:lnTo>
                      <a:pt x="6" y="95"/>
                    </a:lnTo>
                    <a:lnTo>
                      <a:pt x="9" y="86"/>
                    </a:lnTo>
                    <a:lnTo>
                      <a:pt x="12" y="75"/>
                    </a:lnTo>
                    <a:lnTo>
                      <a:pt x="15" y="40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467240" y="3824280"/>
                <a:ext cx="23760" cy="163440"/>
              </a:xfrm>
              <a:custGeom>
                <a:avLst/>
                <a:gdLst/>
                <a:ahLst/>
                <a:rect l="l" t="t" r="r" b="b"/>
                <a:pathLst>
                  <a:path w="15" h="103">
                    <a:moveTo>
                      <a:pt x="0" y="103"/>
                    </a:moveTo>
                    <a:lnTo>
                      <a:pt x="3" y="100"/>
                    </a:lnTo>
                    <a:lnTo>
                      <a:pt x="6" y="95"/>
                    </a:lnTo>
                    <a:lnTo>
                      <a:pt x="9" y="86"/>
                    </a:lnTo>
                    <a:lnTo>
                      <a:pt x="12" y="75"/>
                    </a:lnTo>
                    <a:lnTo>
                      <a:pt x="15" y="40"/>
                    </a:lnTo>
                    <a:lnTo>
                      <a:pt x="15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4491000" y="3679920"/>
              <a:ext cx="17640" cy="144360"/>
              <a:chOff x="4491000" y="3679920"/>
              <a:chExt cx="17640" cy="144360"/>
            </a:xfrm>
          </p:grpSpPr>
          <p:sp>
            <p:nvSpPr>
              <p:cNvPr id="390" name=""/>
              <p:cNvSpPr/>
              <p:nvPr/>
            </p:nvSpPr>
            <p:spPr>
              <a:xfrm>
                <a:off x="4491000" y="3679920"/>
                <a:ext cx="17640" cy="144360"/>
              </a:xfrm>
              <a:custGeom>
                <a:avLst/>
                <a:gdLst/>
                <a:ahLst/>
                <a:rect l="l" t="t" r="r" b="b"/>
                <a:pathLst>
                  <a:path w="11" h="91">
                    <a:moveTo>
                      <a:pt x="0" y="91"/>
                    </a:moveTo>
                    <a:lnTo>
                      <a:pt x="2" y="88"/>
                    </a:lnTo>
                    <a:lnTo>
                      <a:pt x="5" y="85"/>
                    </a:lnTo>
                    <a:lnTo>
                      <a:pt x="5" y="77"/>
                    </a:lnTo>
                    <a:lnTo>
                      <a:pt x="8" y="65"/>
                    </a:lnTo>
                    <a:lnTo>
                      <a:pt x="11" y="37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491000" y="3679920"/>
                <a:ext cx="17640" cy="144360"/>
              </a:xfrm>
              <a:custGeom>
                <a:avLst/>
                <a:gdLst/>
                <a:ahLst/>
                <a:rect l="l" t="t" r="r" b="b"/>
                <a:pathLst>
                  <a:path w="11" h="91">
                    <a:moveTo>
                      <a:pt x="0" y="91"/>
                    </a:moveTo>
                    <a:lnTo>
                      <a:pt x="2" y="88"/>
                    </a:lnTo>
                    <a:lnTo>
                      <a:pt x="5" y="85"/>
                    </a:lnTo>
                    <a:lnTo>
                      <a:pt x="5" y="77"/>
                    </a:lnTo>
                    <a:lnTo>
                      <a:pt x="8" y="65"/>
                    </a:lnTo>
                    <a:lnTo>
                      <a:pt x="11" y="37"/>
                    </a:lnTo>
                    <a:lnTo>
                      <a:pt x="11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4476600" y="4346640"/>
              <a:ext cx="460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272120" y="4265640"/>
              <a:ext cx="2458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322880" y="4305240"/>
              <a:ext cx="19512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272120" y="4224240"/>
              <a:ext cx="24588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476600" y="4019760"/>
              <a:ext cx="460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467240" y="4060800"/>
              <a:ext cx="5544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27640" y="4102200"/>
              <a:ext cx="9036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322880" y="4141800"/>
              <a:ext cx="19512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295880" y="4183200"/>
              <a:ext cx="22680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498920" y="3875040"/>
              <a:ext cx="1908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98920" y="3938760"/>
              <a:ext cx="190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4491000" y="3978360"/>
              <a:ext cx="27000" cy="936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4830840" y="4737240"/>
              <a:ext cx="581040" cy="595080"/>
              <a:chOff x="4830840" y="4737240"/>
              <a:chExt cx="581040" cy="595080"/>
            </a:xfrm>
          </p:grpSpPr>
          <p:sp>
            <p:nvSpPr>
              <p:cNvPr id="405" name=""/>
              <p:cNvSpPr/>
              <p:nvPr/>
            </p:nvSpPr>
            <p:spPr>
              <a:xfrm>
                <a:off x="4830840" y="4737240"/>
                <a:ext cx="581040" cy="59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830840" y="4737240"/>
                <a:ext cx="104760" cy="100080"/>
              </a:xfrm>
              <a:custGeom>
                <a:avLst/>
                <a:gdLst/>
                <a:ahLst/>
                <a:rect l="l" t="t" r="r" b="b"/>
                <a:pathLst>
                  <a:path w="66" h="63">
                    <a:moveTo>
                      <a:pt x="66" y="20"/>
                    </a:moveTo>
                    <a:lnTo>
                      <a:pt x="0" y="0"/>
                    </a:lnTo>
                    <a:lnTo>
                      <a:pt x="23" y="6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 flipH="1">
              <a:off x="6005520" y="3232080"/>
              <a:ext cx="43200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66040" y="1909800"/>
              <a:ext cx="433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1620720" y="668160"/>
            <a:ext cx="6343560" cy="5678640"/>
            <a:chOff x="1620720" y="668160"/>
            <a:chExt cx="6343560" cy="5678640"/>
          </a:xfrm>
        </p:grpSpPr>
        <p:grpSp>
          <p:nvGrpSpPr>
            <p:cNvPr id="410" name=""/>
            <p:cNvGrpSpPr/>
            <p:nvPr/>
          </p:nvGrpSpPr>
          <p:grpSpPr>
            <a:xfrm>
              <a:off x="1941480" y="831600"/>
              <a:ext cx="84240" cy="2116080"/>
              <a:chOff x="1941480" y="831600"/>
              <a:chExt cx="84240" cy="2116080"/>
            </a:xfrm>
          </p:grpSpPr>
          <p:sp>
            <p:nvSpPr>
              <p:cNvPr id="411" name=""/>
              <p:cNvSpPr/>
              <p:nvPr/>
            </p:nvSpPr>
            <p:spPr>
              <a:xfrm>
                <a:off x="1981080" y="907920"/>
                <a:ext cx="1440" cy="2039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941480" y="831600"/>
                <a:ext cx="84240" cy="842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3" y="53"/>
                    </a:moveTo>
                    <a:lnTo>
                      <a:pt x="25" y="0"/>
                    </a:lnTo>
                    <a:lnTo>
                      <a:pt x="0" y="53"/>
                    </a:lnTo>
                    <a:lnTo>
                      <a:pt x="5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1965240" y="2906280"/>
              <a:ext cx="4237200" cy="84240"/>
              <a:chOff x="1965240" y="2906280"/>
              <a:chExt cx="4237200" cy="84240"/>
            </a:xfrm>
          </p:grpSpPr>
          <p:sp>
            <p:nvSpPr>
              <p:cNvPr id="414" name=""/>
              <p:cNvSpPr/>
              <p:nvPr/>
            </p:nvSpPr>
            <p:spPr>
              <a:xfrm flipH="1">
                <a:off x="1965240" y="2947680"/>
                <a:ext cx="4160880" cy="7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118200" y="2906280"/>
                <a:ext cx="84240" cy="842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0" y="53"/>
                    </a:moveTo>
                    <a:lnTo>
                      <a:pt x="53" y="26"/>
                    </a:lnTo>
                    <a:lnTo>
                      <a:pt x="0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1981080" y="2070000"/>
              <a:ext cx="18302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811320" y="2070000"/>
              <a:ext cx="1613160" cy="87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1933560" y="1064880"/>
              <a:ext cx="392040" cy="7920"/>
              <a:chOff x="1933560" y="1064880"/>
              <a:chExt cx="392040" cy="7920"/>
            </a:xfrm>
          </p:grpSpPr>
          <p:sp>
            <p:nvSpPr>
              <p:cNvPr id="419" name=""/>
              <p:cNvSpPr/>
              <p:nvPr/>
            </p:nvSpPr>
            <p:spPr>
              <a:xfrm>
                <a:off x="231768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30184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27016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25432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23812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22084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0500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18916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17332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15748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14128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12544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10960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09376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07792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06208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04444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2860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76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99692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98108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96524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94940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93356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1941480" y="3847680"/>
              <a:ext cx="84240" cy="2116440"/>
              <a:chOff x="1941480" y="3847680"/>
              <a:chExt cx="84240" cy="2116440"/>
            </a:xfrm>
          </p:grpSpPr>
          <p:sp>
            <p:nvSpPr>
              <p:cNvPr id="445" name=""/>
              <p:cNvSpPr/>
              <p:nvPr/>
            </p:nvSpPr>
            <p:spPr>
              <a:xfrm>
                <a:off x="1981080" y="3924000"/>
                <a:ext cx="1440" cy="2040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941480" y="3847680"/>
                <a:ext cx="84240" cy="842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3" y="53"/>
                    </a:moveTo>
                    <a:lnTo>
                      <a:pt x="25" y="0"/>
                    </a:lnTo>
                    <a:lnTo>
                      <a:pt x="0" y="53"/>
                    </a:lnTo>
                    <a:lnTo>
                      <a:pt x="5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5397480" y="5927400"/>
              <a:ext cx="796680" cy="84240"/>
              <a:chOff x="5397480" y="5927400"/>
              <a:chExt cx="796680" cy="84240"/>
            </a:xfrm>
          </p:grpSpPr>
          <p:sp>
            <p:nvSpPr>
              <p:cNvPr id="448" name=""/>
              <p:cNvSpPr/>
              <p:nvPr/>
            </p:nvSpPr>
            <p:spPr>
              <a:xfrm flipH="1" flipV="1">
                <a:off x="5397480" y="5964120"/>
                <a:ext cx="720720" cy="2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110280" y="5927400"/>
                <a:ext cx="83880" cy="842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0" y="53"/>
                    </a:moveTo>
                    <a:lnTo>
                      <a:pt x="53" y="25"/>
                    </a:lnTo>
                    <a:lnTo>
                      <a:pt x="0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1981080" y="4149360"/>
              <a:ext cx="1790640" cy="1793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3535200" y="5798880"/>
              <a:ext cx="504720" cy="7920"/>
              <a:chOff x="3535200" y="5798880"/>
              <a:chExt cx="504720" cy="7920"/>
            </a:xfrm>
          </p:grpSpPr>
          <p:sp>
            <p:nvSpPr>
              <p:cNvPr id="452" name=""/>
              <p:cNvSpPr/>
              <p:nvPr/>
            </p:nvSpPr>
            <p:spPr>
              <a:xfrm>
                <a:off x="40320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0161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99888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98304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9672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9513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9351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91932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90348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88764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8718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8559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84012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82248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80664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7908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7749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75912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74328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72744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7116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6957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679560" y="57988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66372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646440" y="57988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6306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6147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59892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582720" y="57988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56688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55104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5352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1944720" y="4157280"/>
              <a:ext cx="393480" cy="7920"/>
              <a:chOff x="1944720" y="4157280"/>
              <a:chExt cx="393480" cy="7920"/>
            </a:xfrm>
          </p:grpSpPr>
          <p:sp>
            <p:nvSpPr>
              <p:cNvPr id="485" name=""/>
              <p:cNvSpPr/>
              <p:nvPr/>
            </p:nvSpPr>
            <p:spPr>
              <a:xfrm>
                <a:off x="233028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31300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29716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280960" y="41572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26512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24928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23344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21760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20176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18592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17008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15424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136600" y="4157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12076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10492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08908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07324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05740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04156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02572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00952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99368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97784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960560" y="41572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94472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3606840" y="5775120"/>
              <a:ext cx="56880" cy="522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357280" y="920520"/>
              <a:ext cx="28116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404440" y="9522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525400" y="1033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633320" y="668160"/>
              <a:ext cx="27936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80840" y="7045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801440" y="78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33640" y="1296720"/>
              <a:ext cx="217440" cy="252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024360" y="1260360"/>
              <a:ext cx="1299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achylenie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86520" y="3047760"/>
              <a:ext cx="25560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157800" y="30794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12880" y="3159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881000" y="2998440"/>
              <a:ext cx="244440" cy="265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960200" y="3031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033640" y="1757160"/>
              <a:ext cx="920520" cy="2491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057040" y="1790280"/>
              <a:ext cx="148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220480" y="1869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277720" y="1790280"/>
              <a:ext cx="23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533680" y="18698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620720" y="3736800"/>
              <a:ext cx="28116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89120" y="37684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744200" y="38476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86520" y="6051240"/>
              <a:ext cx="25560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157800" y="60829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12880" y="6163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173560" y="6027480"/>
              <a:ext cx="46836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257800" y="60591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313240" y="614016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ma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71920" y="6014880"/>
              <a:ext cx="46800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655800" y="60480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11600" y="612756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ma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987720" y="5959080"/>
              <a:ext cx="14176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083120" y="5586120"/>
              <a:ext cx="46980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63760" y="56224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219200" y="570348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Dm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868400" y="6014880"/>
              <a:ext cx="24444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49040" y="6048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394000" y="3924000"/>
              <a:ext cx="1325520" cy="504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2455920" y="3946320"/>
              <a:ext cx="1187640" cy="449640"/>
              <a:chOff x="2455920" y="3946320"/>
              <a:chExt cx="1187640" cy="449640"/>
            </a:xfrm>
          </p:grpSpPr>
          <p:sp>
            <p:nvSpPr>
              <p:cNvPr id="549" name=""/>
              <p:cNvSpPr/>
              <p:nvPr/>
            </p:nvSpPr>
            <p:spPr>
              <a:xfrm>
                <a:off x="2455920" y="4187520"/>
                <a:ext cx="6076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457000" y="396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806200" y="396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712240" y="42130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257280" y="4082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952720" y="40510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337920" y="41684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590200" y="40510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511080" y="4082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695320" y="39463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111480" y="406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450960" y="4082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592440" y="4082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2" name=""/>
            <p:cNvSpPr/>
            <p:nvPr/>
          </p:nvSpPr>
          <p:spPr>
            <a:xfrm>
              <a:off x="1981080" y="5964120"/>
              <a:ext cx="20178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195800" y="4701960"/>
              <a:ext cx="8204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27920" y="4773240"/>
              <a:ext cx="4701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 =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5" name=""/>
            <p:cNvGrpSpPr/>
            <p:nvPr/>
          </p:nvGrpSpPr>
          <p:grpSpPr>
            <a:xfrm>
              <a:off x="3914640" y="4593960"/>
              <a:ext cx="1401840" cy="135000"/>
              <a:chOff x="3914640" y="4593960"/>
              <a:chExt cx="1401840" cy="135000"/>
            </a:xfrm>
          </p:grpSpPr>
          <p:sp>
            <p:nvSpPr>
              <p:cNvPr id="566" name=""/>
              <p:cNvSpPr/>
              <p:nvPr/>
            </p:nvSpPr>
            <p:spPr>
              <a:xfrm>
                <a:off x="4035240" y="4662360"/>
                <a:ext cx="116208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914640" y="4593960"/>
                <a:ext cx="128520" cy="131760"/>
              </a:xfrm>
              <a:custGeom>
                <a:avLst/>
                <a:gdLst/>
                <a:ahLst/>
                <a:rect l="l" t="t" r="r" b="b"/>
                <a:pathLst>
                  <a:path w="81" h="83">
                    <a:moveTo>
                      <a:pt x="81" y="0"/>
                    </a:moveTo>
                    <a:lnTo>
                      <a:pt x="0" y="43"/>
                    </a:lnTo>
                    <a:lnTo>
                      <a:pt x="81" y="83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189400" y="4597200"/>
                <a:ext cx="127080" cy="131760"/>
              </a:xfrm>
              <a:custGeom>
                <a:avLst/>
                <a:gdLst/>
                <a:ahLst/>
                <a:rect l="l" t="t" r="r" b="b"/>
                <a:pathLst>
                  <a:path w="80" h="83">
                    <a:moveTo>
                      <a:pt x="0" y="83"/>
                    </a:moveTo>
                    <a:lnTo>
                      <a:pt x="80" y="41"/>
                    </a:lnTo>
                    <a:lnTo>
                      <a:pt x="0" y="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5499000" y="888840"/>
              <a:ext cx="2465280" cy="1295280"/>
              <a:chOff x="5499000" y="888840"/>
              <a:chExt cx="2465280" cy="1295280"/>
            </a:xfrm>
          </p:grpSpPr>
          <p:sp>
            <p:nvSpPr>
              <p:cNvPr id="570" name=""/>
              <p:cNvSpPr/>
              <p:nvPr/>
            </p:nvSpPr>
            <p:spPr>
              <a:xfrm>
                <a:off x="6664320" y="1620720"/>
                <a:ext cx="358560" cy="2426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953040" y="2158560"/>
                <a:ext cx="65088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983200" y="1164960"/>
                <a:ext cx="390600" cy="160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6360840" y="1244160"/>
                <a:ext cx="167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5792760" y="1244160"/>
                <a:ext cx="1951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041880" y="1366560"/>
                <a:ext cx="277920" cy="30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6" name=""/>
              <p:cNvGrpSpPr/>
              <p:nvPr/>
            </p:nvGrpSpPr>
            <p:grpSpPr>
              <a:xfrm>
                <a:off x="6443640" y="1666440"/>
                <a:ext cx="247680" cy="136800"/>
                <a:chOff x="6443640" y="1666440"/>
                <a:chExt cx="247680" cy="13680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6470280" y="1802520"/>
                  <a:ext cx="18000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6546240" y="1682280"/>
                  <a:ext cx="110880" cy="120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6463800" y="1667160"/>
                  <a:ext cx="18000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 flipH="1">
                  <a:off x="6443640" y="1682280"/>
                  <a:ext cx="110880" cy="120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6642720" y="1666440"/>
                  <a:ext cx="48600" cy="5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2" name=""/>
              <p:cNvSpPr/>
              <p:nvPr/>
            </p:nvSpPr>
            <p:spPr>
              <a:xfrm>
                <a:off x="5575320" y="1247400"/>
                <a:ext cx="22068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553080" y="1247400"/>
                <a:ext cx="0" cy="241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540480" y="1247400"/>
                <a:ext cx="22212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6553080" y="1483560"/>
                <a:ext cx="3240" cy="179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6553080" y="1798200"/>
                <a:ext cx="3240" cy="347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546520" y="2158560"/>
                <a:ext cx="136836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906960" y="2128680"/>
                <a:ext cx="55800" cy="554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499000" y="2128680"/>
                <a:ext cx="55440" cy="554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499000" y="1217160"/>
                <a:ext cx="55440" cy="558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6762240" y="1244160"/>
                <a:ext cx="1652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905520" y="1217160"/>
                <a:ext cx="57240" cy="558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5533920" y="1336320"/>
                <a:ext cx="0" cy="720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6939000" y="1336320"/>
                <a:ext cx="2880" cy="720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502400" y="1493640"/>
                <a:ext cx="144360" cy="426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7574040" y="1904760"/>
                <a:ext cx="1440" cy="2570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7574040" y="1247040"/>
                <a:ext cx="1440" cy="25092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688160" y="1557000"/>
                <a:ext cx="276120" cy="3002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967440" y="1247400"/>
                <a:ext cx="6494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408800" y="1874520"/>
                <a:ext cx="1440" cy="212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408800" y="2070000"/>
                <a:ext cx="195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7408800" y="1440720"/>
                <a:ext cx="345960" cy="45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554960" y="203976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622920" y="1292040"/>
                <a:ext cx="222120" cy="3175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657760" y="888840"/>
                <a:ext cx="220680" cy="3142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608520" y="888840"/>
                <a:ext cx="222480" cy="3142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587920" y="1545840"/>
                <a:ext cx="262080" cy="3175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008840" y="1561680"/>
                <a:ext cx="263520" cy="3160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 flipV="1">
              <a:off x="3771720" y="2069640"/>
              <a:ext cx="0" cy="3886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397480" y="2946240"/>
              <a:ext cx="0" cy="3009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244600" y="2215800"/>
              <a:ext cx="969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pl-P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333680" y="2144520"/>
              <a:ext cx="625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=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>
              <a:off x="1976400" y="1015560"/>
              <a:ext cx="1782720" cy="102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3301920" y="1536480"/>
              <a:ext cx="21600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066440" y="28857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807240" y="1917360"/>
              <a:ext cx="457200" cy="939960"/>
            </a:xfrm>
            <a:custGeom>
              <a:avLst/>
              <a:gdLst/>
              <a:ahLst/>
              <a:rect l="l" t="t" r="r" b="b"/>
              <a:pathLst>
                <a:path w="256" h="528">
                  <a:moveTo>
                    <a:pt x="256" y="528"/>
                  </a:moveTo>
                  <a:lnTo>
                    <a:pt x="248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S. PARAMETRYCZ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2100240" y="1523880"/>
                <a:ext cx="3419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2182680" y="3429000"/>
                <a:ext cx="330048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2200320" y="2443320"/>
                <a:ext cx="2035080" cy="92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21" name=""/>
          <p:cNvGrpSpPr/>
          <p:nvPr/>
        </p:nvGrpSpPr>
        <p:grpSpPr>
          <a:xfrm>
            <a:off x="6172200" y="1143000"/>
            <a:ext cx="2465280" cy="1295280"/>
            <a:chOff x="6172200" y="1143000"/>
            <a:chExt cx="2465280" cy="1295280"/>
          </a:xfrm>
        </p:grpSpPr>
        <p:sp>
          <p:nvSpPr>
            <p:cNvPr id="622" name=""/>
            <p:cNvSpPr/>
            <p:nvPr/>
          </p:nvSpPr>
          <p:spPr>
            <a:xfrm>
              <a:off x="7337520" y="1874880"/>
              <a:ext cx="358560" cy="242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626240" y="2412720"/>
              <a:ext cx="650880" cy="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656400" y="1419120"/>
              <a:ext cx="390600" cy="160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034040" y="1498320"/>
              <a:ext cx="1670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6465960" y="1498320"/>
              <a:ext cx="1951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715080" y="1620720"/>
              <a:ext cx="277920" cy="30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7116840" y="1920600"/>
              <a:ext cx="247680" cy="136800"/>
              <a:chOff x="7116840" y="1920600"/>
              <a:chExt cx="247680" cy="136800"/>
            </a:xfrm>
          </p:grpSpPr>
          <p:sp>
            <p:nvSpPr>
              <p:cNvPr id="629" name=""/>
              <p:cNvSpPr/>
              <p:nvPr/>
            </p:nvSpPr>
            <p:spPr>
              <a:xfrm>
                <a:off x="7143480" y="2056680"/>
                <a:ext cx="1800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219440" y="1936440"/>
                <a:ext cx="110880" cy="12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137000" y="1921320"/>
                <a:ext cx="1800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7116840" y="1936440"/>
                <a:ext cx="110880" cy="12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315920" y="1920600"/>
                <a:ext cx="48600" cy="5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>
              <a:off x="6248520" y="1501560"/>
              <a:ext cx="2206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226280" y="1501560"/>
              <a:ext cx="0" cy="241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213680" y="1501560"/>
              <a:ext cx="22212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7226280" y="1737720"/>
              <a:ext cx="3240" cy="179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7226280" y="2052360"/>
              <a:ext cx="3240" cy="347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219720" y="2412720"/>
              <a:ext cx="13683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580160" y="2382840"/>
              <a:ext cx="55800" cy="55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172200" y="2382840"/>
              <a:ext cx="55440" cy="55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172200" y="1471320"/>
              <a:ext cx="55440" cy="55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7435440" y="1498320"/>
              <a:ext cx="165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578720" y="1471320"/>
              <a:ext cx="57240" cy="55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6207120" y="1590480"/>
              <a:ext cx="0" cy="720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7612200" y="1590480"/>
              <a:ext cx="2880" cy="720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175600" y="1747800"/>
              <a:ext cx="144360" cy="426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8247240" y="2158920"/>
              <a:ext cx="1440" cy="2570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8247240" y="1501200"/>
              <a:ext cx="1440" cy="25092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61360" y="1811160"/>
              <a:ext cx="276120" cy="3002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640640" y="1501560"/>
              <a:ext cx="649440" cy="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082000" y="2128680"/>
              <a:ext cx="1440" cy="212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082000" y="2324160"/>
              <a:ext cx="1951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8082000" y="1694880"/>
              <a:ext cx="345960" cy="45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228160" y="2293920"/>
              <a:ext cx="55440" cy="5544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296120" y="1546200"/>
              <a:ext cx="222120" cy="317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30960" y="1143000"/>
              <a:ext cx="220680" cy="314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281720" y="1143000"/>
              <a:ext cx="222480" cy="314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61120" y="1800000"/>
              <a:ext cx="262080" cy="317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682040" y="1815840"/>
              <a:ext cx="263520" cy="316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3487680" y="5424480"/>
                <a:ext cx="1703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2" name=""/>
          <p:cNvSpPr/>
          <p:nvPr/>
        </p:nvSpPr>
        <p:spPr>
          <a:xfrm>
            <a:off x="970200" y="4756320"/>
            <a:ext cx="66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Współczynnik temperaturowy napięcia wyjści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1T08:15:07Z</dcterms:created>
  <dc:creator>Agnieszka Kukawczynska</dc:creator>
  <dc:description/>
  <dc:language>en-US</dc:language>
  <cp:lastModifiedBy>MK</cp:lastModifiedBy>
  <dcterms:modified xsi:type="dcterms:W3CDTF">2004-05-31T12:59:47Z</dcterms:modified>
  <cp:revision>75</cp:revision>
  <dc:subject/>
  <dc:title>STABILIZATORY NAPIĘĆ</dc:title>
</cp:coreProperties>
</file>