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CC9-27D7-41E2-8651-008DC2EE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94B-E50F-4941-973B-9CAB2B30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6FE-CCD8-409A-9083-AD8464D2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76D-F78F-417D-85A9-50227382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2DC-8617-4E1E-9D24-B65799FA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5A6-7DB5-4740-A7E4-27A3C8A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4C4-15E6-477E-97EF-40213958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14E-C5B3-4FD2-995F-1FC19B68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795-3737-446E-B7CE-D01AD32E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C56-AA4A-4D37-9ABE-BC7D57FA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09E-299A-4881-B80D-2BD0BC96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435-E5DA-4E82-A97E-3E39A93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C9B4-93CE-41AB-A4CA-2DC7A2521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26040" y="2108160"/>
            <a:ext cx="1756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85280" y="1154160"/>
            <a:ext cx="4299480" cy="3122280"/>
            <a:chOff x="4085280" y="1154160"/>
            <a:chExt cx="4299480" cy="3122280"/>
          </a:xfrm>
        </p:grpSpPr>
        <p:sp>
          <p:nvSpPr>
            <p:cNvPr id="137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9440" y="1174680"/>
              <a:ext cx="13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0120" y="182304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85280" y="283320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065400" y="4643280"/>
                <a:ext cx="5608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120" y="3652920"/>
                <a:ext cx="1803240" cy="22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58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78520" y="822240"/>
            <a:ext cx="62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1480" y="5826240"/>
            <a:ext cx="59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11600" y="1081080"/>
            <a:ext cx="4303440" cy="2894760"/>
            <a:chOff x="4611600" y="1081080"/>
            <a:chExt cx="4303440" cy="2894760"/>
          </a:xfrm>
        </p:grpSpPr>
        <p:grpSp>
          <p:nvGrpSpPr>
            <p:cNvPr id="173" name=""/>
            <p:cNvGrpSpPr/>
            <p:nvPr/>
          </p:nvGrpSpPr>
          <p:grpSpPr>
            <a:xfrm>
              <a:off x="4611600" y="1081080"/>
              <a:ext cx="4267080" cy="2894760"/>
              <a:chOff x="4611600" y="1081080"/>
              <a:chExt cx="4267080" cy="2894760"/>
            </a:xfrm>
          </p:grpSpPr>
          <p:sp>
            <p:nvSpPr>
              <p:cNvPr id="174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14560" y="1099800"/>
                <a:ext cx="65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11600" y="16866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04640" y="3516480"/>
                <a:ext cx="8380440" cy="30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191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7800" y="1252440"/>
            <a:ext cx="76294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79800" y="1130400"/>
                <a:ext cx="41605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81920" y="243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320" y="236232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60" y="1380960"/>
            <a:ext cx="7878240" cy="4754520"/>
            <a:chOff x="360" y="1380960"/>
            <a:chExt cx="7878240" cy="4754520"/>
          </a:xfrm>
        </p:grpSpPr>
        <p:sp>
          <p:nvSpPr>
            <p:cNvPr id="227" name=""/>
            <p:cNvSpPr/>
            <p:nvPr/>
          </p:nvSpPr>
          <p:spPr>
            <a:xfrm>
              <a:off x="2505240" y="2319120"/>
              <a:ext cx="142848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98760" y="317628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17640" y="26017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09720" y="28951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44880" y="2560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6680" y="28540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4880" y="333648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6960" y="3630240"/>
              <a:ext cx="46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5000" y="335232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68480" y="3655800"/>
              <a:ext cx="55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75400" y="227772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68920" y="313488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87800" y="2560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3880" y="285408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15040" y="25189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16840" y="281268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15040" y="3295440"/>
              <a:ext cx="16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07120" y="358920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08560" y="3311280"/>
              <a:ext cx="37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5440" y="36144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260172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74960" y="2890440"/>
              <a:ext cx="0" cy="77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45040" y="258408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2720" y="2866680"/>
              <a:ext cx="0" cy="75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3520" y="45414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7040" y="5398920"/>
              <a:ext cx="1428840" cy="723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16280" y="482400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000" y="51177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3520" y="478296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44960" y="507636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3520" y="5559120"/>
              <a:ext cx="23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5600" y="58528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32080" y="5574960"/>
              <a:ext cx="279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8040" y="5878080"/>
              <a:ext cx="57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4680" y="4830480"/>
              <a:ext cx="0" cy="74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62080" y="511308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6160" y="5078160"/>
              <a:ext cx="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10360" y="2868480"/>
              <a:ext cx="0" cy="43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0320" y="4554360"/>
              <a:ext cx="1428840" cy="723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03840" y="541152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2720" y="48369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9080" y="5130360"/>
              <a:ext cx="37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9960" y="47955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51760" y="508932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49960" y="557172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42040" y="586548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4120" y="5587560"/>
              <a:ext cx="38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40360" y="58910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45280" y="5124240"/>
              <a:ext cx="0" cy="4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97720" y="5106600"/>
              <a:ext cx="0" cy="45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86760" y="2514240"/>
              <a:ext cx="0" cy="7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69360" y="2814480"/>
              <a:ext cx="0" cy="77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" y="2631600"/>
              <a:ext cx="16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pięci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4800" y="49082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ąd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3600" y="138096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30120" y="139824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56960" y="1945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36560" y="18921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2800" y="41144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01280" y="4151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10240" y="254880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878600" y="249012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268880" y="46670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313400" y="467820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162400" y="261432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197320" y="321444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197320" y="487188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197320" y="555876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287440" y="3018600"/>
              <a:ext cx="0" cy="28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427120" y="5225760"/>
              <a:ext cx="0" cy="280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22600" y="471312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1040" y="2518920"/>
              <a:ext cx="37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4880" y="175068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napię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74360" y="19839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prą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22400" y="288432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91120" y="287784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86120" y="5135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3680" y="51544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703600" y="38239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943600" y="371124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849040" y="603216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931000" y="60433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95280" y="1752480"/>
                <a:ext cx="492300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803680" y="1103400"/>
                <a:ext cx="286524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263760" y="4343400"/>
            <a:ext cx="1506600" cy="896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59080" y="5405400"/>
            <a:ext cx="1505160" cy="89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0680" y="4692600"/>
            <a:ext cx="7048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73520" y="5057640"/>
            <a:ext cx="385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2960" y="4643280"/>
            <a:ext cx="72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82960" y="5603760"/>
            <a:ext cx="36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8200" y="5622840"/>
            <a:ext cx="39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81440" y="5075280"/>
            <a:ext cx="144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70200" y="566244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21200" y="4459320"/>
            <a:ext cx="476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707080" y="562428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49520" y="6124680"/>
            <a:ext cx="295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52760" y="5670720"/>
            <a:ext cx="28908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597120" y="5753160"/>
            <a:ext cx="180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62320" y="5605560"/>
            <a:ext cx="33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8920" y="6004080"/>
            <a:ext cx="1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340160" y="5592600"/>
            <a:ext cx="40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721480" y="468612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62400" y="4649760"/>
            <a:ext cx="1800" cy="954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65360" y="4697280"/>
            <a:ext cx="1800" cy="14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75200" y="4838760"/>
            <a:ext cx="35388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944960" y="4856040"/>
            <a:ext cx="35424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059080" y="5832360"/>
            <a:ext cx="477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74080" y="511164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62400" y="5603760"/>
            <a:ext cx="336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18120" y="4611600"/>
            <a:ext cx="871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30480" y="5597640"/>
            <a:ext cx="81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00360" y="55944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20640" y="3498840"/>
            <a:ext cx="428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53520" y="4705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905200" y="470376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93960" y="304020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0" y="1111320"/>
            <a:ext cx="8773920" cy="5051520"/>
            <a:chOff x="0" y="1111320"/>
            <a:chExt cx="8773920" cy="5051520"/>
          </a:xfrm>
        </p:grpSpPr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02" name=""/>
            <p:cNvGrpSpPr/>
            <p:nvPr/>
          </p:nvGrpSpPr>
          <p:grpSpPr>
            <a:xfrm>
              <a:off x="1693800" y="1111320"/>
              <a:ext cx="7080120" cy="4795560"/>
              <a:chOff x="1693800" y="1111320"/>
              <a:chExt cx="7080120" cy="47955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6254640" y="4106880"/>
                <a:ext cx="2519280" cy="1800000"/>
                <a:chOff x="6254640" y="4106880"/>
                <a:chExt cx="2519280" cy="1800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869160" y="4472640"/>
                  <a:ext cx="1278000" cy="65628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863760" y="5250240"/>
                  <a:ext cx="1278000" cy="6566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54640" y="472896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28600" y="499536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157600" y="469152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59040" y="4957920"/>
                  <a:ext cx="30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157600" y="5395680"/>
                  <a:ext cx="30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32920" y="5410080"/>
                  <a:ext cx="34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42640" y="4989600"/>
                  <a:ext cx="0" cy="41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68640" y="4973760"/>
                  <a:ext cx="0" cy="41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220520" y="41068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8303400" y="45849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6410520" y="476064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6419160" y="547632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074000" y="465408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7092360" y="54259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267240" y="5771520"/>
                  <a:ext cx="24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751040" y="4030560"/>
                <a:ext cx="2518920" cy="1800000"/>
                <a:chOff x="1751040" y="4030560"/>
                <a:chExt cx="2518920" cy="1800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365560" y="4413600"/>
                  <a:ext cx="1278000" cy="64836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60160" y="5181840"/>
                  <a:ext cx="1277640" cy="648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751040" y="466668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653640" y="46296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55080" y="4893120"/>
                  <a:ext cx="224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653640" y="5325480"/>
                  <a:ext cx="20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884240" y="5339520"/>
                  <a:ext cx="47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895760" y="4672080"/>
                  <a:ext cx="0" cy="66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871080" y="4894200"/>
                  <a:ext cx="0" cy="42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87760" y="403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3854880" y="45255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1944000" y="498348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012040" y="455832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618280" y="459540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2568960" y="53395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00360" y="56941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848600" y="4637880"/>
                  <a:ext cx="68040" cy="6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6207120" y="1114560"/>
                  <a:ext cx="2518920" cy="1799640"/>
                  <a:chOff x="6207120" y="1114560"/>
                  <a:chExt cx="2518920" cy="17996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6821640" y="1467360"/>
                    <a:ext cx="1278000" cy="66240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815880" y="2251800"/>
                    <a:ext cx="1278000" cy="66240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207120" y="17262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489360" y="1994760"/>
                    <a:ext cx="326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10080" y="16884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110080" y="2398680"/>
                    <a:ext cx="147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493680" y="2413080"/>
                    <a:ext cx="335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495120" y="2007720"/>
                    <a:ext cx="0" cy="402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8263440" y="1684080"/>
                    <a:ext cx="0" cy="70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234560" y="1114560"/>
                    <a:ext cx="56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>
                    <a:off x="6405840" y="1757880"/>
                    <a:ext cx="0" cy="256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6402600" y="2443680"/>
                    <a:ext cx="0" cy="257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027560" y="1641960"/>
                    <a:ext cx="75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7019280" y="240876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V="1">
                    <a:off x="8595720" y="1797120"/>
                    <a:ext cx="0" cy="85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284880" y="278352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8210520" y="1649520"/>
                  <a:ext cx="76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1693800" y="1111320"/>
                  <a:ext cx="2518920" cy="1799640"/>
                  <a:chOff x="1693800" y="1111320"/>
                  <a:chExt cx="2518920" cy="17996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2308680" y="1455120"/>
                    <a:ext cx="1277640" cy="66672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302920" y="2244240"/>
                    <a:ext cx="1278000" cy="666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693800" y="171540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596400" y="167724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596400" y="2391840"/>
                    <a:ext cx="198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1886760" y="2406600"/>
                    <a:ext cx="428760" cy="8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1886760" y="1715400"/>
                    <a:ext cx="0" cy="698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783960" y="1663920"/>
                    <a:ext cx="0" cy="734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623320" y="1111320"/>
                    <a:ext cx="60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>
                    <a:off x="4127760" y="1763280"/>
                    <a:ext cx="0" cy="864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>
                    <a:off x="1952280" y="2072880"/>
                    <a:ext cx="0" cy="25884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967760" y="1595160"/>
                    <a:ext cx="33228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575800" y="165960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2469240" y="239364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712160" y="278820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854360" y="1674000"/>
                    <a:ext cx="676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>
                  <a:off x="3745080" y="1633680"/>
                  <a:ext cx="759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3984480" y="493092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575560" y="501660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1111320"/>
            <a:ext cx="8774280" cy="5051520"/>
            <a:chOff x="0" y="1111320"/>
            <a:chExt cx="8774280" cy="5051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86" name=""/>
            <p:cNvSpPr/>
            <p:nvPr/>
          </p:nvSpPr>
          <p:spPr>
            <a:xfrm>
              <a:off x="6869160" y="4471920"/>
              <a:ext cx="1278000" cy="657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64480" y="5249880"/>
              <a:ext cx="1277640" cy="65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54640" y="47293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29320" y="49957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8320" y="46911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9760" y="4957920"/>
              <a:ext cx="30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8320" y="5396040"/>
              <a:ext cx="30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32560" y="5410080"/>
              <a:ext cx="34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43720" y="498960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9360" y="497376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20520" y="4106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8304120" y="458460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410160" y="476064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419880" y="547668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74000" y="46544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67600" y="577224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5200" y="4413240"/>
              <a:ext cx="1278000" cy="649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0520" y="5181480"/>
              <a:ext cx="127800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51040" y="466740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54360" y="462924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56160" y="4892760"/>
              <a:ext cx="22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4360" y="532620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84240" y="534024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5400" y="467208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1800" y="489420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88120" y="4030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855960" y="452592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944720" y="4984920"/>
              <a:ext cx="0" cy="25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3120" y="4559400"/>
              <a:ext cx="331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19360" y="4595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0360" y="56944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9320" y="463860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21640" y="1467000"/>
              <a:ext cx="1277640" cy="663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16600" y="2252520"/>
              <a:ext cx="1278000" cy="662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07120" y="17254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89720" y="199548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10440" y="16891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10440" y="239868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94400" y="24130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96200" y="2008080"/>
              <a:ext cx="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63080" y="16844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35280" y="11145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405480" y="17575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402240" y="24433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27920" y="16416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596440" y="1796760"/>
              <a:ext cx="0" cy="85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84880" y="278460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10520" y="16495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08320" y="1454040"/>
              <a:ext cx="1278000" cy="66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03640" y="2244600"/>
              <a:ext cx="1277640" cy="666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93800" y="17146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7120" y="16779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97120" y="2392200"/>
              <a:ext cx="19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887480" y="2406240"/>
              <a:ext cx="4287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87480" y="1714680"/>
              <a:ext cx="0" cy="69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84680" y="166356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23320" y="11113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127400" y="1763280"/>
              <a:ext cx="0" cy="86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952640" y="2072880"/>
              <a:ext cx="0" cy="258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68480" y="1595520"/>
              <a:ext cx="331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76520" y="16588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12880" y="27892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54360" y="16747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45080" y="16336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451240" y="2428920"/>
              <a:ext cx="198360" cy="298440"/>
              <a:chOff x="2451240" y="2428920"/>
              <a:chExt cx="198360" cy="298440"/>
            </a:xfrm>
          </p:grpSpPr>
          <p:sp>
            <p:nvSpPr>
              <p:cNvPr id="551" name=""/>
              <p:cNvSpPr/>
              <p:nvPr/>
            </p:nvSpPr>
            <p:spPr>
              <a:xfrm>
                <a:off x="2451240" y="24289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2550240" y="24782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451240" y="25282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517840" y="5359320"/>
              <a:ext cx="198360" cy="298440"/>
              <a:chOff x="2517840" y="5359320"/>
              <a:chExt cx="198360" cy="298440"/>
            </a:xfrm>
          </p:grpSpPr>
          <p:sp>
            <p:nvSpPr>
              <p:cNvPr id="555" name=""/>
              <p:cNvSpPr/>
              <p:nvPr/>
            </p:nvSpPr>
            <p:spPr>
              <a:xfrm>
                <a:off x="2517840" y="53593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2616840" y="54086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17840" y="54586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981840" y="244800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104240" y="2509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048440" y="5457960"/>
              <a:ext cx="244440" cy="244440"/>
              <a:chOff x="7048440" y="5457960"/>
              <a:chExt cx="244440" cy="244440"/>
            </a:xfrm>
          </p:grpSpPr>
          <p:sp>
            <p:nvSpPr>
              <p:cNvPr id="561" name=""/>
              <p:cNvSpPr/>
              <p:nvPr/>
            </p:nvSpPr>
            <p:spPr>
              <a:xfrm>
                <a:off x="7048440" y="5457960"/>
                <a:ext cx="244440" cy="24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170840" y="551880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305080" y="241920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52760" y="271476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62320" y="53434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610000" y="5657760"/>
              <a:ext cx="93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19840" y="24004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67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95960" y="240048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05680" y="26956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3200" y="54100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72280" y="571500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2284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7338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304800" y="5324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838640" y="53910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05160" y="53244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48720" y="541008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03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15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19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28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33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85800" y="5380200"/>
                <a:ext cx="2112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46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50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55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659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5257800" y="5380200"/>
                <a:ext cx="2508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15120" y="4665600"/>
                <a:ext cx="2655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683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684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691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695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04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08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25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30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87960" y="5688000"/>
                <a:ext cx="2290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7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48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53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757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769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773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780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785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790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795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05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08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106120" y="35766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27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615960" y="56880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34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39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43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462560" y="4794120"/>
                <a:ext cx="37846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25640" y="4929120"/>
                <a:ext cx="1216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000" y="1752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38360" y="5311800"/>
                <a:ext cx="38098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455200" y="17463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owe-Szereg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885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889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899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04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17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23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35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38140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70360" y="5621400"/>
                <a:ext cx="2730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4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965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969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980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984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996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32640" y="28274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04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09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11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2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80480" y="878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o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181400" y="5545080"/>
                <a:ext cx="2422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9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33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38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48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53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059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063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080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083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091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00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589800" y="4713120"/>
                <a:ext cx="14716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681280" y="1736640"/>
                <a:ext cx="4205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3430440" y="3814920"/>
                <a:ext cx="1855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487520" y="1727280"/>
            <a:ext cx="5289120" cy="3834720"/>
            <a:chOff x="1487520" y="1727280"/>
            <a:chExt cx="5289120" cy="3834720"/>
          </a:xfrm>
        </p:grpSpPr>
        <p:sp>
          <p:nvSpPr>
            <p:cNvPr id="1122" name=""/>
            <p:cNvSpPr/>
            <p:nvPr/>
          </p:nvSpPr>
          <p:spPr>
            <a:xfrm>
              <a:off x="3223440" y="1744200"/>
              <a:ext cx="2780640" cy="16502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4597200" y="3624120"/>
              <a:ext cx="897840" cy="1122480"/>
              <a:chOff x="4597200" y="3624120"/>
              <a:chExt cx="897840" cy="1122480"/>
            </a:xfrm>
          </p:grpSpPr>
          <p:sp>
            <p:nvSpPr>
              <p:cNvPr id="1124" name=""/>
              <p:cNvSpPr/>
              <p:nvPr/>
            </p:nvSpPr>
            <p:spPr>
              <a:xfrm>
                <a:off x="4597200" y="3624120"/>
                <a:ext cx="897840" cy="112248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0" y="0"/>
                    </a:moveTo>
                    <a:lnTo>
                      <a:pt x="0" y="624"/>
                    </a:lnTo>
                    <a:lnTo>
                      <a:pt x="67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60920" y="396936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60920" y="440100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725360" y="4314600"/>
                <a:ext cx="0" cy="17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4344480" y="2882880"/>
              <a:ext cx="840960" cy="130320"/>
              <a:chOff x="4344480" y="2882880"/>
              <a:chExt cx="840960" cy="130320"/>
            </a:xfrm>
          </p:grpSpPr>
          <p:sp>
            <p:nvSpPr>
              <p:cNvPr id="1129" name=""/>
              <p:cNvSpPr/>
              <p:nvPr/>
            </p:nvSpPr>
            <p:spPr>
              <a:xfrm>
                <a:off x="456840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96116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34448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3503160" y="2882880"/>
              <a:ext cx="840960" cy="130320"/>
              <a:chOff x="3503160" y="2882880"/>
              <a:chExt cx="840960" cy="130320"/>
            </a:xfrm>
          </p:grpSpPr>
          <p:sp>
            <p:nvSpPr>
              <p:cNvPr id="1133" name=""/>
              <p:cNvSpPr/>
              <p:nvPr/>
            </p:nvSpPr>
            <p:spPr>
              <a:xfrm>
                <a:off x="372708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1984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50316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 flipH="1">
              <a:off x="4344480" y="385416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344480" y="3120120"/>
              <a:ext cx="0" cy="7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81000" y="4147560"/>
              <a:ext cx="11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6160" y="294732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275160" y="2676960"/>
              <a:ext cx="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3392280" y="4776480"/>
              <a:ext cx="447120" cy="528840"/>
              <a:chOff x="3392280" y="4776480"/>
              <a:chExt cx="447120" cy="528840"/>
            </a:xfrm>
          </p:grpSpPr>
          <p:sp>
            <p:nvSpPr>
              <p:cNvPr id="1142" name=""/>
              <p:cNvSpPr/>
              <p:nvPr/>
            </p:nvSpPr>
            <p:spPr>
              <a:xfrm>
                <a:off x="3392280" y="4776480"/>
                <a:ext cx="447120" cy="528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3615840" y="4908240"/>
                <a:ext cx="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H="1">
              <a:off x="3615480" y="451332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615840" y="452556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15840" y="529596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03160" y="55587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3240" y="451332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495960" y="2836080"/>
              <a:ext cx="0" cy="26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10280" y="2921760"/>
              <a:ext cx="5580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45360" y="24102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692880" y="2402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21280" y="4873680"/>
              <a:ext cx="92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23120" y="3204000"/>
              <a:ext cx="46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421160" y="4137840"/>
              <a:ext cx="0" cy="22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6253200" y="4324680"/>
              <a:ext cx="0" cy="123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767120" y="3920400"/>
              <a:ext cx="412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4121280" y="4709880"/>
              <a:ext cx="0" cy="74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98920" y="488556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4357440" y="2207520"/>
              <a:ext cx="840960" cy="129960"/>
              <a:chOff x="4357440" y="2207520"/>
              <a:chExt cx="840960" cy="129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4581360" y="2207520"/>
                <a:ext cx="392400" cy="12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974120" y="227232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357440" y="227232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5188320" y="2127960"/>
              <a:ext cx="70560" cy="330480"/>
              <a:chOff x="5188320" y="2127960"/>
              <a:chExt cx="70560" cy="330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518832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5888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 flipV="1">
              <a:off x="5748120" y="2264040"/>
              <a:ext cx="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55280" y="2277720"/>
              <a:ext cx="4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343040" y="2277720"/>
              <a:ext cx="0" cy="8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18000" y="17287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76720" y="172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22560" y="264960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48120" y="267264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15520" y="1760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5" name=""/>
                <p:cNvSpPr txBox="1"/>
                <p:nvPr/>
              </p:nvSpPr>
              <p:spPr>
                <a:xfrm>
                  <a:off x="1487520" y="2003400"/>
                  <a:ext cx="168120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6" name=""/>
            <p:cNvSpPr/>
            <p:nvPr/>
          </p:nvSpPr>
          <p:spPr>
            <a:xfrm>
              <a:off x="3729240" y="3273840"/>
              <a:ext cx="44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602040" y="4044960"/>
              <a:ext cx="174600" cy="18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242040" y="412632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183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184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185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4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198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16360" y="1636560"/>
              <a:ext cx="92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1213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1217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1221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1226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1229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1233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1238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40160" y="1752480"/>
            <a:ext cx="144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1200" y="17524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92480" y="5311800"/>
                <a:ext cx="43020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5440" y="198108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8240" y="1981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32040" y="5398920"/>
                <a:ext cx="5030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ujemnym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37960" y="1905120"/>
            <a:ext cx="73512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36960" y="1119240"/>
                <a:ext cx="24447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362320" y="41148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0384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8720" y="4133880"/>
            <a:ext cx="113040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996720" y="3298680"/>
            <a:ext cx="1252440" cy="87336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400" y="4100400"/>
            <a:ext cx="349596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014720" y="3220200"/>
            <a:ext cx="349560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53360" y="37162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520" y="246528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200" y="2239920"/>
            <a:ext cx="3157560" cy="917640"/>
          </a:xfrm>
          <a:prstGeom prst="wedgeRectCallout">
            <a:avLst>
              <a:gd name="adj1" fmla="val 65736"/>
              <a:gd name="adj2" fmla="val 11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9160" y="4657680"/>
            <a:ext cx="2628720" cy="774720"/>
          </a:xfrm>
          <a:prstGeom prst="wedgeRectCallout">
            <a:avLst>
              <a:gd name="adj1" fmla="val -59180"/>
              <a:gd name="adj2" fmla="val -180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329724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7320" y="3273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76756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1120" y="5622840"/>
            <a:ext cx="174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7000" y="2344680"/>
            <a:ext cx="1756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4-03-16T11:32:38Z</dcterms:modified>
  <cp:revision>121</cp:revision>
  <dc:subject/>
  <dc:title>Sprzężenie zwrotne</dc:title>
</cp:coreProperties>
</file>