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D44-5619-44A6-A0E8-5328768E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D36-DDE3-4B67-A8D6-20B37607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D64D-A31B-455B-955F-B9016D8C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899-8E21-4A7A-9CCC-723FB44B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E2B-DE9C-43B0-835B-C318E516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F40-A09D-474B-B520-9E4353CD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D23-08A4-44B2-91A3-B2F7D779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874-D7D2-4739-B2EF-D6D9149A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7A7-5318-40E5-8310-40751BA8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9D1-C7CD-4316-9469-0F1DDEB2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956-01AE-47CA-ACFF-58A0CBD9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7A0-50B0-48E9-A552-E168A64D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C8ED-28FC-42A8-8CAC-8375F34C6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85280" y="1154160"/>
            <a:ext cx="4299480" cy="3122280"/>
            <a:chOff x="4085280" y="1154160"/>
            <a:chExt cx="4299480" cy="3122280"/>
          </a:xfrm>
        </p:grpSpPr>
        <p:sp>
          <p:nvSpPr>
            <p:cNvPr id="124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9440" y="1174680"/>
              <a:ext cx="137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0120" y="1823040"/>
              <a:ext cx="61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85280" y="2833200"/>
              <a:ext cx="71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65400" y="4643280"/>
                <a:ext cx="5608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19120" y="3652920"/>
                <a:ext cx="1803240" cy="22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45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478520" y="822240"/>
            <a:ext cx="62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14600" y="5832360"/>
            <a:ext cx="572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11600" y="1081080"/>
            <a:ext cx="4303440" cy="2894760"/>
            <a:chOff x="4611600" y="1081080"/>
            <a:chExt cx="4303440" cy="2894760"/>
          </a:xfrm>
        </p:grpSpPr>
        <p:grpSp>
          <p:nvGrpSpPr>
            <p:cNvPr id="160" name=""/>
            <p:cNvGrpSpPr/>
            <p:nvPr/>
          </p:nvGrpSpPr>
          <p:grpSpPr>
            <a:xfrm>
              <a:off x="4611600" y="1081080"/>
              <a:ext cx="4267080" cy="2894760"/>
              <a:chOff x="4611600" y="1081080"/>
              <a:chExt cx="4267080" cy="2894760"/>
            </a:xfrm>
          </p:grpSpPr>
          <p:sp>
            <p:nvSpPr>
              <p:cNvPr id="161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14560" y="1099800"/>
                <a:ext cx="65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11600" y="16866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04640" y="3516480"/>
                <a:ext cx="8380440" cy="30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178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blokowe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5240" y="1886040"/>
            <a:ext cx="142848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98760" y="27432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17640" y="21686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09720" y="24620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44880" y="2127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46680" y="24210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44880" y="2903400"/>
            <a:ext cx="22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36960" y="319716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5000" y="291924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68480" y="3222720"/>
            <a:ext cx="55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75400" y="184464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68920" y="27018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87800" y="2127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03880" y="2421000"/>
            <a:ext cx="36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15040" y="20858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16840" y="23796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15040" y="2862360"/>
            <a:ext cx="16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07120" y="3156120"/>
            <a:ext cx="47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08560" y="287820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05440" y="318132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5000" y="216864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74960" y="2457360"/>
            <a:ext cx="0" cy="77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45040" y="21510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92720" y="243360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3520" y="410832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7040" y="4965840"/>
            <a:ext cx="1428840" cy="723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6280" y="439092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46846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43520" y="43498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4960" y="464328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3520" y="5126040"/>
            <a:ext cx="23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5600" y="54198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32080" y="5141880"/>
            <a:ext cx="27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48040" y="54450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44680" y="4397400"/>
            <a:ext cx="0" cy="7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62080" y="46800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46450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10360" y="2435400"/>
            <a:ext cx="0" cy="43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0320" y="4121280"/>
            <a:ext cx="1428840" cy="723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03840" y="497844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2720" y="44038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29080" y="469728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49960" y="43624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51760" y="46562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49960" y="513864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42040" y="54324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5154480"/>
            <a:ext cx="38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40360" y="545796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45280" y="469116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97720" y="4673520"/>
            <a:ext cx="0" cy="4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86760" y="2081160"/>
            <a:ext cx="0" cy="7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9360" y="238140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0" y="2198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4800" y="44751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43600" y="9478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30120" y="965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56960" y="1512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6560" y="14590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62800" y="3681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01280" y="371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710240" y="211572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878600" y="205704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8880" y="423396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313400" y="424512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162400" y="218124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197320" y="278136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197320" y="443880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197320" y="512568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287440" y="2585520"/>
            <a:ext cx="0" cy="2811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427120" y="4792680"/>
            <a:ext cx="0" cy="280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22600" y="428004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1040" y="2085840"/>
            <a:ext cx="371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34880" y="13176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4360" y="155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ą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2400" y="245124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1120" y="244476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6120" y="470232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3680" y="472140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703600" y="33908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943600" y="327816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849040" y="559908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931000" y="56102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5280" y="1752480"/>
                <a:ext cx="492300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792520" y="1114560"/>
                <a:ext cx="2889000" cy="21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3263760" y="4343400"/>
            <a:ext cx="1506600" cy="896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59080" y="5405400"/>
            <a:ext cx="1505160" cy="89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60680" y="4692600"/>
            <a:ext cx="7048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73520" y="5057640"/>
            <a:ext cx="385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82960" y="4643280"/>
            <a:ext cx="725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82960" y="5603760"/>
            <a:ext cx="365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78200" y="5622840"/>
            <a:ext cx="395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81440" y="5075280"/>
            <a:ext cx="1440" cy="54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770200" y="566244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21200" y="4459320"/>
            <a:ext cx="476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5707080" y="562428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49520" y="6124680"/>
            <a:ext cx="2952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52760" y="5670720"/>
            <a:ext cx="28908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597120" y="5753160"/>
            <a:ext cx="180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62320" y="5605560"/>
            <a:ext cx="336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98920" y="6004080"/>
            <a:ext cx="1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340160" y="5592600"/>
            <a:ext cx="40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721480" y="468612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62400" y="4649760"/>
            <a:ext cx="1800" cy="954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65360" y="4697280"/>
            <a:ext cx="1800" cy="14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75200" y="4838760"/>
            <a:ext cx="35388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944960" y="4856040"/>
            <a:ext cx="35424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59080" y="5832360"/>
            <a:ext cx="477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74080" y="5111640"/>
            <a:ext cx="7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62400" y="5603760"/>
            <a:ext cx="336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18120" y="4611600"/>
            <a:ext cx="871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30480" y="5597640"/>
            <a:ext cx="81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600360" y="559440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20640" y="3498840"/>
            <a:ext cx="428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53520" y="4705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905200" y="470376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93960" y="304020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0" y="1111320"/>
            <a:ext cx="8773920" cy="5051520"/>
            <a:chOff x="0" y="1111320"/>
            <a:chExt cx="8773920" cy="5051520"/>
          </a:xfrm>
        </p:grpSpPr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82" name=""/>
            <p:cNvGrpSpPr/>
            <p:nvPr/>
          </p:nvGrpSpPr>
          <p:grpSpPr>
            <a:xfrm>
              <a:off x="1693800" y="1111320"/>
              <a:ext cx="7080120" cy="4795560"/>
              <a:chOff x="1693800" y="1111320"/>
              <a:chExt cx="7080120" cy="47955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6254640" y="4106880"/>
                <a:ext cx="2519280" cy="1800000"/>
                <a:chOff x="6254640" y="4106880"/>
                <a:chExt cx="2519280" cy="18000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869160" y="4472640"/>
                  <a:ext cx="1278000" cy="65628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863760" y="5250240"/>
                  <a:ext cx="1278000" cy="6566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254640" y="472896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528600" y="499536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157600" y="469152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159040" y="4957920"/>
                  <a:ext cx="30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157600" y="5395680"/>
                  <a:ext cx="309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32920" y="5410080"/>
                  <a:ext cx="34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542640" y="4989600"/>
                  <a:ext cx="0" cy="41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468640" y="4973760"/>
                  <a:ext cx="0" cy="41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20520" y="41068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8303400" y="45849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6410520" y="476064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6419160" y="547632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074000" y="465408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>
                  <a:off x="7092360" y="54259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267240" y="5771520"/>
                  <a:ext cx="24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751040" y="4030560"/>
                <a:ext cx="2518920" cy="1800000"/>
                <a:chOff x="1751040" y="4030560"/>
                <a:chExt cx="2518920" cy="18000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365560" y="4413600"/>
                  <a:ext cx="1278000" cy="64836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360160" y="5181840"/>
                  <a:ext cx="1277640" cy="648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751040" y="466668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653640" y="46296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655080" y="4893120"/>
                  <a:ext cx="224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653640" y="5325480"/>
                  <a:ext cx="20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884240" y="5339520"/>
                  <a:ext cx="47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895760" y="4672080"/>
                  <a:ext cx="0" cy="66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871080" y="4894200"/>
                  <a:ext cx="0" cy="42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687760" y="40305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3854880" y="45255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1944000" y="4983480"/>
                  <a:ext cx="0" cy="2516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012040" y="455832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618280" y="459540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2568960" y="53395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800360" y="56941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848600" y="4637880"/>
                  <a:ext cx="68040" cy="6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6207120" y="1114560"/>
                  <a:ext cx="2518920" cy="1799640"/>
                  <a:chOff x="6207120" y="1114560"/>
                  <a:chExt cx="2518920" cy="17996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6821640" y="1467360"/>
                    <a:ext cx="1278000" cy="66240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815880" y="2251800"/>
                    <a:ext cx="1278000" cy="66240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207120" y="17262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489360" y="1994760"/>
                    <a:ext cx="326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110080" y="16884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110080" y="2398680"/>
                    <a:ext cx="147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493680" y="2413080"/>
                    <a:ext cx="335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495120" y="2007720"/>
                    <a:ext cx="0" cy="402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8263440" y="1684080"/>
                    <a:ext cx="0" cy="709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234560" y="1114560"/>
                    <a:ext cx="569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6405840" y="1757880"/>
                    <a:ext cx="0" cy="256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V="1">
                    <a:off x="6402600" y="2443680"/>
                    <a:ext cx="0" cy="257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027560" y="1641960"/>
                    <a:ext cx="75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>
                    <a:off x="7019280" y="240876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>
                    <a:off x="8595720" y="1797120"/>
                    <a:ext cx="0" cy="85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284880" y="278352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7" name=""/>
                <p:cNvSpPr/>
                <p:nvPr/>
              </p:nvSpPr>
              <p:spPr>
                <a:xfrm>
                  <a:off x="8210520" y="1649520"/>
                  <a:ext cx="76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693800" y="1111320"/>
                  <a:ext cx="2518920" cy="1799640"/>
                  <a:chOff x="1693800" y="1111320"/>
                  <a:chExt cx="2518920" cy="1799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2308680" y="1455120"/>
                    <a:ext cx="1277640" cy="66672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302920" y="2244240"/>
                    <a:ext cx="1278000" cy="666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693800" y="171540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596400" y="167724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596400" y="2391840"/>
                    <a:ext cx="198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V="1">
                    <a:off x="1886760" y="2406600"/>
                    <a:ext cx="428760" cy="8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1886760" y="1715400"/>
                    <a:ext cx="0" cy="698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783960" y="1663920"/>
                    <a:ext cx="0" cy="734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623320" y="1111320"/>
                    <a:ext cx="60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127760" y="1763280"/>
                    <a:ext cx="0" cy="864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V="1">
                    <a:off x="1952280" y="2072880"/>
                    <a:ext cx="0" cy="25884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967760" y="1595160"/>
                    <a:ext cx="33228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575800" y="165960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2469240" y="239364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1712160" y="278820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854360" y="1674000"/>
                    <a:ext cx="67680" cy="68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6" name=""/>
                <p:cNvSpPr/>
                <p:nvPr/>
              </p:nvSpPr>
              <p:spPr>
                <a:xfrm>
                  <a:off x="3745080" y="1633680"/>
                  <a:ext cx="7596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3984480" y="493092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75560" y="501660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20760" y="1143000"/>
                <a:ext cx="4278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81920" y="2438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4320" y="236232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F = różnica zwrot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0" y="1111320"/>
            <a:ext cx="8774280" cy="5051520"/>
            <a:chOff x="0" y="1111320"/>
            <a:chExt cx="8774280" cy="5051520"/>
          </a:xfrm>
        </p:grpSpPr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6869160" y="4471920"/>
              <a:ext cx="1278000" cy="657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64480" y="5249880"/>
              <a:ext cx="1277640" cy="657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54640" y="47293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29320" y="49957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58320" y="46911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9760" y="4957920"/>
              <a:ext cx="30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58320" y="5396040"/>
              <a:ext cx="30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32560" y="5410080"/>
              <a:ext cx="34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43720" y="498960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69360" y="497376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20520" y="4106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8304120" y="458460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410160" y="476064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419880" y="547668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74000" y="46544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67600" y="577224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65200" y="4413240"/>
              <a:ext cx="1278000" cy="649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60520" y="5181480"/>
              <a:ext cx="1278000" cy="649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51040" y="466740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54360" y="462924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56160" y="4892760"/>
              <a:ext cx="22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54360" y="532620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84240" y="5340240"/>
              <a:ext cx="4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95400" y="467208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71800" y="489420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8120" y="4030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855960" y="452592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1944720" y="4984920"/>
              <a:ext cx="0" cy="250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13120" y="4559400"/>
              <a:ext cx="3315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19360" y="45957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00360" y="56944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49320" y="4638600"/>
              <a:ext cx="684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21640" y="1467000"/>
              <a:ext cx="1277640" cy="663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16600" y="2252520"/>
              <a:ext cx="1278000" cy="662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07120" y="17254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89720" y="199548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0440" y="16891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10440" y="2398680"/>
              <a:ext cx="14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94400" y="24130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96200" y="2008080"/>
              <a:ext cx="0" cy="40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263080" y="168444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35280" y="11145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405480" y="17575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402240" y="24433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27920" y="16416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8596440" y="1796760"/>
              <a:ext cx="0" cy="85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84880" y="278460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10520" y="164952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8320" y="1454040"/>
              <a:ext cx="1278000" cy="668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03640" y="2244600"/>
              <a:ext cx="1277640" cy="666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93800" y="17146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97120" y="16779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7120" y="2392200"/>
              <a:ext cx="19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1887480" y="2406240"/>
              <a:ext cx="4287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87480" y="1714680"/>
              <a:ext cx="0" cy="69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84680" y="1663560"/>
              <a:ext cx="0" cy="73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3320" y="11113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127400" y="1763280"/>
              <a:ext cx="0" cy="86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1952640" y="2072880"/>
              <a:ext cx="0" cy="258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68480" y="1595520"/>
              <a:ext cx="331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76520" y="16588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12880" y="27892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54360" y="1674720"/>
              <a:ext cx="680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45080" y="163368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451240" y="2428920"/>
              <a:ext cx="198360" cy="298440"/>
              <a:chOff x="2451240" y="2428920"/>
              <a:chExt cx="198360" cy="298440"/>
            </a:xfrm>
          </p:grpSpPr>
          <p:sp>
            <p:nvSpPr>
              <p:cNvPr id="531" name=""/>
              <p:cNvSpPr/>
              <p:nvPr/>
            </p:nvSpPr>
            <p:spPr>
              <a:xfrm>
                <a:off x="2451240" y="24289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2550240" y="24782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451240" y="25282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517840" y="5359320"/>
              <a:ext cx="198360" cy="298440"/>
              <a:chOff x="2517840" y="5359320"/>
              <a:chExt cx="198360" cy="298440"/>
            </a:xfrm>
          </p:grpSpPr>
          <p:sp>
            <p:nvSpPr>
              <p:cNvPr id="535" name=""/>
              <p:cNvSpPr/>
              <p:nvPr/>
            </p:nvSpPr>
            <p:spPr>
              <a:xfrm>
                <a:off x="2517840" y="53593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2616840" y="54086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17840" y="54586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6981840" y="244800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04240" y="25095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7048440" y="5457960"/>
              <a:ext cx="244440" cy="244440"/>
              <a:chOff x="7048440" y="5457960"/>
              <a:chExt cx="244440" cy="244440"/>
            </a:xfrm>
          </p:grpSpPr>
          <p:sp>
            <p:nvSpPr>
              <p:cNvPr id="541" name=""/>
              <p:cNvSpPr/>
              <p:nvPr/>
            </p:nvSpPr>
            <p:spPr>
              <a:xfrm>
                <a:off x="7048440" y="5457960"/>
                <a:ext cx="244440" cy="24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170840" y="551880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2305080" y="241920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52760" y="271476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62320" y="53434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2610000" y="5657760"/>
              <a:ext cx="93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19840" y="24004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67360" y="54100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5960" y="240048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05680" y="26956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53200" y="54100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72280" y="571500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32284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7338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304800" y="5324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838640" y="53910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05160" y="532440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541008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25560" y="114624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583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595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599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08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13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85800" y="5380200"/>
                <a:ext cx="21128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5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26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30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35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639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5257800" y="5380200"/>
                <a:ext cx="2508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415120" y="4665600"/>
                <a:ext cx="2655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663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664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671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675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684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688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05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10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5187960" y="5688000"/>
                <a:ext cx="2290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7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28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33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737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749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753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760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765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770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775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785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788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106120" y="35766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07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615960" y="5688000"/>
                <a:ext cx="2209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3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14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19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23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4462560" y="4794120"/>
                <a:ext cx="37846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1025640" y="4929120"/>
                <a:ext cx="1216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72120" y="4691160"/>
            <a:ext cx="13143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owe-Szerego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865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869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489720" y="485892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879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884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897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03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945600" y="281160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16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97040" y="370368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38140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90320" y="2587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057360" y="4692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970360" y="5621400"/>
                <a:ext cx="2730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5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946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950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961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965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977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32640" y="28274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985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990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992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80480" y="8780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o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4181400" y="5545080"/>
                <a:ext cx="2422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14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19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29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34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040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044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061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064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072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081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6589800" y="4713120"/>
                <a:ext cx="14716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2651040" y="1969920"/>
                <a:ext cx="32990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2651040" y="3778200"/>
                <a:ext cx="1521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"/>
          <p:cNvSpPr/>
          <p:nvPr/>
        </p:nvSpPr>
        <p:spPr>
          <a:xfrm>
            <a:off x="281520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1487520" y="1727280"/>
            <a:ext cx="5289120" cy="3834720"/>
            <a:chOff x="1487520" y="1727280"/>
            <a:chExt cx="5289120" cy="3834720"/>
          </a:xfrm>
        </p:grpSpPr>
        <p:sp>
          <p:nvSpPr>
            <p:cNvPr id="1103" name=""/>
            <p:cNvSpPr/>
            <p:nvPr/>
          </p:nvSpPr>
          <p:spPr>
            <a:xfrm>
              <a:off x="3223440" y="1744200"/>
              <a:ext cx="2780640" cy="16502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4597200" y="3624120"/>
              <a:ext cx="897840" cy="1122480"/>
              <a:chOff x="4597200" y="3624120"/>
              <a:chExt cx="897840" cy="1122480"/>
            </a:xfrm>
          </p:grpSpPr>
          <p:sp>
            <p:nvSpPr>
              <p:cNvPr id="1105" name=""/>
              <p:cNvSpPr/>
              <p:nvPr/>
            </p:nvSpPr>
            <p:spPr>
              <a:xfrm>
                <a:off x="4597200" y="3624120"/>
                <a:ext cx="897840" cy="1122480"/>
              </a:xfrm>
              <a:custGeom>
                <a:avLst/>
                <a:gdLst/>
                <a:ahLst/>
                <a:rect l="l" t="t" r="r" b="b"/>
                <a:pathLst>
                  <a:path w="672" h="624">
                    <a:moveTo>
                      <a:pt x="0" y="0"/>
                    </a:moveTo>
                    <a:lnTo>
                      <a:pt x="0" y="624"/>
                    </a:lnTo>
                    <a:lnTo>
                      <a:pt x="672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60920" y="396936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0920" y="440100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4725360" y="4314600"/>
                <a:ext cx="0" cy="17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4344480" y="2882880"/>
              <a:ext cx="840960" cy="130320"/>
              <a:chOff x="4344480" y="2882880"/>
              <a:chExt cx="840960" cy="130320"/>
            </a:xfrm>
          </p:grpSpPr>
          <p:sp>
            <p:nvSpPr>
              <p:cNvPr id="1110" name=""/>
              <p:cNvSpPr/>
              <p:nvPr/>
            </p:nvSpPr>
            <p:spPr>
              <a:xfrm>
                <a:off x="456840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96116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34448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3503160" y="2882880"/>
              <a:ext cx="840960" cy="130320"/>
              <a:chOff x="3503160" y="2882880"/>
              <a:chExt cx="840960" cy="130320"/>
            </a:xfrm>
          </p:grpSpPr>
          <p:sp>
            <p:nvSpPr>
              <p:cNvPr id="1114" name=""/>
              <p:cNvSpPr/>
              <p:nvPr/>
            </p:nvSpPr>
            <p:spPr>
              <a:xfrm>
                <a:off x="372708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1984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50316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 flipH="1">
              <a:off x="4344480" y="385416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4344480" y="3120120"/>
              <a:ext cx="0" cy="71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81000" y="4147560"/>
              <a:ext cx="112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186160" y="2947320"/>
              <a:ext cx="5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5160" y="2676960"/>
              <a:ext cx="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3392280" y="4776480"/>
              <a:ext cx="447120" cy="528840"/>
              <a:chOff x="3392280" y="4776480"/>
              <a:chExt cx="447120" cy="528840"/>
            </a:xfrm>
          </p:grpSpPr>
          <p:sp>
            <p:nvSpPr>
              <p:cNvPr id="1123" name=""/>
              <p:cNvSpPr/>
              <p:nvPr/>
            </p:nvSpPr>
            <p:spPr>
              <a:xfrm>
                <a:off x="3392280" y="4776480"/>
                <a:ext cx="447120" cy="528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3615840" y="4908240"/>
                <a:ext cx="0" cy="2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 flipH="1">
              <a:off x="3615480" y="451332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15840" y="452556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15840" y="529596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03160" y="5558760"/>
              <a:ext cx="22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83240" y="451332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3495960" y="2836080"/>
              <a:ext cx="0" cy="26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310280" y="2921760"/>
              <a:ext cx="5580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45360" y="24102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692880" y="24022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21280" y="4873680"/>
              <a:ext cx="92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23120" y="3204000"/>
              <a:ext cx="46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421160" y="4137840"/>
              <a:ext cx="0" cy="22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6253200" y="4324680"/>
              <a:ext cx="0" cy="123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767120" y="3920400"/>
              <a:ext cx="412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4121280" y="4709880"/>
              <a:ext cx="0" cy="74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398920" y="488556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4357440" y="2207520"/>
              <a:ext cx="840960" cy="129960"/>
              <a:chOff x="4357440" y="2207520"/>
              <a:chExt cx="840960" cy="129960"/>
            </a:xfrm>
          </p:grpSpPr>
          <p:sp>
            <p:nvSpPr>
              <p:cNvPr id="1142" name=""/>
              <p:cNvSpPr/>
              <p:nvPr/>
            </p:nvSpPr>
            <p:spPr>
              <a:xfrm>
                <a:off x="4581360" y="2207520"/>
                <a:ext cx="392400" cy="129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74120" y="227232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357440" y="227232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5188320" y="2127960"/>
              <a:ext cx="70560" cy="330480"/>
              <a:chOff x="5188320" y="2127960"/>
              <a:chExt cx="70560" cy="330480"/>
            </a:xfrm>
          </p:grpSpPr>
          <p:sp>
            <p:nvSpPr>
              <p:cNvPr id="1146" name=""/>
              <p:cNvSpPr/>
              <p:nvPr/>
            </p:nvSpPr>
            <p:spPr>
              <a:xfrm>
                <a:off x="518832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5888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 flipV="1">
              <a:off x="5748120" y="2264040"/>
              <a:ext cx="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55280" y="2277720"/>
              <a:ext cx="49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43040" y="2277720"/>
              <a:ext cx="0" cy="85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18000" y="172872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76720" y="1727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560" y="264960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748120" y="267264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15520" y="17600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6" name=""/>
                <p:cNvSpPr txBox="1"/>
                <p:nvPr/>
              </p:nvSpPr>
              <p:spPr>
                <a:xfrm>
                  <a:off x="1487520" y="2003400"/>
                  <a:ext cx="168120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7" name=""/>
            <p:cNvSpPr/>
            <p:nvPr/>
          </p:nvSpPr>
          <p:spPr>
            <a:xfrm>
              <a:off x="3730320" y="329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02040" y="4044960"/>
              <a:ext cx="174600" cy="18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242040" y="412632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068560" y="4254480"/>
                <a:ext cx="4992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164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165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166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5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179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616360" y="1636560"/>
              <a:ext cx="92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28480" y="2800440"/>
                <a:ext cx="685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422280" y="2054160"/>
                <a:ext cx="105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79240" y="182880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7000" y="1752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676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1194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1198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1202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1207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1210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1214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1219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31160" y="1752480"/>
            <a:ext cx="13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1200" y="17524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676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36440" y="19810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8240" y="19810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 z ujemnym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37960" y="1905120"/>
            <a:ext cx="7351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Zmniejsza wzmocnienie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Zwiększa się pasmo przenosz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002040" y="1130400"/>
                <a:ext cx="25146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362320" y="41148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03848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8720" y="4133880"/>
            <a:ext cx="1130400" cy="8380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996720" y="3298680"/>
            <a:ext cx="1252440" cy="87336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400" y="4100400"/>
            <a:ext cx="349596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4014720" y="3220200"/>
            <a:ext cx="349560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53360" y="37162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24520" y="246528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5200" y="2239920"/>
            <a:ext cx="3157560" cy="917640"/>
          </a:xfrm>
          <a:prstGeom prst="wedgeRectCallout">
            <a:avLst>
              <a:gd name="adj1" fmla="val 65736"/>
              <a:gd name="adj2" fmla="val 11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99160" y="4657680"/>
            <a:ext cx="2628720" cy="774720"/>
          </a:xfrm>
          <a:prstGeom prst="wedgeRectCallout">
            <a:avLst>
              <a:gd name="adj1" fmla="val -59180"/>
              <a:gd name="adj2" fmla="val -180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329724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7320" y="327348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576756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3-11-24T06:27:21Z</dcterms:modified>
  <cp:revision>111</cp:revision>
  <dc:subject/>
  <dc:title>Sprzężenie zwrotne</dc:title>
</cp:coreProperties>
</file>