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media/image29.wmf" ContentType="image/x-wmf"/>
  <Override PartName="/ppt/media/image15.wmf" ContentType="image/x-wmf"/>
  <Override PartName="/ppt/media/image7.png" ContentType="image/png"/>
  <Override PartName="/ppt/media/image22.jpeg" ContentType="image/jpeg"/>
  <Override PartName="/ppt/media/image3.png" ContentType="image/png"/>
  <Override PartName="/ppt/media/image11.wmf" ContentType="image/x-wmf"/>
  <Override PartName="/ppt/media/image26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28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3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7.wmf" ContentType="image/x-wmf"/>
  <Override PartName="/ppt/media/image18.png" ContentType="image/png"/>
  <Override PartName="/ppt/media/image19.wmf" ContentType="image/x-wmf"/>
  <Override PartName="/ppt/media/image20.wmf" ContentType="image/x-wmf"/>
  <Override PartName="/ppt/media/image2.wmf" ContentType="image/x-wm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BC6-806C-45AE-BDD1-D3C7FE49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A77-4CBB-4725-AD2E-10ABB968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1BA-7774-46A7-868D-8CB57BB9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CFD-1515-48FC-BA99-30E135AC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CC5-9AEE-45D5-8A13-DFA32E85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B27-F45D-4AF4-AC65-70C1266A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A58-2F76-41CE-A647-74587A97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CBF-DE17-4AF1-8410-467DFB5A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7B8-49C5-49E9-9413-232DD2CC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DCB-542F-4419-99B3-3C81CA67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5A5-C15A-4429-B3EE-6040F19D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6AD-26AC-4D6C-B8AA-169FB4DB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9E40-2F94-4863-B7D1-B9DF8ACDB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średniczy w zasilan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mienia napięcie zmienne na stałe o możliwie małyc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ętnieni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ykle zawiera transformator, układ prostowniczy i filt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łuży do uzyskania napięć, które bezpośrednio będą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ogół ma przekładnię obniżając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oluje galwanicznie prostownik i zasilane układy od sie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przetwarzan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f S 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rzchnia rdzen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4760" y="30492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sie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724280" y="5867280"/>
                <a:ext cx="9144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254240" y="179280"/>
            <a:ext cx="63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dwu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 i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11280" y="1284120"/>
            <a:ext cx="820584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299880" y="917640"/>
          <a:ext cx="7796520" cy="513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917640"/>
                    <a:ext cx="779652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920" y="6019920"/>
            <a:ext cx="7634520" cy="51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tętnień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że zniszczyć pojemność zbiorczą C (filtr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1676520"/>
          <a:ext cx="67356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67356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zmniejszenie tętnień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143000" y="533520"/>
          <a:ext cx="620856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33520"/>
                    <a:ext cx="620856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300240" y="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 dwupołówkowy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990720" y="685800"/>
          <a:ext cx="716256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716256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3880" y="4572000"/>
          <a:ext cx="5886720" cy="194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572000"/>
                    <a:ext cx="588672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1441440" y="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066680" y="1295280"/>
          <a:ext cx="73152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3152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914400" y="1219320"/>
          <a:ext cx="750744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507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1979640" y="1138320"/>
          <a:ext cx="5108400" cy="460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138320"/>
                    <a:ext cx="51084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228600" y="4495680"/>
          <a:ext cx="8915400" cy="109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95680"/>
                    <a:ext cx="89154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994200" y="2647800"/>
            <a:ext cx="152280" cy="152640"/>
            <a:chOff x="3994200" y="2647800"/>
            <a:chExt cx="152280" cy="152640"/>
          </a:xfrm>
        </p:grpSpPr>
        <p:sp>
          <p:nvSpPr>
            <p:cNvPr id="375" name=""/>
            <p:cNvSpPr/>
            <p:nvPr/>
          </p:nvSpPr>
          <p:spPr>
            <a:xfrm>
              <a:off x="3994200" y="28004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070520" y="26478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04920" y="1219320"/>
            <a:ext cx="8305560" cy="2238120"/>
            <a:chOff x="304920" y="1219320"/>
            <a:chExt cx="8305560" cy="2238120"/>
          </a:xfrm>
        </p:grpSpPr>
        <p:graphicFrame>
          <p:nvGraphicFramePr>
            <p:cNvPr id="378" name=""/>
            <p:cNvGraphicFramePr/>
            <p:nvPr/>
          </p:nvGraphicFramePr>
          <p:xfrm>
            <a:off x="304920" y="1219320"/>
            <a:ext cx="8305560" cy="2238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219320"/>
                      <a:ext cx="8305560" cy="22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80" name=""/>
            <p:cNvGrpSpPr/>
            <p:nvPr/>
          </p:nvGrpSpPr>
          <p:grpSpPr>
            <a:xfrm>
              <a:off x="7186680" y="2649240"/>
              <a:ext cx="152280" cy="152640"/>
              <a:chOff x="7186680" y="2649240"/>
              <a:chExt cx="152280" cy="152640"/>
            </a:xfrm>
          </p:grpSpPr>
          <p:sp>
            <p:nvSpPr>
              <p:cNvPr id="381" name=""/>
              <p:cNvSpPr/>
              <p:nvPr/>
            </p:nvSpPr>
            <p:spPr>
              <a:xfrm>
                <a:off x="7186680" y="280188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263000" y="2649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74840" y="1217520"/>
            <a:ext cx="8393040" cy="52786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317680" y="30168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odwajaczu Del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85800"/>
            <a:ext cx="8686800" cy="603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łówne parametry układów prostowniczy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wykorzystania napięcia prosto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zawartości tętnień (wart. skuteczna tętnień/nap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jsci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średnia prądu wy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ąd tętnień w kondensatorze filtru (zbiorcz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tarzająca się wartość szczytow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zczytowa pojedynczego impulsu prądu diody (prą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aroweg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RM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kuteczn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maksymalna napięcia polaryzacji zwrotnej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lość prostowanych połówek (1, 2, 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awność energet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841320" y="3129120"/>
          <a:ext cx="6840720" cy="31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3129120"/>
                    <a:ext cx="6840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28600" y="1371600"/>
          <a:ext cx="8610480" cy="103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371600"/>
                    <a:ext cx="861048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Wykres_Schadego1" descr=""/>
          <p:cNvPicPr/>
          <p:nvPr/>
        </p:nvPicPr>
        <p:blipFill>
          <a:blip r:embed="rId1"/>
          <a:stretch/>
        </p:blipFill>
        <p:spPr>
          <a:xfrm>
            <a:off x="762120" y="392040"/>
            <a:ext cx="7924680" cy="60721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433600" y="5105520"/>
            <a:ext cx="489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korzystania 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8458200" y="3429000"/>
                <a:ext cx="433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Wykres_Schadego2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515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281240" y="193680"/>
            <a:ext cx="3992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kuteczn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04560" y="2174760"/>
            <a:ext cx="4008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zczytow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Wykres_Schadego3" descr=""/>
          <p:cNvPicPr/>
          <p:nvPr/>
        </p:nvPicPr>
        <p:blipFill>
          <a:blip r:embed="rId1"/>
          <a:stretch/>
        </p:blipFill>
        <p:spPr>
          <a:xfrm>
            <a:off x="685800" y="77760"/>
            <a:ext cx="7086600" cy="65692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524240" y="4343400"/>
            <a:ext cx="300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półczynnik tętni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066680" y="762120"/>
          <a:ext cx="701064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62120"/>
                    <a:ext cx="701064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762120" y="5105520"/>
          <a:ext cx="7543800" cy="1547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05520"/>
                    <a:ext cx="7543800" cy="15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81160" y="2130120"/>
            <a:ext cx="152280" cy="152640"/>
            <a:chOff x="2981160" y="2130120"/>
            <a:chExt cx="152280" cy="152640"/>
          </a:xfrm>
        </p:grpSpPr>
        <p:sp>
          <p:nvSpPr>
            <p:cNvPr id="404" name=""/>
            <p:cNvSpPr/>
            <p:nvPr/>
          </p:nvSpPr>
          <p:spPr>
            <a:xfrm>
              <a:off x="2981160" y="22827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57480" y="2130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789600" y="1882440"/>
            <a:ext cx="152280" cy="152640"/>
            <a:chOff x="6789600" y="1882440"/>
            <a:chExt cx="152280" cy="152640"/>
          </a:xfrm>
        </p:grpSpPr>
        <p:sp>
          <p:nvSpPr>
            <p:cNvPr id="407" name=""/>
            <p:cNvSpPr/>
            <p:nvPr/>
          </p:nvSpPr>
          <p:spPr>
            <a:xfrm>
              <a:off x="6789600" y="2035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865920" y="1882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757600" y="3947760"/>
            <a:ext cx="152280" cy="152640"/>
            <a:chOff x="2757600" y="3947760"/>
            <a:chExt cx="152280" cy="152640"/>
          </a:xfrm>
        </p:grpSpPr>
        <p:sp>
          <p:nvSpPr>
            <p:cNvPr id="410" name=""/>
            <p:cNvSpPr/>
            <p:nvPr/>
          </p:nvSpPr>
          <p:spPr>
            <a:xfrm>
              <a:off x="2757600" y="4100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833920" y="3947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511200" y="1306440"/>
            <a:ext cx="8096400" cy="50911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500800" y="1839960"/>
            <a:ext cx="3052800" cy="1836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518480" y="2286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533520" y="787320"/>
          <a:ext cx="8001000" cy="52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87320"/>
                    <a:ext cx="800100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1517760" y="228600"/>
            <a:ext cx="57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762120" y="1211400"/>
          <a:ext cx="7711920" cy="39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1400"/>
                    <a:ext cx="77119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457200" y="1617840"/>
          <a:ext cx="807732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7840"/>
                    <a:ext cx="807732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1520" y="1066680"/>
            <a:ext cx="80172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8520" y="2819520"/>
            <a:ext cx="75798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niesterow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sterowane (np. tyrystor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3360" y="4343400"/>
            <a:ext cx="7148520" cy="1557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(można spotka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próżniowe - praktycznie już nie 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(ksenonowe, rteci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sterowane (tyrat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6800" y="1143000"/>
            <a:ext cx="7820640" cy="4483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stosowane, np. do  ładowanie akumula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małe i średnie moc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 kilkudziesięciu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i bardzo duże moce (setki - tysiące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z lampami gazowany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 megawaty (tysiące amperów i dziesiątki kilowoltó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523880" y="2819520"/>
            <a:ext cx="5538600" cy="2016360"/>
            <a:chOff x="1523880" y="2819520"/>
            <a:chExt cx="5538600" cy="2016360"/>
          </a:xfrm>
        </p:grpSpPr>
        <p:sp>
          <p:nvSpPr>
            <p:cNvPr id="50" name=""/>
            <p:cNvSpPr/>
            <p:nvPr/>
          </p:nvSpPr>
          <p:spPr>
            <a:xfrm>
              <a:off x="4057560" y="3127320"/>
              <a:ext cx="1440" cy="912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405756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764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51484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456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05756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7664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505480" y="363348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24560" y="363348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00280" y="3217680"/>
              <a:ext cx="215280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78152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9160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7815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052520" y="4034880"/>
              <a:ext cx="300996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229080" y="321768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2197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00280" y="3624120"/>
              <a:ext cx="216216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38400" y="3425760"/>
              <a:ext cx="171360" cy="225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793880" y="3303360"/>
              <a:ext cx="195120" cy="482400"/>
              <a:chOff x="1793880" y="3303360"/>
              <a:chExt cx="195120" cy="482400"/>
            </a:xfrm>
          </p:grpSpPr>
          <p:sp>
            <p:nvSpPr>
              <p:cNvPr id="70" name=""/>
              <p:cNvSpPr/>
              <p:nvPr/>
            </p:nvSpPr>
            <p:spPr>
              <a:xfrm>
                <a:off x="1808280" y="340308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808280" y="349344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808280" y="358416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93880" y="338508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12680" y="3303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912680" y="36835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2138400" y="3533400"/>
              <a:ext cx="378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01920" y="3368520"/>
              <a:ext cx="100080" cy="25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1240" y="3081240"/>
              <a:ext cx="1440" cy="296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51240" y="3622320"/>
              <a:ext cx="1440" cy="41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40160" y="3423960"/>
              <a:ext cx="218880" cy="18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2079360" y="3068280"/>
              <a:ext cx="195480" cy="482400"/>
              <a:chOff x="2079360" y="3068280"/>
              <a:chExt cx="195480" cy="482400"/>
            </a:xfrm>
          </p:grpSpPr>
          <p:sp>
            <p:nvSpPr>
              <p:cNvPr id="82" name=""/>
              <p:cNvSpPr/>
              <p:nvPr/>
            </p:nvSpPr>
            <p:spPr>
              <a:xfrm>
                <a:off x="2079360" y="33598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79360" y="326952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79360" y="317916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64680" y="316080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155320" y="34484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2155320" y="306828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079360" y="3547800"/>
              <a:ext cx="195480" cy="482400"/>
              <a:chOff x="2079360" y="3547800"/>
              <a:chExt cx="195480" cy="482400"/>
            </a:xfrm>
          </p:grpSpPr>
          <p:sp>
            <p:nvSpPr>
              <p:cNvPr id="89" name=""/>
              <p:cNvSpPr/>
              <p:nvPr/>
            </p:nvSpPr>
            <p:spPr>
              <a:xfrm>
                <a:off x="2079360" y="383940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79360" y="374904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79360" y="36586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64680" y="364032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155320" y="39279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2155320" y="35478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1724040" y="3308040"/>
              <a:ext cx="19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33400" y="3786120"/>
              <a:ext cx="190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90560" y="376848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90560" y="32889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3880" y="3416040"/>
              <a:ext cx="304920" cy="28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19160" y="403992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037960" y="3195360"/>
              <a:ext cx="4680" cy="71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162160" y="3017520"/>
              <a:ext cx="419040" cy="136440"/>
              <a:chOff x="2162160" y="3017520"/>
              <a:chExt cx="419040" cy="1364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333160" y="3017520"/>
                <a:ext cx="86400" cy="136440"/>
                <a:chOff x="2333160" y="3017520"/>
                <a:chExt cx="86400" cy="1364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42880" y="3017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352240" y="302652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2333160" y="308088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419200" y="3026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2162160" y="308088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418840" y="308088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152440" y="3976560"/>
              <a:ext cx="419040" cy="136080"/>
              <a:chOff x="2152440" y="3976560"/>
              <a:chExt cx="419040" cy="1360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2323080" y="3976560"/>
                <a:ext cx="86400" cy="136080"/>
                <a:chOff x="2323080" y="3976560"/>
                <a:chExt cx="86400" cy="1360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332800" y="3976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42520" y="39855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2323080" y="4039920"/>
                  <a:ext cx="76680" cy="7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409120" y="3985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2152440" y="403992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409120" y="403992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562120" y="4039920"/>
              <a:ext cx="114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676240" y="3081240"/>
              <a:ext cx="1800" cy="958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00280" y="3081240"/>
              <a:ext cx="2286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62160" y="3551040"/>
              <a:ext cx="6667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819160" y="3550680"/>
              <a:ext cx="1800" cy="48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38240" y="3081240"/>
              <a:ext cx="514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209680" y="3171600"/>
              <a:ext cx="1440" cy="28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200320" y="3650760"/>
              <a:ext cx="1440" cy="280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38120" y="322560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38120" y="370512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95360" y="281952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66920" y="414000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019320" y="3180600"/>
              <a:ext cx="144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85800" y="2873160"/>
              <a:ext cx="21924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95520" y="4076640"/>
              <a:ext cx="218880" cy="171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3200" y="2873160"/>
              <a:ext cx="18072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95560" y="402264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5840" y="306360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52480" y="3063600"/>
              <a:ext cx="3816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4066920"/>
              <a:ext cx="2886120" cy="190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306360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28880" y="3009600"/>
              <a:ext cx="24768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24440" y="3416040"/>
              <a:ext cx="29520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76520" y="1295280"/>
            <a:ext cx="5438160" cy="1817640"/>
            <a:chOff x="1676520" y="1295280"/>
            <a:chExt cx="5438160" cy="1817640"/>
          </a:xfrm>
        </p:grpSpPr>
        <p:sp>
          <p:nvSpPr>
            <p:cNvPr id="142" name=""/>
            <p:cNvSpPr/>
            <p:nvPr/>
          </p:nvSpPr>
          <p:spPr>
            <a:xfrm>
              <a:off x="4114800" y="1403280"/>
              <a:ext cx="0" cy="91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11480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2524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55300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344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1148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346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543280" y="1909800"/>
              <a:ext cx="6847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3440" y="190980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7520" y="1494000"/>
              <a:ext cx="145692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57520" y="1900080"/>
              <a:ext cx="21618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105080" y="2313000"/>
              <a:ext cx="3009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57320" y="1657440"/>
              <a:ext cx="23796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97160" y="1519200"/>
              <a:ext cx="356760" cy="480960"/>
              <a:chOff x="3197160" y="1519200"/>
              <a:chExt cx="356760" cy="480960"/>
            </a:xfrm>
          </p:grpSpPr>
          <p:sp>
            <p:nvSpPr>
              <p:cNvPr id="156" name=""/>
              <p:cNvSpPr/>
              <p:nvPr/>
            </p:nvSpPr>
            <p:spPr>
              <a:xfrm>
                <a:off x="3197160" y="1619280"/>
                <a:ext cx="100800" cy="25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47200" y="1519200"/>
                <a:ext cx="360" cy="109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47200" y="1873080"/>
                <a:ext cx="360" cy="127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34680" y="1673280"/>
                <a:ext cx="219240" cy="18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32000" y="1509840"/>
              <a:ext cx="194760" cy="482400"/>
              <a:chOff x="2232000" y="1509840"/>
              <a:chExt cx="194760" cy="482400"/>
            </a:xfrm>
          </p:grpSpPr>
          <p:sp>
            <p:nvSpPr>
              <p:cNvPr id="161" name=""/>
              <p:cNvSpPr/>
              <p:nvPr/>
            </p:nvSpPr>
            <p:spPr>
              <a:xfrm>
                <a:off x="223200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32000" y="170028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3200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169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07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07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190600" y="1620720"/>
              <a:ext cx="0" cy="254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04720" y="1992240"/>
              <a:ext cx="942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314440" y="1449360"/>
              <a:ext cx="418680" cy="136440"/>
              <a:chOff x="2314440" y="1449360"/>
              <a:chExt cx="418680" cy="13644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485080" y="1449360"/>
                <a:ext cx="86400" cy="136440"/>
                <a:chOff x="2485080" y="1449360"/>
                <a:chExt cx="86400" cy="1364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494800" y="1449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04160" y="14583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2485080" y="151272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571120" y="1458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2314440" y="1512720"/>
                <a:ext cx="1904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71120" y="1512720"/>
                <a:ext cx="1620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724120" y="1512720"/>
              <a:ext cx="532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85760" y="1584360"/>
              <a:ext cx="0" cy="336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62000" y="1494000"/>
              <a:ext cx="378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62000" y="1974960"/>
              <a:ext cx="3780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946160" y="1509840"/>
              <a:ext cx="194760" cy="482400"/>
              <a:chOff x="1946160" y="1509840"/>
              <a:chExt cx="194760" cy="482400"/>
            </a:xfrm>
          </p:grpSpPr>
          <p:sp>
            <p:nvSpPr>
              <p:cNvPr id="182" name=""/>
              <p:cNvSpPr/>
              <p:nvPr/>
            </p:nvSpPr>
            <p:spPr>
              <a:xfrm>
                <a:off x="196056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60560" y="169992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6056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9461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64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064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876320" y="151272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5680" y="199224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42840" y="1973160"/>
              <a:ext cx="3924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42840" y="1494000"/>
              <a:ext cx="3924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6520" y="1620720"/>
              <a:ext cx="30456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28760" y="2325600"/>
              <a:ext cx="288576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7120" y="1368360"/>
              <a:ext cx="218520" cy="325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0120" y="1295280"/>
              <a:ext cx="24732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0120" y="1684440"/>
              <a:ext cx="2948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676520" y="5029200"/>
            <a:ext cx="5486400" cy="2108160"/>
            <a:chOff x="1676520" y="5029200"/>
            <a:chExt cx="5486400" cy="2108160"/>
          </a:xfrm>
        </p:grpSpPr>
        <p:sp>
          <p:nvSpPr>
            <p:cNvPr id="198" name=""/>
            <p:cNvSpPr/>
            <p:nvPr/>
          </p:nvSpPr>
          <p:spPr>
            <a:xfrm>
              <a:off x="3191040" y="5635800"/>
              <a:ext cx="171360" cy="226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946520" y="5515200"/>
              <a:ext cx="196920" cy="482400"/>
              <a:chOff x="1946520" y="5515200"/>
              <a:chExt cx="196920" cy="482400"/>
            </a:xfrm>
          </p:grpSpPr>
          <p:sp>
            <p:nvSpPr>
              <p:cNvPr id="200" name=""/>
              <p:cNvSpPr/>
              <p:nvPr/>
            </p:nvSpPr>
            <p:spPr>
              <a:xfrm>
                <a:off x="1960920" y="561492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60920" y="570564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60920" y="579600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46520" y="5596920"/>
                <a:ext cx="11088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66400" y="55152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066400" y="5895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291040" y="5743800"/>
              <a:ext cx="396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54560" y="5580000"/>
              <a:ext cx="101520" cy="2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05320" y="5292720"/>
              <a:ext cx="0" cy="29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5320" y="5832720"/>
              <a:ext cx="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92800" y="5634000"/>
              <a:ext cx="218880" cy="18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232360" y="5280120"/>
              <a:ext cx="196560" cy="482760"/>
              <a:chOff x="2232360" y="5280120"/>
              <a:chExt cx="196560" cy="482760"/>
            </a:xfrm>
          </p:grpSpPr>
          <p:sp>
            <p:nvSpPr>
              <p:cNvPr id="212" name=""/>
              <p:cNvSpPr/>
              <p:nvPr/>
            </p:nvSpPr>
            <p:spPr>
              <a:xfrm>
                <a:off x="2232360" y="557172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32360" y="548136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32360" y="539100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18040" y="5373000"/>
                <a:ext cx="11088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2308680" y="56606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2308680" y="52801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232360" y="5757840"/>
              <a:ext cx="196560" cy="482760"/>
              <a:chOff x="2232360" y="5757840"/>
              <a:chExt cx="196560" cy="482760"/>
            </a:xfrm>
          </p:grpSpPr>
          <p:sp>
            <p:nvSpPr>
              <p:cNvPr id="219" name=""/>
              <p:cNvSpPr/>
              <p:nvPr/>
            </p:nvSpPr>
            <p:spPr>
              <a:xfrm>
                <a:off x="2232360" y="604944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32360" y="595908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32360" y="586872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18040" y="5850720"/>
                <a:ext cx="11088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2308680" y="6138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2308680" y="5757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876680" y="551844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86040" y="599760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43200" y="5978520"/>
              <a:ext cx="3960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3200" y="54993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6520" y="5626080"/>
              <a:ext cx="30492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2160" y="6249960"/>
              <a:ext cx="542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190600" y="5405400"/>
              <a:ext cx="4680" cy="719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314800" y="5229360"/>
              <a:ext cx="419040" cy="135000"/>
              <a:chOff x="2314800" y="5229360"/>
              <a:chExt cx="419040" cy="13500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485440" y="5229360"/>
                <a:ext cx="86400" cy="135000"/>
                <a:chOff x="2485440" y="5229360"/>
                <a:chExt cx="86400" cy="1350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495160" y="5229360"/>
                  <a:ext cx="360" cy="11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504520" y="5238000"/>
                  <a:ext cx="57600" cy="5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2485440" y="5292000"/>
                  <a:ext cx="76680" cy="72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71480" y="5238000"/>
                  <a:ext cx="360" cy="11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314800" y="529200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71480" y="529200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305080" y="6186600"/>
              <a:ext cx="419400" cy="136440"/>
              <a:chOff x="2305080" y="6186600"/>
              <a:chExt cx="419400" cy="13644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2476080" y="6186600"/>
                <a:ext cx="86400" cy="136440"/>
                <a:chOff x="2476080" y="6186600"/>
                <a:chExt cx="86400" cy="1364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485800" y="618660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495160" y="619560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2476080" y="624996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62120" y="619560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2305080" y="624996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62120" y="624996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714760" y="6249960"/>
              <a:ext cx="11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829240" y="5292360"/>
              <a:ext cx="0" cy="95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52920" y="5292720"/>
              <a:ext cx="228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4800" y="5762880"/>
              <a:ext cx="666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972160" y="5762520"/>
              <a:ext cx="0" cy="487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90880" y="5292720"/>
              <a:ext cx="514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362320" y="5381280"/>
              <a:ext cx="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352960" y="5860800"/>
              <a:ext cx="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91120" y="5437440"/>
              <a:ext cx="1616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91120" y="5915160"/>
              <a:ext cx="161640" cy="182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48000" y="5029200"/>
              <a:ext cx="190800" cy="182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19560" y="6350040"/>
              <a:ext cx="190440" cy="1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171960" y="5391000"/>
              <a:ext cx="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38800" y="5085000"/>
              <a:ext cx="2188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48160" y="6286680"/>
              <a:ext cx="21924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5840" y="5085000"/>
              <a:ext cx="1810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48200" y="6232680"/>
              <a:ext cx="3816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38840" y="5273640"/>
              <a:ext cx="3780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05480" y="5273640"/>
              <a:ext cx="39600" cy="3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15040" y="600552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91200" y="59612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48080" y="6005520"/>
              <a:ext cx="14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7960" y="5888160"/>
              <a:ext cx="22860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15296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6268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610600" y="5527800"/>
              <a:ext cx="68472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19960" y="5527800"/>
              <a:ext cx="68544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305600" y="5924520"/>
              <a:ext cx="38016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15680" y="5924520"/>
              <a:ext cx="39888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753160" y="5934240"/>
              <a:ext cx="38088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62880" y="5934240"/>
              <a:ext cx="3996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6040" y="5518440"/>
              <a:ext cx="21524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87692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8664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010480" y="5924520"/>
              <a:ext cx="4183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29920" y="5924520"/>
              <a:ext cx="4183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334200" y="5527800"/>
              <a:ext cx="68544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477120" y="5924520"/>
              <a:ext cx="36144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96040" y="5924520"/>
              <a:ext cx="216216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52960" y="5427720"/>
              <a:ext cx="0" cy="9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295880" y="5699160"/>
              <a:ext cx="0" cy="6336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44860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72464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00076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74380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47712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17256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77000" y="6367680"/>
              <a:ext cx="288612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5280" y="539136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2920" y="5310360"/>
              <a:ext cx="2476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77080" y="5726160"/>
              <a:ext cx="295200" cy="1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67600" y="6059520"/>
              <a:ext cx="17136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10360" y="5554800"/>
              <a:ext cx="171360" cy="198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960" y="5699160"/>
              <a:ext cx="257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53600" y="5618160"/>
              <a:ext cx="228600" cy="171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5600" y="633096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14920" y="633096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00640" y="6340680"/>
              <a:ext cx="219240" cy="144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05600" y="6485040"/>
              <a:ext cx="40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148280" y="6330960"/>
              <a:ext cx="3014640" cy="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7120" y="7621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dno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9240" y="25146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79640" y="449568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 w obwodzie ładownia akumulat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06560" y="1993680"/>
            <a:ext cx="152280" cy="152640"/>
            <a:chOff x="2806560" y="1993680"/>
            <a:chExt cx="152280" cy="152640"/>
          </a:xfrm>
        </p:grpSpPr>
        <p:sp>
          <p:nvSpPr>
            <p:cNvPr id="313" name=""/>
            <p:cNvSpPr/>
            <p:nvPr/>
          </p:nvSpPr>
          <p:spPr>
            <a:xfrm>
              <a:off x="2806560" y="2146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882880" y="1993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940120" y="4032000"/>
            <a:ext cx="152280" cy="152640"/>
            <a:chOff x="2940120" y="4032000"/>
            <a:chExt cx="152280" cy="152640"/>
          </a:xfrm>
        </p:grpSpPr>
        <p:sp>
          <p:nvSpPr>
            <p:cNvPr id="316" name=""/>
            <p:cNvSpPr/>
            <p:nvPr/>
          </p:nvSpPr>
          <p:spPr>
            <a:xfrm>
              <a:off x="2940120" y="41846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016440" y="403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092400" y="6241680"/>
            <a:ext cx="152280" cy="152640"/>
            <a:chOff x="3092400" y="6241680"/>
            <a:chExt cx="152280" cy="152640"/>
          </a:xfrm>
        </p:grpSpPr>
        <p:sp>
          <p:nvSpPr>
            <p:cNvPr id="319" name=""/>
            <p:cNvSpPr/>
            <p:nvPr/>
          </p:nvSpPr>
          <p:spPr>
            <a:xfrm>
              <a:off x="3092400" y="6394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168720" y="6241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228600" y="917640"/>
          <a:ext cx="862632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7640"/>
                    <a:ext cx="86263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81360" y="1523880"/>
            <a:ext cx="152280" cy="152640"/>
            <a:chOff x="2781360" y="1523880"/>
            <a:chExt cx="152280" cy="152640"/>
          </a:xfrm>
        </p:grpSpPr>
        <p:sp>
          <p:nvSpPr>
            <p:cNvPr id="326" name=""/>
            <p:cNvSpPr/>
            <p:nvPr/>
          </p:nvSpPr>
          <p:spPr>
            <a:xfrm>
              <a:off x="2781360" y="16765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576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8" name=""/>
          <p:cNvGraphicFramePr/>
          <p:nvPr/>
        </p:nvGraphicFramePr>
        <p:xfrm>
          <a:off x="1295280" y="990720"/>
          <a:ext cx="6553440" cy="53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553440" cy="53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0" name=""/>
          <p:cNvGrpSpPr/>
          <p:nvPr/>
        </p:nvGrpSpPr>
        <p:grpSpPr>
          <a:xfrm>
            <a:off x="6234120" y="1919160"/>
            <a:ext cx="152280" cy="152640"/>
            <a:chOff x="6234120" y="1919160"/>
            <a:chExt cx="152280" cy="152640"/>
          </a:xfrm>
        </p:grpSpPr>
        <p:sp>
          <p:nvSpPr>
            <p:cNvPr id="331" name=""/>
            <p:cNvSpPr/>
            <p:nvPr/>
          </p:nvSpPr>
          <p:spPr>
            <a:xfrm>
              <a:off x="6234120" y="2071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310440" y="19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22800" y="3119040"/>
            <a:ext cx="152280" cy="152640"/>
            <a:chOff x="6022800" y="3119040"/>
            <a:chExt cx="152280" cy="152640"/>
          </a:xfrm>
        </p:grpSpPr>
        <p:sp>
          <p:nvSpPr>
            <p:cNvPr id="334" name=""/>
            <p:cNvSpPr/>
            <p:nvPr/>
          </p:nvSpPr>
          <p:spPr>
            <a:xfrm>
              <a:off x="6022800" y="3271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099120" y="3119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518160" y="4579560"/>
            <a:ext cx="152280" cy="152640"/>
            <a:chOff x="6518160" y="4579560"/>
            <a:chExt cx="152280" cy="152640"/>
          </a:xfrm>
        </p:grpSpPr>
        <p:sp>
          <p:nvSpPr>
            <p:cNvPr id="337" name=""/>
            <p:cNvSpPr/>
            <p:nvPr/>
          </p:nvSpPr>
          <p:spPr>
            <a:xfrm>
              <a:off x="6518160" y="47322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594480" y="4579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77920" y="1090440"/>
            <a:ext cx="8456400" cy="5318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614600" y="2847960"/>
            <a:ext cx="2063520" cy="17161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613160" y="179280"/>
            <a:ext cx="56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99960" y="1252440"/>
            <a:ext cx="8436240" cy="53056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916520" y="1592280"/>
            <a:ext cx="2800440" cy="2362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rąd udarowy diody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7:53:30Z</dcterms:created>
  <dc:creator>Agnieszka Kukawczynska</dc:creator>
  <dc:description/>
  <dc:language>en-US</dc:language>
  <cp:lastModifiedBy>MK</cp:lastModifiedBy>
  <dcterms:modified xsi:type="dcterms:W3CDTF">2004-06-07T10:18:11Z</dcterms:modified>
  <cp:revision>51</cp:revision>
  <dc:subject/>
  <dc:title>Bez tytułu slajdu</dc:title>
</cp:coreProperties>
</file>