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6C0-AF5E-4597-AC5C-0D138BB8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211-6CD6-4336-94C1-282FF11C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CE0-1693-48D2-ADD4-03D74734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793-3203-45CA-B4A8-29964A18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0DC-353C-4E61-AA20-BA922A1D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82A-C375-45F6-8955-52AC6D67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B80-2ADE-4117-A30D-8F77C379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DB7-310B-4B61-BF79-734DBF63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C07-C388-47BD-99C3-F18D4322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29A-84C3-4E6E-8986-DF9C5711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44A-B6AE-4439-8AB5-082B3F64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D6F-110F-4EF8-816A-DE1C421A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06EF-3718-476D-B9BA-866F6E768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ętla P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32004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3200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1752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600200" y="1752480"/>
            <a:ext cx="586728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48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09588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3200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95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048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048120" y="20574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600200" y="48769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09480" y="11426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990720"/>
            <a:ext cx="1905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napię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160020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MS Shell Dlg"/>
              </a:rPr>
              <a:t>Z 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= zakres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3276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60020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3352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33526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696080" y="12952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124080" y="4343400"/>
            <a:ext cx="40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S Shell Dlg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= zakres trzy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243828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hylenie=1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43434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3809880"/>
            <a:ext cx="1066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kres trzymania oraz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00400" y="266688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2280" y="42670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12120" y="45720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y model pętli fazowej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09480" y="3733920"/>
                <a:ext cx="2590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85800" y="4648320"/>
                <a:ext cx="2514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6019920"/>
                <a:ext cx="3289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340520" y="4778280"/>
            <a:ext cx="4596840" cy="745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3800" y="6118200"/>
            <a:ext cx="11224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łąd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80880" y="1192320"/>
            <a:ext cx="7747920" cy="2260440"/>
            <a:chOff x="380880" y="1192320"/>
            <a:chExt cx="7747920" cy="2260440"/>
          </a:xfrm>
        </p:grpSpPr>
        <p:sp>
          <p:nvSpPr>
            <p:cNvPr id="238" name=""/>
            <p:cNvSpPr/>
            <p:nvPr/>
          </p:nvSpPr>
          <p:spPr>
            <a:xfrm>
              <a:off x="1320120" y="26668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25520" y="271296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58720" y="2824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3880" y="27320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696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8120" y="2403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0600" y="2311560"/>
              <a:ext cx="70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+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4920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51080" y="240336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08320" y="23115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649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33720" y="2311560"/>
              <a:ext cx="14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381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13760" y="2311560"/>
              <a:ext cx="351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                                     Faz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55720" y="2168640"/>
              <a:ext cx="933480" cy="857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25800" y="24368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53600" y="252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8812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686640" y="2457360"/>
              <a:ext cx="106200" cy="501840"/>
              <a:chOff x="6686640" y="2457360"/>
              <a:chExt cx="106200" cy="501840"/>
            </a:xfrm>
          </p:grpSpPr>
          <p:sp>
            <p:nvSpPr>
              <p:cNvPr id="257" name=""/>
              <p:cNvSpPr/>
              <p:nvPr/>
            </p:nvSpPr>
            <p:spPr>
              <a:xfrm>
                <a:off x="6686640" y="2703600"/>
                <a:ext cx="10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93480" y="24573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705000" y="27306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484344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08480" y="24541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6640" y="254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70240" y="2182680"/>
              <a:ext cx="93204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79120" y="2454120"/>
              <a:ext cx="31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679840" y="2556000"/>
              <a:ext cx="576000" cy="96840"/>
              <a:chOff x="2679840" y="2556000"/>
              <a:chExt cx="576000" cy="96840"/>
            </a:xfrm>
          </p:grpSpPr>
          <p:sp>
            <p:nvSpPr>
              <p:cNvPr id="266" name=""/>
              <p:cNvSpPr/>
              <p:nvPr/>
            </p:nvSpPr>
            <p:spPr>
              <a:xfrm>
                <a:off x="2679840" y="2601720"/>
                <a:ext cx="576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59000" y="255600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211640" y="2570040"/>
              <a:ext cx="617400" cy="96840"/>
              <a:chOff x="4211640" y="2570040"/>
              <a:chExt cx="617400" cy="96840"/>
            </a:xfrm>
          </p:grpSpPr>
          <p:sp>
            <p:nvSpPr>
              <p:cNvPr id="269" name=""/>
              <p:cNvSpPr/>
              <p:nvPr/>
            </p:nvSpPr>
            <p:spPr>
              <a:xfrm>
                <a:off x="4211640" y="2616120"/>
                <a:ext cx="617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32200" y="257004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5780160" y="2570040"/>
              <a:ext cx="493560" cy="96840"/>
              <a:chOff x="5780160" y="2570040"/>
              <a:chExt cx="493560" cy="96840"/>
            </a:xfrm>
          </p:grpSpPr>
          <p:sp>
            <p:nvSpPr>
              <p:cNvPr id="272" name=""/>
              <p:cNvSpPr/>
              <p:nvPr/>
            </p:nvSpPr>
            <p:spPr>
              <a:xfrm>
                <a:off x="5780160" y="2616120"/>
                <a:ext cx="493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76880" y="257004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225440" y="2556000"/>
              <a:ext cx="549360" cy="96840"/>
              <a:chOff x="1225440" y="2556000"/>
              <a:chExt cx="549360" cy="96840"/>
            </a:xfrm>
          </p:grpSpPr>
          <p:sp>
            <p:nvSpPr>
              <p:cNvPr id="275" name=""/>
              <p:cNvSpPr/>
              <p:nvPr/>
            </p:nvSpPr>
            <p:spPr>
              <a:xfrm>
                <a:off x="1225440" y="2601720"/>
                <a:ext cx="54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779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31640" y="2556000"/>
              <a:ext cx="563760" cy="96840"/>
              <a:chOff x="431640" y="2556000"/>
              <a:chExt cx="563760" cy="96840"/>
            </a:xfrm>
          </p:grpSpPr>
          <p:sp>
            <p:nvSpPr>
              <p:cNvPr id="278" name=""/>
              <p:cNvSpPr/>
              <p:nvPr/>
            </p:nvSpPr>
            <p:spPr>
              <a:xfrm>
                <a:off x="431640" y="2601720"/>
                <a:ext cx="563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985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068480" y="2680920"/>
              <a:ext cx="96840" cy="765000"/>
              <a:chOff x="1068480" y="2680920"/>
              <a:chExt cx="96840" cy="76500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1114560" y="2680920"/>
                <a:ext cx="1800" cy="76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8480" y="26812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7224840" y="260208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95400" y="2500200"/>
              <a:ext cx="220680" cy="20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36800" y="2529000"/>
              <a:ext cx="161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007640" y="2529000"/>
              <a:ext cx="15732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38320" y="3451320"/>
              <a:ext cx="648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26240" y="2602080"/>
              <a:ext cx="180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24600" y="1865160"/>
              <a:ext cx="766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60480"/>
              <a:ext cx="144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92920" y="2589120"/>
              <a:ext cx="601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97800" y="2589120"/>
              <a:ext cx="651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880" y="2575080"/>
              <a:ext cx="651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3480" y="257508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67640" y="183672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02960" y="1827360"/>
              <a:ext cx="346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[V/rad]                     [V/V]                  [rad/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44720" y="191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09880" y="18273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13080" y="1785960"/>
              <a:ext cx="66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Pulsac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8320" y="275436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9480" y="286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2840" y="27734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2039760" y="975960"/>
              <a:ext cx="185760" cy="137340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400"/>
                <a:gd name="textAreaBottom" fmla="*/ 1337760 h 13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3862440" y="955800"/>
              <a:ext cx="185760" cy="13730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6205320" y="615960"/>
              <a:ext cx="185760" cy="20523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53280 h 2052360"/>
                <a:gd name="textAreaBottom" fmla="*/ 1999080 h 20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3720" y="1192320"/>
              <a:ext cx="533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tektor fazy                               Filtr                                                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492080" y="3781440"/>
            <a:ext cx="2733480" cy="398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s) - transmitancja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7760" y="3995640"/>
            <a:ext cx="6793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68800" y="6272280"/>
            <a:ext cx="557280" cy="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7560" y="5121360"/>
            <a:ext cx="542880" cy="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0880" y="1600200"/>
                <a:ext cx="3505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80880" y="2362320"/>
                <a:ext cx="4267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6477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1517400" y="30492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stanie synchronizmu zachodzą związ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80880" y="4718160"/>
                <a:ext cx="33530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80880" y="5638680"/>
                <a:ext cx="2514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5503320" y="1557360"/>
            <a:ext cx="281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ulsacja zmian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gnału wejści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0880" y="571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rzy skoku jednostkowym fazy przebiegu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przy skoku jednostkowym częstotliwości przebiegu we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1320" y="304920"/>
            <a:ext cx="77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fazy i częstotliwości na wejściu i wyjściu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47040" y="1074600"/>
            <a:ext cx="8114400" cy="4607640"/>
            <a:chOff x="347040" y="1074600"/>
            <a:chExt cx="8114400" cy="4607640"/>
          </a:xfrm>
        </p:grpSpPr>
        <p:sp>
          <p:nvSpPr>
            <p:cNvPr id="321" name=""/>
            <p:cNvSpPr/>
            <p:nvPr/>
          </p:nvSpPr>
          <p:spPr>
            <a:xfrm>
              <a:off x="347040" y="1074600"/>
              <a:ext cx="4408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                            b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58920" y="143820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53240" y="153972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0508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57280" y="143820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8760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18040" y="3227400"/>
              <a:ext cx="376560" cy="2602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86440" y="324972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5880" y="5468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31360" y="541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84920" y="2455920"/>
              <a:ext cx="268200" cy="311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39640" y="2478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33600" y="2579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649840" y="3189240"/>
              <a:ext cx="282600" cy="293760"/>
              <a:chOff x="5649840" y="3189240"/>
              <a:chExt cx="282600" cy="293760"/>
            </a:xfrm>
          </p:grpSpPr>
          <p:sp>
            <p:nvSpPr>
              <p:cNvPr id="335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5369040" y="2055960"/>
              <a:ext cx="1973160" cy="1439640"/>
            </a:xfrm>
            <a:custGeom>
              <a:avLst/>
              <a:gdLst/>
              <a:ahLst/>
              <a:rect l="l" t="t" r="r" b="b"/>
              <a:pathLst>
                <a:path w="1243" h="907">
                  <a:moveTo>
                    <a:pt x="11" y="907"/>
                  </a:moveTo>
                  <a:lnTo>
                    <a:pt x="51" y="907"/>
                  </a:lnTo>
                  <a:lnTo>
                    <a:pt x="51" y="899"/>
                  </a:lnTo>
                  <a:lnTo>
                    <a:pt x="59" y="899"/>
                  </a:lnTo>
                  <a:lnTo>
                    <a:pt x="67" y="894"/>
                  </a:lnTo>
                  <a:lnTo>
                    <a:pt x="75" y="894"/>
                  </a:lnTo>
                  <a:lnTo>
                    <a:pt x="83" y="889"/>
                  </a:lnTo>
                  <a:lnTo>
                    <a:pt x="102" y="889"/>
                  </a:lnTo>
                  <a:lnTo>
                    <a:pt x="102" y="883"/>
                  </a:lnTo>
                  <a:lnTo>
                    <a:pt x="126" y="883"/>
                  </a:lnTo>
                  <a:lnTo>
                    <a:pt x="126" y="875"/>
                  </a:lnTo>
                  <a:lnTo>
                    <a:pt x="134" y="875"/>
                  </a:lnTo>
                  <a:lnTo>
                    <a:pt x="134" y="870"/>
                  </a:lnTo>
                  <a:lnTo>
                    <a:pt x="142" y="870"/>
                  </a:lnTo>
                  <a:lnTo>
                    <a:pt x="142" y="864"/>
                  </a:lnTo>
                  <a:lnTo>
                    <a:pt x="158" y="864"/>
                  </a:lnTo>
                  <a:lnTo>
                    <a:pt x="158" y="859"/>
                  </a:lnTo>
                  <a:lnTo>
                    <a:pt x="177" y="859"/>
                  </a:lnTo>
                  <a:lnTo>
                    <a:pt x="177" y="851"/>
                  </a:lnTo>
                  <a:lnTo>
                    <a:pt x="185" y="851"/>
                  </a:lnTo>
                  <a:lnTo>
                    <a:pt x="193" y="846"/>
                  </a:lnTo>
                  <a:lnTo>
                    <a:pt x="201" y="846"/>
                  </a:lnTo>
                  <a:lnTo>
                    <a:pt x="210" y="840"/>
                  </a:lnTo>
                  <a:lnTo>
                    <a:pt x="226" y="840"/>
                  </a:lnTo>
                  <a:lnTo>
                    <a:pt x="226" y="835"/>
                  </a:lnTo>
                  <a:lnTo>
                    <a:pt x="252" y="835"/>
                  </a:lnTo>
                  <a:lnTo>
                    <a:pt x="252" y="827"/>
                  </a:lnTo>
                  <a:lnTo>
                    <a:pt x="261" y="827"/>
                  </a:lnTo>
                  <a:lnTo>
                    <a:pt x="261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93" y="816"/>
                  </a:lnTo>
                  <a:lnTo>
                    <a:pt x="293" y="811"/>
                  </a:lnTo>
                  <a:lnTo>
                    <a:pt x="309" y="811"/>
                  </a:lnTo>
                  <a:lnTo>
                    <a:pt x="309" y="803"/>
                  </a:lnTo>
                  <a:lnTo>
                    <a:pt x="325" y="803"/>
                  </a:lnTo>
                  <a:lnTo>
                    <a:pt x="325" y="797"/>
                  </a:lnTo>
                  <a:lnTo>
                    <a:pt x="344" y="797"/>
                  </a:lnTo>
                  <a:lnTo>
                    <a:pt x="344" y="792"/>
                  </a:lnTo>
                  <a:lnTo>
                    <a:pt x="360" y="792"/>
                  </a:lnTo>
                  <a:lnTo>
                    <a:pt x="360" y="787"/>
                  </a:lnTo>
                  <a:lnTo>
                    <a:pt x="376" y="787"/>
                  </a:lnTo>
                  <a:lnTo>
                    <a:pt x="376" y="779"/>
                  </a:lnTo>
                  <a:lnTo>
                    <a:pt x="384" y="779"/>
                  </a:lnTo>
                  <a:lnTo>
                    <a:pt x="384" y="773"/>
                  </a:lnTo>
                  <a:lnTo>
                    <a:pt x="392" y="773"/>
                  </a:lnTo>
                  <a:lnTo>
                    <a:pt x="392" y="768"/>
                  </a:lnTo>
                  <a:lnTo>
                    <a:pt x="400" y="768"/>
                  </a:lnTo>
                  <a:lnTo>
                    <a:pt x="400" y="762"/>
                  </a:lnTo>
                  <a:lnTo>
                    <a:pt x="419" y="762"/>
                  </a:lnTo>
                  <a:lnTo>
                    <a:pt x="419" y="754"/>
                  </a:lnTo>
                  <a:lnTo>
                    <a:pt x="427" y="754"/>
                  </a:lnTo>
                  <a:lnTo>
                    <a:pt x="435" y="749"/>
                  </a:lnTo>
                  <a:lnTo>
                    <a:pt x="435" y="744"/>
                  </a:lnTo>
                  <a:lnTo>
                    <a:pt x="451" y="744"/>
                  </a:lnTo>
                  <a:lnTo>
                    <a:pt x="451" y="738"/>
                  </a:lnTo>
                  <a:lnTo>
                    <a:pt x="467" y="738"/>
                  </a:lnTo>
                  <a:lnTo>
                    <a:pt x="467" y="730"/>
                  </a:lnTo>
                  <a:lnTo>
                    <a:pt x="475" y="730"/>
                  </a:lnTo>
                  <a:lnTo>
                    <a:pt x="475" y="725"/>
                  </a:lnTo>
                  <a:lnTo>
                    <a:pt x="483" y="725"/>
                  </a:lnTo>
                  <a:lnTo>
                    <a:pt x="483" y="719"/>
                  </a:lnTo>
                  <a:lnTo>
                    <a:pt x="494" y="719"/>
                  </a:lnTo>
                  <a:lnTo>
                    <a:pt x="494" y="714"/>
                  </a:lnTo>
                  <a:lnTo>
                    <a:pt x="502" y="714"/>
                  </a:lnTo>
                  <a:lnTo>
                    <a:pt x="502" y="706"/>
                  </a:lnTo>
                  <a:lnTo>
                    <a:pt x="510" y="706"/>
                  </a:lnTo>
                  <a:lnTo>
                    <a:pt x="510" y="695"/>
                  </a:lnTo>
                  <a:lnTo>
                    <a:pt x="518" y="695"/>
                  </a:lnTo>
                  <a:lnTo>
                    <a:pt x="518" y="690"/>
                  </a:lnTo>
                  <a:lnTo>
                    <a:pt x="526" y="690"/>
                  </a:lnTo>
                  <a:lnTo>
                    <a:pt x="526" y="676"/>
                  </a:lnTo>
                  <a:lnTo>
                    <a:pt x="534" y="676"/>
                  </a:lnTo>
                  <a:lnTo>
                    <a:pt x="534" y="666"/>
                  </a:lnTo>
                  <a:lnTo>
                    <a:pt x="543" y="666"/>
                  </a:lnTo>
                  <a:lnTo>
                    <a:pt x="543" y="652"/>
                  </a:lnTo>
                  <a:lnTo>
                    <a:pt x="551" y="652"/>
                  </a:lnTo>
                  <a:lnTo>
                    <a:pt x="551" y="647"/>
                  </a:lnTo>
                  <a:lnTo>
                    <a:pt x="559" y="647"/>
                  </a:lnTo>
                  <a:lnTo>
                    <a:pt x="559" y="642"/>
                  </a:lnTo>
                  <a:lnTo>
                    <a:pt x="567" y="642"/>
                  </a:lnTo>
                  <a:lnTo>
                    <a:pt x="567" y="634"/>
                  </a:lnTo>
                  <a:lnTo>
                    <a:pt x="577" y="634"/>
                  </a:lnTo>
                  <a:lnTo>
                    <a:pt x="577" y="628"/>
                  </a:lnTo>
                  <a:lnTo>
                    <a:pt x="585" y="623"/>
                  </a:lnTo>
                  <a:lnTo>
                    <a:pt x="594" y="623"/>
                  </a:lnTo>
                  <a:lnTo>
                    <a:pt x="594" y="617"/>
                  </a:lnTo>
                  <a:lnTo>
                    <a:pt x="602" y="617"/>
                  </a:lnTo>
                  <a:lnTo>
                    <a:pt x="602" y="599"/>
                  </a:lnTo>
                  <a:lnTo>
                    <a:pt x="610" y="599"/>
                  </a:lnTo>
                  <a:lnTo>
                    <a:pt x="610" y="585"/>
                  </a:lnTo>
                  <a:lnTo>
                    <a:pt x="626" y="574"/>
                  </a:lnTo>
                  <a:lnTo>
                    <a:pt x="626" y="569"/>
                  </a:lnTo>
                  <a:lnTo>
                    <a:pt x="634" y="556"/>
                  </a:lnTo>
                  <a:lnTo>
                    <a:pt x="634" y="550"/>
                  </a:lnTo>
                  <a:lnTo>
                    <a:pt x="642" y="550"/>
                  </a:lnTo>
                  <a:lnTo>
                    <a:pt x="642" y="537"/>
                  </a:lnTo>
                  <a:lnTo>
                    <a:pt x="653" y="531"/>
                  </a:lnTo>
                  <a:lnTo>
                    <a:pt x="653" y="521"/>
                  </a:lnTo>
                  <a:lnTo>
                    <a:pt x="661" y="521"/>
                  </a:lnTo>
                  <a:lnTo>
                    <a:pt x="661" y="502"/>
                  </a:lnTo>
                  <a:lnTo>
                    <a:pt x="669" y="502"/>
                  </a:lnTo>
                  <a:lnTo>
                    <a:pt x="669" y="489"/>
                  </a:lnTo>
                  <a:lnTo>
                    <a:pt x="677" y="483"/>
                  </a:lnTo>
                  <a:lnTo>
                    <a:pt x="677" y="472"/>
                  </a:lnTo>
                  <a:lnTo>
                    <a:pt x="685" y="472"/>
                  </a:lnTo>
                  <a:lnTo>
                    <a:pt x="685" y="459"/>
                  </a:lnTo>
                  <a:lnTo>
                    <a:pt x="693" y="459"/>
                  </a:lnTo>
                  <a:lnTo>
                    <a:pt x="693" y="448"/>
                  </a:lnTo>
                  <a:lnTo>
                    <a:pt x="701" y="440"/>
                  </a:lnTo>
                  <a:lnTo>
                    <a:pt x="701" y="424"/>
                  </a:lnTo>
                  <a:lnTo>
                    <a:pt x="709" y="424"/>
                  </a:lnTo>
                  <a:lnTo>
                    <a:pt x="709" y="411"/>
                  </a:lnTo>
                  <a:lnTo>
                    <a:pt x="717" y="411"/>
                  </a:lnTo>
                  <a:lnTo>
                    <a:pt x="717" y="400"/>
                  </a:lnTo>
                  <a:lnTo>
                    <a:pt x="725" y="400"/>
                  </a:lnTo>
                  <a:lnTo>
                    <a:pt x="725" y="381"/>
                  </a:lnTo>
                  <a:lnTo>
                    <a:pt x="736" y="381"/>
                  </a:lnTo>
                  <a:lnTo>
                    <a:pt x="736" y="368"/>
                  </a:lnTo>
                  <a:lnTo>
                    <a:pt x="744" y="362"/>
                  </a:lnTo>
                  <a:lnTo>
                    <a:pt x="744" y="352"/>
                  </a:lnTo>
                  <a:lnTo>
                    <a:pt x="752" y="338"/>
                  </a:lnTo>
                  <a:lnTo>
                    <a:pt x="752" y="333"/>
                  </a:lnTo>
                  <a:lnTo>
                    <a:pt x="760" y="327"/>
                  </a:lnTo>
                  <a:lnTo>
                    <a:pt x="760" y="309"/>
                  </a:lnTo>
                  <a:lnTo>
                    <a:pt x="768" y="309"/>
                  </a:lnTo>
                  <a:lnTo>
                    <a:pt x="768" y="290"/>
                  </a:lnTo>
                  <a:lnTo>
                    <a:pt x="776" y="290"/>
                  </a:lnTo>
                  <a:lnTo>
                    <a:pt x="776" y="271"/>
                  </a:lnTo>
                  <a:lnTo>
                    <a:pt x="784" y="266"/>
                  </a:lnTo>
                  <a:lnTo>
                    <a:pt x="784" y="260"/>
                  </a:lnTo>
                  <a:lnTo>
                    <a:pt x="792" y="252"/>
                  </a:lnTo>
                  <a:lnTo>
                    <a:pt x="792" y="242"/>
                  </a:lnTo>
                  <a:lnTo>
                    <a:pt x="803" y="242"/>
                  </a:lnTo>
                  <a:lnTo>
                    <a:pt x="803" y="231"/>
                  </a:lnTo>
                  <a:lnTo>
                    <a:pt x="811" y="231"/>
                  </a:lnTo>
                  <a:lnTo>
                    <a:pt x="811" y="223"/>
                  </a:lnTo>
                  <a:lnTo>
                    <a:pt x="819" y="217"/>
                  </a:lnTo>
                  <a:lnTo>
                    <a:pt x="819" y="212"/>
                  </a:lnTo>
                  <a:lnTo>
                    <a:pt x="827" y="212"/>
                  </a:lnTo>
                  <a:lnTo>
                    <a:pt x="827" y="207"/>
                  </a:lnTo>
                  <a:lnTo>
                    <a:pt x="835" y="207"/>
                  </a:lnTo>
                  <a:lnTo>
                    <a:pt x="835" y="193"/>
                  </a:lnTo>
                  <a:lnTo>
                    <a:pt x="843" y="193"/>
                  </a:lnTo>
                  <a:lnTo>
                    <a:pt x="843" y="188"/>
                  </a:lnTo>
                  <a:lnTo>
                    <a:pt x="851" y="188"/>
                  </a:lnTo>
                  <a:lnTo>
                    <a:pt x="851" y="182"/>
                  </a:lnTo>
                  <a:lnTo>
                    <a:pt x="859" y="182"/>
                  </a:lnTo>
                  <a:lnTo>
                    <a:pt x="859" y="169"/>
                  </a:lnTo>
                  <a:lnTo>
                    <a:pt x="867" y="169"/>
                  </a:lnTo>
                  <a:lnTo>
                    <a:pt x="867" y="164"/>
                  </a:lnTo>
                  <a:lnTo>
                    <a:pt x="876" y="164"/>
                  </a:lnTo>
                  <a:lnTo>
                    <a:pt x="876" y="158"/>
                  </a:lnTo>
                  <a:lnTo>
                    <a:pt x="884" y="158"/>
                  </a:lnTo>
                  <a:lnTo>
                    <a:pt x="884" y="145"/>
                  </a:lnTo>
                  <a:lnTo>
                    <a:pt x="894" y="145"/>
                  </a:lnTo>
                  <a:lnTo>
                    <a:pt x="894" y="140"/>
                  </a:lnTo>
                  <a:lnTo>
                    <a:pt x="902" y="140"/>
                  </a:lnTo>
                  <a:lnTo>
                    <a:pt x="902" y="131"/>
                  </a:lnTo>
                  <a:lnTo>
                    <a:pt x="918" y="131"/>
                  </a:lnTo>
                  <a:lnTo>
                    <a:pt x="918" y="126"/>
                  </a:lnTo>
                  <a:lnTo>
                    <a:pt x="927" y="126"/>
                  </a:lnTo>
                  <a:lnTo>
                    <a:pt x="927" y="121"/>
                  </a:lnTo>
                  <a:lnTo>
                    <a:pt x="935" y="121"/>
                  </a:lnTo>
                  <a:lnTo>
                    <a:pt x="935" y="115"/>
                  </a:lnTo>
                  <a:lnTo>
                    <a:pt x="943" y="115"/>
                  </a:lnTo>
                  <a:lnTo>
                    <a:pt x="943" y="110"/>
                  </a:lnTo>
                  <a:lnTo>
                    <a:pt x="959" y="110"/>
                  </a:lnTo>
                  <a:lnTo>
                    <a:pt x="959" y="102"/>
                  </a:lnTo>
                  <a:lnTo>
                    <a:pt x="967" y="102"/>
                  </a:lnTo>
                  <a:lnTo>
                    <a:pt x="967" y="97"/>
                  </a:lnTo>
                  <a:lnTo>
                    <a:pt x="978" y="97"/>
                  </a:lnTo>
                  <a:lnTo>
                    <a:pt x="986" y="91"/>
                  </a:lnTo>
                  <a:lnTo>
                    <a:pt x="994" y="91"/>
                  </a:lnTo>
                  <a:lnTo>
                    <a:pt x="994" y="86"/>
                  </a:lnTo>
                  <a:lnTo>
                    <a:pt x="1002" y="86"/>
                  </a:lnTo>
                  <a:lnTo>
                    <a:pt x="1002" y="78"/>
                  </a:lnTo>
                  <a:lnTo>
                    <a:pt x="1010" y="78"/>
                  </a:lnTo>
                  <a:lnTo>
                    <a:pt x="1010" y="72"/>
                  </a:lnTo>
                  <a:lnTo>
                    <a:pt x="1026" y="72"/>
                  </a:lnTo>
                  <a:lnTo>
                    <a:pt x="1026" y="67"/>
                  </a:lnTo>
                  <a:lnTo>
                    <a:pt x="1034" y="67"/>
                  </a:lnTo>
                  <a:lnTo>
                    <a:pt x="1034" y="62"/>
                  </a:lnTo>
                  <a:lnTo>
                    <a:pt x="1050" y="62"/>
                  </a:lnTo>
                  <a:lnTo>
                    <a:pt x="1050" y="54"/>
                  </a:lnTo>
                  <a:lnTo>
                    <a:pt x="1061" y="54"/>
                  </a:lnTo>
                  <a:lnTo>
                    <a:pt x="1061" y="48"/>
                  </a:lnTo>
                  <a:lnTo>
                    <a:pt x="1069" y="48"/>
                  </a:lnTo>
                  <a:lnTo>
                    <a:pt x="1069" y="43"/>
                  </a:lnTo>
                  <a:lnTo>
                    <a:pt x="1085" y="43"/>
                  </a:lnTo>
                  <a:lnTo>
                    <a:pt x="1093" y="37"/>
                  </a:lnTo>
                  <a:lnTo>
                    <a:pt x="1117" y="37"/>
                  </a:lnTo>
                  <a:lnTo>
                    <a:pt x="1128" y="29"/>
                  </a:lnTo>
                  <a:lnTo>
                    <a:pt x="1136" y="29"/>
                  </a:lnTo>
                  <a:lnTo>
                    <a:pt x="1136" y="24"/>
                  </a:lnTo>
                  <a:lnTo>
                    <a:pt x="1160" y="24"/>
                  </a:lnTo>
                  <a:lnTo>
                    <a:pt x="1160" y="19"/>
                  </a:lnTo>
                  <a:lnTo>
                    <a:pt x="1176" y="19"/>
                  </a:lnTo>
                  <a:lnTo>
                    <a:pt x="1176" y="11"/>
                  </a:lnTo>
                  <a:lnTo>
                    <a:pt x="1209" y="11"/>
                  </a:lnTo>
                  <a:lnTo>
                    <a:pt x="1209" y="5"/>
                  </a:lnTo>
                  <a:lnTo>
                    <a:pt x="1219" y="5"/>
                  </a:lnTo>
                  <a:lnTo>
                    <a:pt x="1219" y="0"/>
                  </a:lnTo>
                  <a:lnTo>
                    <a:pt x="1243" y="0"/>
                  </a:lnTo>
                  <a:lnTo>
                    <a:pt x="1243" y="5"/>
                  </a:lnTo>
                  <a:lnTo>
                    <a:pt x="1235" y="5"/>
                  </a:lnTo>
                  <a:lnTo>
                    <a:pt x="1235" y="11"/>
                  </a:lnTo>
                  <a:lnTo>
                    <a:pt x="1219" y="11"/>
                  </a:lnTo>
                  <a:lnTo>
                    <a:pt x="1219" y="19"/>
                  </a:lnTo>
                  <a:lnTo>
                    <a:pt x="1209" y="19"/>
                  </a:lnTo>
                  <a:lnTo>
                    <a:pt x="1209" y="29"/>
                  </a:lnTo>
                  <a:lnTo>
                    <a:pt x="1200" y="29"/>
                  </a:lnTo>
                  <a:lnTo>
                    <a:pt x="1200" y="37"/>
                  </a:lnTo>
                  <a:lnTo>
                    <a:pt x="1192" y="37"/>
                  </a:lnTo>
                  <a:lnTo>
                    <a:pt x="1192" y="43"/>
                  </a:lnTo>
                  <a:lnTo>
                    <a:pt x="1184" y="43"/>
                  </a:lnTo>
                  <a:lnTo>
                    <a:pt x="1184" y="54"/>
                  </a:lnTo>
                  <a:lnTo>
                    <a:pt x="1176" y="54"/>
                  </a:lnTo>
                  <a:lnTo>
                    <a:pt x="1176" y="62"/>
                  </a:lnTo>
                  <a:lnTo>
                    <a:pt x="1168" y="62"/>
                  </a:lnTo>
                  <a:lnTo>
                    <a:pt x="1168" y="72"/>
                  </a:lnTo>
                  <a:lnTo>
                    <a:pt x="1160" y="72"/>
                  </a:lnTo>
                  <a:lnTo>
                    <a:pt x="1160" y="78"/>
                  </a:lnTo>
                  <a:lnTo>
                    <a:pt x="1152" y="78"/>
                  </a:lnTo>
                  <a:lnTo>
                    <a:pt x="1152" y="86"/>
                  </a:lnTo>
                  <a:lnTo>
                    <a:pt x="1144" y="86"/>
                  </a:lnTo>
                  <a:lnTo>
                    <a:pt x="1144" y="97"/>
                  </a:lnTo>
                  <a:lnTo>
                    <a:pt x="1136" y="97"/>
                  </a:lnTo>
                  <a:lnTo>
                    <a:pt x="1136" y="102"/>
                  </a:lnTo>
                  <a:lnTo>
                    <a:pt x="1128" y="102"/>
                  </a:lnTo>
                  <a:lnTo>
                    <a:pt x="1128" y="110"/>
                  </a:lnTo>
                  <a:lnTo>
                    <a:pt x="1117" y="110"/>
                  </a:lnTo>
                  <a:lnTo>
                    <a:pt x="1117" y="115"/>
                  </a:lnTo>
                  <a:lnTo>
                    <a:pt x="1109" y="115"/>
                  </a:lnTo>
                  <a:lnTo>
                    <a:pt x="1109" y="121"/>
                  </a:lnTo>
                  <a:lnTo>
                    <a:pt x="1101" y="121"/>
                  </a:lnTo>
                  <a:lnTo>
                    <a:pt x="1093" y="126"/>
                  </a:lnTo>
                  <a:lnTo>
                    <a:pt x="1085" y="126"/>
                  </a:lnTo>
                  <a:lnTo>
                    <a:pt x="1085" y="131"/>
                  </a:lnTo>
                  <a:lnTo>
                    <a:pt x="1077" y="140"/>
                  </a:lnTo>
                  <a:lnTo>
                    <a:pt x="1069" y="140"/>
                  </a:lnTo>
                  <a:lnTo>
                    <a:pt x="1069" y="150"/>
                  </a:lnTo>
                  <a:lnTo>
                    <a:pt x="1061" y="150"/>
                  </a:lnTo>
                  <a:lnTo>
                    <a:pt x="1061" y="158"/>
                  </a:lnTo>
                  <a:lnTo>
                    <a:pt x="1050" y="158"/>
                  </a:lnTo>
                  <a:lnTo>
                    <a:pt x="1050" y="164"/>
                  </a:lnTo>
                  <a:lnTo>
                    <a:pt x="1045" y="164"/>
                  </a:lnTo>
                  <a:lnTo>
                    <a:pt x="1045" y="174"/>
                  </a:lnTo>
                  <a:lnTo>
                    <a:pt x="1034" y="174"/>
                  </a:lnTo>
                  <a:lnTo>
                    <a:pt x="1034" y="188"/>
                  </a:lnTo>
                  <a:lnTo>
                    <a:pt x="1026" y="188"/>
                  </a:lnTo>
                  <a:lnTo>
                    <a:pt x="1026" y="193"/>
                  </a:lnTo>
                  <a:lnTo>
                    <a:pt x="1018" y="193"/>
                  </a:lnTo>
                  <a:lnTo>
                    <a:pt x="1018" y="199"/>
                  </a:lnTo>
                  <a:lnTo>
                    <a:pt x="1010" y="199"/>
                  </a:lnTo>
                  <a:lnTo>
                    <a:pt x="1002" y="207"/>
                  </a:lnTo>
                  <a:lnTo>
                    <a:pt x="1002" y="212"/>
                  </a:lnTo>
                  <a:lnTo>
                    <a:pt x="994" y="212"/>
                  </a:lnTo>
                  <a:lnTo>
                    <a:pt x="994" y="217"/>
                  </a:lnTo>
                  <a:lnTo>
                    <a:pt x="986" y="217"/>
                  </a:lnTo>
                  <a:lnTo>
                    <a:pt x="986" y="223"/>
                  </a:lnTo>
                  <a:lnTo>
                    <a:pt x="978" y="223"/>
                  </a:lnTo>
                  <a:lnTo>
                    <a:pt x="978" y="231"/>
                  </a:lnTo>
                  <a:lnTo>
                    <a:pt x="967" y="231"/>
                  </a:lnTo>
                  <a:lnTo>
                    <a:pt x="967" y="242"/>
                  </a:lnTo>
                  <a:lnTo>
                    <a:pt x="959" y="247"/>
                  </a:lnTo>
                  <a:lnTo>
                    <a:pt x="951" y="247"/>
                  </a:lnTo>
                  <a:lnTo>
                    <a:pt x="951" y="252"/>
                  </a:lnTo>
                  <a:lnTo>
                    <a:pt x="943" y="252"/>
                  </a:lnTo>
                  <a:lnTo>
                    <a:pt x="943" y="266"/>
                  </a:lnTo>
                  <a:lnTo>
                    <a:pt x="935" y="266"/>
                  </a:lnTo>
                  <a:lnTo>
                    <a:pt x="935" y="271"/>
                  </a:lnTo>
                  <a:lnTo>
                    <a:pt x="927" y="271"/>
                  </a:lnTo>
                  <a:lnTo>
                    <a:pt x="927" y="279"/>
                  </a:lnTo>
                  <a:lnTo>
                    <a:pt x="918" y="279"/>
                  </a:lnTo>
                  <a:lnTo>
                    <a:pt x="918" y="284"/>
                  </a:lnTo>
                  <a:lnTo>
                    <a:pt x="910" y="284"/>
                  </a:lnTo>
                  <a:lnTo>
                    <a:pt x="910" y="290"/>
                  </a:lnTo>
                  <a:lnTo>
                    <a:pt x="902" y="290"/>
                  </a:lnTo>
                  <a:lnTo>
                    <a:pt x="902" y="295"/>
                  </a:lnTo>
                  <a:lnTo>
                    <a:pt x="884" y="295"/>
                  </a:lnTo>
                  <a:lnTo>
                    <a:pt x="884" y="303"/>
                  </a:lnTo>
                  <a:lnTo>
                    <a:pt x="876" y="303"/>
                  </a:lnTo>
                  <a:lnTo>
                    <a:pt x="876" y="309"/>
                  </a:lnTo>
                  <a:lnTo>
                    <a:pt x="867" y="309"/>
                  </a:lnTo>
                  <a:lnTo>
                    <a:pt x="867" y="319"/>
                  </a:lnTo>
                  <a:lnTo>
                    <a:pt x="851" y="319"/>
                  </a:lnTo>
                  <a:lnTo>
                    <a:pt x="851" y="327"/>
                  </a:lnTo>
                  <a:lnTo>
                    <a:pt x="843" y="327"/>
                  </a:lnTo>
                  <a:lnTo>
                    <a:pt x="843" y="333"/>
                  </a:lnTo>
                  <a:lnTo>
                    <a:pt x="835" y="333"/>
                  </a:lnTo>
                  <a:lnTo>
                    <a:pt x="835" y="338"/>
                  </a:lnTo>
                  <a:lnTo>
                    <a:pt x="827" y="344"/>
                  </a:lnTo>
                  <a:lnTo>
                    <a:pt x="819" y="344"/>
                  </a:lnTo>
                  <a:lnTo>
                    <a:pt x="811" y="352"/>
                  </a:lnTo>
                  <a:lnTo>
                    <a:pt x="811" y="357"/>
                  </a:lnTo>
                  <a:lnTo>
                    <a:pt x="803" y="357"/>
                  </a:lnTo>
                  <a:lnTo>
                    <a:pt x="776" y="373"/>
                  </a:lnTo>
                  <a:lnTo>
                    <a:pt x="776" y="381"/>
                  </a:lnTo>
                  <a:lnTo>
                    <a:pt x="768" y="381"/>
                  </a:lnTo>
                  <a:lnTo>
                    <a:pt x="768" y="392"/>
                  </a:lnTo>
                  <a:lnTo>
                    <a:pt x="752" y="392"/>
                  </a:lnTo>
                  <a:lnTo>
                    <a:pt x="752" y="400"/>
                  </a:lnTo>
                  <a:lnTo>
                    <a:pt x="744" y="400"/>
                  </a:lnTo>
                  <a:lnTo>
                    <a:pt x="744" y="405"/>
                  </a:lnTo>
                  <a:lnTo>
                    <a:pt x="736" y="405"/>
                  </a:lnTo>
                  <a:lnTo>
                    <a:pt x="736" y="411"/>
                  </a:lnTo>
                  <a:lnTo>
                    <a:pt x="725" y="411"/>
                  </a:lnTo>
                  <a:lnTo>
                    <a:pt x="717" y="416"/>
                  </a:lnTo>
                  <a:lnTo>
                    <a:pt x="701" y="416"/>
                  </a:lnTo>
                  <a:lnTo>
                    <a:pt x="701" y="424"/>
                  </a:lnTo>
                  <a:lnTo>
                    <a:pt x="693" y="424"/>
                  </a:lnTo>
                  <a:lnTo>
                    <a:pt x="685" y="429"/>
                  </a:lnTo>
                  <a:lnTo>
                    <a:pt x="677" y="429"/>
                  </a:lnTo>
                  <a:lnTo>
                    <a:pt x="677" y="435"/>
                  </a:lnTo>
                  <a:lnTo>
                    <a:pt x="669" y="435"/>
                  </a:lnTo>
                  <a:lnTo>
                    <a:pt x="669" y="440"/>
                  </a:lnTo>
                  <a:lnTo>
                    <a:pt x="653" y="440"/>
                  </a:lnTo>
                  <a:lnTo>
                    <a:pt x="653" y="448"/>
                  </a:lnTo>
                  <a:lnTo>
                    <a:pt x="642" y="448"/>
                  </a:lnTo>
                  <a:lnTo>
                    <a:pt x="642" y="454"/>
                  </a:lnTo>
                  <a:lnTo>
                    <a:pt x="634" y="454"/>
                  </a:lnTo>
                  <a:lnTo>
                    <a:pt x="634" y="464"/>
                  </a:lnTo>
                  <a:lnTo>
                    <a:pt x="618" y="464"/>
                  </a:lnTo>
                  <a:lnTo>
                    <a:pt x="618" y="472"/>
                  </a:lnTo>
                  <a:lnTo>
                    <a:pt x="610" y="472"/>
                  </a:lnTo>
                  <a:lnTo>
                    <a:pt x="610" y="478"/>
                  </a:lnTo>
                  <a:lnTo>
                    <a:pt x="602" y="478"/>
                  </a:lnTo>
                  <a:lnTo>
                    <a:pt x="602" y="483"/>
                  </a:lnTo>
                  <a:lnTo>
                    <a:pt x="594" y="489"/>
                  </a:lnTo>
                  <a:lnTo>
                    <a:pt x="585" y="489"/>
                  </a:lnTo>
                  <a:lnTo>
                    <a:pt x="585" y="497"/>
                  </a:lnTo>
                  <a:lnTo>
                    <a:pt x="577" y="497"/>
                  </a:lnTo>
                  <a:lnTo>
                    <a:pt x="577" y="502"/>
                  </a:lnTo>
                  <a:lnTo>
                    <a:pt x="567" y="502"/>
                  </a:lnTo>
                  <a:lnTo>
                    <a:pt x="567" y="507"/>
                  </a:lnTo>
                  <a:lnTo>
                    <a:pt x="559" y="507"/>
                  </a:lnTo>
                  <a:lnTo>
                    <a:pt x="559" y="513"/>
                  </a:lnTo>
                  <a:lnTo>
                    <a:pt x="543" y="513"/>
                  </a:lnTo>
                  <a:lnTo>
                    <a:pt x="543" y="521"/>
                  </a:lnTo>
                  <a:lnTo>
                    <a:pt x="534" y="521"/>
                  </a:lnTo>
                  <a:lnTo>
                    <a:pt x="534" y="531"/>
                  </a:lnTo>
                  <a:lnTo>
                    <a:pt x="526" y="531"/>
                  </a:lnTo>
                  <a:lnTo>
                    <a:pt x="526" y="537"/>
                  </a:lnTo>
                  <a:lnTo>
                    <a:pt x="518" y="537"/>
                  </a:lnTo>
                  <a:lnTo>
                    <a:pt x="510" y="545"/>
                  </a:lnTo>
                  <a:lnTo>
                    <a:pt x="510" y="550"/>
                  </a:lnTo>
                  <a:lnTo>
                    <a:pt x="502" y="550"/>
                  </a:lnTo>
                  <a:lnTo>
                    <a:pt x="502" y="561"/>
                  </a:lnTo>
                  <a:lnTo>
                    <a:pt x="494" y="561"/>
                  </a:lnTo>
                  <a:lnTo>
                    <a:pt x="483" y="569"/>
                  </a:lnTo>
                  <a:lnTo>
                    <a:pt x="483" y="574"/>
                  </a:lnTo>
                  <a:lnTo>
                    <a:pt x="475" y="574"/>
                  </a:lnTo>
                  <a:lnTo>
                    <a:pt x="475" y="580"/>
                  </a:lnTo>
                  <a:lnTo>
                    <a:pt x="467" y="580"/>
                  </a:lnTo>
                  <a:lnTo>
                    <a:pt x="467" y="585"/>
                  </a:lnTo>
                  <a:lnTo>
                    <a:pt x="459" y="585"/>
                  </a:lnTo>
                  <a:lnTo>
                    <a:pt x="451" y="593"/>
                  </a:lnTo>
                  <a:lnTo>
                    <a:pt x="443" y="593"/>
                  </a:lnTo>
                  <a:lnTo>
                    <a:pt x="443" y="599"/>
                  </a:lnTo>
                  <a:lnTo>
                    <a:pt x="435" y="599"/>
                  </a:lnTo>
                  <a:lnTo>
                    <a:pt x="435" y="604"/>
                  </a:lnTo>
                  <a:lnTo>
                    <a:pt x="427" y="604"/>
                  </a:lnTo>
                  <a:lnTo>
                    <a:pt x="427" y="609"/>
                  </a:lnTo>
                  <a:lnTo>
                    <a:pt x="411" y="609"/>
                  </a:lnTo>
                  <a:lnTo>
                    <a:pt x="411" y="617"/>
                  </a:lnTo>
                  <a:lnTo>
                    <a:pt x="400" y="617"/>
                  </a:lnTo>
                  <a:lnTo>
                    <a:pt x="400" y="628"/>
                  </a:lnTo>
                  <a:lnTo>
                    <a:pt x="392" y="628"/>
                  </a:lnTo>
                  <a:lnTo>
                    <a:pt x="392" y="634"/>
                  </a:lnTo>
                  <a:lnTo>
                    <a:pt x="376" y="634"/>
                  </a:lnTo>
                  <a:lnTo>
                    <a:pt x="376" y="647"/>
                  </a:lnTo>
                  <a:lnTo>
                    <a:pt x="368" y="647"/>
                  </a:lnTo>
                  <a:lnTo>
                    <a:pt x="352" y="658"/>
                  </a:lnTo>
                  <a:lnTo>
                    <a:pt x="344" y="658"/>
                  </a:lnTo>
                  <a:lnTo>
                    <a:pt x="344" y="666"/>
                  </a:lnTo>
                  <a:lnTo>
                    <a:pt x="336" y="666"/>
                  </a:lnTo>
                  <a:lnTo>
                    <a:pt x="336" y="671"/>
                  </a:lnTo>
                  <a:lnTo>
                    <a:pt x="325" y="671"/>
                  </a:lnTo>
                  <a:lnTo>
                    <a:pt x="317" y="676"/>
                  </a:lnTo>
                  <a:lnTo>
                    <a:pt x="309" y="676"/>
                  </a:lnTo>
                  <a:lnTo>
                    <a:pt x="309" y="682"/>
                  </a:lnTo>
                  <a:lnTo>
                    <a:pt x="301" y="682"/>
                  </a:lnTo>
                  <a:lnTo>
                    <a:pt x="301" y="690"/>
                  </a:lnTo>
                  <a:lnTo>
                    <a:pt x="285" y="690"/>
                  </a:lnTo>
                  <a:lnTo>
                    <a:pt x="285" y="695"/>
                  </a:lnTo>
                  <a:lnTo>
                    <a:pt x="277" y="695"/>
                  </a:lnTo>
                  <a:lnTo>
                    <a:pt x="277" y="701"/>
                  </a:lnTo>
                  <a:lnTo>
                    <a:pt x="269" y="706"/>
                  </a:lnTo>
                  <a:lnTo>
                    <a:pt x="261" y="706"/>
                  </a:lnTo>
                  <a:lnTo>
                    <a:pt x="261" y="714"/>
                  </a:lnTo>
                  <a:lnTo>
                    <a:pt x="252" y="714"/>
                  </a:lnTo>
                  <a:lnTo>
                    <a:pt x="252" y="719"/>
                  </a:lnTo>
                  <a:lnTo>
                    <a:pt x="242" y="719"/>
                  </a:lnTo>
                  <a:lnTo>
                    <a:pt x="242" y="730"/>
                  </a:lnTo>
                  <a:lnTo>
                    <a:pt x="226" y="730"/>
                  </a:lnTo>
                  <a:lnTo>
                    <a:pt x="226" y="738"/>
                  </a:lnTo>
                  <a:lnTo>
                    <a:pt x="218" y="738"/>
                  </a:lnTo>
                  <a:lnTo>
                    <a:pt x="218" y="744"/>
                  </a:lnTo>
                  <a:lnTo>
                    <a:pt x="210" y="744"/>
                  </a:lnTo>
                  <a:lnTo>
                    <a:pt x="210" y="749"/>
                  </a:lnTo>
                  <a:lnTo>
                    <a:pt x="201" y="749"/>
                  </a:lnTo>
                  <a:lnTo>
                    <a:pt x="201" y="754"/>
                  </a:lnTo>
                  <a:lnTo>
                    <a:pt x="185" y="754"/>
                  </a:lnTo>
                  <a:lnTo>
                    <a:pt x="185" y="762"/>
                  </a:lnTo>
                  <a:lnTo>
                    <a:pt x="177" y="762"/>
                  </a:lnTo>
                  <a:lnTo>
                    <a:pt x="177" y="768"/>
                  </a:lnTo>
                  <a:lnTo>
                    <a:pt x="167" y="768"/>
                  </a:lnTo>
                  <a:lnTo>
                    <a:pt x="167" y="773"/>
                  </a:lnTo>
                  <a:lnTo>
                    <a:pt x="158" y="779"/>
                  </a:lnTo>
                  <a:lnTo>
                    <a:pt x="150" y="779"/>
                  </a:lnTo>
                  <a:lnTo>
                    <a:pt x="150" y="787"/>
                  </a:lnTo>
                  <a:lnTo>
                    <a:pt x="142" y="787"/>
                  </a:lnTo>
                  <a:lnTo>
                    <a:pt x="142" y="797"/>
                  </a:lnTo>
                  <a:lnTo>
                    <a:pt x="134" y="797"/>
                  </a:lnTo>
                  <a:lnTo>
                    <a:pt x="134" y="811"/>
                  </a:lnTo>
                  <a:lnTo>
                    <a:pt x="126" y="811"/>
                  </a:lnTo>
                  <a:lnTo>
                    <a:pt x="126" y="816"/>
                  </a:lnTo>
                  <a:lnTo>
                    <a:pt x="118" y="816"/>
                  </a:lnTo>
                  <a:lnTo>
                    <a:pt x="118" y="821"/>
                  </a:lnTo>
                  <a:lnTo>
                    <a:pt x="110" y="821"/>
                  </a:lnTo>
                  <a:lnTo>
                    <a:pt x="110" y="827"/>
                  </a:lnTo>
                  <a:lnTo>
                    <a:pt x="102" y="827"/>
                  </a:lnTo>
                  <a:lnTo>
                    <a:pt x="102" y="835"/>
                  </a:lnTo>
                  <a:lnTo>
                    <a:pt x="83" y="835"/>
                  </a:lnTo>
                  <a:lnTo>
                    <a:pt x="83" y="840"/>
                  </a:lnTo>
                  <a:lnTo>
                    <a:pt x="75" y="840"/>
                  </a:lnTo>
                  <a:lnTo>
                    <a:pt x="75" y="846"/>
                  </a:lnTo>
                  <a:lnTo>
                    <a:pt x="67" y="846"/>
                  </a:lnTo>
                  <a:lnTo>
                    <a:pt x="67" y="851"/>
                  </a:lnTo>
                  <a:lnTo>
                    <a:pt x="59" y="851"/>
                  </a:lnTo>
                  <a:lnTo>
                    <a:pt x="59" y="859"/>
                  </a:lnTo>
                  <a:lnTo>
                    <a:pt x="51" y="859"/>
                  </a:lnTo>
                  <a:lnTo>
                    <a:pt x="51" y="864"/>
                  </a:lnTo>
                  <a:lnTo>
                    <a:pt x="43" y="864"/>
                  </a:lnTo>
                  <a:lnTo>
                    <a:pt x="43" y="875"/>
                  </a:lnTo>
                  <a:lnTo>
                    <a:pt x="35" y="875"/>
                  </a:lnTo>
                  <a:lnTo>
                    <a:pt x="35" y="883"/>
                  </a:lnTo>
                  <a:lnTo>
                    <a:pt x="27" y="883"/>
                  </a:lnTo>
                  <a:lnTo>
                    <a:pt x="27" y="889"/>
                  </a:lnTo>
                  <a:lnTo>
                    <a:pt x="19" y="889"/>
                  </a:lnTo>
                  <a:lnTo>
                    <a:pt x="19" y="894"/>
                  </a:lnTo>
                  <a:lnTo>
                    <a:pt x="11" y="894"/>
                  </a:lnTo>
                  <a:lnTo>
                    <a:pt x="11" y="899"/>
                  </a:lnTo>
                  <a:lnTo>
                    <a:pt x="0" y="899"/>
                  </a:lnTo>
                  <a:lnTo>
                    <a:pt x="0" y="907"/>
                  </a:lnTo>
                  <a:lnTo>
                    <a:pt x="51" y="907"/>
                  </a:lnTo>
                  <a:lnTo>
                    <a:pt x="11" y="90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648480" y="4549680"/>
              <a:ext cx="374760" cy="81000"/>
              <a:chOff x="6648480" y="4549680"/>
              <a:chExt cx="374760" cy="81000"/>
            </a:xfrm>
          </p:grpSpPr>
          <p:sp>
            <p:nvSpPr>
              <p:cNvPr id="339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760840" y="5384880"/>
              <a:ext cx="374400" cy="93600"/>
              <a:chOff x="2760840" y="5384880"/>
              <a:chExt cx="374400" cy="93600"/>
            </a:xfrm>
          </p:grpSpPr>
          <p:sp>
            <p:nvSpPr>
              <p:cNvPr id="342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401920" y="5384880"/>
              <a:ext cx="371520" cy="93600"/>
              <a:chOff x="2401920" y="5384880"/>
              <a:chExt cx="371520" cy="93600"/>
            </a:xfrm>
          </p:grpSpPr>
          <p:sp>
            <p:nvSpPr>
              <p:cNvPr id="345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546280" y="2174760"/>
              <a:ext cx="733320" cy="243000"/>
              <a:chOff x="2546280" y="2174760"/>
              <a:chExt cx="733320" cy="243000"/>
            </a:xfrm>
          </p:grpSpPr>
          <p:sp>
            <p:nvSpPr>
              <p:cNvPr id="348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  <a:lnTo>
                      <a:pt x="462" y="15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011400" y="2187720"/>
              <a:ext cx="306360" cy="29880"/>
              <a:chOff x="3011400" y="2187720"/>
              <a:chExt cx="306360" cy="29880"/>
            </a:xfrm>
          </p:grpSpPr>
          <p:sp>
            <p:nvSpPr>
              <p:cNvPr id="351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3876840" y="2124000"/>
              <a:ext cx="293400" cy="68400"/>
              <a:chOff x="3876840" y="2124000"/>
              <a:chExt cx="293400" cy="684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664080" y="2017800"/>
              <a:ext cx="199800" cy="93600"/>
              <a:chOff x="3664080" y="2017800"/>
              <a:chExt cx="199800" cy="93600"/>
            </a:xfrm>
          </p:grpSpPr>
          <p:sp>
            <p:nvSpPr>
              <p:cNvPr id="357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317760" y="2017800"/>
              <a:ext cx="351000" cy="156960"/>
              <a:chOff x="3317760" y="2017800"/>
              <a:chExt cx="351000" cy="156960"/>
            </a:xfrm>
          </p:grpSpPr>
          <p:sp>
            <p:nvSpPr>
              <p:cNvPr id="360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  <a:lnTo>
                      <a:pt x="221" y="9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 flipV="1">
              <a:off x="1468440" y="2055960"/>
              <a:ext cx="1440" cy="142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468440" y="2387160"/>
              <a:ext cx="109044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468440" y="2387160"/>
              <a:ext cx="34452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812960" y="1936800"/>
              <a:ext cx="576360" cy="450720"/>
              <a:chOff x="1812960" y="1936800"/>
              <a:chExt cx="576360" cy="450720"/>
            </a:xfrm>
          </p:grpSpPr>
          <p:sp>
            <p:nvSpPr>
              <p:cNvPr id="366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  <a:lnTo>
                      <a:pt x="363" y="284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2384280" y="1936800"/>
              <a:ext cx="376560" cy="131760"/>
              <a:chOff x="2384280" y="1936800"/>
              <a:chExt cx="376560" cy="131760"/>
            </a:xfrm>
          </p:grpSpPr>
          <p:sp>
            <p:nvSpPr>
              <p:cNvPr id="369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flipV="1">
              <a:off x="1459080" y="2068560"/>
              <a:ext cx="27795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2760840" y="2081160"/>
              <a:ext cx="374400" cy="136440"/>
              <a:chOff x="2760840" y="2081160"/>
              <a:chExt cx="374400" cy="136440"/>
            </a:xfrm>
          </p:grpSpPr>
          <p:sp>
            <p:nvSpPr>
              <p:cNvPr id="373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3305160" y="2174760"/>
              <a:ext cx="9334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998800" y="2174400"/>
              <a:ext cx="149040" cy="1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112920" y="2212920"/>
              <a:ext cx="9720" cy="3162240"/>
              <a:chOff x="3112920" y="2212920"/>
              <a:chExt cx="9720" cy="3162240"/>
            </a:xfrm>
          </p:grpSpPr>
          <p:sp>
            <p:nvSpPr>
              <p:cNvPr id="378" name=""/>
              <p:cNvSpPr/>
              <p:nvPr/>
            </p:nvSpPr>
            <p:spPr>
              <a:xfrm>
                <a:off x="3112920" y="2212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12920" y="2230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112920" y="2247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12920" y="2263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12920" y="2281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12920" y="2298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12920" y="231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12920" y="2332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12920" y="234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12920" y="2367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12920" y="2384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12920" y="2400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12920" y="2417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12920" y="2435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12920" y="2452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12920" y="2468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12920" y="2486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12920" y="2503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12920" y="252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12920" y="2536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12920" y="2554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12920" y="257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12920" y="2589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12920" y="2604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2920" y="2622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12920" y="2639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2920" y="2655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12920" y="2673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12920" y="269064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112920" y="2708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12920" y="272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12920" y="2741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12920" y="2759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12920" y="277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12920" y="2792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112920" y="2809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12920" y="2827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112920" y="284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112920" y="2860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12920" y="2878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12920" y="2895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12920" y="2913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12920" y="2928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12920" y="294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12920" y="2963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12920" y="29811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112920" y="2997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12920" y="3014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12920" y="303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12920" y="3048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112920" y="3065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12920" y="3083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12920" y="3100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12920" y="31161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1292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12920" y="315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12920" y="3168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12920" y="31845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12920" y="320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12920" y="3219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12920" y="3236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129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12920" y="3270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12920" y="3287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12920" y="3305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12920" y="33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12920" y="3338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12920" y="3355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12920" y="337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12920" y="3389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12920" y="340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12920" y="342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12920" y="34401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112920" y="34574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12920" y="3475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12920" y="3492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12920" y="3508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112920" y="3525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112920" y="3543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12920" y="3560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12920" y="35766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12920" y="3594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112920" y="3611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112920" y="362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12920" y="3645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12920" y="366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12920" y="3679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12920" y="3697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12920" y="37130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2920" y="3730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12920" y="3747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12920" y="3765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3781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12920" y="3798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12920" y="3816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112920" y="3832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12920" y="3849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112920" y="3867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12920" y="388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12920" y="39006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12920" y="39178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12920" y="3935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112920" y="3952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12920" y="3968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12920" y="39862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112920" y="400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12920" y="4021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12920" y="4037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112920" y="405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12920" y="4071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12920" y="4089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12920" y="4105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12920" y="4122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12920" y="4140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12920" y="4157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112920" y="4173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112920" y="4191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12920" y="4208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12920" y="42242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12920" y="4241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12920" y="425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12920" y="4276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112920" y="4292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12920" y="4309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12920" y="4327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112920" y="4344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12920" y="4361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12920" y="4378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12920" y="4395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12920" y="4413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12920" y="4429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12920" y="4446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112920" y="4464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112920" y="448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12920" y="4497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112920" y="451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12920" y="4532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12920" y="4549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12920" y="4565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12920" y="458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12920" y="4600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12920" y="4618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112920" y="4633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12920" y="46512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12920" y="4668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12920" y="4684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12920" y="4702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12920" y="4719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12920" y="473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12920" y="4753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12920" y="4770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112920" y="4788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112920" y="4805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12920" y="4821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12920" y="4838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12920" y="4856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112920" y="4873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12920" y="4889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12920" y="49068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12920" y="4924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12920" y="4941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12920" y="4957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12920" y="4975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12920" y="4992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112920" y="5010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112920" y="5025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12920" y="5043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112920" y="5060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112920" y="5076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12920" y="5094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12920" y="511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12920" y="5129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12920" y="5145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12920" y="5162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12920" y="5180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112920" y="5197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12920" y="5213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12920" y="5230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12920" y="5248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12920" y="526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112920" y="5281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112920" y="5299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112920" y="5316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112920" y="5334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112920" y="5349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112920" y="536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1468440" y="4361040"/>
              <a:ext cx="68400" cy="1011240"/>
              <a:chOff x="1468440" y="4361040"/>
              <a:chExt cx="68400" cy="1011240"/>
            </a:xfrm>
          </p:grpSpPr>
          <p:sp>
            <p:nvSpPr>
              <p:cNvPr id="565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  <a:lnTo>
                      <a:pt x="43" y="63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1549440" y="4373640"/>
              <a:ext cx="76320" cy="68040"/>
              <a:chOff x="1549440" y="4373640"/>
              <a:chExt cx="76320" cy="680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1638360" y="4438800"/>
              <a:ext cx="763560" cy="9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130560" y="5334120"/>
              <a:ext cx="174600" cy="38160"/>
              <a:chOff x="3130560" y="5334120"/>
              <a:chExt cx="174600" cy="38160"/>
            </a:xfrm>
          </p:grpSpPr>
          <p:sp>
            <p:nvSpPr>
              <p:cNvPr id="572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110" y="24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3330720" y="5334120"/>
              <a:ext cx="174600" cy="38160"/>
              <a:chOff x="3330720" y="5334120"/>
              <a:chExt cx="174600" cy="38160"/>
            </a:xfrm>
          </p:grpSpPr>
          <p:sp>
            <p:nvSpPr>
              <p:cNvPr id="575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3532320" y="5397480"/>
              <a:ext cx="174600" cy="42840"/>
              <a:chOff x="3532320" y="5397480"/>
              <a:chExt cx="174600" cy="42840"/>
            </a:xfrm>
          </p:grpSpPr>
          <p:sp>
            <p:nvSpPr>
              <p:cNvPr id="578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1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1494000" y="4575240"/>
              <a:ext cx="68040" cy="106200"/>
              <a:chOff x="1494000" y="4575240"/>
              <a:chExt cx="68040" cy="106200"/>
            </a:xfrm>
          </p:grpSpPr>
          <p:sp>
            <p:nvSpPr>
              <p:cNvPr id="581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  <a:lnTo>
                      <a:pt x="43" y="6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1574640" y="4575240"/>
              <a:ext cx="1730520" cy="79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17760" y="5359320"/>
              <a:ext cx="268560" cy="12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6434280" y="4603680"/>
              <a:ext cx="738000" cy="149400"/>
              <a:chOff x="6434280" y="4603680"/>
              <a:chExt cx="738000" cy="149400"/>
            </a:xfrm>
          </p:grpSpPr>
          <p:sp>
            <p:nvSpPr>
              <p:cNvPr id="586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  <a:lnTo>
                      <a:pt x="462" y="94"/>
                    </a:lnTo>
                    <a:lnTo>
                      <a:pt x="4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6904080" y="4613400"/>
              <a:ext cx="306360" cy="17280"/>
              <a:chOff x="6904080" y="4613400"/>
              <a:chExt cx="306360" cy="17280"/>
            </a:xfrm>
          </p:grpSpPr>
          <p:sp>
            <p:nvSpPr>
              <p:cNvPr id="589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7769160" y="4570560"/>
              <a:ext cx="293760" cy="42840"/>
              <a:chOff x="7769160" y="4570560"/>
              <a:chExt cx="293760" cy="42840"/>
            </a:xfrm>
          </p:grpSpPr>
          <p:sp>
            <p:nvSpPr>
              <p:cNvPr id="592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7556400" y="4506840"/>
              <a:ext cx="200160" cy="58680"/>
              <a:chOff x="7556400" y="4506840"/>
              <a:chExt cx="200160" cy="58680"/>
            </a:xfrm>
          </p:grpSpPr>
          <p:sp>
            <p:nvSpPr>
              <p:cNvPr id="595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7210440" y="4506840"/>
              <a:ext cx="345960" cy="101520"/>
              <a:chOff x="7210440" y="4506840"/>
              <a:chExt cx="345960" cy="101520"/>
            </a:xfrm>
          </p:grpSpPr>
          <p:sp>
            <p:nvSpPr>
              <p:cNvPr id="598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  <a:lnTo>
                      <a:pt x="218" y="6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 flipV="1">
              <a:off x="5356080" y="4532400"/>
              <a:ext cx="1800" cy="88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356080" y="4736880"/>
              <a:ext cx="109548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356080" y="4736880"/>
              <a:ext cx="34956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5705640" y="4459320"/>
              <a:ext cx="571320" cy="277920"/>
              <a:chOff x="5705640" y="4459320"/>
              <a:chExt cx="571320" cy="277920"/>
            </a:xfrm>
          </p:grpSpPr>
          <p:sp>
            <p:nvSpPr>
              <p:cNvPr id="604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  <a:lnTo>
                      <a:pt x="360" y="175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276960" y="4459320"/>
              <a:ext cx="374760" cy="81000"/>
              <a:chOff x="6276960" y="4459320"/>
              <a:chExt cx="374760" cy="81000"/>
            </a:xfrm>
          </p:grpSpPr>
          <p:sp>
            <p:nvSpPr>
              <p:cNvPr id="607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V="1">
              <a:off x="5351400" y="4539960"/>
              <a:ext cx="27766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97840" y="4603680"/>
              <a:ext cx="9302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891480" y="4595760"/>
              <a:ext cx="1443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5369040" y="1309680"/>
              <a:ext cx="2174760" cy="2185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342200" y="1668600"/>
              <a:ext cx="426960" cy="387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62800" y="1390680"/>
              <a:ext cx="1800" cy="571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7419960" y="1974960"/>
              <a:ext cx="88920" cy="280800"/>
              <a:chOff x="7419960" y="1974960"/>
              <a:chExt cx="88920" cy="280800"/>
            </a:xfrm>
          </p:grpSpPr>
          <p:sp>
            <p:nvSpPr>
              <p:cNvPr id="616" name=""/>
              <p:cNvSpPr/>
              <p:nvPr/>
            </p:nvSpPr>
            <p:spPr>
              <a:xfrm>
                <a:off x="7462800" y="1974960"/>
                <a:ext cx="1800" cy="28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419960" y="19749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56"/>
                    </a:moveTo>
                    <a:lnTo>
                      <a:pt x="27" y="0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7415280" y="1096560"/>
              <a:ext cx="88920" cy="281520"/>
              <a:chOff x="7415280" y="1096560"/>
              <a:chExt cx="88920" cy="281520"/>
            </a:xfrm>
          </p:grpSpPr>
          <p:sp>
            <p:nvSpPr>
              <p:cNvPr id="619" name=""/>
              <p:cNvSpPr/>
              <p:nvPr/>
            </p:nvSpPr>
            <p:spPr>
              <a:xfrm flipV="1">
                <a:off x="7462800" y="1096560"/>
                <a:ext cx="1800" cy="281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15280" y="12891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30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5940360" y="2882880"/>
              <a:ext cx="587520" cy="485640"/>
              <a:chOff x="5940360" y="2882880"/>
              <a:chExt cx="587520" cy="485640"/>
            </a:xfrm>
          </p:grpSpPr>
          <p:sp>
            <p:nvSpPr>
              <p:cNvPr id="622" name=""/>
              <p:cNvSpPr/>
              <p:nvPr/>
            </p:nvSpPr>
            <p:spPr>
              <a:xfrm>
                <a:off x="5940360" y="3359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52960" y="33465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965920" y="3338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978520" y="33256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991120" y="331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004080" y="3305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21360" y="32958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33960" y="32828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046920" y="3274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59520" y="3262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0721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084720" y="3240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097680" y="322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110280" y="3219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22880" y="3206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135840" y="31971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148440" y="3184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62840" y="3176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78680" y="31640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191280" y="31561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03880" y="31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1648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30880" y="3121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3480" y="3108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56440" y="3100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69040" y="3087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81640" y="3078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94600" y="3065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307200" y="305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19800" y="304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337440" y="3035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350040" y="3022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362640" y="301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375240" y="30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388200" y="2989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400800" y="29811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413400" y="2967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426360" y="2959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438960" y="294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451560" y="2938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464160" y="292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481800" y="29163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494400" y="2903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507000" y="2895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19960" y="2882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730840" y="3214800"/>
              <a:ext cx="133560" cy="106200"/>
              <a:chOff x="5730840" y="3214800"/>
              <a:chExt cx="133560" cy="106200"/>
            </a:xfrm>
          </p:grpSpPr>
          <p:sp>
            <p:nvSpPr>
              <p:cNvPr id="668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 flipV="1">
              <a:off x="6434280" y="2801880"/>
              <a:ext cx="2826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6664320" y="2614680"/>
              <a:ext cx="52560" cy="187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29480" y="2801880"/>
              <a:ext cx="280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681200" y="2614680"/>
              <a:ext cx="212760" cy="217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93960" y="2614680"/>
              <a:ext cx="174600" cy="268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93960" y="2614680"/>
              <a:ext cx="2952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4141800" y="2187720"/>
              <a:ext cx="88920" cy="174600"/>
              <a:chOff x="4141800" y="2187720"/>
              <a:chExt cx="88920" cy="174600"/>
            </a:xfrm>
          </p:grpSpPr>
          <p:sp>
            <p:nvSpPr>
              <p:cNvPr id="677" name=""/>
              <p:cNvSpPr/>
              <p:nvPr/>
            </p:nvSpPr>
            <p:spPr>
              <a:xfrm>
                <a:off x="4183200" y="218772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141800" y="218772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57"/>
                    </a:moveTo>
                    <a:lnTo>
                      <a:pt x="26" y="0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4137120" y="1881000"/>
              <a:ext cx="88920" cy="174960"/>
              <a:chOff x="4137120" y="1881000"/>
              <a:chExt cx="88920" cy="174960"/>
            </a:xfrm>
          </p:grpSpPr>
          <p:sp>
            <p:nvSpPr>
              <p:cNvPr id="680" name=""/>
              <p:cNvSpPr/>
              <p:nvPr/>
            </p:nvSpPr>
            <p:spPr>
              <a:xfrm flipV="1">
                <a:off x="4183200" y="188100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137120" y="19670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29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810360" y="11174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046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2440" y="13399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96040" y="144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15640" y="1092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09600" y="1195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07720" y="13143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01320" y="1415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17080" y="227808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10680" y="2379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82640" y="1770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76600" y="1871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48720" y="17575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42680" y="1859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6370560" y="2093400"/>
              <a:ext cx="144720" cy="217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114960" y="2093760"/>
              <a:ext cx="25560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92080" y="3589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61600" y="3576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78200" y="3968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01680" y="4071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70280" y="419112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91960" y="429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85520" y="39560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09360" y="4059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7600" y="417816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901080" y="4280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954080" y="446400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77200" y="4565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203120" y="4076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326960" y="4178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38680" y="53672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60360" y="5468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49240" y="532908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72360" y="5430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53000" y="4476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31520" y="2013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27640" y="21146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7768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29880" y="201312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6020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400480" y="2090520"/>
              <a:ext cx="0" cy="3290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101600" y="3463920"/>
              <a:ext cx="309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1101600" y="11124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076400" y="397152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1465200" y="396360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5002200" y="398736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010120" y="11250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35680" y="3476520"/>
              <a:ext cx="34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22720" y="5394240"/>
              <a:ext cx="32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022720" y="45529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6259680" y="3141360"/>
              <a:ext cx="0" cy="129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76400" y="5407200"/>
              <a:ext cx="32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80880" y="1447920"/>
                <a:ext cx="1828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029200" y="1371600"/>
                <a:ext cx="1866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1746360" y="30492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bez filtru DP - pętla pierwsz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4280" y="12193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708120" y="2838600"/>
            <a:ext cx="5204160" cy="3381840"/>
            <a:chOff x="708120" y="2838600"/>
            <a:chExt cx="5204160" cy="3381840"/>
          </a:xfrm>
        </p:grpSpPr>
        <p:sp>
          <p:nvSpPr>
            <p:cNvPr id="740" name=""/>
            <p:cNvSpPr/>
            <p:nvPr/>
          </p:nvSpPr>
          <p:spPr>
            <a:xfrm>
              <a:off x="1324080" y="3671640"/>
              <a:ext cx="2851200" cy="66312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  <a:lnTo>
                    <a:pt x="0" y="4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24080" y="3671640"/>
              <a:ext cx="2851200" cy="66312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81160" y="3022560"/>
              <a:ext cx="180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911680" y="3030480"/>
              <a:ext cx="32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89520" y="3019320"/>
              <a:ext cx="32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4360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72120" y="3030480"/>
              <a:ext cx="32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0388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1177920" y="5690520"/>
              <a:ext cx="46400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0072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467080" y="3022560"/>
              <a:ext cx="180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46360" y="3030480"/>
              <a:ext cx="180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73320" y="3030480"/>
              <a:ext cx="180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34040" y="301932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1044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65960" y="301932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9304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21560" y="3022560"/>
              <a:ext cx="468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2308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84760" y="3022560"/>
              <a:ext cx="50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6908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49136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177920" y="3016080"/>
              <a:ext cx="46400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1177920" y="3666960"/>
              <a:ext cx="464004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1180800" y="4666680"/>
              <a:ext cx="462924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02200" y="4203360"/>
              <a:ext cx="1708200" cy="1461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80240" y="4275000"/>
              <a:ext cx="98280" cy="1425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57320" y="575928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470400" y="5759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47040" y="57592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36640" y="4576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06840" y="459072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47800" y="5529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917640" y="55450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96840" y="36306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9000" y="3303360"/>
              <a:ext cx="320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8120" y="3085920"/>
              <a:ext cx="1800" cy="43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5600" y="3085920"/>
              <a:ext cx="1440" cy="43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43040" y="3078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4200" y="3309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38080" y="307800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49240" y="330984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61560" y="3178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69840" y="3408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054760" y="5981400"/>
              <a:ext cx="23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73120" y="5733720"/>
              <a:ext cx="13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86440" y="6006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11080" y="283860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 flipH="1">
            <a:off x="4876560" y="2362320"/>
            <a:ext cx="685800" cy="6858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76640" y="6194520"/>
            <a:ext cx="64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amplitudowo-częstotliwościowe pętli I rzę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99640" y="2575080"/>
            <a:ext cx="351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60920" y="5419800"/>
            <a:ext cx="202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pulsacja zmian faz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gnału wejściow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43680" y="311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800600" y="2666880"/>
                <a:ext cx="3848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04920" y="2666880"/>
                <a:ext cx="1828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2817360" y="3049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drugi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74320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12440" y="25909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 filtr I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49520" y="4648320"/>
            <a:ext cx="780696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z filtrem I rzędu przekształca się w pętlę drugiego rzę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drugiego rzędu może być nie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1444320" y="304920"/>
            <a:ext cx="60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e filtry I rzędu stosowane w pętlach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880" y="579132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filtr dolnoprzepustowy RC; b) filtr proporcjonalno-calkujący; c) filtr aktywny proporcjonalno-całkują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0520" y="847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0880" y="221616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0520" y="4132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163520" y="1236600"/>
            <a:ext cx="497160" cy="1587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76320" y="1311120"/>
            <a:ext cx="203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49520" y="1311120"/>
            <a:ext cx="1670040" cy="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366560" y="8841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30240" y="1287360"/>
            <a:ext cx="71640" cy="572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763640" y="2795760"/>
            <a:ext cx="189000" cy="4125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859040" y="2633760"/>
            <a:ext cx="144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59040" y="3200400"/>
            <a:ext cx="1440" cy="203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99880" y="2921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44240" y="301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714320" y="157176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1714320" y="167328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879560" y="1320840"/>
            <a:ext cx="180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879560" y="1687680"/>
            <a:ext cx="180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27320" y="15382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066760" y="4986360"/>
            <a:ext cx="1800" cy="5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77920" y="4976640"/>
            <a:ext cx="65088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71880" y="5116680"/>
            <a:ext cx="1440" cy="7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22560" y="515304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879560" y="5153040"/>
            <a:ext cx="193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79560" y="5389560"/>
            <a:ext cx="19368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62280" y="5245200"/>
            <a:ext cx="78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28680" y="538956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2084400" y="5245200"/>
            <a:ext cx="650880" cy="27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814400" y="2592360"/>
            <a:ext cx="71640" cy="604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74920" y="1287360"/>
            <a:ext cx="7632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98560" y="1287360"/>
            <a:ext cx="7776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97440" y="4680000"/>
            <a:ext cx="759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03240" y="1955880"/>
            <a:ext cx="187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79360" y="254160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92160" y="261936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65360" y="2619360"/>
            <a:ext cx="125712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345680" y="21877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488600" y="2281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698480" y="363060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1698480" y="373392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63720" y="3376440"/>
            <a:ext cx="144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63720" y="3746520"/>
            <a:ext cx="144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27320" y="36133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85960" y="399744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30240" y="4680000"/>
            <a:ext cx="7164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6056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3204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77920" y="463392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90720" y="4707000"/>
            <a:ext cx="204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63920" y="4707000"/>
            <a:ext cx="24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4424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8716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185840" y="4633920"/>
            <a:ext cx="49068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92160" y="470700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70040" y="4707000"/>
            <a:ext cx="237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34568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8860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2576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1370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3246120" y="4711680"/>
            <a:ext cx="762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2695680" y="4711680"/>
            <a:ext cx="425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33560" y="48229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85960" y="572292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868400" y="4694040"/>
            <a:ext cx="6480" cy="45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560760" y="4730760"/>
            <a:ext cx="648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868400" y="5413320"/>
            <a:ext cx="6480" cy="31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32040" y="4680000"/>
            <a:ext cx="777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517920" y="4680000"/>
            <a:ext cx="7632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79760" y="125424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97400" y="2508120"/>
                <a:ext cx="17733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611600" y="4230720"/>
                <a:ext cx="1497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299880" y="776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yczny błąd fazy, szybkość narastania błędu fazy oraz pasmo szumowe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185760" y="1347840"/>
            <a:ext cx="8769240" cy="4281480"/>
            <a:chOff x="185760" y="1347840"/>
            <a:chExt cx="8769240" cy="4281480"/>
          </a:xfrm>
        </p:grpSpPr>
        <p:sp>
          <p:nvSpPr>
            <p:cNvPr id="873" name=""/>
            <p:cNvSpPr/>
            <p:nvPr/>
          </p:nvSpPr>
          <p:spPr>
            <a:xfrm>
              <a:off x="588240" y="13986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506400" y="1398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719520" y="13986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łąd faz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979320" y="139860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smo szum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1620360" y="1666800"/>
              <a:ext cx="1105920" cy="271800"/>
              <a:chOff x="1620360" y="1666800"/>
              <a:chExt cx="1105920" cy="271800"/>
            </a:xfrm>
          </p:grpSpPr>
          <p:sp>
            <p:nvSpPr>
              <p:cNvPr id="884" name=""/>
              <p:cNvSpPr/>
              <p:nvPr/>
            </p:nvSpPr>
            <p:spPr>
              <a:xfrm>
                <a:off x="16203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409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882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593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815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950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2504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661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04192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35800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219400" y="1666800"/>
                <a:ext cx="14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44548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3288960" y="1666800"/>
              <a:ext cx="1274400" cy="271800"/>
              <a:chOff x="3288960" y="1666800"/>
              <a:chExt cx="1274400" cy="271800"/>
            </a:xfrm>
          </p:grpSpPr>
          <p:sp>
            <p:nvSpPr>
              <p:cNvPr id="897" name=""/>
              <p:cNvSpPr/>
              <p:nvPr/>
            </p:nvSpPr>
            <p:spPr>
              <a:xfrm>
                <a:off x="32889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007880" y="166680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4095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55212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13640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43016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4840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2052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617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4985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1196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19472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892320" y="166680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28220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944600" y="1692360"/>
              <a:ext cx="1453680" cy="282600"/>
              <a:chOff x="4944600" y="1692360"/>
              <a:chExt cx="1453680" cy="282600"/>
            </a:xfrm>
          </p:grpSpPr>
          <p:sp>
            <p:nvSpPr>
              <p:cNvPr id="912" name=""/>
              <p:cNvSpPr/>
              <p:nvPr/>
            </p:nvSpPr>
            <p:spPr>
              <a:xfrm>
                <a:off x="4944600" y="170496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74812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63760" y="1822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20632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85540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26508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382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27472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32560" y="172728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19704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3334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66160" y="170496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02964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54112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7144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11748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940000" y="1692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228600" y="165564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28600" y="16556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8600" y="1655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2200" y="200988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1493640" y="1998720"/>
              <a:ext cx="488160" cy="271800"/>
              <a:chOff x="1493640" y="1998720"/>
              <a:chExt cx="488160" cy="271800"/>
            </a:xfrm>
          </p:grpSpPr>
          <p:sp>
            <p:nvSpPr>
              <p:cNvPr id="934" name=""/>
              <p:cNvSpPr/>
              <p:nvPr/>
            </p:nvSpPr>
            <p:spPr>
              <a:xfrm>
                <a:off x="14936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6178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092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9170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7744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2292480" y="2013120"/>
              <a:ext cx="664200" cy="467280"/>
              <a:chOff x="2292480" y="2013120"/>
              <a:chExt cx="664200" cy="467280"/>
            </a:xfrm>
          </p:grpSpPr>
          <p:sp>
            <p:nvSpPr>
              <p:cNvPr id="940" name=""/>
              <p:cNvSpPr/>
              <p:nvPr/>
            </p:nvSpPr>
            <p:spPr>
              <a:xfrm>
                <a:off x="2292480" y="2239920"/>
                <a:ext cx="176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32668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30400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61144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49372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6982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9656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75976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3241440" y="1998720"/>
              <a:ext cx="488160" cy="271800"/>
              <a:chOff x="3241440" y="1998720"/>
              <a:chExt cx="488160" cy="271800"/>
            </a:xfrm>
          </p:grpSpPr>
          <p:sp>
            <p:nvSpPr>
              <p:cNvPr id="949" name=""/>
              <p:cNvSpPr/>
              <p:nvPr/>
            </p:nvSpPr>
            <p:spPr>
              <a:xfrm>
                <a:off x="32414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3656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4570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6648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52368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4041720" y="2013120"/>
              <a:ext cx="664200" cy="467280"/>
              <a:chOff x="4041720" y="2013120"/>
              <a:chExt cx="664200" cy="467280"/>
            </a:xfrm>
          </p:grpSpPr>
          <p:sp>
            <p:nvSpPr>
              <p:cNvPr id="955" name=""/>
              <p:cNvSpPr/>
              <p:nvPr/>
            </p:nvSpPr>
            <p:spPr>
              <a:xfrm>
                <a:off x="4041720" y="2239920"/>
                <a:ext cx="17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59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532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36248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2444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4474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458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5108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4989240" y="1998720"/>
              <a:ext cx="489960" cy="271800"/>
              <a:chOff x="4989240" y="1998720"/>
              <a:chExt cx="489960" cy="271800"/>
            </a:xfrm>
          </p:grpSpPr>
          <p:sp>
            <p:nvSpPr>
              <p:cNvPr id="964" name=""/>
              <p:cNvSpPr/>
              <p:nvPr/>
            </p:nvSpPr>
            <p:spPr>
              <a:xfrm>
                <a:off x="49892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1134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2048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4144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2718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5792760" y="2013120"/>
              <a:ext cx="662760" cy="467280"/>
              <a:chOff x="5792760" y="2013120"/>
              <a:chExt cx="662760" cy="467280"/>
            </a:xfrm>
          </p:grpSpPr>
          <p:sp>
            <p:nvSpPr>
              <p:cNvPr id="970" name=""/>
              <p:cNvSpPr/>
              <p:nvPr/>
            </p:nvSpPr>
            <p:spPr>
              <a:xfrm>
                <a:off x="5792760" y="2239920"/>
                <a:ext cx="176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8255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8028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11172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940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1970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3954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2604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7626240" y="2009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76720" y="21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8600" y="198756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" y="198756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8600" y="1987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6027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997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505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475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01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8971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603920" y="24861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8600" y="24638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8600" y="24638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28600" y="2463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03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6902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635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3343320" y="2747880"/>
              <a:ext cx="290520" cy="514440"/>
              <a:chOff x="3343320" y="2747880"/>
              <a:chExt cx="290520" cy="514440"/>
            </a:xfrm>
          </p:grpSpPr>
          <p:sp>
            <p:nvSpPr>
              <p:cNvPr id="997" name=""/>
              <p:cNvSpPr/>
              <p:nvPr/>
            </p:nvSpPr>
            <p:spPr>
              <a:xfrm>
                <a:off x="3343320" y="300672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362040" y="27478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475800" y="27478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42756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128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72480" y="27986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6013440" y="2747880"/>
              <a:ext cx="173160" cy="514440"/>
              <a:chOff x="6013440" y="2747880"/>
              <a:chExt cx="173160" cy="514440"/>
            </a:xfrm>
          </p:grpSpPr>
          <p:sp>
            <p:nvSpPr>
              <p:cNvPr id="1004" name=""/>
              <p:cNvSpPr/>
              <p:nvPr/>
            </p:nvSpPr>
            <p:spPr>
              <a:xfrm>
                <a:off x="6013440" y="300672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036840" y="27478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03900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16902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6356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3343320" y="3246480"/>
              <a:ext cx="290520" cy="515880"/>
              <a:chOff x="3343320" y="3246480"/>
              <a:chExt cx="290520" cy="515880"/>
            </a:xfrm>
          </p:grpSpPr>
          <p:sp>
            <p:nvSpPr>
              <p:cNvPr id="1010" name=""/>
              <p:cNvSpPr/>
              <p:nvPr/>
            </p:nvSpPr>
            <p:spPr>
              <a:xfrm>
                <a:off x="3343320" y="350676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362040" y="3246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475800" y="3246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42756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43128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172480" y="32986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6013440" y="3246480"/>
              <a:ext cx="173160" cy="515880"/>
              <a:chOff x="6013440" y="3246480"/>
              <a:chExt cx="173160" cy="51588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13440" y="350676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036840" y="3246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03900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0" name=""/>
            <p:cNvSpPr/>
            <p:nvPr/>
          </p:nvSpPr>
          <p:spPr>
            <a:xfrm>
              <a:off x="16902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6356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2" name=""/>
            <p:cNvGrpSpPr/>
            <p:nvPr/>
          </p:nvGrpSpPr>
          <p:grpSpPr>
            <a:xfrm>
              <a:off x="3343320" y="4011480"/>
              <a:ext cx="290520" cy="516240"/>
              <a:chOff x="3343320" y="4011480"/>
              <a:chExt cx="290520" cy="516240"/>
            </a:xfrm>
          </p:grpSpPr>
          <p:sp>
            <p:nvSpPr>
              <p:cNvPr id="1023" name=""/>
              <p:cNvSpPr/>
              <p:nvPr/>
            </p:nvSpPr>
            <p:spPr>
              <a:xfrm>
                <a:off x="3343320" y="4270320"/>
                <a:ext cx="290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62040" y="4011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475800" y="4011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42756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43128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72480" y="40622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6013440" y="4011480"/>
              <a:ext cx="173160" cy="516240"/>
              <a:chOff x="6013440" y="4011480"/>
              <a:chExt cx="173160" cy="516240"/>
            </a:xfrm>
          </p:grpSpPr>
          <p:sp>
            <p:nvSpPr>
              <p:cNvPr id="1030" name=""/>
              <p:cNvSpPr/>
              <p:nvPr/>
            </p:nvSpPr>
            <p:spPr>
              <a:xfrm>
                <a:off x="6013440" y="427032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036840" y="4011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03900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16902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6356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380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3128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5141880" y="4960800"/>
              <a:ext cx="173160" cy="514440"/>
              <a:chOff x="5141880" y="4960800"/>
              <a:chExt cx="173160" cy="514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5141880" y="521964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163840" y="4960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165640" y="52466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60606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12760" y="1373040"/>
              <a:ext cx="0" cy="424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9520" y="13604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03200" y="1968480"/>
              <a:ext cx="526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11120" y="16588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62160" y="1360440"/>
              <a:ext cx="0" cy="42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62160" y="2449440"/>
              <a:ext cx="76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4200" y="2782800"/>
              <a:ext cx="874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196560" y="32288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185760" y="3747960"/>
              <a:ext cx="873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198360" y="496080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09520" y="560376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16080" y="196704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7980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21120" y="1967040"/>
              <a:ext cx="0" cy="36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4992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5665680" y="195408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93040" y="1347840"/>
              <a:ext cx="0" cy="42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918640" y="1373040"/>
              <a:ext cx="0" cy="42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7613640" y="2849400"/>
                  <a:ext cx="15084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1" name=""/>
                <p:cNvSpPr txBox="1"/>
                <p:nvPr/>
              </p:nvSpPr>
              <p:spPr>
                <a:xfrm>
                  <a:off x="7629480" y="3287880"/>
                  <a:ext cx="1508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2" name=""/>
                <p:cNvSpPr txBox="1"/>
                <p:nvPr/>
              </p:nvSpPr>
              <p:spPr>
                <a:xfrm>
                  <a:off x="7229520" y="3887640"/>
                  <a:ext cx="109224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num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k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3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4" name=""/>
                <p:cNvSpPr txBox="1"/>
                <p:nvPr/>
              </p:nvSpPr>
              <p:spPr>
                <a:xfrm>
                  <a:off x="7237440" y="4943520"/>
                  <a:ext cx="81108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5" name=""/>
                <p:cNvSpPr txBox="1"/>
                <p:nvPr/>
              </p:nvSpPr>
              <p:spPr>
                <a:xfrm>
                  <a:off x="523800" y="3259080"/>
                  <a:ext cx="536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r>
                            <m:t xml:space="preserve">τ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6" name=""/>
                <p:cNvSpPr txBox="1"/>
                <p:nvPr/>
              </p:nvSpPr>
              <p:spPr>
                <a:xfrm>
                  <a:off x="433440" y="39844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7" name=""/>
                <p:cNvSpPr txBox="1"/>
                <p:nvPr/>
              </p:nvSpPr>
              <p:spPr>
                <a:xfrm>
                  <a:off x="363600" y="49546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391480" y="39528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ływ filtru DP na właściwości pęt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41480" y="1231920"/>
            <a:ext cx="8872200" cy="3751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Filtr o dużej częstotliwości granicznej umożliwia szybkie synchronizowan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ię pętli  przy względnie dużym zakresie chwyt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Pętla z filtrem o dużej częstotliwości granicznej jest bardziej podana na zakłó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Pętla z filtrem o względnie małej częstotliwości grani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odporniejsza na zakłóc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Zbyt mała częstotliwość graniczna filtru uniemożliwia nadążanie pętli 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ybkimi zmianami fazy lub częstotliwości sygnału wejściow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p. przy modulacji częstotliwości lub fa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828720" y="5265720"/>
            <a:ext cx="7336080" cy="9716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nios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 DP ma decydujący wpływ na parametry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30240" y="295128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ktory faz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066680"/>
            <a:ext cx="8305920" cy="39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sprzężenia fazowego (ang. phase-locked loop - PLL)  - sposób synchronizacji pośrednie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zawiera generator przestrajany napięciem V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ang. voltage    controlled oscilla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łąd fazy - potrzebny do wytworzenia w detektorze fazy sygnału do odpowiedniego odstrojenia generatora VCO w celu utrzymania równośc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135800" y="30492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y fazy mnożący z kluczem tranzysto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913040" y="2124000"/>
            <a:ext cx="1440" cy="349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683400" y="1590840"/>
            <a:ext cx="1440" cy="395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683400" y="1620720"/>
            <a:ext cx="921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696000" y="1940040"/>
            <a:ext cx="7956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775560" y="1503360"/>
            <a:ext cx="144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775560" y="1940040"/>
            <a:ext cx="1440" cy="674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646240" y="1881360"/>
            <a:ext cx="1011600" cy="87120"/>
            <a:chOff x="5646240" y="1881360"/>
            <a:chExt cx="1011600" cy="87120"/>
          </a:xfrm>
        </p:grpSpPr>
        <p:sp>
          <p:nvSpPr>
            <p:cNvPr id="1080" name=""/>
            <p:cNvSpPr/>
            <p:nvPr/>
          </p:nvSpPr>
          <p:spPr>
            <a:xfrm flipH="1">
              <a:off x="5646240" y="1922400"/>
              <a:ext cx="10112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570720" y="18813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172200" y="2073240"/>
            <a:ext cx="142920" cy="3780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238800" y="1932120"/>
            <a:ext cx="1800" cy="158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38800" y="244332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402240" y="2190600"/>
            <a:ext cx="10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524280" y="22748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722680" y="1906560"/>
            <a:ext cx="428400" cy="42696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57680" y="1998720"/>
            <a:ext cx="1440" cy="239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2870280" y="1960560"/>
            <a:ext cx="209520" cy="92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870280" y="2154240"/>
            <a:ext cx="129960" cy="87480"/>
            <a:chOff x="2870280" y="2154240"/>
            <a:chExt cx="129960" cy="87480"/>
          </a:xfrm>
        </p:grpSpPr>
        <p:sp>
          <p:nvSpPr>
            <p:cNvPr id="1091" name=""/>
            <p:cNvSpPr/>
            <p:nvPr/>
          </p:nvSpPr>
          <p:spPr>
            <a:xfrm>
              <a:off x="2870280" y="2170080"/>
              <a:ext cx="12996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95480" y="2154240"/>
              <a:ext cx="104760" cy="8748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0" y="55"/>
                  </a:moveTo>
                  <a:lnTo>
                    <a:pt x="66" y="53"/>
                  </a:lnTo>
                  <a:lnTo>
                    <a:pt x="2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3000240" y="2238480"/>
            <a:ext cx="79560" cy="36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2722320" y="2124000"/>
            <a:ext cx="135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079800" y="2274840"/>
            <a:ext cx="1440" cy="495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3079800" y="1515600"/>
            <a:ext cx="1440" cy="43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581200" y="2124000"/>
            <a:ext cx="146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742080" y="1473120"/>
            <a:ext cx="58680" cy="5580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554800" y="2090880"/>
            <a:ext cx="172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564160" y="2090880"/>
            <a:ext cx="8244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5646600" y="2090520"/>
            <a:ext cx="9396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567400" y="2195640"/>
            <a:ext cx="1731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623960" y="1457280"/>
            <a:ext cx="37296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477800" y="1523880"/>
            <a:ext cx="158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994040" y="1518840"/>
            <a:ext cx="185400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779480" y="1138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345280" y="142704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202360" y="1498680"/>
            <a:ext cx="1555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5715000" y="1495080"/>
            <a:ext cx="17906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424480" y="1074600"/>
            <a:ext cx="268200" cy="306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500800" y="1108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5960" y="205740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913040" y="2128680"/>
            <a:ext cx="1555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25680" y="2128680"/>
            <a:ext cx="1843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78000" y="17384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287440" y="1822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54240" y="1503360"/>
            <a:ext cx="5580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213600" y="1901880"/>
            <a:ext cx="5868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34960" y="150336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884240" y="2448000"/>
            <a:ext cx="59040" cy="489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05200" y="1503360"/>
            <a:ext cx="5868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46460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618160" y="237960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148360" y="213192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000240" y="2762280"/>
            <a:ext cx="158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3480" y="3048120"/>
            <a:ext cx="160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389240" y="2157480"/>
            <a:ext cx="155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84680" y="2825640"/>
            <a:ext cx="155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86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1722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46600" y="1922400"/>
            <a:ext cx="1800" cy="181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646600" y="220824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16888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5605560" y="2484360"/>
            <a:ext cx="87120" cy="290520"/>
            <a:chOff x="5605560" y="2484360"/>
            <a:chExt cx="87120" cy="290520"/>
          </a:xfrm>
        </p:grpSpPr>
        <p:sp>
          <p:nvSpPr>
            <p:cNvPr id="1135" name=""/>
            <p:cNvSpPr/>
            <p:nvPr/>
          </p:nvSpPr>
          <p:spPr>
            <a:xfrm>
              <a:off x="5646600" y="2484360"/>
              <a:ext cx="180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05560" y="2484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48034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892400" y="1838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93092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52600" y="2627280"/>
            <a:ext cx="411120" cy="270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01560" y="2662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590480" y="2744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49520" y="2662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640280" y="17175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27760" y="1801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86800" y="1717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19680" y="1725480"/>
            <a:ext cx="411120" cy="265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9682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57200" y="1838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660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214600" y="2527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303520" y="2611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62560" y="2527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053720" y="1779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141200" y="1863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179720" y="1779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3449520" y="5961240"/>
            <a:ext cx="136440" cy="60120"/>
            <a:chOff x="3449520" y="5961240"/>
            <a:chExt cx="136440" cy="60120"/>
          </a:xfrm>
        </p:grpSpPr>
        <p:sp>
          <p:nvSpPr>
            <p:cNvPr id="1158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2533680" y="6226200"/>
            <a:ext cx="203040" cy="243000"/>
            <a:chOff x="2533680" y="6226200"/>
            <a:chExt cx="203040" cy="243000"/>
          </a:xfrm>
        </p:grpSpPr>
        <p:sp>
          <p:nvSpPr>
            <p:cNvPr id="1161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2187720" y="5961240"/>
            <a:ext cx="345960" cy="264960"/>
            <a:chOff x="2187720" y="5961240"/>
            <a:chExt cx="345960" cy="264960"/>
          </a:xfrm>
        </p:grpSpPr>
        <p:sp>
          <p:nvSpPr>
            <p:cNvPr id="1164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251000" y="6226200"/>
            <a:ext cx="203040" cy="243000"/>
            <a:chOff x="1251000" y="6226200"/>
            <a:chExt cx="203040" cy="243000"/>
          </a:xfrm>
        </p:grpSpPr>
        <p:sp>
          <p:nvSpPr>
            <p:cNvPr id="1167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905040" y="5961240"/>
            <a:ext cx="347400" cy="264960"/>
            <a:chOff x="905040" y="5961240"/>
            <a:chExt cx="347400" cy="264960"/>
          </a:xfrm>
        </p:grpSpPr>
        <p:sp>
          <p:nvSpPr>
            <p:cNvPr id="1170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3184560" y="3959280"/>
            <a:ext cx="347400" cy="264960"/>
            <a:chOff x="3184560" y="3959280"/>
            <a:chExt cx="347400" cy="264960"/>
          </a:xfrm>
        </p:grpSpPr>
        <p:sp>
          <p:nvSpPr>
            <p:cNvPr id="1173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  <a:lnTo>
                    <a:pt x="219" y="16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2832120" y="4224240"/>
            <a:ext cx="345960" cy="265320"/>
            <a:chOff x="2832120" y="4224240"/>
            <a:chExt cx="345960" cy="265320"/>
          </a:xfrm>
        </p:grpSpPr>
        <p:sp>
          <p:nvSpPr>
            <p:cNvPr id="1176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2552760" y="4224240"/>
            <a:ext cx="347760" cy="265320"/>
            <a:chOff x="2552760" y="4224240"/>
            <a:chExt cx="347760" cy="265320"/>
          </a:xfrm>
        </p:grpSpPr>
        <p:sp>
          <p:nvSpPr>
            <p:cNvPr id="1179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2201760" y="3959280"/>
            <a:ext cx="345960" cy="264960"/>
            <a:chOff x="2201760" y="3959280"/>
            <a:chExt cx="345960" cy="264960"/>
          </a:xfrm>
        </p:grpSpPr>
        <p:sp>
          <p:nvSpPr>
            <p:cNvPr id="1182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1909800" y="3959280"/>
            <a:ext cx="345960" cy="264960"/>
            <a:chOff x="1909800" y="3959280"/>
            <a:chExt cx="345960" cy="264960"/>
          </a:xfrm>
        </p:grpSpPr>
        <p:sp>
          <p:nvSpPr>
            <p:cNvPr id="1185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563840" y="4224240"/>
            <a:ext cx="345960" cy="265320"/>
            <a:chOff x="1563840" y="4224240"/>
            <a:chExt cx="345960" cy="265320"/>
          </a:xfrm>
        </p:grpSpPr>
        <p:sp>
          <p:nvSpPr>
            <p:cNvPr id="1188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1273320" y="4224240"/>
            <a:ext cx="344520" cy="265320"/>
            <a:chOff x="1273320" y="4224240"/>
            <a:chExt cx="344520" cy="265320"/>
          </a:xfrm>
        </p:grpSpPr>
        <p:sp>
          <p:nvSpPr>
            <p:cNvPr id="1191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  <a:lnTo>
                    <a:pt x="217" y="0"/>
                  </a:lnTo>
                  <a:lnTo>
                    <a:pt x="217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25560" y="3959280"/>
            <a:ext cx="347760" cy="264960"/>
            <a:chOff x="925560" y="3959280"/>
            <a:chExt cx="347760" cy="264960"/>
          </a:xfrm>
        </p:grpSpPr>
        <p:sp>
          <p:nvSpPr>
            <p:cNvPr id="1194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608040" y="3959280"/>
            <a:ext cx="345960" cy="264960"/>
            <a:chOff x="608040" y="3959280"/>
            <a:chExt cx="345960" cy="264960"/>
          </a:xfrm>
        </p:grpSpPr>
        <p:sp>
          <p:nvSpPr>
            <p:cNvPr id="1197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584280" y="3957480"/>
            <a:ext cx="3232800" cy="5040"/>
            <a:chOff x="584280" y="3957480"/>
            <a:chExt cx="3232800" cy="5040"/>
          </a:xfrm>
        </p:grpSpPr>
        <p:grpSp>
          <p:nvGrpSpPr>
            <p:cNvPr id="1200" name=""/>
            <p:cNvGrpSpPr/>
            <p:nvPr/>
          </p:nvGrpSpPr>
          <p:grpSpPr>
            <a:xfrm>
              <a:off x="2085840" y="3957480"/>
              <a:ext cx="1731240" cy="5040"/>
              <a:chOff x="2085840" y="3957480"/>
              <a:chExt cx="1731240" cy="5040"/>
            </a:xfrm>
          </p:grpSpPr>
          <p:sp>
            <p:nvSpPr>
              <p:cNvPr id="1201" name=""/>
              <p:cNvSpPr/>
              <p:nvPr/>
            </p:nvSpPr>
            <p:spPr>
              <a:xfrm>
                <a:off x="3812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80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79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78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779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769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620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75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744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735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270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717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709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700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69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682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67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665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65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6493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63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631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622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614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60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596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587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57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569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561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552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54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53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52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519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509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501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49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484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474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466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457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449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4394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431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42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41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04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396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38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37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3714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361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353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34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336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326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318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30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30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291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283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27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26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256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2490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241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231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2238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2140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206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196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188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1791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171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161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15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14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136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126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11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10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101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093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084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0762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066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058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049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0412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03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023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014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00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99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988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979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97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635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953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945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936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9286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918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910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901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89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88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876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866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5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84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841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831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823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815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806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798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7885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780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771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763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536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745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73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272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718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7108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70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69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685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675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667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658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650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6409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6330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262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61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6060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598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58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58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571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5632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555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545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538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528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520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511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503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493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485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476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46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45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450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441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43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42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415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407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398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390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380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372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363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3554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34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337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328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320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31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302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293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285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2777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268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260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250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2428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233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225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215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207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19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190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180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172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16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155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145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138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129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120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112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102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094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085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2077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682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060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050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04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033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253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016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00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0001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904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982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973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965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955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947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938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3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920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912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903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89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85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877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868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860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852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842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834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25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817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8079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8000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790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78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77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765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755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74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3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730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722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712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7049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695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687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677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6700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6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652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43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3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2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17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08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60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59228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82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574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65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5573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547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539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530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5224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51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504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95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48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47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469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460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45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444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34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4270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4173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4094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400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392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3824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374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36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35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47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3395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33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32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3143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3046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296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287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279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2697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2618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52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24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2348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226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21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20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199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1919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18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17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1667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1570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149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139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131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1221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1142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104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9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8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079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069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06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05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44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36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27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0191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009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001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992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842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7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66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57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4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93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931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22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1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0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96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88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79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715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61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53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44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366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2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19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09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1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9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84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74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66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58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49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41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31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23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14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06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6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8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1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61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53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4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36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8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8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10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01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93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84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603360" y="5958000"/>
            <a:ext cx="3232800" cy="4680"/>
            <a:chOff x="603360" y="5958000"/>
            <a:chExt cx="3232800" cy="4680"/>
          </a:xfrm>
        </p:grpSpPr>
        <p:grpSp>
          <p:nvGrpSpPr>
            <p:cNvPr id="1575" name=""/>
            <p:cNvGrpSpPr/>
            <p:nvPr/>
          </p:nvGrpSpPr>
          <p:grpSpPr>
            <a:xfrm>
              <a:off x="2106360" y="5958000"/>
              <a:ext cx="1729800" cy="4680"/>
              <a:chOff x="2106360" y="5958000"/>
              <a:chExt cx="1729800" cy="4680"/>
            </a:xfrm>
          </p:grpSpPr>
          <p:sp>
            <p:nvSpPr>
              <p:cNvPr id="1576" name=""/>
              <p:cNvSpPr/>
              <p:nvPr/>
            </p:nvSpPr>
            <p:spPr>
              <a:xfrm>
                <a:off x="3833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23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81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806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98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89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78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771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76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755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746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738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72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720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711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702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693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685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676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668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658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650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641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6331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623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61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07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5982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590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58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573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5632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555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54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53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528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520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51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50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493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485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477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46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460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450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442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43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425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415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407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398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39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380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372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363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35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345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337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330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320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312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303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295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285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277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26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260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250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24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23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225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215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20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2000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190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182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173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1651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155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147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138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13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12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12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103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09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08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077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069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060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524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42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034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025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17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007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999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990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9822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97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964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955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9473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93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930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9221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912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904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895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87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774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69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86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85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8425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834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82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81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807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7997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791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782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774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648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56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747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739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7298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721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712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70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694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87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77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6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660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652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644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634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626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617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609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599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592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58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574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565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55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54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539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530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52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514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504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496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487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4793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469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461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452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244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43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426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417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240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39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391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383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374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3666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356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349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339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331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322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14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304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296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28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279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269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261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25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244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236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226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218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209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201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191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183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17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166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156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148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13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131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121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1139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106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2097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089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079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71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62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54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44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36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027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01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009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001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992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98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974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966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958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949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941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931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923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914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906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896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888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879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87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861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854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844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83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8288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819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811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801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938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84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776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766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75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74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741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31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2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71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06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97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689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6812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671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663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54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45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636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628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619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6110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60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593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584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5760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56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558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5508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411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533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523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515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5062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4983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48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8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4713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463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5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44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436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4284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420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411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4032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935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85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76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368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3586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3507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41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33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3237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315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306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9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2888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280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72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63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2556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245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2380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28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220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21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203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193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8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7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168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158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15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1430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3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25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116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080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098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090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081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07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06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055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046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03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02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020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011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00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9954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85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977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968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9601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950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942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33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9252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91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907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98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902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8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73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65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55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47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38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30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20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2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0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95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85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77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6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60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50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426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3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25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17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077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99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90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82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728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64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55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47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79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30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20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12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03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584280" y="4487760"/>
            <a:ext cx="3232800" cy="3240"/>
            <a:chOff x="584280" y="4487760"/>
            <a:chExt cx="3232800" cy="3240"/>
          </a:xfrm>
        </p:grpSpPr>
        <p:grpSp>
          <p:nvGrpSpPr>
            <p:cNvPr id="1950" name=""/>
            <p:cNvGrpSpPr/>
            <p:nvPr/>
          </p:nvGrpSpPr>
          <p:grpSpPr>
            <a:xfrm>
              <a:off x="2085840" y="4487760"/>
              <a:ext cx="1731240" cy="3240"/>
              <a:chOff x="2085840" y="4487760"/>
              <a:chExt cx="1731240" cy="3240"/>
            </a:xfrm>
          </p:grpSpPr>
          <p:sp>
            <p:nvSpPr>
              <p:cNvPr id="1951" name=""/>
              <p:cNvSpPr/>
              <p:nvPr/>
            </p:nvSpPr>
            <p:spPr>
              <a:xfrm>
                <a:off x="3812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80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79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378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3779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769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7620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75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3744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735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270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17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709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700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69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682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67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665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65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6493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63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631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622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14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0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596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587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57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569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561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552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54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53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52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519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509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501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49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484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474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466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457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449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4394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431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42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41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404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396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38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37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3714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361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353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34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336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326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318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30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30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291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283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27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26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256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2490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241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231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2238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2140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206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196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188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1791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171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161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15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14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136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126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11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10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101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093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084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0762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066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058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049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0412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3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023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014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0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9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988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979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97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9635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953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945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36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9286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918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910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901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89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88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876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866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85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84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841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831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823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815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806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798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7885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780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771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763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7536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745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73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72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718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7108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70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69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685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675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667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658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650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6409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6330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62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61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6060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598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8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58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571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5632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555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545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538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528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520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511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503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493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485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476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46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45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450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441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43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42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415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407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398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390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380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372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363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3554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34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337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328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320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31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302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293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285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2777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268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260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250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2428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233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225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215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207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19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190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180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172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16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155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145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138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129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120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112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102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094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085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2077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0682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60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050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04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033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0253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16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00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0001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9904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982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973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965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955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947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38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93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920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912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903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89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885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877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68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860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852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842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834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25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817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8079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000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790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8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7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755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4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73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30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22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712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7049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695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687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677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6700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66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652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643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63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62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617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608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60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59228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582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574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65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5573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547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539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530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5224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51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504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495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48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47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469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460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45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444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434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4270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4173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4094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400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392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824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374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36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35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347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3395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33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32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3143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3046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96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287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79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697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2618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252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24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2348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226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20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199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1919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18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17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1667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1570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149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139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131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1221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1142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104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09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08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079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069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06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5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044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036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027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0191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009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001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992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9842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97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966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957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4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93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931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922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1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0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96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88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79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715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61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53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44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366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2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19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09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01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9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84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74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66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8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49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41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31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23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14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6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96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88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7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71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61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53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4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36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28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18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10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01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3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84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4" name=""/>
          <p:cNvGrpSpPr/>
          <p:nvPr/>
        </p:nvGrpSpPr>
        <p:grpSpPr>
          <a:xfrm>
            <a:off x="814320" y="3944880"/>
            <a:ext cx="9360" cy="1089000"/>
            <a:chOff x="814320" y="3944880"/>
            <a:chExt cx="9360" cy="1089000"/>
          </a:xfrm>
        </p:grpSpPr>
        <p:sp>
          <p:nvSpPr>
            <p:cNvPr id="2325" name=""/>
            <p:cNvSpPr/>
            <p:nvPr/>
          </p:nvSpPr>
          <p:spPr>
            <a:xfrm>
              <a:off x="814320" y="502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814320" y="50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14320" y="501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814320" y="5003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814320" y="499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14320" y="49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14320" y="497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14320" y="496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4320" y="4960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14320" y="49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14320" y="4943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14320" y="493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814320" y="492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814320" y="491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14320" y="490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814320" y="489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14320" y="4890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14320" y="488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14320" y="48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814320" y="486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14320" y="485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14320" y="484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14320" y="48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14320" y="4830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14320" y="482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14320" y="4813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14320" y="48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14320" y="479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14320" y="478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14320" y="477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14320" y="476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14320" y="47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15760" y="4751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5760" y="4743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15760" y="473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15760" y="47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15760" y="4716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15760" y="470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15760" y="4700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15760" y="46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15760" y="4683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15760" y="467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15760" y="4665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15760" y="465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15760" y="464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15760" y="463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15760" y="463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15760" y="462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15760" y="46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15760" y="460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15760" y="45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15760" y="458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15760" y="45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15760" y="456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15760" y="456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15760" y="4552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15760" y="45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15760" y="45356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15760" y="452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15760" y="451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15760" y="450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15760" y="450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15760" y="449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15760" y="4483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15760" y="447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15760" y="44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15760" y="445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5760" y="444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5760" y="443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5760" y="443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15760" y="4422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5760" y="441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15760" y="4405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5760" y="4395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15760" y="438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5760" y="437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15760" y="437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15760" y="4361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15760" y="4352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815760" y="434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15760" y="4335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15760" y="432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15760" y="4317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15760" y="430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15760" y="430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15760" y="429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15760" y="428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15760" y="4275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15760" y="426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15760" y="4257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15760" y="424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15760" y="424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15760" y="423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15760" y="422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15760" y="421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19000" y="4205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819000" y="419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19000" y="4187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819000" y="4178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819000" y="4170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819000" y="416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19000" y="4152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19000" y="4145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19000" y="4135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19000" y="4127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819000" y="41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19000" y="4110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19000" y="4100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19000" y="4092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19000" y="4083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19000" y="40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19000" y="4065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19000" y="4057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19000" y="4048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19000" y="40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19000" y="4030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19000" y="4022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819000" y="4014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819000" y="40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19000" y="3997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19000" y="3987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819000" y="3979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19000" y="3970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819000" y="39625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19000" y="3952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19000" y="3944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1457280" y="3951360"/>
            <a:ext cx="6120" cy="1089000"/>
            <a:chOff x="1457280" y="3951360"/>
            <a:chExt cx="6120" cy="1089000"/>
          </a:xfrm>
        </p:grpSpPr>
        <p:sp>
          <p:nvSpPr>
            <p:cNvPr id="2452" name=""/>
            <p:cNvSpPr/>
            <p:nvPr/>
          </p:nvSpPr>
          <p:spPr>
            <a:xfrm>
              <a:off x="1457280" y="503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457280" y="50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457280" y="501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457280" y="501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457280" y="500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457280" y="49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457280" y="4984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457280" y="497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457280" y="496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457280" y="495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457280" y="4950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457280" y="494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457280" y="4932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457280" y="492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457280" y="49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457280" y="490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457280" y="489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457280" y="488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457280" y="487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457280" y="4871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457280" y="486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457280" y="4854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457280" y="484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457280" y="483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457280" y="482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457280" y="481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457280" y="480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457280" y="480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457280" y="479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457280" y="47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457280" y="477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457280" y="4767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457280" y="475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457280" y="47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457280" y="474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457280" y="473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457280" y="4724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57280" y="47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457280" y="4707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457280" y="469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457280" y="468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457280" y="468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457280" y="467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457280" y="466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57280" y="4654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457280" y="464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457280" y="46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457280" y="462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457280" y="4619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457280" y="461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457280" y="46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457280" y="4594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457280" y="45846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457280" y="4576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457280" y="45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457280" y="455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457280" y="45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457280" y="454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457280" y="453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457280" y="45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457280" y="451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457280" y="4506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457280" y="449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458720" y="448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458720" y="447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458720" y="4471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458720" y="4462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458720" y="4454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458720" y="4446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458720" y="4437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458720" y="4429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458720" y="4419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458720" y="4411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458720" y="4402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458720" y="4394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458720" y="4384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458720" y="437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458720" y="436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458720" y="4359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458720" y="4349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458720" y="434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458720" y="433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458720" y="4324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458720" y="4316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458720" y="4307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458720" y="42991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458720" y="4289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458720" y="4281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458720" y="4272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458720" y="42642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458720" y="425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458720" y="4246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458720" y="4237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458720" y="422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458720" y="421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458720" y="4211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458720" y="4202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458720" y="4194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458720" y="4186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458720" y="4176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458720" y="4168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458720" y="4159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458720" y="4151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458720" y="4141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458720" y="4133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458720" y="4124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458720" y="4116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458720" y="410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458720" y="4098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458720" y="4089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458720" y="4081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458720" y="407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458720" y="4064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458720" y="4054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458720" y="4046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458720" y="4038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458720" y="4029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458720" y="4021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458720" y="4011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458720" y="4003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458720" y="3994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458720" y="3986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58720" y="3976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458720" y="3968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458720" y="395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458720" y="3951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2101680" y="3951360"/>
            <a:ext cx="6480" cy="1089000"/>
            <a:chOff x="2101680" y="3951360"/>
            <a:chExt cx="6480" cy="1089000"/>
          </a:xfrm>
        </p:grpSpPr>
        <p:sp>
          <p:nvSpPr>
            <p:cNvPr id="2579" name=""/>
            <p:cNvSpPr/>
            <p:nvPr/>
          </p:nvSpPr>
          <p:spPr>
            <a:xfrm>
              <a:off x="210168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10168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10168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0168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0168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0168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0168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10168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10168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10168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10168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10168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10168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10168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10168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10168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10168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0168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10168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10168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10168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10168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10168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10168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10168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10168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10168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10168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10168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10168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10168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10168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101680" y="475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101680" y="474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101680" y="4740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101680" y="4732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101680" y="4724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101680" y="4714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101680" y="4707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101680" y="4697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101680" y="4689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101680" y="4680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101680" y="4672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101680" y="4662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101680" y="4654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101680" y="464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101680" y="463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101680" y="4627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101680" y="4619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4610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101680" y="460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101680" y="4594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101680" y="4584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101680" y="4576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101680" y="4567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101680" y="4559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101680" y="4549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101680" y="4541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4532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101680" y="452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2101680" y="451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101680" y="4506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101680" y="4497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103120" y="448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2103120" y="44798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103120" y="44719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103120" y="4462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103120" y="4454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103120" y="44467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103120" y="44370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103120" y="4429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103120" y="4419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103120" y="44118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103120" y="44020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103120" y="4394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103120" y="4384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103120" y="437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103120" y="43671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103120" y="4359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103120" y="4349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103120" y="434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103120" y="4332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103120" y="43243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103120" y="43164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103120" y="4307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103120" y="42991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103120" y="42894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103120" y="4281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103120" y="4272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103120" y="42642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103120" y="42544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103120" y="4246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103120" y="4237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103120" y="422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103120" y="421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103120" y="4211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103120" y="4202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103120" y="41940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103120" y="4186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103120" y="4176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103120" y="41688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103120" y="41590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103120" y="4151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103120" y="4141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103120" y="41338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103120" y="41241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103120" y="41162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103120" y="410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103120" y="4098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103120" y="40892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103120" y="4081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103120" y="407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103120" y="4064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103120" y="4054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103120" y="40464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103120" y="4038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103120" y="4029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103120" y="40212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103120" y="40114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103120" y="40035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103120" y="3994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103120" y="39862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103120" y="39765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103120" y="39686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103120" y="395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103120" y="39513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5" name=""/>
          <p:cNvGrpSpPr/>
          <p:nvPr/>
        </p:nvGrpSpPr>
        <p:grpSpPr>
          <a:xfrm>
            <a:off x="2730600" y="3959280"/>
            <a:ext cx="9000" cy="1081080"/>
            <a:chOff x="2730600" y="3959280"/>
            <a:chExt cx="9000" cy="1081080"/>
          </a:xfrm>
        </p:grpSpPr>
        <p:sp>
          <p:nvSpPr>
            <p:cNvPr id="2706" name=""/>
            <p:cNvSpPr/>
            <p:nvPr/>
          </p:nvSpPr>
          <p:spPr>
            <a:xfrm>
              <a:off x="27306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7306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7306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7306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7306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7306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7306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7306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7306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7306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7306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7306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7306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7306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7306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7306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7306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7306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7306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306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306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7306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7306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7306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7306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7306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7306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7306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7306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27306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27306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27306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733480" y="4757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2733480" y="474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733480" y="47401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733480" y="47322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733480" y="4724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733480" y="4714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2733480" y="47070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733480" y="46972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733480" y="4689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733480" y="4680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733480" y="4672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733480" y="466236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733480" y="4654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733480" y="4645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733480" y="463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2733480" y="4627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733480" y="46195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2733480" y="4610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2733480" y="460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2733480" y="45943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733480" y="45846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2733480" y="4576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733480" y="4567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2733480" y="4559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2733480" y="45496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733480" y="4541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733480" y="4532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733480" y="452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2733480" y="4514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2733480" y="4506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733480" y="4497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733480" y="4489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2733480" y="447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733480" y="4471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733480" y="4462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733480" y="44546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733480" y="44467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733480" y="4437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733480" y="4429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733480" y="44197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733480" y="44118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733480" y="4402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733480" y="4394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733480" y="43848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733480" y="4376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733480" y="436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733480" y="4359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733480" y="4349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733480" y="43419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733480" y="433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733480" y="4324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733480" y="4316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733480" y="43070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2733480" y="42991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733480" y="4289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733480" y="42814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733480" y="42721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733480" y="42642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733480" y="425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733480" y="4246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733480" y="42372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733480" y="4229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7352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27352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7352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7352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7352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7352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7352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7352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7352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7352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7352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7352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7352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7352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7352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7352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7352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27352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7352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27352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7352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27352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27352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7352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7352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352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7352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7352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7352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7352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7352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1" name=""/>
          <p:cNvGrpSpPr/>
          <p:nvPr/>
        </p:nvGrpSpPr>
        <p:grpSpPr>
          <a:xfrm>
            <a:off x="3362400" y="3959280"/>
            <a:ext cx="9000" cy="1081080"/>
            <a:chOff x="3362400" y="3959280"/>
            <a:chExt cx="9000" cy="1081080"/>
          </a:xfrm>
        </p:grpSpPr>
        <p:sp>
          <p:nvSpPr>
            <p:cNvPr id="2832" name=""/>
            <p:cNvSpPr/>
            <p:nvPr/>
          </p:nvSpPr>
          <p:spPr>
            <a:xfrm>
              <a:off x="33624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3624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3624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3624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3624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3624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3624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3624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3624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3624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3624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3624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3624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3624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3624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3624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3624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3624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624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3624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3624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624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3624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3624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624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33624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33624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624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3624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3624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624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3624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63840" y="4757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63840" y="474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3363840" y="47401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363840" y="47322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363840" y="4724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363840" y="4714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363840" y="47070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363840" y="46972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363840" y="46893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363840" y="4680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3363840" y="4672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363840" y="46623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363840" y="4654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363840" y="4645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363840" y="463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363840" y="4627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3363840" y="46195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363840" y="4610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363840" y="460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363840" y="459432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363840" y="45846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3363840" y="45766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3363840" y="4567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363840" y="4559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3363840" y="45496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363840" y="4541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363840" y="4532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363840" y="452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3363840" y="4514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363840" y="4506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363840" y="4497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363840" y="448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363840" y="447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363840" y="4471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363840" y="4462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363840" y="4454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363840" y="44467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363840" y="4437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363840" y="4429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363840" y="4419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363840" y="44118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363840" y="4402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363840" y="4394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363840" y="4384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363840" y="437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363840" y="436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363840" y="4359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363840" y="4349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363840" y="434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363840" y="433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363840" y="4324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363840" y="4316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363840" y="4307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363840" y="42991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63840" y="4289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363840" y="4281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363840" y="4272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63840" y="42642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363840" y="425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363840" y="4246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63840" y="4237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363840" y="422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3670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670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3670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3670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670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3670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670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670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3670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3670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3670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3670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3670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3670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3670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3670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3670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3670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3670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3670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33670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3670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3670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3670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3670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3670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3670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3670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3670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3670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3670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7" name=""/>
          <p:cNvSpPr/>
          <p:nvPr/>
        </p:nvSpPr>
        <p:spPr>
          <a:xfrm>
            <a:off x="593640" y="503244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82080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825480" y="5364000"/>
            <a:ext cx="6285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14605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2106720" y="5370480"/>
            <a:ext cx="630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27367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3367080" y="5370480"/>
            <a:ext cx="2192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45908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103480" y="5040360"/>
            <a:ext cx="1440" cy="334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2733840" y="504036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363840" y="5040360"/>
            <a:ext cx="180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600120" y="622620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9" name=""/>
          <p:cNvGrpSpPr/>
          <p:nvPr/>
        </p:nvGrpSpPr>
        <p:grpSpPr>
          <a:xfrm>
            <a:off x="816120" y="5961240"/>
            <a:ext cx="137880" cy="47520"/>
            <a:chOff x="816120" y="5961240"/>
            <a:chExt cx="137880" cy="47520"/>
          </a:xfrm>
        </p:grpSpPr>
        <p:sp>
          <p:nvSpPr>
            <p:cNvPr id="2970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2" name=""/>
          <p:cNvSpPr/>
          <p:nvPr/>
        </p:nvSpPr>
        <p:spPr>
          <a:xfrm>
            <a:off x="816120" y="6014880"/>
            <a:ext cx="288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454040" y="6225840"/>
            <a:ext cx="180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46052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273060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6" name=""/>
          <p:cNvGrpSpPr/>
          <p:nvPr/>
        </p:nvGrpSpPr>
        <p:grpSpPr>
          <a:xfrm>
            <a:off x="2098800" y="5961240"/>
            <a:ext cx="137880" cy="47520"/>
            <a:chOff x="2098800" y="5961240"/>
            <a:chExt cx="137880" cy="47520"/>
          </a:xfrm>
        </p:grpSpPr>
        <p:sp>
          <p:nvSpPr>
            <p:cNvPr id="2977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9" name=""/>
          <p:cNvSpPr/>
          <p:nvPr/>
        </p:nvSpPr>
        <p:spPr>
          <a:xfrm>
            <a:off x="2098800" y="6014880"/>
            <a:ext cx="144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V="1">
            <a:off x="2730600" y="6225840"/>
            <a:ext cx="144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1" name=""/>
          <p:cNvGrpSpPr/>
          <p:nvPr/>
        </p:nvGrpSpPr>
        <p:grpSpPr>
          <a:xfrm>
            <a:off x="3360600" y="5961240"/>
            <a:ext cx="136440" cy="47520"/>
            <a:chOff x="3360600" y="5961240"/>
            <a:chExt cx="136440" cy="47520"/>
          </a:xfrm>
        </p:grpSpPr>
        <p:sp>
          <p:nvSpPr>
            <p:cNvPr id="2982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86" y="3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4" name=""/>
          <p:cNvSpPr/>
          <p:nvPr/>
        </p:nvSpPr>
        <p:spPr>
          <a:xfrm>
            <a:off x="3360600" y="6014880"/>
            <a:ext cx="180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909800" y="4224240"/>
            <a:ext cx="1440" cy="4888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3755880" y="6264360"/>
            <a:ext cx="10980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3793320" y="6280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3755880" y="5241960"/>
            <a:ext cx="10980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3793320" y="5254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3727440" y="4265640"/>
            <a:ext cx="1094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3767760" y="42782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77720" y="416412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510480" y="4176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471600" y="5140440"/>
            <a:ext cx="11088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504000" y="5153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477720" y="616428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510480" y="6176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2255760" y="4495680"/>
            <a:ext cx="15264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290680" y="4506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2345400" y="4514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146320" y="5526000"/>
            <a:ext cx="11124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2177640" y="55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423720" y="5762520"/>
            <a:ext cx="14616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456480" y="5778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500760" y="5821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423720" y="4754520"/>
            <a:ext cx="14616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456480" y="47671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00760" y="480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471600" y="3809880"/>
            <a:ext cx="11088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492840" y="3825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537480" y="3868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2" name=""/>
          <p:cNvGrpSpPr/>
          <p:nvPr/>
        </p:nvGrpSpPr>
        <p:grpSpPr>
          <a:xfrm>
            <a:off x="814320" y="5370480"/>
            <a:ext cx="6120" cy="620640"/>
            <a:chOff x="814320" y="5370480"/>
            <a:chExt cx="6120" cy="620640"/>
          </a:xfrm>
        </p:grpSpPr>
        <p:sp>
          <p:nvSpPr>
            <p:cNvPr id="3013" name=""/>
            <p:cNvSpPr/>
            <p:nvPr/>
          </p:nvSpPr>
          <p:spPr>
            <a:xfrm>
              <a:off x="81432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1432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1432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1432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1432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1432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1432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1432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1432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1432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1432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1432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1432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1432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1432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1432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1432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1432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1432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1432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1432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1432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1432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1432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1432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1432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1432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1432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1432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1432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1432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1432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1432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1432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1432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1432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1576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1576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1576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1576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1576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1576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1576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1576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1576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1576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1576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1576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1576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1576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1576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1576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1576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1576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1576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1576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1576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1576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1576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1576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1576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1576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1576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1576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1576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1576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1576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1576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1576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1576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1576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1576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5" name=""/>
          <p:cNvGrpSpPr/>
          <p:nvPr/>
        </p:nvGrpSpPr>
        <p:grpSpPr>
          <a:xfrm>
            <a:off x="2101680" y="5370480"/>
            <a:ext cx="4680" cy="620640"/>
            <a:chOff x="2101680" y="5370480"/>
            <a:chExt cx="4680" cy="620640"/>
          </a:xfrm>
        </p:grpSpPr>
        <p:sp>
          <p:nvSpPr>
            <p:cNvPr id="3086" name=""/>
            <p:cNvSpPr/>
            <p:nvPr/>
          </p:nvSpPr>
          <p:spPr>
            <a:xfrm>
              <a:off x="210168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10168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10168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10168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10168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10168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10168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10168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10168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10168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10168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10168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10168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10168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210168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10168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10168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10168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10168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10168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10168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10168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210168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10168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10168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10168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10168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10168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10168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10168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10168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10168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10168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10168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10168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10168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10168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10168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10168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10168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10168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10168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10168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10168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10168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10168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10168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10168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10168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10168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10168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10168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10168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10168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10168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10168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10168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10168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10168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10168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10168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10168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10168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10168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10168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10168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10168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10168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10168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10168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10168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10168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8" name=""/>
          <p:cNvGrpSpPr/>
          <p:nvPr/>
        </p:nvGrpSpPr>
        <p:grpSpPr>
          <a:xfrm>
            <a:off x="1457280" y="5364000"/>
            <a:ext cx="3240" cy="863640"/>
            <a:chOff x="1457280" y="5364000"/>
            <a:chExt cx="3240" cy="863640"/>
          </a:xfrm>
        </p:grpSpPr>
        <p:sp>
          <p:nvSpPr>
            <p:cNvPr id="3159" name=""/>
            <p:cNvSpPr/>
            <p:nvPr/>
          </p:nvSpPr>
          <p:spPr>
            <a:xfrm>
              <a:off x="1457280" y="6222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457280" y="6215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457280" y="620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457280" y="619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457280" y="618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457280" y="618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457280" y="6170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457280" y="616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1457280" y="6153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1457280" y="614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1457280" y="613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1457280" y="612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457280" y="6119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457280" y="611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457280" y="6102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457280" y="609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457280" y="6084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1457280" y="607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1457280" y="606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1457280" y="605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1457280" y="604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1457280" y="6040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1457280" y="603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1457280" y="6022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1457280" y="601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1457280" y="6005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1457280" y="599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457280" y="598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457280" y="597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1457280" y="597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457280" y="596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1457280" y="5954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457280" y="594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1457280" y="5937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457280" y="59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457280" y="591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457280" y="591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1457280" y="590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1457280" y="58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457280" y="588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457280" y="5875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457280" y="586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457280" y="585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1457280" y="585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457280" y="584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457280" y="583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457280" y="5824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457280" y="58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457280" y="5807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1457280" y="579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1457280" y="5789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1457280" y="578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1457280" y="577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1457280" y="5762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457280" y="5754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457280" y="5745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1457280" y="573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1457280" y="572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1457280" y="571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1457280" y="571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1457280" y="570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1457280" y="56944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1457280" y="56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457280" y="5676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1457280" y="566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1457280" y="56595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457280" y="56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457280" y="5641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457280" y="5632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1457280" y="5624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457280" y="56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457280" y="5607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1457280" y="5597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457280" y="55897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457280" y="55818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1457280" y="5572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457280" y="5564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457280" y="55548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457280" y="5546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1457280" y="55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457280" y="5529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457280" y="5519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457280" y="5511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457280" y="55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457280" y="5494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1457280" y="5484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1457280" y="5477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457280" y="54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457280" y="5459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457280" y="5451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457280" y="5442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457280" y="54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457280" y="54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457280" y="5416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457280" y="5407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457280" y="539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457280" y="5389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457280" y="5381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1457280" y="5372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1457280" y="53640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9" name=""/>
          <p:cNvGrpSpPr/>
          <p:nvPr/>
        </p:nvGrpSpPr>
        <p:grpSpPr>
          <a:xfrm>
            <a:off x="2730600" y="5357880"/>
            <a:ext cx="4680" cy="863640"/>
            <a:chOff x="2730600" y="5357880"/>
            <a:chExt cx="4680" cy="863640"/>
          </a:xfrm>
        </p:grpSpPr>
        <p:sp>
          <p:nvSpPr>
            <p:cNvPr id="3260" name=""/>
            <p:cNvSpPr/>
            <p:nvPr/>
          </p:nvSpPr>
          <p:spPr>
            <a:xfrm>
              <a:off x="2730600" y="6216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730600" y="6208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730600" y="619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730600" y="6191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730600" y="618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730600" y="6173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730600" y="616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730600" y="615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730600" y="614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730600" y="613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2730600" y="6129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2730600" y="612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2730600" y="6111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2730600" y="610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730600" y="609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730600" y="608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730600" y="607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730600" y="606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730600" y="6060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730600" y="605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730600" y="6043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730600" y="603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730600" y="602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730600" y="601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730600" y="600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730600" y="5999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2730600" y="599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730600" y="5981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730600" y="597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730600" y="596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730600" y="595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730600" y="594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730600" y="593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730600" y="5931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730600" y="59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730600" y="5913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730600" y="590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730600" y="589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730600" y="58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730600" y="587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2730600" y="5869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730600" y="586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2730600" y="58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730600" y="584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730600" y="5834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730600" y="582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730600" y="581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730600" y="580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730600" y="580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730600" y="579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2730600" y="57834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730600" y="57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730600" y="5765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730600" y="575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730600" y="574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730600" y="57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730600" y="573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730600" y="5721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730600" y="571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730600" y="57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730600" y="569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730600" y="568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730600" y="567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730600" y="567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730600" y="56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730600" y="5653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730600" y="564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730600" y="5635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730600" y="56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730600" y="561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730600" y="560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730600" y="560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730600" y="55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730600" y="558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730600" y="5573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730600" y="5565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2730600" y="555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730600" y="554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730600" y="554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2730600" y="5530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2730600" y="5522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2730600" y="55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730600" y="5505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2730600" y="549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730600" y="5487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730600" y="54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2730600" y="547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730600" y="546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730600" y="545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730600" y="54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730600" y="543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730600" y="5425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730600" y="541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730600" y="541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2730600" y="540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2730600" y="539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2730600" y="538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2730600" y="5375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2730600" y="53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2730600" y="5357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0" name=""/>
          <p:cNvGrpSpPr/>
          <p:nvPr/>
        </p:nvGrpSpPr>
        <p:grpSpPr>
          <a:xfrm>
            <a:off x="3362400" y="5370480"/>
            <a:ext cx="4680" cy="620640"/>
            <a:chOff x="3362400" y="5370480"/>
            <a:chExt cx="4680" cy="620640"/>
          </a:xfrm>
        </p:grpSpPr>
        <p:sp>
          <p:nvSpPr>
            <p:cNvPr id="3361" name=""/>
            <p:cNvSpPr/>
            <p:nvPr/>
          </p:nvSpPr>
          <p:spPr>
            <a:xfrm>
              <a:off x="336240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336240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336240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336240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336240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336240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36240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36240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36240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36240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36240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36240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36240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36240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36240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336240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336240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336240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36240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336240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336240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336240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336240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336240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36240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336240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36240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36240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36240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36240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36240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36240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336240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36240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336240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36240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336240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336240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336240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336240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336240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336240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36240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336240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336240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336240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36240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36240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36240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36240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336240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336240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336240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336240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336240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36240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36240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36240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36240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336240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336240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336240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336240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336240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336240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336240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336240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336240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336240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336240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336240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36240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3" name=""/>
          <p:cNvGrpSpPr/>
          <p:nvPr/>
        </p:nvGrpSpPr>
        <p:grpSpPr>
          <a:xfrm>
            <a:off x="6306480" y="5133960"/>
            <a:ext cx="201240" cy="407160"/>
            <a:chOff x="6306480" y="5133960"/>
            <a:chExt cx="201240" cy="407160"/>
          </a:xfrm>
        </p:grpSpPr>
        <p:sp>
          <p:nvSpPr>
            <p:cNvPr id="3434" name=""/>
            <p:cNvSpPr/>
            <p:nvPr/>
          </p:nvSpPr>
          <p:spPr>
            <a:xfrm>
              <a:off x="6402240" y="5308560"/>
              <a:ext cx="96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306480" y="5214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40584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41700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8" name=""/>
          <p:cNvGrpSpPr/>
          <p:nvPr/>
        </p:nvGrpSpPr>
        <p:grpSpPr>
          <a:xfrm>
            <a:off x="7243920" y="5133960"/>
            <a:ext cx="105840" cy="407160"/>
            <a:chOff x="7243920" y="5133960"/>
            <a:chExt cx="105840" cy="407160"/>
          </a:xfrm>
        </p:grpSpPr>
        <p:sp>
          <p:nvSpPr>
            <p:cNvPr id="3439" name=""/>
            <p:cNvSpPr/>
            <p:nvPr/>
          </p:nvSpPr>
          <p:spPr>
            <a:xfrm>
              <a:off x="7243920" y="5308560"/>
              <a:ext cx="968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24788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25904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6419880" y="4565520"/>
            <a:ext cx="420480" cy="314280"/>
            <a:chOff x="6419880" y="4565520"/>
            <a:chExt cx="420480" cy="314280"/>
          </a:xfrm>
        </p:grpSpPr>
        <p:sp>
          <p:nvSpPr>
            <p:cNvPr id="3443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  <a:lnTo>
                    <a:pt x="265" y="19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6840360" y="4565520"/>
            <a:ext cx="420840" cy="314280"/>
            <a:chOff x="6840360" y="4565520"/>
            <a:chExt cx="420840" cy="314280"/>
          </a:xfrm>
        </p:grpSpPr>
        <p:sp>
          <p:nvSpPr>
            <p:cNvPr id="3446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  <a:lnTo>
                    <a:pt x="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8" name=""/>
          <p:cNvSpPr/>
          <p:nvPr/>
        </p:nvSpPr>
        <p:spPr>
          <a:xfrm flipH="1">
            <a:off x="6240600" y="4849920"/>
            <a:ext cx="1728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7248600" y="4849920"/>
            <a:ext cx="1746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0" name=""/>
          <p:cNvGrpSpPr/>
          <p:nvPr/>
        </p:nvGrpSpPr>
        <p:grpSpPr>
          <a:xfrm>
            <a:off x="7423200" y="5383080"/>
            <a:ext cx="417600" cy="317520"/>
            <a:chOff x="7423200" y="5383080"/>
            <a:chExt cx="417600" cy="317520"/>
          </a:xfrm>
        </p:grpSpPr>
        <p:sp>
          <p:nvSpPr>
            <p:cNvPr id="3451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3" y="0"/>
                  </a:lnTo>
                  <a:lnTo>
                    <a:pt x="263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3" name=""/>
          <p:cNvGrpSpPr/>
          <p:nvPr/>
        </p:nvGrpSpPr>
        <p:grpSpPr>
          <a:xfrm>
            <a:off x="7840800" y="5383080"/>
            <a:ext cx="420480" cy="317520"/>
            <a:chOff x="7840800" y="5383080"/>
            <a:chExt cx="420480" cy="317520"/>
          </a:xfrm>
        </p:grpSpPr>
        <p:sp>
          <p:nvSpPr>
            <p:cNvPr id="3454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6" name=""/>
          <p:cNvGrpSpPr/>
          <p:nvPr/>
        </p:nvGrpSpPr>
        <p:grpSpPr>
          <a:xfrm>
            <a:off x="5400720" y="5373720"/>
            <a:ext cx="420480" cy="317520"/>
            <a:chOff x="5400720" y="5373720"/>
            <a:chExt cx="420480" cy="317520"/>
          </a:xfrm>
        </p:grpSpPr>
        <p:sp>
          <p:nvSpPr>
            <p:cNvPr id="3457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265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9" name=""/>
          <p:cNvGrpSpPr/>
          <p:nvPr/>
        </p:nvGrpSpPr>
        <p:grpSpPr>
          <a:xfrm>
            <a:off x="5821200" y="5373720"/>
            <a:ext cx="419040" cy="317520"/>
            <a:chOff x="5821200" y="5373720"/>
            <a:chExt cx="419040" cy="317520"/>
          </a:xfrm>
        </p:grpSpPr>
        <p:sp>
          <p:nvSpPr>
            <p:cNvPr id="3460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2" name=""/>
          <p:cNvSpPr/>
          <p:nvPr/>
        </p:nvSpPr>
        <p:spPr>
          <a:xfrm>
            <a:off x="5307120" y="5108400"/>
            <a:ext cx="85680" cy="268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3" name=""/>
          <p:cNvGrpSpPr/>
          <p:nvPr/>
        </p:nvGrpSpPr>
        <p:grpSpPr>
          <a:xfrm>
            <a:off x="6397560" y="4562640"/>
            <a:ext cx="433440" cy="6120"/>
            <a:chOff x="6397560" y="4562640"/>
            <a:chExt cx="433440" cy="6120"/>
          </a:xfrm>
        </p:grpSpPr>
        <p:sp>
          <p:nvSpPr>
            <p:cNvPr id="3464" name=""/>
            <p:cNvSpPr/>
            <p:nvPr/>
          </p:nvSpPr>
          <p:spPr>
            <a:xfrm>
              <a:off x="6397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64101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6422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6433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6446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64594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47064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64832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6495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650844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6519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6532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65451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6556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568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658152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592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6052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61824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62940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6420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654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665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6783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691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7021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7150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727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6738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7514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67640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77700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67881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8007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8133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824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0" name=""/>
          <p:cNvSpPr/>
          <p:nvPr/>
        </p:nvSpPr>
        <p:spPr>
          <a:xfrm>
            <a:off x="6604920" y="4138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6668280" y="4200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6041160" y="44928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6104520" y="455436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6422400" y="57513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6492240" y="5764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6555600" y="582444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936480" y="5157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7952760" y="5141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5895000" y="5151600"/>
            <a:ext cx="15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609480" y="42307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609480" y="52243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609480" y="622620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1484280" y="565308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1967040" y="4713120"/>
            <a:ext cx="74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 flipV="1">
            <a:off x="606600" y="37972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 flipV="1">
            <a:off x="568440" y="475128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581040" y="571500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 flipV="1">
            <a:off x="6827760" y="405756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195880" y="5097600"/>
            <a:ext cx="343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 flipV="1">
            <a:off x="7446960" y="1644120"/>
            <a:ext cx="0" cy="58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 flipV="1">
            <a:off x="5219640" y="158400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 flipV="1">
            <a:off x="1434960" y="162036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 flipV="1">
            <a:off x="1892160" y="25732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 flipV="1">
            <a:off x="3711600" y="16570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"/>
          <p:cNvSpPr/>
          <p:nvPr/>
        </p:nvSpPr>
        <p:spPr>
          <a:xfrm>
            <a:off x="251208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2351160" y="6172200"/>
            <a:ext cx="52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w stanie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7" name=""/>
          <p:cNvGrpSpPr/>
          <p:nvPr/>
        </p:nvGrpSpPr>
        <p:grpSpPr>
          <a:xfrm>
            <a:off x="1835280" y="995400"/>
            <a:ext cx="5833800" cy="5100480"/>
            <a:chOff x="1835280" y="995400"/>
            <a:chExt cx="5833800" cy="5100480"/>
          </a:xfrm>
        </p:grpSpPr>
        <p:sp>
          <p:nvSpPr>
            <p:cNvPr id="3528" name=""/>
            <p:cNvSpPr/>
            <p:nvPr/>
          </p:nvSpPr>
          <p:spPr>
            <a:xfrm>
              <a:off x="4010040" y="995400"/>
              <a:ext cx="1339920" cy="6588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468680" y="1022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721400" y="10224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ł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260960" y="122400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próbkuj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856040" y="122400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ąco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232520" y="142416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-pa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691160" y="142416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ętają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989440" y="1320840"/>
              <a:ext cx="522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646520" y="2058840"/>
              <a:ext cx="55800" cy="52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319800" y="1320840"/>
              <a:ext cx="5544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046320" y="1344600"/>
              <a:ext cx="963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370480" y="1344600"/>
              <a:ext cx="9684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0" name=""/>
            <p:cNvGrpSpPr/>
            <p:nvPr/>
          </p:nvGrpSpPr>
          <p:grpSpPr>
            <a:xfrm>
              <a:off x="4641840" y="2192400"/>
              <a:ext cx="84240" cy="260280"/>
              <a:chOff x="4641840" y="2192400"/>
              <a:chExt cx="84240" cy="260280"/>
            </a:xfrm>
          </p:grpSpPr>
          <p:sp>
            <p:nvSpPr>
              <p:cNvPr id="3541" name=""/>
              <p:cNvSpPr/>
              <p:nvPr/>
            </p:nvSpPr>
            <p:spPr>
              <a:xfrm flipH="1">
                <a:off x="4677840" y="2192400"/>
                <a:ext cx="8280" cy="260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641840" y="21924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8" y="0"/>
                    </a:lnTo>
                    <a:lnTo>
                      <a:pt x="0" y="5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3" name=""/>
            <p:cNvSpPr/>
            <p:nvPr/>
          </p:nvSpPr>
          <p:spPr>
            <a:xfrm>
              <a:off x="2968560" y="1946160"/>
              <a:ext cx="12564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626000" y="2502000"/>
              <a:ext cx="128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299280" y="1911240"/>
              <a:ext cx="123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81500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040360" y="1822320"/>
              <a:ext cx="468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879800" y="1822320"/>
              <a:ext cx="180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10552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879800" y="1935000"/>
              <a:ext cx="16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815000" y="182232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5056200" y="1822320"/>
              <a:ext cx="60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116680" y="193500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767120" y="1935000"/>
              <a:ext cx="63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094200" y="1006560"/>
              <a:ext cx="333360" cy="280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201480" y="1038240"/>
              <a:ext cx="11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59524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679480" y="16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71656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49116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6576120" y="16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63300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854240" y="2184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939560" y="2263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4996080" y="2184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1868400" y="25970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1941480" y="2733840"/>
              <a:ext cx="1825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2012400" y="276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071080" y="2828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2131920" y="2964960"/>
              <a:ext cx="31932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1" name=""/>
            <p:cNvGrpSpPr/>
            <p:nvPr/>
          </p:nvGrpSpPr>
          <p:grpSpPr>
            <a:xfrm>
              <a:off x="2451240" y="2819520"/>
              <a:ext cx="309600" cy="149040"/>
              <a:chOff x="2451240" y="2819520"/>
              <a:chExt cx="309600" cy="149040"/>
            </a:xfrm>
          </p:grpSpPr>
          <p:sp>
            <p:nvSpPr>
              <p:cNvPr id="3572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4" name=""/>
            <p:cNvSpPr/>
            <p:nvPr/>
          </p:nvSpPr>
          <p:spPr>
            <a:xfrm flipH="1" flipV="1">
              <a:off x="30873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5" name=""/>
            <p:cNvGrpSpPr/>
            <p:nvPr/>
          </p:nvGrpSpPr>
          <p:grpSpPr>
            <a:xfrm>
              <a:off x="2781360" y="2819520"/>
              <a:ext cx="309600" cy="149040"/>
              <a:chOff x="2781360" y="2819520"/>
              <a:chExt cx="309600" cy="149040"/>
            </a:xfrm>
          </p:grpSpPr>
          <p:sp>
            <p:nvSpPr>
              <p:cNvPr id="3576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8" name=""/>
            <p:cNvSpPr/>
            <p:nvPr/>
          </p:nvSpPr>
          <p:spPr>
            <a:xfrm>
              <a:off x="3417840" y="339084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9" name=""/>
            <p:cNvGrpSpPr/>
            <p:nvPr/>
          </p:nvGrpSpPr>
          <p:grpSpPr>
            <a:xfrm>
              <a:off x="3738600" y="3795840"/>
              <a:ext cx="309600" cy="149040"/>
              <a:chOff x="3738600" y="3795840"/>
              <a:chExt cx="309600" cy="149040"/>
            </a:xfrm>
          </p:grpSpPr>
          <p:sp>
            <p:nvSpPr>
              <p:cNvPr id="3580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2" name=""/>
            <p:cNvSpPr/>
            <p:nvPr/>
          </p:nvSpPr>
          <p:spPr>
            <a:xfrm flipH="1">
              <a:off x="4378320" y="339084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3" name=""/>
            <p:cNvGrpSpPr/>
            <p:nvPr/>
          </p:nvGrpSpPr>
          <p:grpSpPr>
            <a:xfrm>
              <a:off x="4068720" y="3795840"/>
              <a:ext cx="309600" cy="149040"/>
              <a:chOff x="4068720" y="3795840"/>
              <a:chExt cx="309600" cy="149040"/>
            </a:xfrm>
          </p:grpSpPr>
          <p:sp>
            <p:nvSpPr>
              <p:cNvPr id="3584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6" name=""/>
            <p:cNvSpPr/>
            <p:nvPr/>
          </p:nvSpPr>
          <p:spPr>
            <a:xfrm flipV="1">
              <a:off x="47037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7" name=""/>
            <p:cNvGrpSpPr/>
            <p:nvPr/>
          </p:nvGrpSpPr>
          <p:grpSpPr>
            <a:xfrm>
              <a:off x="5024520" y="2819520"/>
              <a:ext cx="309600" cy="149040"/>
              <a:chOff x="5024520" y="2819520"/>
              <a:chExt cx="309600" cy="149040"/>
            </a:xfrm>
          </p:grpSpPr>
          <p:sp>
            <p:nvSpPr>
              <p:cNvPr id="3588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0" name=""/>
            <p:cNvSpPr/>
            <p:nvPr/>
          </p:nvSpPr>
          <p:spPr>
            <a:xfrm flipH="1" flipV="1">
              <a:off x="5664240" y="2964960"/>
              <a:ext cx="3189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1" name=""/>
            <p:cNvGrpSpPr/>
            <p:nvPr/>
          </p:nvGrpSpPr>
          <p:grpSpPr>
            <a:xfrm>
              <a:off x="5354640" y="2819520"/>
              <a:ext cx="309600" cy="149040"/>
              <a:chOff x="5354640" y="2819520"/>
              <a:chExt cx="309600" cy="149040"/>
            </a:xfrm>
          </p:grpSpPr>
          <p:sp>
            <p:nvSpPr>
              <p:cNvPr id="3592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4" name=""/>
            <p:cNvSpPr/>
            <p:nvPr/>
          </p:nvSpPr>
          <p:spPr>
            <a:xfrm>
              <a:off x="5994360" y="337968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5" name=""/>
            <p:cNvGrpSpPr/>
            <p:nvPr/>
          </p:nvGrpSpPr>
          <p:grpSpPr>
            <a:xfrm>
              <a:off x="6310440" y="3784680"/>
              <a:ext cx="309600" cy="150840"/>
              <a:chOff x="6310440" y="3784680"/>
              <a:chExt cx="309600" cy="150840"/>
            </a:xfrm>
          </p:grpSpPr>
          <p:sp>
            <p:nvSpPr>
              <p:cNvPr id="3596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8" name=""/>
            <p:cNvGrpSpPr/>
            <p:nvPr/>
          </p:nvGrpSpPr>
          <p:grpSpPr>
            <a:xfrm>
              <a:off x="6640560" y="3784680"/>
              <a:ext cx="309600" cy="150840"/>
              <a:chOff x="6640560" y="3784680"/>
              <a:chExt cx="309600" cy="150840"/>
            </a:xfrm>
          </p:grpSpPr>
          <p:sp>
            <p:nvSpPr>
              <p:cNvPr id="3599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2298600" y="3165480"/>
              <a:ext cx="6480" cy="1327320"/>
              <a:chOff x="2298600" y="3165480"/>
              <a:chExt cx="6480" cy="1327320"/>
            </a:xfrm>
          </p:grpSpPr>
          <p:sp>
            <p:nvSpPr>
              <p:cNvPr id="3602" name=""/>
              <p:cNvSpPr/>
              <p:nvPr/>
            </p:nvSpPr>
            <p:spPr>
              <a:xfrm>
                <a:off x="2298600" y="3165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298600" y="317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2298600" y="3192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2298600" y="3206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2298600" y="322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298600" y="3233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2298600" y="324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2298600" y="3260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298600" y="3274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298600" y="3287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298600" y="3301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298600" y="331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298600" y="3328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298600" y="3343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298600" y="33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298600" y="3370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298600" y="3382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2298600" y="3397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298600" y="341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298600" y="3424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298600" y="3438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298600" y="34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298600" y="3465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298600" y="3478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298600" y="3492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298600" y="3506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298600" y="3519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298600" y="35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298600" y="3546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298600" y="356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298600" y="357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2986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2986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298600" y="3614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298600" y="3629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298600" y="364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298600" y="3656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298600" y="367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298600" y="3683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298600" y="369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298600" y="3710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298600" y="3724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298600" y="3736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298600" y="3751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298600" y="376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298600" y="3778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298600" y="3792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298600" y="3805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2298600" y="3819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298600" y="3832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2298600" y="3846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2298600" y="3860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2298600" y="3873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298600" y="3887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2298600" y="3900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2298600" y="3914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2298600" y="392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298600" y="394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2298600" y="395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2986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22986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22986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298600" y="4010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2298600" y="402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298600" y="403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298600" y="405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298600" y="4064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2298600" y="4078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298600" y="4091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2298600" y="4105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2298600" y="411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298600" y="4132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2298600" y="4146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2298600" y="4159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298600" y="4173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298600" y="4186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2298600" y="4200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298600" y="4213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298600" y="4227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2298600" y="4241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2298600" y="4254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298600" y="4268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298600" y="4281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298600" y="4295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2298600" y="430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2298600" y="4322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2298600" y="4336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2298600" y="4349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22986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22986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2298600" y="439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2298600" y="4405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2298600" y="441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2298600" y="4432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2298600" y="44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2298600" y="4459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2298600" y="4471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2298600" y="448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0" name=""/>
            <p:cNvGrpSpPr/>
            <p:nvPr/>
          </p:nvGrpSpPr>
          <p:grpSpPr>
            <a:xfrm>
              <a:off x="4851360" y="3186000"/>
              <a:ext cx="6480" cy="1327320"/>
              <a:chOff x="4851360" y="3186000"/>
              <a:chExt cx="6480" cy="1327320"/>
            </a:xfrm>
          </p:grpSpPr>
          <p:sp>
            <p:nvSpPr>
              <p:cNvPr id="3701" name=""/>
              <p:cNvSpPr/>
              <p:nvPr/>
            </p:nvSpPr>
            <p:spPr>
              <a:xfrm>
                <a:off x="4851360" y="3186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851360" y="320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4851360" y="321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4851360" y="3227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4851360" y="324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851360" y="3254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851360" y="326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4851360" y="328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4851360" y="329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851360" y="330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4851360" y="3322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4851360" y="3335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4851360" y="3349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851360" y="3363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851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851360" y="339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851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4851360" y="3417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851360" y="343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851360" y="344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851360" y="3459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851360" y="3471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851360" y="3486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851360" y="3498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51360" y="3513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851360" y="3525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851360" y="3540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851360" y="3554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851360" y="3567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851360" y="3581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4851360" y="3594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4851360" y="3608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4851360" y="3621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851360" y="3635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851360" y="3649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4851360" y="3662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4851360" y="367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851360" y="3689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4851360" y="37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851360" y="371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851360" y="3730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851360" y="374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851360" y="3757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851360" y="3772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4851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4851360" y="3798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4851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4851360" y="382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851360" y="384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851360" y="385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851360" y="386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851360" y="387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851360" y="3894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851360" y="390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4851360" y="3921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851360" y="393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851360" y="394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851360" y="3962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51360" y="3975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51360" y="3989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4851360" y="400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851360" y="4016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51360" y="403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851360" y="404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51360" y="4057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851360" y="407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51360" y="4084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4851360" y="409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851360" y="4111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851360" y="412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4851360" y="4138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4851360" y="415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4851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4851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851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851360" y="420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851360" y="422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4851360" y="423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851360" y="4248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4851360" y="4260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851360" y="4275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4851360" y="428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4851360" y="4302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851360" y="431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4851360" y="432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4851360" y="4343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4851360" y="435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851360" y="437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851360" y="438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851360" y="4397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851360" y="441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851360" y="4424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851360" y="443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851360" y="445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851360" y="446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851360" y="447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851360" y="44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851360" y="450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9" name=""/>
            <p:cNvSpPr/>
            <p:nvPr/>
          </p:nvSpPr>
          <p:spPr>
            <a:xfrm>
              <a:off x="2301840" y="4486320"/>
              <a:ext cx="180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4854600" y="4486320"/>
              <a:ext cx="144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1" name=""/>
            <p:cNvGrpSpPr/>
            <p:nvPr/>
          </p:nvGrpSpPr>
          <p:grpSpPr>
            <a:xfrm>
              <a:off x="2298600" y="4834080"/>
              <a:ext cx="6480" cy="849240"/>
              <a:chOff x="2298600" y="4834080"/>
              <a:chExt cx="6480" cy="849240"/>
            </a:xfrm>
          </p:grpSpPr>
          <p:sp>
            <p:nvSpPr>
              <p:cNvPr id="3802" name=""/>
              <p:cNvSpPr/>
              <p:nvPr/>
            </p:nvSpPr>
            <p:spPr>
              <a:xfrm>
                <a:off x="229860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229860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29860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29860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29860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229860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229860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229860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22986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22986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229860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229860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229860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229860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229860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229860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229860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229860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229860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229860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229860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229860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229860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229860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229860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29860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29860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29860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29860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229860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229860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229860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29860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29860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29860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29860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29860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2986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29860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29860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29860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29860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29860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29860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29860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29860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29860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29860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29860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229860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229860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229860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229860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229860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229860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229860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229860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2298600" y="5608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2298600" y="562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2298600" y="563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2298600" y="564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2298600" y="5664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2298600" y="567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5" name=""/>
            <p:cNvGrpSpPr/>
            <p:nvPr/>
          </p:nvGrpSpPr>
          <p:grpSpPr>
            <a:xfrm>
              <a:off x="4851360" y="4834080"/>
              <a:ext cx="6480" cy="768240"/>
              <a:chOff x="4851360" y="4834080"/>
              <a:chExt cx="6480" cy="768240"/>
            </a:xfrm>
          </p:grpSpPr>
          <p:sp>
            <p:nvSpPr>
              <p:cNvPr id="3866" name=""/>
              <p:cNvSpPr/>
              <p:nvPr/>
            </p:nvSpPr>
            <p:spPr>
              <a:xfrm>
                <a:off x="485136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85136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85136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5136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5136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85136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85136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36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851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51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85136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5136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5136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85136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85136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85136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85136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85136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85136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85136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85136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85136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485136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485136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85136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85136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485136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485136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485136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485136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85136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85136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85136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85136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85136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85136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85136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851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85136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85136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85136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85136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85136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485136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85136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485136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485136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85136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485136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485136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485136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485136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485136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485136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485136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485136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485136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3" name=""/>
            <p:cNvSpPr/>
            <p:nvPr/>
          </p:nvSpPr>
          <p:spPr>
            <a:xfrm flipH="1">
              <a:off x="2131920" y="5602320"/>
              <a:ext cx="1699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301840" y="5602320"/>
              <a:ext cx="25527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 flipV="1">
              <a:off x="4854600" y="5571720"/>
              <a:ext cx="1440" cy="33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863960" y="5602320"/>
              <a:ext cx="16923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7280280" y="588168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380720" y="590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7326720" y="347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7280280" y="493560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380720" y="496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09800" y="3274920"/>
              <a:ext cx="183960" cy="2174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99440" y="3301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835280" y="5286240"/>
              <a:ext cx="23796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24920" y="5313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85400" y="5381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1855800" y="4349880"/>
              <a:ext cx="2174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934280" y="4376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95120" y="4444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116080" y="3352680"/>
              <a:ext cx="555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127240" y="4824360"/>
              <a:ext cx="55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127240" y="5802480"/>
              <a:ext cx="54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V="1">
              <a:off x="2116080" y="2585880"/>
              <a:ext cx="0" cy="13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 flipV="1">
              <a:off x="2127240" y="411948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flipV="1">
              <a:off x="2116080" y="512100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 flipV="1">
              <a:off x="3006720" y="1360080"/>
              <a:ext cx="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 flipV="1">
              <a:off x="4676760" y="165744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V="1">
              <a:off x="6346800" y="140940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"/>
          <p:cNvSpPr/>
          <p:nvPr/>
        </p:nvSpPr>
        <p:spPr>
          <a:xfrm>
            <a:off x="243576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2043720" y="6019920"/>
            <a:ext cx="55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przy braku 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1" name=""/>
          <p:cNvGrpSpPr/>
          <p:nvPr/>
        </p:nvGrpSpPr>
        <p:grpSpPr>
          <a:xfrm>
            <a:off x="1520640" y="1217520"/>
            <a:ext cx="6643800" cy="4375080"/>
            <a:chOff x="1520640" y="1217520"/>
            <a:chExt cx="6643800" cy="4375080"/>
          </a:xfrm>
        </p:grpSpPr>
        <p:sp>
          <p:nvSpPr>
            <p:cNvPr id="3952" name=""/>
            <p:cNvSpPr/>
            <p:nvPr/>
          </p:nvSpPr>
          <p:spPr>
            <a:xfrm>
              <a:off x="1638000" y="1217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723680" y="1298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01312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3241800" y="3316320"/>
              <a:ext cx="144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8032320" y="502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7968960" y="2117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8032320" y="38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1609200" y="191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52064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606320" y="4395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1533240" y="319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617480" y="327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V="1">
              <a:off x="18129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5" name=""/>
            <p:cNvGrpSpPr/>
            <p:nvPr/>
          </p:nvGrpSpPr>
          <p:grpSpPr>
            <a:xfrm>
              <a:off x="1974960" y="1338120"/>
              <a:ext cx="158760" cy="179640"/>
              <a:chOff x="1974960" y="1338120"/>
              <a:chExt cx="158760" cy="179640"/>
            </a:xfrm>
          </p:grpSpPr>
          <p:sp>
            <p:nvSpPr>
              <p:cNvPr id="3966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8" name=""/>
            <p:cNvSpPr/>
            <p:nvPr/>
          </p:nvSpPr>
          <p:spPr>
            <a:xfrm flipH="1" flipV="1">
              <a:off x="230508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9" name=""/>
            <p:cNvGrpSpPr/>
            <p:nvPr/>
          </p:nvGrpSpPr>
          <p:grpSpPr>
            <a:xfrm>
              <a:off x="2146320" y="1338120"/>
              <a:ext cx="158760" cy="179640"/>
              <a:chOff x="2146320" y="1338120"/>
              <a:chExt cx="158760" cy="179640"/>
            </a:xfrm>
          </p:grpSpPr>
          <p:sp>
            <p:nvSpPr>
              <p:cNvPr id="3970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2" name=""/>
            <p:cNvSpPr/>
            <p:nvPr/>
          </p:nvSpPr>
          <p:spPr>
            <a:xfrm>
              <a:off x="2471760" y="2021040"/>
              <a:ext cx="1652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3" name=""/>
            <p:cNvGrpSpPr/>
            <p:nvPr/>
          </p:nvGrpSpPr>
          <p:grpSpPr>
            <a:xfrm>
              <a:off x="2637000" y="2503440"/>
              <a:ext cx="158760" cy="179280"/>
              <a:chOff x="2637000" y="2503440"/>
              <a:chExt cx="158760" cy="179280"/>
            </a:xfrm>
          </p:grpSpPr>
          <p:sp>
            <p:nvSpPr>
              <p:cNvPr id="3974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6" name=""/>
            <p:cNvSpPr/>
            <p:nvPr/>
          </p:nvSpPr>
          <p:spPr>
            <a:xfrm flipH="1">
              <a:off x="296712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7" name=""/>
            <p:cNvGrpSpPr/>
            <p:nvPr/>
          </p:nvGrpSpPr>
          <p:grpSpPr>
            <a:xfrm>
              <a:off x="2808360" y="2503440"/>
              <a:ext cx="158760" cy="179280"/>
              <a:chOff x="2808360" y="2503440"/>
              <a:chExt cx="158760" cy="179280"/>
            </a:xfrm>
          </p:grpSpPr>
          <p:sp>
            <p:nvSpPr>
              <p:cNvPr id="3978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0" name=""/>
            <p:cNvSpPr/>
            <p:nvPr/>
          </p:nvSpPr>
          <p:spPr>
            <a:xfrm flipV="1">
              <a:off x="31370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1" name=""/>
            <p:cNvGrpSpPr/>
            <p:nvPr/>
          </p:nvGrpSpPr>
          <p:grpSpPr>
            <a:xfrm>
              <a:off x="3298680" y="1338120"/>
              <a:ext cx="158760" cy="179640"/>
              <a:chOff x="3298680" y="1338120"/>
              <a:chExt cx="158760" cy="179640"/>
            </a:xfrm>
          </p:grpSpPr>
          <p:sp>
            <p:nvSpPr>
              <p:cNvPr id="3982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4" name=""/>
            <p:cNvSpPr/>
            <p:nvPr/>
          </p:nvSpPr>
          <p:spPr>
            <a:xfrm flipH="1" flipV="1">
              <a:off x="3627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5" name=""/>
            <p:cNvGrpSpPr/>
            <p:nvPr/>
          </p:nvGrpSpPr>
          <p:grpSpPr>
            <a:xfrm>
              <a:off x="3470400" y="1338120"/>
              <a:ext cx="156960" cy="179640"/>
              <a:chOff x="3470400" y="1338120"/>
              <a:chExt cx="156960" cy="179640"/>
            </a:xfrm>
          </p:grpSpPr>
          <p:sp>
            <p:nvSpPr>
              <p:cNvPr id="3986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8" name=""/>
            <p:cNvSpPr/>
            <p:nvPr/>
          </p:nvSpPr>
          <p:spPr>
            <a:xfrm>
              <a:off x="3798720" y="200808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9" name=""/>
            <p:cNvGrpSpPr/>
            <p:nvPr/>
          </p:nvGrpSpPr>
          <p:grpSpPr>
            <a:xfrm>
              <a:off x="3960720" y="2492280"/>
              <a:ext cx="158760" cy="177840"/>
              <a:chOff x="3960720" y="2492280"/>
              <a:chExt cx="158760" cy="177840"/>
            </a:xfrm>
          </p:grpSpPr>
          <p:sp>
            <p:nvSpPr>
              <p:cNvPr id="3990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2" name=""/>
            <p:cNvGrpSpPr/>
            <p:nvPr/>
          </p:nvGrpSpPr>
          <p:grpSpPr>
            <a:xfrm>
              <a:off x="4132440" y="2492280"/>
              <a:ext cx="156960" cy="177840"/>
              <a:chOff x="4132440" y="2492280"/>
              <a:chExt cx="156960" cy="177840"/>
            </a:xfrm>
          </p:grpSpPr>
          <p:sp>
            <p:nvSpPr>
              <p:cNvPr id="3993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5" name=""/>
            <p:cNvSpPr/>
            <p:nvPr/>
          </p:nvSpPr>
          <p:spPr>
            <a:xfrm flipH="1">
              <a:off x="4296960" y="2021040"/>
              <a:ext cx="16668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flipV="1">
              <a:off x="447660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7" name=""/>
            <p:cNvGrpSpPr/>
            <p:nvPr/>
          </p:nvGrpSpPr>
          <p:grpSpPr>
            <a:xfrm>
              <a:off x="4638600" y="1338120"/>
              <a:ext cx="158760" cy="179640"/>
              <a:chOff x="4638600" y="1338120"/>
              <a:chExt cx="158760" cy="179640"/>
            </a:xfrm>
          </p:grpSpPr>
          <p:sp>
            <p:nvSpPr>
              <p:cNvPr id="3998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0" name=""/>
            <p:cNvSpPr/>
            <p:nvPr/>
          </p:nvSpPr>
          <p:spPr>
            <a:xfrm flipH="1" flipV="1">
              <a:off x="4959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1" name=""/>
            <p:cNvGrpSpPr/>
            <p:nvPr/>
          </p:nvGrpSpPr>
          <p:grpSpPr>
            <a:xfrm>
              <a:off x="4805280" y="1338120"/>
              <a:ext cx="158760" cy="179640"/>
              <a:chOff x="4805280" y="1338120"/>
              <a:chExt cx="158760" cy="179640"/>
            </a:xfrm>
          </p:grpSpPr>
          <p:sp>
            <p:nvSpPr>
              <p:cNvPr id="4002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4" name=""/>
            <p:cNvSpPr/>
            <p:nvPr/>
          </p:nvSpPr>
          <p:spPr>
            <a:xfrm>
              <a:off x="5126040" y="2021040"/>
              <a:ext cx="1634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5" name=""/>
            <p:cNvGrpSpPr/>
            <p:nvPr/>
          </p:nvGrpSpPr>
          <p:grpSpPr>
            <a:xfrm>
              <a:off x="5289480" y="2503440"/>
              <a:ext cx="157320" cy="179280"/>
              <a:chOff x="5289480" y="2503440"/>
              <a:chExt cx="157320" cy="179280"/>
            </a:xfrm>
          </p:grpSpPr>
          <p:sp>
            <p:nvSpPr>
              <p:cNvPr id="4006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8" name=""/>
            <p:cNvSpPr/>
            <p:nvPr/>
          </p:nvSpPr>
          <p:spPr>
            <a:xfrm flipH="1">
              <a:off x="56134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9" name=""/>
            <p:cNvGrpSpPr/>
            <p:nvPr/>
          </p:nvGrpSpPr>
          <p:grpSpPr>
            <a:xfrm>
              <a:off x="5454720" y="2503440"/>
              <a:ext cx="158760" cy="179280"/>
              <a:chOff x="5454720" y="2503440"/>
              <a:chExt cx="158760" cy="179280"/>
            </a:xfrm>
          </p:grpSpPr>
          <p:sp>
            <p:nvSpPr>
              <p:cNvPr id="4010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2" name=""/>
            <p:cNvSpPr/>
            <p:nvPr/>
          </p:nvSpPr>
          <p:spPr>
            <a:xfrm flipV="1">
              <a:off x="57801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3" name=""/>
            <p:cNvGrpSpPr/>
            <p:nvPr/>
          </p:nvGrpSpPr>
          <p:grpSpPr>
            <a:xfrm>
              <a:off x="5942160" y="1338120"/>
              <a:ext cx="158760" cy="179640"/>
              <a:chOff x="5942160" y="1338120"/>
              <a:chExt cx="158760" cy="179640"/>
            </a:xfrm>
          </p:grpSpPr>
          <p:sp>
            <p:nvSpPr>
              <p:cNvPr id="4014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6" name=""/>
            <p:cNvSpPr/>
            <p:nvPr/>
          </p:nvSpPr>
          <p:spPr>
            <a:xfrm flipH="1" flipV="1">
              <a:off x="62672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7" name=""/>
            <p:cNvGrpSpPr/>
            <p:nvPr/>
          </p:nvGrpSpPr>
          <p:grpSpPr>
            <a:xfrm>
              <a:off x="6108840" y="1338120"/>
              <a:ext cx="158760" cy="179640"/>
              <a:chOff x="6108840" y="1338120"/>
              <a:chExt cx="158760" cy="179640"/>
            </a:xfrm>
          </p:grpSpPr>
          <p:sp>
            <p:nvSpPr>
              <p:cNvPr id="4018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0" name=""/>
            <p:cNvSpPr/>
            <p:nvPr/>
          </p:nvSpPr>
          <p:spPr>
            <a:xfrm>
              <a:off x="6434280" y="200808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1" name=""/>
            <p:cNvGrpSpPr/>
            <p:nvPr/>
          </p:nvGrpSpPr>
          <p:grpSpPr>
            <a:xfrm>
              <a:off x="6595920" y="2492280"/>
              <a:ext cx="158760" cy="177840"/>
              <a:chOff x="6595920" y="2492280"/>
              <a:chExt cx="158760" cy="177840"/>
            </a:xfrm>
          </p:grpSpPr>
          <p:sp>
            <p:nvSpPr>
              <p:cNvPr id="4022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6762600" y="2492280"/>
              <a:ext cx="158760" cy="177840"/>
              <a:chOff x="6762600" y="2492280"/>
              <a:chExt cx="158760" cy="177840"/>
            </a:xfrm>
          </p:grpSpPr>
          <p:sp>
            <p:nvSpPr>
              <p:cNvPr id="4025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7" name=""/>
            <p:cNvSpPr/>
            <p:nvPr/>
          </p:nvSpPr>
          <p:spPr>
            <a:xfrm flipH="1">
              <a:off x="69292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444816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V="1">
              <a:off x="7164360" y="4635000"/>
              <a:ext cx="1440" cy="3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641920" y="3316320"/>
              <a:ext cx="180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1" name=""/>
            <p:cNvGrpSpPr/>
            <p:nvPr/>
          </p:nvGrpSpPr>
          <p:grpSpPr>
            <a:xfrm>
              <a:off x="1849320" y="1387440"/>
              <a:ext cx="4467240" cy="1149480"/>
              <a:chOff x="1849320" y="1387440"/>
              <a:chExt cx="4467240" cy="1149480"/>
            </a:xfrm>
          </p:grpSpPr>
          <p:sp>
            <p:nvSpPr>
              <p:cNvPr id="4032" name=""/>
              <p:cNvSpPr/>
              <p:nvPr/>
            </p:nvSpPr>
            <p:spPr>
              <a:xfrm>
                <a:off x="1849320" y="1387440"/>
                <a:ext cx="4467240" cy="1079640"/>
              </a:xfrm>
              <a:custGeom>
                <a:avLst/>
                <a:gdLst/>
                <a:ahLst/>
                <a:rect l="l" t="t" r="r" b="b"/>
                <a:pathLst>
                  <a:path w="2814" h="680">
                    <a:moveTo>
                      <a:pt x="0" y="8"/>
                    </a:moveTo>
                    <a:lnTo>
                      <a:pt x="103" y="0"/>
                    </a:lnTo>
                    <a:lnTo>
                      <a:pt x="870" y="0"/>
                    </a:lnTo>
                    <a:lnTo>
                      <a:pt x="877" y="233"/>
                    </a:lnTo>
                    <a:lnTo>
                      <a:pt x="1637" y="240"/>
                    </a:lnTo>
                    <a:lnTo>
                      <a:pt x="1637" y="448"/>
                    </a:lnTo>
                    <a:lnTo>
                      <a:pt x="2389" y="448"/>
                    </a:lnTo>
                    <a:lnTo>
                      <a:pt x="2389" y="680"/>
                    </a:lnTo>
                    <a:lnTo>
                      <a:pt x="2814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6186600" y="2401920"/>
                <a:ext cx="129960" cy="13500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85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4" name=""/>
            <p:cNvGrpSpPr/>
            <p:nvPr/>
          </p:nvGrpSpPr>
          <p:grpSpPr>
            <a:xfrm>
              <a:off x="1911240" y="4254480"/>
              <a:ext cx="4465800" cy="1147680"/>
              <a:chOff x="1911240" y="4254480"/>
              <a:chExt cx="4465800" cy="1147680"/>
            </a:xfrm>
          </p:grpSpPr>
          <p:sp>
            <p:nvSpPr>
              <p:cNvPr id="4035" name=""/>
              <p:cNvSpPr/>
              <p:nvPr/>
            </p:nvSpPr>
            <p:spPr>
              <a:xfrm>
                <a:off x="1911240" y="4254480"/>
                <a:ext cx="4465800" cy="1079640"/>
              </a:xfrm>
              <a:custGeom>
                <a:avLst/>
                <a:gdLst/>
                <a:ahLst/>
                <a:rect l="l" t="t" r="r" b="b"/>
                <a:pathLst>
                  <a:path w="2813" h="680">
                    <a:moveTo>
                      <a:pt x="0" y="10"/>
                    </a:moveTo>
                    <a:lnTo>
                      <a:pt x="104" y="0"/>
                    </a:lnTo>
                    <a:lnTo>
                      <a:pt x="872" y="0"/>
                    </a:lnTo>
                    <a:lnTo>
                      <a:pt x="879" y="232"/>
                    </a:lnTo>
                    <a:lnTo>
                      <a:pt x="1639" y="240"/>
                    </a:lnTo>
                    <a:lnTo>
                      <a:pt x="1639" y="447"/>
                    </a:lnTo>
                    <a:lnTo>
                      <a:pt x="2391" y="447"/>
                    </a:lnTo>
                    <a:lnTo>
                      <a:pt x="2391" y="680"/>
                    </a:lnTo>
                    <a:lnTo>
                      <a:pt x="2813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6246720" y="5268960"/>
                <a:ext cx="130320" cy="133200"/>
              </a:xfrm>
              <a:custGeom>
                <a:avLst/>
                <a:gdLst/>
                <a:ahLst/>
                <a:rect l="l" t="t" r="r" b="b"/>
                <a:pathLst>
                  <a:path w="82" h="84">
                    <a:moveTo>
                      <a:pt x="0" y="84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7" name=""/>
            <p:cNvSpPr/>
            <p:nvPr/>
          </p:nvSpPr>
          <p:spPr>
            <a:xfrm>
              <a:off x="1793880" y="2028960"/>
              <a:ext cx="637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806480" y="3736800"/>
              <a:ext cx="624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806480" y="5592600"/>
              <a:ext cx="61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V="1">
              <a:off x="1792440" y="132408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V="1">
              <a:off x="1768320" y="2931840"/>
              <a:ext cx="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1781280" y="3946680"/>
              <a:ext cx="0" cy="164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"/>
          <p:cNvSpPr/>
          <p:nvPr/>
        </p:nvSpPr>
        <p:spPr>
          <a:xfrm>
            <a:off x="752760" y="30492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2204280" y="58672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mnożnika transkonduktancyj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5" name=""/>
          <p:cNvGrpSpPr/>
          <p:nvPr/>
        </p:nvGrpSpPr>
        <p:grpSpPr>
          <a:xfrm>
            <a:off x="2157120" y="874800"/>
            <a:ext cx="4723920" cy="4897440"/>
            <a:chOff x="2157120" y="874800"/>
            <a:chExt cx="4723920" cy="4897440"/>
          </a:xfrm>
        </p:grpSpPr>
        <p:sp>
          <p:nvSpPr>
            <p:cNvPr id="4046" name=""/>
            <p:cNvSpPr/>
            <p:nvPr/>
          </p:nvSpPr>
          <p:spPr>
            <a:xfrm>
              <a:off x="3378240" y="1319040"/>
              <a:ext cx="154080" cy="4082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3456000" y="1165320"/>
              <a:ext cx="14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3456000" y="1719360"/>
              <a:ext cx="14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405240" y="214956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3649680" y="1446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3768120" y="1536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4508640" y="5281560"/>
              <a:ext cx="344520" cy="3175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4508640" y="5113440"/>
              <a:ext cx="344520" cy="318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  <a:lnTo>
                    <a:pt x="85" y="4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 flipV="1">
              <a:off x="4680000" y="5590800"/>
              <a:ext cx="1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4630680" y="567684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1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 flipV="1">
              <a:off x="4676760" y="4914720"/>
              <a:ext cx="324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 flipV="1">
              <a:off x="4676760" y="5181480"/>
              <a:ext cx="3240" cy="346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621320" y="542772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0" y="0"/>
                  </a:moveTo>
                  <a:lnTo>
                    <a:pt x="35" y="63"/>
                  </a:lnTo>
                  <a:lnTo>
                    <a:pt x="6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3070080" y="2725560"/>
              <a:ext cx="4622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321480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V="1">
              <a:off x="322884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228840" y="3013200"/>
              <a:ext cx="13968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325584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8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36852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H="1">
              <a:off x="3070080" y="2962440"/>
              <a:ext cx="144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456000" y="312588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 flipV="1">
              <a:off x="3456000" y="2244240"/>
              <a:ext cx="144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3405240" y="247644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425680" y="2962440"/>
              <a:ext cx="6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064040" y="2725560"/>
              <a:ext cx="45720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37688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 flipH="1" flipV="1">
              <a:off x="413496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 flipH="1">
              <a:off x="421776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4218120" y="298944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H="1">
              <a:off x="413496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4376880" y="2962440"/>
              <a:ext cx="1411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4135320" y="3125880"/>
              <a:ext cx="18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V="1">
              <a:off x="4132440" y="261756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08132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 flipH="1">
              <a:off x="451332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3456000" y="3367080"/>
              <a:ext cx="67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4830840" y="2725560"/>
              <a:ext cx="4586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497052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 flipV="1">
              <a:off x="498492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498492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01660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51260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 flipH="1">
              <a:off x="4830840" y="296244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5211720" y="3125880"/>
              <a:ext cx="18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 flipH="1" flipV="1">
              <a:off x="5211360" y="2459160"/>
              <a:ext cx="468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16564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467208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819760" y="2725560"/>
              <a:ext cx="46368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6132600" y="2825640"/>
              <a:ext cx="468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 flipV="1">
              <a:off x="589284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 flipH="1">
              <a:off x="5978520" y="3013200"/>
              <a:ext cx="14112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978520" y="298944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40" y="0"/>
                  </a:moveTo>
                  <a:lnTo>
                    <a:pt x="0" y="60"/>
                  </a:lnTo>
                  <a:lnTo>
                    <a:pt x="72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 flipH="1">
              <a:off x="58928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132600" y="2962440"/>
              <a:ext cx="145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892840" y="3125880"/>
              <a:ext cx="144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V="1">
              <a:off x="5892840" y="2417400"/>
              <a:ext cx="14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842080" y="268128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6273360" y="2962440"/>
              <a:ext cx="158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211720" y="3367080"/>
              <a:ext cx="68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3382920" y="4119480"/>
              <a:ext cx="461880" cy="459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3522600" y="4219560"/>
              <a:ext cx="4680" cy="254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 flipV="1">
              <a:off x="3537000" y="4174920"/>
              <a:ext cx="231840" cy="9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3537000" y="4400640"/>
              <a:ext cx="14436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568680" y="4383000"/>
              <a:ext cx="1126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681360" y="4473720"/>
              <a:ext cx="87480" cy="4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 flipH="1">
              <a:off x="3382560" y="4351320"/>
              <a:ext cx="1443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763800" y="4514760"/>
              <a:ext cx="50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 flipV="1">
              <a:off x="2470320" y="4350960"/>
              <a:ext cx="917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511960" y="4133880"/>
              <a:ext cx="457200" cy="458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824440" y="423396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 flipH="1" flipV="1">
              <a:off x="5578560" y="4187880"/>
              <a:ext cx="23184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H="1">
              <a:off x="5665680" y="4414680"/>
              <a:ext cx="14472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665680" y="43927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 flipH="1">
              <a:off x="5578560" y="4487760"/>
              <a:ext cx="87120" cy="44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824440" y="436572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578560" y="452916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H="1">
              <a:off x="5961240" y="436572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763800" y="4754520"/>
              <a:ext cx="1833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127920" y="4365720"/>
              <a:ext cx="144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489040" y="4915080"/>
              <a:ext cx="364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457360" y="4883040"/>
              <a:ext cx="5868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438280" y="4329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843280" y="2962440"/>
              <a:ext cx="32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855880" y="3594240"/>
              <a:ext cx="359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672080" y="2967120"/>
              <a:ext cx="468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460600" y="3807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425680" y="3780000"/>
              <a:ext cx="63360" cy="5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411280" y="29354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427800" y="2967120"/>
              <a:ext cx="468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135320" y="2630520"/>
              <a:ext cx="175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468600" y="2459160"/>
              <a:ext cx="176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819760" y="1338120"/>
              <a:ext cx="154080" cy="403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892840" y="117792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892840" y="173196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42080" y="2336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087960" y="1460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04960" y="1550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456000" y="1170000"/>
              <a:ext cx="318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608880" y="11383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456000" y="2031840"/>
              <a:ext cx="466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424480" y="2031840"/>
              <a:ext cx="4683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375160" y="20048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900600" y="200484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608000" y="1709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703400" y="18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415200" y="8748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676200" y="965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166480" y="328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261880" y="3375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157120" y="451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252160" y="46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016600" y="5145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079960" y="5237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60628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68764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36976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4511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385380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9366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59964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6810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201280" y="425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306760" y="434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980520" y="422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08600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763800" y="3933720"/>
              <a:ext cx="504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578560" y="394812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836880" y="384804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890520" y="38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944880" y="3975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284440" y="3797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5338800" y="38876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3456000" y="25858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5951520" y="210492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6032160" y="213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6087600" y="222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324040" y="233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5380200" y="2427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951520" y="243216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995800" y="2463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6051600" y="25542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863520" y="252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917880" y="2612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182760" y="20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236400" y="21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 flipH="1">
              <a:off x="4156200" y="2041560"/>
              <a:ext cx="10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 flipV="1">
              <a:off x="2475000" y="30798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 flipV="1">
              <a:off x="2498760" y="4441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773520" y="33782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5578560" y="33908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"/>
          <p:cNvSpPr/>
          <p:nvPr/>
        </p:nvSpPr>
        <p:spPr>
          <a:xfrm>
            <a:off x="752760" y="3049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1977480" y="5943600"/>
            <a:ext cx="4530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przy braku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2" name=""/>
          <p:cNvGrpSpPr/>
          <p:nvPr/>
        </p:nvGrpSpPr>
        <p:grpSpPr>
          <a:xfrm>
            <a:off x="1612800" y="1176480"/>
            <a:ext cx="5646960" cy="4411440"/>
            <a:chOff x="1612800" y="1176480"/>
            <a:chExt cx="5646960" cy="4411440"/>
          </a:xfrm>
        </p:grpSpPr>
        <p:sp>
          <p:nvSpPr>
            <p:cNvPr id="4203" name=""/>
            <p:cNvSpPr/>
            <p:nvPr/>
          </p:nvSpPr>
          <p:spPr>
            <a:xfrm>
              <a:off x="3083040" y="2208240"/>
              <a:ext cx="51264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589200" y="20606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426096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4260960" y="1652760"/>
              <a:ext cx="672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4924440" y="1652760"/>
              <a:ext cx="144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4924440" y="2060640"/>
              <a:ext cx="355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2135160" y="324648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2403360" y="325764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2403360" y="3665520"/>
              <a:ext cx="676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079800" y="3270240"/>
              <a:ext cx="1440" cy="4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079800" y="3257640"/>
              <a:ext cx="671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740040" y="327024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740040" y="3678120"/>
              <a:ext cx="676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4416480" y="328284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4416480" y="3270240"/>
              <a:ext cx="658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5075280" y="3270240"/>
              <a:ext cx="144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075280" y="3678120"/>
              <a:ext cx="293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2151000" y="5397480"/>
              <a:ext cx="125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227664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2289240" y="4721400"/>
              <a:ext cx="109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2403360" y="4721400"/>
              <a:ext cx="180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2403360" y="5397480"/>
              <a:ext cx="447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2847960" y="4721400"/>
              <a:ext cx="32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286380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297828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2978280" y="5397480"/>
              <a:ext cx="442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42108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43368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548160" y="472140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548160" y="5397480"/>
              <a:ext cx="439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995640" y="4721400"/>
              <a:ext cx="180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4008600" y="472140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4122720" y="4721400"/>
              <a:ext cx="1440" cy="684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4122720" y="5397480"/>
              <a:ext cx="460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4578480" y="4721400"/>
              <a:ext cx="468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4595760" y="4721400"/>
              <a:ext cx="112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4708440" y="4721400"/>
              <a:ext cx="180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4708440" y="5397480"/>
              <a:ext cx="4446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515304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516564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280120" y="472140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5280120" y="5397480"/>
              <a:ext cx="218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5613120" y="1941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649480" y="3571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5703480" y="5137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949480" y="2658960"/>
              <a:ext cx="3240" cy="14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4248000" y="2658960"/>
              <a:ext cx="1800" cy="14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>
              <a:off x="3022200" y="2728800"/>
              <a:ext cx="1136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4151160" y="268776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H="1">
              <a:off x="2930400" y="2513160"/>
              <a:ext cx="1526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588480" y="2475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083040" y="16747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513480" y="4846680"/>
              <a:ext cx="74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"/>
          <p:cNvSpPr/>
          <p:nvPr/>
        </p:nvSpPr>
        <p:spPr>
          <a:xfrm>
            <a:off x="600120" y="3175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6" name=""/>
          <p:cNvGrpSpPr/>
          <p:nvPr/>
        </p:nvGrpSpPr>
        <p:grpSpPr>
          <a:xfrm>
            <a:off x="1612800" y="1176480"/>
            <a:ext cx="4141440" cy="4411440"/>
            <a:chOff x="1612800" y="1176480"/>
            <a:chExt cx="4141440" cy="4411440"/>
          </a:xfrm>
        </p:grpSpPr>
        <p:sp>
          <p:nvSpPr>
            <p:cNvPr id="4297" name=""/>
            <p:cNvSpPr/>
            <p:nvPr/>
          </p:nvSpPr>
          <p:spPr>
            <a:xfrm>
              <a:off x="3206880" y="2151000"/>
              <a:ext cx="858600" cy="355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=T/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589200" y="2060640"/>
              <a:ext cx="62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420372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4194000" y="1652760"/>
              <a:ext cx="67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488628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4886280" y="2050920"/>
              <a:ext cx="355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1" name=""/>
            <p:cNvGrpSpPr/>
            <p:nvPr/>
          </p:nvGrpSpPr>
          <p:grpSpPr>
            <a:xfrm>
              <a:off x="2344680" y="3246480"/>
              <a:ext cx="3233880" cy="433440"/>
              <a:chOff x="2344680" y="3246480"/>
              <a:chExt cx="3233880" cy="433440"/>
            </a:xfrm>
          </p:grpSpPr>
          <p:sp>
            <p:nvSpPr>
              <p:cNvPr id="4322" name=""/>
              <p:cNvSpPr/>
              <p:nvPr/>
            </p:nvSpPr>
            <p:spPr>
              <a:xfrm>
                <a:off x="2612880" y="3257640"/>
                <a:ext cx="1800" cy="407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3" name=""/>
              <p:cNvGrpSpPr/>
              <p:nvPr/>
            </p:nvGrpSpPr>
            <p:grpSpPr>
              <a:xfrm>
                <a:off x="2344680" y="3246480"/>
                <a:ext cx="3233880" cy="433440"/>
                <a:chOff x="2344680" y="3246480"/>
                <a:chExt cx="3233880" cy="433440"/>
              </a:xfrm>
            </p:grpSpPr>
            <p:sp>
              <p:nvSpPr>
                <p:cNvPr id="4324" name=""/>
                <p:cNvSpPr/>
                <p:nvPr/>
              </p:nvSpPr>
              <p:spPr>
                <a:xfrm>
                  <a:off x="2344680" y="3246480"/>
                  <a:ext cx="276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>
                  <a:off x="2612880" y="3665520"/>
                  <a:ext cx="6764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3289320" y="3270240"/>
                  <a:ext cx="1440" cy="403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>
                  <a:off x="3289320" y="3257640"/>
                  <a:ext cx="6714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3949560" y="3270240"/>
                  <a:ext cx="180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>
                  <a:off x="3949560" y="3678120"/>
                  <a:ext cx="676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>
                  <a:off x="4626000" y="3282840"/>
                  <a:ext cx="1440" cy="39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>
                  <a:off x="4626000" y="3270240"/>
                  <a:ext cx="658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>
                  <a:off x="5284800" y="3270240"/>
                  <a:ext cx="144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3" name=""/>
                <p:cNvSpPr/>
                <p:nvPr/>
              </p:nvSpPr>
              <p:spPr>
                <a:xfrm>
                  <a:off x="5284800" y="3678120"/>
                  <a:ext cx="293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4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5612400" y="194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5649120" y="357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5703120" y="513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881360" y="1741320"/>
              <a:ext cx="207720" cy="249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flipH="1" flipV="1">
              <a:off x="2975040" y="2730600"/>
              <a:ext cx="11080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4103640" y="2687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flipH="1">
              <a:off x="2930040" y="2513160"/>
              <a:ext cx="314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588840" y="2475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254400" y="1627200"/>
              <a:ext cx="0" cy="1685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4" name=""/>
            <p:cNvGrpSpPr/>
            <p:nvPr/>
          </p:nvGrpSpPr>
          <p:grpSpPr>
            <a:xfrm>
              <a:off x="2487600" y="4818240"/>
              <a:ext cx="1604880" cy="432720"/>
              <a:chOff x="2487600" y="4818240"/>
              <a:chExt cx="1604880" cy="432720"/>
            </a:xfrm>
          </p:grpSpPr>
          <p:sp>
            <p:nvSpPr>
              <p:cNvPr id="4365" name=""/>
              <p:cNvSpPr/>
              <p:nvPr/>
            </p:nvSpPr>
            <p:spPr>
              <a:xfrm flipV="1">
                <a:off x="2620440" y="48326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6" name=""/>
              <p:cNvGrpSpPr/>
              <p:nvPr/>
            </p:nvGrpSpPr>
            <p:grpSpPr>
              <a:xfrm>
                <a:off x="2487600" y="4818240"/>
                <a:ext cx="1604880" cy="432720"/>
                <a:chOff x="2487600" y="4818240"/>
                <a:chExt cx="1604880" cy="432720"/>
              </a:xfrm>
            </p:grpSpPr>
            <p:sp>
              <p:nvSpPr>
                <p:cNvPr id="4367" name=""/>
                <p:cNvSpPr/>
                <p:nvPr/>
              </p:nvSpPr>
              <p:spPr>
                <a:xfrm flipV="1">
                  <a:off x="2487600" y="524988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 flipV="1">
                  <a:off x="2620440" y="483120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 flipV="1">
                  <a:off x="2956320" y="482472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 flipV="1">
                  <a:off x="2956320" y="523908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 flipV="1">
                  <a:off x="3283920" y="48200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 flipV="1">
                  <a:off x="3283920" y="481824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 flipV="1">
                  <a:off x="3619800" y="48200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 flipV="1">
                  <a:off x="3619800" y="522648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 flipV="1">
                  <a:off x="3946680" y="48200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 flipV="1">
                  <a:off x="3946680" y="481824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77" name=""/>
            <p:cNvGrpSpPr/>
            <p:nvPr/>
          </p:nvGrpSpPr>
          <p:grpSpPr>
            <a:xfrm>
              <a:off x="4087800" y="4818240"/>
              <a:ext cx="1604880" cy="432720"/>
              <a:chOff x="4087800" y="4818240"/>
              <a:chExt cx="1604880" cy="432720"/>
            </a:xfrm>
          </p:grpSpPr>
          <p:sp>
            <p:nvSpPr>
              <p:cNvPr id="4378" name=""/>
              <p:cNvSpPr/>
              <p:nvPr/>
            </p:nvSpPr>
            <p:spPr>
              <a:xfrm>
                <a:off x="4220640" y="48290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9" name=""/>
              <p:cNvGrpSpPr/>
              <p:nvPr/>
            </p:nvGrpSpPr>
            <p:grpSpPr>
              <a:xfrm>
                <a:off x="4087800" y="4818240"/>
                <a:ext cx="1604880" cy="432720"/>
                <a:chOff x="4087800" y="4818240"/>
                <a:chExt cx="1604880" cy="432720"/>
              </a:xfrm>
            </p:grpSpPr>
            <p:sp>
              <p:nvSpPr>
                <p:cNvPr id="4380" name=""/>
                <p:cNvSpPr/>
                <p:nvPr/>
              </p:nvSpPr>
              <p:spPr>
                <a:xfrm>
                  <a:off x="4087800" y="481824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1" name=""/>
                <p:cNvSpPr/>
                <p:nvPr/>
              </p:nvSpPr>
              <p:spPr>
                <a:xfrm>
                  <a:off x="4220640" y="523692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2" name=""/>
                <p:cNvSpPr/>
                <p:nvPr/>
              </p:nvSpPr>
              <p:spPr>
                <a:xfrm>
                  <a:off x="4556520" y="484164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3" name=""/>
                <p:cNvSpPr/>
                <p:nvPr/>
              </p:nvSpPr>
              <p:spPr>
                <a:xfrm>
                  <a:off x="4556520" y="482904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>
                  <a:off x="4884120" y="48416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5" name=""/>
                <p:cNvSpPr/>
                <p:nvPr/>
              </p:nvSpPr>
              <p:spPr>
                <a:xfrm>
                  <a:off x="4884120" y="524952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6" name=""/>
                <p:cNvSpPr/>
                <p:nvPr/>
              </p:nvSpPr>
              <p:spPr>
                <a:xfrm>
                  <a:off x="5220000" y="48542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>
                  <a:off x="5220000" y="484164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>
                  <a:off x="5546880" y="48416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9" name=""/>
                <p:cNvSpPr/>
                <p:nvPr/>
              </p:nvSpPr>
              <p:spPr>
                <a:xfrm>
                  <a:off x="5546880" y="524952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90" name=""/>
            <p:cNvSpPr/>
            <p:nvPr/>
          </p:nvSpPr>
          <p:spPr>
            <a:xfrm>
              <a:off x="4210200" y="2019240"/>
              <a:ext cx="0" cy="303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1" name=""/>
          <p:cNvSpPr/>
          <p:nvPr/>
        </p:nvSpPr>
        <p:spPr>
          <a:xfrm>
            <a:off x="2153880" y="5961240"/>
            <a:ext cx="42253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5981400" y="2482920"/>
            <a:ext cx="207684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łąd fazy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6513480" y="4846680"/>
            <a:ext cx="7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"/>
          <p:cNvSpPr/>
          <p:nvPr/>
        </p:nvSpPr>
        <p:spPr>
          <a:xfrm>
            <a:off x="903960" y="304920"/>
            <a:ext cx="73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i przejściowe  detektora fazy z mnożnik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-23400" y="5834160"/>
            <a:ext cx="89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ostokatnych sygnałach sterujacych  Przy sinusoidalnych sygnałach ster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6" name=""/>
          <p:cNvGrpSpPr/>
          <p:nvPr/>
        </p:nvGrpSpPr>
        <p:grpSpPr>
          <a:xfrm>
            <a:off x="436680" y="1330200"/>
            <a:ext cx="8370720" cy="3800880"/>
            <a:chOff x="436680" y="1330200"/>
            <a:chExt cx="8370720" cy="3800880"/>
          </a:xfrm>
        </p:grpSpPr>
        <p:grpSp>
          <p:nvGrpSpPr>
            <p:cNvPr id="4397" name=""/>
            <p:cNvGrpSpPr/>
            <p:nvPr/>
          </p:nvGrpSpPr>
          <p:grpSpPr>
            <a:xfrm>
              <a:off x="6553080" y="3529080"/>
              <a:ext cx="125640" cy="422640"/>
              <a:chOff x="6553080" y="3529080"/>
              <a:chExt cx="125640" cy="422640"/>
            </a:xfrm>
          </p:grpSpPr>
          <p:sp>
            <p:nvSpPr>
              <p:cNvPr id="4398" name=""/>
              <p:cNvSpPr/>
              <p:nvPr/>
            </p:nvSpPr>
            <p:spPr>
              <a:xfrm>
                <a:off x="6553080" y="3745080"/>
                <a:ext cx="125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656280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65764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1" name=""/>
            <p:cNvGrpSpPr/>
            <p:nvPr/>
          </p:nvGrpSpPr>
          <p:grpSpPr>
            <a:xfrm>
              <a:off x="2506680" y="3529080"/>
              <a:ext cx="125280" cy="422640"/>
              <a:chOff x="2506680" y="3529080"/>
              <a:chExt cx="125280" cy="422640"/>
            </a:xfrm>
          </p:grpSpPr>
          <p:sp>
            <p:nvSpPr>
              <p:cNvPr id="4402" name=""/>
              <p:cNvSpPr/>
              <p:nvPr/>
            </p:nvSpPr>
            <p:spPr>
              <a:xfrm>
                <a:off x="2506680" y="37450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251604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25300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5" name=""/>
            <p:cNvGrpSpPr/>
            <p:nvPr/>
          </p:nvGrpSpPr>
          <p:grpSpPr>
            <a:xfrm>
              <a:off x="4585320" y="3543480"/>
              <a:ext cx="234360" cy="422280"/>
              <a:chOff x="4585320" y="3543480"/>
              <a:chExt cx="234360" cy="422280"/>
            </a:xfrm>
          </p:grpSpPr>
          <p:sp>
            <p:nvSpPr>
              <p:cNvPr id="4406" name=""/>
              <p:cNvSpPr/>
              <p:nvPr/>
            </p:nvSpPr>
            <p:spPr>
              <a:xfrm>
                <a:off x="469440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458532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470376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71780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0" name=""/>
            <p:cNvGrpSpPr/>
            <p:nvPr/>
          </p:nvGrpSpPr>
          <p:grpSpPr>
            <a:xfrm>
              <a:off x="1173600" y="3543480"/>
              <a:ext cx="232920" cy="422280"/>
              <a:chOff x="1173600" y="3543480"/>
              <a:chExt cx="232920" cy="422280"/>
            </a:xfrm>
          </p:grpSpPr>
          <p:sp>
            <p:nvSpPr>
              <p:cNvPr id="4411" name=""/>
              <p:cNvSpPr/>
              <p:nvPr/>
            </p:nvSpPr>
            <p:spPr>
              <a:xfrm>
                <a:off x="128124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117360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129060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1304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5" name=""/>
            <p:cNvGrpSpPr/>
            <p:nvPr/>
          </p:nvGrpSpPr>
          <p:grpSpPr>
            <a:xfrm>
              <a:off x="6656400" y="2868480"/>
              <a:ext cx="806400" cy="588960"/>
              <a:chOff x="6656400" y="2868480"/>
              <a:chExt cx="806400" cy="588960"/>
            </a:xfrm>
          </p:grpSpPr>
          <p:sp>
            <p:nvSpPr>
              <p:cNvPr id="4416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  <a:lnTo>
                      <a:pt x="508" y="371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8" name=""/>
            <p:cNvGrpSpPr/>
            <p:nvPr/>
          </p:nvGrpSpPr>
          <p:grpSpPr>
            <a:xfrm>
              <a:off x="7491240" y="2868480"/>
              <a:ext cx="779760" cy="588960"/>
              <a:chOff x="7491240" y="2868480"/>
              <a:chExt cx="779760" cy="588960"/>
            </a:xfrm>
          </p:grpSpPr>
          <p:sp>
            <p:nvSpPr>
              <p:cNvPr id="4419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  <a:lnTo>
                      <a:pt x="0" y="3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1" name=""/>
            <p:cNvGrpSpPr/>
            <p:nvPr/>
          </p:nvGrpSpPr>
          <p:grpSpPr>
            <a:xfrm>
              <a:off x="6615000" y="3125880"/>
              <a:ext cx="847800" cy="331560"/>
              <a:chOff x="6615000" y="3125880"/>
              <a:chExt cx="847800" cy="331560"/>
            </a:xfrm>
          </p:grpSpPr>
          <p:sp>
            <p:nvSpPr>
              <p:cNvPr id="4422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  <a:lnTo>
                      <a:pt x="534" y="209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4" name=""/>
            <p:cNvGrpSpPr/>
            <p:nvPr/>
          </p:nvGrpSpPr>
          <p:grpSpPr>
            <a:xfrm>
              <a:off x="7491240" y="3125880"/>
              <a:ext cx="820800" cy="331560"/>
              <a:chOff x="7491240" y="3125880"/>
              <a:chExt cx="820800" cy="331560"/>
            </a:xfrm>
          </p:grpSpPr>
          <p:sp>
            <p:nvSpPr>
              <p:cNvPr id="4425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7" name=""/>
            <p:cNvSpPr/>
            <p:nvPr/>
          </p:nvSpPr>
          <p:spPr>
            <a:xfrm flipV="1">
              <a:off x="1944720" y="2623680"/>
              <a:ext cx="1125360" cy="175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 flipH="1" flipV="1">
              <a:off x="811080" y="2604600"/>
              <a:ext cx="1123920" cy="176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 flipV="1">
              <a:off x="465120" y="2623680"/>
              <a:ext cx="36036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 flipH="1" flipV="1">
              <a:off x="3070080" y="2638080"/>
              <a:ext cx="36360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1" name=""/>
            <p:cNvGrpSpPr/>
            <p:nvPr/>
          </p:nvGrpSpPr>
          <p:grpSpPr>
            <a:xfrm>
              <a:off x="1138320" y="4375080"/>
              <a:ext cx="801720" cy="9720"/>
              <a:chOff x="1138320" y="4375080"/>
              <a:chExt cx="801720" cy="9720"/>
            </a:xfrm>
          </p:grpSpPr>
          <p:sp>
            <p:nvSpPr>
              <p:cNvPr id="4432" name=""/>
              <p:cNvSpPr/>
              <p:nvPr/>
            </p:nvSpPr>
            <p:spPr>
              <a:xfrm>
                <a:off x="19321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9130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18939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18763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18572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18399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18208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18018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17845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17654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17463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17287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17096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16923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16732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16542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16365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1617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15987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15811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5620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5447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15256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5066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4889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14698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14526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14335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14144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13971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13780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13590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13413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13222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13050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12859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1266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124920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12304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121284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11937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11746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11574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11383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6" name=""/>
            <p:cNvGrpSpPr/>
            <p:nvPr/>
          </p:nvGrpSpPr>
          <p:grpSpPr>
            <a:xfrm>
              <a:off x="501480" y="2619360"/>
              <a:ext cx="2941920" cy="9720"/>
              <a:chOff x="501480" y="2619360"/>
              <a:chExt cx="2941920" cy="9720"/>
            </a:xfrm>
          </p:grpSpPr>
          <p:sp>
            <p:nvSpPr>
              <p:cNvPr id="4477" name=""/>
              <p:cNvSpPr/>
              <p:nvPr/>
            </p:nvSpPr>
            <p:spPr>
              <a:xfrm>
                <a:off x="5014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20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539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557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76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93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12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31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49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68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87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704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723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741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760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779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797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816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833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852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8715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888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907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9270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944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963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981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1000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0191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036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1055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1073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1092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1111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1128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1147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11667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1184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203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220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1239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12589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276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295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1312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1332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351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368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1387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14065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424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442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1460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1479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4986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515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1535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1552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571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5908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1608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1627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6462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663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1682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1700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1719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17384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1755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1774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1792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1811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1830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1847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1866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18860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1903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1922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1940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1959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19782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1995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014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031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2050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2070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087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106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2125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2143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2162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2179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2198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22176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235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254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271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290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309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327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346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365200" y="26193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382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401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2419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2438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24573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2475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24940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2511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530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2549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2567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2585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26049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2622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2641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2658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2678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26971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2714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2733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2751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2770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2789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2806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2825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28447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2862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2881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2898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2917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29368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2954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2973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2992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009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3029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3046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3065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30844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3102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3121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3138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3157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3176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3193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213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3232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249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268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286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305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324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341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360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378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397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3416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3433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7" name=""/>
            <p:cNvSpPr/>
            <p:nvPr/>
          </p:nvSpPr>
          <p:spPr>
            <a:xfrm flipV="1">
              <a:off x="5665680" y="1992240"/>
              <a:ext cx="1811520" cy="299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 flipH="1" flipV="1">
              <a:off x="4789080" y="3444840"/>
              <a:ext cx="862200" cy="152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 flipH="1" flipV="1">
              <a:off x="7472160" y="2021040"/>
              <a:ext cx="866520" cy="14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0" name=""/>
            <p:cNvGrpSpPr/>
            <p:nvPr/>
          </p:nvGrpSpPr>
          <p:grpSpPr>
            <a:xfrm>
              <a:off x="6595920" y="3314880"/>
              <a:ext cx="881280" cy="142560"/>
              <a:chOff x="6595920" y="3314880"/>
              <a:chExt cx="881280" cy="142560"/>
            </a:xfrm>
          </p:grpSpPr>
          <p:sp>
            <p:nvSpPr>
              <p:cNvPr id="4641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  <a:lnTo>
                      <a:pt x="555" y="9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3" name=""/>
            <p:cNvGrpSpPr/>
            <p:nvPr/>
          </p:nvGrpSpPr>
          <p:grpSpPr>
            <a:xfrm>
              <a:off x="7505640" y="3314880"/>
              <a:ext cx="852480" cy="142560"/>
              <a:chOff x="7505640" y="3314880"/>
              <a:chExt cx="852480" cy="142560"/>
            </a:xfrm>
          </p:grpSpPr>
          <p:sp>
            <p:nvSpPr>
              <p:cNvPr id="4644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6" name=""/>
            <p:cNvGrpSpPr/>
            <p:nvPr/>
          </p:nvGrpSpPr>
          <p:grpSpPr>
            <a:xfrm>
              <a:off x="4844880" y="3457440"/>
              <a:ext cx="1651320" cy="590760"/>
              <a:chOff x="4844880" y="3457440"/>
              <a:chExt cx="1651320" cy="590760"/>
            </a:xfrm>
          </p:grpSpPr>
          <p:grpSp>
            <p:nvGrpSpPr>
              <p:cNvPr id="4647" name=""/>
              <p:cNvGrpSpPr/>
              <p:nvPr/>
            </p:nvGrpSpPr>
            <p:grpSpPr>
              <a:xfrm>
                <a:off x="4844880" y="3457440"/>
                <a:ext cx="825840" cy="590760"/>
                <a:chOff x="4844880" y="3457440"/>
                <a:chExt cx="825840" cy="590760"/>
              </a:xfrm>
            </p:grpSpPr>
            <p:sp>
              <p:nvSpPr>
                <p:cNvPr id="4648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52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9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0" name=""/>
              <p:cNvGrpSpPr/>
              <p:nvPr/>
            </p:nvGrpSpPr>
            <p:grpSpPr>
              <a:xfrm>
                <a:off x="5697360" y="3457440"/>
                <a:ext cx="798840" cy="590760"/>
                <a:chOff x="5697360" y="3457440"/>
                <a:chExt cx="798840" cy="590760"/>
              </a:xfrm>
            </p:grpSpPr>
            <p:sp>
              <p:nvSpPr>
                <p:cNvPr id="4651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  <a:lnTo>
                        <a:pt x="0" y="0"/>
                      </a:lnTo>
                      <a:lnTo>
                        <a:pt x="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2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3" name=""/>
            <p:cNvGrpSpPr/>
            <p:nvPr/>
          </p:nvGrpSpPr>
          <p:grpSpPr>
            <a:xfrm>
              <a:off x="4799160" y="3457440"/>
              <a:ext cx="1742760" cy="331920"/>
              <a:chOff x="4799160" y="3457440"/>
              <a:chExt cx="1742760" cy="331920"/>
            </a:xfrm>
          </p:grpSpPr>
          <p:grpSp>
            <p:nvGrpSpPr>
              <p:cNvPr id="4654" name=""/>
              <p:cNvGrpSpPr/>
              <p:nvPr/>
            </p:nvGrpSpPr>
            <p:grpSpPr>
              <a:xfrm>
                <a:off x="4799160" y="3457440"/>
                <a:ext cx="871560" cy="331920"/>
                <a:chOff x="4799160" y="3457440"/>
                <a:chExt cx="871560" cy="331920"/>
              </a:xfrm>
            </p:grpSpPr>
            <p:sp>
              <p:nvSpPr>
                <p:cNvPr id="4655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  <a:lnTo>
                        <a:pt x="549" y="0"/>
                      </a:lnTo>
                      <a:lnTo>
                        <a:pt x="549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6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7" name=""/>
              <p:cNvGrpSpPr/>
              <p:nvPr/>
            </p:nvGrpSpPr>
            <p:grpSpPr>
              <a:xfrm>
                <a:off x="5697360" y="3457440"/>
                <a:ext cx="844560" cy="331920"/>
                <a:chOff x="5697360" y="3457440"/>
                <a:chExt cx="844560" cy="331920"/>
              </a:xfrm>
            </p:grpSpPr>
            <p:sp>
              <p:nvSpPr>
                <p:cNvPr id="4658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  <a:lnTo>
                        <a:pt x="0" y="0"/>
                      </a:lnTo>
                      <a:lnTo>
                        <a:pt x="0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9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0" name=""/>
            <p:cNvGrpSpPr/>
            <p:nvPr/>
          </p:nvGrpSpPr>
          <p:grpSpPr>
            <a:xfrm>
              <a:off x="4784760" y="3457440"/>
              <a:ext cx="1798560" cy="142920"/>
              <a:chOff x="4784760" y="3457440"/>
              <a:chExt cx="1798560" cy="142920"/>
            </a:xfrm>
          </p:grpSpPr>
          <p:grpSp>
            <p:nvGrpSpPr>
              <p:cNvPr id="4661" name=""/>
              <p:cNvGrpSpPr/>
              <p:nvPr/>
            </p:nvGrpSpPr>
            <p:grpSpPr>
              <a:xfrm>
                <a:off x="4784760" y="3457440"/>
                <a:ext cx="898560" cy="142920"/>
                <a:chOff x="4784760" y="3457440"/>
                <a:chExt cx="898560" cy="142920"/>
              </a:xfrm>
            </p:grpSpPr>
            <p:sp>
              <p:nvSpPr>
                <p:cNvPr id="4662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566" y="0"/>
                      </a:lnTo>
                      <a:lnTo>
                        <a:pt x="566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3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4" name=""/>
              <p:cNvGrpSpPr/>
              <p:nvPr/>
            </p:nvGrpSpPr>
            <p:grpSpPr>
              <a:xfrm>
                <a:off x="5711760" y="3457440"/>
                <a:ext cx="871560" cy="142920"/>
                <a:chOff x="5711760" y="3457440"/>
                <a:chExt cx="871560" cy="142920"/>
              </a:xfrm>
            </p:grpSpPr>
            <p:sp>
              <p:nvSpPr>
                <p:cNvPr id="4665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6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7" name=""/>
            <p:cNvGrpSpPr/>
            <p:nvPr/>
          </p:nvGrpSpPr>
          <p:grpSpPr>
            <a:xfrm>
              <a:off x="7104240" y="2679840"/>
              <a:ext cx="234720" cy="1109520"/>
              <a:chOff x="7104240" y="2679840"/>
              <a:chExt cx="234720" cy="1109520"/>
            </a:xfrm>
          </p:grpSpPr>
          <p:sp>
            <p:nvSpPr>
              <p:cNvPr id="4668" name=""/>
              <p:cNvSpPr/>
              <p:nvPr/>
            </p:nvSpPr>
            <p:spPr>
              <a:xfrm flipH="1">
                <a:off x="7104240" y="2679840"/>
                <a:ext cx="203040" cy="11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7242120" y="267984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41" y="0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0" name=""/>
            <p:cNvSpPr/>
            <p:nvPr/>
          </p:nvSpPr>
          <p:spPr>
            <a:xfrm>
              <a:off x="5581800" y="17701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5719680" y="186228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5995800" y="17701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6189480" y="1862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267600" y="17701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125800" y="2324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263680" y="241632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539800" y="23241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733480" y="24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2811600" y="232416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5830200" y="488628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5960880" y="49784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6039000" y="48862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2081880" y="432432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2212560" y="4416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290680" y="43243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6237720" y="1330200"/>
              <a:ext cx="1515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5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1640880" y="1890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737720" y="1982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6850080" y="3849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6987960" y="394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029720" y="3849840"/>
              <a:ext cx="18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,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217640" y="394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1355760" y="3398760"/>
              <a:ext cx="32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25401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7847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658800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7523280" y="3411360"/>
              <a:ext cx="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835812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47684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10280" y="350820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302400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8569080" y="3554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8685360" y="366552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4" name=""/>
            <p:cNvGrpSpPr/>
            <p:nvPr/>
          </p:nvGrpSpPr>
          <p:grpSpPr>
            <a:xfrm>
              <a:off x="3276360" y="3514680"/>
              <a:ext cx="887760" cy="523800"/>
              <a:chOff x="3276360" y="3514680"/>
              <a:chExt cx="887760" cy="523800"/>
            </a:xfrm>
          </p:grpSpPr>
          <p:sp>
            <p:nvSpPr>
              <p:cNvPr id="4705" name=""/>
              <p:cNvSpPr/>
              <p:nvPr/>
            </p:nvSpPr>
            <p:spPr>
              <a:xfrm>
                <a:off x="3951360" y="3781440"/>
                <a:ext cx="212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276360" y="36385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3787560" y="3638520"/>
                <a:ext cx="10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3401280" y="3760920"/>
                <a:ext cx="6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4083840" y="353700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3997080" y="38098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3518280" y="363852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3695040" y="36608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968280" y="35146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4" name=""/>
            <p:cNvGrpSpPr/>
            <p:nvPr/>
          </p:nvGrpSpPr>
          <p:grpSpPr>
            <a:xfrm>
              <a:off x="8213760" y="3543480"/>
              <a:ext cx="190440" cy="422280"/>
              <a:chOff x="8213760" y="3543480"/>
              <a:chExt cx="190440" cy="422280"/>
            </a:xfrm>
          </p:grpSpPr>
          <p:sp>
            <p:nvSpPr>
              <p:cNvPr id="4715" name=""/>
              <p:cNvSpPr/>
              <p:nvPr/>
            </p:nvSpPr>
            <p:spPr>
              <a:xfrm>
                <a:off x="8213760" y="3757680"/>
                <a:ext cx="19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8229240" y="356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8270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828972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9" name=""/>
            <p:cNvSpPr/>
            <p:nvPr/>
          </p:nvSpPr>
          <p:spPr>
            <a:xfrm>
              <a:off x="436680" y="34671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 flipV="1">
              <a:off x="1930320" y="1891800"/>
              <a:ext cx="0" cy="26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491000" y="3463920"/>
              <a:ext cx="43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 flipV="1">
              <a:off x="6568920" y="1347480"/>
              <a:ext cx="0" cy="36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6012000" y="2016000"/>
              <a:ext cx="2436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4" name=""/>
          <p:cNvGrpSpPr/>
          <p:nvPr/>
        </p:nvGrpSpPr>
        <p:grpSpPr>
          <a:xfrm>
            <a:off x="1719360" y="6151680"/>
            <a:ext cx="5918040" cy="479160"/>
            <a:chOff x="1719360" y="6151680"/>
            <a:chExt cx="5918040" cy="479160"/>
          </a:xfrm>
        </p:grpSpPr>
        <p:grpSp>
          <p:nvGrpSpPr>
            <p:cNvPr id="4725" name=""/>
            <p:cNvGrpSpPr/>
            <p:nvPr/>
          </p:nvGrpSpPr>
          <p:grpSpPr>
            <a:xfrm>
              <a:off x="1719360" y="6154560"/>
              <a:ext cx="5914800" cy="476280"/>
              <a:chOff x="1719360" y="6154560"/>
              <a:chExt cx="5914800" cy="476280"/>
            </a:xfrm>
          </p:grpSpPr>
          <p:sp>
            <p:nvSpPr>
              <p:cNvPr id="4726" name=""/>
              <p:cNvSpPr/>
              <p:nvPr/>
            </p:nvSpPr>
            <p:spPr>
              <a:xfrm>
                <a:off x="1722600" y="6154560"/>
                <a:ext cx="591156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1719360" y="615456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1719360" y="61689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1719360" y="61833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1719360" y="6197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1719360" y="621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1719360" y="62262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1719360" y="6238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1719360" y="6253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1719360" y="62676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1719360" y="6281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1719360" y="6296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719360" y="6310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719360" y="632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1719360" y="6338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1719360" y="6351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1719360" y="6365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719360" y="6380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719360" y="6394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719360" y="6408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719360" y="6423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719360" y="6437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719360" y="6451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719360" y="6465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719360" y="6478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719360" y="6492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719360" y="650700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719360" y="6521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719360" y="6535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719360" y="6550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719360" y="6564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719360" y="65786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719360" y="6593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719360" y="6605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719360" y="66200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72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74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757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771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785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80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81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827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84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855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870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88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898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91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92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940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95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96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98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99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2011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2025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203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205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20667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208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2095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2109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2124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2138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2152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16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179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19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208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22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23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251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265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27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29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30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32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335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34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363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378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39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40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42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43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448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4620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476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490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505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51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53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54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560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575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58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603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617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63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64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66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67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687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701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71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730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74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759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77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78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800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81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82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2843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2857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2871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886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290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91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2927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2941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295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297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298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2998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01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02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040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05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068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08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09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111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12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13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15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16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18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19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20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22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238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252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26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279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29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308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32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33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351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365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37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39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40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42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43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44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46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478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49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50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51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53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548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56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57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59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60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61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63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64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660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675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68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70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718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73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74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75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773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787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80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81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83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84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385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387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388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3900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3914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392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394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3957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3971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398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399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4013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402732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404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6" name=""/>
            <p:cNvGrpSpPr/>
            <p:nvPr/>
          </p:nvGrpSpPr>
          <p:grpSpPr>
            <a:xfrm>
              <a:off x="4056120" y="6624720"/>
              <a:ext cx="2813040" cy="6120"/>
              <a:chOff x="4056120" y="6624720"/>
              <a:chExt cx="2813040" cy="6120"/>
            </a:xfrm>
          </p:grpSpPr>
          <p:sp>
            <p:nvSpPr>
              <p:cNvPr id="4927" name=""/>
              <p:cNvSpPr/>
              <p:nvPr/>
            </p:nvSpPr>
            <p:spPr>
              <a:xfrm>
                <a:off x="4056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407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4084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409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411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412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4140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4154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416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418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419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4211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422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424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4253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4267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281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29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30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4324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433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435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436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4379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4394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440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4422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443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4451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446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447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449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4506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4521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453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454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4564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4578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459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460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4619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4633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464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466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467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4691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470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471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73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4746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4761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477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478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480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4818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483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484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4859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4873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4888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490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491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4930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494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495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497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4986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000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01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02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04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057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07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08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09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113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127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14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15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170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184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19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21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226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240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25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26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28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297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31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32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33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353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367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38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39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41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424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43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45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465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479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494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50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52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537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55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56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57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592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607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62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63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64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66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67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69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70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719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73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74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76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577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5791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580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581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5832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5846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586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587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588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5904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591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593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594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5959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597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598788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00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016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031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04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605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6072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08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10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11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12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143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15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17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18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199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21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22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24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25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270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28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29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31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32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340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35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36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383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397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41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42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438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45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467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48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49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510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52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539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55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56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580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59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60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62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637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651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665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67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692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6707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672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73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750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7644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778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79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8054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819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83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684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686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7" name=""/>
            <p:cNvGrpSpPr/>
            <p:nvPr/>
          </p:nvGrpSpPr>
          <p:grpSpPr>
            <a:xfrm>
              <a:off x="6051600" y="6151680"/>
              <a:ext cx="1585800" cy="479160"/>
              <a:chOff x="6051600" y="6151680"/>
              <a:chExt cx="1585800" cy="479160"/>
            </a:xfrm>
          </p:grpSpPr>
          <p:sp>
            <p:nvSpPr>
              <p:cNvPr id="5128" name=""/>
              <p:cNvSpPr/>
              <p:nvPr/>
            </p:nvSpPr>
            <p:spPr>
              <a:xfrm>
                <a:off x="687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6891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6905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691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932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94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96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97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98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004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018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03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045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059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07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08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10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116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130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145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157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172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18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20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21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22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243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257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27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284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29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31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32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34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356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370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38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39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412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42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440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45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46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483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497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512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52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53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553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567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581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596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610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62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631280" y="6616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631280" y="6602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631280" y="65880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631280" y="6573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631280" y="6561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631280" y="6546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631280" y="6532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631280" y="6518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631280" y="6504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631280" y="64897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631280" y="6475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631280" y="6461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631280" y="6446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631280" y="64342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631280" y="6419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631280" y="6405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631280" y="6391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631280" y="6377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631280" y="6362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631280" y="634824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631280" y="6334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631280" y="632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631280" y="6307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631280" y="6292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631280" y="6278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631280" y="626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631280" y="6249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631280" y="6235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631280" y="62215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631280" y="62071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631280" y="6194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631280" y="61801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631280" y="6165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631280" y="6151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61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602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5880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575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561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547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53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51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50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489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475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46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448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434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41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40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39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37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362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348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33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321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30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292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27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26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250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23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22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209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19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180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7165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15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137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122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7108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709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7081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7067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7053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03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02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010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996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981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969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954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940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92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91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897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883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869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685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6842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6827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6813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67993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678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677052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6756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6742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672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6715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6700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6686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667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6657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6643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6629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661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660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6588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6573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655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654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6531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6516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6502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648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6475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6461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6446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643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641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6404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6389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6375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636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634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6334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631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630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629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6276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6262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624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623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22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6207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619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617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16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6149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6135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612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610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6094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6080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606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605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8" name=""/>
            <p:cNvGrpSpPr/>
            <p:nvPr/>
          </p:nvGrpSpPr>
          <p:grpSpPr>
            <a:xfrm>
              <a:off x="3230640" y="6151680"/>
              <a:ext cx="2814480" cy="6120"/>
              <a:chOff x="3230640" y="6151680"/>
              <a:chExt cx="2814480" cy="6120"/>
            </a:xfrm>
          </p:grpSpPr>
          <p:sp>
            <p:nvSpPr>
              <p:cNvPr id="5329" name=""/>
              <p:cNvSpPr/>
              <p:nvPr/>
            </p:nvSpPr>
            <p:spPr>
              <a:xfrm>
                <a:off x="6037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602280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600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996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98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967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595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93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92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910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5896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88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86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585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5840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582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581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5797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5783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5769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575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574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5727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571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569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568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5670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5656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564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5629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561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600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58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57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55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543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529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51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50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487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4738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545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544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5430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5416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540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38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537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53611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534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533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531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303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289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27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26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24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234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21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205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191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176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5162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514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513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5121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510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509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507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5064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5049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503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02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00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994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97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96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95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937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923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90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89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881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867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85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83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824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80996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79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78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76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754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74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72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71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697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683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66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465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464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4627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461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59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584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570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556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54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52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514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50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48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47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457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443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42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41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40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387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373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359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34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330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316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302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428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275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260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246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23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4218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203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189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17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416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4148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133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4119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410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4091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4076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406224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404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40356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4021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4006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99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3978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3963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3949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393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92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908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894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3879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386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851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83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822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80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379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781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767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753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373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372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710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695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68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3668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3654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63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62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611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359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3583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357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355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3541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52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3513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349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48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470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345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344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342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41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400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3386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3371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3357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3343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333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331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3301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3287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3273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325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32446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3230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9" name=""/>
            <p:cNvSpPr/>
            <p:nvPr/>
          </p:nvSpPr>
          <p:spPr>
            <a:xfrm>
              <a:off x="321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3203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31892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3174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316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314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3132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31179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3103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308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3076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3062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30481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303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3019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3005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990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97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963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949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9354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92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90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892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8782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863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84940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8368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822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8083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7939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779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7655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751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736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724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709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6956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681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666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652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638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624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610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597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5830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5686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5542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5401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5257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5113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49696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482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4703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4559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4415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427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4130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3986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384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370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357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3432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328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3144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3004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286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271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257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243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2305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216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2017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1877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173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158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144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130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1178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103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0890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0750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060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04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2031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017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20034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199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197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19620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19479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1933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191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1905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1890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1876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186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1849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18352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1820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180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1792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1778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17636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175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173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17226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6" name=""/>
          <p:cNvSpPr/>
          <p:nvPr/>
        </p:nvSpPr>
        <p:spPr>
          <a:xfrm>
            <a:off x="1736280" y="6180120"/>
            <a:ext cx="517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) schemat;                        b) przebiegi;                c)charakterystyka prze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6917400" y="618012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ści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>
            <a:off x="2429280" y="3049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EX-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9" name=""/>
          <p:cNvGrpSpPr/>
          <p:nvPr/>
        </p:nvGrpSpPr>
        <p:grpSpPr>
          <a:xfrm>
            <a:off x="1661040" y="779400"/>
            <a:ext cx="6492240" cy="5337360"/>
            <a:chOff x="1661040" y="779400"/>
            <a:chExt cx="6492240" cy="5337360"/>
          </a:xfrm>
        </p:grpSpPr>
        <p:sp>
          <p:nvSpPr>
            <p:cNvPr id="5640" name=""/>
            <p:cNvSpPr/>
            <p:nvPr/>
          </p:nvSpPr>
          <p:spPr>
            <a:xfrm>
              <a:off x="1661760" y="77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1808280" y="779400"/>
              <a:ext cx="310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1661040" y="2652840"/>
              <a:ext cx="19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3" name=""/>
            <p:cNvGrpSpPr/>
            <p:nvPr/>
          </p:nvGrpSpPr>
          <p:grpSpPr>
            <a:xfrm>
              <a:off x="2892600" y="1336680"/>
              <a:ext cx="66600" cy="212760"/>
              <a:chOff x="2892600" y="1336680"/>
              <a:chExt cx="66600" cy="212760"/>
            </a:xfrm>
          </p:grpSpPr>
          <p:sp>
            <p:nvSpPr>
              <p:cNvPr id="5644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6" name=""/>
            <p:cNvGrpSpPr/>
            <p:nvPr/>
          </p:nvGrpSpPr>
          <p:grpSpPr>
            <a:xfrm>
              <a:off x="2892600" y="1139760"/>
              <a:ext cx="66600" cy="211320"/>
              <a:chOff x="2892600" y="1139760"/>
              <a:chExt cx="66600" cy="211320"/>
            </a:xfrm>
          </p:grpSpPr>
          <p:sp>
            <p:nvSpPr>
              <p:cNvPr id="5647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9" name=""/>
            <p:cNvGrpSpPr/>
            <p:nvPr/>
          </p:nvGrpSpPr>
          <p:grpSpPr>
            <a:xfrm>
              <a:off x="2981160" y="1336680"/>
              <a:ext cx="66960" cy="212760"/>
              <a:chOff x="2981160" y="1336680"/>
              <a:chExt cx="66960" cy="212760"/>
            </a:xfrm>
          </p:grpSpPr>
          <p:sp>
            <p:nvSpPr>
              <p:cNvPr id="5650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2" name=""/>
            <p:cNvGrpSpPr/>
            <p:nvPr/>
          </p:nvGrpSpPr>
          <p:grpSpPr>
            <a:xfrm>
              <a:off x="2981160" y="1139760"/>
              <a:ext cx="66960" cy="211320"/>
              <a:chOff x="2981160" y="1139760"/>
              <a:chExt cx="66960" cy="211320"/>
            </a:xfrm>
          </p:grpSpPr>
          <p:sp>
            <p:nvSpPr>
              <p:cNvPr id="5653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5" name=""/>
            <p:cNvSpPr/>
            <p:nvPr/>
          </p:nvSpPr>
          <p:spPr>
            <a:xfrm>
              <a:off x="2990880" y="1139760"/>
              <a:ext cx="253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3002040" y="1549440"/>
              <a:ext cx="253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7" name=""/>
            <p:cNvGrpSpPr/>
            <p:nvPr/>
          </p:nvGrpSpPr>
          <p:grpSpPr>
            <a:xfrm>
              <a:off x="3209760" y="1139760"/>
              <a:ext cx="254160" cy="211320"/>
              <a:chOff x="3209760" y="1139760"/>
              <a:chExt cx="254160" cy="211320"/>
            </a:xfrm>
          </p:grpSpPr>
          <p:sp>
            <p:nvSpPr>
              <p:cNvPr id="5658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0" name=""/>
            <p:cNvGrpSpPr/>
            <p:nvPr/>
          </p:nvGrpSpPr>
          <p:grpSpPr>
            <a:xfrm>
              <a:off x="3209760" y="1373040"/>
              <a:ext cx="254160" cy="176400"/>
              <a:chOff x="3209760" y="1373040"/>
              <a:chExt cx="254160" cy="176400"/>
            </a:xfrm>
          </p:grpSpPr>
          <p:sp>
            <p:nvSpPr>
              <p:cNvPr id="5661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3" name=""/>
            <p:cNvSpPr/>
            <p:nvPr/>
          </p:nvSpPr>
          <p:spPr>
            <a:xfrm>
              <a:off x="3460680" y="1336680"/>
              <a:ext cx="4932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4030560" y="1336680"/>
              <a:ext cx="5076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2049480" y="1197000"/>
              <a:ext cx="4932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2346480" y="144612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3510000" y="1359000"/>
              <a:ext cx="539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109960" y="1217520"/>
              <a:ext cx="825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2406600" y="147168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0" name=""/>
            <p:cNvGrpSpPr/>
            <p:nvPr/>
          </p:nvGrpSpPr>
          <p:grpSpPr>
            <a:xfrm>
              <a:off x="2338560" y="1581120"/>
              <a:ext cx="74520" cy="450720"/>
              <a:chOff x="2338560" y="1581120"/>
              <a:chExt cx="74520" cy="450720"/>
            </a:xfrm>
          </p:grpSpPr>
          <p:sp>
            <p:nvSpPr>
              <p:cNvPr id="5671" name=""/>
              <p:cNvSpPr/>
              <p:nvPr/>
            </p:nvSpPr>
            <p:spPr>
              <a:xfrm>
                <a:off x="2374920" y="1581120"/>
                <a:ext cx="1440" cy="45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2338560" y="15811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lnTo>
                      <a:pt x="23" y="0"/>
                    </a:lnTo>
                    <a:lnTo>
                      <a:pt x="0" y="4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3" name=""/>
            <p:cNvGrpSpPr/>
            <p:nvPr/>
          </p:nvGrpSpPr>
          <p:grpSpPr>
            <a:xfrm>
              <a:off x="2039760" y="1316160"/>
              <a:ext cx="73080" cy="704880"/>
              <a:chOff x="2039760" y="1316160"/>
              <a:chExt cx="73080" cy="704880"/>
            </a:xfrm>
          </p:grpSpPr>
          <p:sp>
            <p:nvSpPr>
              <p:cNvPr id="5674" name=""/>
              <p:cNvSpPr/>
              <p:nvPr/>
            </p:nvSpPr>
            <p:spPr>
              <a:xfrm>
                <a:off x="2075040" y="1316160"/>
                <a:ext cx="2880" cy="70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2039760" y="131616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6" name=""/>
            <p:cNvGrpSpPr/>
            <p:nvPr/>
          </p:nvGrpSpPr>
          <p:grpSpPr>
            <a:xfrm>
              <a:off x="4035600" y="1471680"/>
              <a:ext cx="72720" cy="539640"/>
              <a:chOff x="4035600" y="1471680"/>
              <a:chExt cx="72720" cy="539640"/>
            </a:xfrm>
          </p:grpSpPr>
          <p:sp>
            <p:nvSpPr>
              <p:cNvPr id="5677" name=""/>
              <p:cNvSpPr/>
              <p:nvPr/>
            </p:nvSpPr>
            <p:spPr>
              <a:xfrm>
                <a:off x="4070520" y="1471680"/>
                <a:ext cx="1440" cy="53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4035600" y="147168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9" name=""/>
            <p:cNvSpPr/>
            <p:nvPr/>
          </p:nvSpPr>
          <p:spPr>
            <a:xfrm>
              <a:off x="20113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3065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4003560" y="2043000"/>
              <a:ext cx="154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1668600" y="1612800"/>
              <a:ext cx="377640" cy="2253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1736280" y="164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1809360" y="1714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1828800" y="16765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4116240" y="1636560"/>
              <a:ext cx="376560" cy="2224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4171680" y="166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4245840" y="1735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4295880" y="16653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464920" y="173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539440" y="1803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589480" y="1731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2629080" y="100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617920" y="1266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3675240" y="1108080"/>
              <a:ext cx="210960" cy="2221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3735360" y="1136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3110760" y="174312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=AB+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421080" y="1711440"/>
              <a:ext cx="572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706920" y="1711440"/>
              <a:ext cx="56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365640" y="1690560"/>
              <a:ext cx="398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1" name=""/>
            <p:cNvGrpSpPr/>
            <p:nvPr/>
          </p:nvGrpSpPr>
          <p:grpSpPr>
            <a:xfrm>
              <a:off x="6129360" y="819000"/>
              <a:ext cx="74520" cy="1181160"/>
              <a:chOff x="6129360" y="819000"/>
              <a:chExt cx="74520" cy="1181160"/>
            </a:xfrm>
          </p:grpSpPr>
          <p:sp>
            <p:nvSpPr>
              <p:cNvPr id="5702" name=""/>
              <p:cNvSpPr/>
              <p:nvPr/>
            </p:nvSpPr>
            <p:spPr>
              <a:xfrm>
                <a:off x="6164280" y="885960"/>
                <a:ext cx="1440" cy="111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6129360" y="819000"/>
                <a:ext cx="7452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47"/>
                    </a:moveTo>
                    <a:lnTo>
                      <a:pt x="22" y="0"/>
                    </a:lnTo>
                    <a:lnTo>
                      <a:pt x="0" y="47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4" name=""/>
            <p:cNvSpPr/>
            <p:nvPr/>
          </p:nvSpPr>
          <p:spPr>
            <a:xfrm>
              <a:off x="6164280" y="1093680"/>
              <a:ext cx="892080" cy="89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H="1">
              <a:off x="5262480" y="1108080"/>
              <a:ext cx="890640" cy="892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4919760" y="1636560"/>
              <a:ext cx="352440" cy="35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 flipH="1">
              <a:off x="7045200" y="1414440"/>
              <a:ext cx="58608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8" name=""/>
            <p:cNvGrpSpPr/>
            <p:nvPr/>
          </p:nvGrpSpPr>
          <p:grpSpPr>
            <a:xfrm>
              <a:off x="5742000" y="1555920"/>
              <a:ext cx="6480" cy="430200"/>
              <a:chOff x="5742000" y="1555920"/>
              <a:chExt cx="6480" cy="430200"/>
            </a:xfrm>
          </p:grpSpPr>
          <p:sp>
            <p:nvSpPr>
              <p:cNvPr id="5709" name=""/>
              <p:cNvSpPr/>
              <p:nvPr/>
            </p:nvSpPr>
            <p:spPr>
              <a:xfrm>
                <a:off x="5742000" y="15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5742000" y="156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5742000" y="1584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5742000" y="1598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5742000" y="161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5742000" y="162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5742000" y="1641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5742000" y="165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5742000" y="1668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5742000" y="168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5742000" y="169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5742000" y="171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742000" y="172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5742000" y="173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5742000" y="1754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742000" y="176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742000" y="1781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5742000" y="179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742000" y="180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5742000" y="1824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5742000" y="183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5742000" y="185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5742000" y="186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5742000" y="1881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5742000" y="189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5742000" y="1908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5742000" y="192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5742000" y="1936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5742000" y="1951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5742000" y="1965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5742000" y="1979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0" name=""/>
            <p:cNvGrpSpPr/>
            <p:nvPr/>
          </p:nvGrpSpPr>
          <p:grpSpPr>
            <a:xfrm>
              <a:off x="6566040" y="1555920"/>
              <a:ext cx="10800" cy="430200"/>
              <a:chOff x="6566040" y="1555920"/>
              <a:chExt cx="10800" cy="430200"/>
            </a:xfrm>
          </p:grpSpPr>
          <p:sp>
            <p:nvSpPr>
              <p:cNvPr id="5741" name=""/>
              <p:cNvSpPr/>
              <p:nvPr/>
            </p:nvSpPr>
            <p:spPr>
              <a:xfrm>
                <a:off x="6566040" y="1555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566040" y="1569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566040" y="1584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566040" y="15987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566040" y="1612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566040" y="16272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566040" y="16416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566040" y="1654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566040" y="1668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566040" y="168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566040" y="1697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566040" y="17114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566040" y="17254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566040" y="1739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566040" y="1754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6566040" y="176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6570720" y="1781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6570720" y="1795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6570720" y="180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6570720" y="1824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6570720" y="1838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6570720" y="1852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6570720" y="18669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570720" y="1881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6570720" y="1893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6570720" y="19080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6570720" y="1922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570720" y="1936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570720" y="1951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570720" y="1965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570720" y="1979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2" name=""/>
            <p:cNvGrpSpPr/>
            <p:nvPr/>
          </p:nvGrpSpPr>
          <p:grpSpPr>
            <a:xfrm>
              <a:off x="5487840" y="1531800"/>
              <a:ext cx="1262160" cy="9720"/>
              <a:chOff x="5487840" y="1531800"/>
              <a:chExt cx="1262160" cy="9720"/>
            </a:xfrm>
          </p:grpSpPr>
          <p:sp>
            <p:nvSpPr>
              <p:cNvPr id="5773" name=""/>
              <p:cNvSpPr/>
              <p:nvPr/>
            </p:nvSpPr>
            <p:spPr>
              <a:xfrm>
                <a:off x="5487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55022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55148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55292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55436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5557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55720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55864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6008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6149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56293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56419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56563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56707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5684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56991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57135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57276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57420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7564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57690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7834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57974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5811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58262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58402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58546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58690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5881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58960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59101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59245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593892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59529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59673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59817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59961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6008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022800" y="15318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0372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0516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60660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60800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60944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1088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1214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135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1498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164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1786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1927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2071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22152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235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2485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2625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62769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62913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6305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63198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633420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6348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63626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63752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3896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4040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4184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4324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4468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64612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64753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6488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65023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65167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65311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5451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559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657396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65880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6602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66150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66294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66438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6657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6672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66866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67006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67150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67276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67420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3" name=""/>
            <p:cNvGrpSpPr/>
            <p:nvPr/>
          </p:nvGrpSpPr>
          <p:grpSpPr>
            <a:xfrm>
              <a:off x="6161040" y="1104840"/>
              <a:ext cx="147600" cy="6480"/>
              <a:chOff x="6161040" y="1104840"/>
              <a:chExt cx="147600" cy="6480"/>
            </a:xfrm>
          </p:grpSpPr>
          <p:sp>
            <p:nvSpPr>
              <p:cNvPr id="5864" name=""/>
              <p:cNvSpPr/>
              <p:nvPr/>
            </p:nvSpPr>
            <p:spPr>
              <a:xfrm>
                <a:off x="616104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61754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61898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620388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6216480" y="11048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2308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2452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2596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62737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62881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630252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5" name=""/>
            <p:cNvSpPr/>
            <p:nvPr/>
          </p:nvSpPr>
          <p:spPr>
            <a:xfrm>
              <a:off x="5917680" y="801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5990400" y="871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389280" y="102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495840" y="1093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9" name=""/>
            <p:cNvGrpSpPr/>
            <p:nvPr/>
          </p:nvGrpSpPr>
          <p:grpSpPr>
            <a:xfrm>
              <a:off x="6824520" y="1360440"/>
              <a:ext cx="81000" cy="307440"/>
              <a:chOff x="6824520" y="1360440"/>
              <a:chExt cx="81000" cy="307440"/>
            </a:xfrm>
          </p:grpSpPr>
          <p:sp>
            <p:nvSpPr>
              <p:cNvPr id="5880" name=""/>
              <p:cNvSpPr/>
              <p:nvPr/>
            </p:nvSpPr>
            <p:spPr>
              <a:xfrm>
                <a:off x="6824520" y="1511280"/>
                <a:ext cx="81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6836760" y="136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6833520" y="1530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3" name=""/>
            <p:cNvSpPr/>
            <p:nvPr/>
          </p:nvSpPr>
          <p:spPr>
            <a:xfrm>
              <a:off x="6957720" y="14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062480" y="14749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035840" y="20289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6135480" y="203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5207760" y="202896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8" name=""/>
            <p:cNvGrpSpPr/>
            <p:nvPr/>
          </p:nvGrpSpPr>
          <p:grpSpPr>
            <a:xfrm>
              <a:off x="5658840" y="2041560"/>
              <a:ext cx="180000" cy="320040"/>
              <a:chOff x="5658840" y="2041560"/>
              <a:chExt cx="180000" cy="320040"/>
            </a:xfrm>
          </p:grpSpPr>
          <p:sp>
            <p:nvSpPr>
              <p:cNvPr id="5889" name=""/>
              <p:cNvSpPr/>
              <p:nvPr/>
            </p:nvSpPr>
            <p:spPr>
              <a:xfrm>
                <a:off x="57434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5658840" y="2114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574992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576036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3" name=""/>
            <p:cNvGrpSpPr/>
            <p:nvPr/>
          </p:nvGrpSpPr>
          <p:grpSpPr>
            <a:xfrm>
              <a:off x="6524640" y="2041560"/>
              <a:ext cx="95400" cy="320040"/>
              <a:chOff x="6524640" y="2041560"/>
              <a:chExt cx="95400" cy="320040"/>
            </a:xfrm>
          </p:grpSpPr>
          <p:sp>
            <p:nvSpPr>
              <p:cNvPr id="5894" name=""/>
              <p:cNvSpPr/>
              <p:nvPr/>
            </p:nvSpPr>
            <p:spPr>
              <a:xfrm>
                <a:off x="65246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653256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654120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7" name=""/>
            <p:cNvGrpSpPr/>
            <p:nvPr/>
          </p:nvGrpSpPr>
          <p:grpSpPr>
            <a:xfrm>
              <a:off x="7308360" y="2050920"/>
              <a:ext cx="532080" cy="320040"/>
              <a:chOff x="7308360" y="2050920"/>
              <a:chExt cx="532080" cy="320040"/>
            </a:xfrm>
          </p:grpSpPr>
          <p:sp>
            <p:nvSpPr>
              <p:cNvPr id="5898" name=""/>
              <p:cNvSpPr/>
              <p:nvPr/>
            </p:nvSpPr>
            <p:spPr>
              <a:xfrm>
                <a:off x="7566120" y="2216160"/>
                <a:ext cx="136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7308360" y="2125800"/>
                <a:ext cx="69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7777080" y="212580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7382520" y="2181240"/>
                <a:ext cx="4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7649640" y="2063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7595640" y="2233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7454880" y="2125800"/>
                <a:ext cx="92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7579800" y="2050920"/>
                <a:ext cx="7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7719120" y="2138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7" name=""/>
            <p:cNvSpPr/>
            <p:nvPr/>
          </p:nvSpPr>
          <p:spPr>
            <a:xfrm>
              <a:off x="2935440" y="3498840"/>
              <a:ext cx="225360" cy="2127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995200" y="352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065040" y="3530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189920" y="5900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257600" y="592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1700280" y="4875120"/>
              <a:ext cx="24768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1760040" y="490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1834560" y="4976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1746360" y="5315040"/>
              <a:ext cx="268200" cy="236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1788840" y="53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1895040" y="5418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8" name=""/>
            <p:cNvGrpSpPr/>
            <p:nvPr/>
          </p:nvGrpSpPr>
          <p:grpSpPr>
            <a:xfrm>
              <a:off x="2620800" y="3960720"/>
              <a:ext cx="1160640" cy="77760"/>
              <a:chOff x="2620800" y="3960720"/>
              <a:chExt cx="1160640" cy="77760"/>
            </a:xfrm>
          </p:grpSpPr>
          <p:sp>
            <p:nvSpPr>
              <p:cNvPr id="5919" name=""/>
              <p:cNvSpPr/>
              <p:nvPr/>
            </p:nvSpPr>
            <p:spPr>
              <a:xfrm flipH="1">
                <a:off x="2687400" y="4000680"/>
                <a:ext cx="1027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706920" y="39654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2620800" y="3960720"/>
                <a:ext cx="7488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0" y="25"/>
                    </a:lnTo>
                    <a:lnTo>
                      <a:pt x="47" y="4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2" name=""/>
            <p:cNvGrpSpPr/>
            <p:nvPr/>
          </p:nvGrpSpPr>
          <p:grpSpPr>
            <a:xfrm>
              <a:off x="3117960" y="3749760"/>
              <a:ext cx="187200" cy="215640"/>
              <a:chOff x="3117960" y="3749760"/>
              <a:chExt cx="187200" cy="215640"/>
            </a:xfrm>
          </p:grpSpPr>
          <p:sp>
            <p:nvSpPr>
              <p:cNvPr id="5923" name=""/>
              <p:cNvSpPr/>
              <p:nvPr/>
            </p:nvSpPr>
            <p:spPr>
              <a:xfrm>
                <a:off x="3121200" y="3753000"/>
                <a:ext cx="18072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117960" y="37530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3117960" y="37670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117960" y="378144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3117960" y="379584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117960" y="38098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117960" y="38242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117960" y="3838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117960" y="38512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117960" y="38656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117960" y="38797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117960" y="3894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117960" y="39085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117960" y="39225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117960" y="39369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117960" y="39513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12588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13992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15288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1669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31813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31957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2097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2241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2385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32529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26700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279600" y="395748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29400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3298680" y="39466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298680" y="39337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298680" y="3919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3298680" y="3905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298680" y="38908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3298680" y="3876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298680" y="38624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298680" y="38480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298680" y="3833640"/>
                <a:ext cx="64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298680" y="381960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3298680" y="3807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298680" y="37926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3298680" y="3778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3298680" y="3763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298680" y="3749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328464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32702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32558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324180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32274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32130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31989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31845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317196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31575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31431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312912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9" name=""/>
            <p:cNvSpPr/>
            <p:nvPr/>
          </p:nvSpPr>
          <p:spPr>
            <a:xfrm>
              <a:off x="3170880" y="377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054160" y="3365640"/>
              <a:ext cx="584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63844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2638440" y="3022560"/>
              <a:ext cx="56844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3209760" y="3022560"/>
              <a:ext cx="324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209760" y="337644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795840" y="303372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795840" y="3022560"/>
              <a:ext cx="57780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4365720" y="3022560"/>
              <a:ext cx="468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077240" y="3452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714816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1768320" y="27367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1834920" y="27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1907640" y="2836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4379760" y="3365640"/>
              <a:ext cx="582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496260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4962600" y="3022560"/>
              <a:ext cx="57456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55371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537160" y="337644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6118200" y="3033720"/>
              <a:ext cx="32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6118200" y="3022560"/>
              <a:ext cx="58248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66927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6703920" y="3365640"/>
              <a:ext cx="309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2054160" y="4522680"/>
              <a:ext cx="1764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2305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230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805120" y="4179960"/>
              <a:ext cx="14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2805120" y="453240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3386160" y="4194000"/>
              <a:ext cx="32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3386160" y="4179960"/>
              <a:ext cx="57456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396072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134120" y="4621320"/>
              <a:ext cx="1796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200720" y="465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1768320" y="38941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1823760" y="3925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1897920" y="399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3971880" y="452268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45561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4556160" y="4179960"/>
              <a:ext cx="5684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51274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5127480" y="453240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57135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5713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62848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6294600" y="4522680"/>
              <a:ext cx="5857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68691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6869160" y="4194000"/>
              <a:ext cx="187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6" name=""/>
            <p:cNvGrpSpPr/>
            <p:nvPr/>
          </p:nvGrpSpPr>
          <p:grpSpPr>
            <a:xfrm>
              <a:off x="2635200" y="3362400"/>
              <a:ext cx="6480" cy="2093760"/>
              <a:chOff x="2635200" y="3362400"/>
              <a:chExt cx="6480" cy="2093760"/>
            </a:xfrm>
          </p:grpSpPr>
          <p:sp>
            <p:nvSpPr>
              <p:cNvPr id="6027" name=""/>
              <p:cNvSpPr/>
              <p:nvPr/>
            </p:nvSpPr>
            <p:spPr>
              <a:xfrm>
                <a:off x="263520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263520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263520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263520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263520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263520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263520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263520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263520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263520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263520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263520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263520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263520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263520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263520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26352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26352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263520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263520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263520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263520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263520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263520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263520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263520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263520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263520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263520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263520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263520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263520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263520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263520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63520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263520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263520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263520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263520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263520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263520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263520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263520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26352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26352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26352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263520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263520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263520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263520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63520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63520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263520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63520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263520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263520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263520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263520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263520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263520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263520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263520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263520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263520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263520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263520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263520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263520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263520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263520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263520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26352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26352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263520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263520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263520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263520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263520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263520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263520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263520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263520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263520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263520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263520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263520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263520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263520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263520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263520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263520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263520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63520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63520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63520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263520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263520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263520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263520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263520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3520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263520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263520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263520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263520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263520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263520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263520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263520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263520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263520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263520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26352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26352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263520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263520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263520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263520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263520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263520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263520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263520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263520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263520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263520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263520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263520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263520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263520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263520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263520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263520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263520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263520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263520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263520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263520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263520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263520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263520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26352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263520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263520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263520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263520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263520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263520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263520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263520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6" name=""/>
            <p:cNvSpPr/>
            <p:nvPr/>
          </p:nvSpPr>
          <p:spPr>
            <a:xfrm>
              <a:off x="263844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64960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276876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76876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32241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238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354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354480" y="5799240"/>
              <a:ext cx="447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4" name=""/>
            <p:cNvGrpSpPr/>
            <p:nvPr/>
          </p:nvGrpSpPr>
          <p:grpSpPr>
            <a:xfrm>
              <a:off x="4959360" y="3362400"/>
              <a:ext cx="6480" cy="2093760"/>
              <a:chOff x="4959360" y="3362400"/>
              <a:chExt cx="6480" cy="2093760"/>
            </a:xfrm>
          </p:grpSpPr>
          <p:sp>
            <p:nvSpPr>
              <p:cNvPr id="6185" name=""/>
              <p:cNvSpPr/>
              <p:nvPr/>
            </p:nvSpPr>
            <p:spPr>
              <a:xfrm>
                <a:off x="495936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959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95936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959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95936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95936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95936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95936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95936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95936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95936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95936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95936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95936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95936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95936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95936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95936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95936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95936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95936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95936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95936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95936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95936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95936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95936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95936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95936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95936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959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95936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959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95936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95936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95936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95936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95936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95936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95936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95936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95936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95936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95936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95936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95936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95936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95936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95936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95936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95936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95936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95936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95936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95936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95936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95936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959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959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959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95936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95936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95936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95936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95936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95936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95936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95936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95936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95936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95936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95936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95936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95936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95936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95936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95936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95936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95936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95936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95936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95936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95936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95936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95936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95936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95936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95936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95936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95936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95936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95936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95936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95936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95936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95936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95936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95936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95936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95936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95936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95936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95936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95936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95936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95936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95936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95936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95936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95936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95936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95936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959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959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95936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95936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95936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95936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95936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95936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95936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95936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95936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95936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95936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95936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95936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95936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95936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95936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95936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95936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95936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95936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95936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95936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95936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495936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495936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495936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4959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495936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495936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495936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495936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495936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495936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495936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495936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4" name=""/>
            <p:cNvSpPr/>
            <p:nvPr/>
          </p:nvSpPr>
          <p:spPr>
            <a:xfrm>
              <a:off x="3795840" y="545940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379584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391464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914640" y="5799240"/>
              <a:ext cx="4651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043000" y="5427720"/>
              <a:ext cx="155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198520" y="542772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198520" y="5799240"/>
              <a:ext cx="44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43797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439092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50684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4506840" y="579924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495936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4971960" y="5438880"/>
              <a:ext cx="117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50896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5089680" y="5799240"/>
              <a:ext cx="444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5526000" y="5459400"/>
              <a:ext cx="18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552600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564660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5646600" y="5799240"/>
              <a:ext cx="4748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611820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6129360" y="5438880"/>
              <a:ext cx="119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6248520" y="5438880"/>
              <a:ext cx="468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624852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670392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6721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6837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6837480" y="5799240"/>
              <a:ext cx="2538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1" name=""/>
            <p:cNvGrpSpPr/>
            <p:nvPr/>
          </p:nvGrpSpPr>
          <p:grpSpPr>
            <a:xfrm>
              <a:off x="2631960" y="3706920"/>
              <a:ext cx="750960" cy="77760"/>
              <a:chOff x="2631960" y="3706920"/>
              <a:chExt cx="750960" cy="77760"/>
            </a:xfrm>
          </p:grpSpPr>
          <p:sp>
            <p:nvSpPr>
              <p:cNvPr id="6362" name=""/>
              <p:cNvSpPr/>
              <p:nvPr/>
            </p:nvSpPr>
            <p:spPr>
              <a:xfrm flipH="1">
                <a:off x="2698560" y="3746520"/>
                <a:ext cx="617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3308400" y="37116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2631960" y="370692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0"/>
                    </a:moveTo>
                    <a:lnTo>
                      <a:pt x="0" y="25"/>
                    </a:lnTo>
                    <a:lnTo>
                      <a:pt x="46" y="4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5" name=""/>
            <p:cNvSpPr/>
            <p:nvPr/>
          </p:nvSpPr>
          <p:spPr>
            <a:xfrm>
              <a:off x="259092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380988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057400" y="34290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057400" y="457200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1981080" y="586728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 flipV="1">
              <a:off x="205740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 flipV="1">
              <a:off x="2057400" y="3733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 flipV="1">
              <a:off x="1981080" y="49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4800600" y="19810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4" name=""/>
          <p:cNvGrpSpPr/>
          <p:nvPr/>
        </p:nvGrpSpPr>
        <p:grpSpPr>
          <a:xfrm>
            <a:off x="1146960" y="1873080"/>
            <a:ext cx="7040160" cy="2589480"/>
            <a:chOff x="1146960" y="1873080"/>
            <a:chExt cx="7040160" cy="2589480"/>
          </a:xfrm>
        </p:grpSpPr>
        <p:sp>
          <p:nvSpPr>
            <p:cNvPr id="6375" name=""/>
            <p:cNvSpPr/>
            <p:nvPr/>
          </p:nvSpPr>
          <p:spPr>
            <a:xfrm>
              <a:off x="2160720" y="1887480"/>
              <a:ext cx="89208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280240" y="1927080"/>
              <a:ext cx="65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550600" y="2151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195640" y="237492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550600" y="2598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174760" y="3529080"/>
              <a:ext cx="892440" cy="93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240280" y="3571920"/>
              <a:ext cx="76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R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565000" y="379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2209680" y="401940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1654200" y="199548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575080" y="3456000"/>
              <a:ext cx="680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575080" y="28321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  <a:lnTo>
                    <a:pt x="184" y="13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4659480" y="2935440"/>
              <a:ext cx="2444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4616280" y="3362400"/>
              <a:ext cx="287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 flipV="1">
              <a:off x="4903920" y="2935440"/>
              <a:ext cx="144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603520" y="2890800"/>
              <a:ext cx="144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694640" y="3392640"/>
              <a:ext cx="6840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575080" y="3149640"/>
              <a:ext cx="680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 flipH="1">
              <a:off x="2619360" y="3178080"/>
              <a:ext cx="1665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 flipH="1">
              <a:off x="3047760" y="2038320"/>
              <a:ext cx="223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 flipH="1">
              <a:off x="3067200" y="3699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 flipH="1">
              <a:off x="4908240" y="3027240"/>
              <a:ext cx="374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 flipH="1">
              <a:off x="4917600" y="3300480"/>
              <a:ext cx="36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 flipV="1">
              <a:off x="5283360" y="2033640"/>
              <a:ext cx="144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 flipH="1" flipV="1">
              <a:off x="5283360" y="3300120"/>
              <a:ext cx="9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 flipH="1">
              <a:off x="1727280" y="2023920"/>
              <a:ext cx="31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2028960" y="1976400"/>
              <a:ext cx="10296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 flipH="1">
              <a:off x="1736640" y="368460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2043000" y="363528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 flipH="1">
              <a:off x="1293840" y="2448000"/>
              <a:ext cx="7444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2028960" y="23986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H="1">
              <a:off x="1308240" y="4092480"/>
              <a:ext cx="74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2043000" y="40449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1258920" y="406404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1258920" y="2419200"/>
              <a:ext cx="633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1668600" y="3649680"/>
              <a:ext cx="6804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607680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5254560" y="3484440"/>
              <a:ext cx="63720" cy="5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525456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5483160" y="3430440"/>
              <a:ext cx="43344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5313240" y="351468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5907240" y="351468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5664240" y="3060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 flipV="1">
              <a:off x="6311880" y="3128760"/>
              <a:ext cx="144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 flipV="1">
              <a:off x="6316560" y="3416400"/>
              <a:ext cx="5796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 flipV="1">
              <a:off x="6404040" y="348444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6354720" y="3519360"/>
              <a:ext cx="936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 flipV="1">
              <a:off x="6093000" y="3503160"/>
              <a:ext cx="223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111720" y="327024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919920" y="3421080"/>
              <a:ext cx="7999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6014880" y="4336920"/>
              <a:ext cx="1699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 flipV="1">
              <a:off x="7086600" y="2549160"/>
              <a:ext cx="468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365880" y="3270240"/>
              <a:ext cx="9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 flipH="1" flipV="1">
              <a:off x="6321600" y="3133800"/>
              <a:ext cx="57456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5483160" y="2471760"/>
              <a:ext cx="433440" cy="17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5313240" y="25542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5907240" y="255420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566424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 flipV="1">
              <a:off x="6107040" y="254952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6008760" y="3693960"/>
              <a:ext cx="166680" cy="4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6093000" y="352908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6093000" y="412272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6345360" y="382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6286680" y="2471760"/>
              <a:ext cx="4395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6121440" y="2549520"/>
              <a:ext cx="181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 flipV="1">
              <a:off x="6715080" y="2549160"/>
              <a:ext cx="3808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646740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056360" y="339264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6062760" y="347508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3622680" y="286236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686040" y="4457880"/>
              <a:ext cx="169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7670880" y="438480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3714840" y="2351160"/>
              <a:ext cx="144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3665520" y="23511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3759120" y="3917880"/>
              <a:ext cx="468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3710160" y="391788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734240" y="3552840"/>
              <a:ext cx="180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7684920" y="355284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 flipV="1">
              <a:off x="2589120" y="3581280"/>
              <a:ext cx="1224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 flipV="1">
              <a:off x="2556000" y="2570040"/>
              <a:ext cx="141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3884040" y="2462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3987720" y="25588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3942720" y="4024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4046400" y="412272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1152000" y="421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1253880" y="430704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1146960" y="2549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1249200" y="264780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7898760" y="3830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8002080" y="392760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1293840" y="3498840"/>
              <a:ext cx="341280" cy="326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1404360" y="353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1293840" y="1873080"/>
              <a:ext cx="341280" cy="327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1404360" y="1913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4280040" y="3149640"/>
              <a:ext cx="6804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4" name=""/>
          <p:cNvSpPr/>
          <p:nvPr/>
        </p:nvSpPr>
        <p:spPr>
          <a:xfrm>
            <a:off x="2732040" y="3049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- cze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"/>
          <p:cNvSpPr/>
          <p:nvPr/>
        </p:nvSpPr>
        <p:spPr>
          <a:xfrm>
            <a:off x="513720" y="30492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oszerzające zakres chwytania synchronizacji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6" name=""/>
          <p:cNvGrpSpPr/>
          <p:nvPr/>
        </p:nvGrpSpPr>
        <p:grpSpPr>
          <a:xfrm>
            <a:off x="1181880" y="1109520"/>
            <a:ext cx="7443360" cy="5330880"/>
            <a:chOff x="1181880" y="1109520"/>
            <a:chExt cx="7443360" cy="5330880"/>
          </a:xfrm>
        </p:grpSpPr>
        <p:sp>
          <p:nvSpPr>
            <p:cNvPr id="6477" name=""/>
            <p:cNvSpPr/>
            <p:nvPr/>
          </p:nvSpPr>
          <p:spPr>
            <a:xfrm>
              <a:off x="2520720" y="52164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2628360" y="532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687040" y="5234040"/>
              <a:ext cx="59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=(t)+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3283200" y="5200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3908520" y="5595840"/>
              <a:ext cx="1041480" cy="301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3978360" y="5630760"/>
              <a:ext cx="88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3" name=""/>
            <p:cNvGrpSpPr/>
            <p:nvPr/>
          </p:nvGrpSpPr>
          <p:grpSpPr>
            <a:xfrm>
              <a:off x="4700520" y="4257720"/>
              <a:ext cx="1046160" cy="1046160"/>
              <a:chOff x="4700520" y="4257720"/>
              <a:chExt cx="1046160" cy="1046160"/>
            </a:xfrm>
          </p:grpSpPr>
          <p:grpSp>
            <p:nvGrpSpPr>
              <p:cNvPr id="6484" name=""/>
              <p:cNvGrpSpPr/>
              <p:nvPr/>
            </p:nvGrpSpPr>
            <p:grpSpPr>
              <a:xfrm>
                <a:off x="4700520" y="4257720"/>
                <a:ext cx="1046160" cy="1046160"/>
                <a:chOff x="4700520" y="4257720"/>
                <a:chExt cx="1046160" cy="1046160"/>
              </a:xfrm>
            </p:grpSpPr>
            <p:sp>
              <p:nvSpPr>
                <p:cNvPr id="6485" name=""/>
                <p:cNvSpPr/>
                <p:nvPr/>
              </p:nvSpPr>
              <p:spPr>
                <a:xfrm>
                  <a:off x="4703760" y="4260960"/>
                  <a:ext cx="1038240" cy="103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6" name=""/>
                <p:cNvSpPr/>
                <p:nvPr/>
              </p:nvSpPr>
              <p:spPr>
                <a:xfrm>
                  <a:off x="4700520" y="42609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7" name=""/>
                <p:cNvSpPr/>
                <p:nvPr/>
              </p:nvSpPr>
              <p:spPr>
                <a:xfrm>
                  <a:off x="4700520" y="42782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"/>
                <p:cNvSpPr/>
                <p:nvPr/>
              </p:nvSpPr>
              <p:spPr>
                <a:xfrm>
                  <a:off x="4700520" y="4295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9" name=""/>
                <p:cNvSpPr/>
                <p:nvPr/>
              </p:nvSpPr>
              <p:spPr>
                <a:xfrm>
                  <a:off x="4700520" y="43131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0" name=""/>
                <p:cNvSpPr/>
                <p:nvPr/>
              </p:nvSpPr>
              <p:spPr>
                <a:xfrm>
                  <a:off x="4700520" y="4330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1" name=""/>
                <p:cNvSpPr/>
                <p:nvPr/>
              </p:nvSpPr>
              <p:spPr>
                <a:xfrm>
                  <a:off x="4700520" y="4348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2" name=""/>
                <p:cNvSpPr/>
                <p:nvPr/>
              </p:nvSpPr>
              <p:spPr>
                <a:xfrm>
                  <a:off x="4700520" y="43639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>
                  <a:off x="4700520" y="43815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4" name=""/>
                <p:cNvSpPr/>
                <p:nvPr/>
              </p:nvSpPr>
              <p:spPr>
                <a:xfrm>
                  <a:off x="4700520" y="4398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5" name=""/>
                <p:cNvSpPr/>
                <p:nvPr/>
              </p:nvSpPr>
              <p:spPr>
                <a:xfrm>
                  <a:off x="4700520" y="4416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>
                  <a:off x="4700520" y="44337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4700520" y="4451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4700520" y="4468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>
                  <a:off x="4700520" y="44845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>
                  <a:off x="4700520" y="45021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4700520" y="451944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"/>
                <p:cNvSpPr/>
                <p:nvPr/>
              </p:nvSpPr>
              <p:spPr>
                <a:xfrm>
                  <a:off x="4700520" y="4537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"/>
                <p:cNvSpPr/>
                <p:nvPr/>
              </p:nvSpPr>
              <p:spPr>
                <a:xfrm>
                  <a:off x="4700520" y="455436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"/>
                <p:cNvSpPr/>
                <p:nvPr/>
              </p:nvSpPr>
              <p:spPr>
                <a:xfrm>
                  <a:off x="4700520" y="4572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4700520" y="4587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"/>
                <p:cNvSpPr/>
                <p:nvPr/>
              </p:nvSpPr>
              <p:spPr>
                <a:xfrm>
                  <a:off x="4700520" y="46054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7" name=""/>
                <p:cNvSpPr/>
                <p:nvPr/>
              </p:nvSpPr>
              <p:spPr>
                <a:xfrm>
                  <a:off x="4700520" y="46227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8" name=""/>
                <p:cNvSpPr/>
                <p:nvPr/>
              </p:nvSpPr>
              <p:spPr>
                <a:xfrm>
                  <a:off x="4700520" y="4640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"/>
                <p:cNvSpPr/>
                <p:nvPr/>
              </p:nvSpPr>
              <p:spPr>
                <a:xfrm>
                  <a:off x="4700520" y="4657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"/>
                <p:cNvSpPr/>
                <p:nvPr/>
              </p:nvSpPr>
              <p:spPr>
                <a:xfrm>
                  <a:off x="4700520" y="46753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"/>
                <p:cNvSpPr/>
                <p:nvPr/>
              </p:nvSpPr>
              <p:spPr>
                <a:xfrm>
                  <a:off x="4700520" y="4692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2" name=""/>
                <p:cNvSpPr/>
                <p:nvPr/>
              </p:nvSpPr>
              <p:spPr>
                <a:xfrm>
                  <a:off x="4700520" y="47084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3" name=""/>
                <p:cNvSpPr/>
                <p:nvPr/>
              </p:nvSpPr>
              <p:spPr>
                <a:xfrm>
                  <a:off x="4700520" y="47260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4" name=""/>
                <p:cNvSpPr/>
                <p:nvPr/>
              </p:nvSpPr>
              <p:spPr>
                <a:xfrm>
                  <a:off x="4700520" y="47433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5" name=""/>
                <p:cNvSpPr/>
                <p:nvPr/>
              </p:nvSpPr>
              <p:spPr>
                <a:xfrm>
                  <a:off x="4700520" y="4761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>
                  <a:off x="4700520" y="47782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>
                  <a:off x="4700520" y="4795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8" name=""/>
                <p:cNvSpPr/>
                <p:nvPr/>
              </p:nvSpPr>
              <p:spPr>
                <a:xfrm>
                  <a:off x="4700520" y="48117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9" name=""/>
                <p:cNvSpPr/>
                <p:nvPr/>
              </p:nvSpPr>
              <p:spPr>
                <a:xfrm>
                  <a:off x="4700520" y="48290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0" name=""/>
                <p:cNvSpPr/>
                <p:nvPr/>
              </p:nvSpPr>
              <p:spPr>
                <a:xfrm>
                  <a:off x="4700520" y="48466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1" name=""/>
                <p:cNvSpPr/>
                <p:nvPr/>
              </p:nvSpPr>
              <p:spPr>
                <a:xfrm>
                  <a:off x="4700520" y="48639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2" name=""/>
                <p:cNvSpPr/>
                <p:nvPr/>
              </p:nvSpPr>
              <p:spPr>
                <a:xfrm>
                  <a:off x="4700520" y="4881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3" name=""/>
                <p:cNvSpPr/>
                <p:nvPr/>
              </p:nvSpPr>
              <p:spPr>
                <a:xfrm>
                  <a:off x="4700520" y="4898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"/>
                <p:cNvSpPr/>
                <p:nvPr/>
              </p:nvSpPr>
              <p:spPr>
                <a:xfrm>
                  <a:off x="4700520" y="4916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5" name=""/>
                <p:cNvSpPr/>
                <p:nvPr/>
              </p:nvSpPr>
              <p:spPr>
                <a:xfrm>
                  <a:off x="4700520" y="49323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6" name=""/>
                <p:cNvSpPr/>
                <p:nvPr/>
              </p:nvSpPr>
              <p:spPr>
                <a:xfrm>
                  <a:off x="4700520" y="49500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4700520" y="4967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8" name=""/>
                <p:cNvSpPr/>
                <p:nvPr/>
              </p:nvSpPr>
              <p:spPr>
                <a:xfrm>
                  <a:off x="4700520" y="4984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9" name=""/>
                <p:cNvSpPr/>
                <p:nvPr/>
              </p:nvSpPr>
              <p:spPr>
                <a:xfrm>
                  <a:off x="4700520" y="50022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0" name=""/>
                <p:cNvSpPr/>
                <p:nvPr/>
              </p:nvSpPr>
              <p:spPr>
                <a:xfrm>
                  <a:off x="4700520" y="50198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1" name=""/>
                <p:cNvSpPr/>
                <p:nvPr/>
              </p:nvSpPr>
              <p:spPr>
                <a:xfrm>
                  <a:off x="4700520" y="5037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2" name=""/>
                <p:cNvSpPr/>
                <p:nvPr/>
              </p:nvSpPr>
              <p:spPr>
                <a:xfrm>
                  <a:off x="4700520" y="50529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3" name=""/>
                <p:cNvSpPr/>
                <p:nvPr/>
              </p:nvSpPr>
              <p:spPr>
                <a:xfrm>
                  <a:off x="4700520" y="50706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4" name=""/>
                <p:cNvSpPr/>
                <p:nvPr/>
              </p:nvSpPr>
              <p:spPr>
                <a:xfrm>
                  <a:off x="4700520" y="5087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5" name=""/>
                <p:cNvSpPr/>
                <p:nvPr/>
              </p:nvSpPr>
              <p:spPr>
                <a:xfrm>
                  <a:off x="4700520" y="5105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6" name=""/>
                <p:cNvSpPr/>
                <p:nvPr/>
              </p:nvSpPr>
              <p:spPr>
                <a:xfrm>
                  <a:off x="4700520" y="5122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"/>
                <p:cNvSpPr/>
                <p:nvPr/>
              </p:nvSpPr>
              <p:spPr>
                <a:xfrm>
                  <a:off x="4700520" y="51404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>
                  <a:off x="4700520" y="5156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4700520" y="51735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4700520" y="51912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1" name=""/>
                <p:cNvSpPr/>
                <p:nvPr/>
              </p:nvSpPr>
              <p:spPr>
                <a:xfrm>
                  <a:off x="4700520" y="5208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2" name=""/>
                <p:cNvSpPr/>
                <p:nvPr/>
              </p:nvSpPr>
              <p:spPr>
                <a:xfrm>
                  <a:off x="4700520" y="5226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3" name=""/>
                <p:cNvSpPr/>
                <p:nvPr/>
              </p:nvSpPr>
              <p:spPr>
                <a:xfrm>
                  <a:off x="4700520" y="5243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>
                  <a:off x="4700520" y="52610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5" name=""/>
                <p:cNvSpPr/>
                <p:nvPr/>
              </p:nvSpPr>
              <p:spPr>
                <a:xfrm>
                  <a:off x="4700520" y="5276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6" name=""/>
                <p:cNvSpPr/>
                <p:nvPr/>
              </p:nvSpPr>
              <p:spPr>
                <a:xfrm>
                  <a:off x="4700520" y="52941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5" y="6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7" name=""/>
                <p:cNvSpPr/>
                <p:nvPr/>
              </p:nvSpPr>
              <p:spPr>
                <a:xfrm>
                  <a:off x="4718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47340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47512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0" name=""/>
                <p:cNvSpPr/>
                <p:nvPr/>
              </p:nvSpPr>
              <p:spPr>
                <a:xfrm>
                  <a:off x="47689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1" name=""/>
                <p:cNvSpPr/>
                <p:nvPr/>
              </p:nvSpPr>
              <p:spPr>
                <a:xfrm>
                  <a:off x="478620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"/>
                <p:cNvSpPr/>
                <p:nvPr/>
              </p:nvSpPr>
              <p:spPr>
                <a:xfrm>
                  <a:off x="4803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4821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>
                  <a:off x="483696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5" name=""/>
                <p:cNvSpPr/>
                <p:nvPr/>
              </p:nvSpPr>
              <p:spPr>
                <a:xfrm>
                  <a:off x="48546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6" name=""/>
                <p:cNvSpPr/>
                <p:nvPr/>
              </p:nvSpPr>
              <p:spPr>
                <a:xfrm>
                  <a:off x="4871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7" name=""/>
                <p:cNvSpPr/>
                <p:nvPr/>
              </p:nvSpPr>
              <p:spPr>
                <a:xfrm>
                  <a:off x="4889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8" name=""/>
                <p:cNvSpPr/>
                <p:nvPr/>
              </p:nvSpPr>
              <p:spPr>
                <a:xfrm>
                  <a:off x="490680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>
                  <a:off x="4924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>
                  <a:off x="494172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>
                  <a:off x="49579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>
                  <a:off x="49752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3" name=""/>
                <p:cNvSpPr/>
                <p:nvPr/>
              </p:nvSpPr>
              <p:spPr>
                <a:xfrm>
                  <a:off x="49928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4" name=""/>
                <p:cNvSpPr/>
                <p:nvPr/>
              </p:nvSpPr>
              <p:spPr>
                <a:xfrm>
                  <a:off x="5010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5" name=""/>
                <p:cNvSpPr/>
                <p:nvPr/>
              </p:nvSpPr>
              <p:spPr>
                <a:xfrm>
                  <a:off x="5027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6" name=""/>
                <p:cNvSpPr/>
                <p:nvPr/>
              </p:nvSpPr>
              <p:spPr>
                <a:xfrm>
                  <a:off x="5045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7" name=""/>
                <p:cNvSpPr/>
                <p:nvPr/>
              </p:nvSpPr>
              <p:spPr>
                <a:xfrm>
                  <a:off x="5060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8" name=""/>
                <p:cNvSpPr/>
                <p:nvPr/>
              </p:nvSpPr>
              <p:spPr>
                <a:xfrm>
                  <a:off x="50785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9" name=""/>
                <p:cNvSpPr/>
                <p:nvPr/>
              </p:nvSpPr>
              <p:spPr>
                <a:xfrm>
                  <a:off x="50958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0" name=""/>
                <p:cNvSpPr/>
                <p:nvPr/>
              </p:nvSpPr>
              <p:spPr>
                <a:xfrm>
                  <a:off x="5113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1" name=""/>
                <p:cNvSpPr/>
                <p:nvPr/>
              </p:nvSpPr>
              <p:spPr>
                <a:xfrm>
                  <a:off x="51307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2" name=""/>
                <p:cNvSpPr/>
                <p:nvPr/>
              </p:nvSpPr>
              <p:spPr>
                <a:xfrm>
                  <a:off x="51483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3" name=""/>
                <p:cNvSpPr/>
                <p:nvPr/>
              </p:nvSpPr>
              <p:spPr>
                <a:xfrm>
                  <a:off x="5165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4" name=""/>
                <p:cNvSpPr/>
                <p:nvPr/>
              </p:nvSpPr>
              <p:spPr>
                <a:xfrm>
                  <a:off x="51814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>
                  <a:off x="51991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6" name=""/>
                <p:cNvSpPr/>
                <p:nvPr/>
              </p:nvSpPr>
              <p:spPr>
                <a:xfrm>
                  <a:off x="5216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>
                  <a:off x="5234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8" name=""/>
                <p:cNvSpPr/>
                <p:nvPr/>
              </p:nvSpPr>
              <p:spPr>
                <a:xfrm>
                  <a:off x="52513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9" name=""/>
                <p:cNvSpPr/>
                <p:nvPr/>
              </p:nvSpPr>
              <p:spPr>
                <a:xfrm>
                  <a:off x="5268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5286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1" name=""/>
                <p:cNvSpPr/>
                <p:nvPr/>
              </p:nvSpPr>
              <p:spPr>
                <a:xfrm>
                  <a:off x="53020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2" name=""/>
                <p:cNvSpPr/>
                <p:nvPr/>
              </p:nvSpPr>
              <p:spPr>
                <a:xfrm>
                  <a:off x="53197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>
                  <a:off x="5337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>
                  <a:off x="5354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5" name=""/>
                <p:cNvSpPr/>
                <p:nvPr/>
              </p:nvSpPr>
              <p:spPr>
                <a:xfrm>
                  <a:off x="53722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6" name=""/>
                <p:cNvSpPr/>
                <p:nvPr/>
              </p:nvSpPr>
              <p:spPr>
                <a:xfrm>
                  <a:off x="5389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7" name=""/>
                <p:cNvSpPr/>
                <p:nvPr/>
              </p:nvSpPr>
              <p:spPr>
                <a:xfrm>
                  <a:off x="5405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8" name=""/>
                <p:cNvSpPr/>
                <p:nvPr/>
              </p:nvSpPr>
              <p:spPr>
                <a:xfrm>
                  <a:off x="54230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9" name=""/>
                <p:cNvSpPr/>
                <p:nvPr/>
              </p:nvSpPr>
              <p:spPr>
                <a:xfrm>
                  <a:off x="54403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0" name=""/>
                <p:cNvSpPr/>
                <p:nvPr/>
              </p:nvSpPr>
              <p:spPr>
                <a:xfrm>
                  <a:off x="5457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1" name=""/>
                <p:cNvSpPr/>
                <p:nvPr/>
              </p:nvSpPr>
              <p:spPr>
                <a:xfrm>
                  <a:off x="5475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54928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5510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4" name=""/>
                <p:cNvSpPr/>
                <p:nvPr/>
              </p:nvSpPr>
              <p:spPr>
                <a:xfrm>
                  <a:off x="5526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5" name=""/>
                <p:cNvSpPr/>
                <p:nvPr/>
              </p:nvSpPr>
              <p:spPr>
                <a:xfrm>
                  <a:off x="55436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"/>
                <p:cNvSpPr/>
                <p:nvPr/>
              </p:nvSpPr>
              <p:spPr>
                <a:xfrm>
                  <a:off x="55609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5578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5595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9" name=""/>
                <p:cNvSpPr/>
                <p:nvPr/>
              </p:nvSpPr>
              <p:spPr>
                <a:xfrm>
                  <a:off x="56134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0" name=""/>
                <p:cNvSpPr/>
                <p:nvPr/>
              </p:nvSpPr>
              <p:spPr>
                <a:xfrm>
                  <a:off x="5630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1" name=""/>
                <p:cNvSpPr/>
                <p:nvPr/>
              </p:nvSpPr>
              <p:spPr>
                <a:xfrm>
                  <a:off x="56466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2" name=""/>
                <p:cNvSpPr/>
                <p:nvPr/>
              </p:nvSpPr>
              <p:spPr>
                <a:xfrm>
                  <a:off x="56642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3" name=""/>
                <p:cNvSpPr/>
                <p:nvPr/>
              </p:nvSpPr>
              <p:spPr>
                <a:xfrm>
                  <a:off x="5681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4" name=""/>
                <p:cNvSpPr/>
                <p:nvPr/>
              </p:nvSpPr>
              <p:spPr>
                <a:xfrm>
                  <a:off x="5699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5" name=""/>
                <p:cNvSpPr/>
                <p:nvPr/>
              </p:nvSpPr>
              <p:spPr>
                <a:xfrm>
                  <a:off x="5716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6" name=""/>
                <p:cNvSpPr/>
                <p:nvPr/>
              </p:nvSpPr>
              <p:spPr>
                <a:xfrm>
                  <a:off x="57340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7" name=""/>
                <p:cNvSpPr/>
                <p:nvPr/>
              </p:nvSpPr>
              <p:spPr>
                <a:xfrm>
                  <a:off x="5737320" y="5281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8" name=""/>
                <p:cNvSpPr/>
                <p:nvPr/>
              </p:nvSpPr>
              <p:spPr>
                <a:xfrm>
                  <a:off x="5737320" y="5264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9" name=""/>
                <p:cNvSpPr/>
                <p:nvPr/>
              </p:nvSpPr>
              <p:spPr>
                <a:xfrm>
                  <a:off x="5737320" y="5246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0" name=""/>
                <p:cNvSpPr/>
                <p:nvPr/>
              </p:nvSpPr>
              <p:spPr>
                <a:xfrm>
                  <a:off x="5737320" y="5230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1" name=""/>
                <p:cNvSpPr/>
                <p:nvPr/>
              </p:nvSpPr>
              <p:spPr>
                <a:xfrm>
                  <a:off x="5737320" y="521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2" name=""/>
                <p:cNvSpPr/>
                <p:nvPr/>
              </p:nvSpPr>
              <p:spPr>
                <a:xfrm>
                  <a:off x="5737320" y="5195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3" name=""/>
                <p:cNvSpPr/>
                <p:nvPr/>
              </p:nvSpPr>
              <p:spPr>
                <a:xfrm>
                  <a:off x="5737320" y="517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4" name=""/>
                <p:cNvSpPr/>
                <p:nvPr/>
              </p:nvSpPr>
              <p:spPr>
                <a:xfrm>
                  <a:off x="5737320" y="5160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5" name=""/>
                <p:cNvSpPr/>
                <p:nvPr/>
              </p:nvSpPr>
              <p:spPr>
                <a:xfrm>
                  <a:off x="5737320" y="5143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6" name=""/>
                <p:cNvSpPr/>
                <p:nvPr/>
              </p:nvSpPr>
              <p:spPr>
                <a:xfrm>
                  <a:off x="5737320" y="5126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7" name=""/>
                <p:cNvSpPr/>
                <p:nvPr/>
              </p:nvSpPr>
              <p:spPr>
                <a:xfrm>
                  <a:off x="5737320" y="5110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8" name=""/>
                <p:cNvSpPr/>
                <p:nvPr/>
              </p:nvSpPr>
              <p:spPr>
                <a:xfrm>
                  <a:off x="5737320" y="5092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9" name=""/>
                <p:cNvSpPr/>
                <p:nvPr/>
              </p:nvSpPr>
              <p:spPr>
                <a:xfrm>
                  <a:off x="5737320" y="5075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0" name=""/>
                <p:cNvSpPr/>
                <p:nvPr/>
              </p:nvSpPr>
              <p:spPr>
                <a:xfrm>
                  <a:off x="5737320" y="505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1" name=""/>
                <p:cNvSpPr/>
                <p:nvPr/>
              </p:nvSpPr>
              <p:spPr>
                <a:xfrm>
                  <a:off x="5737320" y="5040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2" name=""/>
                <p:cNvSpPr/>
                <p:nvPr/>
              </p:nvSpPr>
              <p:spPr>
                <a:xfrm>
                  <a:off x="5737320" y="5022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3" name=""/>
                <p:cNvSpPr/>
                <p:nvPr/>
              </p:nvSpPr>
              <p:spPr>
                <a:xfrm>
                  <a:off x="5737320" y="5006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5737320" y="4989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5" name=""/>
                <p:cNvSpPr/>
                <p:nvPr/>
              </p:nvSpPr>
              <p:spPr>
                <a:xfrm>
                  <a:off x="5737320" y="4971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6" name=""/>
                <p:cNvSpPr/>
                <p:nvPr/>
              </p:nvSpPr>
              <p:spPr>
                <a:xfrm>
                  <a:off x="5737320" y="4954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>
                  <a:off x="5737320" y="4937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>
                  <a:off x="5737320" y="4919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5737320" y="4902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0" name=""/>
                <p:cNvSpPr/>
                <p:nvPr/>
              </p:nvSpPr>
              <p:spPr>
                <a:xfrm>
                  <a:off x="5737320" y="4886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1" name=""/>
                <p:cNvSpPr/>
                <p:nvPr/>
              </p:nvSpPr>
              <p:spPr>
                <a:xfrm>
                  <a:off x="5737320" y="486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5737320" y="4851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5737320" y="483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>
                  <a:off x="5737320" y="4816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5" name=""/>
                <p:cNvSpPr/>
                <p:nvPr/>
              </p:nvSpPr>
              <p:spPr>
                <a:xfrm>
                  <a:off x="5737320" y="47991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6" name=""/>
                <p:cNvSpPr/>
                <p:nvPr/>
              </p:nvSpPr>
              <p:spPr>
                <a:xfrm>
                  <a:off x="5737320" y="4781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"/>
                <p:cNvSpPr/>
                <p:nvPr/>
              </p:nvSpPr>
              <p:spPr>
                <a:xfrm>
                  <a:off x="5737320" y="4765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8" name=""/>
                <p:cNvSpPr/>
                <p:nvPr/>
              </p:nvSpPr>
              <p:spPr>
                <a:xfrm>
                  <a:off x="5737320" y="47480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9" name=""/>
                <p:cNvSpPr/>
                <p:nvPr/>
              </p:nvSpPr>
              <p:spPr>
                <a:xfrm>
                  <a:off x="5737320" y="4730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0" name=""/>
                <p:cNvSpPr/>
                <p:nvPr/>
              </p:nvSpPr>
              <p:spPr>
                <a:xfrm>
                  <a:off x="5737320" y="4713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"/>
                <p:cNvSpPr/>
                <p:nvPr/>
              </p:nvSpPr>
              <p:spPr>
                <a:xfrm>
                  <a:off x="5737320" y="4695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2" name=""/>
                <p:cNvSpPr/>
                <p:nvPr/>
              </p:nvSpPr>
              <p:spPr>
                <a:xfrm>
                  <a:off x="5737320" y="4678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3" name=""/>
                <p:cNvSpPr/>
                <p:nvPr/>
              </p:nvSpPr>
              <p:spPr>
                <a:xfrm>
                  <a:off x="5737320" y="4662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4" name=""/>
                <p:cNvSpPr/>
                <p:nvPr/>
              </p:nvSpPr>
              <p:spPr>
                <a:xfrm>
                  <a:off x="5737320" y="4645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"/>
                <p:cNvSpPr/>
                <p:nvPr/>
              </p:nvSpPr>
              <p:spPr>
                <a:xfrm>
                  <a:off x="5737320" y="4627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6" name=""/>
                <p:cNvSpPr/>
                <p:nvPr/>
              </p:nvSpPr>
              <p:spPr>
                <a:xfrm>
                  <a:off x="5737320" y="461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7" name=""/>
                <p:cNvSpPr/>
                <p:nvPr/>
              </p:nvSpPr>
              <p:spPr>
                <a:xfrm>
                  <a:off x="5737320" y="4592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8" name=""/>
                <p:cNvSpPr/>
                <p:nvPr/>
              </p:nvSpPr>
              <p:spPr>
                <a:xfrm>
                  <a:off x="5737320" y="4575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9" name=""/>
                <p:cNvSpPr/>
                <p:nvPr/>
              </p:nvSpPr>
              <p:spPr>
                <a:xfrm>
                  <a:off x="5737320" y="4557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0" name=""/>
                <p:cNvSpPr/>
                <p:nvPr/>
              </p:nvSpPr>
              <p:spPr>
                <a:xfrm>
                  <a:off x="5737320" y="45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1" name=""/>
                <p:cNvSpPr/>
                <p:nvPr/>
              </p:nvSpPr>
              <p:spPr>
                <a:xfrm>
                  <a:off x="5737320" y="4524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2" name=""/>
                <p:cNvSpPr/>
                <p:nvPr/>
              </p:nvSpPr>
              <p:spPr>
                <a:xfrm>
                  <a:off x="5737320" y="4506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>
                  <a:off x="5737320" y="4489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"/>
                <p:cNvSpPr/>
                <p:nvPr/>
              </p:nvSpPr>
              <p:spPr>
                <a:xfrm>
                  <a:off x="5737320" y="4471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>
                  <a:off x="5737320" y="4454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6" name=""/>
                <p:cNvSpPr/>
                <p:nvPr/>
              </p:nvSpPr>
              <p:spPr>
                <a:xfrm>
                  <a:off x="5737320" y="443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7" name=""/>
                <p:cNvSpPr/>
                <p:nvPr/>
              </p:nvSpPr>
              <p:spPr>
                <a:xfrm>
                  <a:off x="5737320" y="44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8" name=""/>
                <p:cNvSpPr/>
                <p:nvPr/>
              </p:nvSpPr>
              <p:spPr>
                <a:xfrm>
                  <a:off x="5737320" y="4403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5737320" y="4386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5737320" y="4368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5737320" y="4351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2" name=""/>
                <p:cNvSpPr/>
                <p:nvPr/>
              </p:nvSpPr>
              <p:spPr>
                <a:xfrm>
                  <a:off x="5737320" y="4334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"/>
                <p:cNvSpPr/>
                <p:nvPr/>
              </p:nvSpPr>
              <p:spPr>
                <a:xfrm>
                  <a:off x="5737320" y="43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"/>
                <p:cNvSpPr/>
                <p:nvPr/>
              </p:nvSpPr>
              <p:spPr>
                <a:xfrm>
                  <a:off x="5737320" y="43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5" name=""/>
                <p:cNvSpPr/>
                <p:nvPr/>
              </p:nvSpPr>
              <p:spPr>
                <a:xfrm>
                  <a:off x="5737320" y="4282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"/>
                <p:cNvSpPr/>
                <p:nvPr/>
              </p:nvSpPr>
              <p:spPr>
                <a:xfrm>
                  <a:off x="5737320" y="426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5729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8" name=""/>
                <p:cNvSpPr/>
                <p:nvPr/>
              </p:nvSpPr>
              <p:spPr>
                <a:xfrm>
                  <a:off x="5711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>
                  <a:off x="56944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0" name=""/>
                <p:cNvSpPr/>
                <p:nvPr/>
              </p:nvSpPr>
              <p:spPr>
                <a:xfrm>
                  <a:off x="567684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1" name=""/>
                <p:cNvSpPr/>
                <p:nvPr/>
              </p:nvSpPr>
              <p:spPr>
                <a:xfrm>
                  <a:off x="56610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564372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3" name=""/>
                <p:cNvSpPr/>
                <p:nvPr/>
              </p:nvSpPr>
              <p:spPr>
                <a:xfrm>
                  <a:off x="56260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4" name=""/>
                <p:cNvSpPr/>
                <p:nvPr/>
              </p:nvSpPr>
              <p:spPr>
                <a:xfrm>
                  <a:off x="56088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5" name=""/>
                <p:cNvSpPr/>
                <p:nvPr/>
              </p:nvSpPr>
              <p:spPr>
                <a:xfrm>
                  <a:off x="559116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6" name=""/>
                <p:cNvSpPr/>
                <p:nvPr/>
              </p:nvSpPr>
              <p:spPr>
                <a:xfrm>
                  <a:off x="55738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7" name=""/>
                <p:cNvSpPr/>
                <p:nvPr/>
              </p:nvSpPr>
              <p:spPr>
                <a:xfrm>
                  <a:off x="55562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8" name=""/>
                <p:cNvSpPr/>
                <p:nvPr/>
              </p:nvSpPr>
              <p:spPr>
                <a:xfrm>
                  <a:off x="5540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9" name=""/>
                <p:cNvSpPr/>
                <p:nvPr/>
              </p:nvSpPr>
              <p:spPr>
                <a:xfrm>
                  <a:off x="5522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0" name=""/>
                <p:cNvSpPr/>
                <p:nvPr/>
              </p:nvSpPr>
              <p:spPr>
                <a:xfrm>
                  <a:off x="55054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1" name=""/>
                <p:cNvSpPr/>
                <p:nvPr/>
              </p:nvSpPr>
              <p:spPr>
                <a:xfrm>
                  <a:off x="548784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2" name=""/>
                <p:cNvSpPr/>
                <p:nvPr/>
              </p:nvSpPr>
              <p:spPr>
                <a:xfrm>
                  <a:off x="547056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3" name=""/>
                <p:cNvSpPr/>
                <p:nvPr/>
              </p:nvSpPr>
              <p:spPr>
                <a:xfrm>
                  <a:off x="545292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4" name=""/>
                <p:cNvSpPr/>
                <p:nvPr/>
              </p:nvSpPr>
              <p:spPr>
                <a:xfrm>
                  <a:off x="54356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5" name=""/>
              <p:cNvSpPr/>
              <p:nvPr/>
            </p:nvSpPr>
            <p:spPr>
              <a:xfrm>
                <a:off x="54198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402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384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3672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3499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3323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3164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2992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2815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5264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24664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2293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211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5195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51786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5160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5143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51260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51084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509112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5075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50576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5040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5022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50054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9878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971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954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9370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919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49021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48848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48672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4851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48340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48164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4799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47815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47642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47466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4730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4713120" y="4257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7" name=""/>
            <p:cNvGrpSpPr/>
            <p:nvPr/>
          </p:nvGrpSpPr>
          <p:grpSpPr>
            <a:xfrm>
              <a:off x="2908440" y="1380960"/>
              <a:ext cx="831600" cy="2333880"/>
              <a:chOff x="2908440" y="1380960"/>
              <a:chExt cx="831600" cy="2333880"/>
            </a:xfrm>
          </p:grpSpPr>
          <p:grpSp>
            <p:nvGrpSpPr>
              <p:cNvPr id="6728" name=""/>
              <p:cNvGrpSpPr/>
              <p:nvPr/>
            </p:nvGrpSpPr>
            <p:grpSpPr>
              <a:xfrm>
                <a:off x="2908440" y="1386000"/>
                <a:ext cx="831600" cy="2328840"/>
                <a:chOff x="2908440" y="1386000"/>
                <a:chExt cx="831600" cy="2328840"/>
              </a:xfrm>
            </p:grpSpPr>
            <p:sp>
              <p:nvSpPr>
                <p:cNvPr id="6729" name=""/>
                <p:cNvSpPr/>
                <p:nvPr/>
              </p:nvSpPr>
              <p:spPr>
                <a:xfrm>
                  <a:off x="2913120" y="1386000"/>
                  <a:ext cx="822240" cy="232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0" name=""/>
                <p:cNvSpPr/>
                <p:nvPr/>
              </p:nvSpPr>
              <p:spPr>
                <a:xfrm>
                  <a:off x="2908440" y="1386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>
                  <a:off x="2908440" y="1403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>
                  <a:off x="2908440" y="1419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2908440" y="1436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4" name=""/>
                <p:cNvSpPr/>
                <p:nvPr/>
              </p:nvSpPr>
              <p:spPr>
                <a:xfrm>
                  <a:off x="2908440" y="1454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5" name=""/>
                <p:cNvSpPr/>
                <p:nvPr/>
              </p:nvSpPr>
              <p:spPr>
                <a:xfrm>
                  <a:off x="2908440" y="1471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6" name=""/>
                <p:cNvSpPr/>
                <p:nvPr/>
              </p:nvSpPr>
              <p:spPr>
                <a:xfrm>
                  <a:off x="2908440" y="1488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7" name=""/>
                <p:cNvSpPr/>
                <p:nvPr/>
              </p:nvSpPr>
              <p:spPr>
                <a:xfrm>
                  <a:off x="2908440" y="1506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8" name=""/>
                <p:cNvSpPr/>
                <p:nvPr/>
              </p:nvSpPr>
              <p:spPr>
                <a:xfrm>
                  <a:off x="2908440" y="15224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9" name=""/>
                <p:cNvSpPr/>
                <p:nvPr/>
              </p:nvSpPr>
              <p:spPr>
                <a:xfrm>
                  <a:off x="2908440" y="1539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0" name=""/>
                <p:cNvSpPr/>
                <p:nvPr/>
              </p:nvSpPr>
              <p:spPr>
                <a:xfrm>
                  <a:off x="2908440" y="1557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1" name=""/>
                <p:cNvSpPr/>
                <p:nvPr/>
              </p:nvSpPr>
              <p:spPr>
                <a:xfrm>
                  <a:off x="2908440" y="1574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2" name=""/>
                <p:cNvSpPr/>
                <p:nvPr/>
              </p:nvSpPr>
              <p:spPr>
                <a:xfrm>
                  <a:off x="2908440" y="1592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3" name=""/>
                <p:cNvSpPr/>
                <p:nvPr/>
              </p:nvSpPr>
              <p:spPr>
                <a:xfrm>
                  <a:off x="2908440" y="16095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4" name=""/>
                <p:cNvSpPr/>
                <p:nvPr/>
              </p:nvSpPr>
              <p:spPr>
                <a:xfrm>
                  <a:off x="2908440" y="162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5" name=""/>
                <p:cNvSpPr/>
                <p:nvPr/>
              </p:nvSpPr>
              <p:spPr>
                <a:xfrm>
                  <a:off x="2908440" y="1643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6" name=""/>
                <p:cNvSpPr/>
                <p:nvPr/>
              </p:nvSpPr>
              <p:spPr>
                <a:xfrm>
                  <a:off x="2908440" y="1660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7" name=""/>
                <p:cNvSpPr/>
                <p:nvPr/>
              </p:nvSpPr>
              <p:spPr>
                <a:xfrm>
                  <a:off x="2908440" y="1677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8" name=""/>
                <p:cNvSpPr/>
                <p:nvPr/>
              </p:nvSpPr>
              <p:spPr>
                <a:xfrm>
                  <a:off x="2908440" y="1695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9" name=""/>
                <p:cNvSpPr/>
                <p:nvPr/>
              </p:nvSpPr>
              <p:spPr>
                <a:xfrm>
                  <a:off x="2908440" y="1712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0" name=""/>
                <p:cNvSpPr/>
                <p:nvPr/>
              </p:nvSpPr>
              <p:spPr>
                <a:xfrm>
                  <a:off x="2908440" y="1730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1" name=""/>
                <p:cNvSpPr/>
                <p:nvPr/>
              </p:nvSpPr>
              <p:spPr>
                <a:xfrm>
                  <a:off x="2908440" y="1747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2" name=""/>
                <p:cNvSpPr/>
                <p:nvPr/>
              </p:nvSpPr>
              <p:spPr>
                <a:xfrm>
                  <a:off x="2908440" y="1763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3" name=""/>
                <p:cNvSpPr/>
                <p:nvPr/>
              </p:nvSpPr>
              <p:spPr>
                <a:xfrm>
                  <a:off x="2908440" y="1781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4" name=""/>
                <p:cNvSpPr/>
                <p:nvPr/>
              </p:nvSpPr>
              <p:spPr>
                <a:xfrm>
                  <a:off x="2908440" y="1798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5" name=""/>
                <p:cNvSpPr/>
                <p:nvPr/>
              </p:nvSpPr>
              <p:spPr>
                <a:xfrm>
                  <a:off x="2908440" y="1816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6" name=""/>
                <p:cNvSpPr/>
                <p:nvPr/>
              </p:nvSpPr>
              <p:spPr>
                <a:xfrm>
                  <a:off x="2908440" y="1833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>
                  <a:off x="2908440" y="1851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2908440" y="1866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9" name=""/>
                <p:cNvSpPr/>
                <p:nvPr/>
              </p:nvSpPr>
              <p:spPr>
                <a:xfrm>
                  <a:off x="2908440" y="18842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0" name=""/>
                <p:cNvSpPr/>
                <p:nvPr/>
              </p:nvSpPr>
              <p:spPr>
                <a:xfrm>
                  <a:off x="2908440" y="1901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>
                  <a:off x="2908440" y="191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>
                  <a:off x="2908440" y="1936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>
                  <a:off x="2908440" y="195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4" name=""/>
                <p:cNvSpPr/>
                <p:nvPr/>
              </p:nvSpPr>
              <p:spPr>
                <a:xfrm>
                  <a:off x="2908440" y="1971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5" name=""/>
                <p:cNvSpPr/>
                <p:nvPr/>
              </p:nvSpPr>
              <p:spPr>
                <a:xfrm>
                  <a:off x="2908440" y="1987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2908440" y="20048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"/>
                <p:cNvSpPr/>
                <p:nvPr/>
              </p:nvSpPr>
              <p:spPr>
                <a:xfrm>
                  <a:off x="2908440" y="2022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>
                  <a:off x="2908440" y="20397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9" name=""/>
                <p:cNvSpPr/>
                <p:nvPr/>
              </p:nvSpPr>
              <p:spPr>
                <a:xfrm>
                  <a:off x="2908440" y="20574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2908440" y="2075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2908440" y="2090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>
                  <a:off x="2908440" y="2108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3" name=""/>
                <p:cNvSpPr/>
                <p:nvPr/>
              </p:nvSpPr>
              <p:spPr>
                <a:xfrm>
                  <a:off x="2908440" y="21258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>
                  <a:off x="2908440" y="2143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>
                  <a:off x="2908440" y="2160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>
                  <a:off x="2908440" y="2178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7" name=""/>
                <p:cNvSpPr/>
                <p:nvPr/>
              </p:nvSpPr>
              <p:spPr>
                <a:xfrm>
                  <a:off x="2908440" y="219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8" name=""/>
                <p:cNvSpPr/>
                <p:nvPr/>
              </p:nvSpPr>
              <p:spPr>
                <a:xfrm>
                  <a:off x="2908440" y="22114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9" name=""/>
                <p:cNvSpPr/>
                <p:nvPr/>
              </p:nvSpPr>
              <p:spPr>
                <a:xfrm>
                  <a:off x="2908440" y="22287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0" name=""/>
                <p:cNvSpPr/>
                <p:nvPr/>
              </p:nvSpPr>
              <p:spPr>
                <a:xfrm>
                  <a:off x="2908440" y="2246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"/>
                <p:cNvSpPr/>
                <p:nvPr/>
              </p:nvSpPr>
              <p:spPr>
                <a:xfrm>
                  <a:off x="2908440" y="2263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"/>
                <p:cNvSpPr/>
                <p:nvPr/>
              </p:nvSpPr>
              <p:spPr>
                <a:xfrm>
                  <a:off x="2908440" y="2281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"/>
                <p:cNvSpPr/>
                <p:nvPr/>
              </p:nvSpPr>
              <p:spPr>
                <a:xfrm>
                  <a:off x="2908440" y="229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4" name=""/>
                <p:cNvSpPr/>
                <p:nvPr/>
              </p:nvSpPr>
              <p:spPr>
                <a:xfrm>
                  <a:off x="2908440" y="2314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5" name=""/>
                <p:cNvSpPr/>
                <p:nvPr/>
              </p:nvSpPr>
              <p:spPr>
                <a:xfrm>
                  <a:off x="2908440" y="23320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6" name=""/>
                <p:cNvSpPr/>
                <p:nvPr/>
              </p:nvSpPr>
              <p:spPr>
                <a:xfrm>
                  <a:off x="2908440" y="2349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7" name=""/>
                <p:cNvSpPr/>
                <p:nvPr/>
              </p:nvSpPr>
              <p:spPr>
                <a:xfrm>
                  <a:off x="2908440" y="2367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8" name=""/>
                <p:cNvSpPr/>
                <p:nvPr/>
              </p:nvSpPr>
              <p:spPr>
                <a:xfrm>
                  <a:off x="2908440" y="2384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"/>
                <p:cNvSpPr/>
                <p:nvPr/>
              </p:nvSpPr>
              <p:spPr>
                <a:xfrm>
                  <a:off x="2908440" y="2401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"/>
                <p:cNvSpPr/>
                <p:nvPr/>
              </p:nvSpPr>
              <p:spPr>
                <a:xfrm>
                  <a:off x="2908440" y="2419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1" name=""/>
                <p:cNvSpPr/>
                <p:nvPr/>
              </p:nvSpPr>
              <p:spPr>
                <a:xfrm>
                  <a:off x="2908440" y="2435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2" name=""/>
                <p:cNvSpPr/>
                <p:nvPr/>
              </p:nvSpPr>
              <p:spPr>
                <a:xfrm>
                  <a:off x="2908440" y="2452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"/>
                <p:cNvSpPr/>
                <p:nvPr/>
              </p:nvSpPr>
              <p:spPr>
                <a:xfrm>
                  <a:off x="2908440" y="2470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>
                  <a:off x="2908440" y="2487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5" name=""/>
                <p:cNvSpPr/>
                <p:nvPr/>
              </p:nvSpPr>
              <p:spPr>
                <a:xfrm>
                  <a:off x="2908440" y="2505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>
                  <a:off x="2908440" y="2522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7" name=""/>
                <p:cNvSpPr/>
                <p:nvPr/>
              </p:nvSpPr>
              <p:spPr>
                <a:xfrm>
                  <a:off x="2908440" y="254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8" name=""/>
                <p:cNvSpPr/>
                <p:nvPr/>
              </p:nvSpPr>
              <p:spPr>
                <a:xfrm>
                  <a:off x="2908440" y="25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9" name=""/>
                <p:cNvSpPr/>
                <p:nvPr/>
              </p:nvSpPr>
              <p:spPr>
                <a:xfrm>
                  <a:off x="2908440" y="2573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0" name=""/>
                <p:cNvSpPr/>
                <p:nvPr/>
              </p:nvSpPr>
              <p:spPr>
                <a:xfrm>
                  <a:off x="2908440" y="25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>
                  <a:off x="2908440" y="2608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2" name=""/>
                <p:cNvSpPr/>
                <p:nvPr/>
              </p:nvSpPr>
              <p:spPr>
                <a:xfrm>
                  <a:off x="2908440" y="26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3" name=""/>
                <p:cNvSpPr/>
                <p:nvPr/>
              </p:nvSpPr>
              <p:spPr>
                <a:xfrm>
                  <a:off x="2908440" y="2643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2908440" y="2658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2908440" y="26766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"/>
                <p:cNvSpPr/>
                <p:nvPr/>
              </p:nvSpPr>
              <p:spPr>
                <a:xfrm>
                  <a:off x="2908440" y="2693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"/>
                <p:cNvSpPr/>
                <p:nvPr/>
              </p:nvSpPr>
              <p:spPr>
                <a:xfrm>
                  <a:off x="2908440" y="27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8" name=""/>
                <p:cNvSpPr/>
                <p:nvPr/>
              </p:nvSpPr>
              <p:spPr>
                <a:xfrm>
                  <a:off x="2908440" y="272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>
                  <a:off x="2908440" y="27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0" name=""/>
                <p:cNvSpPr/>
                <p:nvPr/>
              </p:nvSpPr>
              <p:spPr>
                <a:xfrm>
                  <a:off x="2908440" y="2763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1" name=""/>
                <p:cNvSpPr/>
                <p:nvPr/>
              </p:nvSpPr>
              <p:spPr>
                <a:xfrm>
                  <a:off x="2908440" y="2779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2" name=""/>
                <p:cNvSpPr/>
                <p:nvPr/>
              </p:nvSpPr>
              <p:spPr>
                <a:xfrm>
                  <a:off x="2908440" y="27972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>
                  <a:off x="2908440" y="2814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"/>
                <p:cNvSpPr/>
                <p:nvPr/>
              </p:nvSpPr>
              <p:spPr>
                <a:xfrm>
                  <a:off x="2908440" y="2832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5" name=""/>
                <p:cNvSpPr/>
                <p:nvPr/>
              </p:nvSpPr>
              <p:spPr>
                <a:xfrm>
                  <a:off x="2908440" y="28494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6" name=""/>
                <p:cNvSpPr/>
                <p:nvPr/>
              </p:nvSpPr>
              <p:spPr>
                <a:xfrm>
                  <a:off x="2908440" y="2867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7" name=""/>
                <p:cNvSpPr/>
                <p:nvPr/>
              </p:nvSpPr>
              <p:spPr>
                <a:xfrm>
                  <a:off x="2908440" y="2882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>
                  <a:off x="2908440" y="2900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9" name=""/>
                <p:cNvSpPr/>
                <p:nvPr/>
              </p:nvSpPr>
              <p:spPr>
                <a:xfrm>
                  <a:off x="2908440" y="29178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0" name=""/>
                <p:cNvSpPr/>
                <p:nvPr/>
              </p:nvSpPr>
              <p:spPr>
                <a:xfrm>
                  <a:off x="2908440" y="2935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1" name=""/>
                <p:cNvSpPr/>
                <p:nvPr/>
              </p:nvSpPr>
              <p:spPr>
                <a:xfrm>
                  <a:off x="2908440" y="2952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2" name=""/>
                <p:cNvSpPr/>
                <p:nvPr/>
              </p:nvSpPr>
              <p:spPr>
                <a:xfrm>
                  <a:off x="2908440" y="2970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3" name=""/>
                <p:cNvSpPr/>
                <p:nvPr/>
              </p:nvSpPr>
              <p:spPr>
                <a:xfrm>
                  <a:off x="2908440" y="298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4" name=""/>
                <p:cNvSpPr/>
                <p:nvPr/>
              </p:nvSpPr>
              <p:spPr>
                <a:xfrm>
                  <a:off x="2908440" y="3003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5" name=""/>
                <p:cNvSpPr/>
                <p:nvPr/>
              </p:nvSpPr>
              <p:spPr>
                <a:xfrm>
                  <a:off x="2908440" y="30211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"/>
                <p:cNvSpPr/>
                <p:nvPr/>
              </p:nvSpPr>
              <p:spPr>
                <a:xfrm>
                  <a:off x="2908440" y="30384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"/>
                <p:cNvSpPr/>
                <p:nvPr/>
              </p:nvSpPr>
              <p:spPr>
                <a:xfrm>
                  <a:off x="2908440" y="3056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8" name=""/>
                <p:cNvSpPr/>
                <p:nvPr/>
              </p:nvSpPr>
              <p:spPr>
                <a:xfrm>
                  <a:off x="2908440" y="3073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9" name=""/>
                <p:cNvSpPr/>
                <p:nvPr/>
              </p:nvSpPr>
              <p:spPr>
                <a:xfrm>
                  <a:off x="2908440" y="3090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"/>
                <p:cNvSpPr/>
                <p:nvPr/>
              </p:nvSpPr>
              <p:spPr>
                <a:xfrm>
                  <a:off x="2908440" y="3108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"/>
                <p:cNvSpPr/>
                <p:nvPr/>
              </p:nvSpPr>
              <p:spPr>
                <a:xfrm>
                  <a:off x="2908440" y="31240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2" name=""/>
                <p:cNvSpPr/>
                <p:nvPr/>
              </p:nvSpPr>
              <p:spPr>
                <a:xfrm>
                  <a:off x="2908440" y="31417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3" name=""/>
                <p:cNvSpPr/>
                <p:nvPr/>
              </p:nvSpPr>
              <p:spPr>
                <a:xfrm>
                  <a:off x="2908440" y="315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4" name=""/>
                <p:cNvSpPr/>
                <p:nvPr/>
              </p:nvSpPr>
              <p:spPr>
                <a:xfrm>
                  <a:off x="2908440" y="3176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5" name=""/>
                <p:cNvSpPr/>
                <p:nvPr/>
              </p:nvSpPr>
              <p:spPr>
                <a:xfrm>
                  <a:off x="2908440" y="3193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6" name=""/>
                <p:cNvSpPr/>
                <p:nvPr/>
              </p:nvSpPr>
              <p:spPr>
                <a:xfrm>
                  <a:off x="2908440" y="3211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7" name=""/>
                <p:cNvSpPr/>
                <p:nvPr/>
              </p:nvSpPr>
              <p:spPr>
                <a:xfrm>
                  <a:off x="2908440" y="3227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8" name=""/>
                <p:cNvSpPr/>
                <p:nvPr/>
              </p:nvSpPr>
              <p:spPr>
                <a:xfrm>
                  <a:off x="2908440" y="3244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9" name=""/>
                <p:cNvSpPr/>
                <p:nvPr/>
              </p:nvSpPr>
              <p:spPr>
                <a:xfrm>
                  <a:off x="2908440" y="3262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"/>
                <p:cNvSpPr/>
                <p:nvPr/>
              </p:nvSpPr>
              <p:spPr>
                <a:xfrm>
                  <a:off x="2908440" y="32796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1" name=""/>
                <p:cNvSpPr/>
                <p:nvPr/>
              </p:nvSpPr>
              <p:spPr>
                <a:xfrm>
                  <a:off x="2908440" y="3297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"/>
                <p:cNvSpPr/>
                <p:nvPr/>
              </p:nvSpPr>
              <p:spPr>
                <a:xfrm>
                  <a:off x="2908440" y="3314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3" name=""/>
                <p:cNvSpPr/>
                <p:nvPr/>
              </p:nvSpPr>
              <p:spPr>
                <a:xfrm>
                  <a:off x="2908440" y="3332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4" name=""/>
                <p:cNvSpPr/>
                <p:nvPr/>
              </p:nvSpPr>
              <p:spPr>
                <a:xfrm>
                  <a:off x="2908440" y="33480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"/>
                <p:cNvSpPr/>
                <p:nvPr/>
              </p:nvSpPr>
              <p:spPr>
                <a:xfrm>
                  <a:off x="2908440" y="3365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6" name=""/>
                <p:cNvSpPr/>
                <p:nvPr/>
              </p:nvSpPr>
              <p:spPr>
                <a:xfrm>
                  <a:off x="2908440" y="3382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7" name=""/>
                <p:cNvSpPr/>
                <p:nvPr/>
              </p:nvSpPr>
              <p:spPr>
                <a:xfrm>
                  <a:off x="2908440" y="34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2908440" y="34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2908440" y="3435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"/>
                <p:cNvSpPr/>
                <p:nvPr/>
              </p:nvSpPr>
              <p:spPr>
                <a:xfrm>
                  <a:off x="2908440" y="3451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>
                  <a:off x="2908440" y="3468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"/>
                <p:cNvSpPr/>
                <p:nvPr/>
              </p:nvSpPr>
              <p:spPr>
                <a:xfrm>
                  <a:off x="2908440" y="3486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2908440" y="350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>
                  <a:off x="2908440" y="35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>
                  <a:off x="2908440" y="3538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>
                  <a:off x="2908440" y="3556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2908440" y="3571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2908440" y="3589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>
                  <a:off x="2908440" y="3606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>
                  <a:off x="2908440" y="3624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2908440" y="36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2908440" y="3659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2908440" y="3676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>
                  <a:off x="2908440" y="3692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>
                  <a:off x="29131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>
                  <a:off x="293040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>
                  <a:off x="29480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>
                  <a:off x="2965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9" name=""/>
                <p:cNvSpPr/>
                <p:nvPr/>
              </p:nvSpPr>
              <p:spPr>
                <a:xfrm>
                  <a:off x="298116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>
                  <a:off x="299880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1" name=""/>
                <p:cNvSpPr/>
                <p:nvPr/>
              </p:nvSpPr>
              <p:spPr>
                <a:xfrm>
                  <a:off x="3016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2" name=""/>
                <p:cNvSpPr/>
                <p:nvPr/>
              </p:nvSpPr>
              <p:spPr>
                <a:xfrm>
                  <a:off x="30337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3" name=""/>
                <p:cNvSpPr/>
                <p:nvPr/>
              </p:nvSpPr>
              <p:spPr>
                <a:xfrm>
                  <a:off x="3051000" y="370512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4" name=""/>
                <p:cNvSpPr/>
                <p:nvPr/>
              </p:nvSpPr>
              <p:spPr>
                <a:xfrm>
                  <a:off x="3068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5" name=""/>
                <p:cNvSpPr/>
                <p:nvPr/>
              </p:nvSpPr>
              <p:spPr>
                <a:xfrm>
                  <a:off x="30862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>
                  <a:off x="31021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"/>
                <p:cNvSpPr/>
                <p:nvPr/>
              </p:nvSpPr>
              <p:spPr>
                <a:xfrm>
                  <a:off x="31194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>
                  <a:off x="31370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3154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0" name=""/>
                <p:cNvSpPr/>
                <p:nvPr/>
              </p:nvSpPr>
              <p:spPr>
                <a:xfrm>
                  <a:off x="31719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"/>
                <p:cNvSpPr/>
                <p:nvPr/>
              </p:nvSpPr>
              <p:spPr>
                <a:xfrm>
                  <a:off x="3189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>
                  <a:off x="3205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"/>
                <p:cNvSpPr/>
                <p:nvPr/>
              </p:nvSpPr>
              <p:spPr>
                <a:xfrm>
                  <a:off x="32227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4" name=""/>
                <p:cNvSpPr/>
                <p:nvPr/>
              </p:nvSpPr>
              <p:spPr>
                <a:xfrm>
                  <a:off x="32400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5" name=""/>
                <p:cNvSpPr/>
                <p:nvPr/>
              </p:nvSpPr>
              <p:spPr>
                <a:xfrm>
                  <a:off x="3257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32749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"/>
                <p:cNvSpPr/>
                <p:nvPr/>
              </p:nvSpPr>
              <p:spPr>
                <a:xfrm>
                  <a:off x="3292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8" name=""/>
                <p:cNvSpPr/>
                <p:nvPr/>
              </p:nvSpPr>
              <p:spPr>
                <a:xfrm>
                  <a:off x="3309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9" name=""/>
                <p:cNvSpPr/>
                <p:nvPr/>
              </p:nvSpPr>
              <p:spPr>
                <a:xfrm>
                  <a:off x="33256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0" name=""/>
                <p:cNvSpPr/>
                <p:nvPr/>
              </p:nvSpPr>
              <p:spPr>
                <a:xfrm>
                  <a:off x="33433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1" name=""/>
                <p:cNvSpPr/>
                <p:nvPr/>
              </p:nvSpPr>
              <p:spPr>
                <a:xfrm>
                  <a:off x="3360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2" name=""/>
                <p:cNvSpPr/>
                <p:nvPr/>
              </p:nvSpPr>
              <p:spPr>
                <a:xfrm>
                  <a:off x="3378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3" name=""/>
                <p:cNvSpPr/>
                <p:nvPr/>
              </p:nvSpPr>
              <p:spPr>
                <a:xfrm>
                  <a:off x="33955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4" name=""/>
                <p:cNvSpPr/>
                <p:nvPr/>
              </p:nvSpPr>
              <p:spPr>
                <a:xfrm>
                  <a:off x="3413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5" name=""/>
                <p:cNvSpPr/>
                <p:nvPr/>
              </p:nvSpPr>
              <p:spPr>
                <a:xfrm>
                  <a:off x="3430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6" name=""/>
                <p:cNvSpPr/>
                <p:nvPr/>
              </p:nvSpPr>
              <p:spPr>
                <a:xfrm>
                  <a:off x="34466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7" name=""/>
                <p:cNvSpPr/>
                <p:nvPr/>
              </p:nvSpPr>
              <p:spPr>
                <a:xfrm>
                  <a:off x="34639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8" name=""/>
                <p:cNvSpPr/>
                <p:nvPr/>
              </p:nvSpPr>
              <p:spPr>
                <a:xfrm>
                  <a:off x="3481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9" name=""/>
                <p:cNvSpPr/>
                <p:nvPr/>
              </p:nvSpPr>
              <p:spPr>
                <a:xfrm>
                  <a:off x="3498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0" name=""/>
                <p:cNvSpPr/>
                <p:nvPr/>
              </p:nvSpPr>
              <p:spPr>
                <a:xfrm>
                  <a:off x="35164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1" name=""/>
                <p:cNvSpPr/>
                <p:nvPr/>
              </p:nvSpPr>
              <p:spPr>
                <a:xfrm>
                  <a:off x="3533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2" name=""/>
                <p:cNvSpPr/>
                <p:nvPr/>
              </p:nvSpPr>
              <p:spPr>
                <a:xfrm>
                  <a:off x="3549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3" name=""/>
                <p:cNvSpPr/>
                <p:nvPr/>
              </p:nvSpPr>
              <p:spPr>
                <a:xfrm>
                  <a:off x="35672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4" name=""/>
                <p:cNvSpPr/>
                <p:nvPr/>
              </p:nvSpPr>
              <p:spPr>
                <a:xfrm>
                  <a:off x="35845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5" name=""/>
                <p:cNvSpPr/>
                <p:nvPr/>
              </p:nvSpPr>
              <p:spPr>
                <a:xfrm>
                  <a:off x="3602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>
                  <a:off x="3619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7" name=""/>
                <p:cNvSpPr/>
                <p:nvPr/>
              </p:nvSpPr>
              <p:spPr>
                <a:xfrm>
                  <a:off x="36370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8" name=""/>
                <p:cNvSpPr/>
                <p:nvPr/>
              </p:nvSpPr>
              <p:spPr>
                <a:xfrm>
                  <a:off x="36543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9" name=""/>
                <p:cNvSpPr/>
                <p:nvPr/>
              </p:nvSpPr>
              <p:spPr>
                <a:xfrm>
                  <a:off x="36702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0" name=""/>
                <p:cNvSpPr/>
                <p:nvPr/>
              </p:nvSpPr>
              <p:spPr>
                <a:xfrm>
                  <a:off x="36878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"/>
                <p:cNvSpPr/>
                <p:nvPr/>
              </p:nvSpPr>
              <p:spPr>
                <a:xfrm>
                  <a:off x="37051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"/>
                <p:cNvSpPr/>
                <p:nvPr/>
              </p:nvSpPr>
              <p:spPr>
                <a:xfrm>
                  <a:off x="3722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3" name=""/>
                <p:cNvSpPr/>
                <p:nvPr/>
              </p:nvSpPr>
              <p:spPr>
                <a:xfrm>
                  <a:off x="3730680" y="369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"/>
                <p:cNvSpPr/>
                <p:nvPr/>
              </p:nvSpPr>
              <p:spPr>
                <a:xfrm>
                  <a:off x="3730680" y="3679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3730680" y="3662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6" name=""/>
                <p:cNvSpPr/>
                <p:nvPr/>
              </p:nvSpPr>
              <p:spPr>
                <a:xfrm>
                  <a:off x="3730680" y="36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7" name=""/>
                <p:cNvSpPr/>
                <p:nvPr/>
              </p:nvSpPr>
              <p:spPr>
                <a:xfrm>
                  <a:off x="3730680" y="362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8" name=""/>
                <p:cNvSpPr/>
                <p:nvPr/>
              </p:nvSpPr>
              <p:spPr>
                <a:xfrm>
                  <a:off x="3730680" y="36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9" name=""/>
                <p:cNvSpPr/>
                <p:nvPr/>
              </p:nvSpPr>
              <p:spPr>
                <a:xfrm>
                  <a:off x="3730680" y="3594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0" name=""/>
                <p:cNvSpPr/>
                <p:nvPr/>
              </p:nvSpPr>
              <p:spPr>
                <a:xfrm>
                  <a:off x="3730680" y="3576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1" name=""/>
                <p:cNvSpPr/>
                <p:nvPr/>
              </p:nvSpPr>
              <p:spPr>
                <a:xfrm>
                  <a:off x="3730680" y="3559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2" name=""/>
                <p:cNvSpPr/>
                <p:nvPr/>
              </p:nvSpPr>
              <p:spPr>
                <a:xfrm>
                  <a:off x="3730680" y="3541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3" name=""/>
                <p:cNvSpPr/>
                <p:nvPr/>
              </p:nvSpPr>
              <p:spPr>
                <a:xfrm>
                  <a:off x="3730680" y="35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4" name=""/>
                <p:cNvSpPr/>
                <p:nvPr/>
              </p:nvSpPr>
              <p:spPr>
                <a:xfrm>
                  <a:off x="3730680" y="35082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5" name=""/>
                <p:cNvSpPr/>
                <p:nvPr/>
              </p:nvSpPr>
              <p:spPr>
                <a:xfrm>
                  <a:off x="3730680" y="34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6" name=""/>
                <p:cNvSpPr/>
                <p:nvPr/>
              </p:nvSpPr>
              <p:spPr>
                <a:xfrm>
                  <a:off x="3730680" y="347328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7" name=""/>
                <p:cNvSpPr/>
                <p:nvPr/>
              </p:nvSpPr>
              <p:spPr>
                <a:xfrm>
                  <a:off x="3730680" y="34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8" name=""/>
                <p:cNvSpPr/>
                <p:nvPr/>
              </p:nvSpPr>
              <p:spPr>
                <a:xfrm>
                  <a:off x="3730680" y="3438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9" name=""/>
              <p:cNvSpPr/>
              <p:nvPr/>
            </p:nvSpPr>
            <p:spPr>
              <a:xfrm>
                <a:off x="3730680" y="3421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3730680" y="3405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3730680" y="3387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730680" y="3370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730680" y="3352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730680" y="3335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730680" y="33177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730680" y="3301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730680" y="328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730680" y="3267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730680" y="3249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730680" y="32320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730680" y="3214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3730680" y="319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3730680" y="318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3730680" y="316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3730680" y="3146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3730680" y="3129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3730680" y="3111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3730680" y="3094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3730680" y="3078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3730680" y="3060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3730680" y="3043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3730680" y="302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3730680" y="3008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3730680" y="2990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3730680" y="297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3730680" y="295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730680" y="2940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3730680" y="2922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3730680" y="29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3730680" y="28875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3730680" y="2870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730680" y="285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730680" y="2836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3730680" y="2819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730680" y="280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730680" y="2784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730680" y="27669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373068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730680" y="2733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3730680" y="2716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3730680" y="2698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3730680" y="2681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3730680" y="26640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730680" y="2646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730680" y="2629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3730680" y="2612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3730680" y="2595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3730680" y="2577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3730680" y="2560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730680" y="2543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3730680" y="252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3730680" y="2509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3730680" y="2492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3730680" y="2475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3730680" y="2457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730680" y="2440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3730680" y="24224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3730680" y="2405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3730680" y="2389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3730680" y="2371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3730680" y="235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3730680" y="2336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730680" y="231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3730680" y="2301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3730680" y="2286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3730680" y="2268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3730680" y="2251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3730680" y="22334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3730680" y="2216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3730680" y="21985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3730680" y="2181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3730680" y="2165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3730680" y="214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3730680" y="2130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3730680" y="211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3730680" y="2095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3730680" y="20779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3730680" y="20606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3730680" y="2044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3730680" y="2027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3730680" y="2009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3730680" y="1992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3730680" y="1974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3730680" y="1957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3730680" y="1941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3730680" y="1924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3730680" y="1906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3730680" y="1889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3730680" y="1871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3730680" y="1854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3730680" y="1836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3730680" y="1820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3730680" y="1803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3730680" y="1785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3730680" y="1768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3730680" y="17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3730680" y="17334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3730680" y="1717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3730680" y="1700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3730680" y="1682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3730680" y="1665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3730680" y="1647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3730680" y="1630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3730680" y="16128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730680" y="1596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3730680" y="157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3730680" y="1562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3730680" y="1544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730680" y="152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3730680" y="1509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3730680" y="1492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3730680" y="1476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3730680" y="1459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3730680" y="1441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3730680" y="1424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3730680" y="140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3730680" y="1389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3722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37051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36878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36702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36543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36370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3619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3602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35845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35672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3549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533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5164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498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481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4639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4466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430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3413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33955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378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3360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33433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33256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3309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3292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32749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3257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32400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32227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3205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3189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31719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3154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31370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31194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31021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30862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3068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3051000" y="13809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30337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3016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299880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298116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2965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29480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293040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29131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6" name=""/>
            <p:cNvSpPr/>
            <p:nvPr/>
          </p:nvSpPr>
          <p:spPr>
            <a:xfrm flipH="1">
              <a:off x="3735360" y="3564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 flipH="1">
              <a:off x="3506760" y="2862360"/>
              <a:ext cx="32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 flipH="1">
              <a:off x="3412800" y="356400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9" name=""/>
            <p:cNvGrpSpPr/>
            <p:nvPr/>
          </p:nvGrpSpPr>
          <p:grpSpPr>
            <a:xfrm>
              <a:off x="3519360" y="1522440"/>
              <a:ext cx="565200" cy="90360"/>
              <a:chOff x="3519360" y="1522440"/>
              <a:chExt cx="565200" cy="90360"/>
            </a:xfrm>
          </p:grpSpPr>
          <p:sp>
            <p:nvSpPr>
              <p:cNvPr id="7100" name=""/>
              <p:cNvSpPr/>
              <p:nvPr/>
            </p:nvSpPr>
            <p:spPr>
              <a:xfrm>
                <a:off x="3519360" y="1566720"/>
                <a:ext cx="56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3994200" y="15224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2" name=""/>
            <p:cNvSpPr/>
            <p:nvPr/>
          </p:nvSpPr>
          <p:spPr>
            <a:xfrm>
              <a:off x="4002120" y="2957400"/>
              <a:ext cx="4680" cy="405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 flipH="1">
              <a:off x="3830400" y="29829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 flipH="1">
              <a:off x="3830400" y="3322800"/>
              <a:ext cx="176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 flipV="1">
              <a:off x="3830760" y="2862360"/>
              <a:ext cx="1440" cy="125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 flipV="1">
              <a:off x="3830760" y="3314880"/>
              <a:ext cx="1440" cy="24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7" name=""/>
            <p:cNvGrpSpPr/>
            <p:nvPr/>
          </p:nvGrpSpPr>
          <p:grpSpPr>
            <a:xfrm>
              <a:off x="4002120" y="3206880"/>
              <a:ext cx="955800" cy="90360"/>
              <a:chOff x="4002120" y="3206880"/>
              <a:chExt cx="955800" cy="90360"/>
            </a:xfrm>
          </p:grpSpPr>
          <p:sp>
            <p:nvSpPr>
              <p:cNvPr id="7108" name=""/>
              <p:cNvSpPr/>
              <p:nvPr/>
            </p:nvSpPr>
            <p:spPr>
              <a:xfrm>
                <a:off x="4002120" y="3254400"/>
                <a:ext cx="955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4002120" y="32068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0" name=""/>
            <p:cNvSpPr/>
            <p:nvPr/>
          </p:nvSpPr>
          <p:spPr>
            <a:xfrm>
              <a:off x="2978280" y="1501920"/>
              <a:ext cx="382320" cy="1458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 flipH="1">
              <a:off x="3343320" y="1569960"/>
              <a:ext cx="16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 flipH="1">
              <a:off x="2792520" y="1569960"/>
              <a:ext cx="188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3055680" y="1730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3166200" y="1816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3373560" y="1824120"/>
              <a:ext cx="2584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3373560" y="1914480"/>
              <a:ext cx="2584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3503520" y="158760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3503520" y="193212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3184560" y="201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4253040" y="5932440"/>
              <a:ext cx="1440" cy="507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4260960" y="5923080"/>
              <a:ext cx="50796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4334040" y="605304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4295880" y="6086520"/>
              <a:ext cx="810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4" name=""/>
            <p:cNvGrpSpPr/>
            <p:nvPr/>
          </p:nvGrpSpPr>
          <p:grpSpPr>
            <a:xfrm>
              <a:off x="3938760" y="6039000"/>
              <a:ext cx="317160" cy="90360"/>
              <a:chOff x="3938760" y="6039000"/>
              <a:chExt cx="317160" cy="90360"/>
            </a:xfrm>
          </p:grpSpPr>
          <p:sp>
            <p:nvSpPr>
              <p:cNvPr id="7125" name=""/>
              <p:cNvSpPr/>
              <p:nvPr/>
            </p:nvSpPr>
            <p:spPr>
              <a:xfrm>
                <a:off x="3938760" y="6086520"/>
                <a:ext cx="3171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3938760" y="60390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7" name=""/>
            <p:cNvSpPr/>
            <p:nvPr/>
          </p:nvSpPr>
          <p:spPr>
            <a:xfrm>
              <a:off x="4105440" y="6307200"/>
              <a:ext cx="15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4791240" y="6172200"/>
              <a:ext cx="153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6108840" y="6099120"/>
              <a:ext cx="2880" cy="150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4299120" y="6307200"/>
              <a:ext cx="824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 flipH="1">
              <a:off x="4260960" y="6172200"/>
              <a:ext cx="51264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5780160" y="6083280"/>
              <a:ext cx="1440" cy="171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5794200" y="609588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 flipH="1">
              <a:off x="5764320" y="6172200"/>
              <a:ext cx="110880" cy="112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5888160" y="6095880"/>
              <a:ext cx="1440" cy="176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3433680" y="2324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3503520" y="21733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3503520" y="2703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3141360" y="2440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3252240" y="2525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3433680" y="3008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3503520" y="286236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3503520" y="3387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3141360" y="312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3252240" y="3211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4243320" y="34005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313160" y="32497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4313160" y="3780000"/>
              <a:ext cx="1800" cy="18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4437000" y="3481560"/>
              <a:ext cx="314280" cy="276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4506480" y="351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4617360" y="360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4876920" y="4635360"/>
              <a:ext cx="14580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4944960" y="448956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4944960" y="5014800"/>
              <a:ext cx="1800" cy="1157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5150880" y="4753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5263920" y="483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 flipV="1">
              <a:off x="5199120" y="4287600"/>
              <a:ext cx="144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 flipV="1">
              <a:off x="5294160" y="428760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962600" y="4411800"/>
              <a:ext cx="24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5307120" y="4411800"/>
              <a:ext cx="2412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5419800" y="4554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5540040" y="4640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1784520" y="1208160"/>
              <a:ext cx="1025280" cy="745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1973520" y="12430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2144880" y="145908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2127960" y="16732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1798560" y="44640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2192400" y="4722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2383200" y="468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4110120" y="1222200"/>
              <a:ext cx="1028520" cy="744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4446720" y="14716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1811160" y="55278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1998720" y="556092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2171880" y="57769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2154960" y="599292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 flipH="1">
              <a:off x="4217760" y="39513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851360" y="3672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63960" y="368460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 flipV="1">
              <a:off x="4944960" y="3659040"/>
              <a:ext cx="108000" cy="106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4863960" y="3780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4944960" y="3254400"/>
              <a:ext cx="1800" cy="12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5135400" y="1582560"/>
              <a:ext cx="727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5495760" y="1592280"/>
              <a:ext cx="1800" cy="252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2292480" y="4114800"/>
              <a:ext cx="320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5" name=""/>
            <p:cNvGrpSpPr/>
            <p:nvPr/>
          </p:nvGrpSpPr>
          <p:grpSpPr>
            <a:xfrm>
              <a:off x="1233360" y="1539720"/>
              <a:ext cx="525600" cy="90720"/>
              <a:chOff x="1233360" y="1539720"/>
              <a:chExt cx="525600" cy="90720"/>
            </a:xfrm>
          </p:grpSpPr>
          <p:sp>
            <p:nvSpPr>
              <p:cNvPr id="7186" name=""/>
              <p:cNvSpPr/>
              <p:nvPr/>
            </p:nvSpPr>
            <p:spPr>
              <a:xfrm flipH="1">
                <a:off x="1233360" y="1582560"/>
                <a:ext cx="525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1668600" y="15397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8" name=""/>
            <p:cNvSpPr/>
            <p:nvPr/>
          </p:nvSpPr>
          <p:spPr>
            <a:xfrm>
              <a:off x="1474920" y="1600200"/>
              <a:ext cx="1440" cy="433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9" name=""/>
            <p:cNvGrpSpPr/>
            <p:nvPr/>
          </p:nvGrpSpPr>
          <p:grpSpPr>
            <a:xfrm>
              <a:off x="1474920" y="5875200"/>
              <a:ext cx="309600" cy="90720"/>
              <a:chOff x="1474920" y="5875200"/>
              <a:chExt cx="309600" cy="90720"/>
            </a:xfrm>
          </p:grpSpPr>
          <p:sp>
            <p:nvSpPr>
              <p:cNvPr id="7190" name=""/>
              <p:cNvSpPr/>
              <p:nvPr/>
            </p:nvSpPr>
            <p:spPr>
              <a:xfrm flipH="1">
                <a:off x="1474920" y="5918040"/>
                <a:ext cx="3096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16938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2" name=""/>
            <p:cNvGrpSpPr/>
            <p:nvPr/>
          </p:nvGrpSpPr>
          <p:grpSpPr>
            <a:xfrm>
              <a:off x="2306520" y="5200560"/>
              <a:ext cx="90720" cy="309600"/>
              <a:chOff x="2306520" y="5200560"/>
              <a:chExt cx="90720" cy="309600"/>
            </a:xfrm>
          </p:grpSpPr>
          <p:sp>
            <p:nvSpPr>
              <p:cNvPr id="7193" name=""/>
              <p:cNvSpPr/>
              <p:nvPr/>
            </p:nvSpPr>
            <p:spPr>
              <a:xfrm flipV="1">
                <a:off x="2352600" y="5200560"/>
                <a:ext cx="4680" cy="30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2306520" y="54198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29" y="57"/>
                    </a:lnTo>
                    <a:lnTo>
                      <a:pt x="57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5" name=""/>
            <p:cNvSpPr/>
            <p:nvPr/>
          </p:nvSpPr>
          <p:spPr>
            <a:xfrm>
              <a:off x="3171960" y="5527800"/>
              <a:ext cx="7570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3332880" y="57769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5553000" y="4343400"/>
              <a:ext cx="1800" cy="163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8" name=""/>
            <p:cNvGrpSpPr/>
            <p:nvPr/>
          </p:nvGrpSpPr>
          <p:grpSpPr>
            <a:xfrm>
              <a:off x="2840040" y="5875200"/>
              <a:ext cx="301680" cy="90720"/>
              <a:chOff x="2840040" y="5875200"/>
              <a:chExt cx="301680" cy="90720"/>
            </a:xfrm>
          </p:grpSpPr>
          <p:sp>
            <p:nvSpPr>
              <p:cNvPr id="7199" name=""/>
              <p:cNvSpPr/>
              <p:nvPr/>
            </p:nvSpPr>
            <p:spPr>
              <a:xfrm flipH="1">
                <a:off x="2840040" y="5918040"/>
                <a:ext cx="3016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30510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1" name=""/>
            <p:cNvSpPr/>
            <p:nvPr/>
          </p:nvSpPr>
          <p:spPr>
            <a:xfrm>
              <a:off x="5091120" y="6099120"/>
              <a:ext cx="384120" cy="147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 flipH="1" flipV="1">
              <a:off x="5457960" y="6168600"/>
              <a:ext cx="6458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3" name=""/>
            <p:cNvSpPr/>
            <p:nvPr/>
          </p:nvSpPr>
          <p:spPr>
            <a:xfrm flipH="1">
              <a:off x="4901760" y="6168960"/>
              <a:ext cx="1890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5638320" y="583236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4124880" y="47131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2266920" y="4089240"/>
              <a:ext cx="60480" cy="511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4919760" y="4381560"/>
              <a:ext cx="60120" cy="572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4911840" y="6146640"/>
              <a:ext cx="6012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9" name=""/>
            <p:cNvGrpSpPr/>
            <p:nvPr/>
          </p:nvGrpSpPr>
          <p:grpSpPr>
            <a:xfrm>
              <a:off x="5070600" y="3581280"/>
              <a:ext cx="276120" cy="327240"/>
              <a:chOff x="5070600" y="3581280"/>
              <a:chExt cx="276120" cy="327240"/>
            </a:xfrm>
          </p:grpSpPr>
          <p:sp>
            <p:nvSpPr>
              <p:cNvPr id="7210" name=""/>
              <p:cNvSpPr/>
              <p:nvPr/>
            </p:nvSpPr>
            <p:spPr>
              <a:xfrm>
                <a:off x="5078520" y="3589200"/>
                <a:ext cx="258480" cy="31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070600" y="358920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070600" y="36241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070600" y="36590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070600" y="36925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070600" y="37274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070600" y="376236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070600" y="379584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070600" y="383076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070600" y="386568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0785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11344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14836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18148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21640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525132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5286240" y="38908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53197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5329080" y="386568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5329080" y="383076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5329080" y="379584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5329080" y="376236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5329080" y="37274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5329080" y="36925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5329080" y="36590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5329080" y="36241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5329080" y="358920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530208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526896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523404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519912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5165640" y="35812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513072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509580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4" name=""/>
            <p:cNvSpPr/>
            <p:nvPr/>
          </p:nvSpPr>
          <p:spPr>
            <a:xfrm>
              <a:off x="5143680" y="362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3481560" y="283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4286160" y="3227400"/>
              <a:ext cx="6048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4122000" y="2952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2382480" y="3765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2490120" y="3870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2549520" y="37828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3476520" y="1539720"/>
              <a:ext cx="6048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1212840" y="1557360"/>
              <a:ext cx="604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4079880" y="628020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5470560" y="1557360"/>
              <a:ext cx="6012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3129480" y="11095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5766480" y="1192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5857200" y="12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1181880" y="1243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1272960" y="132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5815080" y="155736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6933240" y="23623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6438240" y="506556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6686640" y="50655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7199640" y="506556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ek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7577280" y="5065560"/>
              <a:ext cx="77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synchroni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8354880" y="5065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a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6630120" y="5065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6946920" y="50655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686736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753408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6248520" y="1523880"/>
              <a:ext cx="152280" cy="2133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6324480" y="4267080"/>
              <a:ext cx="76320" cy="2057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2286000" y="19810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371600"/>
            <a:ext cx="838188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PLL są używane, n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synchronizacji gener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przemiany częstotliwości, tj. w układach modulacji i demodulacji AM, FM, i P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syntezerach częstotliwości i powielacz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zielnika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ekoderach sygnału stereofoniczneg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modulatorach i demodulatorach AM, FM PWM, i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4" name=""/>
          <p:cNvSpPr/>
          <p:nvPr/>
        </p:nvSpPr>
        <p:spPr>
          <a:xfrm>
            <a:off x="1547280" y="2951280"/>
            <a:ext cx="54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5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762840" y="1054080"/>
            <a:ext cx="75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rzemiany częstotliwości - powielacz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7" name=""/>
          <p:cNvGrpSpPr/>
          <p:nvPr/>
        </p:nvGrpSpPr>
        <p:grpSpPr>
          <a:xfrm>
            <a:off x="1560600" y="1623960"/>
            <a:ext cx="6378480" cy="4633920"/>
            <a:chOff x="1560600" y="1623960"/>
            <a:chExt cx="6378480" cy="4633920"/>
          </a:xfrm>
        </p:grpSpPr>
        <p:sp>
          <p:nvSpPr>
            <p:cNvPr id="7278" name=""/>
            <p:cNvSpPr/>
            <p:nvPr/>
          </p:nvSpPr>
          <p:spPr>
            <a:xfrm>
              <a:off x="5165640" y="2266920"/>
              <a:ext cx="29520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5217840" y="2300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5339880" y="2371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5051520" y="2494080"/>
              <a:ext cx="223920" cy="193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2" name=""/>
            <p:cNvSpPr/>
            <p:nvPr/>
          </p:nvSpPr>
          <p:spPr>
            <a:xfrm>
              <a:off x="5092560" y="2527200"/>
              <a:ext cx="154080" cy="136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3" name=""/>
            <p:cNvSpPr/>
            <p:nvPr/>
          </p:nvSpPr>
          <p:spPr>
            <a:xfrm flipH="1">
              <a:off x="5079600" y="2516040"/>
              <a:ext cx="166680" cy="147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4" name=""/>
            <p:cNvSpPr/>
            <p:nvPr/>
          </p:nvSpPr>
          <p:spPr>
            <a:xfrm>
              <a:off x="2913120" y="2368440"/>
              <a:ext cx="826920" cy="420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3023640" y="240012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6" name=""/>
            <p:cNvSpPr/>
            <p:nvPr/>
          </p:nvSpPr>
          <p:spPr>
            <a:xfrm>
              <a:off x="3184560" y="258120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4027320" y="2325600"/>
              <a:ext cx="82584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4282920" y="253368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5421240" y="2325600"/>
              <a:ext cx="82548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5663880" y="25336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1" name=""/>
            <p:cNvGrpSpPr/>
            <p:nvPr/>
          </p:nvGrpSpPr>
          <p:grpSpPr>
            <a:xfrm>
              <a:off x="3735360" y="2533680"/>
              <a:ext cx="279360" cy="82440"/>
              <a:chOff x="3735360" y="2533680"/>
              <a:chExt cx="279360" cy="82440"/>
            </a:xfrm>
          </p:grpSpPr>
          <p:sp>
            <p:nvSpPr>
              <p:cNvPr id="7292" name=""/>
              <p:cNvSpPr/>
              <p:nvPr/>
            </p:nvSpPr>
            <p:spPr>
              <a:xfrm>
                <a:off x="3735360" y="2573280"/>
                <a:ext cx="2793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3925800" y="2533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4" name=""/>
            <p:cNvGrpSpPr/>
            <p:nvPr/>
          </p:nvGrpSpPr>
          <p:grpSpPr>
            <a:xfrm>
              <a:off x="5295960" y="2544840"/>
              <a:ext cx="112680" cy="82440"/>
              <a:chOff x="5295960" y="2544840"/>
              <a:chExt cx="112680" cy="82440"/>
            </a:xfrm>
          </p:grpSpPr>
          <p:sp>
            <p:nvSpPr>
              <p:cNvPr id="7295" name=""/>
              <p:cNvSpPr/>
              <p:nvPr/>
            </p:nvSpPr>
            <p:spPr>
              <a:xfrm>
                <a:off x="5295960" y="2584440"/>
                <a:ext cx="112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5319720" y="254484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7" name=""/>
            <p:cNvGrpSpPr/>
            <p:nvPr/>
          </p:nvGrpSpPr>
          <p:grpSpPr>
            <a:xfrm>
              <a:off x="4873680" y="2544840"/>
              <a:ext cx="166680" cy="82440"/>
              <a:chOff x="4873680" y="2544840"/>
              <a:chExt cx="166680" cy="82440"/>
            </a:xfrm>
          </p:grpSpPr>
          <p:sp>
            <p:nvSpPr>
              <p:cNvPr id="7298" name=""/>
              <p:cNvSpPr/>
              <p:nvPr/>
            </p:nvSpPr>
            <p:spPr>
              <a:xfrm>
                <a:off x="4873680" y="2584440"/>
                <a:ext cx="166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4951440" y="254484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0" name=""/>
            <p:cNvGrpSpPr/>
            <p:nvPr/>
          </p:nvGrpSpPr>
          <p:grpSpPr>
            <a:xfrm>
              <a:off x="5121360" y="2246400"/>
              <a:ext cx="93600" cy="247680"/>
              <a:chOff x="5121360" y="2246400"/>
              <a:chExt cx="93600" cy="247680"/>
            </a:xfrm>
          </p:grpSpPr>
          <p:sp>
            <p:nvSpPr>
              <p:cNvPr id="7301" name=""/>
              <p:cNvSpPr/>
              <p:nvPr/>
            </p:nvSpPr>
            <p:spPr>
              <a:xfrm>
                <a:off x="5165640" y="2246400"/>
                <a:ext cx="324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5121360" y="2246400"/>
                <a:ext cx="93600" cy="7920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5121360" y="241452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0" y="0"/>
                    </a:moveTo>
                    <a:lnTo>
                      <a:pt x="30" y="50"/>
                    </a:lnTo>
                    <a:lnTo>
                      <a:pt x="5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4" name=""/>
            <p:cNvGrpSpPr/>
            <p:nvPr/>
          </p:nvGrpSpPr>
          <p:grpSpPr>
            <a:xfrm>
              <a:off x="2370240" y="2533680"/>
              <a:ext cx="555480" cy="82440"/>
              <a:chOff x="2370240" y="2533680"/>
              <a:chExt cx="555480" cy="82440"/>
            </a:xfrm>
          </p:grpSpPr>
          <p:sp>
            <p:nvSpPr>
              <p:cNvPr id="7305" name=""/>
              <p:cNvSpPr/>
              <p:nvPr/>
            </p:nvSpPr>
            <p:spPr>
              <a:xfrm>
                <a:off x="2370240" y="2573280"/>
                <a:ext cx="555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836800" y="2533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7" name=""/>
            <p:cNvGrpSpPr/>
            <p:nvPr/>
          </p:nvGrpSpPr>
          <p:grpSpPr>
            <a:xfrm>
              <a:off x="3262320" y="2786040"/>
              <a:ext cx="92160" cy="247680"/>
              <a:chOff x="3262320" y="2786040"/>
              <a:chExt cx="92160" cy="247680"/>
            </a:xfrm>
          </p:grpSpPr>
          <p:sp>
            <p:nvSpPr>
              <p:cNvPr id="7308" name=""/>
              <p:cNvSpPr/>
              <p:nvPr/>
            </p:nvSpPr>
            <p:spPr>
              <a:xfrm flipV="1">
                <a:off x="3306600" y="2786040"/>
                <a:ext cx="180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3262320" y="2786040"/>
                <a:ext cx="92160" cy="79560"/>
              </a:xfrm>
              <a:custGeom>
                <a:avLst/>
                <a:gdLst/>
                <a:ahLst/>
                <a:rect l="l" t="t" r="r" b="b"/>
                <a:pathLst>
                  <a:path w="58" h="50">
                    <a:moveTo>
                      <a:pt x="58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0" name=""/>
            <p:cNvSpPr/>
            <p:nvPr/>
          </p:nvSpPr>
          <p:spPr>
            <a:xfrm>
              <a:off x="3317760" y="3033720"/>
              <a:ext cx="3090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 flipH="1">
              <a:off x="6254280" y="2573280"/>
              <a:ext cx="738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6408720" y="2584440"/>
              <a:ext cx="144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4983120" y="2112840"/>
              <a:ext cx="360360" cy="122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 flipH="1">
              <a:off x="5327640" y="2170080"/>
              <a:ext cx="154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 flipH="1">
              <a:off x="4805280" y="2170080"/>
              <a:ext cx="177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6377040" y="2548080"/>
              <a:ext cx="57240" cy="475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4813200" y="1717560"/>
              <a:ext cx="180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2314440" y="2548080"/>
              <a:ext cx="558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4781520" y="1684440"/>
              <a:ext cx="554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6972480" y="2548080"/>
              <a:ext cx="5688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2196720" y="2658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2317320" y="2732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2354400" y="2658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>
              <a:off x="4586040" y="1771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>
              <a:off x="6523200" y="2616120"/>
              <a:ext cx="5587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6595560" y="2644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6643080" y="271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6701040" y="2644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6947640" y="271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5497560" y="2109600"/>
              <a:ext cx="1440" cy="12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2610000" y="2706840"/>
              <a:ext cx="288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2674800" y="2706840"/>
              <a:ext cx="180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2751120" y="2706840"/>
              <a:ext cx="14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2811600" y="2720880"/>
              <a:ext cx="468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5" name=""/>
            <p:cNvSpPr/>
            <p:nvPr/>
          </p:nvSpPr>
          <p:spPr>
            <a:xfrm flipH="1" flipV="1">
              <a:off x="2521080" y="2795040"/>
              <a:ext cx="7272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 flipH="1">
              <a:off x="2604960" y="2706840"/>
              <a:ext cx="6984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 flipH="1">
              <a:off x="2666880" y="2795400"/>
              <a:ext cx="842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 flipH="1">
              <a:off x="2730600" y="2706840"/>
              <a:ext cx="8568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 flipH="1">
              <a:off x="2795760" y="2795400"/>
              <a:ext cx="806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5006880" y="162396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miana krotnoś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5230800" y="180324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wiela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2" name=""/>
            <p:cNvGrpSpPr/>
            <p:nvPr/>
          </p:nvGrpSpPr>
          <p:grpSpPr>
            <a:xfrm>
              <a:off x="1719360" y="1781280"/>
              <a:ext cx="83880" cy="465120"/>
              <a:chOff x="1719360" y="1781280"/>
              <a:chExt cx="83880" cy="465120"/>
            </a:xfrm>
          </p:grpSpPr>
          <p:sp>
            <p:nvSpPr>
              <p:cNvPr id="7343" name=""/>
              <p:cNvSpPr/>
              <p:nvPr/>
            </p:nvSpPr>
            <p:spPr>
              <a:xfrm>
                <a:off x="1758960" y="1849320"/>
                <a:ext cx="4680" cy="39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1719360" y="178128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5" name=""/>
            <p:cNvGrpSpPr/>
            <p:nvPr/>
          </p:nvGrpSpPr>
          <p:grpSpPr>
            <a:xfrm>
              <a:off x="1743120" y="2209680"/>
              <a:ext cx="1008000" cy="76320"/>
              <a:chOff x="1743120" y="2209680"/>
              <a:chExt cx="1008000" cy="76320"/>
            </a:xfrm>
          </p:grpSpPr>
          <p:sp>
            <p:nvSpPr>
              <p:cNvPr id="7346" name=""/>
              <p:cNvSpPr/>
              <p:nvPr/>
            </p:nvSpPr>
            <p:spPr>
              <a:xfrm flipH="1">
                <a:off x="1743120" y="2246400"/>
                <a:ext cx="931680" cy="6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2666880" y="2209680"/>
                <a:ext cx="84240" cy="7632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48"/>
                    </a:moveTo>
                    <a:lnTo>
                      <a:pt x="53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8" name=""/>
            <p:cNvSpPr/>
            <p:nvPr/>
          </p:nvSpPr>
          <p:spPr>
            <a:xfrm>
              <a:off x="1868400" y="2008080"/>
              <a:ext cx="1800" cy="24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1949400" y="204156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030400" y="2070000"/>
              <a:ext cx="1440" cy="176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2116080" y="2101680"/>
              <a:ext cx="1800" cy="15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2197080" y="2124000"/>
              <a:ext cx="1440" cy="12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2278080" y="2141640"/>
              <a:ext cx="32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2362320" y="2173320"/>
              <a:ext cx="144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2443320" y="2195640"/>
              <a:ext cx="144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1560600" y="1741320"/>
              <a:ext cx="158760" cy="20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1589040" y="1771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2505240" y="2278080"/>
              <a:ext cx="156960" cy="209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2556360" y="2306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1815120" y="2295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1860480" y="235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2122920" y="2295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2244600" y="235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4" name=""/>
            <p:cNvGrpSpPr/>
            <p:nvPr/>
          </p:nvGrpSpPr>
          <p:grpSpPr>
            <a:xfrm>
              <a:off x="2176560" y="3335400"/>
              <a:ext cx="83880" cy="2666880"/>
              <a:chOff x="2176560" y="3335400"/>
              <a:chExt cx="83880" cy="2666880"/>
            </a:xfrm>
          </p:grpSpPr>
          <p:sp>
            <p:nvSpPr>
              <p:cNvPr id="7365" name=""/>
              <p:cNvSpPr/>
              <p:nvPr/>
            </p:nvSpPr>
            <p:spPr>
              <a:xfrm>
                <a:off x="2216160" y="3403440"/>
                <a:ext cx="1440" cy="2598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176560" y="333540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7" name=""/>
            <p:cNvGrpSpPr/>
            <p:nvPr/>
          </p:nvGrpSpPr>
          <p:grpSpPr>
            <a:xfrm>
              <a:off x="2200320" y="5954760"/>
              <a:ext cx="3727440" cy="75960"/>
              <a:chOff x="2200320" y="5954760"/>
              <a:chExt cx="3727440" cy="75960"/>
            </a:xfrm>
          </p:grpSpPr>
          <p:sp>
            <p:nvSpPr>
              <p:cNvPr id="7368" name=""/>
              <p:cNvSpPr/>
              <p:nvPr/>
            </p:nvSpPr>
            <p:spPr>
              <a:xfrm flipH="1">
                <a:off x="2200320" y="5991120"/>
                <a:ext cx="364968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5842080" y="595476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54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0" name=""/>
            <p:cNvGrpSpPr/>
            <p:nvPr/>
          </p:nvGrpSpPr>
          <p:grpSpPr>
            <a:xfrm>
              <a:off x="2171880" y="5491080"/>
              <a:ext cx="607680" cy="14400"/>
              <a:chOff x="2171880" y="5491080"/>
              <a:chExt cx="607680" cy="14400"/>
            </a:xfrm>
          </p:grpSpPr>
          <p:sp>
            <p:nvSpPr>
              <p:cNvPr id="7371" name=""/>
              <p:cNvSpPr/>
              <p:nvPr/>
            </p:nvSpPr>
            <p:spPr>
              <a:xfrm>
                <a:off x="27716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75580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73996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72268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27068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2690640" y="549108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267480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2657520" y="549108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264168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26258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2610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2593800" y="54943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2576520" y="54943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2560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2544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2529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2513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2495520" y="549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2479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463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448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432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414520" y="549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398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382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2367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2351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33352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3176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30184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28600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27016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225252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2366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222084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20500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218916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21718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9" name=""/>
            <p:cNvGrpSpPr/>
            <p:nvPr/>
          </p:nvGrpSpPr>
          <p:grpSpPr>
            <a:xfrm>
              <a:off x="2179800" y="5659560"/>
              <a:ext cx="396720" cy="15840"/>
              <a:chOff x="2179800" y="5659560"/>
              <a:chExt cx="396720" cy="15840"/>
            </a:xfrm>
          </p:grpSpPr>
          <p:sp>
            <p:nvSpPr>
              <p:cNvPr id="7410" name=""/>
              <p:cNvSpPr/>
              <p:nvPr/>
            </p:nvSpPr>
            <p:spPr>
              <a:xfrm>
                <a:off x="256860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55276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53692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52108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50524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248760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247176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2455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2440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242424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240660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239076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2374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2359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2341440" y="566424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232560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230976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2293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2278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2260440" y="5667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224460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222876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221292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219708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2179800" y="5667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5" name=""/>
            <p:cNvSpPr/>
            <p:nvPr/>
          </p:nvSpPr>
          <p:spPr>
            <a:xfrm>
              <a:off x="4991040" y="3638520"/>
              <a:ext cx="46692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687920" y="3832200"/>
              <a:ext cx="465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4356000" y="4022640"/>
              <a:ext cx="470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051440" y="420372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3711600" y="438300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3456000" y="458460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3168720" y="4797360"/>
              <a:ext cx="465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2913120" y="4987800"/>
              <a:ext cx="4698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2685960" y="5167440"/>
              <a:ext cx="47016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2471760" y="532620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2281320" y="549432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2241720" y="5664240"/>
              <a:ext cx="29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4998960" y="3641760"/>
              <a:ext cx="6192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4962600" y="364176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4998960" y="373860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5019840" y="37386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4719600" y="382104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4683240" y="382104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4719600" y="391968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4745160" y="391968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4392720" y="4002120"/>
              <a:ext cx="601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4356000" y="4002120"/>
              <a:ext cx="637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4392720" y="409896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4411800" y="409896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516480" y="45990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479760" y="459900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516480" y="4692600"/>
              <a:ext cx="6480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3541680" y="4692600"/>
              <a:ext cx="6048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2471760" y="54878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2432160" y="5487840"/>
              <a:ext cx="680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471760" y="55706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495520" y="55706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641680" y="5329080"/>
              <a:ext cx="6516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610000" y="5329080"/>
              <a:ext cx="6012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2641680" y="5411880"/>
              <a:ext cx="6516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2666880" y="5411880"/>
              <a:ext cx="6372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3795840" y="43830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3760920" y="4383000"/>
              <a:ext cx="633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3795840" y="447984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3816360" y="447984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3265560" y="48006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3228840" y="48006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3265560" y="48942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3286080" y="4894200"/>
              <a:ext cx="651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2998800" y="497988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2962440" y="497988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998800" y="5073480"/>
              <a:ext cx="6516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3022560" y="5073480"/>
              <a:ext cx="6048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4100400" y="420372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4064040" y="4203720"/>
              <a:ext cx="651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4100400" y="429264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4121280" y="4292640"/>
              <a:ext cx="633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803680" y="518148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759040" y="518148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803680" y="5257800"/>
              <a:ext cx="7776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2832120" y="5257800"/>
              <a:ext cx="7308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5594040" y="6062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5716080" y="6135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1925640" y="37926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2058120" y="3865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1969920" y="3411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2017080" y="3483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1925640" y="55706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058120" y="5641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1925640" y="53323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2058120" y="5405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2006280" y="5807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2053440" y="5880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3" name=""/>
                <p:cNvSpPr txBox="1"/>
                <p:nvPr/>
              </p:nvSpPr>
              <p:spPr>
                <a:xfrm>
                  <a:off x="6789600" y="4470480"/>
                  <a:ext cx="11494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4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5" name=""/>
          <p:cNvGrpSpPr/>
          <p:nvPr/>
        </p:nvGrpSpPr>
        <p:grpSpPr>
          <a:xfrm>
            <a:off x="288720" y="1803240"/>
            <a:ext cx="7902000" cy="3300480"/>
            <a:chOff x="288720" y="1803240"/>
            <a:chExt cx="7902000" cy="3300480"/>
          </a:xfrm>
        </p:grpSpPr>
        <p:sp>
          <p:nvSpPr>
            <p:cNvPr id="7506" name=""/>
            <p:cNvSpPr/>
            <p:nvPr/>
          </p:nvSpPr>
          <p:spPr>
            <a:xfrm>
              <a:off x="4385520" y="2332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4488840" y="2430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4558680" y="2332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7616880" y="2273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7674840" y="2371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7743240" y="2273400"/>
              <a:ext cx="32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8076960" y="2371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7538760" y="27525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7660800" y="287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7728480" y="2773440"/>
              <a:ext cx="27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8003880" y="27525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8125920" y="287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8" name=""/>
            <p:cNvGrpSpPr/>
            <p:nvPr/>
          </p:nvGrpSpPr>
          <p:grpSpPr>
            <a:xfrm>
              <a:off x="4757760" y="1803240"/>
              <a:ext cx="2262240" cy="3300480"/>
              <a:chOff x="4757760" y="1803240"/>
              <a:chExt cx="2262240" cy="3300480"/>
            </a:xfrm>
          </p:grpSpPr>
          <p:grpSp>
            <p:nvGrpSpPr>
              <p:cNvPr id="7519" name=""/>
              <p:cNvGrpSpPr/>
              <p:nvPr/>
            </p:nvGrpSpPr>
            <p:grpSpPr>
              <a:xfrm>
                <a:off x="4757760" y="1808280"/>
                <a:ext cx="2262240" cy="3295440"/>
                <a:chOff x="4757760" y="1808280"/>
                <a:chExt cx="2262240" cy="3295440"/>
              </a:xfrm>
            </p:grpSpPr>
            <p:sp>
              <p:nvSpPr>
                <p:cNvPr id="7520" name=""/>
                <p:cNvSpPr/>
                <p:nvPr/>
              </p:nvSpPr>
              <p:spPr>
                <a:xfrm>
                  <a:off x="4762440" y="1808280"/>
                  <a:ext cx="2252880" cy="3290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1" name=""/>
                <p:cNvSpPr/>
                <p:nvPr/>
              </p:nvSpPr>
              <p:spPr>
                <a:xfrm>
                  <a:off x="4757760" y="180828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2" name=""/>
                <p:cNvSpPr/>
                <p:nvPr/>
              </p:nvSpPr>
              <p:spPr>
                <a:xfrm>
                  <a:off x="4757760" y="1847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3" name=""/>
                <p:cNvSpPr/>
                <p:nvPr/>
              </p:nvSpPr>
              <p:spPr>
                <a:xfrm>
                  <a:off x="4757760" y="1866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4" name=""/>
                <p:cNvSpPr/>
                <p:nvPr/>
              </p:nvSpPr>
              <p:spPr>
                <a:xfrm>
                  <a:off x="4757760" y="1906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5" name=""/>
                <p:cNvSpPr/>
                <p:nvPr/>
              </p:nvSpPr>
              <p:spPr>
                <a:xfrm>
                  <a:off x="4757760" y="1925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6" name=""/>
                <p:cNvSpPr/>
                <p:nvPr/>
              </p:nvSpPr>
              <p:spPr>
                <a:xfrm>
                  <a:off x="4757760" y="1965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7" name=""/>
                <p:cNvSpPr/>
                <p:nvPr/>
              </p:nvSpPr>
              <p:spPr>
                <a:xfrm>
                  <a:off x="4757760" y="1984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8" name=""/>
                <p:cNvSpPr/>
                <p:nvPr/>
              </p:nvSpPr>
              <p:spPr>
                <a:xfrm>
                  <a:off x="4757760" y="2023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9" name=""/>
                <p:cNvSpPr/>
                <p:nvPr/>
              </p:nvSpPr>
              <p:spPr>
                <a:xfrm>
                  <a:off x="4757760" y="2043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0" name=""/>
                <p:cNvSpPr/>
                <p:nvPr/>
              </p:nvSpPr>
              <p:spPr>
                <a:xfrm>
                  <a:off x="4757760" y="2082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1" name=""/>
                <p:cNvSpPr/>
                <p:nvPr/>
              </p:nvSpPr>
              <p:spPr>
                <a:xfrm>
                  <a:off x="4757760" y="21016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2" name=""/>
                <p:cNvSpPr/>
                <p:nvPr/>
              </p:nvSpPr>
              <p:spPr>
                <a:xfrm>
                  <a:off x="4757760" y="2141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3" name=""/>
                <p:cNvSpPr/>
                <p:nvPr/>
              </p:nvSpPr>
              <p:spPr>
                <a:xfrm>
                  <a:off x="4757760" y="2160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4" name=""/>
                <p:cNvSpPr/>
                <p:nvPr/>
              </p:nvSpPr>
              <p:spPr>
                <a:xfrm>
                  <a:off x="4757760" y="2200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5" name=""/>
                <p:cNvSpPr/>
                <p:nvPr/>
              </p:nvSpPr>
              <p:spPr>
                <a:xfrm>
                  <a:off x="4757760" y="2219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6" name=""/>
                <p:cNvSpPr/>
                <p:nvPr/>
              </p:nvSpPr>
              <p:spPr>
                <a:xfrm>
                  <a:off x="4757760" y="22590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7" name=""/>
                <p:cNvSpPr/>
                <p:nvPr/>
              </p:nvSpPr>
              <p:spPr>
                <a:xfrm>
                  <a:off x="4757760" y="2278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8" name=""/>
                <p:cNvSpPr/>
                <p:nvPr/>
              </p:nvSpPr>
              <p:spPr>
                <a:xfrm>
                  <a:off x="4757760" y="2317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9" name=""/>
                <p:cNvSpPr/>
                <p:nvPr/>
              </p:nvSpPr>
              <p:spPr>
                <a:xfrm>
                  <a:off x="4757760" y="2336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0" name=""/>
                <p:cNvSpPr/>
                <p:nvPr/>
              </p:nvSpPr>
              <p:spPr>
                <a:xfrm>
                  <a:off x="4757760" y="2376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1" name=""/>
                <p:cNvSpPr/>
                <p:nvPr/>
              </p:nvSpPr>
              <p:spPr>
                <a:xfrm>
                  <a:off x="4757760" y="2395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2" name=""/>
                <p:cNvSpPr/>
                <p:nvPr/>
              </p:nvSpPr>
              <p:spPr>
                <a:xfrm>
                  <a:off x="4757760" y="2435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3" name=""/>
                <p:cNvSpPr/>
                <p:nvPr/>
              </p:nvSpPr>
              <p:spPr>
                <a:xfrm>
                  <a:off x="4757760" y="24541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4" name=""/>
                <p:cNvSpPr/>
                <p:nvPr/>
              </p:nvSpPr>
              <p:spPr>
                <a:xfrm>
                  <a:off x="4757760" y="2494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5" name=""/>
                <p:cNvSpPr/>
                <p:nvPr/>
              </p:nvSpPr>
              <p:spPr>
                <a:xfrm>
                  <a:off x="4757760" y="251316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6" name=""/>
                <p:cNvSpPr/>
                <p:nvPr/>
              </p:nvSpPr>
              <p:spPr>
                <a:xfrm>
                  <a:off x="4757760" y="2552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7" name=""/>
                <p:cNvSpPr/>
                <p:nvPr/>
              </p:nvSpPr>
              <p:spPr>
                <a:xfrm>
                  <a:off x="4757760" y="25718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8" name=""/>
                <p:cNvSpPr/>
                <p:nvPr/>
              </p:nvSpPr>
              <p:spPr>
                <a:xfrm>
                  <a:off x="4757760" y="2611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9" name=""/>
                <p:cNvSpPr/>
                <p:nvPr/>
              </p:nvSpPr>
              <p:spPr>
                <a:xfrm>
                  <a:off x="4757760" y="26305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0" name=""/>
                <p:cNvSpPr/>
                <p:nvPr/>
              </p:nvSpPr>
              <p:spPr>
                <a:xfrm>
                  <a:off x="4757760" y="2670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1" name=""/>
                <p:cNvSpPr/>
                <p:nvPr/>
              </p:nvSpPr>
              <p:spPr>
                <a:xfrm>
                  <a:off x="4757760" y="26892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2" name=""/>
                <p:cNvSpPr/>
                <p:nvPr/>
              </p:nvSpPr>
              <p:spPr>
                <a:xfrm>
                  <a:off x="4757760" y="2728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3" name=""/>
                <p:cNvSpPr/>
                <p:nvPr/>
              </p:nvSpPr>
              <p:spPr>
                <a:xfrm>
                  <a:off x="4757760" y="27478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4" name=""/>
                <p:cNvSpPr/>
                <p:nvPr/>
              </p:nvSpPr>
              <p:spPr>
                <a:xfrm>
                  <a:off x="4757760" y="27874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5" name=""/>
                <p:cNvSpPr/>
                <p:nvPr/>
              </p:nvSpPr>
              <p:spPr>
                <a:xfrm>
                  <a:off x="4757760" y="28065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6" name=""/>
                <p:cNvSpPr/>
                <p:nvPr/>
              </p:nvSpPr>
              <p:spPr>
                <a:xfrm>
                  <a:off x="4757760" y="2846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7" name=""/>
                <p:cNvSpPr/>
                <p:nvPr/>
              </p:nvSpPr>
              <p:spPr>
                <a:xfrm>
                  <a:off x="4757760" y="286560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8" name=""/>
                <p:cNvSpPr/>
                <p:nvPr/>
              </p:nvSpPr>
              <p:spPr>
                <a:xfrm>
                  <a:off x="4757760" y="29052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9" name=""/>
                <p:cNvSpPr/>
                <p:nvPr/>
              </p:nvSpPr>
              <p:spPr>
                <a:xfrm>
                  <a:off x="4757760" y="292428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0" name=""/>
                <p:cNvSpPr/>
                <p:nvPr/>
              </p:nvSpPr>
              <p:spPr>
                <a:xfrm>
                  <a:off x="4757760" y="2963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1" name=""/>
                <p:cNvSpPr/>
                <p:nvPr/>
              </p:nvSpPr>
              <p:spPr>
                <a:xfrm>
                  <a:off x="4757760" y="2982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2" name=""/>
                <p:cNvSpPr/>
                <p:nvPr/>
              </p:nvSpPr>
              <p:spPr>
                <a:xfrm>
                  <a:off x="4757760" y="3022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3" name=""/>
                <p:cNvSpPr/>
                <p:nvPr/>
              </p:nvSpPr>
              <p:spPr>
                <a:xfrm>
                  <a:off x="4757760" y="3041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4" name=""/>
                <p:cNvSpPr/>
                <p:nvPr/>
              </p:nvSpPr>
              <p:spPr>
                <a:xfrm>
                  <a:off x="4757760" y="3081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5" name=""/>
                <p:cNvSpPr/>
                <p:nvPr/>
              </p:nvSpPr>
              <p:spPr>
                <a:xfrm>
                  <a:off x="4757760" y="3100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6" name=""/>
                <p:cNvSpPr/>
                <p:nvPr/>
              </p:nvSpPr>
              <p:spPr>
                <a:xfrm>
                  <a:off x="4757760" y="3139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7" name=""/>
                <p:cNvSpPr/>
                <p:nvPr/>
              </p:nvSpPr>
              <p:spPr>
                <a:xfrm>
                  <a:off x="4757760" y="3159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8" name=""/>
                <p:cNvSpPr/>
                <p:nvPr/>
              </p:nvSpPr>
              <p:spPr>
                <a:xfrm>
                  <a:off x="4757760" y="3198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9" name=""/>
                <p:cNvSpPr/>
                <p:nvPr/>
              </p:nvSpPr>
              <p:spPr>
                <a:xfrm>
                  <a:off x="4757760" y="321804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0" name=""/>
                <p:cNvSpPr/>
                <p:nvPr/>
              </p:nvSpPr>
              <p:spPr>
                <a:xfrm>
                  <a:off x="4757760" y="3257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1" name=""/>
                <p:cNvSpPr/>
                <p:nvPr/>
              </p:nvSpPr>
              <p:spPr>
                <a:xfrm>
                  <a:off x="4757760" y="3276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>
                  <a:off x="4757760" y="3316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>
                  <a:off x="4757760" y="3335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4" name=""/>
                <p:cNvSpPr/>
                <p:nvPr/>
              </p:nvSpPr>
              <p:spPr>
                <a:xfrm>
                  <a:off x="4757760" y="33750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5" name=""/>
                <p:cNvSpPr/>
                <p:nvPr/>
              </p:nvSpPr>
              <p:spPr>
                <a:xfrm>
                  <a:off x="4757760" y="3394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6" name=""/>
                <p:cNvSpPr/>
                <p:nvPr/>
              </p:nvSpPr>
              <p:spPr>
                <a:xfrm>
                  <a:off x="4757760" y="3433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>
                  <a:off x="4757760" y="3452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>
                  <a:off x="4757760" y="3492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>
                  <a:off x="4757760" y="3511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0" name=""/>
                <p:cNvSpPr/>
                <p:nvPr/>
              </p:nvSpPr>
              <p:spPr>
                <a:xfrm>
                  <a:off x="4757760" y="3551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1" name=""/>
                <p:cNvSpPr/>
                <p:nvPr/>
              </p:nvSpPr>
              <p:spPr>
                <a:xfrm>
                  <a:off x="4757760" y="35701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2" name=""/>
                <p:cNvSpPr/>
                <p:nvPr/>
              </p:nvSpPr>
              <p:spPr>
                <a:xfrm>
                  <a:off x="4757760" y="3610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3" name=""/>
                <p:cNvSpPr/>
                <p:nvPr/>
              </p:nvSpPr>
              <p:spPr>
                <a:xfrm>
                  <a:off x="4757760" y="362916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4" name=""/>
                <p:cNvSpPr/>
                <p:nvPr/>
              </p:nvSpPr>
              <p:spPr>
                <a:xfrm>
                  <a:off x="4757760" y="3668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5" name=""/>
                <p:cNvSpPr/>
                <p:nvPr/>
              </p:nvSpPr>
              <p:spPr>
                <a:xfrm>
                  <a:off x="4757760" y="36878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6" name=""/>
                <p:cNvSpPr/>
                <p:nvPr/>
              </p:nvSpPr>
              <p:spPr>
                <a:xfrm>
                  <a:off x="4757760" y="3727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7" name=""/>
                <p:cNvSpPr/>
                <p:nvPr/>
              </p:nvSpPr>
              <p:spPr>
                <a:xfrm>
                  <a:off x="4757760" y="37465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8" name=""/>
                <p:cNvSpPr/>
                <p:nvPr/>
              </p:nvSpPr>
              <p:spPr>
                <a:xfrm>
                  <a:off x="4757760" y="3786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9" name=""/>
                <p:cNvSpPr/>
                <p:nvPr/>
              </p:nvSpPr>
              <p:spPr>
                <a:xfrm>
                  <a:off x="4757760" y="38052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0" name=""/>
                <p:cNvSpPr/>
                <p:nvPr/>
              </p:nvSpPr>
              <p:spPr>
                <a:xfrm>
                  <a:off x="4757760" y="3844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1" name=""/>
                <p:cNvSpPr/>
                <p:nvPr/>
              </p:nvSpPr>
              <p:spPr>
                <a:xfrm>
                  <a:off x="4757760" y="38638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2" name=""/>
                <p:cNvSpPr/>
                <p:nvPr/>
              </p:nvSpPr>
              <p:spPr>
                <a:xfrm>
                  <a:off x="4757760" y="39038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3" name=""/>
                <p:cNvSpPr/>
                <p:nvPr/>
              </p:nvSpPr>
              <p:spPr>
                <a:xfrm>
                  <a:off x="4757760" y="39225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4" name=""/>
                <p:cNvSpPr/>
                <p:nvPr/>
              </p:nvSpPr>
              <p:spPr>
                <a:xfrm>
                  <a:off x="4757760" y="3962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5" name=""/>
                <p:cNvSpPr/>
                <p:nvPr/>
              </p:nvSpPr>
              <p:spPr>
                <a:xfrm>
                  <a:off x="4757760" y="398160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6" name=""/>
                <p:cNvSpPr/>
                <p:nvPr/>
              </p:nvSpPr>
              <p:spPr>
                <a:xfrm>
                  <a:off x="4757760" y="40212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7" name=""/>
                <p:cNvSpPr/>
                <p:nvPr/>
              </p:nvSpPr>
              <p:spPr>
                <a:xfrm>
                  <a:off x="4757760" y="40402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8" name=""/>
                <p:cNvSpPr/>
                <p:nvPr/>
              </p:nvSpPr>
              <p:spPr>
                <a:xfrm>
                  <a:off x="4757760" y="4079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9" name=""/>
                <p:cNvSpPr/>
                <p:nvPr/>
              </p:nvSpPr>
              <p:spPr>
                <a:xfrm>
                  <a:off x="4757760" y="4098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0" name=""/>
                <p:cNvSpPr/>
                <p:nvPr/>
              </p:nvSpPr>
              <p:spPr>
                <a:xfrm>
                  <a:off x="4757760" y="4138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1" name=""/>
                <p:cNvSpPr/>
                <p:nvPr/>
              </p:nvSpPr>
              <p:spPr>
                <a:xfrm>
                  <a:off x="4757760" y="4157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2" name=""/>
                <p:cNvSpPr/>
                <p:nvPr/>
              </p:nvSpPr>
              <p:spPr>
                <a:xfrm>
                  <a:off x="4757760" y="4197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3" name=""/>
                <p:cNvSpPr/>
                <p:nvPr/>
              </p:nvSpPr>
              <p:spPr>
                <a:xfrm>
                  <a:off x="4757760" y="4216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4" name=""/>
                <p:cNvSpPr/>
                <p:nvPr/>
              </p:nvSpPr>
              <p:spPr>
                <a:xfrm>
                  <a:off x="4757760" y="4255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5" name=""/>
                <p:cNvSpPr/>
                <p:nvPr/>
              </p:nvSpPr>
              <p:spPr>
                <a:xfrm>
                  <a:off x="4757760" y="4275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6" name=""/>
                <p:cNvSpPr/>
                <p:nvPr/>
              </p:nvSpPr>
              <p:spPr>
                <a:xfrm>
                  <a:off x="4757760" y="4314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7" name=""/>
                <p:cNvSpPr/>
                <p:nvPr/>
              </p:nvSpPr>
              <p:spPr>
                <a:xfrm>
                  <a:off x="4757760" y="433404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8" name=""/>
                <p:cNvSpPr/>
                <p:nvPr/>
              </p:nvSpPr>
              <p:spPr>
                <a:xfrm>
                  <a:off x="4757760" y="4373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9" name=""/>
                <p:cNvSpPr/>
                <p:nvPr/>
              </p:nvSpPr>
              <p:spPr>
                <a:xfrm>
                  <a:off x="4757760" y="4392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0" name=""/>
                <p:cNvSpPr/>
                <p:nvPr/>
              </p:nvSpPr>
              <p:spPr>
                <a:xfrm>
                  <a:off x="4757760" y="4432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1" name=""/>
                <p:cNvSpPr/>
                <p:nvPr/>
              </p:nvSpPr>
              <p:spPr>
                <a:xfrm>
                  <a:off x="4757760" y="4451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2" name=""/>
                <p:cNvSpPr/>
                <p:nvPr/>
              </p:nvSpPr>
              <p:spPr>
                <a:xfrm>
                  <a:off x="4757760" y="44910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3" name=""/>
                <p:cNvSpPr/>
                <p:nvPr/>
              </p:nvSpPr>
              <p:spPr>
                <a:xfrm>
                  <a:off x="4757760" y="4510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4" name=""/>
                <p:cNvSpPr/>
                <p:nvPr/>
              </p:nvSpPr>
              <p:spPr>
                <a:xfrm>
                  <a:off x="4757760" y="4549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5" name=""/>
                <p:cNvSpPr/>
                <p:nvPr/>
              </p:nvSpPr>
              <p:spPr>
                <a:xfrm>
                  <a:off x="4757760" y="4568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6" name=""/>
                <p:cNvSpPr/>
                <p:nvPr/>
              </p:nvSpPr>
              <p:spPr>
                <a:xfrm>
                  <a:off x="4757760" y="4608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7" name=""/>
                <p:cNvSpPr/>
                <p:nvPr/>
              </p:nvSpPr>
              <p:spPr>
                <a:xfrm>
                  <a:off x="4757760" y="4627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8" name=""/>
                <p:cNvSpPr/>
                <p:nvPr/>
              </p:nvSpPr>
              <p:spPr>
                <a:xfrm>
                  <a:off x="4757760" y="4667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9" name=""/>
                <p:cNvSpPr/>
                <p:nvPr/>
              </p:nvSpPr>
              <p:spPr>
                <a:xfrm>
                  <a:off x="4757760" y="468792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0" name=""/>
                <p:cNvSpPr/>
                <p:nvPr/>
              </p:nvSpPr>
              <p:spPr>
                <a:xfrm>
                  <a:off x="4757760" y="4726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1" name=""/>
                <p:cNvSpPr/>
                <p:nvPr/>
              </p:nvSpPr>
              <p:spPr>
                <a:xfrm>
                  <a:off x="4757760" y="474660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2" name=""/>
                <p:cNvSpPr/>
                <p:nvPr/>
              </p:nvSpPr>
              <p:spPr>
                <a:xfrm>
                  <a:off x="4757760" y="4784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3" name=""/>
                <p:cNvSpPr/>
                <p:nvPr/>
              </p:nvSpPr>
              <p:spPr>
                <a:xfrm>
                  <a:off x="4757760" y="4805280"/>
                  <a:ext cx="111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4" name=""/>
                <p:cNvSpPr/>
                <p:nvPr/>
              </p:nvSpPr>
              <p:spPr>
                <a:xfrm>
                  <a:off x="4757760" y="48434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5" name=""/>
                <p:cNvSpPr/>
                <p:nvPr/>
              </p:nvSpPr>
              <p:spPr>
                <a:xfrm>
                  <a:off x="4757760" y="4863960"/>
                  <a:ext cx="111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6" name=""/>
                <p:cNvSpPr/>
                <p:nvPr/>
              </p:nvSpPr>
              <p:spPr>
                <a:xfrm>
                  <a:off x="4757760" y="4902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7" name=""/>
                <p:cNvSpPr/>
                <p:nvPr/>
              </p:nvSpPr>
              <p:spPr>
                <a:xfrm>
                  <a:off x="4757760" y="492300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8" name=""/>
                <p:cNvSpPr/>
                <p:nvPr/>
              </p:nvSpPr>
              <p:spPr>
                <a:xfrm>
                  <a:off x="4757760" y="4960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9" name=""/>
                <p:cNvSpPr/>
                <p:nvPr/>
              </p:nvSpPr>
              <p:spPr>
                <a:xfrm>
                  <a:off x="4757760" y="498168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0" name=""/>
                <p:cNvSpPr/>
                <p:nvPr/>
              </p:nvSpPr>
              <p:spPr>
                <a:xfrm>
                  <a:off x="4757760" y="50198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1" name=""/>
                <p:cNvSpPr/>
                <p:nvPr/>
              </p:nvSpPr>
              <p:spPr>
                <a:xfrm>
                  <a:off x="4757760" y="504036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2" name=""/>
                <p:cNvSpPr/>
                <p:nvPr/>
              </p:nvSpPr>
              <p:spPr>
                <a:xfrm>
                  <a:off x="4757760" y="5078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3" name=""/>
                <p:cNvSpPr/>
                <p:nvPr/>
              </p:nvSpPr>
              <p:spPr>
                <a:xfrm>
                  <a:off x="47624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4" name=""/>
                <p:cNvSpPr/>
                <p:nvPr/>
              </p:nvSpPr>
              <p:spPr>
                <a:xfrm>
                  <a:off x="48020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5" name=""/>
                <p:cNvSpPr/>
                <p:nvPr/>
              </p:nvSpPr>
              <p:spPr>
                <a:xfrm>
                  <a:off x="48211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6" name=""/>
                <p:cNvSpPr/>
                <p:nvPr/>
              </p:nvSpPr>
              <p:spPr>
                <a:xfrm>
                  <a:off x="48610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7" name=""/>
                <p:cNvSpPr/>
                <p:nvPr/>
              </p:nvSpPr>
              <p:spPr>
                <a:xfrm>
                  <a:off x="48798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8" name=""/>
                <p:cNvSpPr/>
                <p:nvPr/>
              </p:nvSpPr>
              <p:spPr>
                <a:xfrm>
                  <a:off x="49197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9" name=""/>
                <p:cNvSpPr/>
                <p:nvPr/>
              </p:nvSpPr>
              <p:spPr>
                <a:xfrm>
                  <a:off x="493884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0" name=""/>
                <p:cNvSpPr/>
                <p:nvPr/>
              </p:nvSpPr>
              <p:spPr>
                <a:xfrm>
                  <a:off x="49784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1" name=""/>
                <p:cNvSpPr/>
                <p:nvPr/>
              </p:nvSpPr>
              <p:spPr>
                <a:xfrm>
                  <a:off x="49975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2" name=""/>
                <p:cNvSpPr/>
                <p:nvPr/>
              </p:nvSpPr>
              <p:spPr>
                <a:xfrm>
                  <a:off x="50371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3" name=""/>
                <p:cNvSpPr/>
                <p:nvPr/>
              </p:nvSpPr>
              <p:spPr>
                <a:xfrm>
                  <a:off x="50562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4" name=""/>
                <p:cNvSpPr/>
                <p:nvPr/>
              </p:nvSpPr>
              <p:spPr>
                <a:xfrm>
                  <a:off x="50958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5" name=""/>
                <p:cNvSpPr/>
                <p:nvPr/>
              </p:nvSpPr>
              <p:spPr>
                <a:xfrm>
                  <a:off x="511488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6" name=""/>
                <p:cNvSpPr/>
                <p:nvPr/>
              </p:nvSpPr>
              <p:spPr>
                <a:xfrm>
                  <a:off x="51544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7" name=""/>
                <p:cNvSpPr/>
                <p:nvPr/>
              </p:nvSpPr>
              <p:spPr>
                <a:xfrm>
                  <a:off x="517356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8" name=""/>
                <p:cNvSpPr/>
                <p:nvPr/>
              </p:nvSpPr>
              <p:spPr>
                <a:xfrm>
                  <a:off x="52135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9" name=""/>
                <p:cNvSpPr/>
                <p:nvPr/>
              </p:nvSpPr>
              <p:spPr>
                <a:xfrm>
                  <a:off x="52322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0" name=""/>
                <p:cNvSpPr/>
                <p:nvPr/>
              </p:nvSpPr>
              <p:spPr>
                <a:xfrm>
                  <a:off x="52722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1" name=""/>
                <p:cNvSpPr/>
                <p:nvPr/>
              </p:nvSpPr>
              <p:spPr>
                <a:xfrm>
                  <a:off x="529128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2" name=""/>
                <p:cNvSpPr/>
                <p:nvPr/>
              </p:nvSpPr>
              <p:spPr>
                <a:xfrm>
                  <a:off x="53308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3" name=""/>
                <p:cNvSpPr/>
                <p:nvPr/>
              </p:nvSpPr>
              <p:spPr>
                <a:xfrm>
                  <a:off x="534996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4" name=""/>
                <p:cNvSpPr/>
                <p:nvPr/>
              </p:nvSpPr>
              <p:spPr>
                <a:xfrm>
                  <a:off x="53895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5" name=""/>
                <p:cNvSpPr/>
                <p:nvPr/>
              </p:nvSpPr>
              <p:spPr>
                <a:xfrm>
                  <a:off x="54086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6" name=""/>
                <p:cNvSpPr/>
                <p:nvPr/>
              </p:nvSpPr>
              <p:spPr>
                <a:xfrm>
                  <a:off x="54482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7" name=""/>
                <p:cNvSpPr/>
                <p:nvPr/>
              </p:nvSpPr>
              <p:spPr>
                <a:xfrm>
                  <a:off x="54673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8" name=""/>
                <p:cNvSpPr/>
                <p:nvPr/>
              </p:nvSpPr>
              <p:spPr>
                <a:xfrm>
                  <a:off x="55069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9" name=""/>
                <p:cNvSpPr/>
                <p:nvPr/>
              </p:nvSpPr>
              <p:spPr>
                <a:xfrm>
                  <a:off x="55260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>
                  <a:off x="55656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1" name=""/>
                <p:cNvSpPr/>
                <p:nvPr/>
              </p:nvSpPr>
              <p:spPr>
                <a:xfrm>
                  <a:off x="558468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2" name=""/>
                <p:cNvSpPr/>
                <p:nvPr/>
              </p:nvSpPr>
              <p:spPr>
                <a:xfrm>
                  <a:off x="56246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>
                  <a:off x="564372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>
                  <a:off x="56833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>
                  <a:off x="57038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6" name=""/>
                <p:cNvSpPr/>
                <p:nvPr/>
              </p:nvSpPr>
              <p:spPr>
                <a:xfrm>
                  <a:off x="57420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7" name=""/>
                <p:cNvSpPr/>
                <p:nvPr/>
              </p:nvSpPr>
              <p:spPr>
                <a:xfrm>
                  <a:off x="576252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8" name=""/>
                <p:cNvSpPr/>
                <p:nvPr/>
              </p:nvSpPr>
              <p:spPr>
                <a:xfrm>
                  <a:off x="58006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9" name=""/>
                <p:cNvSpPr/>
                <p:nvPr/>
              </p:nvSpPr>
              <p:spPr>
                <a:xfrm>
                  <a:off x="58212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0" name=""/>
                <p:cNvSpPr/>
                <p:nvPr/>
              </p:nvSpPr>
              <p:spPr>
                <a:xfrm>
                  <a:off x="58593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1" name=""/>
                <p:cNvSpPr/>
                <p:nvPr/>
              </p:nvSpPr>
              <p:spPr>
                <a:xfrm>
                  <a:off x="588024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2" name=""/>
                <p:cNvSpPr/>
                <p:nvPr/>
              </p:nvSpPr>
              <p:spPr>
                <a:xfrm>
                  <a:off x="59180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3" name=""/>
                <p:cNvSpPr/>
                <p:nvPr/>
              </p:nvSpPr>
              <p:spPr>
                <a:xfrm>
                  <a:off x="59389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4" name=""/>
                <p:cNvSpPr/>
                <p:nvPr/>
              </p:nvSpPr>
              <p:spPr>
                <a:xfrm>
                  <a:off x="59770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5" name=""/>
                <p:cNvSpPr/>
                <p:nvPr/>
              </p:nvSpPr>
              <p:spPr>
                <a:xfrm>
                  <a:off x="599760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6" name=""/>
                <p:cNvSpPr/>
                <p:nvPr/>
              </p:nvSpPr>
              <p:spPr>
                <a:xfrm>
                  <a:off x="60357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7" name=""/>
                <p:cNvSpPr/>
                <p:nvPr/>
              </p:nvSpPr>
              <p:spPr>
                <a:xfrm>
                  <a:off x="60562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8" name=""/>
                <p:cNvSpPr/>
                <p:nvPr/>
              </p:nvSpPr>
              <p:spPr>
                <a:xfrm>
                  <a:off x="60944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9" name=""/>
                <p:cNvSpPr/>
                <p:nvPr/>
              </p:nvSpPr>
              <p:spPr>
                <a:xfrm>
                  <a:off x="611496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0" name=""/>
                <p:cNvSpPr/>
                <p:nvPr/>
              </p:nvSpPr>
              <p:spPr>
                <a:xfrm>
                  <a:off x="61531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1" name=""/>
                <p:cNvSpPr/>
                <p:nvPr/>
              </p:nvSpPr>
              <p:spPr>
                <a:xfrm>
                  <a:off x="61736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2" name=""/>
                <p:cNvSpPr/>
                <p:nvPr/>
              </p:nvSpPr>
              <p:spPr>
                <a:xfrm>
                  <a:off x="62118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3" name=""/>
                <p:cNvSpPr/>
                <p:nvPr/>
              </p:nvSpPr>
              <p:spPr>
                <a:xfrm>
                  <a:off x="62326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4" name=""/>
                <p:cNvSpPr/>
                <p:nvPr/>
              </p:nvSpPr>
              <p:spPr>
                <a:xfrm>
                  <a:off x="62704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5" name=""/>
                <p:cNvSpPr/>
                <p:nvPr/>
              </p:nvSpPr>
              <p:spPr>
                <a:xfrm>
                  <a:off x="629136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6" name=""/>
                <p:cNvSpPr/>
                <p:nvPr/>
              </p:nvSpPr>
              <p:spPr>
                <a:xfrm>
                  <a:off x="63295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7" name=""/>
                <p:cNvSpPr/>
                <p:nvPr/>
              </p:nvSpPr>
              <p:spPr>
                <a:xfrm>
                  <a:off x="635004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8" name=""/>
                <p:cNvSpPr/>
                <p:nvPr/>
              </p:nvSpPr>
              <p:spPr>
                <a:xfrm>
                  <a:off x="63882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9" name=""/>
                <p:cNvSpPr/>
                <p:nvPr/>
              </p:nvSpPr>
              <p:spPr>
                <a:xfrm>
                  <a:off x="64087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0" name=""/>
                <p:cNvSpPr/>
                <p:nvPr/>
              </p:nvSpPr>
              <p:spPr>
                <a:xfrm>
                  <a:off x="64468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1" name=""/>
                <p:cNvSpPr/>
                <p:nvPr/>
              </p:nvSpPr>
              <p:spPr>
                <a:xfrm>
                  <a:off x="64674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2" name=""/>
                <p:cNvSpPr/>
                <p:nvPr/>
              </p:nvSpPr>
              <p:spPr>
                <a:xfrm>
                  <a:off x="65055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3" name=""/>
                <p:cNvSpPr/>
                <p:nvPr/>
              </p:nvSpPr>
              <p:spPr>
                <a:xfrm>
                  <a:off x="652608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4" name=""/>
                <p:cNvSpPr/>
                <p:nvPr/>
              </p:nvSpPr>
              <p:spPr>
                <a:xfrm>
                  <a:off x="65642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5" name=""/>
                <p:cNvSpPr/>
                <p:nvPr/>
              </p:nvSpPr>
              <p:spPr>
                <a:xfrm>
                  <a:off x="65851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6" name=""/>
                <p:cNvSpPr/>
                <p:nvPr/>
              </p:nvSpPr>
              <p:spPr>
                <a:xfrm>
                  <a:off x="66229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7" name=""/>
                <p:cNvSpPr/>
                <p:nvPr/>
              </p:nvSpPr>
              <p:spPr>
                <a:xfrm>
                  <a:off x="664380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8" name=""/>
                <p:cNvSpPr/>
                <p:nvPr/>
              </p:nvSpPr>
              <p:spPr>
                <a:xfrm>
                  <a:off x="66819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9" name=""/>
                <p:cNvSpPr/>
                <p:nvPr/>
              </p:nvSpPr>
              <p:spPr>
                <a:xfrm>
                  <a:off x="67024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0" name=""/>
                <p:cNvSpPr/>
                <p:nvPr/>
              </p:nvSpPr>
              <p:spPr>
                <a:xfrm>
                  <a:off x="67406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1" name=""/>
                <p:cNvSpPr/>
                <p:nvPr/>
              </p:nvSpPr>
              <p:spPr>
                <a:xfrm>
                  <a:off x="676116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2" name=""/>
                <p:cNvSpPr/>
                <p:nvPr/>
              </p:nvSpPr>
              <p:spPr>
                <a:xfrm>
                  <a:off x="67993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3" name=""/>
                <p:cNvSpPr/>
                <p:nvPr/>
              </p:nvSpPr>
              <p:spPr>
                <a:xfrm>
                  <a:off x="68198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4" name=""/>
                <p:cNvSpPr/>
                <p:nvPr/>
              </p:nvSpPr>
              <p:spPr>
                <a:xfrm>
                  <a:off x="68580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5" name=""/>
                <p:cNvSpPr/>
                <p:nvPr/>
              </p:nvSpPr>
              <p:spPr>
                <a:xfrm>
                  <a:off x="687852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6" name=""/>
                <p:cNvSpPr/>
                <p:nvPr/>
              </p:nvSpPr>
              <p:spPr>
                <a:xfrm>
                  <a:off x="69166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7" name=""/>
                <p:cNvSpPr/>
                <p:nvPr/>
              </p:nvSpPr>
              <p:spPr>
                <a:xfrm>
                  <a:off x="69372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8" name=""/>
                <p:cNvSpPr/>
                <p:nvPr/>
              </p:nvSpPr>
              <p:spPr>
                <a:xfrm>
                  <a:off x="69753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9" name=""/>
                <p:cNvSpPr/>
                <p:nvPr/>
              </p:nvSpPr>
              <p:spPr>
                <a:xfrm>
                  <a:off x="6996240" y="508788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0" y="3"/>
                      </a:moveTo>
                      <a:lnTo>
                        <a:pt x="0" y="10"/>
                      </a:lnTo>
                      <a:lnTo>
                        <a:pt x="12" y="10"/>
                      </a:lnTo>
                      <a:lnTo>
                        <a:pt x="15" y="10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12" y="7"/>
                      </a:lnTo>
                      <a:lnTo>
                        <a:pt x="1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0" name=""/>
                <p:cNvSpPr/>
                <p:nvPr/>
              </p:nvSpPr>
              <p:spPr>
                <a:xfrm>
                  <a:off x="7010280" y="50688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1" name=""/>
                <p:cNvSpPr/>
                <p:nvPr/>
              </p:nvSpPr>
              <p:spPr>
                <a:xfrm>
                  <a:off x="7010280" y="5029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2" name=""/>
                <p:cNvSpPr/>
                <p:nvPr/>
              </p:nvSpPr>
              <p:spPr>
                <a:xfrm>
                  <a:off x="7010280" y="5010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3" name=""/>
                <p:cNvSpPr/>
                <p:nvPr/>
              </p:nvSpPr>
              <p:spPr>
                <a:xfrm>
                  <a:off x="7010280" y="49705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4" name=""/>
                <p:cNvSpPr/>
                <p:nvPr/>
              </p:nvSpPr>
              <p:spPr>
                <a:xfrm>
                  <a:off x="7010280" y="4951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5" name=""/>
                <p:cNvSpPr/>
                <p:nvPr/>
              </p:nvSpPr>
              <p:spPr>
                <a:xfrm>
                  <a:off x="7010280" y="491184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6" name=""/>
                <p:cNvSpPr/>
                <p:nvPr/>
              </p:nvSpPr>
              <p:spPr>
                <a:xfrm>
                  <a:off x="7010280" y="48927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7" name=""/>
                <p:cNvSpPr/>
                <p:nvPr/>
              </p:nvSpPr>
              <p:spPr>
                <a:xfrm>
                  <a:off x="7010280" y="485316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8" name=""/>
                <p:cNvSpPr/>
                <p:nvPr/>
              </p:nvSpPr>
              <p:spPr>
                <a:xfrm>
                  <a:off x="7010280" y="4834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9" name=""/>
                <p:cNvSpPr/>
                <p:nvPr/>
              </p:nvSpPr>
              <p:spPr>
                <a:xfrm>
                  <a:off x="7010280" y="47941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0" name=""/>
              <p:cNvSpPr/>
              <p:nvPr/>
            </p:nvSpPr>
            <p:spPr>
              <a:xfrm>
                <a:off x="7010280" y="4775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7010280" y="4735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7010280" y="4716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7010280" y="4676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>
                <a:off x="7010280" y="4657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>
                <a:off x="7010280" y="4618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>
                <a:off x="7010280" y="4599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7010280" y="45594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7010280" y="4540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7010280" y="450072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7010280" y="4481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7010280" y="44416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7010280" y="4422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7010280" y="43830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7010280" y="4363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7010280" y="43243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7010280" y="4305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7010280" y="42656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7010280" y="4246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7010280" y="42069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7010280" y="4187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7010280" y="414828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7010280" y="4129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7010280" y="40892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7010280" y="4070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7010280" y="40305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7010280" y="4011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7010280" y="39718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7010280" y="39528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7010280" y="39132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7010280" y="3894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7010280" y="38545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7010280" y="3835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7010280" y="379584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7010280" y="37767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7010280" y="37368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7010280" y="37180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7010280" y="36781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7010280" y="3659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>
                <a:off x="7010280" y="3619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7010280" y="3600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7010280" y="3560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7010280" y="3541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7010280" y="3502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7010280" y="3483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7010280" y="344340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7010280" y="3424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>
                <a:off x="7010280" y="338472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7010280" y="3365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7010280" y="33256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7010280" y="3306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7010280" y="32670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7010280" y="3247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7010280" y="32083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7010280" y="3189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7010280" y="31496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7010280" y="3130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7010280" y="30909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7010280" y="3071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7010280" y="303228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7010280" y="3013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7010280" y="29732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7010280" y="2954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7010280" y="29145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7010280" y="2895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7010280" y="28558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7010280" y="28368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7010280" y="27972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7010280" y="27781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7010280" y="27385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7010280" y="2719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7010280" y="267984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7010280" y="26607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>
                <a:off x="7010280" y="26208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>
                <a:off x="7010280" y="26020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7010280" y="25621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7010280" y="2543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7010280" y="2503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7010280" y="2484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7010280" y="2444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7010280" y="2425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7010280" y="2386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7010280" y="2367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7010280" y="232740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7010280" y="230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7010280" y="226836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7010280" y="2249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7010280" y="220968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7010280" y="2190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7010280" y="215100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7010280" y="2131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7010280" y="20923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7010280" y="207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>
                <a:off x="7010280" y="203364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7010280" y="2014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7010280" y="197496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>
                <a:off x="7010280" y="1955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7010280" y="191628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>
                <a:off x="7010280" y="1897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>
                <a:off x="7010280" y="185724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>
                <a:off x="7010280" y="1838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>
                <a:off x="7005600" y="1803240"/>
                <a:ext cx="14400" cy="241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3" y="15"/>
                    </a:moveTo>
                    <a:lnTo>
                      <a:pt x="9" y="15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>
                <a:off x="69850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>
                <a:off x="69469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>
                <a:off x="692640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68882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68673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68295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68086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67705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67500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671184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66913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66531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66326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65944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65739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65358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651528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64771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64562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>
                <a:off x="64184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>
                <a:off x="63975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>
                <a:off x="635940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63388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>
                <a:off x="63007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62802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62420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62215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61833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>
                <a:off x="616284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>
                <a:off x="61246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>
                <a:off x="61038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60660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60451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>
                <a:off x="60069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>
                <a:off x="59864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59482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59277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58896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58690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58309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581040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57722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57513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57135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56926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56545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563400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559584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557532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55371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55166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54784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545796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54198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539892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53611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534024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53020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528156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524340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522288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51847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516420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51260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510552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50673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50468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50086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498780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49500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492912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48909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48704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48322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481176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47736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8" name=""/>
            <p:cNvSpPr/>
            <p:nvPr/>
          </p:nvSpPr>
          <p:spPr>
            <a:xfrm>
              <a:off x="5008320" y="184320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modyfikowany 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1125360" y="2282760"/>
              <a:ext cx="131796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1419840" y="2322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1616040" y="256716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2976480" y="2282760"/>
              <a:ext cx="132084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3442680" y="256716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5086440" y="2282760"/>
              <a:ext cx="132228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5536800" y="25671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6" name=""/>
            <p:cNvGrpSpPr/>
            <p:nvPr/>
          </p:nvGrpSpPr>
          <p:grpSpPr>
            <a:xfrm>
              <a:off x="2438280" y="2635200"/>
              <a:ext cx="524160" cy="103320"/>
              <a:chOff x="2438280" y="2635200"/>
              <a:chExt cx="524160" cy="103320"/>
            </a:xfrm>
          </p:grpSpPr>
          <p:sp>
            <p:nvSpPr>
              <p:cNvPr id="7907" name=""/>
              <p:cNvSpPr/>
              <p:nvPr/>
            </p:nvSpPr>
            <p:spPr>
              <a:xfrm>
                <a:off x="2438280" y="2679840"/>
                <a:ext cx="5241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2859120" y="263520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9" name=""/>
            <p:cNvGrpSpPr/>
            <p:nvPr/>
          </p:nvGrpSpPr>
          <p:grpSpPr>
            <a:xfrm>
              <a:off x="4303800" y="2616120"/>
              <a:ext cx="782640" cy="103320"/>
              <a:chOff x="4303800" y="2616120"/>
              <a:chExt cx="782640" cy="103320"/>
            </a:xfrm>
          </p:grpSpPr>
          <p:sp>
            <p:nvSpPr>
              <p:cNvPr id="7910" name=""/>
              <p:cNvSpPr/>
              <p:nvPr/>
            </p:nvSpPr>
            <p:spPr>
              <a:xfrm>
                <a:off x="4303800" y="2665440"/>
                <a:ext cx="782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4983120" y="261612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2" name=""/>
            <p:cNvGrpSpPr/>
            <p:nvPr/>
          </p:nvGrpSpPr>
          <p:grpSpPr>
            <a:xfrm>
              <a:off x="465120" y="2635200"/>
              <a:ext cx="646200" cy="103320"/>
              <a:chOff x="465120" y="2635200"/>
              <a:chExt cx="646200" cy="103320"/>
            </a:xfrm>
          </p:grpSpPr>
          <p:sp>
            <p:nvSpPr>
              <p:cNvPr id="7913" name=""/>
              <p:cNvSpPr/>
              <p:nvPr/>
            </p:nvSpPr>
            <p:spPr>
              <a:xfrm>
                <a:off x="465120" y="2679840"/>
                <a:ext cx="646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1008000" y="263520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5" name=""/>
            <p:cNvGrpSpPr/>
            <p:nvPr/>
          </p:nvGrpSpPr>
          <p:grpSpPr>
            <a:xfrm>
              <a:off x="1717560" y="3045960"/>
              <a:ext cx="103320" cy="1181160"/>
              <a:chOff x="1717560" y="3045960"/>
              <a:chExt cx="103320" cy="1181160"/>
            </a:xfrm>
          </p:grpSpPr>
          <p:sp>
            <p:nvSpPr>
              <p:cNvPr id="7916" name=""/>
              <p:cNvSpPr/>
              <p:nvPr/>
            </p:nvSpPr>
            <p:spPr>
              <a:xfrm flipV="1">
                <a:off x="1766880" y="3045960"/>
                <a:ext cx="1440" cy="11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1717560" y="304632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8" name=""/>
            <p:cNvSpPr/>
            <p:nvPr/>
          </p:nvSpPr>
          <p:spPr>
            <a:xfrm>
              <a:off x="1782720" y="4227480"/>
              <a:ext cx="3317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 flipV="1">
              <a:off x="6676920" y="2679480"/>
              <a:ext cx="1800" cy="15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6423120" y="2665440"/>
              <a:ext cx="150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6648480" y="264492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425520" y="2651040"/>
              <a:ext cx="698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7900920" y="2630520"/>
              <a:ext cx="5868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38040" y="23176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96360" y="2416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3225960" y="4334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3283920" y="4432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352320" y="43340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3549240" y="4432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618000" y="43340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3693600" y="431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3784680" y="433404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3896640" y="44323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3485880" y="457992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3201840" y="4834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260160" y="4932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3328920" y="483408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577680" y="493236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691080" y="48340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3766680" y="48150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3857760" y="483408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3969720" y="4932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5100480" y="3830760"/>
              <a:ext cx="1322640" cy="753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5654520" y="411480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5" name=""/>
            <p:cNvGrpSpPr/>
            <p:nvPr/>
          </p:nvGrpSpPr>
          <p:grpSpPr>
            <a:xfrm>
              <a:off x="6432480" y="4173480"/>
              <a:ext cx="258840" cy="101520"/>
              <a:chOff x="6432480" y="4173480"/>
              <a:chExt cx="258840" cy="101520"/>
            </a:xfrm>
          </p:grpSpPr>
          <p:sp>
            <p:nvSpPr>
              <p:cNvPr id="7946" name=""/>
              <p:cNvSpPr/>
              <p:nvPr/>
            </p:nvSpPr>
            <p:spPr>
              <a:xfrm>
                <a:off x="6432480" y="4227480"/>
                <a:ext cx="258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6432480" y="417348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65" y="0"/>
                    </a:moveTo>
                    <a:lnTo>
                      <a:pt x="0" y="34"/>
                    </a:lnTo>
                    <a:lnTo>
                      <a:pt x="65" y="6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8" name=""/>
            <p:cNvSpPr/>
            <p:nvPr/>
          </p:nvSpPr>
          <p:spPr>
            <a:xfrm>
              <a:off x="1851120" y="3619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1909080" y="371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1977840" y="36194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2172960" y="371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1850760" y="385452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1972800" y="3971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288720" y="2768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410760" y="2886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6" name=""/>
          <p:cNvSpPr/>
          <p:nvPr/>
        </p:nvSpPr>
        <p:spPr>
          <a:xfrm>
            <a:off x="849960" y="1108080"/>
            <a:ext cx="71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lacz częstotliwości z układem PLL i z dzielniki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7" name=""/>
          <p:cNvGrpSpPr/>
          <p:nvPr/>
        </p:nvGrpSpPr>
        <p:grpSpPr>
          <a:xfrm>
            <a:off x="318960" y="2022480"/>
            <a:ext cx="7907400" cy="3575160"/>
            <a:chOff x="318960" y="2022480"/>
            <a:chExt cx="7907400" cy="3575160"/>
          </a:xfrm>
        </p:grpSpPr>
        <p:grpSp>
          <p:nvGrpSpPr>
            <p:cNvPr id="7958" name=""/>
            <p:cNvGrpSpPr/>
            <p:nvPr/>
          </p:nvGrpSpPr>
          <p:grpSpPr>
            <a:xfrm>
              <a:off x="4856040" y="2022480"/>
              <a:ext cx="2276640" cy="3319560"/>
              <a:chOff x="4856040" y="2022480"/>
              <a:chExt cx="2276640" cy="3319560"/>
            </a:xfrm>
          </p:grpSpPr>
          <p:grpSp>
            <p:nvGrpSpPr>
              <p:cNvPr id="7959" name=""/>
              <p:cNvGrpSpPr/>
              <p:nvPr/>
            </p:nvGrpSpPr>
            <p:grpSpPr>
              <a:xfrm>
                <a:off x="4856040" y="2027160"/>
                <a:ext cx="2276640" cy="3314880"/>
                <a:chOff x="4856040" y="2027160"/>
                <a:chExt cx="2276640" cy="3314880"/>
              </a:xfrm>
            </p:grpSpPr>
            <p:sp>
              <p:nvSpPr>
                <p:cNvPr id="7960" name=""/>
                <p:cNvSpPr/>
                <p:nvPr/>
              </p:nvSpPr>
              <p:spPr>
                <a:xfrm>
                  <a:off x="4861080" y="2027160"/>
                  <a:ext cx="2266920" cy="3309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1" name=""/>
                <p:cNvSpPr/>
                <p:nvPr/>
              </p:nvSpPr>
              <p:spPr>
                <a:xfrm>
                  <a:off x="4856040" y="20271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2" name=""/>
                <p:cNvSpPr/>
                <p:nvPr/>
              </p:nvSpPr>
              <p:spPr>
                <a:xfrm>
                  <a:off x="4856040" y="20667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3" name=""/>
                <p:cNvSpPr/>
                <p:nvPr/>
              </p:nvSpPr>
              <p:spPr>
                <a:xfrm>
                  <a:off x="4856040" y="20858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4" name=""/>
                <p:cNvSpPr/>
                <p:nvPr/>
              </p:nvSpPr>
              <p:spPr>
                <a:xfrm>
                  <a:off x="4856040" y="21258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5" name=""/>
                <p:cNvSpPr/>
                <p:nvPr/>
              </p:nvSpPr>
              <p:spPr>
                <a:xfrm>
                  <a:off x="4856040" y="21463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6" name=""/>
                <p:cNvSpPr/>
                <p:nvPr/>
              </p:nvSpPr>
              <p:spPr>
                <a:xfrm>
                  <a:off x="4856040" y="218448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7" name=""/>
                <p:cNvSpPr/>
                <p:nvPr/>
              </p:nvSpPr>
              <p:spPr>
                <a:xfrm>
                  <a:off x="4856040" y="22050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8" name=""/>
                <p:cNvSpPr/>
                <p:nvPr/>
              </p:nvSpPr>
              <p:spPr>
                <a:xfrm>
                  <a:off x="4856040" y="22446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9" name=""/>
                <p:cNvSpPr/>
                <p:nvPr/>
              </p:nvSpPr>
              <p:spPr>
                <a:xfrm>
                  <a:off x="4856040" y="22636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0" name=""/>
                <p:cNvSpPr/>
                <p:nvPr/>
              </p:nvSpPr>
              <p:spPr>
                <a:xfrm>
                  <a:off x="4856040" y="2303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1" name=""/>
                <p:cNvSpPr/>
                <p:nvPr/>
              </p:nvSpPr>
              <p:spPr>
                <a:xfrm>
                  <a:off x="4856040" y="23223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2" name=""/>
                <p:cNvSpPr/>
                <p:nvPr/>
              </p:nvSpPr>
              <p:spPr>
                <a:xfrm>
                  <a:off x="4856040" y="23623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3" name=""/>
                <p:cNvSpPr/>
                <p:nvPr/>
              </p:nvSpPr>
              <p:spPr>
                <a:xfrm>
                  <a:off x="4856040" y="23814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4" name=""/>
                <p:cNvSpPr/>
                <p:nvPr/>
              </p:nvSpPr>
              <p:spPr>
                <a:xfrm>
                  <a:off x="4856040" y="24210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5" name=""/>
                <p:cNvSpPr/>
                <p:nvPr/>
              </p:nvSpPr>
              <p:spPr>
                <a:xfrm>
                  <a:off x="4856040" y="24415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6" name=""/>
                <p:cNvSpPr/>
                <p:nvPr/>
              </p:nvSpPr>
              <p:spPr>
                <a:xfrm>
                  <a:off x="4856040" y="2481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7" name=""/>
                <p:cNvSpPr/>
                <p:nvPr/>
              </p:nvSpPr>
              <p:spPr>
                <a:xfrm>
                  <a:off x="4856040" y="2500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8" name=""/>
                <p:cNvSpPr/>
                <p:nvPr/>
              </p:nvSpPr>
              <p:spPr>
                <a:xfrm>
                  <a:off x="4856040" y="25401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9" name=""/>
                <p:cNvSpPr/>
                <p:nvPr/>
              </p:nvSpPr>
              <p:spPr>
                <a:xfrm>
                  <a:off x="4856040" y="25588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0" name=""/>
                <p:cNvSpPr/>
                <p:nvPr/>
              </p:nvSpPr>
              <p:spPr>
                <a:xfrm>
                  <a:off x="4856040" y="25988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1" name=""/>
                <p:cNvSpPr/>
                <p:nvPr/>
              </p:nvSpPr>
              <p:spPr>
                <a:xfrm>
                  <a:off x="4856040" y="261792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2" name=""/>
                <p:cNvSpPr/>
                <p:nvPr/>
              </p:nvSpPr>
              <p:spPr>
                <a:xfrm>
                  <a:off x="4856040" y="26575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3" name=""/>
                <p:cNvSpPr/>
                <p:nvPr/>
              </p:nvSpPr>
              <p:spPr>
                <a:xfrm>
                  <a:off x="4856040" y="26780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4" name=""/>
                <p:cNvSpPr/>
                <p:nvPr/>
              </p:nvSpPr>
              <p:spPr>
                <a:xfrm>
                  <a:off x="4856040" y="27162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5" name=""/>
                <p:cNvSpPr/>
                <p:nvPr/>
              </p:nvSpPr>
              <p:spPr>
                <a:xfrm>
                  <a:off x="4856040" y="27367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6" name=""/>
                <p:cNvSpPr/>
                <p:nvPr/>
              </p:nvSpPr>
              <p:spPr>
                <a:xfrm>
                  <a:off x="4856040" y="27766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7" name=""/>
                <p:cNvSpPr/>
                <p:nvPr/>
              </p:nvSpPr>
              <p:spPr>
                <a:xfrm>
                  <a:off x="4856040" y="279576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8" name=""/>
                <p:cNvSpPr/>
                <p:nvPr/>
              </p:nvSpPr>
              <p:spPr>
                <a:xfrm>
                  <a:off x="4856040" y="28353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9" name=""/>
                <p:cNvSpPr/>
                <p:nvPr/>
              </p:nvSpPr>
              <p:spPr>
                <a:xfrm>
                  <a:off x="4856040" y="285444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0" name=""/>
                <p:cNvSpPr/>
                <p:nvPr/>
              </p:nvSpPr>
              <p:spPr>
                <a:xfrm>
                  <a:off x="4856040" y="28940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1" name=""/>
                <p:cNvSpPr/>
                <p:nvPr/>
              </p:nvSpPr>
              <p:spPr>
                <a:xfrm>
                  <a:off x="4856040" y="291456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2" name=""/>
                <p:cNvSpPr/>
                <p:nvPr/>
              </p:nvSpPr>
              <p:spPr>
                <a:xfrm>
                  <a:off x="4856040" y="295272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3" name=""/>
                <p:cNvSpPr/>
                <p:nvPr/>
              </p:nvSpPr>
              <p:spPr>
                <a:xfrm>
                  <a:off x="4856040" y="29732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4" name=""/>
                <p:cNvSpPr/>
                <p:nvPr/>
              </p:nvSpPr>
              <p:spPr>
                <a:xfrm>
                  <a:off x="4856040" y="30132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5" name=""/>
                <p:cNvSpPr/>
                <p:nvPr/>
              </p:nvSpPr>
              <p:spPr>
                <a:xfrm>
                  <a:off x="4856040" y="303228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6" name=""/>
                <p:cNvSpPr/>
                <p:nvPr/>
              </p:nvSpPr>
              <p:spPr>
                <a:xfrm>
                  <a:off x="4856040" y="30718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7" name=""/>
                <p:cNvSpPr/>
                <p:nvPr/>
              </p:nvSpPr>
              <p:spPr>
                <a:xfrm>
                  <a:off x="4856040" y="30909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8" name=""/>
                <p:cNvSpPr/>
                <p:nvPr/>
              </p:nvSpPr>
              <p:spPr>
                <a:xfrm>
                  <a:off x="4856040" y="31305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9" name=""/>
                <p:cNvSpPr/>
                <p:nvPr/>
              </p:nvSpPr>
              <p:spPr>
                <a:xfrm>
                  <a:off x="4856040" y="31496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0" name=""/>
                <p:cNvSpPr/>
                <p:nvPr/>
              </p:nvSpPr>
              <p:spPr>
                <a:xfrm>
                  <a:off x="4856040" y="31892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1" name=""/>
                <p:cNvSpPr/>
                <p:nvPr/>
              </p:nvSpPr>
              <p:spPr>
                <a:xfrm>
                  <a:off x="4856040" y="320976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2" name=""/>
                <p:cNvSpPr/>
                <p:nvPr/>
              </p:nvSpPr>
              <p:spPr>
                <a:xfrm>
                  <a:off x="4856040" y="32497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3" name=""/>
                <p:cNvSpPr/>
                <p:nvPr/>
              </p:nvSpPr>
              <p:spPr>
                <a:xfrm>
                  <a:off x="4856040" y="32688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4" name=""/>
                <p:cNvSpPr/>
                <p:nvPr/>
              </p:nvSpPr>
              <p:spPr>
                <a:xfrm>
                  <a:off x="4856040" y="33084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5" name=""/>
                <p:cNvSpPr/>
                <p:nvPr/>
              </p:nvSpPr>
              <p:spPr>
                <a:xfrm>
                  <a:off x="4856040" y="33274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6" name=""/>
                <p:cNvSpPr/>
                <p:nvPr/>
              </p:nvSpPr>
              <p:spPr>
                <a:xfrm>
                  <a:off x="4856040" y="3367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7" name=""/>
                <p:cNvSpPr/>
                <p:nvPr/>
              </p:nvSpPr>
              <p:spPr>
                <a:xfrm>
                  <a:off x="4856040" y="33861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8" name=""/>
                <p:cNvSpPr/>
                <p:nvPr/>
              </p:nvSpPr>
              <p:spPr>
                <a:xfrm>
                  <a:off x="4856040" y="34257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9" name=""/>
                <p:cNvSpPr/>
                <p:nvPr/>
              </p:nvSpPr>
              <p:spPr>
                <a:xfrm>
                  <a:off x="4856040" y="344664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0" name=""/>
                <p:cNvSpPr/>
                <p:nvPr/>
              </p:nvSpPr>
              <p:spPr>
                <a:xfrm>
                  <a:off x="4856040" y="348444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1" name=""/>
                <p:cNvSpPr/>
                <p:nvPr/>
              </p:nvSpPr>
              <p:spPr>
                <a:xfrm>
                  <a:off x="4856040" y="35053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2" name=""/>
                <p:cNvSpPr/>
                <p:nvPr/>
              </p:nvSpPr>
              <p:spPr>
                <a:xfrm>
                  <a:off x="4856040" y="35449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3" name=""/>
                <p:cNvSpPr/>
                <p:nvPr/>
              </p:nvSpPr>
              <p:spPr>
                <a:xfrm>
                  <a:off x="4856040" y="35640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4" name=""/>
                <p:cNvSpPr/>
                <p:nvPr/>
              </p:nvSpPr>
              <p:spPr>
                <a:xfrm>
                  <a:off x="4856040" y="36036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5" name=""/>
                <p:cNvSpPr/>
                <p:nvPr/>
              </p:nvSpPr>
              <p:spPr>
                <a:xfrm>
                  <a:off x="4856040" y="36226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6" name=""/>
                <p:cNvSpPr/>
                <p:nvPr/>
              </p:nvSpPr>
              <p:spPr>
                <a:xfrm>
                  <a:off x="4856040" y="36622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7" name=""/>
                <p:cNvSpPr/>
                <p:nvPr/>
              </p:nvSpPr>
              <p:spPr>
                <a:xfrm>
                  <a:off x="4856040" y="36831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8" name=""/>
                <p:cNvSpPr/>
                <p:nvPr/>
              </p:nvSpPr>
              <p:spPr>
                <a:xfrm>
                  <a:off x="4856040" y="37209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9" name=""/>
                <p:cNvSpPr/>
                <p:nvPr/>
              </p:nvSpPr>
              <p:spPr>
                <a:xfrm>
                  <a:off x="4856040" y="374184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0" name=""/>
                <p:cNvSpPr/>
                <p:nvPr/>
              </p:nvSpPr>
              <p:spPr>
                <a:xfrm>
                  <a:off x="4856040" y="3781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1" name=""/>
                <p:cNvSpPr/>
                <p:nvPr/>
              </p:nvSpPr>
              <p:spPr>
                <a:xfrm>
                  <a:off x="4856040" y="38005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2" name=""/>
                <p:cNvSpPr/>
                <p:nvPr/>
              </p:nvSpPr>
              <p:spPr>
                <a:xfrm>
                  <a:off x="4856040" y="3840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3" name=""/>
                <p:cNvSpPr/>
                <p:nvPr/>
              </p:nvSpPr>
              <p:spPr>
                <a:xfrm>
                  <a:off x="4856040" y="3859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4" name=""/>
                <p:cNvSpPr/>
                <p:nvPr/>
              </p:nvSpPr>
              <p:spPr>
                <a:xfrm>
                  <a:off x="4856040" y="38988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5" name=""/>
                <p:cNvSpPr/>
                <p:nvPr/>
              </p:nvSpPr>
              <p:spPr>
                <a:xfrm>
                  <a:off x="4856040" y="39178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6" name=""/>
                <p:cNvSpPr/>
                <p:nvPr/>
              </p:nvSpPr>
              <p:spPr>
                <a:xfrm>
                  <a:off x="4856040" y="39574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7" name=""/>
                <p:cNvSpPr/>
                <p:nvPr/>
              </p:nvSpPr>
              <p:spPr>
                <a:xfrm>
                  <a:off x="4856040" y="39783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8" name=""/>
                <p:cNvSpPr/>
                <p:nvPr/>
              </p:nvSpPr>
              <p:spPr>
                <a:xfrm>
                  <a:off x="4856040" y="40179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9" name=""/>
                <p:cNvSpPr/>
                <p:nvPr/>
              </p:nvSpPr>
              <p:spPr>
                <a:xfrm>
                  <a:off x="4856040" y="40370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0" name=""/>
                <p:cNvSpPr/>
                <p:nvPr/>
              </p:nvSpPr>
              <p:spPr>
                <a:xfrm>
                  <a:off x="4856040" y="40766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1" name=""/>
                <p:cNvSpPr/>
                <p:nvPr/>
              </p:nvSpPr>
              <p:spPr>
                <a:xfrm>
                  <a:off x="4856040" y="40957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2" name=""/>
                <p:cNvSpPr/>
                <p:nvPr/>
              </p:nvSpPr>
              <p:spPr>
                <a:xfrm>
                  <a:off x="4856040" y="4135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3" name=""/>
                <p:cNvSpPr/>
                <p:nvPr/>
              </p:nvSpPr>
              <p:spPr>
                <a:xfrm>
                  <a:off x="4856040" y="41544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4" name=""/>
                <p:cNvSpPr/>
                <p:nvPr/>
              </p:nvSpPr>
              <p:spPr>
                <a:xfrm>
                  <a:off x="4856040" y="41940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5" name=""/>
                <p:cNvSpPr/>
                <p:nvPr/>
              </p:nvSpPr>
              <p:spPr>
                <a:xfrm>
                  <a:off x="4856040" y="421488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6" name=""/>
                <p:cNvSpPr/>
                <p:nvPr/>
              </p:nvSpPr>
              <p:spPr>
                <a:xfrm>
                  <a:off x="4856040" y="425304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7" name=""/>
                <p:cNvSpPr/>
                <p:nvPr/>
              </p:nvSpPr>
              <p:spPr>
                <a:xfrm>
                  <a:off x="4856040" y="42735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8" name=""/>
                <p:cNvSpPr/>
                <p:nvPr/>
              </p:nvSpPr>
              <p:spPr>
                <a:xfrm>
                  <a:off x="4856040" y="4313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9" name=""/>
                <p:cNvSpPr/>
                <p:nvPr/>
              </p:nvSpPr>
              <p:spPr>
                <a:xfrm>
                  <a:off x="4856040" y="43322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0" name=""/>
                <p:cNvSpPr/>
                <p:nvPr/>
              </p:nvSpPr>
              <p:spPr>
                <a:xfrm>
                  <a:off x="4856040" y="43718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1" name=""/>
                <p:cNvSpPr/>
                <p:nvPr/>
              </p:nvSpPr>
              <p:spPr>
                <a:xfrm>
                  <a:off x="4856040" y="43909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2" name=""/>
                <p:cNvSpPr/>
                <p:nvPr/>
              </p:nvSpPr>
              <p:spPr>
                <a:xfrm>
                  <a:off x="4856040" y="44308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3" name=""/>
                <p:cNvSpPr/>
                <p:nvPr/>
              </p:nvSpPr>
              <p:spPr>
                <a:xfrm>
                  <a:off x="4856040" y="44514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4" name=""/>
                <p:cNvSpPr/>
                <p:nvPr/>
              </p:nvSpPr>
              <p:spPr>
                <a:xfrm>
                  <a:off x="4856040" y="4489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5" name=""/>
                <p:cNvSpPr/>
                <p:nvPr/>
              </p:nvSpPr>
              <p:spPr>
                <a:xfrm>
                  <a:off x="4856040" y="451008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6" name=""/>
                <p:cNvSpPr/>
                <p:nvPr/>
              </p:nvSpPr>
              <p:spPr>
                <a:xfrm>
                  <a:off x="4856040" y="45496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7" name=""/>
                <p:cNvSpPr/>
                <p:nvPr/>
              </p:nvSpPr>
              <p:spPr>
                <a:xfrm>
                  <a:off x="4856040" y="45687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8" name=""/>
                <p:cNvSpPr/>
                <p:nvPr/>
              </p:nvSpPr>
              <p:spPr>
                <a:xfrm>
                  <a:off x="4856040" y="46083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9" name=""/>
                <p:cNvSpPr/>
                <p:nvPr/>
              </p:nvSpPr>
              <p:spPr>
                <a:xfrm>
                  <a:off x="4856040" y="46274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0" name=""/>
                <p:cNvSpPr/>
                <p:nvPr/>
              </p:nvSpPr>
              <p:spPr>
                <a:xfrm>
                  <a:off x="4856040" y="46674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1" name=""/>
                <p:cNvSpPr/>
                <p:nvPr/>
              </p:nvSpPr>
              <p:spPr>
                <a:xfrm>
                  <a:off x="4856040" y="468648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2" name=""/>
                <p:cNvSpPr/>
                <p:nvPr/>
              </p:nvSpPr>
              <p:spPr>
                <a:xfrm>
                  <a:off x="4856040" y="4726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3" name=""/>
                <p:cNvSpPr/>
                <p:nvPr/>
              </p:nvSpPr>
              <p:spPr>
                <a:xfrm>
                  <a:off x="4856040" y="47466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4" name=""/>
                <p:cNvSpPr/>
                <p:nvPr/>
              </p:nvSpPr>
              <p:spPr>
                <a:xfrm>
                  <a:off x="4856040" y="47862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5" name=""/>
                <p:cNvSpPr/>
                <p:nvPr/>
              </p:nvSpPr>
              <p:spPr>
                <a:xfrm>
                  <a:off x="4856040" y="48052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6" name=""/>
                <p:cNvSpPr/>
                <p:nvPr/>
              </p:nvSpPr>
              <p:spPr>
                <a:xfrm>
                  <a:off x="4856040" y="48448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7" name=""/>
                <p:cNvSpPr/>
                <p:nvPr/>
              </p:nvSpPr>
              <p:spPr>
                <a:xfrm>
                  <a:off x="4856040" y="48639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8" name=""/>
                <p:cNvSpPr/>
                <p:nvPr/>
              </p:nvSpPr>
              <p:spPr>
                <a:xfrm>
                  <a:off x="4856040" y="49039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9" name=""/>
                <p:cNvSpPr/>
                <p:nvPr/>
              </p:nvSpPr>
              <p:spPr>
                <a:xfrm>
                  <a:off x="4856040" y="49230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0" name=""/>
                <p:cNvSpPr/>
                <p:nvPr/>
              </p:nvSpPr>
              <p:spPr>
                <a:xfrm>
                  <a:off x="4856040" y="49626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1" name=""/>
                <p:cNvSpPr/>
                <p:nvPr/>
              </p:nvSpPr>
              <p:spPr>
                <a:xfrm>
                  <a:off x="4856040" y="49831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2" name=""/>
                <p:cNvSpPr/>
                <p:nvPr/>
              </p:nvSpPr>
              <p:spPr>
                <a:xfrm>
                  <a:off x="4856040" y="502128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3" name=""/>
                <p:cNvSpPr/>
                <p:nvPr/>
              </p:nvSpPr>
              <p:spPr>
                <a:xfrm>
                  <a:off x="4856040" y="504180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4" name=""/>
                <p:cNvSpPr/>
                <p:nvPr/>
              </p:nvSpPr>
              <p:spPr>
                <a:xfrm>
                  <a:off x="4856040" y="50817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5" name=""/>
                <p:cNvSpPr/>
                <p:nvPr/>
              </p:nvSpPr>
              <p:spPr>
                <a:xfrm>
                  <a:off x="4856040" y="51004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6" name=""/>
                <p:cNvSpPr/>
                <p:nvPr/>
              </p:nvSpPr>
              <p:spPr>
                <a:xfrm>
                  <a:off x="4856040" y="5140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7" name=""/>
                <p:cNvSpPr/>
                <p:nvPr/>
              </p:nvSpPr>
              <p:spPr>
                <a:xfrm>
                  <a:off x="4856040" y="515952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8" name=""/>
                <p:cNvSpPr/>
                <p:nvPr/>
              </p:nvSpPr>
              <p:spPr>
                <a:xfrm>
                  <a:off x="4856040" y="51991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9" name=""/>
                <p:cNvSpPr/>
                <p:nvPr/>
              </p:nvSpPr>
              <p:spPr>
                <a:xfrm>
                  <a:off x="4856040" y="52196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0" name=""/>
                <p:cNvSpPr/>
                <p:nvPr/>
              </p:nvSpPr>
              <p:spPr>
                <a:xfrm>
                  <a:off x="4856040" y="52578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1" name=""/>
                <p:cNvSpPr/>
                <p:nvPr/>
              </p:nvSpPr>
              <p:spPr>
                <a:xfrm>
                  <a:off x="4856040" y="52783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2" name=""/>
                <p:cNvSpPr/>
                <p:nvPr/>
              </p:nvSpPr>
              <p:spPr>
                <a:xfrm>
                  <a:off x="4856040" y="53182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3" name=""/>
                <p:cNvSpPr/>
                <p:nvPr/>
              </p:nvSpPr>
              <p:spPr>
                <a:xfrm>
                  <a:off x="486108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4" name=""/>
                <p:cNvSpPr/>
                <p:nvPr/>
              </p:nvSpPr>
              <p:spPr>
                <a:xfrm>
                  <a:off x="49006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5" name=""/>
                <p:cNvSpPr/>
                <p:nvPr/>
              </p:nvSpPr>
              <p:spPr>
                <a:xfrm>
                  <a:off x="49197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6" name=""/>
                <p:cNvSpPr/>
                <p:nvPr/>
              </p:nvSpPr>
              <p:spPr>
                <a:xfrm>
                  <a:off x="49593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7" name=""/>
                <p:cNvSpPr/>
                <p:nvPr/>
              </p:nvSpPr>
              <p:spPr>
                <a:xfrm>
                  <a:off x="497988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8" name=""/>
                <p:cNvSpPr/>
                <p:nvPr/>
              </p:nvSpPr>
              <p:spPr>
                <a:xfrm>
                  <a:off x="501804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9" name=""/>
                <p:cNvSpPr/>
                <p:nvPr/>
              </p:nvSpPr>
              <p:spPr>
                <a:xfrm>
                  <a:off x="503856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0" name=""/>
                <p:cNvSpPr/>
                <p:nvPr/>
              </p:nvSpPr>
              <p:spPr>
                <a:xfrm>
                  <a:off x="507852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1" name=""/>
                <p:cNvSpPr/>
                <p:nvPr/>
              </p:nvSpPr>
              <p:spPr>
                <a:xfrm>
                  <a:off x="509760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2" name=""/>
                <p:cNvSpPr/>
                <p:nvPr/>
              </p:nvSpPr>
              <p:spPr>
                <a:xfrm>
                  <a:off x="513720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3" name=""/>
                <p:cNvSpPr/>
                <p:nvPr/>
              </p:nvSpPr>
              <p:spPr>
                <a:xfrm>
                  <a:off x="51562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4" name=""/>
                <p:cNvSpPr/>
                <p:nvPr/>
              </p:nvSpPr>
              <p:spPr>
                <a:xfrm>
                  <a:off x="51958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5" name=""/>
                <p:cNvSpPr/>
                <p:nvPr/>
              </p:nvSpPr>
              <p:spPr>
                <a:xfrm>
                  <a:off x="521640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6" name=""/>
                <p:cNvSpPr/>
                <p:nvPr/>
              </p:nvSpPr>
              <p:spPr>
                <a:xfrm>
                  <a:off x="525456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7" name=""/>
                <p:cNvSpPr/>
                <p:nvPr/>
              </p:nvSpPr>
              <p:spPr>
                <a:xfrm>
                  <a:off x="52754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8" name=""/>
                <p:cNvSpPr/>
                <p:nvPr/>
              </p:nvSpPr>
              <p:spPr>
                <a:xfrm>
                  <a:off x="53150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9" name=""/>
                <p:cNvSpPr/>
                <p:nvPr/>
              </p:nvSpPr>
              <p:spPr>
                <a:xfrm>
                  <a:off x="533412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0" name=""/>
                <p:cNvSpPr/>
                <p:nvPr/>
              </p:nvSpPr>
              <p:spPr>
                <a:xfrm>
                  <a:off x="537372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1" name=""/>
                <p:cNvSpPr/>
                <p:nvPr/>
              </p:nvSpPr>
              <p:spPr>
                <a:xfrm>
                  <a:off x="53928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2" name=""/>
                <p:cNvSpPr/>
                <p:nvPr/>
              </p:nvSpPr>
              <p:spPr>
                <a:xfrm>
                  <a:off x="54324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3" name=""/>
                <p:cNvSpPr/>
                <p:nvPr/>
              </p:nvSpPr>
              <p:spPr>
                <a:xfrm>
                  <a:off x="54514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4" name=""/>
                <p:cNvSpPr/>
                <p:nvPr/>
              </p:nvSpPr>
              <p:spPr>
                <a:xfrm>
                  <a:off x="549108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5" name=""/>
                <p:cNvSpPr/>
                <p:nvPr/>
              </p:nvSpPr>
              <p:spPr>
                <a:xfrm>
                  <a:off x="551196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6" name=""/>
                <p:cNvSpPr/>
                <p:nvPr/>
              </p:nvSpPr>
              <p:spPr>
                <a:xfrm>
                  <a:off x="55515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7" name=""/>
                <p:cNvSpPr/>
                <p:nvPr/>
              </p:nvSpPr>
              <p:spPr>
                <a:xfrm>
                  <a:off x="55706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8" name=""/>
                <p:cNvSpPr/>
                <p:nvPr/>
              </p:nvSpPr>
              <p:spPr>
                <a:xfrm>
                  <a:off x="56102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9" name=""/>
                <p:cNvSpPr/>
                <p:nvPr/>
              </p:nvSpPr>
              <p:spPr>
                <a:xfrm>
                  <a:off x="56293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0" name=""/>
                <p:cNvSpPr/>
                <p:nvPr/>
              </p:nvSpPr>
              <p:spPr>
                <a:xfrm>
                  <a:off x="56689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1" name=""/>
                <p:cNvSpPr/>
                <p:nvPr/>
              </p:nvSpPr>
              <p:spPr>
                <a:xfrm>
                  <a:off x="56880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2" name=""/>
                <p:cNvSpPr/>
                <p:nvPr/>
              </p:nvSpPr>
              <p:spPr>
                <a:xfrm>
                  <a:off x="57276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3" name=""/>
                <p:cNvSpPr/>
                <p:nvPr/>
              </p:nvSpPr>
              <p:spPr>
                <a:xfrm>
                  <a:off x="574848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4" name=""/>
                <p:cNvSpPr/>
                <p:nvPr/>
              </p:nvSpPr>
              <p:spPr>
                <a:xfrm>
                  <a:off x="57880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5" name=""/>
                <p:cNvSpPr/>
                <p:nvPr/>
              </p:nvSpPr>
              <p:spPr>
                <a:xfrm>
                  <a:off x="58071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6" name=""/>
                <p:cNvSpPr/>
                <p:nvPr/>
              </p:nvSpPr>
              <p:spPr>
                <a:xfrm>
                  <a:off x="58467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7" name=""/>
                <p:cNvSpPr/>
                <p:nvPr/>
              </p:nvSpPr>
              <p:spPr>
                <a:xfrm>
                  <a:off x="58658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8" name=""/>
                <p:cNvSpPr/>
                <p:nvPr/>
              </p:nvSpPr>
              <p:spPr>
                <a:xfrm>
                  <a:off x="59054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9" name=""/>
                <p:cNvSpPr/>
                <p:nvPr/>
              </p:nvSpPr>
              <p:spPr>
                <a:xfrm>
                  <a:off x="59245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0" name=""/>
                <p:cNvSpPr/>
                <p:nvPr/>
              </p:nvSpPr>
              <p:spPr>
                <a:xfrm>
                  <a:off x="59641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1" name=""/>
                <p:cNvSpPr/>
                <p:nvPr/>
              </p:nvSpPr>
              <p:spPr>
                <a:xfrm>
                  <a:off x="598500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2" name=""/>
                <p:cNvSpPr/>
                <p:nvPr/>
              </p:nvSpPr>
              <p:spPr>
                <a:xfrm>
                  <a:off x="602280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3" name=""/>
                <p:cNvSpPr/>
                <p:nvPr/>
              </p:nvSpPr>
              <p:spPr>
                <a:xfrm>
                  <a:off x="604368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4" name=""/>
                <p:cNvSpPr/>
                <p:nvPr/>
              </p:nvSpPr>
              <p:spPr>
                <a:xfrm>
                  <a:off x="60832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5" name=""/>
                <p:cNvSpPr/>
                <p:nvPr/>
              </p:nvSpPr>
              <p:spPr>
                <a:xfrm>
                  <a:off x="61023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6" name=""/>
                <p:cNvSpPr/>
                <p:nvPr/>
              </p:nvSpPr>
              <p:spPr>
                <a:xfrm>
                  <a:off x="614196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7" name=""/>
                <p:cNvSpPr/>
                <p:nvPr/>
              </p:nvSpPr>
              <p:spPr>
                <a:xfrm>
                  <a:off x="61610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8" name=""/>
                <p:cNvSpPr/>
                <p:nvPr/>
              </p:nvSpPr>
              <p:spPr>
                <a:xfrm>
                  <a:off x="62006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9" name=""/>
                <p:cNvSpPr/>
                <p:nvPr/>
              </p:nvSpPr>
              <p:spPr>
                <a:xfrm>
                  <a:off x="622152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0" name=""/>
                <p:cNvSpPr/>
                <p:nvPr/>
              </p:nvSpPr>
              <p:spPr>
                <a:xfrm>
                  <a:off x="6259680" y="5332320"/>
                  <a:ext cx="10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1" name=""/>
                <p:cNvSpPr/>
                <p:nvPr/>
              </p:nvSpPr>
              <p:spPr>
                <a:xfrm>
                  <a:off x="628020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2" name=""/>
                <p:cNvSpPr/>
                <p:nvPr/>
              </p:nvSpPr>
              <p:spPr>
                <a:xfrm>
                  <a:off x="63198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3" name=""/>
                <p:cNvSpPr/>
                <p:nvPr/>
              </p:nvSpPr>
              <p:spPr>
                <a:xfrm>
                  <a:off x="63388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4" name=""/>
                <p:cNvSpPr/>
                <p:nvPr/>
              </p:nvSpPr>
              <p:spPr>
                <a:xfrm>
                  <a:off x="63784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5" name=""/>
                <p:cNvSpPr/>
                <p:nvPr/>
              </p:nvSpPr>
              <p:spPr>
                <a:xfrm>
                  <a:off x="63975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6" name=""/>
                <p:cNvSpPr/>
                <p:nvPr/>
              </p:nvSpPr>
              <p:spPr>
                <a:xfrm>
                  <a:off x="643716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7" name=""/>
                <p:cNvSpPr/>
                <p:nvPr/>
              </p:nvSpPr>
              <p:spPr>
                <a:xfrm>
                  <a:off x="64580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8" name=""/>
                <p:cNvSpPr/>
                <p:nvPr/>
              </p:nvSpPr>
              <p:spPr>
                <a:xfrm>
                  <a:off x="6496200" y="5332320"/>
                  <a:ext cx="10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9" name=""/>
                <p:cNvSpPr/>
                <p:nvPr/>
              </p:nvSpPr>
              <p:spPr>
                <a:xfrm>
                  <a:off x="651672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0" name=""/>
                <p:cNvSpPr/>
                <p:nvPr/>
              </p:nvSpPr>
              <p:spPr>
                <a:xfrm>
                  <a:off x="65563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1" name=""/>
                <p:cNvSpPr/>
                <p:nvPr/>
              </p:nvSpPr>
              <p:spPr>
                <a:xfrm>
                  <a:off x="65754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2" name=""/>
                <p:cNvSpPr/>
                <p:nvPr/>
              </p:nvSpPr>
              <p:spPr>
                <a:xfrm>
                  <a:off x="66150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3" name=""/>
                <p:cNvSpPr/>
                <p:nvPr/>
              </p:nvSpPr>
              <p:spPr>
                <a:xfrm>
                  <a:off x="66340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4" name=""/>
                <p:cNvSpPr/>
                <p:nvPr/>
              </p:nvSpPr>
              <p:spPr>
                <a:xfrm>
                  <a:off x="66736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5" name=""/>
                <p:cNvSpPr/>
                <p:nvPr/>
              </p:nvSpPr>
              <p:spPr>
                <a:xfrm>
                  <a:off x="66927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6" name=""/>
                <p:cNvSpPr/>
                <p:nvPr/>
              </p:nvSpPr>
              <p:spPr>
                <a:xfrm>
                  <a:off x="673272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7" name=""/>
                <p:cNvSpPr/>
                <p:nvPr/>
              </p:nvSpPr>
              <p:spPr>
                <a:xfrm>
                  <a:off x="67532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8" name=""/>
                <p:cNvSpPr/>
                <p:nvPr/>
              </p:nvSpPr>
              <p:spPr>
                <a:xfrm>
                  <a:off x="67928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9" name=""/>
                <p:cNvSpPr/>
                <p:nvPr/>
              </p:nvSpPr>
              <p:spPr>
                <a:xfrm>
                  <a:off x="68119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0" name=""/>
                <p:cNvSpPr/>
                <p:nvPr/>
              </p:nvSpPr>
              <p:spPr>
                <a:xfrm>
                  <a:off x="68515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1" name=""/>
                <p:cNvSpPr/>
                <p:nvPr/>
              </p:nvSpPr>
              <p:spPr>
                <a:xfrm>
                  <a:off x="68706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2" name=""/>
                <p:cNvSpPr/>
                <p:nvPr/>
              </p:nvSpPr>
              <p:spPr>
                <a:xfrm>
                  <a:off x="69105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3" name=""/>
                <p:cNvSpPr/>
                <p:nvPr/>
              </p:nvSpPr>
              <p:spPr>
                <a:xfrm>
                  <a:off x="69292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4" name=""/>
                <p:cNvSpPr/>
                <p:nvPr/>
              </p:nvSpPr>
              <p:spPr>
                <a:xfrm>
                  <a:off x="69692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5" name=""/>
                <p:cNvSpPr/>
                <p:nvPr/>
              </p:nvSpPr>
              <p:spPr>
                <a:xfrm>
                  <a:off x="698976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6" name=""/>
                <p:cNvSpPr/>
                <p:nvPr/>
              </p:nvSpPr>
              <p:spPr>
                <a:xfrm>
                  <a:off x="702792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7" name=""/>
                <p:cNvSpPr/>
                <p:nvPr/>
              </p:nvSpPr>
              <p:spPr>
                <a:xfrm>
                  <a:off x="70484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8" name=""/>
                <p:cNvSpPr/>
                <p:nvPr/>
              </p:nvSpPr>
              <p:spPr>
                <a:xfrm>
                  <a:off x="70880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9" name=""/>
                <p:cNvSpPr/>
                <p:nvPr/>
              </p:nvSpPr>
              <p:spPr>
                <a:xfrm>
                  <a:off x="7107120" y="5327640"/>
                  <a:ext cx="25560" cy="1440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3"/>
                      </a:moveTo>
                      <a:lnTo>
                        <a:pt x="0" y="9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9" y="6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0" name=""/>
                <p:cNvSpPr/>
                <p:nvPr/>
              </p:nvSpPr>
              <p:spPr>
                <a:xfrm>
                  <a:off x="7121520" y="53071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1" name=""/>
                <p:cNvSpPr/>
                <p:nvPr/>
              </p:nvSpPr>
              <p:spPr>
                <a:xfrm>
                  <a:off x="7121520" y="526896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2" name=""/>
                <p:cNvSpPr/>
                <p:nvPr/>
              </p:nvSpPr>
              <p:spPr>
                <a:xfrm>
                  <a:off x="7121520" y="5248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3" name=""/>
                <p:cNvSpPr/>
                <p:nvPr/>
              </p:nvSpPr>
              <p:spPr>
                <a:xfrm>
                  <a:off x="7121520" y="52084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4" name=""/>
                <p:cNvSpPr/>
                <p:nvPr/>
              </p:nvSpPr>
              <p:spPr>
                <a:xfrm>
                  <a:off x="7121520" y="51894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5" name=""/>
                <p:cNvSpPr/>
                <p:nvPr/>
              </p:nvSpPr>
              <p:spPr>
                <a:xfrm>
                  <a:off x="7121520" y="51498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6" name=""/>
                <p:cNvSpPr/>
                <p:nvPr/>
              </p:nvSpPr>
              <p:spPr>
                <a:xfrm>
                  <a:off x="7121520" y="51307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7" name=""/>
                <p:cNvSpPr/>
                <p:nvPr/>
              </p:nvSpPr>
              <p:spPr>
                <a:xfrm>
                  <a:off x="7121520" y="509112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8" name=""/>
                <p:cNvSpPr/>
                <p:nvPr/>
              </p:nvSpPr>
              <p:spPr>
                <a:xfrm>
                  <a:off x="7121520" y="5070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9" name=""/>
                <p:cNvSpPr/>
                <p:nvPr/>
              </p:nvSpPr>
              <p:spPr>
                <a:xfrm>
                  <a:off x="7121520" y="503244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60" name=""/>
              <p:cNvSpPr/>
              <p:nvPr/>
            </p:nvSpPr>
            <p:spPr>
              <a:xfrm>
                <a:off x="7121520" y="50115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7121520" y="49719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7121520" y="49528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7121520" y="49132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7121520" y="48942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7121520" y="48546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7121520" y="4835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7121520" y="47959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7121520" y="4775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7121520" y="47354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7121520" y="47163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7121520" y="46767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7121520" y="46576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7121520" y="46180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7121520" y="45990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7121520" y="455940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7121520" y="4538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7121520" y="45007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7121520" y="44798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7121520" y="44402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7121520" y="4421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7121520" y="43815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7121520" y="436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7121520" y="432288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7121520" y="43020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7121520" y="426420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7121520" y="4243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7121520" y="42037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7121520" y="41846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7121520" y="41450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7121520" y="412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7121520" y="408636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7121520" y="4067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7121520" y="402732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7121520" y="40068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7121520" y="39672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7121520" y="39481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7121520" y="39085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7121520" y="38894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7121520" y="384984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7121520" y="38307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7121520" y="379080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7121520" y="377028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7121520" y="373212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7121520" y="37116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7121520" y="367200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7121520" y="36529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7121520" y="361332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7121520" y="3594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7121520" y="355428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7121520" y="35337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7121520" y="349560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7121520" y="34750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7121520" y="343548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7121520" y="34164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7121520" y="33764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7121520" y="33577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7121520" y="33177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7121520" y="32986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7121520" y="325908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7121520" y="32385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7121520" y="319896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7121520" y="31798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7121520" y="31399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7121520" y="3121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7121520" y="30812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7121520" y="3062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7121520" y="30225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7121520" y="3002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7121520" y="296388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7121520" y="29433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7121520" y="29034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7121520" y="2884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7121520" y="28447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7121520" y="28256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7121520" y="27860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7121520" y="2765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7121520" y="27273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7121520" y="27068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7121520" y="26668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7121520" y="26478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7121520" y="26082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7121520" y="25891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7121520" y="25495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7121520" y="25304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7121520" y="249084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7121520" y="24703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7121520" y="24321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7121520" y="24112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7121520" y="23716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7121520" y="23526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7121520" y="23130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7121520" y="22939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7121520" y="22543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7121520" y="22334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7121520" y="219564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7121520" y="21747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7121520" y="21351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7121520" y="21160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7121520" y="20764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7121520" y="20574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7116840" y="202248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3" y="16"/>
                    </a:moveTo>
                    <a:lnTo>
                      <a:pt x="10" y="1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70977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705816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70390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699912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697860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694044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69199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68803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68612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682164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68025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67626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67438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670392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66834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664380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66247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658512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65660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65260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65070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646740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644688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640728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63882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63482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63295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62895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62704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623088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621036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617220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61516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61117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60930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60530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603396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599436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597384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593568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59151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58752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58561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58165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57974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57578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573732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569916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56786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56386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56196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55800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55609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55213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55022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546264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54421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54021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53830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53434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53244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52848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52657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522612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520524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516744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514656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51069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50878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50482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50292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498960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496872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493092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49100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48704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8" name=""/>
            <p:cNvSpPr/>
            <p:nvPr/>
          </p:nvSpPr>
          <p:spPr>
            <a:xfrm>
              <a:off x="5106600" y="206208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modyfikowany 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1201680" y="2505240"/>
              <a:ext cx="132876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1497600" y="254484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1693800" y="279072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3186000" y="2505240"/>
              <a:ext cx="133056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3655440" y="279072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5186520" y="2505240"/>
              <a:ext cx="133020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5638320" y="27907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6" name=""/>
            <p:cNvGrpSpPr/>
            <p:nvPr/>
          </p:nvGrpSpPr>
          <p:grpSpPr>
            <a:xfrm>
              <a:off x="2521080" y="2859120"/>
              <a:ext cx="650880" cy="104760"/>
              <a:chOff x="2521080" y="2859120"/>
              <a:chExt cx="650880" cy="104760"/>
            </a:xfrm>
          </p:grpSpPr>
          <p:sp>
            <p:nvSpPr>
              <p:cNvPr id="8347" name=""/>
              <p:cNvSpPr/>
              <p:nvPr/>
            </p:nvSpPr>
            <p:spPr>
              <a:xfrm>
                <a:off x="2521080" y="2903400"/>
                <a:ext cx="65088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3068640" y="285912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9" name=""/>
            <p:cNvGrpSpPr/>
            <p:nvPr/>
          </p:nvGrpSpPr>
          <p:grpSpPr>
            <a:xfrm>
              <a:off x="4540320" y="2840040"/>
              <a:ext cx="646200" cy="103320"/>
              <a:chOff x="4540320" y="2840040"/>
              <a:chExt cx="646200" cy="103320"/>
            </a:xfrm>
          </p:grpSpPr>
          <p:sp>
            <p:nvSpPr>
              <p:cNvPr id="8350" name=""/>
              <p:cNvSpPr/>
              <p:nvPr/>
            </p:nvSpPr>
            <p:spPr>
              <a:xfrm>
                <a:off x="4540320" y="2889360"/>
                <a:ext cx="64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5083200" y="284004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2" name=""/>
            <p:cNvGrpSpPr/>
            <p:nvPr/>
          </p:nvGrpSpPr>
          <p:grpSpPr>
            <a:xfrm>
              <a:off x="536400" y="2859120"/>
              <a:ext cx="649440" cy="104760"/>
              <a:chOff x="536400" y="2859120"/>
              <a:chExt cx="649440" cy="104760"/>
            </a:xfrm>
          </p:grpSpPr>
          <p:sp>
            <p:nvSpPr>
              <p:cNvPr id="8353" name=""/>
              <p:cNvSpPr/>
              <p:nvPr/>
            </p:nvSpPr>
            <p:spPr>
              <a:xfrm>
                <a:off x="536400" y="2903400"/>
                <a:ext cx="6494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1082520" y="285912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5" name=""/>
            <p:cNvGrpSpPr/>
            <p:nvPr/>
          </p:nvGrpSpPr>
          <p:grpSpPr>
            <a:xfrm>
              <a:off x="1797120" y="3273480"/>
              <a:ext cx="102960" cy="1187280"/>
              <a:chOff x="1797120" y="3273480"/>
              <a:chExt cx="102960" cy="1187280"/>
            </a:xfrm>
          </p:grpSpPr>
          <p:sp>
            <p:nvSpPr>
              <p:cNvPr id="8356" name=""/>
              <p:cNvSpPr/>
              <p:nvPr/>
            </p:nvSpPr>
            <p:spPr>
              <a:xfrm flipV="1">
                <a:off x="1846440" y="3273480"/>
                <a:ext cx="144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1797120" y="327348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8" name=""/>
            <p:cNvSpPr/>
            <p:nvPr/>
          </p:nvSpPr>
          <p:spPr>
            <a:xfrm>
              <a:off x="5915160" y="4829040"/>
              <a:ext cx="4680" cy="73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1860480" y="4460760"/>
              <a:ext cx="3340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 flipV="1">
              <a:off x="6786720" y="2903400"/>
              <a:ext cx="144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1" name=""/>
            <p:cNvGrpSpPr/>
            <p:nvPr/>
          </p:nvGrpSpPr>
          <p:grpSpPr>
            <a:xfrm>
              <a:off x="6531120" y="2840040"/>
              <a:ext cx="1512720" cy="103320"/>
              <a:chOff x="6531120" y="2840040"/>
              <a:chExt cx="1512720" cy="103320"/>
            </a:xfrm>
          </p:grpSpPr>
          <p:sp>
            <p:nvSpPr>
              <p:cNvPr id="8362" name=""/>
              <p:cNvSpPr/>
              <p:nvPr/>
            </p:nvSpPr>
            <p:spPr>
              <a:xfrm>
                <a:off x="6531120" y="2889360"/>
                <a:ext cx="1512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7940520" y="284004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4" name=""/>
            <p:cNvSpPr/>
            <p:nvPr/>
          </p:nvSpPr>
          <p:spPr>
            <a:xfrm>
              <a:off x="6757920" y="287028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501480" y="2874960"/>
              <a:ext cx="6372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5896080" y="5529240"/>
              <a:ext cx="5868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318960" y="2505240"/>
              <a:ext cx="344520" cy="33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407880" y="25401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465480" y="2638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3314880" y="45687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3373200" y="4667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3441240" y="456876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3639600" y="4667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3708360" y="45687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3783960" y="4549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3876840" y="456876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3988080" y="46674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3574800" y="48150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3289320" y="50706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3347640" y="516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3417840" y="50706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3667680" y="51688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3782880" y="507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3858480" y="50515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3949560" y="507060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4061880" y="516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5200560" y="4060800"/>
              <a:ext cx="1330560" cy="758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5482440" y="434664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ieszac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89" name=""/>
            <p:cNvGrpSpPr/>
            <p:nvPr/>
          </p:nvGrpSpPr>
          <p:grpSpPr>
            <a:xfrm>
              <a:off x="6540480" y="4406760"/>
              <a:ext cx="262080" cy="103320"/>
              <a:chOff x="6540480" y="4406760"/>
              <a:chExt cx="262080" cy="103320"/>
            </a:xfrm>
          </p:grpSpPr>
          <p:sp>
            <p:nvSpPr>
              <p:cNvPr id="8390" name=""/>
              <p:cNvSpPr/>
              <p:nvPr/>
            </p:nvSpPr>
            <p:spPr>
              <a:xfrm>
                <a:off x="6540480" y="4460760"/>
                <a:ext cx="262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6540480" y="440676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0"/>
                    </a:moveTo>
                    <a:lnTo>
                      <a:pt x="0" y="34"/>
                    </a:lnTo>
                    <a:lnTo>
                      <a:pt x="65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2" name=""/>
            <p:cNvSpPr/>
            <p:nvPr/>
          </p:nvSpPr>
          <p:spPr>
            <a:xfrm>
              <a:off x="1998720" y="41101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2057040" y="4210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2126880" y="411012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2323080" y="42102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7373880" y="3076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7432200" y="317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7500600" y="307656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7696800" y="3174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7812000" y="3076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7887600" y="30574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2" name=""/>
            <p:cNvSpPr/>
            <p:nvPr/>
          </p:nvSpPr>
          <p:spPr>
            <a:xfrm>
              <a:off x="7978680" y="307656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8092080" y="3174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4" name=""/>
            <p:cNvSpPr/>
            <p:nvPr/>
          </p:nvSpPr>
          <p:spPr>
            <a:xfrm>
              <a:off x="7654680" y="33228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5" name=""/>
            <p:cNvSpPr/>
            <p:nvPr/>
          </p:nvSpPr>
          <p:spPr>
            <a:xfrm>
              <a:off x="7343640" y="3578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7402320" y="367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7" name=""/>
            <p:cNvSpPr/>
            <p:nvPr/>
          </p:nvSpPr>
          <p:spPr>
            <a:xfrm>
              <a:off x="7472520" y="35784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7722000" y="367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7835760" y="3578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7913160" y="3559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8004240" y="357840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8115840" y="367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3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4" name=""/>
          <p:cNvSpPr/>
          <p:nvPr/>
        </p:nvSpPr>
        <p:spPr>
          <a:xfrm>
            <a:off x="1613880" y="108900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tor częstotliwości z układem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5" name=""/>
          <p:cNvGrpSpPr/>
          <p:nvPr/>
        </p:nvGrpSpPr>
        <p:grpSpPr>
          <a:xfrm>
            <a:off x="777960" y="2490840"/>
            <a:ext cx="6643440" cy="1832040"/>
            <a:chOff x="777960" y="2490840"/>
            <a:chExt cx="6643440" cy="1832040"/>
          </a:xfrm>
        </p:grpSpPr>
        <p:sp>
          <p:nvSpPr>
            <p:cNvPr id="8416" name=""/>
            <p:cNvSpPr/>
            <p:nvPr/>
          </p:nvSpPr>
          <p:spPr>
            <a:xfrm>
              <a:off x="1604880" y="3165480"/>
              <a:ext cx="137160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1908720" y="320508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2112840" y="34592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365112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4133160" y="3459240"/>
              <a:ext cx="395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1" name=""/>
            <p:cNvSpPr/>
            <p:nvPr/>
          </p:nvSpPr>
          <p:spPr>
            <a:xfrm>
              <a:off x="571176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2" name=""/>
            <p:cNvSpPr/>
            <p:nvPr/>
          </p:nvSpPr>
          <p:spPr>
            <a:xfrm>
              <a:off x="6176880" y="3459240"/>
              <a:ext cx="43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3" name=""/>
            <p:cNvGrpSpPr/>
            <p:nvPr/>
          </p:nvGrpSpPr>
          <p:grpSpPr>
            <a:xfrm>
              <a:off x="2965320" y="3529080"/>
              <a:ext cx="669960" cy="108000"/>
              <a:chOff x="2965320" y="3529080"/>
              <a:chExt cx="669960" cy="108000"/>
            </a:xfrm>
          </p:grpSpPr>
          <p:sp>
            <p:nvSpPr>
              <p:cNvPr id="8424" name=""/>
              <p:cNvSpPr/>
              <p:nvPr/>
            </p:nvSpPr>
            <p:spPr>
              <a:xfrm>
                <a:off x="296532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3529080" y="35290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6" name=""/>
            <p:cNvGrpSpPr/>
            <p:nvPr/>
          </p:nvGrpSpPr>
          <p:grpSpPr>
            <a:xfrm>
              <a:off x="5046840" y="3510000"/>
              <a:ext cx="664920" cy="106200"/>
              <a:chOff x="5046840" y="3510000"/>
              <a:chExt cx="664920" cy="106200"/>
            </a:xfrm>
          </p:grpSpPr>
          <p:sp>
            <p:nvSpPr>
              <p:cNvPr id="8427" name=""/>
              <p:cNvSpPr/>
              <p:nvPr/>
            </p:nvSpPr>
            <p:spPr>
              <a:xfrm>
                <a:off x="5046840" y="3560760"/>
                <a:ext cx="66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5605560" y="351000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9" name=""/>
            <p:cNvGrpSpPr/>
            <p:nvPr/>
          </p:nvGrpSpPr>
          <p:grpSpPr>
            <a:xfrm>
              <a:off x="920880" y="3529080"/>
              <a:ext cx="669960" cy="108000"/>
              <a:chOff x="920880" y="3529080"/>
              <a:chExt cx="669960" cy="108000"/>
            </a:xfrm>
          </p:grpSpPr>
          <p:sp>
            <p:nvSpPr>
              <p:cNvPr id="8430" name=""/>
              <p:cNvSpPr/>
              <p:nvPr/>
            </p:nvSpPr>
            <p:spPr>
              <a:xfrm>
                <a:off x="92088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1484280" y="3529080"/>
                <a:ext cx="10656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2" name=""/>
            <p:cNvGrpSpPr/>
            <p:nvPr/>
          </p:nvGrpSpPr>
          <p:grpSpPr>
            <a:xfrm>
              <a:off x="2219400" y="3956040"/>
              <a:ext cx="106200" cy="365040"/>
              <a:chOff x="2219400" y="3956040"/>
              <a:chExt cx="106200" cy="365040"/>
            </a:xfrm>
          </p:grpSpPr>
          <p:sp>
            <p:nvSpPr>
              <p:cNvPr id="8433" name=""/>
              <p:cNvSpPr/>
              <p:nvPr/>
            </p:nvSpPr>
            <p:spPr>
              <a:xfrm flipV="1">
                <a:off x="2270160" y="3956040"/>
                <a:ext cx="144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2219400" y="395604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5" name=""/>
            <p:cNvSpPr/>
            <p:nvPr/>
          </p:nvSpPr>
          <p:spPr>
            <a:xfrm flipV="1">
              <a:off x="5345280" y="283068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6" name=""/>
            <p:cNvSpPr/>
            <p:nvPr/>
          </p:nvSpPr>
          <p:spPr>
            <a:xfrm>
              <a:off x="5361120" y="2851200"/>
              <a:ext cx="2030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2286000" y="4321080"/>
              <a:ext cx="508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8" name=""/>
            <p:cNvSpPr/>
            <p:nvPr/>
          </p:nvSpPr>
          <p:spPr>
            <a:xfrm flipV="1">
              <a:off x="7361280" y="357516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7091280" y="3591000"/>
              <a:ext cx="270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0" name=""/>
            <p:cNvSpPr/>
            <p:nvPr/>
          </p:nvSpPr>
          <p:spPr>
            <a:xfrm>
              <a:off x="5315040" y="3529080"/>
              <a:ext cx="712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1" name=""/>
            <p:cNvSpPr/>
            <p:nvPr/>
          </p:nvSpPr>
          <p:spPr>
            <a:xfrm>
              <a:off x="884160" y="3544920"/>
              <a:ext cx="666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7354800" y="281448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777960" y="32004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4" name=""/>
            <p:cNvSpPr/>
            <p:nvPr/>
          </p:nvSpPr>
          <p:spPr>
            <a:xfrm>
              <a:off x="838800" y="3301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884160" y="320040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6837120" y="2490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6943320" y="2592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7015320" y="249084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9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0" name=""/>
          <p:cNvSpPr/>
          <p:nvPr/>
        </p:nvSpPr>
        <p:spPr>
          <a:xfrm>
            <a:off x="2428200" y="18651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dulator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1" name=""/>
          <p:cNvGrpSpPr/>
          <p:nvPr/>
        </p:nvGrpSpPr>
        <p:grpSpPr>
          <a:xfrm>
            <a:off x="1670760" y="1590840"/>
            <a:ext cx="5770800" cy="4736880"/>
            <a:chOff x="1670760" y="1590840"/>
            <a:chExt cx="5770800" cy="4736880"/>
          </a:xfrm>
        </p:grpSpPr>
        <p:sp>
          <p:nvSpPr>
            <p:cNvPr id="8452" name=""/>
            <p:cNvSpPr/>
            <p:nvPr/>
          </p:nvSpPr>
          <p:spPr>
            <a:xfrm>
              <a:off x="630864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621972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 flipH="1" flipV="1">
              <a:off x="6116400" y="4522320"/>
              <a:ext cx="90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6140520" y="4079880"/>
              <a:ext cx="263520" cy="298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6" name=""/>
            <p:cNvSpPr/>
            <p:nvPr/>
          </p:nvSpPr>
          <p:spPr>
            <a:xfrm>
              <a:off x="6215040" y="411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7" name=""/>
            <p:cNvSpPr/>
            <p:nvPr/>
          </p:nvSpPr>
          <p:spPr>
            <a:xfrm flipH="1">
              <a:off x="6300360" y="4525920"/>
              <a:ext cx="8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2943360" y="5362560"/>
              <a:ext cx="139680" cy="3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3008160" y="5219640"/>
              <a:ext cx="5040" cy="15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3008160" y="5722920"/>
              <a:ext cx="504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3193200" y="54738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4476600" y="5904000"/>
              <a:ext cx="311400" cy="287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4476600" y="5751360"/>
              <a:ext cx="311400" cy="28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4" name=""/>
            <p:cNvGrpSpPr/>
            <p:nvPr/>
          </p:nvGrpSpPr>
          <p:grpSpPr>
            <a:xfrm>
              <a:off x="4510080" y="5899320"/>
              <a:ext cx="122400" cy="58680"/>
              <a:chOff x="4510080" y="5899320"/>
              <a:chExt cx="122400" cy="58680"/>
            </a:xfrm>
          </p:grpSpPr>
          <p:sp>
            <p:nvSpPr>
              <p:cNvPr id="8465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  <a:lnTo>
                      <a:pt x="77" y="37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7" name=""/>
            <p:cNvGrpSpPr/>
            <p:nvPr/>
          </p:nvGrpSpPr>
          <p:grpSpPr>
            <a:xfrm>
              <a:off x="4591080" y="6178680"/>
              <a:ext cx="85680" cy="134640"/>
              <a:chOff x="4591080" y="6178680"/>
              <a:chExt cx="85680" cy="134640"/>
            </a:xfrm>
          </p:grpSpPr>
          <p:sp>
            <p:nvSpPr>
              <p:cNvPr id="8468" name=""/>
              <p:cNvSpPr/>
              <p:nvPr/>
            </p:nvSpPr>
            <p:spPr>
              <a:xfrm flipH="1" flipV="1">
                <a:off x="4632480" y="6178680"/>
                <a:ext cx="7920" cy="134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4591080" y="62276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3"/>
                    </a:moveTo>
                    <a:lnTo>
                      <a:pt x="31" y="54"/>
                    </a:lnTo>
                    <a:lnTo>
                      <a:pt x="54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0" name=""/>
            <p:cNvSpPr/>
            <p:nvPr/>
          </p:nvSpPr>
          <p:spPr>
            <a:xfrm flipV="1">
              <a:off x="4632480" y="5572080"/>
              <a:ext cx="144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1" name=""/>
            <p:cNvGrpSpPr/>
            <p:nvPr/>
          </p:nvGrpSpPr>
          <p:grpSpPr>
            <a:xfrm>
              <a:off x="4632480" y="5899320"/>
              <a:ext cx="123840" cy="58680"/>
              <a:chOff x="4632480" y="5899320"/>
              <a:chExt cx="123840" cy="58680"/>
            </a:xfrm>
          </p:grpSpPr>
          <p:sp>
            <p:nvSpPr>
              <p:cNvPr id="8472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4" name=""/>
            <p:cNvSpPr/>
            <p:nvPr/>
          </p:nvSpPr>
          <p:spPr>
            <a:xfrm flipV="1">
              <a:off x="5772240" y="5219280"/>
              <a:ext cx="144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3922560" y="346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2143080" y="298944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2057400" y="298944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8" name=""/>
            <p:cNvSpPr/>
            <p:nvPr/>
          </p:nvSpPr>
          <p:spPr>
            <a:xfrm flipH="1">
              <a:off x="2139480" y="311148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9" name=""/>
            <p:cNvSpPr/>
            <p:nvPr/>
          </p:nvSpPr>
          <p:spPr>
            <a:xfrm flipH="1">
              <a:off x="1810800" y="3108240"/>
              <a:ext cx="233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1925280" y="2709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2049120" y="2916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2" name=""/>
            <p:cNvSpPr/>
            <p:nvPr/>
          </p:nvSpPr>
          <p:spPr>
            <a:xfrm flipV="1">
              <a:off x="3710160" y="450180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3" name=""/>
            <p:cNvSpPr/>
            <p:nvPr/>
          </p:nvSpPr>
          <p:spPr>
            <a:xfrm flipV="1">
              <a:off x="3619440" y="450180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4" name=""/>
            <p:cNvSpPr/>
            <p:nvPr/>
          </p:nvSpPr>
          <p:spPr>
            <a:xfrm flipH="1">
              <a:off x="3701520" y="462456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5" name=""/>
            <p:cNvSpPr/>
            <p:nvPr/>
          </p:nvSpPr>
          <p:spPr>
            <a:xfrm flipH="1">
              <a:off x="3373560" y="4624560"/>
              <a:ext cx="23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484200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493236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4611600" y="4616280"/>
              <a:ext cx="238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4943520" y="4608360"/>
              <a:ext cx="3366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4836960" y="4202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5927760" y="2136600"/>
              <a:ext cx="139680" cy="365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5997600" y="1992240"/>
              <a:ext cx="1440" cy="157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5997600" y="2494080"/>
              <a:ext cx="144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6111720" y="2209680"/>
              <a:ext cx="300240" cy="266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6139080" y="2247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6222960" y="24526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5826240" y="1849320"/>
              <a:ext cx="36828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8" name=""/>
            <p:cNvSpPr/>
            <p:nvPr/>
          </p:nvSpPr>
          <p:spPr>
            <a:xfrm flipH="1">
              <a:off x="6178320" y="1914480"/>
              <a:ext cx="1508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9" name=""/>
            <p:cNvSpPr/>
            <p:nvPr/>
          </p:nvSpPr>
          <p:spPr>
            <a:xfrm flipH="1">
              <a:off x="3779640" y="1914480"/>
              <a:ext cx="2049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0" name=""/>
            <p:cNvSpPr/>
            <p:nvPr/>
          </p:nvSpPr>
          <p:spPr>
            <a:xfrm>
              <a:off x="5882040" y="159084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4106880" y="5497560"/>
              <a:ext cx="36972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2" name=""/>
            <p:cNvSpPr/>
            <p:nvPr/>
          </p:nvSpPr>
          <p:spPr>
            <a:xfrm flipH="1">
              <a:off x="4460400" y="5567400"/>
              <a:ext cx="150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3" name=""/>
            <p:cNvSpPr/>
            <p:nvPr/>
          </p:nvSpPr>
          <p:spPr>
            <a:xfrm flipH="1">
              <a:off x="3930120" y="5567400"/>
              <a:ext cx="18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4" name=""/>
            <p:cNvSpPr/>
            <p:nvPr/>
          </p:nvSpPr>
          <p:spPr>
            <a:xfrm>
              <a:off x="4137120" y="5153040"/>
              <a:ext cx="261720" cy="29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418068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4106880" y="4543560"/>
              <a:ext cx="36972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7" name=""/>
            <p:cNvSpPr/>
            <p:nvPr/>
          </p:nvSpPr>
          <p:spPr>
            <a:xfrm flipH="1">
              <a:off x="4460400" y="4608360"/>
              <a:ext cx="1508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 flipH="1">
              <a:off x="3930120" y="4608360"/>
              <a:ext cx="18108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4181040" y="4230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4287240" y="431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4764240" y="5497560"/>
              <a:ext cx="36504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 flipH="1">
              <a:off x="5111640" y="556740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 flipH="1">
              <a:off x="4587840" y="5567400"/>
              <a:ext cx="179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83336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5214960" y="5006880"/>
              <a:ext cx="41436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5497560" y="5095800"/>
              <a:ext cx="144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7" name=""/>
            <p:cNvSpPr/>
            <p:nvPr/>
          </p:nvSpPr>
          <p:spPr>
            <a:xfrm flipH="1" flipV="1">
              <a:off x="527976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8" name=""/>
            <p:cNvGrpSpPr/>
            <p:nvPr/>
          </p:nvGrpSpPr>
          <p:grpSpPr>
            <a:xfrm>
              <a:off x="5354640" y="5243400"/>
              <a:ext cx="130320" cy="87480"/>
              <a:chOff x="5354640" y="5243400"/>
              <a:chExt cx="130320" cy="87480"/>
            </a:xfrm>
          </p:grpSpPr>
          <p:sp>
            <p:nvSpPr>
              <p:cNvPr id="8519" name=""/>
              <p:cNvSpPr/>
              <p:nvPr/>
            </p:nvSpPr>
            <p:spPr>
              <a:xfrm flipH="1">
                <a:off x="5354640" y="5264280"/>
                <a:ext cx="13032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5354640" y="52434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64" h="55">
                    <a:moveTo>
                      <a:pt x="36" y="0"/>
                    </a:moveTo>
                    <a:lnTo>
                      <a:pt x="0" y="55"/>
                    </a:lnTo>
                    <a:lnTo>
                      <a:pt x="64" y="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1" name=""/>
            <p:cNvSpPr/>
            <p:nvPr/>
          </p:nvSpPr>
          <p:spPr>
            <a:xfrm flipH="1">
              <a:off x="528012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5497560" y="5219640"/>
              <a:ext cx="127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5280120" y="5367240"/>
              <a:ext cx="1440" cy="204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4" name=""/>
            <p:cNvSpPr/>
            <p:nvPr/>
          </p:nvSpPr>
          <p:spPr>
            <a:xfrm flipV="1">
              <a:off x="5276880" y="3111120"/>
              <a:ext cx="3240" cy="194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5" name=""/>
            <p:cNvSpPr/>
            <p:nvPr/>
          </p:nvSpPr>
          <p:spPr>
            <a:xfrm flipH="1">
              <a:off x="5619240" y="5219640"/>
              <a:ext cx="1479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6" name=""/>
            <p:cNvSpPr/>
            <p:nvPr/>
          </p:nvSpPr>
          <p:spPr>
            <a:xfrm>
              <a:off x="3598920" y="5006880"/>
              <a:ext cx="41904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3726000" y="5095800"/>
              <a:ext cx="468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8" name=""/>
            <p:cNvSpPr/>
            <p:nvPr/>
          </p:nvSpPr>
          <p:spPr>
            <a:xfrm flipV="1">
              <a:off x="374328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9" name=""/>
            <p:cNvGrpSpPr/>
            <p:nvPr/>
          </p:nvGrpSpPr>
          <p:grpSpPr>
            <a:xfrm>
              <a:off x="3743280" y="5248440"/>
              <a:ext cx="127080" cy="85680"/>
              <a:chOff x="3743280" y="5248440"/>
              <a:chExt cx="127080" cy="85680"/>
            </a:xfrm>
          </p:grpSpPr>
          <p:sp>
            <p:nvSpPr>
              <p:cNvPr id="8530" name=""/>
              <p:cNvSpPr/>
              <p:nvPr/>
            </p:nvSpPr>
            <p:spPr>
              <a:xfrm>
                <a:off x="3743280" y="5264280"/>
                <a:ext cx="12708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3767040" y="5248440"/>
                <a:ext cx="103320" cy="85680"/>
              </a:xfrm>
              <a:custGeom>
                <a:avLst/>
                <a:gdLst/>
                <a:ahLst/>
                <a:rect l="l" t="t" r="r" b="b"/>
                <a:pathLst>
                  <a:path w="65" h="54">
                    <a:moveTo>
                      <a:pt x="0" y="54"/>
                    </a:moveTo>
                    <a:lnTo>
                      <a:pt x="65" y="52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2" name=""/>
            <p:cNvSpPr/>
            <p:nvPr/>
          </p:nvSpPr>
          <p:spPr>
            <a:xfrm>
              <a:off x="387036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3" name=""/>
            <p:cNvSpPr/>
            <p:nvPr/>
          </p:nvSpPr>
          <p:spPr>
            <a:xfrm flipH="1">
              <a:off x="3598920" y="5219640"/>
              <a:ext cx="131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3948120" y="5367240"/>
              <a:ext cx="1440" cy="217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5" name=""/>
            <p:cNvSpPr/>
            <p:nvPr/>
          </p:nvSpPr>
          <p:spPr>
            <a:xfrm flipV="1">
              <a:off x="3948120" y="3497040"/>
              <a:ext cx="1440" cy="155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2000160" y="5219640"/>
              <a:ext cx="160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 flipV="1">
              <a:off x="5616720" y="448956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 flipV="1">
              <a:off x="5526000" y="448956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9" name=""/>
            <p:cNvSpPr/>
            <p:nvPr/>
          </p:nvSpPr>
          <p:spPr>
            <a:xfrm flipH="1">
              <a:off x="5611680" y="4608360"/>
              <a:ext cx="2304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0" name=""/>
            <p:cNvSpPr/>
            <p:nvPr/>
          </p:nvSpPr>
          <p:spPr>
            <a:xfrm flipH="1">
              <a:off x="5284440" y="461340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5256360" y="4584600"/>
              <a:ext cx="5220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3914640" y="4595760"/>
              <a:ext cx="5724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4608360" y="5546880"/>
              <a:ext cx="5724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4" name=""/>
            <p:cNvGrpSpPr/>
            <p:nvPr/>
          </p:nvGrpSpPr>
          <p:grpSpPr>
            <a:xfrm>
              <a:off x="3813120" y="3456000"/>
              <a:ext cx="1630440" cy="87480"/>
              <a:chOff x="3813120" y="3456000"/>
              <a:chExt cx="1630440" cy="87480"/>
            </a:xfrm>
          </p:grpSpPr>
          <p:sp>
            <p:nvSpPr>
              <p:cNvPr id="8545" name=""/>
              <p:cNvSpPr/>
              <p:nvPr/>
            </p:nvSpPr>
            <p:spPr>
              <a:xfrm>
                <a:off x="3813120" y="3497400"/>
                <a:ext cx="163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5357880" y="345600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7" name=""/>
            <p:cNvSpPr/>
            <p:nvPr/>
          </p:nvSpPr>
          <p:spPr>
            <a:xfrm>
              <a:off x="2741760" y="2984400"/>
              <a:ext cx="105408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2962440" y="30178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3125880" y="32227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0" name=""/>
            <p:cNvGrpSpPr/>
            <p:nvPr/>
          </p:nvGrpSpPr>
          <p:grpSpPr>
            <a:xfrm>
              <a:off x="3824280" y="3071880"/>
              <a:ext cx="1636560" cy="85680"/>
              <a:chOff x="3824280" y="3071880"/>
              <a:chExt cx="1636560" cy="85680"/>
            </a:xfrm>
          </p:grpSpPr>
          <p:sp>
            <p:nvSpPr>
              <p:cNvPr id="8551" name=""/>
              <p:cNvSpPr/>
              <p:nvPr/>
            </p:nvSpPr>
            <p:spPr>
              <a:xfrm>
                <a:off x="3824280" y="3111480"/>
                <a:ext cx="163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5375160" y="30718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54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3" name=""/>
            <p:cNvSpPr/>
            <p:nvPr/>
          </p:nvSpPr>
          <p:spPr>
            <a:xfrm>
              <a:off x="3746520" y="1895400"/>
              <a:ext cx="57240" cy="478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5246640" y="3087720"/>
              <a:ext cx="58680" cy="493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5" name=""/>
            <p:cNvSpPr/>
            <p:nvPr/>
          </p:nvSpPr>
          <p:spPr>
            <a:xfrm flipV="1">
              <a:off x="6124680" y="3592440"/>
              <a:ext cx="1440" cy="93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6" name=""/>
            <p:cNvSpPr/>
            <p:nvPr/>
          </p:nvSpPr>
          <p:spPr>
            <a:xfrm flipV="1">
              <a:off x="6378480" y="3582720"/>
              <a:ext cx="4680" cy="9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7" name=""/>
            <p:cNvGrpSpPr/>
            <p:nvPr/>
          </p:nvGrpSpPr>
          <p:grpSpPr>
            <a:xfrm>
              <a:off x="6526080" y="3160800"/>
              <a:ext cx="623880" cy="87120"/>
              <a:chOff x="6526080" y="3160800"/>
              <a:chExt cx="623880" cy="87120"/>
            </a:xfrm>
          </p:grpSpPr>
          <p:sp>
            <p:nvSpPr>
              <p:cNvPr id="8558" name=""/>
              <p:cNvSpPr/>
              <p:nvPr/>
            </p:nvSpPr>
            <p:spPr>
              <a:xfrm>
                <a:off x="6526080" y="3201840"/>
                <a:ext cx="623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7064280" y="31608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0" name=""/>
            <p:cNvGrpSpPr/>
            <p:nvPr/>
          </p:nvGrpSpPr>
          <p:grpSpPr>
            <a:xfrm>
              <a:off x="2381400" y="3071880"/>
              <a:ext cx="349200" cy="85680"/>
              <a:chOff x="2381400" y="3071880"/>
              <a:chExt cx="349200" cy="85680"/>
            </a:xfrm>
          </p:grpSpPr>
          <p:sp>
            <p:nvSpPr>
              <p:cNvPr id="8561" name=""/>
              <p:cNvSpPr/>
              <p:nvPr/>
            </p:nvSpPr>
            <p:spPr>
              <a:xfrm>
                <a:off x="2381400" y="3111480"/>
                <a:ext cx="349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2643120" y="307188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3" name=""/>
            <p:cNvGrpSpPr/>
            <p:nvPr/>
          </p:nvGrpSpPr>
          <p:grpSpPr>
            <a:xfrm>
              <a:off x="2381400" y="3444840"/>
              <a:ext cx="349200" cy="85680"/>
              <a:chOff x="2381400" y="3444840"/>
              <a:chExt cx="349200" cy="85680"/>
            </a:xfrm>
          </p:grpSpPr>
          <p:sp>
            <p:nvSpPr>
              <p:cNvPr id="8564" name=""/>
              <p:cNvSpPr/>
              <p:nvPr/>
            </p:nvSpPr>
            <p:spPr>
              <a:xfrm>
                <a:off x="2381400" y="3481560"/>
                <a:ext cx="3492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2643120" y="34448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6" name=""/>
            <p:cNvSpPr/>
            <p:nvPr/>
          </p:nvSpPr>
          <p:spPr>
            <a:xfrm>
              <a:off x="2266920" y="3701880"/>
              <a:ext cx="24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2266920" y="3789360"/>
              <a:ext cx="2412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2389320" y="3476520"/>
              <a:ext cx="1440" cy="23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2386080" y="3805200"/>
              <a:ext cx="3240" cy="228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1780920" y="365292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1" name=""/>
            <p:cNvSpPr/>
            <p:nvPr/>
          </p:nvSpPr>
          <p:spPr>
            <a:xfrm flipV="1">
              <a:off x="6002280" y="2652480"/>
              <a:ext cx="180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2" name=""/>
            <p:cNvSpPr/>
            <p:nvPr/>
          </p:nvSpPr>
          <p:spPr>
            <a:xfrm flipV="1">
              <a:off x="4471920" y="1918800"/>
              <a:ext cx="1800" cy="77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3" name=""/>
            <p:cNvSpPr/>
            <p:nvPr/>
          </p:nvSpPr>
          <p:spPr>
            <a:xfrm flipV="1">
              <a:off x="3782880" y="2369880"/>
              <a:ext cx="504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4440240" y="1895400"/>
              <a:ext cx="57240" cy="478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2979720" y="5186520"/>
              <a:ext cx="5400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2308320" y="4033800"/>
              <a:ext cx="16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5862600" y="45259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3390840" y="45385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5689440" y="5518080"/>
              <a:ext cx="165240" cy="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2935440" y="5904000"/>
              <a:ext cx="168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6100920" y="3895560"/>
              <a:ext cx="522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6354720" y="389556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1779480" y="308772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1979640" y="5186520"/>
              <a:ext cx="572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2529000" y="308772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5246640" y="389556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3919680" y="389880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5964120" y="266544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6645240" y="3178080"/>
              <a:ext cx="540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2529000" y="3456000"/>
              <a:ext cx="56880" cy="540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375912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444348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701880" y="2382840"/>
              <a:ext cx="155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4751280" y="6326280"/>
              <a:ext cx="155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1901880" y="495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2025360" y="503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877280" y="583416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,5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4963680" y="489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5058720" y="4981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4077720" y="491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4172760" y="499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3252960" y="185436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+18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6346800" y="1836720"/>
              <a:ext cx="32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6579360" y="209556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egulacja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7382880" y="21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4448160" y="2395440"/>
              <a:ext cx="5256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7045920" y="291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7095240" y="299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1670760" y="2800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1720440" y="288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7030800" y="3292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7132320" y="3390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2707920" y="3681360"/>
              <a:ext cx="54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E 5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593964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6206400" y="367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5751360" y="2701800"/>
              <a:ext cx="20988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5807880" y="2735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3684600" y="2714760"/>
              <a:ext cx="209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3742560" y="2747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6481800" y="2919240"/>
              <a:ext cx="21276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6543000" y="295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5456160" y="2973240"/>
              <a:ext cx="105912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5813280" y="32097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4" name=""/>
            <p:cNvSpPr/>
            <p:nvPr/>
          </p:nvSpPr>
          <p:spPr>
            <a:xfrm>
              <a:off x="2241720" y="3201840"/>
              <a:ext cx="27432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2286000" y="32353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2266920" y="2841480"/>
              <a:ext cx="27468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2310120" y="2878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402768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4971960" y="3637080"/>
              <a:ext cx="271440" cy="250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501660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4400640" y="27687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2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>
            <a:off x="1366560" y="1036800"/>
            <a:ext cx="62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ulator fazy z układem NE561firmy Sig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4" name=""/>
          <p:cNvSpPr/>
          <p:nvPr/>
        </p:nvSpPr>
        <p:spPr>
          <a:xfrm>
            <a:off x="2592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255276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>
            <a:off x="25322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24922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24732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2433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241452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>
            <a:off x="23749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2" name=""/>
          <p:cNvSpPr/>
          <p:nvPr/>
        </p:nvSpPr>
        <p:spPr>
          <a:xfrm>
            <a:off x="2354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3" name=""/>
          <p:cNvSpPr/>
          <p:nvPr/>
        </p:nvSpPr>
        <p:spPr>
          <a:xfrm>
            <a:off x="23144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4" name=""/>
          <p:cNvSpPr/>
          <p:nvPr/>
        </p:nvSpPr>
        <p:spPr>
          <a:xfrm>
            <a:off x="2295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>
            <a:off x="2255760" y="3002040"/>
            <a:ext cx="28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6" name=""/>
          <p:cNvSpPr/>
          <p:nvPr/>
        </p:nvSpPr>
        <p:spPr>
          <a:xfrm>
            <a:off x="223524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7" name=""/>
          <p:cNvSpPr/>
          <p:nvPr/>
        </p:nvSpPr>
        <p:spPr>
          <a:xfrm>
            <a:off x="219564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217656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2136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0" name=""/>
          <p:cNvSpPr/>
          <p:nvPr/>
        </p:nvSpPr>
        <p:spPr>
          <a:xfrm>
            <a:off x="21160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1" name=""/>
          <p:cNvSpPr/>
          <p:nvPr/>
        </p:nvSpPr>
        <p:spPr>
          <a:xfrm>
            <a:off x="2076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2057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>
            <a:off x="2017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199872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>
            <a:off x="19591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193824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7" name=""/>
          <p:cNvSpPr/>
          <p:nvPr/>
        </p:nvSpPr>
        <p:spPr>
          <a:xfrm>
            <a:off x="18986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>
            <a:off x="18795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>
            <a:off x="183996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>
            <a:off x="18194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>
            <a:off x="1779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>
            <a:off x="17604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1720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17002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5" name=""/>
          <p:cNvSpPr/>
          <p:nvPr/>
        </p:nvSpPr>
        <p:spPr>
          <a:xfrm>
            <a:off x="166068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6" name=""/>
          <p:cNvSpPr/>
          <p:nvPr/>
        </p:nvSpPr>
        <p:spPr>
          <a:xfrm>
            <a:off x="16416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7" name=""/>
          <p:cNvGrpSpPr/>
          <p:nvPr/>
        </p:nvGrpSpPr>
        <p:grpSpPr>
          <a:xfrm>
            <a:off x="982080" y="1595520"/>
            <a:ext cx="6844320" cy="4217760"/>
            <a:chOff x="982080" y="1595520"/>
            <a:chExt cx="6844320" cy="4217760"/>
          </a:xfrm>
        </p:grpSpPr>
        <p:sp>
          <p:nvSpPr>
            <p:cNvPr id="8668" name=""/>
            <p:cNvSpPr/>
            <p:nvPr/>
          </p:nvSpPr>
          <p:spPr>
            <a:xfrm>
              <a:off x="1442880" y="2525760"/>
              <a:ext cx="6984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9" name=""/>
            <p:cNvGrpSpPr/>
            <p:nvPr/>
          </p:nvGrpSpPr>
          <p:grpSpPr>
            <a:xfrm>
              <a:off x="4473720" y="3362400"/>
              <a:ext cx="93600" cy="291960"/>
              <a:chOff x="4473720" y="3362400"/>
              <a:chExt cx="93600" cy="291960"/>
            </a:xfrm>
          </p:grpSpPr>
          <p:sp>
            <p:nvSpPr>
              <p:cNvPr id="8670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2" name=""/>
            <p:cNvGrpSpPr/>
            <p:nvPr/>
          </p:nvGrpSpPr>
          <p:grpSpPr>
            <a:xfrm>
              <a:off x="4473720" y="3079800"/>
              <a:ext cx="93600" cy="298440"/>
              <a:chOff x="4473720" y="3079800"/>
              <a:chExt cx="93600" cy="298440"/>
            </a:xfrm>
          </p:grpSpPr>
          <p:sp>
            <p:nvSpPr>
              <p:cNvPr id="8673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5" name=""/>
            <p:cNvGrpSpPr/>
            <p:nvPr/>
          </p:nvGrpSpPr>
          <p:grpSpPr>
            <a:xfrm>
              <a:off x="4597560" y="3362400"/>
              <a:ext cx="93600" cy="291960"/>
              <a:chOff x="4597560" y="3362400"/>
              <a:chExt cx="93600" cy="291960"/>
            </a:xfrm>
          </p:grpSpPr>
          <p:sp>
            <p:nvSpPr>
              <p:cNvPr id="8676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8" name=""/>
            <p:cNvGrpSpPr/>
            <p:nvPr/>
          </p:nvGrpSpPr>
          <p:grpSpPr>
            <a:xfrm>
              <a:off x="4597560" y="3079800"/>
              <a:ext cx="93600" cy="298440"/>
              <a:chOff x="4597560" y="3079800"/>
              <a:chExt cx="93600" cy="298440"/>
            </a:xfrm>
          </p:grpSpPr>
          <p:sp>
            <p:nvSpPr>
              <p:cNvPr id="8679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1" name=""/>
            <p:cNvSpPr/>
            <p:nvPr/>
          </p:nvSpPr>
          <p:spPr>
            <a:xfrm>
              <a:off x="4613400" y="308628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4632480" y="3654360"/>
              <a:ext cx="357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83" name=""/>
            <p:cNvGrpSpPr/>
            <p:nvPr/>
          </p:nvGrpSpPr>
          <p:grpSpPr>
            <a:xfrm>
              <a:off x="4924440" y="3086280"/>
              <a:ext cx="357120" cy="291960"/>
              <a:chOff x="4924440" y="3086280"/>
              <a:chExt cx="357120" cy="291960"/>
            </a:xfrm>
          </p:grpSpPr>
          <p:sp>
            <p:nvSpPr>
              <p:cNvPr id="8684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6" name=""/>
            <p:cNvGrpSpPr/>
            <p:nvPr/>
          </p:nvGrpSpPr>
          <p:grpSpPr>
            <a:xfrm>
              <a:off x="4924440" y="3406680"/>
              <a:ext cx="357120" cy="252360"/>
              <a:chOff x="4924440" y="3406680"/>
              <a:chExt cx="357120" cy="252360"/>
            </a:xfrm>
          </p:grpSpPr>
          <p:sp>
            <p:nvSpPr>
              <p:cNvPr id="8687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  <a:lnTo>
                      <a:pt x="0" y="0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9" name=""/>
            <p:cNvSpPr/>
            <p:nvPr/>
          </p:nvSpPr>
          <p:spPr>
            <a:xfrm>
              <a:off x="5270400" y="3362400"/>
              <a:ext cx="698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0" name=""/>
            <p:cNvSpPr/>
            <p:nvPr/>
          </p:nvSpPr>
          <p:spPr>
            <a:xfrm>
              <a:off x="1003320" y="2525760"/>
              <a:ext cx="684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1" name=""/>
            <p:cNvSpPr/>
            <p:nvPr/>
          </p:nvSpPr>
          <p:spPr>
            <a:xfrm>
              <a:off x="5340240" y="3392640"/>
              <a:ext cx="53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2" name=""/>
            <p:cNvGrpSpPr/>
            <p:nvPr/>
          </p:nvGrpSpPr>
          <p:grpSpPr>
            <a:xfrm>
              <a:off x="2384280" y="3144960"/>
              <a:ext cx="2154240" cy="104760"/>
              <a:chOff x="2384280" y="3144960"/>
              <a:chExt cx="2154240" cy="104760"/>
            </a:xfrm>
          </p:grpSpPr>
          <p:sp>
            <p:nvSpPr>
              <p:cNvPr id="8693" name=""/>
              <p:cNvSpPr/>
              <p:nvPr/>
            </p:nvSpPr>
            <p:spPr>
              <a:xfrm>
                <a:off x="2384280" y="3193920"/>
                <a:ext cx="2154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4433760" y="31449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5" name=""/>
            <p:cNvGrpSpPr/>
            <p:nvPr/>
          </p:nvGrpSpPr>
          <p:grpSpPr>
            <a:xfrm>
              <a:off x="4151160" y="3502080"/>
              <a:ext cx="401760" cy="102960"/>
              <a:chOff x="4151160" y="3502080"/>
              <a:chExt cx="401760" cy="102960"/>
            </a:xfrm>
          </p:grpSpPr>
          <p:sp>
            <p:nvSpPr>
              <p:cNvPr id="8696" name=""/>
              <p:cNvSpPr/>
              <p:nvPr/>
            </p:nvSpPr>
            <p:spPr>
              <a:xfrm>
                <a:off x="4151160" y="3546360"/>
                <a:ext cx="4017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4449600" y="3502080"/>
                <a:ext cx="10332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8" name=""/>
            <p:cNvSpPr/>
            <p:nvPr/>
          </p:nvSpPr>
          <p:spPr>
            <a:xfrm>
              <a:off x="5557680" y="2317680"/>
              <a:ext cx="5796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6702480" y="2293920"/>
              <a:ext cx="57924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0" name=""/>
            <p:cNvSpPr/>
            <p:nvPr/>
          </p:nvSpPr>
          <p:spPr>
            <a:xfrm>
              <a:off x="5776920" y="2481120"/>
              <a:ext cx="20160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1" name=""/>
            <p:cNvSpPr/>
            <p:nvPr/>
          </p:nvSpPr>
          <p:spPr>
            <a:xfrm flipH="1">
              <a:off x="5761080" y="2481120"/>
              <a:ext cx="2030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2" name=""/>
            <p:cNvGrpSpPr/>
            <p:nvPr/>
          </p:nvGrpSpPr>
          <p:grpSpPr>
            <a:xfrm>
              <a:off x="5821200" y="2822400"/>
              <a:ext cx="103320" cy="570240"/>
              <a:chOff x="5821200" y="2822400"/>
              <a:chExt cx="103320" cy="570240"/>
            </a:xfrm>
          </p:grpSpPr>
          <p:sp>
            <p:nvSpPr>
              <p:cNvPr id="8703" name=""/>
              <p:cNvSpPr/>
              <p:nvPr/>
            </p:nvSpPr>
            <p:spPr>
              <a:xfrm>
                <a:off x="5870520" y="2822400"/>
                <a:ext cx="1800" cy="5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5821200" y="2822400"/>
                <a:ext cx="103320" cy="10512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65" y="66"/>
                    </a:moveTo>
                    <a:lnTo>
                      <a:pt x="31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5" name=""/>
            <p:cNvGrpSpPr/>
            <p:nvPr/>
          </p:nvGrpSpPr>
          <p:grpSpPr>
            <a:xfrm>
              <a:off x="6122520" y="2516040"/>
              <a:ext cx="575280" cy="103320"/>
              <a:chOff x="6122520" y="2516040"/>
              <a:chExt cx="575280" cy="103320"/>
            </a:xfrm>
          </p:grpSpPr>
          <p:sp>
            <p:nvSpPr>
              <p:cNvPr id="8706" name=""/>
              <p:cNvSpPr/>
              <p:nvPr/>
            </p:nvSpPr>
            <p:spPr>
              <a:xfrm flipH="1">
                <a:off x="6122520" y="2565360"/>
                <a:ext cx="57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6593040" y="2516040"/>
                <a:ext cx="104760" cy="1033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65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8" name=""/>
            <p:cNvSpPr/>
            <p:nvPr/>
          </p:nvSpPr>
          <p:spPr>
            <a:xfrm flipH="1">
              <a:off x="7265520" y="2579760"/>
              <a:ext cx="382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4151160" y="3546360"/>
              <a:ext cx="180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0" name=""/>
            <p:cNvSpPr/>
            <p:nvPr/>
          </p:nvSpPr>
          <p:spPr>
            <a:xfrm flipH="1">
              <a:off x="3835440" y="4268880"/>
              <a:ext cx="138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2354400" y="4238640"/>
              <a:ext cx="698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4118040" y="4238640"/>
              <a:ext cx="680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3146400" y="4075200"/>
              <a:ext cx="698400" cy="39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3387960" y="411480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429084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4389480" y="48434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2013120" y="4803840"/>
              <a:ext cx="70308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21999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312732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32745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3601800" y="495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2" name=""/>
            <p:cNvGrpSpPr/>
            <p:nvPr/>
          </p:nvGrpSpPr>
          <p:grpSpPr>
            <a:xfrm>
              <a:off x="3854520" y="4937040"/>
              <a:ext cx="406440" cy="104760"/>
              <a:chOff x="3854520" y="4937040"/>
              <a:chExt cx="406440" cy="104760"/>
            </a:xfrm>
          </p:grpSpPr>
          <p:sp>
            <p:nvSpPr>
              <p:cNvPr id="8723" name=""/>
              <p:cNvSpPr/>
              <p:nvPr/>
            </p:nvSpPr>
            <p:spPr>
              <a:xfrm>
                <a:off x="3854520" y="4986360"/>
                <a:ext cx="406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>
                <a:off x="4157640" y="493704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5" name=""/>
            <p:cNvSpPr/>
            <p:nvPr/>
          </p:nvSpPr>
          <p:spPr>
            <a:xfrm>
              <a:off x="2711520" y="50022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6" name=""/>
            <p:cNvSpPr/>
            <p:nvPr/>
          </p:nvSpPr>
          <p:spPr>
            <a:xfrm flipH="1">
              <a:off x="4978080" y="4995720"/>
              <a:ext cx="24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7" name=""/>
            <p:cNvSpPr/>
            <p:nvPr/>
          </p:nvSpPr>
          <p:spPr>
            <a:xfrm>
              <a:off x="5216400" y="4268880"/>
              <a:ext cx="504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8" name=""/>
            <p:cNvSpPr/>
            <p:nvPr/>
          </p:nvSpPr>
          <p:spPr>
            <a:xfrm flipH="1">
              <a:off x="2394000" y="426888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9" name=""/>
            <p:cNvGrpSpPr/>
            <p:nvPr/>
          </p:nvGrpSpPr>
          <p:grpSpPr>
            <a:xfrm>
              <a:off x="2335320" y="3193920"/>
              <a:ext cx="102960" cy="1609920"/>
              <a:chOff x="2335320" y="3193920"/>
              <a:chExt cx="102960" cy="1609920"/>
            </a:xfrm>
          </p:grpSpPr>
          <p:sp>
            <p:nvSpPr>
              <p:cNvPr id="8730" name=""/>
              <p:cNvSpPr/>
              <p:nvPr/>
            </p:nvSpPr>
            <p:spPr>
              <a:xfrm>
                <a:off x="2384280" y="3193920"/>
                <a:ext cx="5040" cy="160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>
                <a:off x="2335320" y="46990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0"/>
                    </a:moveTo>
                    <a:lnTo>
                      <a:pt x="34" y="66"/>
                    </a:lnTo>
                    <a:lnTo>
                      <a:pt x="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2" name=""/>
            <p:cNvGrpSpPr/>
            <p:nvPr/>
          </p:nvGrpSpPr>
          <p:grpSpPr>
            <a:xfrm>
              <a:off x="1487520" y="4951440"/>
              <a:ext cx="515880" cy="104760"/>
              <a:chOff x="1487520" y="4951440"/>
              <a:chExt cx="515880" cy="104760"/>
            </a:xfrm>
          </p:grpSpPr>
          <p:sp>
            <p:nvSpPr>
              <p:cNvPr id="8733" name=""/>
              <p:cNvSpPr/>
              <p:nvPr/>
            </p:nvSpPr>
            <p:spPr>
              <a:xfrm>
                <a:off x="1487520" y="5002200"/>
                <a:ext cx="515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>
                <a:off x="1898640" y="49514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5" name=""/>
            <p:cNvSpPr/>
            <p:nvPr/>
          </p:nvSpPr>
          <p:spPr>
            <a:xfrm flipH="1">
              <a:off x="1057320" y="2556000"/>
              <a:ext cx="4486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6" name=""/>
            <p:cNvSpPr/>
            <p:nvPr/>
          </p:nvSpPr>
          <p:spPr>
            <a:xfrm flipV="1">
              <a:off x="1473120" y="2555640"/>
              <a:ext cx="1800" cy="24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7" name=""/>
            <p:cNvGrpSpPr/>
            <p:nvPr/>
          </p:nvGrpSpPr>
          <p:grpSpPr>
            <a:xfrm>
              <a:off x="2735280" y="5477040"/>
              <a:ext cx="1574640" cy="336240"/>
              <a:chOff x="2735280" y="5477040"/>
              <a:chExt cx="1574640" cy="336240"/>
            </a:xfrm>
          </p:grpSpPr>
          <p:sp>
            <p:nvSpPr>
              <p:cNvPr id="8738" name=""/>
              <p:cNvSpPr/>
              <p:nvPr/>
            </p:nvSpPr>
            <p:spPr>
              <a:xfrm>
                <a:off x="2739960" y="5481720"/>
                <a:ext cx="1565280" cy="32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>
                <a:off x="2735280" y="548172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>
                <a:off x="2735280" y="55213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>
                <a:off x="2735280" y="5541840"/>
                <a:ext cx="111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>
                <a:off x="2735280" y="558000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>
                <a:off x="2735280" y="560088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>
                <a:off x="2735280" y="564048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>
                <a:off x="2735280" y="565956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>
                <a:off x="2735280" y="569916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>
                <a:off x="2735280" y="571968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>
                <a:off x="2735280" y="5759280"/>
                <a:ext cx="111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>
                <a:off x="2735280" y="577836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>
                <a:off x="27511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>
                <a:off x="27702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>
                <a:off x="280980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>
                <a:off x="28306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>
                <a:off x="28702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>
                <a:off x="28893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>
                <a:off x="2928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>
                <a:off x="29480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>
                <a:off x="29876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>
                <a:off x="3008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>
                <a:off x="30481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30672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>
                <a:off x="31068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>
                <a:off x="312732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31669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3186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3225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3246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32860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3305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33447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33638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34034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34243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3463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3483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3522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3543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35830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9" name=""/>
              <p:cNvSpPr/>
              <p:nvPr/>
            </p:nvSpPr>
            <p:spPr>
              <a:xfrm>
                <a:off x="36021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0" name=""/>
              <p:cNvSpPr/>
              <p:nvPr/>
            </p:nvSpPr>
            <p:spPr>
              <a:xfrm>
                <a:off x="36417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366228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3701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3720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3760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37800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3819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3840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38797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3898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3938760" y="5803920"/>
                <a:ext cx="10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39592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3998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4017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40575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407844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411804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4137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41767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4195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42354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42559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42958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4300560" y="576900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4300560" y="5749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4300560" y="57103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4300560" y="5689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4300560" y="564984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4300560" y="5630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4300560" y="55911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4300560" y="55706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4300560" y="553068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4300560" y="5511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4295880" y="547704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3" y="16"/>
                    </a:moveTo>
                    <a:lnTo>
                      <a:pt x="9" y="16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42750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42354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42163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4176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415764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411804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40971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40575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40384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39988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39783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39387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3919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3879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38592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3819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38005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37609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374184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37018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36813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3641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3622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35830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35622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3522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35035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34639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34434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34034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3384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3344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33256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32860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32655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32259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3206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316692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3146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3106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3087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30481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302724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29876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29685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29289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2909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28702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2849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2809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27907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275112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6" name=""/>
            <p:cNvSpPr/>
            <p:nvPr/>
          </p:nvSpPr>
          <p:spPr>
            <a:xfrm>
              <a:off x="2857320" y="5516640"/>
              <a:ext cx="130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 selektyw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5127120" y="5154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5230440" y="513540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5389560" y="5254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1601640" y="19018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1760400" y="2021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1871280" y="1901880"/>
              <a:ext cx="20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3" name=""/>
            <p:cNvSpPr/>
            <p:nvPr/>
          </p:nvSpPr>
          <p:spPr>
            <a:xfrm>
              <a:off x="2105280" y="200664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4" name=""/>
            <p:cNvSpPr/>
            <p:nvPr/>
          </p:nvSpPr>
          <p:spPr>
            <a:xfrm>
              <a:off x="1611000" y="22287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1770120" y="2347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1858320" y="2249640"/>
              <a:ext cx="13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1998720" y="222876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2140560" y="234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1641240" y="159552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1800360" y="1714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7548480" y="267480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7691400" y="277812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5776560" y="34671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5934240" y="35863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6022800" y="34862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6206040" y="34671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6277320" y="3486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1982520" y="38386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2141640" y="3956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1963080" y="4114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2185200" y="4095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982080" y="4417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1087200" y="4516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1156680" y="441792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6008040" y="307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6113160" y="317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6182640" y="3070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7543800" y="2254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7642080" y="2550960"/>
              <a:ext cx="6516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0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2091240" y="10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synchroniczny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2" name=""/>
          <p:cNvSpPr/>
          <p:nvPr/>
        </p:nvSpPr>
        <p:spPr>
          <a:xfrm>
            <a:off x="2896200" y="2286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łaściwości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>
            <a:off x="244440" y="1430280"/>
            <a:ext cx="8651880" cy="44830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Synchronizuje się do częstotliwości podstawowych lub ich wielokrotn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zięki filtrowi DP „pamięta” wartość błędu fazy - praca przy zanikach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Synchronizuje się w obecności zakłóce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Synchronizuje się w obecności innych sygnałów, nawet o poziomach większ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ż poziom sygnału użytecznego (np. w obecności szum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5. Jest mało wrażliwa na zmiany amplitud sygnału wejści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6. Spośród wielu sygnałów „wyławia” jeden. W tym sensie ma właściwości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lektyw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3640" y="3049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1360" y="2244600"/>
            <a:ext cx="8319240" cy="1897200"/>
            <a:chOff x="171360" y="2244600"/>
            <a:chExt cx="8319240" cy="1897200"/>
          </a:xfrm>
        </p:grpSpPr>
        <p:sp>
          <p:nvSpPr>
            <p:cNvPr id="47" name=""/>
            <p:cNvSpPr/>
            <p:nvPr/>
          </p:nvSpPr>
          <p:spPr>
            <a:xfrm>
              <a:off x="227520" y="2808360"/>
              <a:ext cx="23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00" y="291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3640" y="2808360"/>
              <a:ext cx="23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8404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560" y="2808360"/>
              <a:ext cx="218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463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08640" y="2808360"/>
              <a:ext cx="264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957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73520" y="28083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360" y="335124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268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080" y="3373560"/>
              <a:ext cx="710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7120" y="335124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29160" y="3484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06560" y="3373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95360" y="276876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90720" y="30909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29200" y="280188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312408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1120" y="2786040"/>
              <a:ext cx="1295640" cy="925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90320" y="31068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679840" y="3179880"/>
              <a:ext cx="955440" cy="115920"/>
              <a:chOff x="2679840" y="3179880"/>
              <a:chExt cx="955440" cy="115920"/>
            </a:xfrm>
          </p:grpSpPr>
          <p:sp>
            <p:nvSpPr>
              <p:cNvPr id="69" name=""/>
              <p:cNvSpPr/>
              <p:nvPr/>
            </p:nvSpPr>
            <p:spPr>
              <a:xfrm>
                <a:off x="2679840" y="3235320"/>
                <a:ext cx="955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17920" y="317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0" y="73"/>
                    </a:moveTo>
                    <a:lnTo>
                      <a:pt x="74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39560" y="3162240"/>
              <a:ext cx="955800" cy="117360"/>
              <a:chOff x="439560" y="3162240"/>
              <a:chExt cx="955800" cy="117360"/>
            </a:xfrm>
          </p:grpSpPr>
          <p:sp>
            <p:nvSpPr>
              <p:cNvPr id="72" name=""/>
              <p:cNvSpPr/>
              <p:nvPr/>
            </p:nvSpPr>
            <p:spPr>
              <a:xfrm>
                <a:off x="439560" y="3218040"/>
                <a:ext cx="955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79440" y="316224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035080" y="3695400"/>
              <a:ext cx="115920" cy="444600"/>
              <a:chOff x="2035080" y="3695400"/>
              <a:chExt cx="115920" cy="444600"/>
            </a:xfrm>
          </p:grpSpPr>
          <p:sp>
            <p:nvSpPr>
              <p:cNvPr id="75" name=""/>
              <p:cNvSpPr/>
              <p:nvPr/>
            </p:nvSpPr>
            <p:spPr>
              <a:xfrm flipV="1">
                <a:off x="2090880" y="3695400"/>
                <a:ext cx="1440" cy="444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35080" y="369576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73" y="73"/>
                    </a:moveTo>
                    <a:lnTo>
                      <a:pt x="35" y="0"/>
                    </a:lnTo>
                    <a:lnTo>
                      <a:pt x="0" y="7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973760" y="3195720"/>
              <a:ext cx="955440" cy="117360"/>
              <a:chOff x="4973760" y="3195720"/>
              <a:chExt cx="955440" cy="117360"/>
            </a:xfrm>
          </p:grpSpPr>
          <p:sp>
            <p:nvSpPr>
              <p:cNvPr id="78" name=""/>
              <p:cNvSpPr/>
              <p:nvPr/>
            </p:nvSpPr>
            <p:spPr>
              <a:xfrm>
                <a:off x="4973760" y="3251160"/>
                <a:ext cx="955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13280" y="319572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229520" y="3268800"/>
              <a:ext cx="11113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36040" y="3284640"/>
              <a:ext cx="1440" cy="855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06720" y="4140360"/>
              <a:ext cx="5629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3235320"/>
              <a:ext cx="77760" cy="666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9440" y="318456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80360" y="323532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9680" y="2244600"/>
              <a:ext cx="75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[rad]          [V/rad]         []              [V/V]           [V]            [rad/Vs]       [rad]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40" y="5788080"/>
            <a:ext cx="88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kterystyka mnożącego detektora fazy       Charakterystyka przestrajania generatora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3480" y="3300480"/>
            <a:ext cx="373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0160" y="33242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91680" y="330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92480" y="341964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39960" y="2765520"/>
            <a:ext cx="5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arctg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3520" y="285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82840" y="2801880"/>
            <a:ext cx="399960" cy="439920"/>
            <a:chOff x="2382840" y="2801880"/>
            <a:chExt cx="399960" cy="439920"/>
          </a:xfrm>
        </p:grpSpPr>
        <p:sp>
          <p:nvSpPr>
            <p:cNvPr id="95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  <a:lnTo>
                    <a:pt x="0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23960" y="1623960"/>
            <a:ext cx="400320" cy="682560"/>
            <a:chOff x="2523960" y="1623960"/>
            <a:chExt cx="400320" cy="682560"/>
          </a:xfrm>
        </p:grpSpPr>
        <p:sp>
          <p:nvSpPr>
            <p:cNvPr id="98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  <a:lnTo>
                    <a:pt x="252" y="43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2268360" y="223344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38320" y="1623960"/>
            <a:ext cx="395280" cy="682560"/>
            <a:chOff x="2938320" y="1623960"/>
            <a:chExt cx="395280" cy="682560"/>
          </a:xfrm>
        </p:grpSpPr>
        <p:sp>
          <p:nvSpPr>
            <p:cNvPr id="102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  <a:lnTo>
                    <a:pt x="0" y="4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319560" y="223344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204920" y="4224240"/>
            <a:ext cx="395280" cy="681120"/>
            <a:chOff x="1204920" y="4224240"/>
            <a:chExt cx="395280" cy="681120"/>
          </a:xfrm>
        </p:grpSpPr>
        <p:sp>
          <p:nvSpPr>
            <p:cNvPr id="106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49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 flipV="1">
            <a:off x="945720" y="325548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0200" y="4224240"/>
            <a:ext cx="399960" cy="681120"/>
            <a:chOff x="1600200" y="4224240"/>
            <a:chExt cx="399960" cy="681120"/>
          </a:xfrm>
        </p:grpSpPr>
        <p:sp>
          <p:nvSpPr>
            <p:cNvPr id="110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000160" y="325548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6080" y="3156120"/>
            <a:ext cx="18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232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9244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4600" y="31734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41480" y="1160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7200" y="1252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4240" y="1590840"/>
            <a:ext cx="352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06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48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892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31000" y="33368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4016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6120" y="3228840"/>
            <a:ext cx="357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63680" y="1163520"/>
            <a:ext cx="0" cy="37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62560" y="1558440"/>
            <a:ext cx="3270960" cy="3639240"/>
            <a:chOff x="5362560" y="1558440"/>
            <a:chExt cx="3270960" cy="3639240"/>
          </a:xfrm>
        </p:grpSpPr>
        <p:sp>
          <p:nvSpPr>
            <p:cNvPr id="128" name=""/>
            <p:cNvSpPr/>
            <p:nvPr/>
          </p:nvSpPr>
          <p:spPr>
            <a:xfrm flipH="1">
              <a:off x="5840280" y="214164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489800" y="2382840"/>
              <a:ext cx="214200" cy="212760"/>
              <a:chOff x="7489800" y="2382840"/>
              <a:chExt cx="214200" cy="212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8422920" y="483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8320" y="4923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08680" y="476892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8120" y="4805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31000" y="230040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3360" y="233208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6560" y="2424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62560" y="25243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2360" y="2624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163368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62520" y="176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927840" y="155844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81640" y="467676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02400" y="264780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490840" y="4762440"/>
            <a:ext cx="4122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3886200"/>
            <a:ext cx="3733920" cy="1371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3520" y="685800"/>
                <a:ext cx="3657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520" y="1295280"/>
                <a:ext cx="441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12000" y="2133720"/>
            <a:ext cx="57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ulsacja własna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114800"/>
                <a:ext cx="79246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3563280" y="6095880"/>
            <a:ext cx="45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 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stała detektora fazy[1/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5680" y="65088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e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36880" y="342900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gnał na wyjściu mnożącego detektora fa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7680" y="5153040"/>
            <a:ext cx="269388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ładowa „wolnozmienn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80880" y="762120"/>
                <a:ext cx="5670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0880" y="4267080"/>
                <a:ext cx="311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0880" y="3048120"/>
                <a:ext cx="3048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34304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0880" y="1676520"/>
                <a:ext cx="213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891160" y="198108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ocnien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20520" y="4267080"/>
            <a:ext cx="549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maksymalne napięc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480" y="5659560"/>
            <a:ext cx="825048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ładowa wolnozmienna jest wyodrębniana przez filtr dolnoprzepustowy (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80880" y="1600200"/>
                <a:ext cx="3200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80880" y="2895480"/>
                <a:ext cx="44960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377640" y="4343400"/>
            <a:ext cx="729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ransmitancja (czułość przestrajania)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ażona w rad/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3120" y="68580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nie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362560" y="915480"/>
            <a:ext cx="3270960" cy="3639240"/>
            <a:chOff x="5362560" y="915480"/>
            <a:chExt cx="3270960" cy="3639240"/>
          </a:xfrm>
        </p:grpSpPr>
        <p:sp>
          <p:nvSpPr>
            <p:cNvPr id="169" name=""/>
            <p:cNvSpPr/>
            <p:nvPr/>
          </p:nvSpPr>
          <p:spPr>
            <a:xfrm flipH="1">
              <a:off x="5840280" y="149868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489800" y="1739880"/>
              <a:ext cx="214200" cy="212760"/>
              <a:chOff x="7489800" y="1739880"/>
              <a:chExt cx="214200" cy="212760"/>
            </a:xfrm>
          </p:grpSpPr>
          <p:sp>
            <p:nvSpPr>
              <p:cNvPr id="171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422920" y="418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18320" y="4280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08680" y="412596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8120" y="4162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31000" y="165744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03360" y="168912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6560" y="178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560" y="188136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2360" y="19810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0800" y="9907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62520" y="1122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927840" y="91548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81640" y="403380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02400" y="200484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304920"/>
            <a:ext cx="824544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sygnału wejściowego i częstotliwości własnej generatora VCO, przy której układ PLL może dojść do synchronizmu, jest nazyw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chwyt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057400"/>
            <a:ext cx="830592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między częstotliwością przebiegu wejściowego i częstotliwością własną generatora, przy której układ PLL może utrzymać synchronizm, jest nazywan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trzym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80880" y="4071960"/>
                <a:ext cx="2286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124080" y="3886200"/>
            <a:ext cx="6019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rzy transmitancji filtru dla napięcia stałego równej jedności 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0880" y="5105520"/>
                <a:ext cx="2590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3579480" y="541008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asmo szumowe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1:00:03Z</dcterms:created>
  <dc:creator>MK</dc:creator>
  <dc:description/>
  <dc:language>en-US</dc:language>
  <cp:lastModifiedBy>MK</cp:lastModifiedBy>
  <dcterms:modified xsi:type="dcterms:W3CDTF">2004-04-06T09:38:31Z</dcterms:modified>
  <cp:revision>40</cp:revision>
  <dc:subject/>
  <dc:title>Pętla PLL</dc:title>
</cp:coreProperties>
</file>