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239-B0DB-4928-A610-49F95D4A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20B-9C96-4EC2-9331-6A12ACB1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EF1-3A85-4A2D-A2D1-49BF6A59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79D-1CD4-4E52-B808-67D1F76B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2DC-15A9-4B42-AC4B-984A11BD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18A-2DBD-4EA1-BF3E-9EBB7E25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278-4F4D-4662-9263-C74F1B06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3C0-1880-43B0-BDC2-3FB43771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C09-E8F0-4DD8-8412-569E7322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7CB-16CB-4120-9FAF-4195A4F7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EBF-89E1-487D-A730-963A968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AF6-5DC7-40E7-8699-154BC8C3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72E1-F656-4947-9846-542107076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75200" y="55497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, zm, 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6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9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9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5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8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70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9480" y="3840120"/>
            <a:ext cx="86601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9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1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451080" y="268200"/>
            <a:ext cx="8073360" cy="5752440"/>
            <a:chOff x="451080" y="268200"/>
            <a:chExt cx="8073360" cy="5752440"/>
          </a:xfrm>
        </p:grpSpPr>
        <p:sp>
          <p:nvSpPr>
            <p:cNvPr id="303" name=""/>
            <p:cNvSpPr/>
            <p:nvPr/>
          </p:nvSpPr>
          <p:spPr>
            <a:xfrm>
              <a:off x="451080" y="268200"/>
              <a:ext cx="807336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nając parametry 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6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8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7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7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7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7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8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59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0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2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4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4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0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2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5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7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5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1357920" y="2514600"/>
            <a:ext cx="65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ówczas poprawne jest przekształcenie pokazane na rysunk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477120" y="304812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553080" y="4340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 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187720" y="2755800"/>
                <a:ext cx="3504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438280" y="4267080"/>
                <a:ext cx="3048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67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1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4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699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4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s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5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1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56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57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59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5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07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1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1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3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66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0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3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58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0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1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0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54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1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3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34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8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6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4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0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08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09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3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8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 jako rezys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Colpittsa a),       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633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5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758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759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763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6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8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772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773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4-05-30T08:30:36Z</dcterms:modified>
  <cp:revision>78</cp:revision>
  <dc:subject/>
  <dc:title>Generatory LC</dc:title>
</cp:coreProperties>
</file>