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20.png" ContentType="image/png"/>
  <Override PartName="/ppt/media/image21.wmf" ContentType="image/x-wmf"/>
  <Override PartName="/ppt/media/image18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2B16-7C3D-4095-ACA8-B6C728CC9E8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distinction betwe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 extractio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du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ed featu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proponowanie wariantu </a:t>
            </a:r>
            <a:r>
              <a:rPr b="0" lang="pl-PL" sz="1200" spc="-1" strike="noStrike">
                <a:solidFill>
                  <a:srgbClr val="99cc00"/>
                </a:solidFill>
                <a:latin typeface="Arial"/>
              </a:rPr>
              <a:t>obliczeń ewolucyjnyc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do projektowania procedur ekstrakcji c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ytm ewolucyjny utrzymuje i modyfikuje zbiór (populację) roboczych rozwiązań (osobników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ażde rozwiązanie reprezentuje (koduje) konkretną procedurę ekstrakcji c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ymulowana ewolucja tworzy nowe „pokolenia” rozwiązań o coraz lepszej jakoś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kość rozwiązania mierzona jego skutecznością (dopasowaniem, ang. </a:t>
            </a:r>
            <a:r>
              <a:rPr b="0" i="1" lang="pl-PL" sz="1200" spc="-1" strike="noStrike">
                <a:solidFill>
                  <a:srgbClr val="000000"/>
                </a:solidFill>
                <a:latin typeface="Arial"/>
              </a:rPr>
              <a:t>fitnes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), tu: trafność klasyfikowania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echy charakterystyczne/trudności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ysokie zaszumienie obraz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Brak cech typu krawędź, płaszczyzna – obraz składa się praktycznie z odizolowanych punkt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Zadanie: identyfikacja pojazd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Źródło danych: Baz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TAR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ilkanaście typów pojazdów wojskowych Czołgi, transportery opancerzone, wozy bojowe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óżne azymuty, ok. 200-300 obrazów/pojaz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ozdzielczość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top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ąt elewacj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Active sen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ykorzystuje ruch obserwatora (samolot) oraz zjawisko Dopplera do polepszenia (kątowej) zdolności rozdzielczej (zwłaszcza w płaszczyźnie poziome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ozpoznawanie oparte na cechach (f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ture-based recognition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): brak bazy modeli rozpoznawanych obiekt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echy charakterystyczne/trudności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ysokie zaszumienie obraz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Brak cech typu krawędź, płaszczyzna – obraz składa się praktycznie z odizolowanych punkt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Zadanie: identyfikacja pojazd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Źródło danych: Baz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TAR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ilkanaście typów pojazdów wojskowych Czołgi, transportery opancerzone, wozy bojowe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óżne azymuty, ok. 200-300 obrazów/pojaz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ozdzielczość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top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ąt elewacj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Active sen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ykorzystuje ruch obserwatora (samolot) oraz zjawisko Dopplera do polepszenia (kątowej) zdolności rozdzielczej (zwłaszcza w płaszczyźnie poziome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ozpoznawanie oparte na cechach (f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ture-based recognition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): brak bazy modeli rozpoznawanych obiekt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cznie IR, ale u nas tego nie 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ycyjnie: podejscia wektorowe + algorytmy numeryczne, raczej off-lin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ywacje; zle ustrukuralizowana informacja, specyfika przegladarek Internetow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tot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zymy do przedstawiania struktury w wyszukanych dokument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zy sie nie tylko jakosc grupowania ale tez opisy grup/skup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: STC, pracujacy na fraz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go Lepszy, choc to subiektyw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-sensitive learning, but with unknown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5 = 11 na 2004 + 14 na br. I kolej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ele form życia, ewolucji i koewolucji, optymalizacji, percepcji środowisk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wolucyjna synteza programów analizy i rozpoznawania obraz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jczęściej pewna wielkość agregatow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p. średnia jasność obszaru, ilościowa charakterystyka tekstury, stopień okrągłości obiek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lasyfikator staje się częścią systemu rozpoznające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distinction betwe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 extractio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du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ed featu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6ED28-7CE8-4C12-A2B1-B572375C0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1840" y="4110120"/>
            <a:ext cx="8489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8A759-9E7F-473F-A2D8-7295E41456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1840" y="411012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080" y="411012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D44CB-905A-4DDC-8E2B-68B0BF4AA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2480" y="162828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2760" y="162828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1840" y="411012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2480" y="411012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2760" y="411012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9AAD4-3DBC-41E8-9324-E4DF38337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1DBD9-58B3-421D-AEA0-D4470F2B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93840-03CD-4530-9D0E-0F22F2E2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8252B-F717-416F-9561-C96BEA81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F9EC6-A419-4C8B-B7BC-CD70AD4E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B10F9-98AE-4AC3-9BB2-157E0E02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9760" y="188640"/>
            <a:ext cx="848988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90386-8ECB-4A05-9D32-FBFA1837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21840" y="411012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C86A7-F7EF-41C3-9332-639B75A8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0B53B-C658-4495-B2D3-DE968FAB5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2080" y="411012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14458-5D2A-46F2-834E-038FDA3F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1840" y="4110120"/>
            <a:ext cx="8489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98C4C-DD07-4B48-A550-39F75E09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840" y="4110120"/>
            <a:ext cx="8489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B00B3-8573-4831-8C2A-C779A66E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1840" y="411012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2080" y="411012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236BB-4BC3-4E1C-9EB0-6D9F27BA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2480" y="162828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62760" y="162828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21840" y="411012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2480" y="411012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62760" y="411012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5C32C-38EF-45F1-8408-1A8D4673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B304C-3B64-4AB2-88E2-D16947281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A60D0-5BDB-47D7-8947-700369F45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03B18-CAC7-4AF6-B7A7-55F8CD3C0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9760" y="188640"/>
            <a:ext cx="848988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35B3E-FCC3-4F3D-B022-1F6A7FB5A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1840" y="411012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5BD3D-7B6B-4899-A1DD-51E997F2D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080" y="411012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4D29C-B416-4FBB-879D-CA417AD3B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1840" y="4110120"/>
            <a:ext cx="8489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F8DED-35B0-4511-B1CB-B08561A89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341360"/>
            <a:ext cx="842472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99"/>
          </a:solidFill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6453360"/>
            <a:ext cx="8496000" cy="0"/>
          </a:xfrm>
          <a:prstGeom prst="line">
            <a:avLst/>
          </a:prstGeom>
          <a:ln w="3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23640" y="6524280"/>
            <a:ext cx="78483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388000" y="6524280"/>
            <a:ext cx="5763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4A26-5684-40BC-8EFB-149637A13A53}" type="slidenum">
              <a:rPr b="0" lang="pl-P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524280"/>
            <a:ext cx="190512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2266920" y="6524280"/>
            <a:ext cx="461016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524280"/>
            <a:ext cx="190512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4E43-8CDA-47D4-9535-EC84DE004EDF}" type="slidenum">
              <a:rPr b="0" lang="pl-P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99"/>
          </a:solidFill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Algorytmy przekształcania reprezentacji danych dla systemów uczących się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85720" y="406044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Zakład Inteligentnych Systemów Wspomagania Decyzj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Instytut Informatyk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Politechnika Poznańsk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646200" y="3068640"/>
            <a:ext cx="849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164360" y="4689360"/>
            <a:ext cx="1332000" cy="1332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66640" y="2760840"/>
            <a:ext cx="6526440" cy="19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ant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3 T11C 050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onstruktywna indukcja c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9705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utomatyzacja konstrukcji cech poprzez włączenie jej w proces uczenia się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Jednoczesna konstrukcj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iedzy klasyfikacyjnej, 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rocedur ekstrakcji cech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iększość zastosowań dotyczy uczenia maszynoweg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597720" y="2438280"/>
            <a:ext cx="2438280" cy="28958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597720" y="1219320"/>
            <a:ext cx="2438280" cy="1447920"/>
            <a:chOff x="6597720" y="1219320"/>
            <a:chExt cx="2438280" cy="1447920"/>
          </a:xfrm>
        </p:grpSpPr>
        <p:sp>
          <p:nvSpPr>
            <p:cNvPr id="133" name=""/>
            <p:cNvSpPr/>
            <p:nvPr/>
          </p:nvSpPr>
          <p:spPr>
            <a:xfrm>
              <a:off x="6597720" y="1219320"/>
              <a:ext cx="2438280" cy="99036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zykład/Obra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" name=""/>
            <p:cNvCxnSpPr>
              <a:stCxn id="133" idx="2"/>
              <a:endCxn id="135" idx="0"/>
            </p:cNvCxnSpPr>
            <p:nvPr/>
          </p:nvCxnSpPr>
          <p:spPr>
            <a:xfrm flipV="1" rot="10800000">
              <a:off x="7816320" y="2209320"/>
              <a:ext cx="1080" cy="45792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6597720" y="5181120"/>
            <a:ext cx="2438280" cy="1371960"/>
            <a:chOff x="6597720" y="5181120"/>
            <a:chExt cx="2438280" cy="1371960"/>
          </a:xfrm>
        </p:grpSpPr>
        <p:sp>
          <p:nvSpPr>
            <p:cNvPr id="137" name=""/>
            <p:cNvSpPr/>
            <p:nvPr/>
          </p:nvSpPr>
          <p:spPr>
            <a:xfrm>
              <a:off x="6597720" y="5562720"/>
              <a:ext cx="2438280" cy="99036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Decyzja/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Rozpoznan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" name=""/>
            <p:cNvCxnSpPr>
              <a:stCxn id="139" idx="2"/>
              <a:endCxn id="137" idx="0"/>
            </p:cNvCxnSpPr>
            <p:nvPr/>
          </p:nvCxnSpPr>
          <p:spPr>
            <a:xfrm flipV="1" rot="10800000">
              <a:off x="7816320" y="5181120"/>
              <a:ext cx="1080" cy="38196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0" name=""/>
          <p:cNvGrpSpPr/>
          <p:nvPr/>
        </p:nvGrpSpPr>
        <p:grpSpPr>
          <a:xfrm>
            <a:off x="6826320" y="2666880"/>
            <a:ext cx="1981080" cy="990720"/>
            <a:chOff x="6826320" y="2666880"/>
            <a:chExt cx="1981080" cy="990720"/>
          </a:xfrm>
        </p:grpSpPr>
        <p:sp>
          <p:nvSpPr>
            <p:cNvPr id="135" name=""/>
            <p:cNvSpPr/>
            <p:nvPr/>
          </p:nvSpPr>
          <p:spPr>
            <a:xfrm>
              <a:off x="6826320" y="2666880"/>
              <a:ext cx="1981080" cy="6858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ocedury ekstrakcji ce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"/>
            <p:cNvCxnSpPr>
              <a:stCxn id="135" idx="2"/>
              <a:endCxn id="142" idx="0"/>
            </p:cNvCxnSpPr>
            <p:nvPr/>
          </p:nvCxnSpPr>
          <p:spPr>
            <a:xfrm flipV="1" rot="10800000">
              <a:off x="7816320" y="3352320"/>
              <a:ext cx="1080" cy="30564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3" name=""/>
          <p:cNvGrpSpPr/>
          <p:nvPr/>
        </p:nvGrpSpPr>
        <p:grpSpPr>
          <a:xfrm>
            <a:off x="6902280" y="3657600"/>
            <a:ext cx="1828800" cy="914400"/>
            <a:chOff x="6902280" y="3657600"/>
            <a:chExt cx="1828800" cy="914400"/>
          </a:xfrm>
        </p:grpSpPr>
        <p:sp>
          <p:nvSpPr>
            <p:cNvPr id="142" name=""/>
            <p:cNvSpPr/>
            <p:nvPr/>
          </p:nvSpPr>
          <p:spPr>
            <a:xfrm>
              <a:off x="6902280" y="3657600"/>
              <a:ext cx="1828800" cy="60948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Wektor ce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"/>
            <p:cNvCxnSpPr>
              <a:stCxn id="142" idx="2"/>
              <a:endCxn id="139" idx="0"/>
            </p:cNvCxnSpPr>
            <p:nvPr/>
          </p:nvCxnSpPr>
          <p:spPr>
            <a:xfrm flipV="1" rot="10800000">
              <a:off x="7815960" y="4266720"/>
              <a:ext cx="1080" cy="30564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39" name=""/>
          <p:cNvSpPr/>
          <p:nvPr/>
        </p:nvSpPr>
        <p:spPr>
          <a:xfrm>
            <a:off x="6826320" y="4572000"/>
            <a:ext cx="1981080" cy="6094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lasyfik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38560" y="3733920"/>
            <a:ext cx="198144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cz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5" idx="0"/>
            <a:endCxn id="135" idx="1"/>
          </p:cNvCxnSpPr>
          <p:nvPr/>
        </p:nvCxnSpPr>
        <p:spPr>
          <a:xfrm flipH="1" flipV="1" rot="5400000">
            <a:off x="6065640" y="2972880"/>
            <a:ext cx="724680" cy="797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5" idx="2"/>
            <a:endCxn id="139" idx="1"/>
          </p:cNvCxnSpPr>
          <p:nvPr/>
        </p:nvCxnSpPr>
        <p:spPr>
          <a:xfrm flipH="1" rot="16200000">
            <a:off x="6046560" y="4096800"/>
            <a:ext cx="762840" cy="797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990CA-A7DD-40BE-98CA-20362CBD61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Ewolucyjne programowanie c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1752480"/>
            <a:ext cx="3581280" cy="4114800"/>
          </a:xfrm>
          <a:prstGeom prst="rect">
            <a:avLst/>
          </a:prstGeom>
          <a:solidFill>
            <a:srgbClr val="a3b2c1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nkcja oceniają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2362320" cy="411480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lgorytm ewolu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52" idx="2"/>
            <a:endCxn id="153" idx="0"/>
          </p:cNvCxnSpPr>
          <p:nvPr/>
        </p:nvCxnSpPr>
        <p:spPr>
          <a:xfrm flipH="1" rot="16200000">
            <a:off x="5451480" y="3774600"/>
            <a:ext cx="1632600" cy="876960"/>
          </a:xfrm>
          <a:prstGeom prst="bentConnector3">
            <a:avLst>
              <a:gd name="adj1" fmla="val 13211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048120" y="5638680"/>
            <a:ext cx="190476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c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ced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3809880"/>
            <a:ext cx="1676520" cy="7621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echy obrazów uczący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7" idx="1"/>
            <a:endCxn id="158" idx="3"/>
          </p:cNvCxnSpPr>
          <p:nvPr/>
        </p:nvCxnSpPr>
        <p:spPr>
          <a:xfrm flipV="1" rot="10800000">
            <a:off x="6628680" y="2339640"/>
            <a:ext cx="457920" cy="518400"/>
          </a:xfrm>
          <a:prstGeom prst="bentConnector3">
            <a:avLst>
              <a:gd name="adj1" fmla="val 49960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7086600" y="1905120"/>
            <a:ext cx="1295280" cy="869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Zbiór ucząc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2286000"/>
            <a:ext cx="1600200" cy="11113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bliczen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ech dla przykład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cząc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5029200"/>
            <a:ext cx="3352680" cy="6858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cena użyteczności procedury ekstrakcji c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253836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299556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2666880"/>
            <a:ext cx="45720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281952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3581280"/>
            <a:ext cx="1219320" cy="12193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17268" y="3545"/>
                </a:moveTo>
                <a:arcTo wR="-9720" hR="-9720" stAng="-2896907" swAng="-18703093"/>
                <a:lnTo>
                  <a:pt x="0" y="10800"/>
                </a:lnTo>
                <a:arcTo wR="10800" hR="10800" stAng="10800000" swAng="18703093"/>
                <a:lnTo>
                  <a:pt x="1816" y="20877"/>
                </a:lnTo>
                <a:lnTo>
                  <a:pt x="1554" y="16302"/>
                </a:lnTo>
                <a:lnTo>
                  <a:pt x="6128" y="1604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ęt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cz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2743200"/>
            <a:ext cx="457200" cy="4572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5181480"/>
            <a:ext cx="45720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8120" y="2209680"/>
            <a:ext cx="190476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cedur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kstrakcji c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429000"/>
            <a:ext cx="2209680" cy="22096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pulacja osobników – proced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209680"/>
            <a:ext cx="2209680" cy="5335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lgorytm ewolu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2819520"/>
            <a:ext cx="990720" cy="533160"/>
          </a:xfrm>
          <a:prstGeom prst="downArrow">
            <a:avLst>
              <a:gd name="adj1" fmla="val 50000"/>
              <a:gd name="adj2" fmla="val 39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562640"/>
            <a:ext cx="1066680" cy="3902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Proce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4714920"/>
            <a:ext cx="1066680" cy="390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Proce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4410000"/>
            <a:ext cx="1371600" cy="3920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cedur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5095800"/>
            <a:ext cx="1067040" cy="390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Proce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4943520"/>
            <a:ext cx="1067040" cy="390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Proce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5172120"/>
            <a:ext cx="1066680" cy="390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Proce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433404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448632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828800" y="2818800"/>
            <a:ext cx="990720" cy="533160"/>
          </a:xfrm>
          <a:prstGeom prst="downArrow">
            <a:avLst>
              <a:gd name="adj1" fmla="val 50000"/>
              <a:gd name="adj2" fmla="val 39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5" idx="3"/>
            <a:endCxn id="152" idx="1"/>
          </p:cNvCxnSpPr>
          <p:nvPr/>
        </p:nvCxnSpPr>
        <p:spPr>
          <a:xfrm flipV="1">
            <a:off x="2819520" y="2840760"/>
            <a:ext cx="2210400" cy="168372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53" idx="1"/>
            <a:endCxn id="176" idx="3"/>
          </p:cNvCxnSpPr>
          <p:nvPr/>
        </p:nvCxnSpPr>
        <p:spPr>
          <a:xfrm rot="10800000">
            <a:off x="2818800" y="4676040"/>
            <a:ext cx="2210400" cy="69624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3A05D-F906-495F-A5A0-2F45BBB4C8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Koewolucyjne programowanie c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1969920"/>
            <a:ext cx="3581280" cy="4114800"/>
          </a:xfrm>
          <a:prstGeom prst="rect">
            <a:avLst/>
          </a:prstGeom>
          <a:solidFill>
            <a:srgbClr val="a3b2c1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nkcja oceniają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589040"/>
            <a:ext cx="2362320" cy="464832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Algorytm koewolu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84" idx="2"/>
            <a:endCxn id="185" idx="0"/>
          </p:cNvCxnSpPr>
          <p:nvPr/>
        </p:nvCxnSpPr>
        <p:spPr>
          <a:xfrm flipH="1" rot="16200000">
            <a:off x="5451480" y="3992040"/>
            <a:ext cx="1632600" cy="876960"/>
          </a:xfrm>
          <a:prstGeom prst="bentConnector3">
            <a:avLst>
              <a:gd name="adj1" fmla="val 17600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6781680" y="4027320"/>
            <a:ext cx="1676520" cy="7621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chy obrazów uczących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8" idx="1"/>
            <a:endCxn id="189" idx="3"/>
          </p:cNvCxnSpPr>
          <p:nvPr/>
        </p:nvCxnSpPr>
        <p:spPr>
          <a:xfrm flipV="1" rot="10800000">
            <a:off x="6628680" y="2557080"/>
            <a:ext cx="457920" cy="518400"/>
          </a:xfrm>
          <a:prstGeom prst="bentConnector3">
            <a:avLst>
              <a:gd name="adj1" fmla="val 49960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7086600" y="2122560"/>
            <a:ext cx="1295280" cy="869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Zbiór ucząc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2503440"/>
            <a:ext cx="1600200" cy="11113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bliczen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ech dla przykład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cząc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5246640"/>
            <a:ext cx="3352680" cy="6858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cena użyteczności procedury ekstrakcji c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2755800"/>
            <a:ext cx="45720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3213000"/>
            <a:ext cx="45720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2884320"/>
            <a:ext cx="45720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303696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318924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2046240"/>
            <a:ext cx="2133360" cy="99072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pula</a:t>
            </a: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ja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3578400"/>
            <a:ext cx="2133360" cy="99360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pula</a:t>
            </a: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ja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#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5167440"/>
            <a:ext cx="2133360" cy="99360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pula</a:t>
            </a: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ja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#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2571840"/>
            <a:ext cx="1828800" cy="390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Reprezentan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5692680"/>
            <a:ext cx="1828800" cy="3920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pre</a:t>
            </a: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zentan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8" idx="3"/>
            <a:endCxn id="200" idx="1"/>
          </p:cNvCxnSpPr>
          <p:nvPr/>
        </p:nvCxnSpPr>
        <p:spPr>
          <a:xfrm flipV="1">
            <a:off x="2819520" y="3379320"/>
            <a:ext cx="381600" cy="2510640"/>
          </a:xfrm>
          <a:prstGeom prst="bentConnector3">
            <a:avLst>
              <a:gd name="adj1" fmla="val 49952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202" idx="3"/>
            <a:endCxn id="203" idx="3"/>
          </p:cNvCxnSpPr>
          <p:nvPr/>
        </p:nvCxnSpPr>
        <p:spPr>
          <a:xfrm flipV="1">
            <a:off x="2819520" y="3150720"/>
            <a:ext cx="381600" cy="915120"/>
          </a:xfrm>
          <a:prstGeom prst="bentConnector3">
            <a:avLst>
              <a:gd name="adj1" fmla="val 31161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7" idx="3"/>
            <a:endCxn id="205" idx="1"/>
          </p:cNvCxnSpPr>
          <p:nvPr/>
        </p:nvCxnSpPr>
        <p:spPr>
          <a:xfrm>
            <a:off x="2819520" y="2766960"/>
            <a:ext cx="381600" cy="155880"/>
          </a:xfrm>
          <a:prstGeom prst="bentConnector3">
            <a:avLst>
              <a:gd name="adj1" fmla="val 49952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1108080" y="4656240"/>
            <a:ext cx="1541520" cy="392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25360" y="3112920"/>
            <a:ext cx="1541520" cy="3924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4103640"/>
            <a:ext cx="1828800" cy="390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Repre</a:t>
            </a:r>
            <a:r>
              <a:rPr b="0" lang="pl-PL" sz="2000" spc="-1" strike="noStrike">
                <a:solidFill>
                  <a:srgbClr val="003366"/>
                </a:solidFill>
                <a:latin typeface="Arial Narrow"/>
              </a:rPr>
              <a:t>zentant</a:t>
            </a: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1800" spc="-1" strike="noStrike" baseline="30000">
                <a:solidFill>
                  <a:srgbClr val="003366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273204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318924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3951360"/>
            <a:ext cx="1371600" cy="392040"/>
          </a:xfrm>
          <a:prstGeom prst="flowChartProcess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Osobnik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87504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4027320"/>
            <a:ext cx="45720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3009600" y="2998800"/>
            <a:ext cx="68580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2427120"/>
            <a:ext cx="190476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cedur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kstrakcji c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5856120"/>
            <a:ext cx="190476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c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ced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185" idx="1"/>
            <a:endCxn id="210" idx="3"/>
          </p:cNvCxnSpPr>
          <p:nvPr/>
        </p:nvCxnSpPr>
        <p:spPr>
          <a:xfrm rot="10800000">
            <a:off x="2818800" y="4217400"/>
            <a:ext cx="2210400" cy="1372320"/>
          </a:xfrm>
          <a:prstGeom prst="bentConnector3">
            <a:avLst>
              <a:gd name="adj1" fmla="val 49991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1EC0D-5026-4E05-9394-6224802506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astosowanie: rozpoznawanie obiektów w paśmie widzialny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70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COIL-20 – Columbia Image Libra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brazy 20 obiektów codziennego użytk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óżne widoki tego samego obiektu (72 obrazy/obiek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641840" y="2440080"/>
            <a:ext cx="4170240" cy="312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1A7A7-6D51-4971-B456-D017ED7C1C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astosowanie: Rozpoznawanie obiektów w obrazach radarowy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g.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Synthetic Aperture Radar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SAR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 imag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080" y="2176560"/>
            <a:ext cx="2225520" cy="148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0" name=""/>
          <p:cNvSpPr/>
          <p:nvPr/>
        </p:nvSpPr>
        <p:spPr>
          <a:xfrm>
            <a:off x="2911320" y="375120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Z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2280" y="3751200"/>
            <a:ext cx="103968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R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75400" y="376236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3480" y="595008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16400" y="375120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5950080"/>
            <a:ext cx="103968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3520" y="5950080"/>
            <a:ext cx="103968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M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75400" y="595008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TR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152280" y="4351320"/>
            <a:ext cx="2225880" cy="1486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2378160" y="2176560"/>
            <a:ext cx="2225520" cy="148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2384280" y="4351320"/>
            <a:ext cx="2225880" cy="1486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4572000" y="4351320"/>
            <a:ext cx="2289240" cy="1487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6823080" y="2176560"/>
            <a:ext cx="2225520" cy="148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4600440" y="2176560"/>
            <a:ext cx="2225880" cy="148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6838920" y="4351320"/>
            <a:ext cx="2228760" cy="1479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42E04-E179-40FA-A0DB-67FEC9D2E1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astosowanie: Rozpoznawanie obiektów w obrazach radarowy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Niska rozdzielczość, znaczne zaszumienie, brak cech typu krawęd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00160" y="2211480"/>
            <a:ext cx="2192040" cy="2209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3"/>
          <a:srcRect l="0" t="0" r="718" b="0"/>
          <a:stretch/>
        </p:blipFill>
        <p:spPr>
          <a:xfrm>
            <a:off x="2419200" y="2211480"/>
            <a:ext cx="2214720" cy="2209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869160" y="2211480"/>
            <a:ext cx="2198520" cy="2209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190440" y="4495680"/>
            <a:ext cx="2193840" cy="2210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41" name=""/>
          <p:cNvSpPr/>
          <p:nvPr/>
        </p:nvSpPr>
        <p:spPr>
          <a:xfrm>
            <a:off x="2911320" y="404028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Z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2280" y="4040280"/>
            <a:ext cx="103968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R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75400" y="405144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3480" y="632448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4651200" y="2211480"/>
            <a:ext cx="2192400" cy="2205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46" name=""/>
          <p:cNvSpPr/>
          <p:nvPr/>
        </p:nvSpPr>
        <p:spPr>
          <a:xfrm>
            <a:off x="5216400" y="404028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7"/>
          <a:stretch/>
        </p:blipFill>
        <p:spPr>
          <a:xfrm>
            <a:off x="2419200" y="4495680"/>
            <a:ext cx="2210040" cy="2210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48" name=""/>
          <p:cNvSpPr/>
          <p:nvPr/>
        </p:nvSpPr>
        <p:spPr>
          <a:xfrm>
            <a:off x="2971800" y="6324480"/>
            <a:ext cx="103968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4651200" y="4495680"/>
            <a:ext cx="2206800" cy="2206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6869160" y="4495680"/>
            <a:ext cx="2184480" cy="2184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51" name=""/>
          <p:cNvSpPr/>
          <p:nvPr/>
        </p:nvSpPr>
        <p:spPr>
          <a:xfrm>
            <a:off x="5213520" y="6324480"/>
            <a:ext cx="103968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M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75400" y="632448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TR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EC648-F5FA-43A3-861F-4C7A15B9AE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Wyniki osiągnięte w ramach realizacji zadania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713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utomatyczna synteza kompletnego systemu rozpoznawania obrazów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ysoka trafność rozpoznawan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 wybranych konfiguracjach wariant koewolucyjny osiąga większe wartości trafności klasyfikowan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astosowania w zróżnicowanych zadaniach praktyczny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dane zastosowania do zadań uczenia maszynowe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yniki podsumowane m.in. w rozprawie habilitacyjnej i publikacjach, w tym IEEE Transactions SM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12DE6-9FBD-4DCE-BEB6-DD05786725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Zadanie 2: Metody badania dynamiki procesów ewolucyjnych i koewolucyjnych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sparcie dla zadania 1: Rozwój metod ewolucyjnych i koewolucyjnych do dekompozycji problemu przekształcania reprezentacji danych uczący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dentyfikacja związków pomiędzy fragmentami opisu rozwiązań i samych rozwiązań (genami i fenami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aliza procesu ewolucyjnego i związków pomiędzy osobnikami-rozwiązania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ykrywanie stagnacji i momentów przełomowy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Powiązanie wartości funkcji oceny (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fitnes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)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 informacją o strukturze przestrzeni rozwiązań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DFE44-0096-496D-859C-FC8887B58B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08000" y="1555920"/>
            <a:ext cx="1873080" cy="17715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2487600" y="1698480"/>
            <a:ext cx="1868400" cy="20005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4786200" y="1555920"/>
            <a:ext cx="4249800" cy="23018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179280" y="3643200"/>
            <a:ext cx="2373480" cy="2881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2620800" y="3643200"/>
            <a:ext cx="2373480" cy="2881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7"/>
          <a:stretch/>
        </p:blipFill>
        <p:spPr>
          <a:xfrm>
            <a:off x="179280" y="2419200"/>
            <a:ext cx="8785440" cy="280044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Identyfikacja związków pomiędzy fragmentami opisu rozwiązań i samych rozwiązań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(genami i fenam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AF011-3417-4227-80D5-60FA3820A6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8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2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6320" y="166680"/>
            <a:ext cx="8915400" cy="65120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971800" y="4876920"/>
            <a:ext cx="457200" cy="457200"/>
          </a:xfrm>
          <a:prstGeom prst="ellipse">
            <a:avLst/>
          </a:prstGeom>
          <a:noFill/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5120" y="3581280"/>
            <a:ext cx="457200" cy="457200"/>
          </a:xfrm>
          <a:prstGeom prst="ellipse">
            <a:avLst/>
          </a:prstGeom>
          <a:noFill/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00600" y="2971800"/>
            <a:ext cx="457200" cy="457200"/>
          </a:xfrm>
          <a:prstGeom prst="ellipse">
            <a:avLst/>
          </a:prstGeom>
          <a:noFill/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1828800"/>
            <a:ext cx="457200" cy="457200"/>
          </a:xfrm>
          <a:prstGeom prst="ellipse">
            <a:avLst/>
          </a:prstGeom>
          <a:noFill/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2560" y="1216440"/>
            <a:ext cx="3708360" cy="9169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aliza procesu ewolucyjnego i związków pomiędzy osobnikami-rozwiązaniam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5C61-CBAD-4013-82B0-441E90924AED}" type="slidenum">
              <a:t>19</a:t>
            </a:fld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esp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ó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r hab. inż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erzy Stefanowski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, kierown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r hab. inż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rzysztof Krawie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r inż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cek Jelon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r inż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ciej Komosińs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r inż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rmina Masłows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r inż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bert Susmag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gr inż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wid Wei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kres realizacj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Maj 2004 – Październik 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Nakłady: 210 t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020000" y="1484280"/>
            <a:ext cx="1063440" cy="14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BB7AF-D245-407B-B821-639B6AD384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Powiązanie wartości funkcji oceny z informacją o strukturze przestrzeni rozwiązań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Wizualizacja przebiegu ewolucj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anim" descr=""/>
          <p:cNvPicPr/>
          <p:nvPr/>
        </p:nvPicPr>
        <p:blipFill>
          <a:blip r:embed=""/>
          <a:stretch/>
        </p:blipFill>
        <p:spPr>
          <a:xfrm>
            <a:off x="1835280" y="2205000"/>
            <a:ext cx="5505480" cy="415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8F933-E96E-407F-83EF-40CE3D43B2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22200" y="1484280"/>
            <a:ext cx="84898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uże wolumeny danych elektronicznych w Internecie: strony internetowe, archiwa elektroniczne, e-mails, wiadomości prasowe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Wyszukiwanie konkretnej informacji oraz eksploracja struktury zbioru inform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ykorzystanie algorytmów grupowania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identyfikacja grup podobnych dokument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tychczasowe algorytmy (stosowane w I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trudności w automatycznym tworzeniu opisów tematycznych znajdowanych grup dokumentó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nne spojrzenie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Grupowanie opisow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Nie tylko grupowanie lecz także tworzenie zróżnicowanych i czytelnych opisów grup dokumentów podobnych tematycz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Zadanie 3: Nowe algorytmy grupowania dokumentów tekstowych i stron Internetowy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7726C-E47A-45B6-8BEA-F53AFE1C1C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79280" y="1773360"/>
            <a:ext cx="5616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prowadzenie algorytmu Ling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Grupowanie opisowe przede wszystkim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yników wyszukiwarek internetowych.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rzebieg algorytmu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9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szukuj najpierw fraz będących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dobrymi kandydatami na opis grup dokumentów</a:t>
            </a: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specyficzna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ekstrakcja fraz i słów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9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strukcja zróżnicowanych pojęć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ogólnych w modelu wektorowym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dekompozycja SV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9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szukiwanie podobieństwa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ybranych pojęć i kandydatów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na opis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9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rzydział dokumentów do grup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4067280" cy="3473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773240" y="5589720"/>
            <a:ext cx="424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ngo—Concept-Driven Algorithm for Clustering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arch Results.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EEE Intelligent Systems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Podejście „description comes first”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Algorytm Ling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97B51-6074-499D-9956-09BF4EBA6C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Implementacja algorytmu dostępna w systemie Carrot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81040" y="2009880"/>
            <a:ext cx="7981920" cy="45147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Przykład użycia algorytmu Lingo – grupowanie wyników zapytania podanego przez użytkownika`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4B530-3BA7-4033-94C2-D54CD2EFAE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Ocena eksperymentalna algorytmu Lingo na  zbiorach testowych zawierających wiele kategorii dobrze zdefiniowanych dokumentów WWW i ich opisów (tworzonych manulanie) pochodzących z repozytorium Open Directory Projec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równanie z innymi algorytmami: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56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Lingo prowadzi do czytelniejszych i bardziej zróżnicowanych opisów grup dokumentów,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56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lepiej identyfikuje powiązane tematy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56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w mniejszym stopniu dokonuje rozłożenia dokumentów z oryginalnej pojedynczej kategorii do różnych grup tematycznych w strukturze odkrytych skupień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Badania na uwzględnieniem specyfiki języka polskiego w grupowaniu dokumentów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56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opracowano koncepcje własnego „lematyzatora”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0120" y="189000"/>
            <a:ext cx="8489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Inne badania w ramach zadania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7F357-A9BD-451D-96B7-776AC4D21B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Badania w tok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1009800" y="1847880"/>
            <a:ext cx="2787480" cy="43117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4648320" y="2529000"/>
            <a:ext cx="4163760" cy="4888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4648320" y="4448160"/>
            <a:ext cx="4163760" cy="15717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adanie 4: Metody przekształcania reprezentacji danych uczących w rozpoznawaniu obrazów i widzeniu komputerowy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B4449-DA4E-4041-A98A-701626ECAC4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adanie 4: Metody przekształcania reprezentacji danych uczących w rozpoznawaniu obrazów i widzeniu komputerowy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24000" y="1628640"/>
          <a:ext cx="4857480" cy="317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628640"/>
                    <a:ext cx="485748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3348000" y="2066760"/>
            <a:ext cx="5753160" cy="43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6E380-4884-4E97-8995-0FEAF278612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adanie 5: Badania nad integracją metod automatycznej selekcji atrybutów z </a:t>
            </a:r>
            <a:r>
              <a:rPr b="0" lang="pl-PL" sz="2000" spc="-1" strike="noStrike">
                <a:solidFill>
                  <a:srgbClr val="ff0000"/>
                </a:solidFill>
                <a:latin typeface="Verdana"/>
              </a:rPr>
              <a:t>klasyfikatorami złożonymi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66640" y="1959120"/>
            <a:ext cx="818208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race na zwiększeniem trafności systemów integrujących zbiór „bazowych” klasyfikatorów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rzebadano użycie różnych strategii wyboru podzbiorów atrybutów w złożonych systemów klasyfikujących (głównie „bagging” i </a:t>
            </a:r>
            <a:r>
              <a:rPr b="0" i="1" lang="pl-PL" sz="17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pl-PL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Dokonano integracji wybranych strategii wyboru podzbiorów atrybutów z mechanizmem tworzenia podzbiorów przykładów uczących dla konstrukcji klasyfikatorów składowych w metodzie „bagging”.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56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Eksperymenty obliczeniowe na wielu problema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Bieżące badania nad zmianami sposoby wypracowywania decyzji końcowej systemu złożonego </a:t>
            </a: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selekcja podzbioru klasyfikatorów bazowych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DEB33-24E6-4A13-8D84-18D3F5DA2F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adanie 6: Zaproponowanie nowych algorytmów konstrukcji klasyfikatorów dla rozpoznawania wybranej klasy (w toku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Badania nad trudnymi problemami uczenia, w których występuje silne </a:t>
            </a:r>
            <a:r>
              <a:rPr b="0" lang="pl-PL" sz="1800" spc="-1" strike="noStrike">
                <a:solidFill>
                  <a:srgbClr val="ff0000"/>
                </a:solidFill>
                <a:latin typeface="Verdana"/>
              </a:rPr>
              <a:t>niezrównoważenie klas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decyzyjnych co do licznośc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Nowa metody tworzenia klasyfikatora regułowego, w którym zbiór reguł dla klasy mniejszościowej jest odpowiednio modyfikowany poprzez utworzenie dodatkowych reguł tak, aby zwiększyć skuteczność rozpoznawania przypadków tej klas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Dalsze badania nad uwzględnianiem „trudnych przypadków” w strefie brzegowej między klasami.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32755-FFAB-40B1-99A0-0EC30D8E2F4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Specyfi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Verdana"/>
              </a:rPr>
              <a:t>Systemy uczące się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(z przykładów) oraz odkrywanie wiedzy z dany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adania realizowane w obszarz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sp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ólny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czenia maszynowego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ozpoznawania obrazów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analizy dokumentów tekstowy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Verdana"/>
              </a:rPr>
              <a:t>Zastosowania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lgorytmów maszynowego uczenia się 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ozpoznawaniu obrazów i analizie sygnałów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analizie dokumentów tekstowych oraz eksploracji zasobów Internet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E66DB-BD61-4E3E-AFF5-AC3D5DE1BC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771640" y="162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0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84360" y="1773360"/>
          <a:ext cx="7704000" cy="3267000"/>
        </p:xfrm>
        <a:graphic>
          <a:graphicData uri="http://schemas.openxmlformats.org/drawingml/2006/table">
            <a:tbl>
              <a:tblPr/>
              <a:tblGrid>
                <a:gridCol w="1541160"/>
                <a:gridCol w="1992600"/>
                <a:gridCol w="1995480"/>
                <a:gridCol w="217476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ta 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ndard classifi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ength multipli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Replace ru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domin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000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5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77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.8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u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000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3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3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.4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rea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000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3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.4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4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rman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000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3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6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.6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patit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000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4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7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.7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…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000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…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…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…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i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000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39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5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.6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olog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000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12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3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.7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0" y="580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2286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5445000"/>
            <a:ext cx="812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prowadzone podejście znacząco przewyższa standardowe z uwagi na miarę wrażliwości bez pogorszenia globalnej trafnoś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Eksperymenty porównawcz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miara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nsitivity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 / Wrażliwość dla klasy mniejszościowej o specjalnym znaczeniu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83E0E-1C08-4623-A6F2-C03A8E077C4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Podsumowani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Podczas dotychczasowej realizacji grantu opublikowano 25 prac, w ty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9 artykułów (Lista Filadelfijsk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5 rozdziałów w monografiach i pracach zbiorowy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9 w materialach konferencyjny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Ponad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publikowano i obroniono 1 monografię habilitacyjn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lanuje się ukończenie doktorat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4CDDB-7BA0-4597-9091-BA69D4F8C8A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Opublikowane pozycje książkow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1840" y="1628640"/>
            <a:ext cx="8489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Andrew Adamatzky &amp; Maciej Komosinski  (Eds.), </a:t>
            </a:r>
            <a:r>
              <a:rPr b="0" i="1" lang="pl-PL" sz="1800" spc="-1" strike="noStrike">
                <a:solidFill>
                  <a:srgbClr val="000000"/>
                </a:solidFill>
                <a:latin typeface="Verdana"/>
              </a:rPr>
              <a:t>Artificial Life Models in Software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, Springer-Verlag, New York, 2005, 344 p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Bir Bhanu, Yingqiang Lin, Krzysztof Krawiec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olutionary Synthesis of Pattern Recognition Systems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, Springer-Verlag, New York 2005, 294 p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6921360" y="3429000"/>
            <a:ext cx="1898640" cy="29480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176560" y="3803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4143240" y="3429000"/>
            <a:ext cx="230040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AD40D-72E3-4291-BBF2-686D3229425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Motywacje: ograniczenia istniejących podejść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graniczone możliwości przekształcania reprezentacji danych, zwłaszcza dla złożonych danych i definicji pojęć.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dea: w miejsce z góry ustalonego zbioru atrybutów -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Verdana"/>
              </a:rPr>
              <a:t>konstrukcja nowych atrybutów (cech)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granicz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ne możliwości standardowych algorytmów w przypadku trudnych i wieloklasowych problemów.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dea: konstruowanie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Verdana"/>
              </a:rPr>
              <a:t>złożonych systemów klasyfikujących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Trudności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Verdana"/>
              </a:rPr>
              <a:t>rozpoznawania wybranej klasy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(mniejszościowej) o szczególnym znaczeniu dla niezrównoważonych liczebnie danyc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Nieadekwatność dotychczasowych algorytmów IR w klasyfikacji dokumentów tekstowych i Internetowyc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5ADF1-F29E-4F72-8259-A3799F262A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Cele projekt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adanie metod automatycznej konstrukcji cech z wykorzystaniem algorytmów ewolucyjnych i koewolucyjnyc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adania nad integracją metod automatycznej selekcji i konstrukcji cech z klasyfikatorami złożonymi oraz nad metodami określających udział klasyfikatorów składowych w decyzji końcowej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aproponowanie nowych algorytmów indukcji klasyfikatorów dla rozpoznawania wybranej klasy decyzyjnej w danych zawierających niezrównoważone liczebnie klasy decyzyj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prowadzenie nowych algorytmów grupowania dokumentów tekstowych dla potrzeb wyszukiwanie informacji w Interneci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4D96D-1339-4C9A-AC22-4AAF10505C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Harmonogr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280" y="1824120"/>
          <a:ext cx="8856720" cy="4405320"/>
        </p:xfrm>
        <a:graphic>
          <a:graphicData uri="http://schemas.openxmlformats.org/drawingml/2006/table">
            <a:tbl>
              <a:tblPr/>
              <a:tblGrid>
                <a:gridCol w="505080"/>
                <a:gridCol w="7056360"/>
                <a:gridCol w="12952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ozwój metod ewolucyjnych i koewolucyjnych do dekompozycji problemu przekształcania reprezentacji danych uczący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 kwietnia 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ozwój metod i technik służących do badania dynamiki procesów ewolucyjnych i koewolucyjnych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 kwietnia 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aproponowanie nowych algorytmów grupowania i klasyfikacji dokumentów tekstowych i stron Internetowy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 kwietnia 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racowanie metod przekształcania reprezentacji danych uczących w rozpoznawaniu obrazów i widzeniu komputerowy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 kwietnia 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adania nad integracją metod automatycznej selekcji i konstrukcji cech z klasyfikatorami złożonymi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 kwietnia 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aproponowanie nowych algorytmów indukcji klasyfikatorów dla rozpoznawania wybranej klasy decyzyjnej o szczególnym znaczeni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 kwietnia 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eryfikacja praktyczna zaproponowanych algorytmów w analizie przykładowych baz danych, rozpoznawaniu obrazów i grupowaniu dokumentów tekstowych/stron Internetowy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 paźdźiernika 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01A59-0283-4782-8C23-34C5D29A39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Prace wykonane w pierwszym roku realizacji grant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Zadanie 1: Metody automatycznego przekształcania reprezentacji danych uczący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el: opracowanie podejścia uczenia maszynoweg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tosowalnego do danych obrazowych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ożliwie uniwersalneg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apewniającego wysoką zdolność predykcyjną w zastosowaniach do rzeczywistych problemów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umożliwiającego interpretację pozyskanej wiedz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3F022-E16D-419A-BB6D-F6F7C06FBF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kspercka konstrukcja c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2200" y="1628280"/>
            <a:ext cx="54021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Verdana"/>
              </a:rPr>
              <a:t>Cecha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(ang. </a:t>
            </a:r>
            <a:r>
              <a:rPr b="0" i="1" lang="pl-PL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): wielkość wyliczona w sposób pośredni z przykładu/obrazu (z atrybutów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Verdana"/>
              </a:rPr>
              <a:t>Ekspercka konstrukcja cech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= projektowanie przez eksperta procedur obliczających cechy dla przykładów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ady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czasochłonna i kosztowna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mało systematyczna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odatna na subiektywne preferencje i błędy  projektanta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owadzi do mało uniwersalnych rozwiązań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3573360"/>
            <a:ext cx="1905120" cy="9907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 Narrow"/>
              </a:rPr>
              <a:t>System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 Narrow"/>
              </a:rPr>
              <a:t>decyzyjny (rozpoznają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97720" y="2438280"/>
            <a:ext cx="2438280" cy="28958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597720" y="1219320"/>
            <a:ext cx="2438280" cy="1447920"/>
            <a:chOff x="6597720" y="1219320"/>
            <a:chExt cx="2438280" cy="1447920"/>
          </a:xfrm>
        </p:grpSpPr>
        <p:sp>
          <p:nvSpPr>
            <p:cNvPr id="116" name=""/>
            <p:cNvSpPr/>
            <p:nvPr/>
          </p:nvSpPr>
          <p:spPr>
            <a:xfrm>
              <a:off x="6597720" y="1219320"/>
              <a:ext cx="2438280" cy="99036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zykład/Obra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>
              <a:stCxn id="116" idx="2"/>
              <a:endCxn id="118" idx="0"/>
            </p:cNvCxnSpPr>
            <p:nvPr/>
          </p:nvCxnSpPr>
          <p:spPr>
            <a:xfrm flipV="1" rot="10800000">
              <a:off x="7816320" y="2209320"/>
              <a:ext cx="1080" cy="45792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9" name=""/>
          <p:cNvGrpSpPr/>
          <p:nvPr/>
        </p:nvGrpSpPr>
        <p:grpSpPr>
          <a:xfrm>
            <a:off x="6597720" y="5181120"/>
            <a:ext cx="2438280" cy="1371960"/>
            <a:chOff x="6597720" y="5181120"/>
            <a:chExt cx="2438280" cy="1371960"/>
          </a:xfrm>
        </p:grpSpPr>
        <p:sp>
          <p:nvSpPr>
            <p:cNvPr id="120" name=""/>
            <p:cNvSpPr/>
            <p:nvPr/>
          </p:nvSpPr>
          <p:spPr>
            <a:xfrm>
              <a:off x="6597720" y="5562720"/>
              <a:ext cx="2438280" cy="99036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Decyzja/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Rozpoznan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22" idx="2"/>
              <a:endCxn id="120" idx="0"/>
            </p:cNvCxnSpPr>
            <p:nvPr/>
          </p:nvCxnSpPr>
          <p:spPr>
            <a:xfrm flipV="1" rot="10800000">
              <a:off x="7816320" y="5181120"/>
              <a:ext cx="1080" cy="38196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3" name=""/>
          <p:cNvGrpSpPr/>
          <p:nvPr/>
        </p:nvGrpSpPr>
        <p:grpSpPr>
          <a:xfrm>
            <a:off x="6826320" y="2666880"/>
            <a:ext cx="1981080" cy="990720"/>
            <a:chOff x="6826320" y="2666880"/>
            <a:chExt cx="1981080" cy="990720"/>
          </a:xfrm>
        </p:grpSpPr>
        <p:sp>
          <p:nvSpPr>
            <p:cNvPr id="118" name=""/>
            <p:cNvSpPr/>
            <p:nvPr/>
          </p:nvSpPr>
          <p:spPr>
            <a:xfrm>
              <a:off x="6826320" y="2666880"/>
              <a:ext cx="1981080" cy="6858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ocedury ekstrakcji ce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"/>
            <p:cNvCxnSpPr>
              <a:stCxn id="118" idx="2"/>
              <a:endCxn id="125" idx="0"/>
            </p:cNvCxnSpPr>
            <p:nvPr/>
          </p:nvCxnSpPr>
          <p:spPr>
            <a:xfrm flipV="1" rot="10800000">
              <a:off x="7816320" y="3352320"/>
              <a:ext cx="1080" cy="30564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6826320" y="3657600"/>
            <a:ext cx="1981080" cy="60948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Wektor c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22" idx="0"/>
          </p:cNvCxnSpPr>
          <p:nvPr/>
        </p:nvCxnSpPr>
        <p:spPr>
          <a:xfrm flipV="1" rot="10800000">
            <a:off x="7815960" y="4266720"/>
            <a:ext cx="1080" cy="30564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6826320" y="4572000"/>
            <a:ext cx="1981080" cy="6094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lasyfik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21200" y="5280120"/>
            <a:ext cx="198108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cz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7" idx="0"/>
            <a:endCxn id="122" idx="1"/>
          </p:cNvCxnSpPr>
          <p:nvPr/>
        </p:nvCxnSpPr>
        <p:spPr>
          <a:xfrm flipH="1" flipV="1" rot="5400000">
            <a:off x="6167160" y="4620960"/>
            <a:ext cx="40392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91580-E34D-468E-84A6-4601B9C42B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12:31:18Z</dcterms:created>
  <dc:creator>jurek</dc:creator>
  <dc:description/>
  <dc:language>en-US</dc:language>
  <cp:lastModifiedBy>Krzysztof Krawiec</cp:lastModifiedBy>
  <dcterms:modified xsi:type="dcterms:W3CDTF">2005-11-18T11:34:28Z</dcterms:modified>
  <cp:revision>456</cp:revision>
  <dc:subject/>
  <dc:title>Zastosowanie metod inteligentnej eksploracji danych do wspomagania rozpoznawania zapalenia wyrostka robaczkowego u dzieci -</dc:title>
</cp:coreProperties>
</file>