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50B-5A30-4668-A285-A799E821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B4B-265F-4060-ADAA-89C2CD7A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9B1-9749-4272-B711-093052B9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52F-13E8-4F1E-94D5-E0349014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98E-934D-4810-85E9-4FF68E68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DF5-CC66-42C6-8AF1-029F16B3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50B-9954-404C-AEAA-70072F28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291-B8AA-4521-A3F9-0623B467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82F-9D9D-4914-8FED-7653E92B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5A3-D04B-4E63-A748-B94ABA7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61C-A720-4914-BD81-AEF5777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3AB-5E67-43FF-AC14-E0D45923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567E-A059-42DB-A840-999509274B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1720" y="1219320"/>
            <a:ext cx="76201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3333cc"/>
                </a:solidFill>
                <a:latin typeface="Arial"/>
              </a:rPr>
              <a:t>Konstrukcja klasyfikatorów minimalnoodległościowych </a:t>
            </a:r>
            <a:br>
              <a:rPr sz="4000"/>
            </a:br>
            <a:r>
              <a:rPr b="0" i="1" lang="pl-PL" sz="4000" spc="-1" strike="noStrike">
                <a:solidFill>
                  <a:srgbClr val="3333cc"/>
                </a:solidFill>
                <a:latin typeface="Arial"/>
              </a:rPr>
              <a:t>o strukturze sieciow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ymon Grabowsk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edra Informatyki Stosowanej P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raków, październik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285768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47242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romotor: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rof. dr hab. inż. Dominik Sank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Wersja kompromisowa algorytmu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iast „pełnego” rozcięcia przestrzeni, przeprowadzamy hiperpłaszczyzny tylko c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ty punkt z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 na każdej współrzędnej (wymaga to policzenia odległ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–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 dodatkowych punktów dla każdej współrzędne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9AB-9B16-4609-9362-3286F182DF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9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867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 wymiary, 1000 próbek w zbiorze odnies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276720"/>
            <a:ext cx="2286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Implementacja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++ (g++ 2.95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Testy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eleron 533 MHz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84 MB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5791320" cy="262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8406000" cy="21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147-BA42-4A38-AFA6-6F7FF9976B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5943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5 wymiarów, 1000 próbek w zbiorze odnies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6232320" cy="283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7772400" cy="21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DE0-E6F9-4A71-B0A6-5326403531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219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Własności proponowanego algorytmu (podsumowanie)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051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rdzo wysokie (wykładnicze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koszta wstępnej obróbki —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praktyczne ograniczenie zastosowań do wymiarów 3–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do szukania tylko jednego najbliższego sąsi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do metryki miejsk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ubliniowość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najgorszym przypad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lastyczność (parametr kompromisu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st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555-A23C-4239-9B94-F9C9D759E8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1-N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najprostsza i najszybsza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rsja reguły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-N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N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sze przyspieszenie klasyfikacji typu 1-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siągam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 pomocy redukcji zbioru odniesi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jbardziej znane algorytm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dukcji zbioru odniesi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Harta (196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Gowda’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hna’y (197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Gatesa (197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Changa (197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Tomeka (197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2338560" cy="218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00600" y="55627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zykładowa reduk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0F7-39E5-4B10-B11E-3DC6C425517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457200"/>
            <a:ext cx="74678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Cechy algorytmu redukcji Skalaka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1994)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babilistyczny (w klasie algorytmów typ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random mutation hill climb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dukcja do zadanej liczby próbe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 gwarantuje zgodności zbioru zredukowa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344400"/>
            <a:ext cx="830556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Skalak1(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pl-PL" sz="3200" spc="-1" strike="noStrike" baseline="-25000">
                <a:solidFill>
                  <a:srgbClr val="a50021"/>
                </a:solidFill>
                <a:latin typeface="Arial"/>
              </a:rPr>
              <a:t>1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losuj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próbek ze zbioru odniesienia S do zbioru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redukowanego R i estymuj jakość otrzymanego zbior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konaj w pętl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mutacji; mutacja polega na wylosowani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jednej próbki z R i jednej z S\R; jeśli zamiana tych próbek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mniejsza estymowany błąd klasyfikacji, to ją zaakceptuj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A51-B9A4-4B08-81A6-B40554D19A0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0" y="914400"/>
            <a:ext cx="38862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838080"/>
            <a:ext cx="868680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rocedura Skalak2(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a50021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ykonaj Skalak1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ykonaj w pętl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tacji polegających teraz na zmiani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sowej współrzędnej (tj. cechy) losowej próbki z 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o 0.5 lub –0.5; jeśli mutacja zmniejsza estymowany błą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klasyfikacji, to ją zaakceptuj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03848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zystkie opisane algorytmy generują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jedyncz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lobalny) zbiór zredukow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ternatywne podejście w niniejszej prac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zbiór zredukowany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ybierany konteksto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okalni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la danej prób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F4A-DB7D-48CB-B52A-DB5B7414366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7621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Łączenie klasyfikator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mbining classifier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— przedmiot intensywnych badań od początku lat 90. XX 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905120"/>
            <a:ext cx="815328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Trzy zasadniczo odmienne podejś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łosowanie (np. większościowe) zespołu klasyfikatorów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Hansen i Salamon, 1990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; wada: czas klasyfikacj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oporcjonalny do liczby klasyfikatorów składowych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okalny wybór klasyfikato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oods i in., 1997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ada: trudność określenia (szybkiego) kryteriu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yboru klasyfikator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lasyfikator kaskad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paydi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ynak, 19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óbki „łatwe” oceniane są przez szybki klasyfikator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óbki „trudniejsze” przechodzą do następnych etapów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(z wolniejszymi, lecz dokładniejszymi klasyfikatoram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26A-DB8E-4F58-9F55-F3F8F6AAE4E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457200"/>
            <a:ext cx="7620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ponujemy dwa schematy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lokalnego wyboru </a:t>
            </a:r>
            <a:br>
              <a:rPr sz="24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zbioru zredukowa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la reguły 1-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)  schemat z partycjonowani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strzeni płaszczyzna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)  schemat z klasteryzacją zbioru odniesi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09680" y="2895480"/>
            <a:ext cx="5143680" cy="240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533412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Podział zbioru na: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(a) regiony przy pomocy płaszczyzn;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(b) klastry, np. metodą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k 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CCE-A973-491E-BEAC-675475E148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762120"/>
            <a:ext cx="5257800" cy="5331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28600"/>
            <a:ext cx="861048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uczenia w schemacie </a:t>
            </a:r>
            <a:br>
              <a:rPr sz="3200"/>
            </a:b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klasteryzacja+Skalak(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L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odziel zbiór odniesienia na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skupisk (klastrów)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przy pomocy metody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średnich (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ygeneruj „globalnie”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zbiorów zredukowany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(procedura Skalak1 lub Skalak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la każdego klastra estymuj jakość klasyfikacji regułą 1-NN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przy użyciu poszczególnych zb. zredukowanych.  Skojarz z każdym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klastrem najlepszy dla niego klasyfikator (tj. zbiór zredukowany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114800"/>
            <a:ext cx="79246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klasyfikacji próbki 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olicz odległości od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do środków ciężkości wszystkich klastrów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i wybierz klaster najbliższy zgodnie z tym kryteriu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rzypisz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do klasy zwracanej przez klasyfikator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skojarzony z najbliższym klastre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0492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289-4D17-4A2A-B25D-D52F7DCF94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457200"/>
            <a:ext cx="8001000" cy="58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Klasyfikac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stalanie etykiet klas rozpoznawanych obiek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el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ybkie klasyfikato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redukcja informacji wejściowej, efektywne struktury dany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tory dokład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że pewien korzystny kompromis między szybkością a jakości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Zakres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cj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adzorow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śli dany jest zbiór uczący (baza wiedz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cj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ieparametrycz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 apriorycznego modelu probabilistycz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ymetryczna funkcja str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ażda pomyłka jednakowo kosztow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30492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6F4-7DA5-4083-A5A6-5281CFADF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78200" y="2173320"/>
            <a:ext cx="3551400" cy="576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533520"/>
            <a:ext cx="4038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Klasyfikator 1-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– brak redukcji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 – Hart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 – Gowda-Krishna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 – Skalak1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 – Skalak2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 – klasteryzacja + Skalak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40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496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elkość zbioru zreduk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060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łąd klasy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85800"/>
            <a:ext cx="3809880" cy="27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Arial"/>
              </a:rPr>
              <a:t>Zbiór danych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rdzenie ferrytow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ontrola jakości w zakładach Polfer w W-w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biory uczące po 1400 próbek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etryka miejs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562720"/>
            <a:ext cx="990720" cy="27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5486400"/>
            <a:ext cx="1067040" cy="3049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4E5-A3E1-4C51-831A-78B1B9BD00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19320" y="1219320"/>
            <a:ext cx="6705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ja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ymetrycznego sąsiedzt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skość sąsiadó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ład geometryczny sąsiadów w przestrzen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„wokół” próbki testowe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9528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ktyczne definicje symetrycznego sąsiedztwa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udhur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1996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ha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in.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8098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 ignoruje aspekt położen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adów w przestrze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6DA-8098-4D18-A38B-DBF1A35342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 scentrowanych sąsiad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 Nearest Centroid Neighbor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) —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chez i in., 1997; koncepcja NCN: Chaudhuri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k-NCN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791320" cy="3741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guł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CN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19E-9805-4F80-B983-E253AAD950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666880"/>
            <a:ext cx="23623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914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60948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ponujemy stochastyczną regułę </a:t>
            </a:r>
            <a:br>
              <a:rPr sz="2400"/>
            </a:b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Near Surrounding Neighbo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NSN)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tóra optymalizuje oba kryteria używane przez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2133720"/>
            <a:ext cx="8077320" cy="37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gory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-NSN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jdź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centrowanych sąsiadów (NCN)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próbk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ętli próbuj zastępować losowego sąsiad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losową próbką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e zbioru odniesienia, o ile jest ona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położona bliżej próbk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iż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jeśli środek ciężkośc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nowego układu sąsiadów leży bliżej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iż przed zamian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8B0-7753-4157-8C22-18F5CFF195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457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106640"/>
            <a:ext cx="7696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Arial"/>
              </a:rPr>
              <a:t>zbiory dan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dzenie ferrytow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kontrola jakości w zakładach Polfer w W-w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903 próbki, 30 cech, 8 kl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 losowych partycji na zb. uczący (1400 próbek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testowy (4503 próbk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ęć zbiorów dan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University of California, Irvine (UCI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Bupa, Glass, Iris, Pima, Win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-krotna walidacja skroś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zystkie dane postandaryzowa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ryka miejs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EE7-F044-4867-9485-71C0F2AFF6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Zbiór Iris w rzucie dwuwymiarowym (cechy 3 i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828800"/>
          <a:ext cx="7619760" cy="28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239220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41D-18E0-4105-9E37-FC30DD8EC8A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4572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łędy [%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zbiorach U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5943600" cy="244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676520" y="1143000"/>
            <a:ext cx="6777000" cy="2463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23880" y="457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8288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Błędy [%]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zbiorz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er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743200"/>
            <a:ext cx="198108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3886200"/>
            <a:ext cx="2590920" cy="4557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A15-E102-4797-B84C-F8E5F85884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52480" y="3581280"/>
            <a:ext cx="64008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505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Klasyfikator </a:t>
            </a:r>
            <a:r>
              <a:rPr b="0" i="1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voting k</a:t>
            </a:r>
            <a:r>
              <a:rPr b="0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-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962520"/>
            <a:ext cx="876312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ginalna reguł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 korzysta z jednej wartośc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bierane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wykle przy pomocy metody minus jednego elemen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d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ymowana optymalna war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ametr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ie musi gwaranto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jlepszej ja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 w zadan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mała przestrzeń możliwych mode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nowany klasyfikator zwiększa przestrzeń rozpatrywanych model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ygładza granice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80880"/>
            <a:ext cx="57150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, iż słyszeliście jakąś rzecz nie powinno być jeszcze prawidłem waszego wierzenia; tak dalece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ż nie powinniście w nic uwierzyć nie wprawiwszy się wprzód w taki stan, jak gdybyście nigdy tego nie usłysze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 Pascal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82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rgumentowano w szeroko cytowanej pracy (Breiman, 1996)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ż klasyfikatorów minimalnoodległościowych (NN) nie można pomyślnie wykorzystać w schematach sieciowych z uwagi na ich stabiln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prawdy.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819-6211-40B5-9FD8-3F9367302E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38188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4038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łosowanie 3 klasyfikatorów typu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716256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nalogiczne schematy z głosowanie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proponowaliśmy dla reguł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S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eciwieństwie do większości klasyfikatorów równoległych,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strat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prędkości klasyfik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tosunku do „pojedynczego” klasyfikatora jest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umiarkowa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w przypadk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voting 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zaniedbywal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380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lasyfikator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voting 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-NN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20E-7F56-4CC2-A34A-72E1072978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990720"/>
            <a:ext cx="82296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roponowana rodzina klasyfikatorów kaskad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Cel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bry kompromis między jakości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czasem klasyfik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Idea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wie fazy klasyfikacj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ierwsz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azie klasyfikator szybszy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arty na głosowaniu (równoległy); jako kryterium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kazujące „łatwą” próbkę przyjęto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jednogłośn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ę zespołu komponentów z pierwszej fazy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drugi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azie wolny, lecz dokładny klasyfikator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np.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lub ich wersj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vot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8FF-CD49-43FE-B140-4E8B40E709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lasyfikatory minimalnoodległościowe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NN, jej warianty i klasyfikatory pokrew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76520"/>
            <a:ext cx="63248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alety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ptotyczna optymalnoś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zwyczaj dobra jakość w prakty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ota, podatność na modyfikac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ady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na klasyfikacj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żliwość na zbędne cech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ła przestrzeń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ozpatrywanych mode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1523880"/>
            <a:ext cx="3047760" cy="132624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 typy klasyfikator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ci neuronow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zewa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k-NN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581280" cy="257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52880" y="5715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Klasyfikacja próbki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regułą 3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651-21E5-43A0-AB4C-BEB8DE235B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384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640" y="685800"/>
            <a:ext cx="80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umy rang klasyfikatorów na pięciu zbiorach U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niejsze wartości są korzystniejs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5562360" cy="493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4495680"/>
            <a:ext cx="5867640" cy="1524240"/>
          </a:xfrm>
          <a:prstGeom prst="parallelogram">
            <a:avLst>
              <a:gd name="adj" fmla="val 96239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1C8-44A4-4859-ACD1-0ACDD15A67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324480" y="533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182880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924680" y="182880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962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962520"/>
            <a:ext cx="30456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15200" y="3962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28600"/>
            <a:ext cx="883908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odsumowanie i wnio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niskich wymiarach możliwe jest szukanie najbliższego sąs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czasie subliniowym w liczności zbioru w najgorszym przypadku; prezentowany algorytm dopuszcza użycie współczynnika kompromisu między szybkością szukania a kosztem wstępnej obrób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kalny wybór zredukowanego zbioru odniesienia oferuj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ższą jakość klasyfikacji niż klasyfikatory opart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pojedynczym zbiorze zredukowanym (podejście klasycz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metryczne sąsiedztwo” to nowy sposób poprawy jak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dzinie klasyfikatorów minimalnoodległościowych.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prezentowana regu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SN optymalizuje oba kryter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żywane w klasyfikatorze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a jest wersja reguły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wieloma wartościam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yższa jakość klasyfikacji za cenę minimalnego spowolnie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e z p. 3 i 4 pozwalają na projektowanie klasyfikatorów kaskadowych o korzystnych relacjach szybkości do jakości klasyf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243-1D9F-4F5E-BB3C-EEBDAB616C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746280"/>
            <a:ext cx="8839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lany na przyszłość (m. in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ksperymenty z doborem parametrów dla schematu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 lokalnym wyborem zbioru odniesienia (metoda klasteryzacji,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liczba klastrów, wielkość każdego zbioru zredukowaneg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ozważenie zmiany strategii uczenia w algorytmie Skalak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miar jakości poszczególnych klasyfikatorów składow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klasyfikatorach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SN (postrzeganych jak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klasyfikatory równoległe), a także korelacji między nimi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szerzenie zaproponowanej rodziny klasyfikatorów kaskadow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(np. wprowadzenie algorytmów trójetapowych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FFF-3225-4882-BFC5-91A0B63E2F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33520"/>
            <a:ext cx="800100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Lit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istic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c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es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bor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ch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anhattan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I Konferencja „Komputerowe System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poznawania”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Y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łków k/Karpacza, maj 2001, str. 375–379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with the k-NCN decision ru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X Konferencj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Sieci i Systemy Informatyczne”, Łódź, październik 2001, str. 307–317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over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ple k-NN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sifier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IEEE Conference TCSET’2002, Lviv-Slavs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2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223–225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ny wybór zredukowanego zbioru odniesieni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ium nt. „Przetwarzanie i analiza sygnałów w systemach wizji i sterowania”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łok k/Bełchatowa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erwiec 2002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.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142–147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 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M. Baran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cja algorytmu szybkiego deterministycznego szukania najbliższego sąsiada w metryce miejski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erencj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Sieci i Systemy Informatyczne”, Łódź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aździernik 2002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499–5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100-55BD-4A71-98D3-4B9A5D2F29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533520"/>
            <a:ext cx="80010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Literatura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of cascade NN-like classifier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International IEEE Conference on Experience of Designing and Application of CAD Systems in Microelectronics (CADSM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iv–Slavsk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3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503–506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A. Jóźwi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t reduction for nearest neighbor classifiers under different speed requirement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International IEEE Conference on Experience of Designing and Application of CAD Systems in Microelectronics (CADSM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iv–Slavsk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3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465–46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B. Sokołowsk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over multiple k-NN and k-NCN classifiers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etection of respiration patholog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onferencja „Komputerowe Systemy Rozpoznawania” (KOSYR 2003), Miłków k/Karpacza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j 2003, str. 363–36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owards decision rule based on closer symmetric neighborhoo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ocybernetics and Biomedical Engineering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ol. 23, No. 3, lipiec 2003, str. 39–4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A. Jóźwik, C.-H. Che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earest neighbor decision rul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for pixel classification in remote sens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rozdział monografii „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iers of Remote Sensing Info Processing”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Patt, World Scientific Publishing Co. Pte. Ltd., Singapu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lipiec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D7E-2E1F-4752-9CD4-980DF0121F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1295280"/>
            <a:ext cx="7543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zęść prac wykonywanych było w ramach grantu NATO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tyczącego analizy zdjęć lotniczych (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remote sensing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ierownik: prof. C.-H. Chen z N.Dartmouth Coll., MA, USA,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spółwykonawcy: dr A. Jóźwik, Sz. Grabows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airhaven, czerwiec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Fairhaven%20-%20prof%20Chen,%20dr%20Jozwik%20and%20SzG-cropped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462560" cy="25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7A4-83EE-45BE-960F-B1E674A4AC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136600" y="682560"/>
          <a:ext cx="4869000" cy="549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6600" y="682560"/>
                    <a:ext cx="486900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6A0-1A93-467B-A9ED-BB1A8E08B7E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762120"/>
            <a:ext cx="8077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Zgodność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consistency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 zbioru zredukowanego </a:t>
            </a:r>
            <a:br>
              <a:rPr sz="24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z oryginalnym zbiorem odniesienia (def.)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prawna klasyfikacja wszystkich prób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oryginalnego zbio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0532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ększość algorytmów redukcji gwarantuje zgodność zbioru zredukowanego ze zbiorem oryginalny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zgodność jest „dobrym” kryteri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DFF-9AAB-44DA-AC0F-07FC23DD98A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ilka faktów dotyczących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N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n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 bada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formułowanie problemu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sk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t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dal daleko do satysfakcjonujących algorytm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wiele algorytmów z subliniowy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asem szuk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w najgorszym przypadk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kleństwo wymiarowości” („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urse of dimensionalit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32004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rzybliżone szukanie najbliższego sąsiada</a:t>
            </a:r>
            <a:br>
              <a:rPr sz="2800"/>
            </a:br>
            <a:r>
              <a:rPr b="0" lang="pl-PL" sz="2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Approximate Nearest Neighbor Search (A-NNS)</a:t>
            </a:r>
            <a:r>
              <a:rPr b="0" lang="pl-PL" sz="2200" spc="-1" strike="noStrike">
                <a:solidFill>
                  <a:srgbClr val="a50021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„prawdziwy” najbliższy sąsiad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ersja oryginalna problemu 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xact NN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iecujące wyniki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dyk i Motwani, 1998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ushilevitz i in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114800"/>
            <a:ext cx="601992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NN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la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q,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jeże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724280" y="4114800"/>
                <a:ext cx="2590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605-AF4E-4802-A67B-25C43220999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610480" cy="2004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1143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5812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biór IRIS: 4 wymiary, 150 prób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825-5D49-4BD5-81D1-8B1069E2AE3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00400"/>
            <a:ext cx="6248520" cy="3124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57200"/>
            <a:ext cx="632448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Główne kierunki modyfikacji reguły </a:t>
            </a:r>
            <a:r>
              <a:rPr b="1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-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dyfikacja metody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głosowa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np. ważon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(Dudani, 197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dyfikacja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etykie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oru uczącego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np. rozmyt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uczeniem (Jóźwik, 198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rzucanie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niepewnyc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predykcj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Tomek, 1976; Jóźwik i in., 199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szybkie szukani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najbliższych sąsiadó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problem postawiony w: Minsky i Papert, 196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redukcj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oru ucząc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Hart, 1968, i ok. 30 dalszych pra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chematy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równoległ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Skalak, 1997; Alpaydin, 199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a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symetrycznego sąsiedztw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udhur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6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chez i in., 1997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56C-734A-46EA-B3CF-125FE41B3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verfitting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783560" cy="1854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144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Zjawisko przeuczenia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overfitting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4114800"/>
            <a:ext cx="83818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órą płaszczyznę rozdzielającą klas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bioru uczącego należy wybrać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jedyncza odstająca od pozostałych (ang.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outly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próbk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 znaczący wpływ na wyuczone granice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łaszczyzna (b) prawdopodobnie lepiej odpow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kładowi prawdopodobieństw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581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żliwe hipotezy dla tego samego zbi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286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awdziwa inteligencja polega na tym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y wiedzieć kiedy przestać myśl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0AC-1DA1-49D2-91C4-FDF9C6F65FA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abelka-Slok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562720" cy="5186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55627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dzenie ferrytowe: liczności zbiorów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redukowanych i błędy klasy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685800"/>
            <a:ext cx="31240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Spostrzeż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epsza jakość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 braku redukcj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łabe wyni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arta i G-K (kryterium zgodności wątpliw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dyfikacja Skalaka przydatna przy agresywnej redukcj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y wybór zb. zred. poprawia jakość – zwłaszcza przy bardzo ostrych wymaganiach szybkościowy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chemata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lokalnych” mniejszy błąd przy silniejszej redukcji (!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48D-DC0E-4A22-81A4-2EE002BD299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685800"/>
            <a:ext cx="7543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Schematy dekompozycji zadania wielodecyzyj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óźwik-Vernazza, 198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reira-Mayoraz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5257800" cy="2652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3880" y="48006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adanie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-decyzyjne, decyzja w wyniku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głosowania sieci dychotomize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638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chemat Moreiry-Mayoraza (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orrecting Classifier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— w głosowaniu uczestniczą tylko (przypuszczalnie) adekwatne klasyfikatory składow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C84-A2CC-472D-A5F9-C623C2A3FB9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6019560" cy="244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2590920" y="2971800"/>
            <a:ext cx="6019560" cy="2471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8600" y="9144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łędy (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o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C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SN (100, 50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2500 iteracj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 zbiorach U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33526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Odch. stand. (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metod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,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SN (100, 500 i 2500 iteracji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zbiorach U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F1E-E27A-419B-A7C4-EF7136CA628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248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14400" y="914400"/>
          <a:ext cx="7315200" cy="362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14400"/>
                    <a:ext cx="73152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487692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ne ferrytowe.  Średnia liczba najbliższych sąsiadów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 obrębie promieni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tego sąsiada NCN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3.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267080"/>
            <a:ext cx="2057400" cy="398880"/>
          </a:xfrm>
          <a:prstGeom prst="rect">
            <a:avLst/>
          </a:prstGeom>
          <a:solidFill>
            <a:srgbClr val="f6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edz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762120"/>
            <a:ext cx="2057400" cy="398880"/>
          </a:xfrm>
          <a:prstGeom prst="rect">
            <a:avLst/>
          </a:prstGeom>
          <a:solidFill>
            <a:srgbClr val="f6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edz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E08-DC5D-46EC-BE2D-D1132C609F8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14400" y="685800"/>
            <a:ext cx="73915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Wniosk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oferują wyższą jakość klasyfik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ż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N;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średnio lepsz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kompozycja zadania wielodecyzyjnego atrakcyjną techniką poprawy jak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schemat M-M przeważnie lepsz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to uwzględniać nie tylko bliskość sąsiadów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e i „kształt” ich układ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koncepcja symetrycznego sąsiedztw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305-FEBE-471B-A64C-3CDB6496BF1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09480" y="762120"/>
            <a:ext cx="7925040" cy="55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Algorytm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voting 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-N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Arial"/>
              </a:rPr>
              <a:t>Faza u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ziel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krotnie zbiór uczący na losowe połowy;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każdym przypadku jedna połowa zbioru będzie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biorem konstrukcyjnym, zaś druga walidacyjny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najdź optymalne wartośc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dla każdego zbioru konstrukcyj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 estymacją błędu na odpowiednim zbiorze walidacyjny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Arial"/>
              </a:rPr>
              <a:t>Faza klasyfika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klasyfikuj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krotnie próbkę testową przy użyciu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reguły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i otrzymaj finalną decyzję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wyniku prostego głosowan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B57-B58D-4FB2-A9AA-905A6502D97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0880" y="990720"/>
            <a:ext cx="45720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Konkretne algoryt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kalak) +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S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S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91120" cy="2405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62520" y="4800600"/>
            <a:ext cx="4876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óbka testowa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 b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praw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zypisana do klasy „krz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ków”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ze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szystk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asyfikatory s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owe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N, o ile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≥ 3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.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14479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aleta użycia metody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voting k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-NN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w pierwszej fazie klasyfikatora kaskad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79F-BAB3-4FDB-9FE4-A95D527C84E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14600" y="1447920"/>
            <a:ext cx="4495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onkretne algorytm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kalak) +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S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S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F96-71D5-4FA5-AD25-F343BF4B089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228600"/>
            <a:ext cx="883908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lany na przyszłość (m. in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erymentować z doborem parametrów dla schematu z lokalny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wyborem zbioru odniesienia (metoda klasteryzacji, liczba klastrów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wielkość każdego zbioru zredukowane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ażyć zmianę strategii uczenia w algorytmie Skalaka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Oryginalny algorytm genetyczny, z racji stosowania tylko jednego operator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genetycznego (mutacja), może mieć trudności z wyjściem z lokalnego minim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erzyć jakość poszczególnych klasyfikatorów składowych w klasyfikator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SN (postrzeganych jako klasyfikatory równoległe)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a także korelację między nim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implementować „brakujące” połączenia opisywanych schemat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 algorytmami dekompozycyjnymi dla zadań wielodecyzyjnych.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ozważyć użycie selekcji cech dla podzadań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analizować skuteczność technik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voting 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 przy różnych liczebności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espołu komponentów i różnych metodach podziału zbioru ucząc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na część konstrukcyjną i walidacyjną.  Wziąć pod uwagę możliwy schema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 ważonym głosowaniem, np. w duchu idei Grossmana i Williamsa (1999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dla schemat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bagging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909-07A9-4415-95E6-DF098426A11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8001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a50021"/>
                </a:solidFill>
                <a:latin typeface="Arial"/>
              </a:rPr>
              <a:t>Tezy rozprawy doktor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 niskich wymiarach (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5) możliwe jest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znajdowanie najbliższego sąsiada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 deterministycznym subliniowym czasie w metryce miejskiej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okalny wybór zredukowanego zbioru odniesienia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rowadzi do osiągnięcia wyższej jakości klasyfikacji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niż oferowana przez pojedynczy zbiór zredukowany,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zwłaszcza przy bardzo wysokich wymagania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szybkościowych nałożonych na klasyfikację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liwe jest stworzenie równoleg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j sieci klasyfikatoró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ypu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iadó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, os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gaj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ej wy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z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ja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predykcji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klasyfikator bazowy przy umiarkowanym spowolnieniu klasyfikacji, um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liwiaj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ej ponadto, w p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zeniu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z koncepc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j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tzw. symetrycznego 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iedztwa,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owanie klasyfikatorów kaskadowy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o korzystnych relacjach szyb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i do ja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i klasyfikacji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FA3-4B93-441C-9883-5B971F04D8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914400"/>
            <a:ext cx="830592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Zbiory UC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ory na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repozytorium Uniwersytetu Kalifornijskiego w Irv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achine Learning Repository, University of California, Irvine) (Merz i Murphy, 199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wszechnie wykorzystywane w literaturze przedmio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p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wykrywania schorz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oby w populacji 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ki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w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nych z nad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waniem alkoholu.  P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ierwszych cech to wyniki testów krw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tomiast ostatnia cecha to liczba jednostek alkoholu przyjmowany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dnio w c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u doby przez badanego 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z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Glas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próbek 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ó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ych rodzajów sz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(okienne, samochodowe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dentyfikowanych na podstawie zawar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ok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nych pierwiastków chemiczny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. in. krzemu, sodu i wapnia).  Zbiór zgromadzony przez kryminologó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 Home Office Forensic Science Service w Reading w Wielkiej Brytan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ri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próbek trzech podgatunków kos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, klasyfikowanych na podstawie czterech geometrycznych cech (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szero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a oraz 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szero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ka r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ny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ór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popularyzowany przez Fishera (1936)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EA6-E14E-4722-BA31-DD570B746CE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914400"/>
            <a:ext cx="83059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Zbiory UCI, c.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im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odnos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s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zadania rozpoznania symptomów cukrzyc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 oparciu o kryteria przy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 przez Świato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rganizac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drowia (WHO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ne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zgromadzone na podstawie bad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pulacji Indian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 plemienia Pima (okolice Phoenix w Arizonie, US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rozpoznania jednego z trzech gatunków win 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sk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 podstawie cech wyekstrahowanych w wyniku analizy chemicznej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929-A99A-42B4-A0AB-B2FBCB6C623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914400"/>
            <a:ext cx="83059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Inne zbi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errite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kontroli ja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rdzeni ferrytowy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produkowane w za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ach Polfer w Warszawie.  Obraz danego rdzenia analizowany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iksel po pikslu, a zatem obiektami two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mi zbió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jedyncze piksle obrazu powierzchni rdzenia.  Wy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one klasy stwierdza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 dany piksel na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do dobrej (nieuszkodzonej) 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rdzenia, do 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 t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jednego z sz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u rodzajów defektów.  Cechy opisu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k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y pik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yekstrahowane 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 jego 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edztwa (histogram jasn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i momenty 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ych stopn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chy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dobrane w taki sposób, aby ich war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w niewielkim tylko stopni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mieni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s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y obrotach danego rdzenia ferrytowego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ny opis zbioru zawiera praca (Nieniewski i in., 199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E87-EDF2-42AF-B437-49E6E1104B17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914400"/>
            <a:ext cx="83059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Inne zbiory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motes —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detekcji obiektów (pól upraw) na zd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ach lotniczych wykonanych w rejonie Feltwell w Wielkiej Brytanii.  Roz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a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la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le uprawne marchwi, ziemniaka, buraka cukrowego, pszenicy oraz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cier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chy opisu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obiekty pozyskiwan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z dwóch sensorów: optycznego i radarowego.  Zbiór ten opisany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ardziej szczeg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wo w pracach (Roli, 1996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(Grabowski i in., 2003).  Dane niniejsze wykorzystywan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w grancie NA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r PST.CLG.977258 (2001–2002)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m zastosow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eparametrycznych meto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zpoznawania obrazów w aplikacjach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mote sensing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go kierownikiem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of. C.-H. Chen z N. Dartmouth Coll., MA, US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sp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ykonawcami dr Adam J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k i autor niniejszej rozprawy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4B9-931F-49BD-B535-20E4D4DA4A1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533520" y="1523880"/>
            <a:ext cx="7924320" cy="3981600"/>
            <a:chOff x="533520" y="1523880"/>
            <a:chExt cx="7924320" cy="3981600"/>
          </a:xfrm>
        </p:grpSpPr>
        <p:grpSp>
          <p:nvGrpSpPr>
            <p:cNvPr id="305" name=""/>
            <p:cNvGrpSpPr/>
            <p:nvPr/>
          </p:nvGrpSpPr>
          <p:grpSpPr>
            <a:xfrm>
              <a:off x="541080" y="1526400"/>
              <a:ext cx="7907400" cy="3975480"/>
              <a:chOff x="541080" y="1526400"/>
              <a:chExt cx="7907400" cy="397548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41080" y="1526400"/>
                <a:ext cx="2340720" cy="496800"/>
                <a:chOff x="541080" y="1526400"/>
                <a:chExt cx="2340720" cy="496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5960" y="1526400"/>
                  <a:ext cx="21909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biór dany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1080" y="1526400"/>
                  <a:ext cx="2340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882160" y="1526400"/>
                <a:ext cx="1854720" cy="496800"/>
                <a:chOff x="2882160" y="1526400"/>
                <a:chExt cx="1854720" cy="496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95740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 kl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882160" y="1526400"/>
                  <a:ext cx="1854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737600" y="1526400"/>
                <a:ext cx="1855440" cy="496800"/>
                <a:chOff x="4737600" y="1526400"/>
                <a:chExt cx="1855440" cy="496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81284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 ce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737600" y="1526400"/>
                  <a:ext cx="185544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593760" y="1526400"/>
                <a:ext cx="1854720" cy="496800"/>
                <a:chOff x="6593760" y="1526400"/>
                <a:chExt cx="1854720" cy="496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828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óbe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93760" y="1526400"/>
                  <a:ext cx="1854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1080" y="2023200"/>
                <a:ext cx="2340720" cy="386280"/>
                <a:chOff x="541080" y="2023200"/>
                <a:chExt cx="2340720" cy="386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5960" y="20232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p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1080" y="20232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882160" y="2023200"/>
                <a:ext cx="1854720" cy="386280"/>
                <a:chOff x="2882160" y="2023200"/>
                <a:chExt cx="1854720" cy="386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95740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882160" y="20232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737600" y="2023200"/>
                <a:ext cx="1855440" cy="386280"/>
                <a:chOff x="4737600" y="2023200"/>
                <a:chExt cx="1855440" cy="3862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81284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737600" y="20232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593760" y="2023200"/>
                <a:ext cx="1854720" cy="386280"/>
                <a:chOff x="6593760" y="2023200"/>
                <a:chExt cx="1854720" cy="3862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66828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93760" y="20232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41080" y="2409480"/>
                <a:ext cx="2340720" cy="386280"/>
                <a:chOff x="541080" y="2409480"/>
                <a:chExt cx="2340720" cy="3862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15960" y="240948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as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41080" y="240948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882160" y="2409480"/>
                <a:ext cx="1854720" cy="386280"/>
                <a:chOff x="2882160" y="2409480"/>
                <a:chExt cx="1854720" cy="386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95740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82160" y="24094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737600" y="2409480"/>
                <a:ext cx="1855440" cy="386280"/>
                <a:chOff x="4737600" y="2409480"/>
                <a:chExt cx="1855440" cy="386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81284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737600" y="240948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593760" y="2409480"/>
                <a:ext cx="1854720" cy="386280"/>
                <a:chOff x="6593760" y="2409480"/>
                <a:chExt cx="1854720" cy="386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66828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3760" y="24094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41080" y="2796120"/>
                <a:ext cx="2340720" cy="386640"/>
                <a:chOff x="541080" y="2796120"/>
                <a:chExt cx="2340720" cy="386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15960" y="2796120"/>
                  <a:ext cx="219096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i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41080" y="2796120"/>
                  <a:ext cx="2340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882160" y="2796120"/>
                <a:ext cx="1854720" cy="386640"/>
                <a:chOff x="2882160" y="2796120"/>
                <a:chExt cx="1854720" cy="3866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95740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882160" y="2796120"/>
                  <a:ext cx="1854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737600" y="2796120"/>
                <a:ext cx="1855440" cy="386640"/>
                <a:chOff x="4737600" y="2796120"/>
                <a:chExt cx="1855440" cy="386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81284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737600" y="2796120"/>
                  <a:ext cx="185544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593760" y="2796120"/>
                <a:ext cx="1854720" cy="386640"/>
                <a:chOff x="6593760" y="2796120"/>
                <a:chExt cx="1854720" cy="3866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828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93760" y="2796120"/>
                  <a:ext cx="1854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41080" y="3182760"/>
                <a:ext cx="2340720" cy="386280"/>
                <a:chOff x="541080" y="3182760"/>
                <a:chExt cx="2340720" cy="3862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15960" y="318276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m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1080" y="318276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882160" y="3182760"/>
                <a:ext cx="1854720" cy="386280"/>
                <a:chOff x="2882160" y="3182760"/>
                <a:chExt cx="1854720" cy="3862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95740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82160" y="31827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737600" y="3182760"/>
                <a:ext cx="1855440" cy="386280"/>
                <a:chOff x="4737600" y="3182760"/>
                <a:chExt cx="1855440" cy="3862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81284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737600" y="318276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93760" y="3182760"/>
                <a:ext cx="1854720" cy="386280"/>
                <a:chOff x="6593760" y="3182760"/>
                <a:chExt cx="1854720" cy="386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66828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6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3760" y="31827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1080" y="3569400"/>
                <a:ext cx="2340720" cy="386280"/>
                <a:chOff x="541080" y="3569400"/>
                <a:chExt cx="2340720" cy="3862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15960" y="35694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1080" y="35694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882160" y="3569400"/>
                <a:ext cx="1854720" cy="386280"/>
                <a:chOff x="2882160" y="3569400"/>
                <a:chExt cx="1854720" cy="3862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95740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882160" y="35694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737600" y="3569400"/>
                <a:ext cx="1855440" cy="386280"/>
                <a:chOff x="4737600" y="3569400"/>
                <a:chExt cx="1855440" cy="3862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81284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737600" y="35694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593760" y="3569400"/>
                <a:ext cx="1854720" cy="386280"/>
                <a:chOff x="6593760" y="3569400"/>
                <a:chExt cx="1854720" cy="3862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66828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593760" y="35694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541080" y="3956040"/>
                <a:ext cx="2340720" cy="386280"/>
                <a:chOff x="541080" y="3956040"/>
                <a:chExt cx="2340720" cy="3862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615960" y="395604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rri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41080" y="395604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882160" y="3956040"/>
                <a:ext cx="1854720" cy="386280"/>
                <a:chOff x="2882160" y="3956040"/>
                <a:chExt cx="1854720" cy="386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95740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82160" y="395604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737600" y="3956040"/>
                <a:ext cx="1855440" cy="386280"/>
                <a:chOff x="4737600" y="3956040"/>
                <a:chExt cx="1855440" cy="386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81284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737600" y="395604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593760" y="3956040"/>
                <a:ext cx="1854720" cy="386280"/>
                <a:chOff x="6593760" y="3956040"/>
                <a:chExt cx="1854720" cy="386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828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9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93760" y="395604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541080" y="4342680"/>
                <a:ext cx="2340720" cy="386280"/>
                <a:chOff x="541080" y="4342680"/>
                <a:chExt cx="2340720" cy="386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5960" y="434268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rrites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41080" y="434268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882160" y="4342680"/>
                <a:ext cx="1854720" cy="386280"/>
                <a:chOff x="2882160" y="4342680"/>
                <a:chExt cx="1854720" cy="3862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95740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882160" y="43426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737600" y="4342680"/>
                <a:ext cx="1855440" cy="386280"/>
                <a:chOff x="4737600" y="4342680"/>
                <a:chExt cx="1855440" cy="386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81284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737600" y="434268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593760" y="4342680"/>
                <a:ext cx="1854720" cy="386280"/>
                <a:chOff x="6593760" y="4342680"/>
                <a:chExt cx="1854720" cy="3862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66828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8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593760" y="43426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41080" y="4728960"/>
                <a:ext cx="2340720" cy="386280"/>
                <a:chOff x="541080" y="4728960"/>
                <a:chExt cx="2340720" cy="3862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15960" y="472896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B8.PA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41080" y="472896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882160" y="4728960"/>
                <a:ext cx="1854720" cy="386280"/>
                <a:chOff x="2882160" y="4728960"/>
                <a:chExt cx="1854720" cy="386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95740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882160" y="47289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4737600" y="4728960"/>
                <a:ext cx="1855440" cy="386280"/>
                <a:chOff x="4737600" y="4728960"/>
                <a:chExt cx="1855440" cy="3862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481284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737600" y="472896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593760" y="4728960"/>
                <a:ext cx="1854720" cy="386280"/>
                <a:chOff x="6593760" y="4728960"/>
                <a:chExt cx="1854720" cy="386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66828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29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593760" y="47289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41080" y="5115600"/>
                <a:ext cx="2340720" cy="386280"/>
                <a:chOff x="541080" y="5115600"/>
                <a:chExt cx="2340720" cy="3862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15960" y="51156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mo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41080" y="51156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882160" y="5115600"/>
                <a:ext cx="1854720" cy="386280"/>
                <a:chOff x="2882160" y="5115600"/>
                <a:chExt cx="1854720" cy="3862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95740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82160" y="51156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4737600" y="5115600"/>
                <a:ext cx="1855440" cy="386280"/>
                <a:chOff x="4737600" y="5115600"/>
                <a:chExt cx="1855440" cy="3862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481284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737600" y="51156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593760" y="5115600"/>
                <a:ext cx="1854720" cy="386280"/>
                <a:chOff x="6593760" y="5115600"/>
                <a:chExt cx="1854720" cy="3862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828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593760" y="51156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533520" y="1523880"/>
              <a:ext cx="7924320" cy="3981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harakterystyka użytych zbiorów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0BA-79DD-4F0C-B699-DE0259A0C70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1676520" y="1447920"/>
            <a:ext cx="5715000" cy="4757760"/>
            <a:chOff x="1676520" y="1447920"/>
            <a:chExt cx="5715000" cy="4757760"/>
          </a:xfrm>
        </p:grpSpPr>
        <p:sp>
          <p:nvSpPr>
            <p:cNvPr id="430" name=""/>
            <p:cNvSpPr/>
            <p:nvPr/>
          </p:nvSpPr>
          <p:spPr>
            <a:xfrm>
              <a:off x="167652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9600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7652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9600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4544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6492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4544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6492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1436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420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1436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3420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328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0276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8328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0276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5256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7204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5256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7204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6000" y="3020760"/>
              <a:ext cx="19483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6520" y="302076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64920" y="3020760"/>
              <a:ext cx="90900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4200" y="3020760"/>
              <a:ext cx="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793400" y="3020760"/>
              <a:ext cx="90900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923720" y="3020760"/>
              <a:ext cx="19483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64920" y="3807000"/>
              <a:ext cx="2207880" cy="30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łosowanie większościow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4200" y="4200480"/>
              <a:ext cx="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4360" y="47246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34200" y="47246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14360" y="52488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4200" y="52488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043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7540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443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1324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825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5812560"/>
              <a:ext cx="1558440" cy="39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cyzja końcow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5335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Realizacja funkcji XOR przy pomocy sieci klasyfikatorów 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z prostym głosowan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3C7-E087-46FB-B7BC-713892FE739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1752480" y="2286000"/>
            <a:ext cx="4876920" cy="838080"/>
            <a:chOff x="1752480" y="2286000"/>
            <a:chExt cx="4876920" cy="838080"/>
          </a:xfrm>
        </p:grpSpPr>
        <p:sp>
          <p:nvSpPr>
            <p:cNvPr id="471" name=""/>
            <p:cNvSpPr/>
            <p:nvPr/>
          </p:nvSpPr>
          <p:spPr>
            <a:xfrm>
              <a:off x="1752480" y="2286000"/>
              <a:ext cx="4876920" cy="838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0" y="236232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04920" y="228600"/>
            <a:ext cx="883908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odsumowanie i wnio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niskich wymiarach możliwe jest szukanie najbliższego sąs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czasie subliniowym w liczności zbioru w najgorszym przypadku; prezentowany algorytm dopuszcza użycie współczynnika kompromisu między szybkością szukania a kosztem wstępnej obrób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kalny wybór zredukowanego zbioru odniesienia oferuj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ższą jakość klasyfikacji niż klasyfikatory opart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pojedynczym zbiorze zredukowanym (podejście klasycz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metryczne sąsiedztwo” to nowy sposób poprawy jak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dzinie klasyfikatorów minimalnoodległościowych.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prezentowana regu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SN optymalizuje oba kryter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żywane w klasyfikatorze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a jest wersja reguły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wieloma wartościam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yższa jakość klasyfikacji za cenę minimalnego spowolnie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e z p. 3 i 4 pozwalają na projektowanie klasyfikatorów kaskadowych o korzystnych relacjach szybkości do jakości klasyf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52480" y="1066680"/>
            <a:ext cx="4876920" cy="838440"/>
            <a:chOff x="1752480" y="1066680"/>
            <a:chExt cx="4876920" cy="838440"/>
          </a:xfrm>
        </p:grpSpPr>
        <p:sp>
          <p:nvSpPr>
            <p:cNvPr id="475" name=""/>
            <p:cNvSpPr/>
            <p:nvPr/>
          </p:nvSpPr>
          <p:spPr>
            <a:xfrm>
              <a:off x="2286000" y="114300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52480" y="1066680"/>
              <a:ext cx="4876920" cy="8384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752480" y="3657600"/>
            <a:ext cx="4876920" cy="2056680"/>
            <a:chOff x="1752480" y="3657600"/>
            <a:chExt cx="4876920" cy="2056680"/>
          </a:xfrm>
        </p:grpSpPr>
        <p:sp>
          <p:nvSpPr>
            <p:cNvPr id="479" name=""/>
            <p:cNvSpPr/>
            <p:nvPr/>
          </p:nvSpPr>
          <p:spPr>
            <a:xfrm>
              <a:off x="2286000" y="384480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52480" y="3657600"/>
              <a:ext cx="4876920" cy="2056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043-58AE-45F6-8946-60E1D207C06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1752480" y="609480"/>
            <a:ext cx="5352840" cy="1828800"/>
            <a:chOff x="1752480" y="609480"/>
            <a:chExt cx="5352840" cy="1828800"/>
          </a:xfrm>
        </p:grpSpPr>
        <p:grpSp>
          <p:nvGrpSpPr>
            <p:cNvPr id="482" name=""/>
            <p:cNvGrpSpPr/>
            <p:nvPr/>
          </p:nvGrpSpPr>
          <p:grpSpPr>
            <a:xfrm>
              <a:off x="1757160" y="612360"/>
              <a:ext cx="5343480" cy="1821600"/>
              <a:chOff x="1757160" y="612360"/>
              <a:chExt cx="5343480" cy="18216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1757160" y="612360"/>
                <a:ext cx="1781280" cy="607320"/>
                <a:chOff x="1757160" y="612360"/>
                <a:chExt cx="1781280" cy="6073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80144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757160" y="61236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538440" y="612360"/>
                <a:ext cx="1780920" cy="607320"/>
                <a:chOff x="3538440" y="612360"/>
                <a:chExt cx="1780920" cy="6073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58272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poprawna 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538440" y="612360"/>
                  <a:ext cx="178092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319360" y="612360"/>
                <a:ext cx="1781280" cy="607320"/>
                <a:chOff x="5319360" y="612360"/>
                <a:chExt cx="1781280" cy="6073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36400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ę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na (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19360" y="61236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1757160" y="1219680"/>
                <a:ext cx="1781280" cy="607320"/>
                <a:chOff x="1757160" y="1219680"/>
                <a:chExt cx="1781280" cy="6073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180144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poprawna 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7160" y="121968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538440" y="1219680"/>
                <a:ext cx="1780920" cy="607320"/>
                <a:chOff x="3538440" y="1219680"/>
                <a:chExt cx="1780920" cy="607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58272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538440" y="1219680"/>
                  <a:ext cx="178092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319360" y="1219680"/>
                <a:ext cx="1781280" cy="607320"/>
                <a:chOff x="5319360" y="1219680"/>
                <a:chExt cx="1781280" cy="6073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36400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19360" y="121968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757160" y="1827000"/>
                <a:ext cx="1781280" cy="606960"/>
                <a:chOff x="1757160" y="1827000"/>
                <a:chExt cx="1781280" cy="6069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80144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ę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na (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757160" y="1827000"/>
                  <a:ext cx="178128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538440" y="1827000"/>
                <a:ext cx="1780920" cy="606960"/>
                <a:chOff x="3538440" y="1827000"/>
                <a:chExt cx="1780920" cy="606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58272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538440" y="1827000"/>
                  <a:ext cx="178092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5319360" y="1827000"/>
                <a:ext cx="1781280" cy="606960"/>
                <a:chOff x="5319360" y="1827000"/>
                <a:chExt cx="1781280" cy="6069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536400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319360" y="1827000"/>
                  <a:ext cx="178128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1752480" y="609480"/>
              <a:ext cx="5352840" cy="1828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523880" y="2590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rawdopodobieństwa;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419720" y="3276720"/>
                <a:ext cx="2057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219320" y="3581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półczynnik Yule’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4537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półczynnik korel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657600" y="4267080"/>
                <a:ext cx="4495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39625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521000" y="5373720"/>
                <a:ext cx="2514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029200" y="5334120"/>
                <a:ext cx="14400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762120" y="601992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g: C.A.Shipp &amp; L.I.Kuncheva, „Relationships between combination methods and measures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 diversity in combining classifiers”, Information Fusion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ol. 3, No. 2, str. 135–148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F08-7B33-4B10-8857-8DB99C153464}" type="slidenum">
              <a:t>5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676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Szukanie najbliższego sąsiada </a:t>
            </a:r>
            <a:br>
              <a:rPr sz="32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NNS –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Nearest Neighbor Search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sk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t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ejście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ór P = {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} (dany „off-line”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estrzeni X z funkcją odległośc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f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óbka testow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prezentowana „on-line”)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danie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dokonać takiej wstępnej obróbki zbioru P, aby możliwe było szybkie znajdowanie najbliższego sąsiad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P.  Przegląd zupełny 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brute for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wymaga czasu O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wymiar przestrzeni X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03848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Fakty:</a:t>
            </a:r>
            <a:br>
              <a:rPr sz="2800"/>
            </a:br>
            <a:br>
              <a:rPr sz="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wiele alg. z subliniowym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czasem szuk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w najgorszym przypadku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w wysokich wymiarach nadal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brak dobrych algorytmów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03848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otrzeby:</a:t>
            </a:r>
            <a:br>
              <a:rPr sz="2800"/>
            </a:br>
            <a:br>
              <a:rPr sz="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z gór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czasu szukani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(możliwe w niskich wymiarach)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prostota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968-123B-422E-B925-32F4ED6861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8080" y="4876920"/>
            <a:ext cx="274320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bkin i Lipton (1976), Yao i Yao (1985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garwal i Mato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k (1992), Mato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k (199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larkson (1988):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eiser (1993):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Algorytm proponowany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współczynnik kompromi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Algorytmy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NNS 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z czasem szukania </a:t>
            </a:r>
            <a:br>
              <a:rPr sz="2800"/>
            </a:b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subliniowym w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57800" y="2286000"/>
                <a:ext cx="14749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257800" y="2819520"/>
                <a:ext cx="1946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029200" y="4114800"/>
                <a:ext cx="1371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029200" y="3581280"/>
                <a:ext cx="987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172200" y="4800600"/>
                <a:ext cx="1227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62520" y="5410080"/>
                <a:ext cx="3473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C6B-F984-4915-82B8-AFBF8D6110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metryka miejska (Manhatt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895480" y="990720"/>
                <a:ext cx="33148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762120" y="22860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Kluczowa własność metryki miejskiej:</a:t>
            </a:r>
            <a:br>
              <a:rPr sz="28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dowolnych punktó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276720"/>
                <a:ext cx="5973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162920" y="3276720"/>
                <a:ext cx="1179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743200" cy="215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8B7-1C7A-4713-ADB3-40DA8BB29B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Jedna z próbek NN(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)..NN(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) jest najbliższym sasiadem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. Wierzchołek 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 jest (przypadkowo) miejscem położenia pewnej próbki (która jest oczywiście NN tego wierzchoł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1143000"/>
          <a:ext cx="10217160" cy="39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143000"/>
                    <a:ext cx="1021716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533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Przykład dwuwy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826-C767-4CFA-B15D-80A2FFDAFE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8:05:40Z</dcterms:created>
  <dc:creator>Szymon Grabowski</dc:creator>
  <dc:description/>
  <dc:language>en-US</dc:language>
  <cp:lastModifiedBy>Szymon Grabowski</cp:lastModifiedBy>
  <dcterms:modified xsi:type="dcterms:W3CDTF">2003-10-11T21:27:05Z</dcterms:modified>
  <cp:revision>167</cp:revision>
  <dc:subject/>
  <dc:title>Prezentacja programu PowerPoint</dc:title>
</cp:coreProperties>
</file>