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73080" y="2130120"/>
            <a:ext cx="7089840" cy="20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Zasady sterowania</a:t>
            </a:r>
            <a:br>
              <a:rPr sz="3600"/>
            </a:b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urządzeniami pomiarowymi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5486400"/>
            <a:ext cx="708984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Zdalne ustawianie zasobów funkcjonalnych urządzeń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Inicjowanie akwizycji danych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3a1"/>
                </a:solidFill>
                <a:latin typeface="Trebuchet MS"/>
              </a:rPr>
              <a:t>Odczyt danych pomiarowych.</a:t>
            </a: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d5"/>
                </a:solidFill>
                <a:latin typeface="Arial"/>
              </a:rPr>
              <a:t>Programowanie</a:t>
            </a:r>
            <a:r>
              <a:rPr b="0" lang="en-US" sz="1800" spc="-1" strike="noStrike">
                <a:solidFill>
                  <a:srgbClr val="ffebd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bd5"/>
                </a:solidFill>
                <a:latin typeface="Arial"/>
              </a:rPr>
              <a:t>tekstowe współczesnych urządzeń.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981080"/>
            <a:ext cx="792504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odzaje komunikatów tekstow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Do urządze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lecenia nastawc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ustawienie zasobów, wykonanie operacj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Zapyta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 aktualne ustawienie zasobu, wyniki pomiar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Z urządze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owiedzi na zapyt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aty komunikató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godne z ustaleniami SCPI (standardowe komunikaty programowalnej aparatu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fikacja komunikatów – SC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zapewnia niezależność sposobu obsługi urządzeń od jego producenta, typu urządzenia, rodzaju platformy interfejsow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Formaty komunikatów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08" name="pol1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7010280" cy="2239920"/>
          </a:xfrm>
          <a:prstGeom prst="rect">
            <a:avLst/>
          </a:prstGeom>
          <a:ln w="0">
            <a:noFill/>
          </a:ln>
        </p:spPr>
      </p:pic>
      <p:pic>
        <p:nvPicPr>
          <p:cNvPr id="209" name="odp" descr=""/>
          <p:cNvPicPr/>
          <p:nvPr/>
        </p:nvPicPr>
        <p:blipFill>
          <a:blip r:embed="rId2"/>
          <a:stretch/>
        </p:blipFill>
        <p:spPr>
          <a:xfrm>
            <a:off x="2438280" y="4495680"/>
            <a:ext cx="4754520" cy="181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62120" y="41148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unikat nastawczy lub pytający np. ”FREQ 100.3” lub ”FREQ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5520" y="632448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unikat odpowiedzi;  np. ”1.003E+02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Model urządzenia według SCP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13" name="model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248520" cy="3048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8080" y="4876920"/>
            <a:ext cx="80773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zystkie zasoby przyrządowe dotyczące podobnych funkcji są grupowane w określonym podsystemie, np. INPut, SENSe i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p. zasoby funkcjonalne dotyczące sposobu inicjalizowania akcji pomiarowych (źródło wyzwolenia, opóźnienie, liczba wyzwoleń itp.) są umieszczone  w podsystemie TRIGg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dobne zasoby funkcjonalne różnych urządzeń znajdują się w podsystemie o takiej samej nazwie. Pozwala to stosować identyczne słowa kluczowe nagłówków poleceń w odniesieniu do odpowiadających sobie zasobów funkcjonalnych różnych urządze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Budowa drzewa podsystemu SCPI .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16" name="drzewo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43640" cy="2354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066680" y="4191120"/>
            <a:ext cx="7483680" cy="25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ęzły grupują zasoby funkcjonalne podobnego przeznac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niższym poziomie znajdują się węzły bardziej szczegółowo grupujące zasoby funkcjonalne należące do danego podsyste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lejne poziomy węzłów dzielą zasoby coraz szczegółowiej aż do węzła dotyczącego konkretnego zasobu funkcjonal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żdy węzeł jest nazwany pewnym słowem kluczowym. Nazwy mogą się powtarzać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sób funkcjonalny jest określony zestawem nazw węzłów od poziomu korzenia do wierzchołka gałęzi, który jest z nim związ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 określona nazwa zasobu jest nagłówkiem polecenia ustawiającego ten zasób, np.  :SOUR:FUNC:SHAP – wybór kształtu generowanego sygnał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Formułowanie nagłówka polecenia SCPI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219" name="drzewo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543640" cy="23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219320" y="3962520"/>
          <a:ext cx="6629400" cy="2112840"/>
        </p:xfrm>
        <a:graphic>
          <a:graphicData uri="http://schemas.openxmlformats.org/drawingml/2006/table">
            <a:tbl>
              <a:tblPr/>
              <a:tblGrid>
                <a:gridCol w="1143000"/>
                <a:gridCol w="1447560"/>
                <a:gridCol w="1067040"/>
                <a:gridCol w="297180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SOURce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VO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&lt;num&gt; | MIN | MAX 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VPP | VRMS | DBM | DEF 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&lt;num&gt; | MIN | MAX 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SH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SIN | SQU | TRI | RAMP |...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066680" y="5410080"/>
          <a:ext cx="6933960" cy="380880"/>
        </p:xfrm>
        <a:graphic>
          <a:graphicData uri="http://schemas.openxmlformats.org/drawingml/2006/table">
            <a:tbl>
              <a:tblPr/>
              <a:tblGrid>
                <a:gridCol w="1195200"/>
                <a:gridCol w="1514520"/>
                <a:gridCol w="1116000"/>
                <a:gridCol w="31082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U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&lt;arb_name&gt; | VOLATAILE 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295280" y="4114800"/>
            <a:ext cx="3479760" cy="1811160"/>
          </a:xfrm>
          <a:custGeom>
            <a:avLst/>
            <a:gdLst/>
            <a:ahLst/>
            <a:rect l="l" t="t" r="r" b="b"/>
            <a:pathLst>
              <a:path w="2192" h="1089">
                <a:moveTo>
                  <a:pt x="0" y="0"/>
                </a:moveTo>
                <a:cubicBezTo>
                  <a:pt x="154" y="26"/>
                  <a:pt x="318" y="20"/>
                  <a:pt x="472" y="24"/>
                </a:cubicBezTo>
                <a:cubicBezTo>
                  <a:pt x="485" y="28"/>
                  <a:pt x="512" y="35"/>
                  <a:pt x="520" y="48"/>
                </a:cubicBezTo>
                <a:cubicBezTo>
                  <a:pt x="529" y="62"/>
                  <a:pt x="526" y="83"/>
                  <a:pt x="536" y="96"/>
                </a:cubicBezTo>
                <a:cubicBezTo>
                  <a:pt x="556" y="123"/>
                  <a:pt x="573" y="144"/>
                  <a:pt x="584" y="176"/>
                </a:cubicBezTo>
                <a:cubicBezTo>
                  <a:pt x="592" y="238"/>
                  <a:pt x="604" y="293"/>
                  <a:pt x="624" y="352"/>
                </a:cubicBezTo>
                <a:cubicBezTo>
                  <a:pt x="629" y="368"/>
                  <a:pt x="635" y="384"/>
                  <a:pt x="640" y="400"/>
                </a:cubicBezTo>
                <a:cubicBezTo>
                  <a:pt x="643" y="408"/>
                  <a:pt x="648" y="424"/>
                  <a:pt x="648" y="424"/>
                </a:cubicBezTo>
                <a:cubicBezTo>
                  <a:pt x="651" y="445"/>
                  <a:pt x="650" y="467"/>
                  <a:pt x="656" y="488"/>
                </a:cubicBezTo>
                <a:cubicBezTo>
                  <a:pt x="659" y="497"/>
                  <a:pt x="668" y="503"/>
                  <a:pt x="672" y="512"/>
                </a:cubicBezTo>
                <a:cubicBezTo>
                  <a:pt x="678" y="523"/>
                  <a:pt x="685" y="558"/>
                  <a:pt x="688" y="568"/>
                </a:cubicBezTo>
                <a:cubicBezTo>
                  <a:pt x="697" y="652"/>
                  <a:pt x="704" y="732"/>
                  <a:pt x="712" y="816"/>
                </a:cubicBezTo>
                <a:cubicBezTo>
                  <a:pt x="714" y="839"/>
                  <a:pt x="723" y="847"/>
                  <a:pt x="744" y="856"/>
                </a:cubicBezTo>
                <a:cubicBezTo>
                  <a:pt x="759" y="863"/>
                  <a:pt x="792" y="872"/>
                  <a:pt x="792" y="872"/>
                </a:cubicBezTo>
                <a:cubicBezTo>
                  <a:pt x="957" y="865"/>
                  <a:pt x="1110" y="873"/>
                  <a:pt x="1272" y="896"/>
                </a:cubicBezTo>
                <a:cubicBezTo>
                  <a:pt x="1306" y="907"/>
                  <a:pt x="1342" y="910"/>
                  <a:pt x="1376" y="920"/>
                </a:cubicBezTo>
                <a:cubicBezTo>
                  <a:pt x="1392" y="925"/>
                  <a:pt x="1424" y="936"/>
                  <a:pt x="1424" y="936"/>
                </a:cubicBezTo>
                <a:cubicBezTo>
                  <a:pt x="1482" y="1023"/>
                  <a:pt x="1667" y="1074"/>
                  <a:pt x="1768" y="1080"/>
                </a:cubicBezTo>
                <a:cubicBezTo>
                  <a:pt x="1853" y="1085"/>
                  <a:pt x="1939" y="1086"/>
                  <a:pt x="2024" y="1088"/>
                </a:cubicBezTo>
                <a:cubicBezTo>
                  <a:pt x="2080" y="1089"/>
                  <a:pt x="2136" y="1088"/>
                  <a:pt x="2192" y="108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1600" y="630864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SOUR:FUNC:SHAP  SIN;:FREQ 100.3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bd5"/>
                </a:solidFill>
                <a:latin typeface="Arial"/>
              </a:rPr>
              <a:t>Sposób dokumentowania poleceń:</a:t>
            </a:r>
            <a:endParaRPr b="1" lang="en-US" sz="28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25" name=""/>
          <p:cNvSpPr/>
          <p:nvPr/>
        </p:nvSpPr>
        <p:spPr>
          <a:xfrm>
            <a:off x="1070280" y="1981080"/>
            <a:ext cx="4688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OURce]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FREQuency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TARt     { &lt;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frequency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gt; | MINimum | MAXimum }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TARt?   { MINimum | MAXimum }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WEep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PACing  { LINear | LOGarithmic }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PACing?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TATe      { ON | OFF }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T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876920"/>
            <a:ext cx="7788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wiasy kwadratowe ( [ ] ) wskazują, że dane słowo kluczowe lub parametr jest opcjonalny i w poleceniu może być pominię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wiasy ostre ( &lt; &gt; ) wskazują, że parametr polecenia należy specyfikować przez wartość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onowa kreska ( | ) separuje różne dostępne formy zapisu argumentu lub słowa kluczowego polece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wiasy klamrowe ( { } ) obejmują listę alternatywnych postaci argumentu danego polece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038480"/>
            <a:ext cx="778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naki specjalne występujące w przedstawionym opisie podsystemu SOURCE służą do ogólnego opisu drzewa poleceń i zaprezentowania możliwych form zapisu polecenia programujące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tekście programującym nie występuj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 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tak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Zasady zapisu polecenia tekstowego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981080"/>
            <a:ext cx="79405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pis pojedynczego polecenia programującego jest zapisem ścieżki wiodącej po wybranej gałęzi drzewa poleceń począwszy od słowa kluczowego korzenia aż do słowa kończącego gałąź, np.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"SOUR:FREQ:STARt  5000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Znak dwukropka oznacza przejście na niższy poziom drzewa. Pomiędzy słowami kluczowymi nagłówka występuje tylko dwukropek. Spacje nie mogą występować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ęzły domyślne zaznaczone nawiasami kwadratowymi [ ] można pominąć i tym samym uprościć zapis polecenia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  <a:ea typeface="Arial"/>
              </a:rPr>
              <a:t>"FREQ:STARt  500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Tekst programujący może mieć także postać polecenia złożonego. Znak średnika (;) separuje wtedy poszczególne polecenia pojedyncz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  <a:ea typeface="Arial"/>
              </a:rPr>
              <a:t>"FREQ:STARt  500; FREQ:STOP  100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Gdy kolejne polecenia w poleceniu złożonym dotyczą tego samego podsystemu można w następnym pominąć część powtarzającą się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  <a:ea typeface="Arial"/>
              </a:rPr>
              <a:t>"FREQ:STARt  500; STOP  100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Jeśli polecenie złożone składa się z poleceń dotyczących różnych podsystemów ( np. SOURce i TRIGger ) wówczas każde z nich musi rozpocząć się od słowa kluczowego korzenia danego podsystemu poprzedzonego znakiem dwukropka ( z wyjątkiem rozpoczynającego polecenia 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2213"/>
                </a:solidFill>
                <a:latin typeface="Arial"/>
                <a:ea typeface="Arial"/>
              </a:rPr>
              <a:t>"FREQ:STARt  500; STOP  1000; </a:t>
            </a:r>
            <a:r>
              <a:rPr b="1" lang="pl-PL" sz="1400" spc="-1" strike="noStrike">
                <a:solidFill>
                  <a:srgbClr val="009900"/>
                </a:solidFill>
                <a:latin typeface="Arial"/>
                <a:ea typeface="Arial"/>
              </a:rPr>
              <a:t>:SWE:STAT  ON; :TRIG:SOUR  BUS</a:t>
            </a:r>
            <a:r>
              <a:rPr b="1" lang="pl-PL" sz="1400" spc="-1" strike="noStrike">
                <a:solidFill>
                  <a:srgbClr val="e32213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9280" y="914040"/>
            <a:ext cx="8424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olecenia grupy MEAS?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905120"/>
            <a:ext cx="70264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ecen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nfiguruje przyrząd do wykonania zadeklarowanego pomia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cjuje pojedynczy pomiar z wyzwoleniem natychmiastowym (jeden w każdym kana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ynik umieszcza w buforze wyjściowym urządzenia skąd operacją odczytu jest transferowany do komputera i przekazany aplik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st poleceniem pytając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 sama forma polecenia może być stosowana do każdego urządzenia realizującego pomiar danej wielk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4952880"/>
            <a:ext cx="7620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EASure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:RESistance?      [ &lt;range&gt; [ , &lt;resolution&gt; ]] [ , &lt;channel_list&gt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EASure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:TEMPerature?    &lt;transducer&gt; [ , &lt;type&gt; ]] [ , &lt;channel_list&gt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EASure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:VOLT:AC?         [ &lt;range&gt; [ , &lt;resolution&gt; ]] [ , &lt;channel_list&gt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EASure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: VOLT[:DC]?      [ &lt;range&gt; [ , &lt;resolution&gt; ]] [ , &lt;channel_list&gt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172200"/>
            <a:ext cx="70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MEAS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: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VOLT:AC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?    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5.0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,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MIN</a:t>
            </a: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  , </a:t>
            </a:r>
            <a:r>
              <a:rPr b="1" lang="pl-PL" sz="1400" spc="-1" strike="noStrike">
                <a:solidFill>
                  <a:srgbClr val="78120a"/>
                </a:solidFill>
                <a:latin typeface="Arial"/>
              </a:rPr>
              <a:t>(@100:1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120a"/>
                </a:solidFill>
                <a:latin typeface="Arial"/>
                <a:ea typeface="Times New Roman"/>
              </a:rPr>
              <a:t>MEAS:TEMP?  FRTD, 85, (@107)</a:t>
            </a:r>
            <a:r>
              <a:rPr b="1" lang="pl-PL" sz="1800" spc="-1" strike="noStrike">
                <a:solidFill>
                  <a:srgbClr val="ffd3a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d5"/>
                </a:solidFill>
                <a:latin typeface="Arial"/>
              </a:rPr>
              <a:t>Programowanie rejestrowe urządzeń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20968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ządzenia VXI programowane rejestrowo posiadają 8 rejestrów zapisu i 8 rejestrów odczytu usytuowanych w pamięci kasety. Rejestry są 16-bitow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żdemu modułowi jest przypisany 64-bajtowy obszar pamięci, którego adres bazowy jest podyktowany adresem logicznym modułu w kas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ztery rejestry służą do komunikacji z kontrolerem systemu w zakresie przekazywania poleceń oraz odczytu danych wypracowanych przez modu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676520" y="4724280"/>
          <a:ext cx="6095880" cy="1600200"/>
        </p:xfrm>
        <a:graphic>
          <a:graphicData uri="http://schemas.openxmlformats.org/drawingml/2006/table">
            <a:tbl>
              <a:tblPr/>
              <a:tblGrid>
                <a:gridCol w="2209680"/>
                <a:gridCol w="457200"/>
                <a:gridCol w="342900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d polec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 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d argumentu polec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powiedź (wyni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 wykonania operac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d5"/>
                </a:solidFill>
                <a:latin typeface="Arial"/>
              </a:rPr>
              <a:t>Zasada programowania rejestrowego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2096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ecenia nastawcze lub wykonania operacj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zdefiniowane kody poleceń (odp. nagłówków), np.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0xFF04 – pomiar częstotliwośc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0xFF05 – pomiar okres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la każdego polecenia jest zdefiniowana lista argumentów i ich kody , np. dla pomiaru częstotliwości obowiązuje jeden argument o  wartościach, w których odpowiednim bitom przypisano określone znaczeni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ity 4 i 5 określają kanał pomiarowy (1, 2, 3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ity 0 do 3 określają czas otwarcia bramki (0000=2ms, 0001=4ms itd. 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rtość 0xFF11 – pomiar w kanale1 z czasem bramkowania 4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ealizacj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Arial"/>
              </a:rPr>
              <a:t>Odczytaj Status Register i sprawdź odpowiednie bity wskazujące wykonanie poprzedniej operacj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Arial"/>
              </a:rPr>
              <a:t>Zapis kodu polecenia do Command Regist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Arial"/>
              </a:rPr>
              <a:t>Odczytaj Status Register i sprawdź odpowiednie bity wskazujące wykonanie poprzedniej operacj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Arial"/>
              </a:rPr>
              <a:t>Zapis kodu argumentu do Parameter Regis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d5"/>
                </a:solidFill>
                <a:latin typeface="Arial"/>
              </a:rPr>
              <a:t>Zasady sterowania urządzeniami systemów pomiarowych.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85" name="interfejs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81960" cy="1195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352680"/>
            <a:ext cx="815328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apis do urządze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omunikat ustawiający zasoby funkcjonalne urządzenia lub polecający wykonanie pewnej op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dczyt z urządze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omunikat danych przygotowany przez urządzenie i dotyczący wyników pomiarów lub ustawień zasobów funkcjonalnych urządz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7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ozkazy interfejso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omunikat rozkazowy do urządzeń polecający wykonanie pewnych operacji. Postać komunikatów oraz ich lista i rodzaje zależą od stosowanego interfejsu, np. w GPIB występuje rozkaz GET ( wykonaj pomiar ). W RS232 nie ma jego odpowiedn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d5"/>
                </a:solidFill>
                <a:latin typeface="Arial"/>
              </a:rPr>
              <a:t>Zasada programowania rejestrowego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1752480"/>
            <a:ext cx="7848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czyt dan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wiony bit QRR Status Register wskazuje, że Response Register zawiera daną do odczy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nik pomiaru może być słowem wielobajtowym i jego odczyt wymaga wielokrotnego odczytu Response Regis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zeba obliczyć wartość wyniku na podstawie odebranych bajtów stosownie do formatu wydawanej wartości (np. 48 bitów, zapis binarny, wykładnicz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Arial"/>
              </a:rPr>
              <a:t>Realizac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Odczytaj Status Register i sprawdź odpowiedni bit wskazujący gotowość Response Register do odczytu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Odczytaj Response Regist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Powtórz obie operacje stosownie do długości zapisu binarnego wyniku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Oblicz wynik na podstawie odczytanych bajtów, np.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6324480"/>
            <a:ext cx="71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ynik = ( a1*2^32 + a2*2^24 + a3*2^16 + a4*2^8 + a5 ) * 2^(a6-1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Podsumowanie sposobu obsługi urządzeń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438280"/>
            <a:ext cx="3657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kst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zyja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Łat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zasochło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fer wielu zna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Konwersja dwustro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36232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jestr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ieprzyja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Kłopotli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ardzo szyb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ransfer kilku baj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Zbyteczna konwer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53341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y o dużej szybkości działania będą stosowały urządzenia programowane rejestrow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Typy urządzeń a sposób obsługi.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990720" y="2057400"/>
          <a:ext cx="7696080" cy="3216240"/>
        </p:xfrm>
        <a:graphic>
          <a:graphicData uri="http://schemas.openxmlformats.org/drawingml/2006/table">
            <a:tbl>
              <a:tblPr/>
              <a:tblGrid>
                <a:gridCol w="2133720"/>
                <a:gridCol w="2361960"/>
                <a:gridCol w="320040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ty D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, ISA,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str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rządy autonomicz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625/IEEE488, RS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st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łowe V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t 0, G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stowa, rejestrowa lub do wyboru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łowe V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t 0, IEEE1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stowa, rejestrowa lub do wyboru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łowe V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uter modułow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stowa, rejestrowa lub do wyboru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838080" y="5562720"/>
            <a:ext cx="815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16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modułach VXI sposób obsługi zależy od budowy urządzenia a także możliwości zastosowanego modułu sterującego. Przykładowo moduł rejestrowy VXI może być obsługiwany tekstowo, jeśli moduł sterujący dysponuje odpowiednim interpreterem poleceń SC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d5"/>
                </a:solidFill>
                <a:latin typeface="Arial"/>
              </a:rPr>
              <a:t>Programowanie rejestrowe i tekstowe urządzeń.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gramowanie rejestro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zapis danych binarnych do rejestrów zapisu urządzenia oraz odczyt danych binarnych z rejestrów odczytu urządzenia. Operacje zapisu/odczytu mogą być realizowane słowami o różnej długości (8, 16 i więcej bitów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gramowanie teksto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pis dotyczy przesłania do urządzenia wieloznakowego tekstu w kodzie ASCII polecającego ustawienie określonego zasobu lub wykonanie pewnej operacji. Urządzenie musi sprawdzić poprawność tekstu oraz przetworzyć go do postaci reprezentacji wewnętrzne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czyt dotyczy odebrania z urządzenia wieloznakowego tekstu zawierającego dane przygotowane przez urządzenia. Jest to zwykle tekst z zapisem dziesiątkowym wartości liczbowych (jednej lub wielu). Aplikacja musi dokonać konwersji do reprezentacji binarnej odpowiedniej dla realizacji operacji obliczeniowy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bd5"/>
                </a:solidFill>
                <a:latin typeface="Arial"/>
              </a:rPr>
              <a:t>Programowanie rejestrowe/tekstowe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09480" y="2490840"/>
            <a:ext cx="8381880" cy="3597120"/>
            <a:chOff x="609480" y="2490840"/>
            <a:chExt cx="8381880" cy="3597120"/>
          </a:xfrm>
        </p:grpSpPr>
        <p:grpSp>
          <p:nvGrpSpPr>
            <p:cNvPr id="91" name=""/>
            <p:cNvGrpSpPr/>
            <p:nvPr/>
          </p:nvGrpSpPr>
          <p:grpSpPr>
            <a:xfrm>
              <a:off x="2666880" y="2490840"/>
              <a:ext cx="6324480" cy="1143000"/>
              <a:chOff x="2666880" y="2490840"/>
              <a:chExt cx="6324480" cy="1143000"/>
            </a:xfrm>
          </p:grpSpPr>
          <p:sp>
            <p:nvSpPr>
              <p:cNvPr id="92" name=""/>
              <p:cNvSpPr/>
              <p:nvPr/>
            </p:nvSpPr>
            <p:spPr>
              <a:xfrm>
                <a:off x="4267080" y="2490840"/>
                <a:ext cx="1828800" cy="27648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Zasób funkcjonalny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66880" y="3100320"/>
                <a:ext cx="1676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Zapis w określonej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kacj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47960" y="3100320"/>
                <a:ext cx="1676520" cy="276480"/>
              </a:xfrm>
              <a:prstGeom prst="rect">
                <a:avLst/>
              </a:prstGeom>
              <a:solidFill>
                <a:srgbClr val="ffd3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jestr ster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62560" y="2490840"/>
                <a:ext cx="1828800" cy="27648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Zasób funkcjonalny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71840" y="26431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00440" y="32526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33960" y="3100320"/>
                <a:ext cx="1676520" cy="276480"/>
              </a:xfrm>
              <a:prstGeom prst="rect">
                <a:avLst/>
              </a:prstGeom>
              <a:solidFill>
                <a:srgbClr val="ffd3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jestr ster.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105160" y="2795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5333760" y="2795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5714640" y="279504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095880" y="2795040"/>
                <a:ext cx="3808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6857280" y="2795040"/>
                <a:ext cx="38124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7772040" y="2795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160" y="363384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86040" y="3633840"/>
                <a:ext cx="22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7696080" y="3404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486040" y="3404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09480" y="3328920"/>
              <a:ext cx="205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kcja pomiarow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xFF04 – częstotliwoś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xFF05 - ok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" y="5310000"/>
              <a:ext cx="205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unkcja pomiarow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onf:freq – częstotliwoś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onf:per - ok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743200" y="3862440"/>
              <a:ext cx="4572000" cy="2225520"/>
              <a:chOff x="2743200" y="3862440"/>
              <a:chExt cx="4572000" cy="2225520"/>
            </a:xfrm>
          </p:grpSpPr>
          <p:sp>
            <p:nvSpPr>
              <p:cNvPr id="112" name=""/>
              <p:cNvSpPr/>
              <p:nvPr/>
            </p:nvSpPr>
            <p:spPr>
              <a:xfrm>
                <a:off x="3505320" y="5081400"/>
                <a:ext cx="3276360" cy="1006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. Kontrola poprawności polec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. Kontrola możliwości wykona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. Konwersja argumentu i nagłówka polecenia do postaci wewnętrznej odpowiedniej dla rejestrów sterującyc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43200" y="5614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81680" y="5538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315200" y="386244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609480" y="27194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Urządzenie programowane rejestro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470052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Urządzenie programowane teksto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Trebuchet MS"/>
              </a:rPr>
              <a:t>Historia programowania tekstowego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362320"/>
            <a:ext cx="464796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rak ogólnej normalizacji polece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2133720"/>
            <a:ext cx="312408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ormalizacja IEEE488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75520" y="2514600"/>
            <a:ext cx="1968480" cy="580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izacja SC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33520" y="3048120"/>
            <a:ext cx="8229600" cy="749520"/>
            <a:chOff x="533520" y="3048120"/>
            <a:chExt cx="8229600" cy="749520"/>
          </a:xfrm>
        </p:grpSpPr>
        <p:sp>
          <p:nvSpPr>
            <p:cNvPr id="123" name=""/>
            <p:cNvSpPr/>
            <p:nvPr/>
          </p:nvSpPr>
          <p:spPr>
            <a:xfrm>
              <a:off x="838440" y="3200760"/>
              <a:ext cx="792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440" y="3048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39240" y="3048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3048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3040" y="3048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429360"/>
              <a:ext cx="77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70                               1980                                  1987            19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429000" y="3886200"/>
            <a:ext cx="571500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prowadzenie zapyta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4880" y="4684680"/>
            <a:ext cx="725472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76"/>
              </a:spcBef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2213"/>
                </a:solidFill>
                <a:latin typeface="Arial"/>
              </a:rPr>
              <a:t>Pierwsza generacja urządzeń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&lt;198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rak normalizacji poleceń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76"/>
              </a:spcBef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2213"/>
                </a:solidFill>
                <a:latin typeface="Arial"/>
              </a:rPr>
              <a:t>Druga generacja urządze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1987 ..199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rmalizacja formatu polece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76"/>
              </a:spcBef>
              <a:buClr>
                <a:srgbClr val="e322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2213"/>
                </a:solidFill>
                <a:latin typeface="Arial"/>
              </a:rPr>
              <a:t>Trzecia generacja urządzeń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&gt;199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rmalizacja formatu i nazw nagłówków poleceń – SCP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Zasada budowy komunikatu tekstowego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9320" y="2133720"/>
            <a:ext cx="7543800" cy="1371600"/>
            <a:chOff x="1219320" y="2133720"/>
            <a:chExt cx="7543800" cy="1371600"/>
          </a:xfrm>
        </p:grpSpPr>
        <p:sp>
          <p:nvSpPr>
            <p:cNvPr id="133" name=""/>
            <p:cNvSpPr/>
            <p:nvPr/>
          </p:nvSpPr>
          <p:spPr>
            <a:xfrm>
              <a:off x="1219320" y="2133720"/>
              <a:ext cx="754380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640" y="2971800"/>
              <a:ext cx="2209680" cy="4287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kcje pomiarowe, np.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DC, CDC, VAC, CAC, RES, ...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600" y="2971800"/>
              <a:ext cx="2362320" cy="4287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dzakresy pomiarowe, np.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1, 1, 10, 100, 1000, ...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2200" y="2971800"/>
              <a:ext cx="2210040" cy="4287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zas całkowania, np.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01, 0.1, 1, 10, ...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62640" y="2209680"/>
              <a:ext cx="25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ządzenie pomiar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6760" y="2590920"/>
              <a:ext cx="68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...............................................  Zasoby funkcjonalne urządzenia ...........................................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355760" y="422748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Nagłówek&gt; [&lt;separator&gt;] &lt;argument&gt; [&lt;terminator&gt;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057400" y="3124080"/>
            <a:ext cx="0" cy="106704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7400" y="3124080"/>
            <a:ext cx="1676520" cy="106704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057400" y="3124080"/>
            <a:ext cx="4191120" cy="106704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514600" y="3352320"/>
            <a:ext cx="220968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724280" y="3352320"/>
            <a:ext cx="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24280" y="3352320"/>
            <a:ext cx="175284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876920"/>
            <a:ext cx="83059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agłówe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znak alfabetu lub słowo kluczowe, wybiera zasób funkcjonaln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Separat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dzieli komunikat na nagłówek i argument; zwykle znak spacji; stosowany opcjonalni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rgu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znak cyfry lub zapis dziesiątkowy liczby; ustala żądany stan zasobu funkcjonalneg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erminator polecen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określony arbitralnie znak ASCII; najczęściej znak &lt;NL&gt;; stosowany opcjonalnie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Arial"/>
              </a:rPr>
              <a:t>Komunikaty programujące pierwszej generacji urządzeń :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9051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jedynczy komunika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Nagłówek&gt; &lt;argument&gt; [&lt;terminator&gt;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łożony komunika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Nagłówek&gt; &lt;argument&gt; &lt;Nagłówek&gt; &lt;argument&gt;.... &lt;Nagłówek&gt; &lt;argument&gt; [&lt;terminator&gt;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90720" y="3200400"/>
            <a:ext cx="7543800" cy="1371600"/>
            <a:chOff x="990720" y="3200400"/>
            <a:chExt cx="7543800" cy="1371600"/>
          </a:xfrm>
        </p:grpSpPr>
        <p:sp>
          <p:nvSpPr>
            <p:cNvPr id="150" name=""/>
            <p:cNvSpPr/>
            <p:nvPr/>
          </p:nvSpPr>
          <p:spPr>
            <a:xfrm>
              <a:off x="990720" y="3200400"/>
              <a:ext cx="754380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7040" y="4038480"/>
              <a:ext cx="2209680" cy="4287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kcje pomiarowe, np.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DC, CDC, VAC, CAC, RES, ...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4038480"/>
              <a:ext cx="2362320" cy="4287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dzakresy pomiarowe, np.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1, 1, 10, 100, 1000, ...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4038480"/>
              <a:ext cx="2210040" cy="4287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zas całkowania, np.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01, 0.1, 1, 10, ...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34040" y="3276360"/>
              <a:ext cx="25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ządzenie pomiar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8160" y="3657600"/>
              <a:ext cx="68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...............................................  Zasoby funkcjonalne urządzenia ...........................................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059840" y="4964040"/>
            <a:ext cx="28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F2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urządzenie producenta 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X0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urządzenie producenta 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219320" y="4495680"/>
            <a:ext cx="0" cy="45720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371600" y="4343040"/>
            <a:ext cx="60948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4800600"/>
            <a:ext cx="37335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gramowanie źródeł sygnału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F200.5H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urządzenie producenta 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A+05.00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urządzenie producenta 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35800" y="5791320"/>
            <a:ext cx="33292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ff"/>
                </a:solidFill>
                <a:latin typeface="Arial"/>
              </a:rPr>
              <a:t>Polecenia złożon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F2R3A2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urządzenie producenta 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X0Y5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urządzenie producenta 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bd5"/>
                </a:solidFill>
                <a:latin typeface="Arial"/>
              </a:rPr>
              <a:t>Komunikaty wydawane pierwszej generacji urządzeń :</a:t>
            </a:r>
            <a:endParaRPr b="1" lang="en-US" sz="20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905120"/>
            <a:ext cx="83822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ządzenia pomiarowe dostarczają tylko wynik pomiar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Źródła sygnałów najczęściej nic nie wydają. Nie można z nich pozyskać żadnych da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unikat urządzenia znajduje się w jego buforze wyjściowym. Odczyt realizuje odpowiednia funkcja czytania danych z urządzenia. Jeśli bufor jest pusty operacja zakończy się błędem przeterminowania operacji I/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ządzenie wstawia komunikat do bufora wyjściowego po wykonaniu pomiaru, który jest inicjalizowany albo specjalnym rozkazem interfejsowym (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lub poleceniem programującym (np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Po odczytaniu komunikatu bufor jest automatycznie zerow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38080" y="4038480"/>
            <a:ext cx="7543800" cy="1371600"/>
            <a:chOff x="838080" y="4038480"/>
            <a:chExt cx="7543800" cy="1371600"/>
          </a:xfrm>
        </p:grpSpPr>
        <p:sp>
          <p:nvSpPr>
            <p:cNvPr id="164" name=""/>
            <p:cNvSpPr/>
            <p:nvPr/>
          </p:nvSpPr>
          <p:spPr>
            <a:xfrm>
              <a:off x="838080" y="4038480"/>
              <a:ext cx="754380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14400" y="4876920"/>
              <a:ext cx="2209680" cy="4287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kcje pomiarowe, np.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DC, CDC, VAC, CAC, RES, ...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52680" y="4876920"/>
              <a:ext cx="1981440" cy="276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cjuj pom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4952880"/>
              <a:ext cx="2209680" cy="276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for wyjściow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7520" y="4114800"/>
              <a:ext cx="25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ządzenie pomiar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4267080"/>
              <a:ext cx="1676520" cy="276480"/>
            </a:xfrm>
            <a:prstGeom prst="rect">
              <a:avLst/>
            </a:prstGeom>
            <a:solidFill>
              <a:srgbClr val="e3221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ykonanie pomiar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26708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67080" y="4419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4419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0280" y="4419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0102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6708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19400" y="5562720"/>
            <a:ext cx="23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munikat inicjalizujący pomi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7080" y="556272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czyt komunika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360" y="5867280"/>
            <a:ext cx="72460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Format komunikatu :   </a:t>
            </a: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&lt;nagłówek&gt; &lt;wartość w zapisie dziesiątkowym&gt; &lt;termina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p.</a:t>
            </a: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                                     DF+0.234000E+00&lt;N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ługość komunikatu jest dla urządzenia ustalona, stała niezależnie od aktualnej wartoś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d5"/>
                </a:solidFill>
                <a:latin typeface="Arial"/>
              </a:rPr>
              <a:t>Koncepcja zapytań – poleceń pytających :</a:t>
            </a:r>
            <a:endParaRPr b="1" lang="en-US" sz="2400" spc="-1" strike="noStrike">
              <a:solidFill>
                <a:srgbClr val="ffebd5"/>
              </a:solidFill>
              <a:latin typeface="Trebuchet MS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90720" y="2057400"/>
            <a:ext cx="7543800" cy="1676520"/>
            <a:chOff x="990720" y="2057400"/>
            <a:chExt cx="7543800" cy="1676520"/>
          </a:xfrm>
        </p:grpSpPr>
        <p:sp>
          <p:nvSpPr>
            <p:cNvPr id="181" name=""/>
            <p:cNvSpPr/>
            <p:nvPr/>
          </p:nvSpPr>
          <p:spPr>
            <a:xfrm>
              <a:off x="990720" y="2057400"/>
              <a:ext cx="7543800" cy="167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3200400"/>
              <a:ext cx="1600200" cy="4287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unkcje pom., np.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VDC, CDC, VAC ...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3276720"/>
              <a:ext cx="1676160" cy="276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cjuj pom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53080" y="2286000"/>
              <a:ext cx="1676520" cy="276480"/>
            </a:xfrm>
            <a:prstGeom prst="rect">
              <a:avLst/>
            </a:prstGeom>
            <a:solidFill>
              <a:srgbClr val="ffd3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for wynik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2600" y="2133720"/>
              <a:ext cx="25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ządzenie pomiar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5680" y="2286000"/>
              <a:ext cx="1676520" cy="276480"/>
            </a:xfrm>
            <a:prstGeom prst="rect">
              <a:avLst/>
            </a:prstGeom>
            <a:solidFill>
              <a:srgbClr val="e3221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ykonanie pomiar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657600" y="2819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91520" y="2590920"/>
              <a:ext cx="0" cy="68580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8320" y="3276720"/>
              <a:ext cx="1676160" cy="276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j wyniki pomiar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77120" y="3276720"/>
              <a:ext cx="1676160" cy="276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lejka wyjściow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657600" y="24379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752480" y="2971440"/>
              <a:ext cx="0" cy="2286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2480" y="2971800"/>
              <a:ext cx="541044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2920" y="2971800"/>
              <a:ext cx="0" cy="304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410080" y="2514240"/>
              <a:ext cx="1295640" cy="762120"/>
            </a:xfrm>
            <a:prstGeom prst="line">
              <a:avLst/>
            </a:prstGeom>
            <a:ln w="9360">
              <a:solidFill>
                <a:srgbClr val="e322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V="1">
            <a:off x="1752480" y="365724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410080" y="3580920"/>
            <a:ext cx="0" cy="304920"/>
          </a:xfrm>
          <a:prstGeom prst="line">
            <a:avLst/>
          </a:prstGeom>
          <a:ln w="9360">
            <a:solidFill>
              <a:srgbClr val="e32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6760" y="3962520"/>
            <a:ext cx="155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anie o ustawion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kcję pomiar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99160" y="396252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anie o wyn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mia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39760" y="396252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czyt odpowied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8560" y="4761000"/>
            <a:ext cx="78645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stosowanie zapytań pozwala budować urządzenia dostarczające dane dotyczące wyników pomiaru oraz aktualnych ustawień urząd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az wszystkie urządzenia (pomiarowe i stymulujące) wydają da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owiązuje zasada – zadałeś pytanie – musisz odczytać odpowiedź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21:50Z</dcterms:created>
  <dc:creator>Kasprzak</dc:creator>
  <dc:description/>
  <dc:language>en-US</dc:language>
  <cp:lastModifiedBy>Kasprzak</cp:lastModifiedBy>
  <dcterms:modified xsi:type="dcterms:W3CDTF">2006-11-28T15:40:21Z</dcterms:modified>
  <cp:revision>46</cp:revision>
  <dc:subject/>
  <dc:title>Zasady sterowania urządzeniami systemów pomiarowych.</dc:title>
</cp:coreProperties>
</file>