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632-0D91-487E-82D5-A0EA7C5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598-06BD-4D7A-94AB-712D6EC1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EA0-4F67-4257-85A6-52C32226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2FC-4228-4089-90B1-92B48EB6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F18-A4ED-442C-B124-C43B0EC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6DC-3971-475D-AC4E-89DEDFC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CD6-7DC5-4ECE-A26D-01A271E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897-2110-4538-BEB5-A9A8F9F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14C-6D35-4E74-9065-0F117153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94B-48CD-4713-AC99-1F095FC9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850-C244-4C5D-860F-EB38D1E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761-194C-4433-85EC-3C769E5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6A0-6180-4C3B-A6EB-04B9B9FAD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Obiekty kontrolne i prezentacyjne pulpitu aplikacji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(wykła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129528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za pomocą szablonu identycznie jak nastawnik tablicow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365760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budowany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skaźnik błędu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wykonania szereg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węzłów VI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jest klastrem złożonym z trzech pó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tatus  –  typ boolow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Code    –  typ 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ource –  typ st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143000"/>
          <a:ext cx="2895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2895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3581280"/>
          <a:ext cx="16794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81280"/>
                    <a:ext cx="1679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H="1">
            <a:off x="1676160" y="2362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Nastawnik lub wskaźnik z klastr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99072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Klaster nastawników tworzy się często w celu zgrupowania szeregu nastawników pulpitu aplik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Jest to związane z przyjmowaną koncepcją rozwiązywania obsługi interfejsu użytkown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Wprowadzenie stanu wielu nastawników do diagramu przy użyciu jednego terminala wejściowego skutkuje uproszczeniem kodu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6576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Trzy przyciski boolowskie połączone w kl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2743200"/>
          <a:ext cx="1766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1766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2120" y="5334120"/>
          <a:ext cx="228600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4120"/>
                    <a:ext cx="2286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24080" y="541008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nastawnika klastrowego oraz węzeł dostarczający elementarne pole danej klastr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2971800"/>
            <a:ext cx="80168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y nastawcze pulpitu dostarczają dane do diagramu za pośrednictwem końcówek wejściowych a obiekty wskaźnikowe pulpitu uzyskują dane z diagramu za pośrednictwem końcówek wyjści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każdym obiektem pulpitu jest związana jedna i tylko jedna końcówka wyjściowa lub wejściowa dia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likacja może potrzebować dostępu do tych danych w różnych miejscach a jednocześnie nie zawsze można to uzyskać przewodami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blem ten rozwiązują zmienne lokalne i global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lok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zapewniają dostęp do danych obiektu pulpitu w różnych miejscach pojedynczego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mienne global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dostępniają i przenoszą dane pomiędzy różnymi, jednocześnie realizowanymi programami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143000"/>
          <a:ext cx="419112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41911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3276720" y="2057040"/>
            <a:ext cx="15228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i globalne programu VI (rola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495680" y="1295280"/>
            <a:ext cx="4343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tworzenie zmiennej lokalnej w diagramie wymag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ej wykreowa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wiązania z określonym obiektem pulpit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79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kreślenia jej przeznaczenia (odczyt lub zapis stanu obiekt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685800"/>
            <a:ext cx="3048120" cy="2133720"/>
            <a:chOff x="609480" y="685800"/>
            <a:chExt cx="3048120" cy="2133720"/>
          </a:xfrm>
        </p:grpSpPr>
        <p:sp>
          <p:nvSpPr>
            <p:cNvPr id="163" name=""/>
            <p:cNvSpPr/>
            <p:nvPr/>
          </p:nvSpPr>
          <p:spPr>
            <a:xfrm>
              <a:off x="609480" y="685800"/>
              <a:ext cx="304812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685800" y="762120"/>
            <a:ext cx="2971800" cy="204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762120"/>
                      <a:ext cx="2971800" cy="20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"/>
          <p:cNvGrpSpPr/>
          <p:nvPr/>
        </p:nvGrpSpPr>
        <p:grpSpPr>
          <a:xfrm>
            <a:off x="609480" y="2971800"/>
            <a:ext cx="3048120" cy="2209680"/>
            <a:chOff x="609480" y="2971800"/>
            <a:chExt cx="3048120" cy="2209680"/>
          </a:xfrm>
        </p:grpSpPr>
        <p:sp>
          <p:nvSpPr>
            <p:cNvPr id="167" name=""/>
            <p:cNvSpPr/>
            <p:nvPr/>
          </p:nvSpPr>
          <p:spPr>
            <a:xfrm>
              <a:off x="609480" y="2971800"/>
              <a:ext cx="30481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762120" y="3047760"/>
            <a:ext cx="2743200" cy="211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047760"/>
                      <a:ext cx="2743200" cy="21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609480" y="5334120"/>
            <a:ext cx="3048120" cy="1371600"/>
            <a:chOff x="609480" y="5334120"/>
            <a:chExt cx="3048120" cy="1371600"/>
          </a:xfrm>
        </p:grpSpPr>
        <p:sp>
          <p:nvSpPr>
            <p:cNvPr id="171" name=""/>
            <p:cNvSpPr/>
            <p:nvPr/>
          </p:nvSpPr>
          <p:spPr>
            <a:xfrm>
              <a:off x="609480" y="5334120"/>
              <a:ext cx="30481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990720" y="5410080"/>
            <a:ext cx="20574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5410080"/>
                      <a:ext cx="2057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kreowanie zmienn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4956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owiązanie i określenie przeznaczenia zmiennej wykonuje się wykorzystując menu  podręczne zmiennej (pozycje :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elect Item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Change To Read/Write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428640" y="198108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14240" y="2362320"/>
            <a:ext cx="259092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2971800"/>
            <a:ext cx="2057400" cy="32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możliwoś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809880"/>
            <a:ext cx="77882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zwala zapisać lub odczytać daną obiektu panelu niezależnie czy jest on obiektem sterującym czy wskaźnikow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cje te funkcjonują tak samo jak przeniesienie danych do lub z końcówki obiektu w diagramie z tym, że przykładowo zapis zmiennej jest dostępny również w stosunku do obiektów sterujących pulpitu, które formalnie są źródłami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zięki temu, zmienne lokalne można wykorzystać nie tylko do uzyskania aktualnego stanu określonego obiektu sterującego w różnych miejscach diagramu programu ale także do modyfikacji jego ustawienia, np. ustawienia przełącznika w pewnym stan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143000"/>
          <a:ext cx="586728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8672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419720" y="190512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19360" y="2286000"/>
            <a:ext cx="6094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5181480"/>
            <a:ext cx="801684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ńcówka wejściowa obiektu STOP znajduje się wewnątrz jednej z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powodu  równoległości działania obu pętli, nie można zastosować połączenia przepływu danych z tej końcówki do terminala kontynuacji drugiej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żna jednak utworzyć zmienną lokalną związaną z obiektem STOP i wykorzystać ją w drugiej pęt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j sytuacji użycie STOP przerywa działanie obu pęt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Zmienne lokalne programu VI (przykład zastosowa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762120"/>
            <a:ext cx="78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likacja potrzebuje dostępu do stanu przełącznika STOP w dwóch miejscach a nie można tego uzyskać przepływem da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rys2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818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Własności obiektów nastawczych i prezentacyj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990720"/>
            <a:ext cx="7772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ażdy z obiektów pulpitu charakteryzuje się bogatą listą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Są to : zakres nastaw, rozdzielczość, rodzaj skali (lin/log), sposób opisu i jego precyzja, etykiety, widoczność, kolory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łasności te można określać na etapie edycji programu za pomocą dostępnych narzędzi oraz menu podręcznego obiek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ożna też manipulować programowo własnościami obiektu pulpitu w czasie działania pro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Umożliwia to węzeł własności obiektu – Property N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199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ynamiczne wiązanie pozwala na manipulowanie elementami pulpitu z poziomu podprogramu (subV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81080" y="3733920"/>
            <a:ext cx="4572000" cy="2216160"/>
            <a:chOff x="1981080" y="3733920"/>
            <a:chExt cx="4572000" cy="2216160"/>
          </a:xfrm>
        </p:grpSpPr>
        <p:graphicFrame>
          <p:nvGraphicFramePr>
            <p:cNvPr id="193" name=""/>
            <p:cNvGraphicFramePr/>
            <p:nvPr/>
          </p:nvGraphicFramePr>
          <p:xfrm>
            <a:off x="1981080" y="3733920"/>
            <a:ext cx="4572000" cy="22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3733920"/>
                      <a:ext cx="457200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048120" y="4191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1676520"/>
            <a:ext cx="4572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ęzeł Property Node  pobiera się z palety funkcji z grupy Application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wstaje węzeł ogólny, który należy powiązać dynamicznie lub statycznie z obiektem pulpi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iązanie statyczne realizuje się za pomocą menu podręcznego wybierając pozycję   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nk t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 Jest ona dostępna jeśli wejście referencji nie jest podłącz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 wskazaniu konkretnego obiektu powstaje węzeł jego własności dla którego trzeba teraz wytworzyć pola dostarczające interesujących własności lub modyfikujących 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3429000"/>
            <a:ext cx="3657600" cy="2209680"/>
            <a:chOff x="228600" y="3429000"/>
            <a:chExt cx="3657600" cy="2209680"/>
          </a:xfrm>
        </p:grpSpPr>
        <p:sp>
          <p:nvSpPr>
            <p:cNvPr id="199" name=""/>
            <p:cNvSpPr/>
            <p:nvPr/>
          </p:nvSpPr>
          <p:spPr>
            <a:xfrm>
              <a:off x="228600" y="3429000"/>
              <a:ext cx="36576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380880" y="3504960"/>
            <a:ext cx="3429000" cy="188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504960"/>
                      <a:ext cx="3429000" cy="18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"/>
          <p:cNvGrpSpPr/>
          <p:nvPr/>
        </p:nvGrpSpPr>
        <p:grpSpPr>
          <a:xfrm>
            <a:off x="228600" y="914400"/>
            <a:ext cx="3657600" cy="2362320"/>
            <a:chOff x="228600" y="914400"/>
            <a:chExt cx="3657600" cy="2362320"/>
          </a:xfrm>
        </p:grpSpPr>
        <p:sp>
          <p:nvSpPr>
            <p:cNvPr id="203" name=""/>
            <p:cNvSpPr/>
            <p:nvPr/>
          </p:nvSpPr>
          <p:spPr>
            <a:xfrm>
              <a:off x="228600" y="91440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304920" y="990720"/>
            <a:ext cx="3504960" cy="21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990720"/>
                      <a:ext cx="3504960" cy="21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 flipH="1" flipV="1">
              <a:off x="1066680" y="1752120"/>
              <a:ext cx="190512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33920" y="21337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862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8600" y="5715000"/>
            <a:ext cx="3657600" cy="990720"/>
            <a:chOff x="228600" y="5715000"/>
            <a:chExt cx="3657600" cy="990720"/>
          </a:xfrm>
        </p:grpSpPr>
        <p:sp>
          <p:nvSpPr>
            <p:cNvPr id="210" name=""/>
            <p:cNvSpPr/>
            <p:nvPr/>
          </p:nvSpPr>
          <p:spPr>
            <a:xfrm>
              <a:off x="228600" y="5715000"/>
              <a:ext cx="36576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2057400" y="5791320"/>
            <a:ext cx="1066680" cy="85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5791320"/>
                      <a:ext cx="106668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3124080" y="594360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Kreowanie węzła własności obiektu pulpitu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105520"/>
            <a:ext cx="7162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Menu podręczne pozwala konfigurować węze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Add Element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dodanie p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Properties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wybranie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hange To .....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– ustawienie pola do odczytu lub zapi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1143000"/>
            <a:ext cx="4572000" cy="3429000"/>
            <a:chOff x="380880" y="1143000"/>
            <a:chExt cx="4572000" cy="3429000"/>
          </a:xfrm>
        </p:grpSpPr>
        <p:sp>
          <p:nvSpPr>
            <p:cNvPr id="217" name=""/>
            <p:cNvSpPr/>
            <p:nvPr/>
          </p:nvSpPr>
          <p:spPr>
            <a:xfrm>
              <a:off x="380880" y="1143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457200" y="1219320"/>
            <a:ext cx="441972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219320"/>
                      <a:ext cx="441972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5486400" y="1600200"/>
            <a:ext cx="3429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Okno z listą dostępnych włas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idać tylko fragment lis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810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Szybka metoda kreowania węzłów związanych z obiektem kontrol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990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Pozycja Create menu podręcznego terminala wejściowego/wyjściowego obiektu pozwala szybko utworzyć zmienną lokalną, węzeł własności lub referencję do t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267080"/>
            <a:ext cx="3429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Zmienna lok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łasności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Referencja do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f5e89"/>
                </a:solidFill>
                <a:latin typeface="Arial"/>
              </a:rPr>
              <a:t>Węzeł wykonania metod obi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62120" y="1981080"/>
            <a:ext cx="4343400" cy="3581640"/>
            <a:chOff x="762120" y="1981080"/>
            <a:chExt cx="4343400" cy="3581640"/>
          </a:xfrm>
        </p:grpSpPr>
        <p:graphicFrame>
          <p:nvGraphicFramePr>
            <p:cNvPr id="226" name=""/>
            <p:cNvGraphicFramePr/>
            <p:nvPr/>
          </p:nvGraphicFramePr>
          <p:xfrm>
            <a:off x="762120" y="1981080"/>
            <a:ext cx="3554280" cy="35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981080"/>
                      <a:ext cx="3554280" cy="35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4191120" y="4495680"/>
              <a:ext cx="914400" cy="22860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91120" y="4800600"/>
              <a:ext cx="914400" cy="15228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191120" y="5181480"/>
              <a:ext cx="914400" cy="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4191120" y="5410080"/>
              <a:ext cx="914400" cy="152640"/>
            </a:xfrm>
            <a:prstGeom prst="line">
              <a:avLst/>
            </a:prstGeom>
            <a:ln w="93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narz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1447920"/>
            <a:ext cx="7900920" cy="4341240"/>
            <a:chOff x="533520" y="1447920"/>
            <a:chExt cx="7900920" cy="4341240"/>
          </a:xfrm>
        </p:grpSpPr>
        <p:graphicFrame>
          <p:nvGraphicFramePr>
            <p:cNvPr id="44" name=""/>
            <p:cNvGraphicFramePr/>
            <p:nvPr/>
          </p:nvGraphicFramePr>
          <p:xfrm>
            <a:off x="2438280" y="1447920"/>
            <a:ext cx="5210280" cy="105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447920"/>
                      <a:ext cx="5210280" cy="10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685800" y="1447920"/>
            <a:ext cx="809640" cy="156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447920"/>
                      <a:ext cx="809640" cy="156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 flipH="1">
              <a:off x="1599840" y="1676160"/>
              <a:ext cx="60948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50200" y="3428640"/>
              <a:ext cx="31525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ator panelu sterow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bór / ustawienie / rozmi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Edycja tekstó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ywanie połącze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enu podręczne obiektu/węzł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533520" y="3428640"/>
            <a:ext cx="419040" cy="22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3428640"/>
                      <a:ext cx="419040" cy="22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4648320" y="3504960"/>
            <a:ext cx="581040" cy="220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3504960"/>
                      <a:ext cx="581040" cy="22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5417640" y="3504960"/>
              <a:ext cx="3016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wijanie okna edycyjne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unkt zatrzymania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Sonda (podgląd) wartośc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piowanie kolorów obiek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Zadawanie koloru tła i obraz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990720"/>
            <a:ext cx="7543800" cy="82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Suwak ustawiający zakres częstotliwości ( </a:t>
            </a:r>
            <a:r>
              <a:rPr b="1" lang="pl-PL" sz="1400" spc="-1" strike="noStrike">
                <a:solidFill>
                  <a:srgbClr val="00cc99"/>
                </a:solidFill>
                <a:latin typeface="Arial"/>
              </a:rPr>
              <a:t>działanie nastaw3_log.vi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Fmax zawsze większa lub równa F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kres Min i Max nastawnika modyfikuje się automatycz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905120"/>
          <a:ext cx="670536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70536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914400" y="3124080"/>
          <a:ext cx="739152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124080"/>
                    <a:ext cx="73915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c99"/>
                </a:solidFill>
                <a:latin typeface="Times New Roman"/>
              </a:rPr>
              <a:t>Przykład wykorzystania węzła własności obiektu (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762120"/>
            <a:ext cx="7543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lt;= Scale_Min)   New_Scale_Min = Scale_Min/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If (Fmin &gt; 10*Scale_Min) New_Scale_Min = Scale_Min*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95280" y="1447920"/>
          <a:ext cx="594360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59436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95280" y="4114800"/>
          <a:ext cx="59436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14800"/>
                    <a:ext cx="59436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276720"/>
            <a:ext cx="8381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blem dotyczy między innymi typów definiowanych przez użytkownika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                                           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enumerycznych,   klastrów,   tablic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Definiuję nastawnik w postaci klastra z trzema polami danych. W aplikacji wykorzystuję stałe tego samego typu oraz wskaźnik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Zachodzi potrzeba przekonstruowania nastawnika polegająca na dodaniu dodatkowego pola danych. Po modyfikacji program ma błędy, ponieważ dotychczasowe wskaźniki i stałe nie uległy zmian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ogramista musi dokonać modyfikacji budowy wszystkich stałych i wskaźników, także nastawników jeśli jest ich więc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rzy złożonym programie jest to bardzo kłopotliwa modyfikac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Można temu zaradzić definiując typ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219320" y="838080"/>
          <a:ext cx="594360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594360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Definiowanie typów obiektów pulpitu (realizac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21932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definiowaniu nastawnika, trzeba go zaznaczyć i wybrać Customize Control (przystosowanie obiektu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762120"/>
          <a:ext cx="4495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495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33520" y="4114800"/>
          <a:ext cx="238752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2387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 flipH="1">
            <a:off x="2438280" y="2590920"/>
            <a:ext cx="106704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4267080"/>
            <a:ext cx="49532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Otwiera się okno budowania obiektu kontro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Wybrać wersję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Type Def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i zapisać wersję kontrolki w pliku o unikalnej nazwie. Dostanie rozszerzenie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ctl</a:t>
            </a: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Aby zmodyfikować kontrolkę, np. przez dodanie nowego pola, należy otworzyć ten plik i dokonać zmi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f5e89"/>
                </a:solidFill>
                <a:latin typeface="Arial"/>
              </a:rPr>
              <a:t>Po zapisaniu zmiany w konstruowanej aplikacji automatycznie wykonają się modyfikacje wszystkich elementów związanych z tym obiek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Belki narzędziowe okien edy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5800" y="914400"/>
            <a:ext cx="8077320" cy="1538280"/>
            <a:chOff x="685800" y="914400"/>
            <a:chExt cx="8077320" cy="1538280"/>
          </a:xfrm>
        </p:grpSpPr>
        <p:graphicFrame>
          <p:nvGraphicFramePr>
            <p:cNvPr id="57" name=""/>
            <p:cNvGraphicFramePr/>
            <p:nvPr/>
          </p:nvGraphicFramePr>
          <p:xfrm>
            <a:off x="685800" y="2057400"/>
            <a:ext cx="8077320" cy="3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057400"/>
                      <a:ext cx="80773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5800" y="1219320"/>
            <a:ext cx="640080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1219320"/>
                      <a:ext cx="64008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685800" y="914400"/>
              <a:ext cx="14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pulpit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1752480"/>
              <a:ext cx="18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Okno dia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85800" y="2819520"/>
            <a:ext cx="4167360" cy="1797480"/>
            <a:chOff x="685800" y="2819520"/>
            <a:chExt cx="4167360" cy="1797480"/>
          </a:xfrm>
        </p:grpSpPr>
        <p:sp>
          <p:nvSpPr>
            <p:cNvPr id="64" name=""/>
            <p:cNvSpPr/>
            <p:nvPr/>
          </p:nvSpPr>
          <p:spPr>
            <a:xfrm>
              <a:off x="1531440" y="2819520"/>
              <a:ext cx="3321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aj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konuj program cyklicz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rzerwij wykonywanie program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Pauza / kontynu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685800" y="2819520"/>
            <a:ext cx="67320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819520"/>
                      <a:ext cx="6732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791320" y="2971800"/>
            <a:ext cx="2760480" cy="1828800"/>
            <a:chOff x="5791320" y="2971800"/>
            <a:chExt cx="2760480" cy="1828800"/>
          </a:xfrm>
        </p:grpSpPr>
        <p:sp>
          <p:nvSpPr>
            <p:cNvPr id="68" name=""/>
            <p:cNvSpPr/>
            <p:nvPr/>
          </p:nvSpPr>
          <p:spPr>
            <a:xfrm>
              <a:off x="6481440" y="2971800"/>
              <a:ext cx="20703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odgląd wykon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ejdź do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Przeskocz subV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yjdź z sub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5791320" y="2971800"/>
            <a:ext cx="566640" cy="182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2971800"/>
                      <a:ext cx="56664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" name=""/>
          <p:cNvGrpSpPr/>
          <p:nvPr/>
        </p:nvGrpSpPr>
        <p:grpSpPr>
          <a:xfrm>
            <a:off x="545040" y="4952880"/>
            <a:ext cx="3902400" cy="1595160"/>
            <a:chOff x="545040" y="4952880"/>
            <a:chExt cx="3902400" cy="1595160"/>
          </a:xfrm>
        </p:grpSpPr>
        <p:sp>
          <p:nvSpPr>
            <p:cNvPr id="72" name=""/>
            <p:cNvSpPr/>
            <p:nvPr/>
          </p:nvSpPr>
          <p:spPr>
            <a:xfrm>
              <a:off x="545040" y="4952880"/>
              <a:ext cx="390240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Manipulowanie ustawieniem obiektów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Wyrównan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Rozłoże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                        </a:t>
              </a: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Kolejnoś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1067040" y="5333760"/>
            <a:ext cx="457200" cy="11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67040" y="5333760"/>
                      <a:ext cx="457200" cy="11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5" name=""/>
          <p:cNvGraphicFramePr/>
          <p:nvPr/>
        </p:nvGraphicFramePr>
        <p:xfrm>
          <a:off x="5562720" y="5715000"/>
          <a:ext cx="259056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5715000"/>
                    <a:ext cx="25905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43120" y="533412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Ustawianie atrybutów tekst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743200" y="2133720"/>
            <a:ext cx="609588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umeric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stawniki i wyświetlacze numeryczne; dane typu int lub float (o różnych zakresac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oolea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przełączniki statyczne i nie statyczne oraz wskaźniki; dane typu boolowski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 &amp; Pat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y i ścieżki dostępu; dane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List &amp; Tabl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listy i tablice; dane typu int lub string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ing &amp; E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tekstowo-numeryczne obiekty wyboru; dane typu int lub en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Obiekty własn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definiowane lub przystosowane przez użytkownika (*.ct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prost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całkowi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Int8, 16, 32),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zeczywist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float, double, ex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ekstow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string) ,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enumerycznyc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572000"/>
            <a:ext cx="1523880" cy="60948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114800"/>
            <a:ext cx="1143000" cy="45720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720" y="2286000"/>
            <a:ext cx="1752480" cy="10666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99840" y="3124080"/>
            <a:ext cx="1143000" cy="2286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057040" y="3505320"/>
            <a:ext cx="68580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599840" y="5486040"/>
            <a:ext cx="1143000" cy="6094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743200" y="2362320"/>
            <a:ext cx="6095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Array &amp; Cluster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złożone nastawniki i wyświetlacze; dane w postaci tablic lub klastrów o określonej budow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różnego rodzaju wykresy; dane różnej postaci w zależności od rodzaju wy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Np. wykres XY prezentujący jedną krzywą potrzebuje tablicy klastrów o przedstawionej niżej budow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{ Tablica jednowymiarowa struktur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{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Każda struktura jest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spółrzędną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punktu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 i składa się z dwóch pól: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  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 { x } i { y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   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br>
              <a:rPr sz="1600"/>
            </a:b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  <a:ea typeface="Arial"/>
              </a:rPr>
              <a:t>  }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0666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złożo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tablic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dowolne rozmiary i wymiary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klastrów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odpowiednik stuktur w języku C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720" y="2590920"/>
            <a:ext cx="1752480" cy="1295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040" y="35053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Paleta obiektów nastawczych i prezentacyjnych (cz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133720"/>
          <a:ext cx="191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91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819520" y="373392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fnum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umery referencyjne obiektów różnych klas. Mogą to być numery referencyjne obiektów nastawczych lub prezentacyj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I/O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– nazwy zasobów I/O systemu komputerowego, np. urządzenia pomiarowego dołączonego do karty GPIB lub wyjścia USB kompute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iekty dostarczające lub korzystające z specyficznych typów danych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fnum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unikalny identyfikator obiektu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resource nam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(unikalny opis urządzeń systemu)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523520" y="4572000"/>
            <a:ext cx="1295640" cy="5335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057040" y="3962520"/>
            <a:ext cx="6858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Określenie typu danych nastawnika lub wskaź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9907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Z menu podręcznego postawionego obiektu należy wybrać pozycję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presentation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 i z rozwiniętego zestawu dostępnych typów wybrać żądany typ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909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Dostępne typy danych dla obiektu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3637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637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4190760" y="2819520"/>
            <a:ext cx="1143000" cy="16761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791320" y="4114800"/>
          <a:ext cx="121896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14800"/>
                    <a:ext cx="121896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876920" y="510552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Terminal wejściowy obiektu nastawcz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Slide </a:t>
            </a: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w diagram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f5e89"/>
                </a:solidFill>
                <a:latin typeface="Arial"/>
              </a:rPr>
              <a:t>Kolor i opis jednoznacznie identyfikują typ dostarczanych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14640" y="4572000"/>
            <a:ext cx="304920" cy="53352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1430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1. Postawienie pustego szablonu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990720"/>
          <a:ext cx="335304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3353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3124080"/>
          <a:ext cx="335304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335304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9480" y="4800600"/>
          <a:ext cx="3353040" cy="13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800600"/>
                    <a:ext cx="335304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H="1">
            <a:off x="2057040" y="20574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81080" y="4114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23880" y="4191120"/>
            <a:ext cx="91440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048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2. Do pustego szablonu wciągnąć nastawnik (gdy wprowadzanie danych) lub wskaźnik numeryczny (gdy prezentacj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876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3. Po wciągnięciu szablon automatycznie dopasowuje się do wprowadzonego obiek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Utworzenie nastawnika lub wskaźnika z tablicowym typem danych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3352680" cy="68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3526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343400" y="16765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e89"/>
                </a:solidFill>
                <a:latin typeface="Arial"/>
              </a:rPr>
              <a:t>4. Tablicę można rozciągnąć i wypełnić danymi. Wcześniej należy określić typ danych pola tablicy. Wykonuje się to identycznie jak dla prostych typ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3880" y="3124080"/>
            <a:ext cx="7162920" cy="1067400"/>
            <a:chOff x="1523880" y="3124080"/>
            <a:chExt cx="7162920" cy="1067400"/>
          </a:xfrm>
        </p:grpSpPr>
        <p:graphicFrame>
          <p:nvGraphicFramePr>
            <p:cNvPr id="131" name=""/>
            <p:cNvGraphicFramePr/>
            <p:nvPr/>
          </p:nvGraphicFramePr>
          <p:xfrm>
            <a:off x="1523880" y="3276720"/>
            <a:ext cx="60984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276720"/>
                      <a:ext cx="6098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2666880" y="3124080"/>
              <a:ext cx="6019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Terminal wejściowy obiektu nastawczego </a:t>
              </a:r>
              <a:r>
                <a:rPr b="1" lang="pl-PL" sz="1600" spc="-1" strike="noStrike">
                  <a:solidFill>
                    <a:srgbClr val="3333cc"/>
                  </a:solidFill>
                  <a:latin typeface="Arial"/>
                </a:rPr>
                <a:t>Array </a:t>
              </a: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w diagram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2f5e89"/>
                  </a:solidFill>
                  <a:latin typeface="Arial"/>
                </a:rPr>
                <a:t>Kolor i opis jednoznacznie identyfikują typ dostarczanych danych, natomiast nawiasy [ ] wskazują , że jest to tab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09320" y="32767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4724280"/>
            <a:ext cx="7924680" cy="1357560"/>
            <a:chOff x="762120" y="4724280"/>
            <a:chExt cx="7924680" cy="1357560"/>
          </a:xfrm>
        </p:grpSpPr>
        <p:sp>
          <p:nvSpPr>
            <p:cNvPr id="136" name=""/>
            <p:cNvSpPr/>
            <p:nvPr/>
          </p:nvSpPr>
          <p:spPr>
            <a:xfrm>
              <a:off x="762120" y="472428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5. W celu utworzenia tablicy wielowymiarowej trzeba skorzystać z menu podręcznego utworzonego obiektu i dodać jeden lub więcej wymiarów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676520" y="5562720"/>
            <a:ext cx="533520" cy="51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5562720"/>
                      <a:ext cx="5335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362320" y="5715000"/>
              <a:ext cx="63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5e89"/>
                  </a:solidFill>
                  <a:latin typeface="Arial"/>
                </a:rPr>
                <a:t>Grube nawiasy [ ] wskazują , że jest to tablica wielowymiarow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1:31:54Z</dcterms:created>
  <dc:creator>Kasprzak Bogdan</dc:creator>
  <dc:description/>
  <dc:language>en-US</dc:language>
  <cp:lastModifiedBy>Kasprzak</cp:lastModifiedBy>
  <dcterms:modified xsi:type="dcterms:W3CDTF">2006-10-17T14:24:49Z</dcterms:modified>
  <cp:revision>32</cp:revision>
  <dc:subject/>
  <dc:title>Paleta narzędzi</dc:title>
</cp:coreProperties>
</file>