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408-7DC4-4EAF-993C-FFA5A77B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268-D774-43A4-8A13-92B6CC9C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985-25F6-49FD-8F7A-3B42C7A4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BCA-2B30-4F10-8ADF-805B5435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F32-0824-4E0C-A8DD-C7A78D85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668-B980-4E22-B96F-38019E1C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EF1-BADC-4732-91B7-32FCEC80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524-C818-420B-BC05-27E18577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A26-0BEC-4DF9-BBE1-886743CB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DF2-F861-4891-8381-C29B3031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2F6-ED5E-41EC-B1D7-40F57B4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78A-FA93-403C-962B-42673380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C581-970D-4E6E-A911-6AE8EAC35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stawy programowania aplikacji w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dowisku graficznym LabView.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819520"/>
            <a:ext cx="664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ogram LabVIEW jest nazywany przyrządem wirtualnym ( </a:t>
            </a:r>
            <a:r>
              <a:rPr b="0" i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virtual instrumen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) lub krótko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programem V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. Określenie to wynika z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obieńst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wizualnego obrazu aplikacji oraz jej działania do fizycznego przyrząd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trukcja sekwencji operacj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ys09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257800" cy="295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838080"/>
            <a:ext cx="838224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strukcja sekwencyjna wygląda jak ramka filmu i składa się z jednej lub kilku ramek ( klatek filmu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konuje ona kolejno diagramy kodu umieszczone w ramkach 0, 1, 2, 3 i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strukcje sekwencyjne stosuje się do wymuszenia określonej kolejności wykonywania fragmentów kodu, gdy nie daje się tego uzyskać przepływem d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590920"/>
            <a:ext cx="32162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e wejściowe konstrukcji są dostępne dla wszystkich jej rame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jścia danych z konstrukcji mogą mieć tylko jedno źródło informacji;  każde z wyjść struktury jest związane z jedną z rame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e wyjściowe są widoczne we wszystkich ramka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638680"/>
            <a:ext cx="855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e opuszczają strukturę w momencie, gdy ostatnia ramka zakończy wykonanie zawartego w niej kodu. Oznacza to, że dane wyjściowe określonej ramki opuszczają strukturę po jej całkowitym wykonaniu, a nie kiedy skończy się wykonanie danej ramk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zekazywanie danych w obszarze sekwencj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rys10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010280" cy="161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3640" y="3927600"/>
            <a:ext cx="80168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kalna sekwencja jest zaznaczona k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ńc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zenoszenia danych we wszystkich ramkach sekwen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 ramce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d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j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danych dla lokalnej sekwencji punkt przekazywania danych jest zaznaczony ze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znym zwrotem str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i a w ramce odbiorczej str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jej 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mki poprzedza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 ram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danych nie m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orzys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 danych przenoszonych lokal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ekwenc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w nich punkt przenoszenia nie jest zaznaczony str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strukcja sekwencyjna 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wykorzystyw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ilka lokalnych sekwencji przekazywania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680" y="1184400"/>
            <a:ext cx="80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ie danych z jednej ramki do ramek występujących po niej realizuje się za pomocą terminala zwanego </a:t>
            </a:r>
            <a:r>
              <a:rPr b="1" lang="pl-PL" sz="1600" spc="-1" strike="noStrike">
                <a:solidFill>
                  <a:srgbClr val="3333cc"/>
                </a:solidFill>
                <a:latin typeface="Arial"/>
              </a:rPr>
              <a:t>lokalną sekwencj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Do uzyskania lokalnej sekwencji, wykorzystuje się operację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Add Sequence Local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strukcja wyboru (case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rys12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105520" cy="2279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3429000"/>
            <a:ext cx="80168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nstrukcja sterująca case umożliwia alternatywne wykonywanie bloków kodu objętych tą konstrukcj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unkcjonalnie odpowiada instrukcji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if...then...els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swit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języka C. Konstrukcja posiada minimum dwie ramk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ażda ramka zawiera blok programowy realizujący określone operacje oraz deklarację wartości wybierając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anie konstrukcji polega na wykonaniu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kodu jednej z jej ram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ór ramki jest realizowany na podstawie danej dostarczonej do wejścia selekcyjnego konstrukcji case (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elektor konstrukcji ca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rys13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238880" cy="288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219320"/>
            <a:ext cx="816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ejście selektora może przyjmować dane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boolowski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domyślny typ),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całkowit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ringow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enumerycz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5222880"/>
            <a:ext cx="79408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 każdej z możliwych wartości selektora musi być przypisana jedna z ramek konstrukcji c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ślenie wartości wybierających daną ramkę realizuje się przez wpisanie ich listy w okienku wartości wybierając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 selektora konstrukcji ca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191120"/>
            <a:ext cx="809316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jedynczej wartości całkowitej, np.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wartość 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sty wartości całkowitych, np.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2, 4, 6, 7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jedną z wartości podanej w liś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sty wartości określonych zakresem, np.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5..25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wartość z podanego zakres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artości domyślnej -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Defaul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ramka jest wykonywana, gdy selektor konstrukcji otrzyma wartość różną od wartości określonych dla innych ramek konstruk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640" y="3470400"/>
            <a:ext cx="809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sytuacji wyboru przy użyciu danych całkowitych pole wartości wybierającej daną ramkę może mieć posta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ys13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324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unele wejściowe i wyjściowe konstrukcji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rys14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324840" cy="148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838080"/>
            <a:ext cx="801684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e wejść i wyjść konstrukcji tworzą się automatycznie podczas prowadzenia połączeń przez kontury konstruk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e wejść danych tworzą wejścia dla wszystkich ramek konstrukcji, ale diagram danej ramki korzysta tylko z tych, które są potrzeb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a realizuje swoje zadania po uzyskaniu danych na wszystkich wejściach. Wszystkie wejścia danych oraz wejście selektora muszą być dołączone do źródeł d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240" y="4862520"/>
            <a:ext cx="7864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żda ramka struktury definiuje wyjścia danych, które są wyjściami struktu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jście danych utworzone w jednej ramce jest widoczne  w innych ramkach struktu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a po wykonaniu swoich zadań musi dostarczyć dane na wszystkich wyjściach, również tych, które dotyczą wyjść z ramek aktualnie nie realizowan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trukcja pętl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ys15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791320" cy="223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46280" y="3851280"/>
            <a:ext cx="76356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nstrukcję pętli for stosuje się w celu cyklicznego wykonania wybranego bloku kodu, gdy liczba wymaganych powtórzeń (iteracji) wykonania jest zn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amka pętli for posiada predefiniowane wejście liczby iteracji oraz terminal wyjścia licznika iter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ejście liczby iteracji jest typu long inte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cznik iteracji jest zerowany w momencie rozpoczęcia działania pętli, dostarcza aktualny numer wykonywanej iteracji (od 0 do N-1) i jest inkrementowany po każdej iter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prawdzenie warunku zakończenia (i&lt;N) jest wykonywane przed rozpoczęciem kolejn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strukcja pętli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rys16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43600" cy="1744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1360" y="3470400"/>
            <a:ext cx="8169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nstrukcję pętli while stosuje się w celu cyklicznego wykonania wybranego bloku kodu, gdy liczba wymaganych powtórzeń (iteracji) wykonania nie jest zn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amka pętli while posiada predefiniowany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terminal wyjścia licznika iteracj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terminal warunku kontynuowania działania pęt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cznik iteracji jest zerowany w momencie rozpoczęcia działania pętli, dostarcza aktualny numer wykonywanej iteracji (od 0) i jest inkrementowany po każd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rminal kontynuacji działania pętli korzysta z wartości logicznych (boolowskich) wypracowanych przez diagram pętli. Konfigurowanie terminala kontynuacji pozwala ustalić wartość logiczną przerywającą działanie pętli (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Continue IF Tru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Stop If Tru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prawdzenie warunku zakończenia jest realizowane po wykonaniu każdej iteracji, dlatego zawsze jest wykonana przynajmniej jedna iteracj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le wejściowe i wyjściowe konstrukcj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ęt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rys17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077320" cy="2154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7680" y="1184400"/>
            <a:ext cx="80928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 wejścia danych tworzy się automatycznie w momencie prowadzenia połączenia pomiędzy wyjściem węzła znajdującego się na zewnątrz pętli a wejściem węzła poddiagramu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el wyjścia danych powstaje podczas łączenia wyjścia węzła poddiagramu pętli z wejściem węzła znajdującego się poza konstrukcją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257800"/>
            <a:ext cx="79408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ętla rozpoczyna działanie po otrzymaniu wszystkich danych wejściowych. W tym momencie są one też przekazywane do pętli i ich wartości są takie same we wszystkich iteracjach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e wyjściowe są generowane po zakończeniu działani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le wejściowe z auto-indeksacj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rys18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248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2240" y="4003560"/>
            <a:ext cx="778824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unel wejściowy przekazujący tablice może pracować tak, aby pętla uzyskała całą tablicę (Disable Indexing) lub określone elementy tablicy dla kolejnych iteracji (Enable Index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uto-indeksowanie wejściowe rozpoczyna się od zera i polega na przekazaniu kolejnym iteracjom pętli danych o rozmiarze zmniejszonym o 1 z N wymiarowej tablicy wejściowej (rozkładanie tablic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ętla zewnętrzna otrzyma w kolejnych iteracjach odpowiednio wiersz 0 i 1 tablicy wejści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ętla wewnętrzna w kolejnych iteracjach uzyska elementy wiersz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33530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Pulpit (front pane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który pełni rolę interfejsu użytkownik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ys01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276720" cy="2400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505320"/>
            <a:ext cx="4114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iagram (block diagram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który jest graficznym zapisem kodu programu. Definiuje funkcjonaln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plikacji w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u graficznym G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ys02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2420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rys03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3105360" cy="409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838080"/>
            <a:ext cx="4572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Ikony i z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łą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za (icon &amp; connector pan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Iko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dentyfikuje VI ta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dany VI m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 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 innym programie VI (</a:t>
            </a:r>
            <a:r>
              <a:rPr b="0" i="1" lang="pl-PL" sz="1400" spc="-1" strike="noStrike">
                <a:solidFill>
                  <a:srgbClr val="3333cc"/>
                </a:solidFill>
                <a:latin typeface="Arial"/>
              </a:rPr>
              <a:t>jako </a:t>
            </a:r>
            <a:r>
              <a:rPr b="0" i="1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subVI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du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 tekstowych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ach programowa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Z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ze (</a:t>
            </a:r>
            <a:r>
              <a:rPr b="0" i="1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onnector pane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efiniuje we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 i wy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 podprogramu oraz ich przypor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kowan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powiada definicji argumentów procedury w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ach tekstow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jście z auto-indeksacją a liczba iteracji pętl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rys18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17220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3733920"/>
            <a:ext cx="794052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jście z auto-indeksowaniem wpływa na liczbę iteracji pętli for, która jest wtedy określona przez wartość z wejścia liczby iteracji lub rozmiaru tablicy wejściowej. Obowiązuje mniejsza z tych wart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jście liczby iteracji może pozostać niepołączone, jeśli pętla korzysta z auto-indeksowanego wejś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przypadku kilku wejść z auto-indeksowaniem liczba iteracji jest określona rozmiarem najmniejszej tabli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śli dwie tablice 20- i 50-elementowa poprzez wejścia z auto-indeksacją inicjują działanie pętli for z zadeklarowaną liczbą 25 iteracji, to pętla realizuje 20 iteracji wykorzystując w nich wszystkie elementy tablicy pierwszej oraz 20 pierwszych elementów tablicy drugi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ejście z auto-indeksacją a liczba iteracji pętli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093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uto-indeksowanie dotyczy także tuneli wejściowych pętli wh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miar tablicy nie ma wpływu na liczbę iteracji pętli while, ponieważ są one realizowane dopóki terminal przerwania otrzymuje określoną wartość boolowsk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edy liczba iteracji przekroczy rozmiar tablicy, wejście dostarcza wartości domyślne tego samego typu jak dostarczane dotąd. W przypadku jednowymiarowej tablicy double są to zerowe wartości numerycz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rys19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172200" cy="1957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5562720"/>
            <a:ext cx="80931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ętla wykona 10 iter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cje 5,6,7,8 i 9 otrzymają wartości zerowe; tak jakby tablica wejściowa została rozszerzona do tablicy 10-element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le wyjściowe z auto-indeksacj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143000"/>
            <a:ext cx="847404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ane wyjściowe są generowane po zakończeniu działani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unel wyjściowy pętli for i while może pracować z auto-indeksacją lub bez, niezależnie od rodzaju danych doprowadzonych z wnętrza pęt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śli pracuje bez auto-indeksacji dostarcza wartość wyprowadzoną na wyjście podczas ostatniej iteracji wykonanej przez pętl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ryb auto-indeksacji tworzy na wyjściu tablicę z danych dostarczanych na wyjście po każdej iteracji pętl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ablica wyjściowa dostępna po zakończeniu działania pętli ma rozmiar równy liczbie wykonanych iteracji. Jej wymiar zależy od wymiaru danych produkowanych w iteracjach. W przypadku produkcji danych skalarnych powstają tablice jednowymiarowe. Jednowymiarowe tablice są gromadzone w dwuwymiarowej, it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ys19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1625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kazywanie danych między kolejnymi iteracjami pętli  (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hift registers</a:t>
            </a:r>
            <a:r>
              <a:rPr b="1" i="1" lang="pl-PL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rys20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26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7680" y="4460760"/>
            <a:ext cx="801684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rminal ze strzałką skierowaną w górę jest wejściem rejestru. Do niego realizuje się połączenie z wyjściem wybranego węzła poddiagramu pętli, który dostarcza danej przekazywanej do następn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jściem rejestru jest terminal ze strzałką skierowaną w dół. Dostarcza on danej z poprzedniej iteracji lub wartość początkową w pierwszej iteracj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jestr tworzy się wybierając z menu konstrukcji pętli pozycję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Add Shift Registe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Można utworzyć wieloelementowy rejestr przesuwny wybierając z menu terminala rejestru pozycję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Add Elemen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ęzeł formuł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rys21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6095880" cy="2851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3657600"/>
            <a:ext cx="80168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ęzeł Formula jest użyteczny do realizacji operacji zapisanych  teksto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yntaktyka zapisu bloku programu węzła jest podobna do zapisu bloku instrukcji programu w języku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lok może zawierać deklaracje zmiennych (dostępny tylko typ float oraz int) oraz wyrażenia.  Wyrażenia wykorzystują takie same operatory jak język C (te same oznaczenia i priorytety). Można korzystać z instrukcji sterujących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if..then..els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switch..cas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pętli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for, while, do..whi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enu formuły posiada pozycje służące do kreowania wejść i wyjść węzła (odpowiednio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Add Inpu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0" lang="pl-PL" sz="1600" spc="-1" strike="noStrike">
                <a:solidFill>
                  <a:srgbClr val="3333cc"/>
                </a:solidFill>
                <a:latin typeface="Arial"/>
              </a:rPr>
              <a:t>Add Outpu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 Po wykreowaniu należy w polu utworzonego wejścia lub wyjścia wpisać jego nazwę. Stanowią one zmienne formuły, domyślnie są typu floa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lp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ys01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733920" cy="273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16002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lp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zualn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dpowiada rozwiązaniom płyt przednich urządzeń pomiarowyc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962520"/>
            <a:ext cx="786456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ulpit b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uje się go za pomocą elementów kontrolnych i prezentacyjny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anowi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dpowiednio końcówki wejściowe i wyjściowe programu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Elementami kontrolnymi są pokrętła nastawcze, przyciski, przełączniki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ymulują one elementy nastawcze fizycznych urządzeń i dostarczają danych wejściowych do diagramu 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lemen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m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prezentacyjn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wyświetlacze numeryczne, alfanumeryczne, LEDy, wyświetlacze graficzne (wykresy), tabele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ymulują one elementy prezentacyjne fizycznych urządzeń i wyświetlają dane dostarczane przez dia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r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rys0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267080" cy="264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68580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iagram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o zapi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kodu programu w języku graficznym G. Do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go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pisu wykorzystuje się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końców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terminal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 węzł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od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przewod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ir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 oraz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konstrukcje sterując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4230720"/>
            <a:ext cx="84740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Węzły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ą obiektami wyposażonymi w wejścia i wyjścia danych realizującymi określone operacje podczas działania program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wyra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enia, operatory, funkcj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Przewod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o budowania p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z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dróg prze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wu danych) pom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zy elementami diagramu. K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 p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zenie m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m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ylko jedno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ó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 danych lecz m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b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ozg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ł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ione do wielu punktów odbioru danych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Z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ł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e po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ł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czenia s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zaznaczane czarn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lini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przerywan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Konstrukcje steruj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ą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yka graficznego zapewnia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yficzny sposób wykonania fragmentów kodu. Pozwalaj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ealiz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powtarzanie bloków kod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le),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warunkowy wybór wykona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loków kodu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s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lub okr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sekwencj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</a:rPr>
              <a:t>ę</a:t>
            </a:r>
            <a:r>
              <a:rPr b="0" lang="pl-PL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 wykona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loków kodu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752480"/>
            <a:ext cx="4130640" cy="21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Końcówk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ą portami wejściowymi i wyjściowymi przesyłającymi informacje pomiędzy pulpitem i diagram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Końcówka jest generowana automatycznie w diagramie w momencie postawienia elementu kontrolnego lub prezentacyjnego na pulpic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Reprezentuje ona port do określonego elementu pulpitu oraz typ danych wchodzących lub wychodzących, np. DBL -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oubl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kona i złąc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816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program VI ma służyć jako podprogram dla innych aplikacji VI konieczne jest zbudowanie ikony stanowiącej jego graficzną reprezentację oraz zdefiniowanie złącz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ys0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105000" cy="4095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2133720"/>
            <a:ext cx="466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ko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dprogramu jest jego graficzną reprezentacją 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diagramach aplikacji wykorzystujących taki podprogra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owi węzeł budowanego diagramu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048120"/>
            <a:ext cx="443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Złącz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iuje wejścia i wyjścia podprogramu i tym samym umożliwia wykonanie odpowiednich połączeń w diagramie programu wykorzystującego go jako podprogra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114800"/>
            <a:ext cx="4800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łącze jest zestawem końcówek odpowiadających określonym elementom kontrolnym i prezentacyjny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lpitu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nego podprogram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aciski wejściowe złącza przekazują dane do diagramu podprogramu za pośrednictwem elementów  kontrolnych pulpitu podprogram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aciski wyjściowe złącza otrzymują dane z diagramu za pośrednictwem elementów prezentacyjnych pulpitu podprogram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ykonanie kodu program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rys0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876920" cy="156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38680" y="17524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ońcówki i węzły połączone liniami przepływu danych tworzą diagram programu V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581280"/>
            <a:ext cx="82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Kolejność wykonania operacji przez węzły diagramu jest określona przepływem danych (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91120"/>
            <a:ext cx="832176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Zasady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otyczące sterowania przepływem danych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 można ująć następując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ęzeł rozpoczyna działanie po otrzymaniu wszystkich danych wejściow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iagramu wykonuje tylko raz swoje operacj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ne na wyjściach węzła (węzeł może mieć kilka wyjść) pojawiają się jednocześnie po wykonaniu charakterystycznych dla niego operac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zyskane dane wyjściowe są jednocześnie dostarczone do węzłów odbierając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ęz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, które otrzyma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 danej chwili wszystkie dane 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ykonywane pseudo-jednocz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cja przepływu danyc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rys0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4114800" cy="3340080"/>
          </a:xfrm>
          <a:prstGeom prst="rect">
            <a:avLst/>
          </a:prstGeom>
          <a:ln w="0">
            <a:noFill/>
          </a:ln>
        </p:spPr>
      </p:pic>
      <p:pic>
        <p:nvPicPr>
          <p:cNvPr id="72" name="rys06" descr=""/>
          <p:cNvPicPr/>
          <p:nvPr/>
        </p:nvPicPr>
        <p:blipFill>
          <a:blip r:embed="rId2"/>
          <a:stretch/>
        </p:blipFill>
        <p:spPr>
          <a:xfrm>
            <a:off x="1981080" y="4876920"/>
            <a:ext cx="5486400" cy="17510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6402240" y="1752480"/>
            <a:ext cx="942840" cy="2501640"/>
            <a:chOff x="6402240" y="1752480"/>
            <a:chExt cx="942840" cy="2501640"/>
          </a:xfrm>
        </p:grpSpPr>
        <p:sp>
          <p:nvSpPr>
            <p:cNvPr id="74" name=""/>
            <p:cNvSpPr/>
            <p:nvPr/>
          </p:nvSpPr>
          <p:spPr>
            <a:xfrm>
              <a:off x="6402240" y="17524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za 1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2240" y="281916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za 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2240" y="388584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za 3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z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ezależ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ddia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ys07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15000" cy="312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3640" y="4232160"/>
            <a:ext cx="809316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ęzły, które otrzymają w danej chwili wszystkie dane są wykonywane pseudo-jednocześni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 można jednak zakładać kolejności wykonania operacji przez węzły, które uzyskały stan gotow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Środowisko samo decyduje o kolejności wykonania stosując technikę arbitralnego przeplo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ten sposób węzły lub grupy węzłów różnych gałęzi są wykonywane przemiennie co skutkuje równoległością ich reali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lejność wykonania węzłó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rys08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5943600" cy="1717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762120"/>
            <a:ext cx="7635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ęzły diagramu jednocześnie uzyskujące komplet danych wejściowych wykonują się w nieznanej programiście kolej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stotna kolej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ch wykonania to musi to zapew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z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w danych po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y ni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ewnie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k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nej sekwencji dz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tyczy m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y innymi operacji plikowyc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a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ji na ur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zeniach pomiarowy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4495680"/>
            <a:ext cx="7635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ęzły funkcji I/O posiadają wejścia deskryptorów i błędów oraz takie same wyjś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łączenie tych wyjść z odpowiadającymi wejściami kolejnego podobnego węzła zapewnia żądaną kolejność ich wykonania wynikającą z przepływu da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śli wymaganej kolejności nie daje się uzyskać bezpośrednio z przepływu danych trzeba zastosować specjalne konstrukcje sterujące języka 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0:15:17Z</dcterms:created>
  <dc:creator>Kasprzak</dc:creator>
  <dc:description/>
  <dc:language>en-US</dc:language>
  <cp:lastModifiedBy>Kasprzak</cp:lastModifiedBy>
  <dcterms:modified xsi:type="dcterms:W3CDTF">2006-10-18T10:46:57Z</dcterms:modified>
  <cp:revision>29</cp:revision>
  <dc:subject/>
  <dc:title>Podstawy programowania aplikacji w środowisku graficznym LabView. </dc:title>
</cp:coreProperties>
</file>