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819520"/>
            <a:ext cx="7089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Interfejs IEEE 488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5486400"/>
            <a:ext cx="70898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Funkcja żądania obsługi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Struktura systemu raportowania stanu urządzenia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kładnik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lejkowy struktury statusowej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051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kładnik systemu raportowania stanu urządzeni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budow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kolejk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jest buforem pamięci typu FIFO przeznaczonym do przechowywania sekwencji różnorodnych informacj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or ma własności struktury pozwalającej gromadzić dane różnego typ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omunikat sumaryczny kolejki wartością 1 sygnalizuje obecność w kolejce co najmniej jednej danej. Wartość zero oznacza, że kolejka jest pus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tat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3508200" cy="266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5562720"/>
            <a:ext cx="390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rządzen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zgodne z IEEE-488.2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dysponuj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ą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zaws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lejką danych wyjści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 dodatkowo zgodne z S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lejką wykrytych błędów obsługi urząd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Struktura raportowania statusu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według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IEEE 488.2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0" name="stat6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4952880" cy="4530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Rejestr statusowy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urządzenia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i jego polecenia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2" name="stat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6229440" cy="483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993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56280" y="5791320"/>
            <a:ext cx="218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olecen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*sre  48   -&gt;  0011 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tandardow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rejestr zdarzeń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133720"/>
            <a:ext cx="28958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ON – Powe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URQ – User request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(rzad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CME – Command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EXE – Executio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DDE – Device dependent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QYE – Query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RQC – Request control 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</a:rPr>
              <a:t>(gdy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OPC – Operation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Polecen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*ese    5   -&gt;  0000 0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tat4a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37360" cy="4092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lecenia sekwencyjne i nakładkowe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29" name="n1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965920" cy="4137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Zastosowanie bitu OPC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31" name="n2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809040" cy="3210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Układ generacji komunikatu ist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05120"/>
            <a:ext cx="8229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Uzupełnieniem systemu raportowania stanu urządzenia może być jednobitowy komunikat statusowy 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  <a:ea typeface="Arial"/>
              </a:rPr>
              <a:t>ist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 wydawany przez funkcję interfejsową PP urząd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Stosowanie funkcji PP w interfejsie urządzenia nie jest obowiązkowe. Jeśli interfejs urządzenia wykorzystuje funkcję PP wówczas obowiązkowo trzeba stosować strukturę generacji indywidualnej odpowiedzi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  <a:ea typeface="Arial"/>
              </a:rPr>
              <a:t> ist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 przedstawioną na rys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unku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Rejestr PP to rejestr stanu urządzenia (STB)  plus  do 8 wybranych stanów urządzenia (bity 8-1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Rejestr maski pozwala aplikacji w sposób elastyczny wybierać rodzaj informacji przekazywanej bitem 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  <a:ea typeface="Arial"/>
              </a:rPr>
              <a:t>ist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tat7a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5419800" cy="2676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98560" y="6434280"/>
            <a:ext cx="45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Odczyt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</a:rPr>
              <a:t> ist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bez odpytywania równoległego – polecenie </a:t>
            </a:r>
            <a:r>
              <a:rPr b="1" lang="pl-PL" sz="1200" spc="-1" strike="noStrike">
                <a:solidFill>
                  <a:srgbClr val="cc3300"/>
                </a:solidFill>
                <a:latin typeface="Arial"/>
              </a:rPr>
              <a:t>*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Polecenia systemu raportowania stanu urządzenia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514600"/>
            <a:ext cx="6629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Polecenia i zapytania wspólne obsługujące systemu raportowania stanu urządzenia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CLS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Zeruj rejestry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systemu raportowania stanu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ESE    &lt;NRf&gt;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Ustaw maskę rejestru zdar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ESE?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Zapytanie o maskę rejestru zdar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ESR?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Zapytanie o zawartość rejestru zdar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SRE    &lt;NRf&gt;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Ustaw maskę rejestru status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SRE?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Zapytanie o maskę rejestru status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*STB?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ff"/>
                </a:solidFill>
                <a:latin typeface="Arial"/>
                <a:ea typeface="Arial"/>
              </a:rPr>
              <a:t>Zapytanie o bajt statusow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*IST?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Zapytanie o komunikat ist urząd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*PRE    &lt;NRf&gt;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Ustaw maskę rejestru P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*PRE?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-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Zapytanie o maskę rejestru P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9900"/>
                </a:solidFill>
                <a:latin typeface="Arial"/>
              </a:rPr>
              <a:t>Uwaga: Tylko gdy implementowana jest funkcja P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Komunikat statusowy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78483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rządzenia sterowane zdalnie powinny udostępniać informacje o swoim stanie oraz zaistniałych w nich zdarzenia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 o stanie mogą dotyczyć informacji o sprawności urządzenia, wykonywaniu określonej operacji it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rzenia informują 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zmianie stanu urządzeni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p. zakończeniu operacji pomiarowej, wykryciu błędu danych programujących it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likacja sterująca może odczytywać dane statusowe urządzeń i uwzględniać je w procesie sterowan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urządzenia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2213"/>
                </a:solidFill>
                <a:latin typeface="Arial"/>
              </a:rPr>
              <a:t>W IEEE-488 rolę takiej informacji statusowej pełni jednobajtowy komunikat statusowy STB wydawany przez urządze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ejs urządzenia wydającego STB musi posiadać funkcję żądania obsługi oraz funkcję nadawania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Zgłaszanie żądania obsług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133720"/>
            <a:ext cx="7848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zereg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darzeń uwzględnianych w STB może nigdy nie zaistnieć podczas obsługi zdalnej urządzenia, np. zdarzenia sygnalizujące błędy poleceń programujący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rządzenia powinny dysponować możliwością zgłaszania żądań obsługi, czyli zgłaszania kontrolerowi systemu faktu wystąpienia w nich pewnych sytuacji szczególnych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np. otrzymania błędnego polecenia programując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Z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głaszani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 żądań obsługi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 ułatwia rozwiązanie algorytmu sterowania przyrządem. Np. przez wykorzystanie procedury przerwaniowej obsługującej sytuacje wyjątkowe zamiast odpytywania urządzenia po każdym poleceniu programując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3300"/>
                </a:solidFill>
                <a:latin typeface="Arial"/>
              </a:rPr>
              <a:t>W urządzeniu za zgłoszenie żądania obsługi odpowiada funkcja interfejsowa SR (Service Reques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Funkcja SR za pomocą linii SRQ magistrali zgłasza fakt wystąpienia sytuacji szczególnej.  Stan linii SRQ jest monitorowany przez aktualny kontroler 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Zadania funkcji SR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05120"/>
            <a:ext cx="8305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  <a:ea typeface="Arial"/>
              </a:rPr>
              <a:t>Funkcja żądania obsługi SR realizuje dwa zadan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ozwala zgłosić kontrolerowi systemu informację o zaistnieniu sytuacji szczególnej przez ustawienie linii SRQ w stan aktyw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a wartość siódmego bitu bajtu statusowego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(STB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wydawanego przez urządzen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rq1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472428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srq3" descr=""/>
          <p:cNvPicPr/>
          <p:nvPr/>
        </p:nvPicPr>
        <p:blipFill>
          <a:blip r:embed="rId2"/>
          <a:stretch/>
        </p:blipFill>
        <p:spPr>
          <a:xfrm>
            <a:off x="3809880" y="5410080"/>
            <a:ext cx="5132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2514600"/>
            <a:ext cx="1905120" cy="1143000"/>
          </a:xfrm>
          <a:custGeom>
            <a:avLst/>
            <a:gdLst/>
            <a:ahLst/>
            <a:rect l="l" t="t" r="r" b="b"/>
            <a:pathLst>
              <a:path w="1104" h="688">
                <a:moveTo>
                  <a:pt x="0" y="0"/>
                </a:moveTo>
                <a:cubicBezTo>
                  <a:pt x="100" y="232"/>
                  <a:pt x="200" y="464"/>
                  <a:pt x="384" y="576"/>
                </a:cubicBezTo>
                <a:cubicBezTo>
                  <a:pt x="568" y="688"/>
                  <a:pt x="984" y="656"/>
                  <a:pt x="1104" y="672"/>
                </a:cubicBezTo>
              </a:path>
            </a:pathLst>
          </a:custGeom>
          <a:noFill/>
          <a:ln w="9360">
            <a:solidFill>
              <a:srgbClr val="e322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124080"/>
            <a:ext cx="1968480" cy="2514600"/>
          </a:xfrm>
          <a:custGeom>
            <a:avLst/>
            <a:gdLst/>
            <a:ahLst/>
            <a:rect l="l" t="t" r="r" b="b"/>
            <a:pathLst>
              <a:path w="1240" h="1584">
                <a:moveTo>
                  <a:pt x="1104" y="0"/>
                </a:moveTo>
                <a:cubicBezTo>
                  <a:pt x="1172" y="348"/>
                  <a:pt x="1240" y="696"/>
                  <a:pt x="1056" y="960"/>
                </a:cubicBezTo>
                <a:cubicBezTo>
                  <a:pt x="872" y="1224"/>
                  <a:pt x="176" y="1480"/>
                  <a:pt x="0" y="1584"/>
                </a:cubicBezTo>
              </a:path>
            </a:pathLst>
          </a:custGeom>
          <a:noFill/>
          <a:ln w="9360">
            <a:solidFill>
              <a:srgbClr val="e322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5519880"/>
            <a:ext cx="314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e32213"/>
                </a:solidFill>
                <a:latin typeface="Arial"/>
              </a:rPr>
              <a:t>rsv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wewnętrzny komunikat określający potrzebę zgłoszenia żąd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14400" y="4800240"/>
            <a:ext cx="1905120" cy="7621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Funkcja SR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1203480" y="354168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rq2a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153280" cy="483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ebd5"/>
                </a:solidFill>
                <a:latin typeface="Arial"/>
                <a:ea typeface="Arial"/>
              </a:rPr>
              <a:t>Procedura odczytu bajtu statusowego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209680"/>
            <a:ext cx="716292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9900"/>
                </a:solidFill>
                <a:latin typeface="Arial"/>
                <a:ea typeface="Arial"/>
              </a:rPr>
              <a:t> 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ANT=1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; ustawienie trybu rozkaz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UNL&gt;&lt;UNT&gt;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rozadresowanie syste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SPE&gt;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tryb wydawania komunikatów 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LAD</a:t>
            </a:r>
            <a:r>
              <a:rPr b="1" lang="pl-PL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gt;[&lt;SAD</a:t>
            </a:r>
            <a:r>
              <a:rPr b="1" lang="pl-PL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gt;]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zaadresowanie kontrolera do odbio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TAD</a:t>
            </a:r>
            <a:r>
              <a:rPr b="1" lang="pl-PL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gt;[&lt;SAD</a:t>
            </a:r>
            <a:r>
              <a:rPr b="1" lang="pl-PL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gt;]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zaadresowanie urządzenia do nada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 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ATN=0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; zainicjowanie transferu komunika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&lt;STB</a:t>
            </a:r>
            <a:r>
              <a:rPr b="1" lang="pl-PL" sz="1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; transfer bajtu 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ATN=1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; ustawienie trybu rozkaz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UNL&gt;&lt;UNT&gt;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rozadresowanie syste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&lt;SPD&gt;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; powrót do trybu wydawania komunikatów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cedura stosowana do polingowej kontroli stanu urząd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Wyszukanie urządzeń żądających obsług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2" name="srq5" descr=""/>
          <p:cNvPicPr/>
          <p:nvPr/>
        </p:nvPicPr>
        <p:blipFill>
          <a:blip r:embed="rId1"/>
          <a:stretch/>
        </p:blipFill>
        <p:spPr>
          <a:xfrm>
            <a:off x="838080" y="1800360"/>
            <a:ext cx="4594320" cy="505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46880" y="2548080"/>
            <a:ext cx="34448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dura odpytania szeregowego związana z realizacją przerwaniowej obsługi zdarzeń zaistniałych w urządzeni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j zadaniem jest znalezienie urządzeń żądających obsługi oraz dostarczenie ich bajtów status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dura bazuje na tablicy urządzeń dostępnych na magistr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ażda aplikacja dysponuje możliwością zbudowania tablicy urządzeń aktualnie dołączonych do magistrali i włączo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Ogólna 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struktura raportowania stanu urządzenia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05" name="stat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00600" cy="4733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96480" y="2971800"/>
            <a:ext cx="232200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ity sumaryczne strukt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ajt Statusowy – 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aska rejestru S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enerator rs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unkcja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29200" y="3124080"/>
            <a:ext cx="129528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3657600"/>
            <a:ext cx="76176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486400" y="4495680"/>
            <a:ext cx="83808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86400" y="5334120"/>
            <a:ext cx="83808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86400" y="6019920"/>
            <a:ext cx="838080" cy="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Składnik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  <a:ea typeface="Arial"/>
              </a:rPr>
              <a:t> rejestro</a:t>
            </a: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wy struktury statusowej </a:t>
            </a: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113" name="stat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6080040" cy="4811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0" y="2590920"/>
            <a:ext cx="2133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Definiowanie zdarzeń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jście L-&gt;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jście H-&gt;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a przejś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Żadne (wyłączeni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TR     N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0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  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0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</cp:lastModifiedBy>
  <dcterms:modified xsi:type="dcterms:W3CDTF">2006-04-25T07:38:25Z</dcterms:modified>
  <cp:revision>125</cp:revision>
  <dc:subject/>
  <dc:title>Zasady sterowania urządzeniami systemów pomiarowych.</dc:title>
</cp:coreProperties>
</file>